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CB8D5-7596-4FF1-8290-0CD95A70CF3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968CB-7F3C-4DA0-887A-C5E094110B4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written checklists avoids the unnecessary interruption of work in the BSC that can compromise the quality of the specimen testing or the biosafety of laboratory sta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2001-E399-404D-912E-E4F7ADAC3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83A9-5A6B-4EE9-B074-9DCABCA4C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C359-3CCD-4F80-9651-89C0B4D20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C87F-C5EB-4EE9-A7E1-A61023D01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C060D-E7AB-4E65-904A-480F92274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87F87-2736-414D-9123-869694837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C8976-2609-4267-85F9-81CD1E1B7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A835A-6356-4BB0-AE03-5203C9D43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D42A9-C187-4FE7-82B9-16E96BD65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71A49-0E4B-46E6-8597-0582F9B22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25747-2837-4BDC-A744-6DFC6281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3821-399A-4C84-9B5C-C532F87A9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A178B-5BA4-4538-8EE4-7B0C9907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FAE9E-3ABD-4D84-A509-A0F1997D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3F33F-9956-43F2-9B0A-26B6D43B6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9D1CF-004B-4BE5-A717-AFA14901D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16BAB-8F41-4B2B-89FC-0AC7AAD22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87D2-0776-497C-9D65-E18F62C7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0FAA-C52D-4A96-91B5-7D7D6825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78AA-2FFF-47B0-AA7F-E0FD4FE12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F5B7-EBA7-4151-A709-135655F69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820F-5E1A-4855-B043-DA15383E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574B-3071-49DC-AD66-411643F5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8FF7-30E2-4463-A604-DDE2C5DA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E1979-9D30-4A83-BE30-6D82636EBD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B71EE-431A-4AD3-9DA3-8AE023E8A9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120" y="1413000"/>
            <a:ext cx="89154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GenoType</a:t>
            </a:r>
            <a:r>
              <a:rPr b="0" lang="en-US" sz="3600" spc="-1" strike="noStrike" baseline="30000">
                <a:solidFill>
                  <a:srgbClr val="ffff99"/>
                </a:solidFill>
                <a:latin typeface="Arial"/>
              </a:rPr>
              <a:t>®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MTBDR</a:t>
            </a:r>
            <a:r>
              <a:rPr b="0" i="1" lang="en-US" sz="3600" spc="-1" strike="noStrike">
                <a:solidFill>
                  <a:srgbClr val="ffff99"/>
                </a:solidFill>
                <a:latin typeface="Arial"/>
              </a:rPr>
              <a:t>plus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VER 2.0</a:t>
            </a:r>
            <a:br>
              <a:rPr sz="3600"/>
            </a:b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GenoType</a:t>
            </a:r>
            <a:r>
              <a:rPr b="0" lang="en-US" sz="3600" spc="-1" strike="noStrike" baseline="30000">
                <a:solidFill>
                  <a:srgbClr val="ffff99"/>
                </a:solidFill>
                <a:latin typeface="Arial"/>
              </a:rPr>
              <a:t>®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MTBDR</a:t>
            </a:r>
            <a:r>
              <a:rPr b="0" i="1" lang="en-US" sz="3600" spc="-1" strike="noStrike">
                <a:solidFill>
                  <a:srgbClr val="ffff99"/>
                </a:solidFill>
                <a:latin typeface="Arial"/>
              </a:rPr>
              <a:t>sl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VER 2.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Reagent preparation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Contamination control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gent preparation are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412640"/>
            <a:ext cx="7707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ools and instruments that are used here have to be labelled accordingly and cannot be used else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CR tubes can only be taken to specimen preparation area in an aluminum foil-covered beak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o not bring back this beaker to reagent preparation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0.5 ml or 0.2 ml individual PCR tubes instead of 0.2 ml str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a PCR hood with U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laboratory pract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hange shoes or use shoe cover before entering clean room  Autoclave and calibrate pipettes regula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fter you have finished working in the specimen preparation area, do not come back and clean the reagent preparation area work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Contamination control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gent preparation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6481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876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g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lways prepare fresh Na-hypochlorite sol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heck undiluted bleach concen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inal concentration of hypochlorite should not fall below 1.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orking solutions of 5 g/l are necessary for dealing with biohazard spi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ontainers containing bleach CANNOT be autoclaved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o avoid contamination of distilled water stocks, use 70% alcohol instead of distilled water for clea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 an Eppendorf repeat pipettor with individually wrapped sterile combi tips for aliquoting, if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876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oratory clean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lways properly clean the work area after completing the 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stablish a regular (e.g. weekly) and thorough laboratory cleaning protocol (floors, doors, wal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6688080" y="2133720"/>
            <a:ext cx="2033640" cy="236520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  <p:pic>
        <p:nvPicPr>
          <p:cNvPr id="159" name="Picture 5" descr="LogoColour"/>
          <p:cNvPicPr/>
          <p:nvPr/>
        </p:nvPicPr>
        <p:blipFill>
          <a:blip r:embed="rId2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"/>
          <p:cNvPicPr/>
          <p:nvPr/>
        </p:nvPicPr>
        <p:blipFill>
          <a:blip r:embed="rId3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"/>
          <p:cNvPicPr/>
          <p:nvPr/>
        </p:nvPicPr>
        <p:blipFill>
          <a:blip r:embed="rId4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00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rganize your work (use checkli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ork unidirectionally (laboratory layo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velop and follow SOP for procedure and instrument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Keep tools and workplace clea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CFF80-6734-4E82-808D-2A80F6B115B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33440" y="12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99"/>
                </a:solidFill>
                <a:latin typeface="Arial"/>
              </a:rPr>
              <a:t>Content outl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7416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"/>
              </a:rPr>
              <a:t>PCR laboratory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"/>
              </a:rPr>
              <a:t>Check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"/>
              </a:rPr>
              <a:t>Calculation of volume of master mix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"/>
              </a:rPr>
              <a:t>Personal protective equipment (P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"/>
              </a:rPr>
              <a:t>Reagent preparation for PC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Optimal PCR laboratory layou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6553080" cy="5267160"/>
          </a:xfrm>
          <a:prstGeom prst="rect">
            <a:avLst/>
          </a:prstGeom>
          <a:ln w="0">
            <a:noFill/>
          </a:ln>
        </p:spPr>
      </p:pic>
      <p:sp>
        <p:nvSpPr>
          <p:cNvPr id="110" name="Oval 4"/>
          <p:cNvSpPr/>
          <p:nvPr/>
        </p:nvSpPr>
        <p:spPr>
          <a:xfrm rot="5400000">
            <a:off x="1943640" y="224640"/>
            <a:ext cx="2592360" cy="49687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414160" y="479736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-“dirty”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2078640" y="2852640"/>
            <a:ext cx="11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-fr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6221880" y="5013360"/>
            <a:ext cx="116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plicon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ty”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LogoColour"/>
          <p:cNvPicPr/>
          <p:nvPr/>
        </p:nvPicPr>
        <p:blipFill>
          <a:blip r:embed="rId2"/>
          <a:stretch/>
        </p:blipFill>
        <p:spPr>
          <a:xfrm>
            <a:off x="8532720" y="6551640"/>
            <a:ext cx="611280" cy="306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"/>
          <p:cNvPicPr/>
          <p:nvPr/>
        </p:nvPicPr>
        <p:blipFill>
          <a:blip r:embed="rId3"/>
          <a:stretch/>
        </p:blipFill>
        <p:spPr>
          <a:xfrm>
            <a:off x="0" y="6554880"/>
            <a:ext cx="841320" cy="303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"/>
          <p:cNvPicPr/>
          <p:nvPr/>
        </p:nvPicPr>
        <p:blipFill>
          <a:blip r:embed="rId4"/>
          <a:stretch/>
        </p:blipFill>
        <p:spPr>
          <a:xfrm>
            <a:off x="4284720" y="6566040"/>
            <a:ext cx="431640" cy="29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1)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parations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3959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Prepare a written checklist of materials and tool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epare a worksheet with list of specimens (identifiers) to be tes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Worksheets used in Specimen Preparation area should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be brought over to this are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epare a worksheet to calculate the volume master mix ingred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18"/>
          <p:cNvGraphicFramePr/>
          <p:nvPr/>
        </p:nvGraphicFramePr>
        <p:xfrm>
          <a:off x="4552920" y="1657440"/>
          <a:ext cx="3921120" cy="416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2920" y="1657440"/>
                    <a:ext cx="3921120" cy="41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Picture 20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1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2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2)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ion of components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0" y="1628640"/>
            <a:ext cx="396072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etermine the number of specimens and controls (number of samples to be analyzed plus control samp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0µl AM-A; 35µl AM-B; 5 µl DNA (after DNA extraction with GenoLyse) or 10µl DNA (after DNA extraction with GXT DNA/RNA Extraction K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inal volume: 50µl (GenoLyse) or 55 µl (GXT DNA/R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volume of master mix is 45 µl per speci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29" name="Grafik 2" descr="Ein Bild, das Tasse, Zahnbürste, klein, Tisch enthält.&#10;&#10;Automatisch generierte Beschreibung"/>
          <p:cNvPicPr/>
          <p:nvPr/>
        </p:nvPicPr>
        <p:blipFill>
          <a:blip r:embed="rId4"/>
          <a:stretch/>
        </p:blipFill>
        <p:spPr>
          <a:xfrm>
            <a:off x="520560" y="2266920"/>
            <a:ext cx="405144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3)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ting up workplace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136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ut on gloves and laboratory co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contaminate work area with freshly diluted 1.5% bleach (20 min), followed by 70% alcoh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ver the work area with clean paper tow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4)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ter mix preparation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13276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tore molecular grade water, and other reagents, in the DNA-free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ompletely thaw all rea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ipette calculated amount of different components of master mix into 1.5 ml conical screw-cap vial using filtered t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hange tips between rea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lways use a new aliquot of molecular grade water for negative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epare a master mix containing AM-A and AM-B and mix carefully but thoroughly (do not vorte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lways open only one reagent vial at a time, and place vials back in mini cooler after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lease note that the master mix needs to be prepared freshly each time and needs to be processed quick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5)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ensing master mix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360" y="4220640"/>
            <a:ext cx="79200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Label PCR tubes in line with numbers of specimens and controls on your work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lace PCR tubes onto the PCR tube r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pense 45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µl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master mix into each PCR tube using filtered t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dd 5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µl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of same sterile, molecular grade water used to prepare master mix into negative control PCR tu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lose PCR tubes with PCR tube caps and place them in a sterile tube r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45" name="Grafik 2" descr="Ein Bild, das Essen, Messer enthält.&#10;&#10;Automatisch generierte Beschreibung"/>
          <p:cNvPicPr/>
          <p:nvPr/>
        </p:nvPicPr>
        <p:blipFill>
          <a:blip r:embed="rId4"/>
          <a:stretch/>
        </p:blipFill>
        <p:spPr>
          <a:xfrm>
            <a:off x="1476360" y="1436760"/>
            <a:ext cx="561672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6)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ean-up of workplace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000" y="2104920"/>
            <a:ext cx="792468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95000"/>
              </a:lnSpc>
              <a:spcBef>
                <a:spcPts val="119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fter each use, clean pipettes, racks, instruments and the workstation with freshly diluted 1.5% bleach (20 minutes), followed by 70% alcohol and UV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19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se area-dedicated wash bottles or beakers (separate beakers for surface cleaning and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gliani Elisa</cp:lastModifiedBy>
  <dcterms:modified xsi:type="dcterms:W3CDTF">2020-06-12T10:04:15Z</dcterms:modified>
  <cp:revision>374</cp:revision>
  <dc:subject/>
  <dc:title>PowerPoint Presentation</dc:title>
</cp:coreProperties>
</file>