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7973-254E-413F-AB3A-28827E1FC1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EB2B-AE9E-4B35-810F-BB2A18A0FE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C84B-CCE8-4835-96A6-C3B4F83B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543E-8E31-4902-B963-6380B41B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AE8-7689-486B-9162-7B81E8BA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2697-91E1-4A77-9133-C94DEC07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CE04-D0FB-43E4-8F9D-528145E4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6EAE-45DB-4B3A-81D3-B65766DA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54D2-5CF4-4183-B050-4CA0670E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03D7-C119-417E-AF14-2F5E748B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0D85-B31A-4C2B-A49D-FC3D8698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756E-61DB-4298-8D4F-230D0458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7C09-40EF-4C42-874A-3A0FECC4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3FD6-C111-443F-802D-6C6D9A77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59F9-6384-45D4-BB64-686053E2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E8A9-91A4-4974-BA0F-385D30C3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D82B-F526-4D96-873B-923A999D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BE3D-C592-4EFC-AB3D-4E71FC82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3FAC-DCD6-42AB-9B89-99E9142F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0C9-AA13-4E5C-A5F1-B7E33C68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644A-32EE-4A17-B096-394D40B7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807-B57F-42EE-8DC9-7265C818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8A0C-066E-4D8C-A1E5-64854DD3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8FE-6D85-486D-82D4-24E463D6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846-0A3B-42BD-9F3D-5D7BA3C1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BF1B-90AA-4ADC-8C0F-219CB0FD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CB89-7C7B-4633-91CA-1FAA6AC7AA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FB90-0163-49CF-9553-C631E38FED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20" y="141300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plus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sl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agent preparation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ols and instruments that are used here have to be labelled accordingly and cannot be used els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CR tubes can only be taken to specimen preparation area in an aluminum foil-covered bea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bring back this beaker to reagent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0.5 ml or 0.2 ml individual PCR tubes instead of 0.2 ml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PCR hood with 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nge shoes or use shoe cover before entering clean room  Autoclave and calibrate pipettes regul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you have finished working in the specimen preparation area, do not come back and clean the reagent preparation area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648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epare fresh Na-hypochlorite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eck undiluted bleac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nal concentration of hypochlorite should not fall below 1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orking solutions of 5 g/l are necessary for dealing with biohazard sp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tainers containing bleach CANNOT be autoclav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instead of distilled water for clea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an Eppendorf repeat pipettor with individually wrapped sterile combi tips for aliquoting, if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688080" y="2133720"/>
            <a:ext cx="2033640" cy="236520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59" name="Picture 5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CD80-56A1-4DAF-B2C4-AC7EC857F3A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344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41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alculation of volume of master mix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Reagent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553080" cy="526716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 rot="5400000">
            <a:off x="1943640" y="224640"/>
            <a:ext cx="2592360" cy="4968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78640" y="2852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532720" y="6551640"/>
            <a:ext cx="611280" cy="30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1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959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heets used in Specimen Preparation area shoul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be brought over to this are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to calculate the volume master mix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8"/>
          <p:cNvGraphicFramePr/>
          <p:nvPr/>
        </p:nvGraphicFramePr>
        <p:xfrm>
          <a:off x="4552920" y="1657440"/>
          <a:ext cx="3921120" cy="41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2920" y="1657440"/>
                    <a:ext cx="392112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20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2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on of component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396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termine the number of specimens and controls (number of samples to be analyzed plus control s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µl AM-A; 35µl AM-B; 5 µl DNA (after DNA extraction with GenoLyse) or 10µl DNA (after DNA extraction with GXT DNA/RNA Extraction K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nal volume: 50µl (GenoLyse) or 55 µl (GXT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volume of master mix is 45 µl per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2" descr="Ein Bild, das Tasse, Zahnbürste, klein, Tisch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520560" y="2266920"/>
            <a:ext cx="4051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3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t on gloves and laboratory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ntaminate work area with freshly diluted 1.5% bleach (20 min), followed by 70%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ver the work area with clean paper to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4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 mix prepa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132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ore molecular grade water, and other reagents, in the DNA-fre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pletely thaw all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ipette calculated amount of different components of master mix into 1.5 ml conical screw-cap vial using filtered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ange tips between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use a new aliquot of molecular grade water for negativ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master mix containing AM-A and AM-B and mix carefully but thoroughly (do not vor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open only one reagent vial at a time, and place vials back in mini cooler after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ease note that the master mix needs to be prepared freshly each time and needs to be processed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5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ensing master mix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abel PCR tubes in line with numbers of specimens and controls on your work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lace PCR tubes onto the PCR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pense 4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master mix into each PCR tube using filtered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of same sterile, molecular grade water used to prepare master mix into negative control PCR 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ose PCR tubes with PCR tube caps and place them in a sterile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45" name="Grafik 2" descr="Ein Bild, das Essen, Messer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1476360" y="1436760"/>
            <a:ext cx="5616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6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of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104920"/>
            <a:ext cx="79246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each use, clean pipettes, racks, instruments and the workstation with freshly diluted 1.5% bleach (20 minutes), followed by 70% alcohol and UV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10:04:15Z</dcterms:modified>
  <cp:revision>374</cp:revision>
  <dc:subject/>
  <dc:title>PowerPoint Presentation</dc:title>
</cp:coreProperties>
</file>