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WHOOSH.WAV" ContentType="audio/x-wav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media/image9.png" ContentType="image/png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3B8F8E3-123E-4A3C-87A5-1C06C3C85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AAF1DE-6E2F-4692-A697-432813A29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8B7A16-0897-4195-A6F5-F6AF0C469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D470AA-6F13-4810-8E2B-6E2329106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889124-85B3-4B96-ACCC-F445D6E75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5655-BB8A-459E-B54D-7AF18CD6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BAE-B2FB-4DF3-8856-3FC51E4E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49EF-0A1F-47E4-A33A-74564925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2F50-8680-45E5-827E-AB9B5171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3337-0E73-40A4-A491-4207E9AE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F2F6-ECB6-463B-9118-B3279B64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C847-7C7C-47E8-9828-DAA67BA7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BFFD-D37B-452C-87D7-A2440356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FA78-1F47-4509-B516-2768A586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F0BB-C341-4C3F-B899-3BDC6141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63EE-7615-4BD0-ACB7-6F2C9BE8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EEA-53D7-42B3-BCB8-AB023F65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7600-2586-4B19-B481-8F966147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EE5F-2A71-4696-8B08-DA491905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FFC4-097F-480D-82E2-52097637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53AC-CC5B-47DB-B645-1D7D3695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1023-DED3-4DAF-99F6-04F30B50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7651-37FE-4589-A91B-C32B1957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BD1-5ACC-4816-A589-04323D22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5241-8E22-4D5A-A3EB-72F120AC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8857-50EF-49BF-8DD4-B8D4EE50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7B4F-41F7-45DC-A70A-92ACA111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8FC-5246-4040-AD69-E0C36876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9BB8-1672-430D-AA40-6B0A9114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CB89-60B9-48C4-89EE-2A838A8D40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DBA6-2A01-43E0-A88F-C786161BA9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: the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conven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chanism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066680" y="626436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ent adapted from standardized WHO, CDC and NHLS Training Materials for use by the African Centre for Integrated Laboratory Training,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olecular mechanisms of </a:t>
            </a:r>
            <a:br>
              <a:rPr sz="4200"/>
            </a:b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ultidrug-resistant tuberculo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postulates 188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present in every case of the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isolated from the host with the disease and grown in pure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pecific disease must be reproduced when a pure culture of the microorganism is inoculated into a healthy susceptible h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recoverable from the experimentally infected host and identified as being identical to the original specific causative agent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Edward Livingston Trudeau (1915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och’s paper on “The Etiology of Tuberculosis” is certainly one of the most, if not the most, important medical papers ever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model of logic in application of the   new experimental method to the study of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molecular postul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lection and isolation of a mutant with a particular 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oning the mutant genotype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producing the mutant phenotype by introduction of mutant genotype (gene) into wil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drug resistance in </a:t>
            </a:r>
            <a:r>
              <a:rPr b="0" i="1" lang="en-US" sz="3800" spc="-1" strike="noStrike">
                <a:solidFill>
                  <a:srgbClr val="ffffb9"/>
                </a:solidFill>
                <a:latin typeface="Arial"/>
              </a:rPr>
              <a:t>M.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ycobacterial cell is surrounded by a specialized, highly hydrophobic cell wall that results in decreased permeability to many antimicrobial ag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 of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ntimycobacterial drugs is the consequence o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turally occuring, spontaneous mutation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 genes that encode either the target of the drug, or enzymes that are involved in drug activ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-associated mutations have been described for all first-line drugs (isoniazid, rifampin, pyrazinamide, ethambutol, and streptomyc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multidrug-resistant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 single genetic alteration has yet been found that results in the MDR phenotype (defined as resistance at least to INH and R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DR develops by sequential acquisition and selection of mutations at different loci, usually because of inappropriate patient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appropriate treatment may lead to disease pro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ease progression will increase the bacterial load and the risk of naturally occurring 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cause MDR strains are the result of cumulative mutations, growth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an successfully be controlled in the host by concomitant treatment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us, treatment regimens that consist of three to four drugs are used routinely to treat patients with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b9"/>
                </a:solidFill>
                <a:latin typeface="Arial"/>
              </a:rPr>
              <a:t>kat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 is a pro-drug that requires activation in INH-susceptible mycobacterial spe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activation of INH results in a number of highly reactive compounds that are capable of damaging the mycobacterial cell w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-resistant clinical isolates frequently loose their catalase-peroxidase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ssociation of this enzyme with INH activation was proven when the mycobacterial catalase-peroxidase gene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was cloned and seque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utations in this gene were found in 70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80% of high INH-resistant clinical isola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most common mutation that was found was the Ser315Thr m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609480" y="1523880"/>
          <a:ext cx="367848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3678480" cy="449604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3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soniazid resistance and virulence in </a:t>
            </a: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katG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ge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r315Thr mutation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sults in an enzyme without the ability to activate INH, but retains approximately 50% of its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altered catalase-peroxidase provides high-level resistance to INH, while retaining a level of oxidative protection against host antibacterial radic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olates that carry other, mutations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xhibit varying levels of INH-resistance and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5410080" y="2590920"/>
            <a:ext cx="1671840" cy="1649160"/>
          </a:xfrm>
          <a:custGeom>
            <a:avLst/>
            <a:gdLst>
              <a:gd name="textAreaLeft" fmla="*/ 0 w 1671840"/>
              <a:gd name="textAreaRight" fmla="*/ 1672200 w 1671840"/>
              <a:gd name="textAreaTop" fmla="*/ 0 h 1649160"/>
              <a:gd name="textAreaBottom" fmla="*/ 1649520 h 1649160"/>
            </a:gdLst>
            <a:ahLst/>
            <a:rect l="textAreaLeft" t="textAreaTop" r="textAreaRight" b="textAreaBottom"/>
            <a:pathLst>
              <a:path w="1184" h="1039">
                <a:moveTo>
                  <a:pt x="337" y="191"/>
                </a:moveTo>
                <a:lnTo>
                  <a:pt x="420" y="159"/>
                </a:lnTo>
                <a:lnTo>
                  <a:pt x="503" y="121"/>
                </a:lnTo>
                <a:lnTo>
                  <a:pt x="649" y="38"/>
                </a:lnTo>
                <a:lnTo>
                  <a:pt x="725" y="13"/>
                </a:lnTo>
                <a:lnTo>
                  <a:pt x="795" y="0"/>
                </a:lnTo>
                <a:lnTo>
                  <a:pt x="872" y="7"/>
                </a:lnTo>
                <a:lnTo>
                  <a:pt x="948" y="45"/>
                </a:lnTo>
                <a:lnTo>
                  <a:pt x="980" y="83"/>
                </a:lnTo>
                <a:lnTo>
                  <a:pt x="999" y="128"/>
                </a:lnTo>
                <a:lnTo>
                  <a:pt x="1005" y="178"/>
                </a:lnTo>
                <a:lnTo>
                  <a:pt x="999" y="229"/>
                </a:lnTo>
                <a:lnTo>
                  <a:pt x="980" y="344"/>
                </a:lnTo>
                <a:lnTo>
                  <a:pt x="986" y="401"/>
                </a:lnTo>
                <a:lnTo>
                  <a:pt x="1005" y="458"/>
                </a:lnTo>
                <a:lnTo>
                  <a:pt x="1050" y="516"/>
                </a:lnTo>
                <a:lnTo>
                  <a:pt x="1107" y="560"/>
                </a:lnTo>
                <a:lnTo>
                  <a:pt x="1158" y="605"/>
                </a:lnTo>
                <a:lnTo>
                  <a:pt x="1177" y="637"/>
                </a:lnTo>
                <a:lnTo>
                  <a:pt x="1183" y="675"/>
                </a:lnTo>
                <a:lnTo>
                  <a:pt x="1171" y="726"/>
                </a:lnTo>
                <a:lnTo>
                  <a:pt x="1139" y="783"/>
                </a:lnTo>
                <a:lnTo>
                  <a:pt x="1101" y="834"/>
                </a:lnTo>
                <a:lnTo>
                  <a:pt x="1056" y="878"/>
                </a:lnTo>
                <a:lnTo>
                  <a:pt x="1005" y="917"/>
                </a:lnTo>
                <a:lnTo>
                  <a:pt x="967" y="949"/>
                </a:lnTo>
                <a:lnTo>
                  <a:pt x="929" y="961"/>
                </a:lnTo>
                <a:lnTo>
                  <a:pt x="910" y="968"/>
                </a:lnTo>
                <a:lnTo>
                  <a:pt x="872" y="949"/>
                </a:lnTo>
                <a:lnTo>
                  <a:pt x="814" y="936"/>
                </a:lnTo>
                <a:lnTo>
                  <a:pt x="744" y="929"/>
                </a:lnTo>
                <a:lnTo>
                  <a:pt x="681" y="949"/>
                </a:lnTo>
                <a:lnTo>
                  <a:pt x="649" y="961"/>
                </a:lnTo>
                <a:lnTo>
                  <a:pt x="630" y="993"/>
                </a:lnTo>
                <a:lnTo>
                  <a:pt x="611" y="1019"/>
                </a:lnTo>
                <a:lnTo>
                  <a:pt x="585" y="1038"/>
                </a:lnTo>
                <a:lnTo>
                  <a:pt x="535" y="1025"/>
                </a:lnTo>
                <a:lnTo>
                  <a:pt x="496" y="999"/>
                </a:lnTo>
                <a:lnTo>
                  <a:pt x="452" y="968"/>
                </a:lnTo>
                <a:lnTo>
                  <a:pt x="407" y="949"/>
                </a:lnTo>
                <a:lnTo>
                  <a:pt x="375" y="942"/>
                </a:lnTo>
                <a:lnTo>
                  <a:pt x="344" y="949"/>
                </a:lnTo>
                <a:lnTo>
                  <a:pt x="280" y="974"/>
                </a:lnTo>
                <a:lnTo>
                  <a:pt x="229" y="987"/>
                </a:lnTo>
                <a:lnTo>
                  <a:pt x="204" y="980"/>
                </a:lnTo>
                <a:lnTo>
                  <a:pt x="191" y="968"/>
                </a:lnTo>
                <a:lnTo>
                  <a:pt x="178" y="929"/>
                </a:lnTo>
                <a:lnTo>
                  <a:pt x="191" y="898"/>
                </a:lnTo>
                <a:lnTo>
                  <a:pt x="216" y="872"/>
                </a:lnTo>
                <a:lnTo>
                  <a:pt x="255" y="847"/>
                </a:lnTo>
                <a:lnTo>
                  <a:pt x="286" y="821"/>
                </a:lnTo>
                <a:lnTo>
                  <a:pt x="325" y="796"/>
                </a:lnTo>
                <a:lnTo>
                  <a:pt x="344" y="764"/>
                </a:lnTo>
                <a:lnTo>
                  <a:pt x="356" y="732"/>
                </a:lnTo>
                <a:lnTo>
                  <a:pt x="344" y="675"/>
                </a:lnTo>
                <a:lnTo>
                  <a:pt x="312" y="630"/>
                </a:lnTo>
                <a:lnTo>
                  <a:pt x="274" y="598"/>
                </a:lnTo>
                <a:lnTo>
                  <a:pt x="229" y="586"/>
                </a:lnTo>
                <a:lnTo>
                  <a:pt x="191" y="592"/>
                </a:lnTo>
                <a:lnTo>
                  <a:pt x="159" y="618"/>
                </a:lnTo>
                <a:lnTo>
                  <a:pt x="140" y="649"/>
                </a:lnTo>
                <a:lnTo>
                  <a:pt x="121" y="688"/>
                </a:lnTo>
                <a:lnTo>
                  <a:pt x="102" y="726"/>
                </a:lnTo>
                <a:lnTo>
                  <a:pt x="83" y="751"/>
                </a:lnTo>
                <a:lnTo>
                  <a:pt x="57" y="770"/>
                </a:lnTo>
                <a:lnTo>
                  <a:pt x="32" y="764"/>
                </a:lnTo>
                <a:lnTo>
                  <a:pt x="0" y="732"/>
                </a:lnTo>
                <a:lnTo>
                  <a:pt x="6" y="694"/>
                </a:lnTo>
                <a:lnTo>
                  <a:pt x="19" y="649"/>
                </a:lnTo>
                <a:lnTo>
                  <a:pt x="45" y="605"/>
                </a:lnTo>
                <a:lnTo>
                  <a:pt x="76" y="548"/>
                </a:lnTo>
                <a:lnTo>
                  <a:pt x="127" y="516"/>
                </a:lnTo>
                <a:lnTo>
                  <a:pt x="172" y="478"/>
                </a:lnTo>
                <a:lnTo>
                  <a:pt x="210" y="427"/>
                </a:lnTo>
                <a:lnTo>
                  <a:pt x="204" y="376"/>
                </a:lnTo>
                <a:lnTo>
                  <a:pt x="191" y="331"/>
                </a:lnTo>
                <a:lnTo>
                  <a:pt x="178" y="287"/>
                </a:lnTo>
                <a:lnTo>
                  <a:pt x="178" y="261"/>
                </a:lnTo>
                <a:lnTo>
                  <a:pt x="191" y="242"/>
                </a:lnTo>
                <a:lnTo>
                  <a:pt x="223" y="210"/>
                </a:lnTo>
                <a:lnTo>
                  <a:pt x="274" y="198"/>
                </a:lnTo>
                <a:lnTo>
                  <a:pt x="318" y="191"/>
                </a:lnTo>
                <a:lnTo>
                  <a:pt x="331" y="191"/>
                </a:lnTo>
                <a:lnTo>
                  <a:pt x="337" y="191"/>
                </a:lnTo>
              </a:path>
            </a:pathLst>
          </a:custGeom>
          <a:solidFill>
            <a:srgbClr val="dadad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6062760" y="2819520"/>
            <a:ext cx="711000" cy="466560"/>
          </a:xfrm>
          <a:custGeom>
            <a:avLst/>
            <a:gdLst>
              <a:gd name="textAreaLeft" fmla="*/ 0 w 711000"/>
              <a:gd name="textAreaRight" fmla="*/ 711360 w 7110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504" h="294">
                <a:moveTo>
                  <a:pt x="318" y="0"/>
                </a:moveTo>
                <a:lnTo>
                  <a:pt x="153" y="19"/>
                </a:lnTo>
                <a:lnTo>
                  <a:pt x="57" y="89"/>
                </a:lnTo>
                <a:lnTo>
                  <a:pt x="38" y="146"/>
                </a:lnTo>
                <a:lnTo>
                  <a:pt x="25" y="172"/>
                </a:lnTo>
                <a:lnTo>
                  <a:pt x="19" y="191"/>
                </a:lnTo>
                <a:lnTo>
                  <a:pt x="0" y="229"/>
                </a:lnTo>
                <a:lnTo>
                  <a:pt x="6" y="242"/>
                </a:lnTo>
                <a:lnTo>
                  <a:pt x="38" y="280"/>
                </a:lnTo>
                <a:lnTo>
                  <a:pt x="102" y="293"/>
                </a:lnTo>
                <a:lnTo>
                  <a:pt x="134" y="261"/>
                </a:lnTo>
                <a:lnTo>
                  <a:pt x="159" y="242"/>
                </a:lnTo>
                <a:lnTo>
                  <a:pt x="140" y="184"/>
                </a:lnTo>
                <a:lnTo>
                  <a:pt x="153" y="153"/>
                </a:lnTo>
                <a:lnTo>
                  <a:pt x="197" y="108"/>
                </a:lnTo>
                <a:lnTo>
                  <a:pt x="261" y="121"/>
                </a:lnTo>
                <a:lnTo>
                  <a:pt x="293" y="134"/>
                </a:lnTo>
                <a:lnTo>
                  <a:pt x="337" y="184"/>
                </a:lnTo>
                <a:lnTo>
                  <a:pt x="413" y="204"/>
                </a:lnTo>
                <a:lnTo>
                  <a:pt x="439" y="172"/>
                </a:lnTo>
                <a:lnTo>
                  <a:pt x="503" y="127"/>
                </a:lnTo>
                <a:lnTo>
                  <a:pt x="477" y="64"/>
                </a:lnTo>
                <a:lnTo>
                  <a:pt x="471" y="51"/>
                </a:lnTo>
                <a:lnTo>
                  <a:pt x="433" y="32"/>
                </a:lnTo>
                <a:lnTo>
                  <a:pt x="369" y="13"/>
                </a:lnTo>
                <a:lnTo>
                  <a:pt x="31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6062760" y="2819520"/>
            <a:ext cx="684000" cy="446040"/>
          </a:xfrm>
          <a:custGeom>
            <a:avLst/>
            <a:gdLst>
              <a:gd name="textAreaLeft" fmla="*/ 0 w 684000"/>
              <a:gd name="textAreaRight" fmla="*/ 684360 w 68400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84" h="281">
                <a:moveTo>
                  <a:pt x="369" y="13"/>
                </a:moveTo>
                <a:lnTo>
                  <a:pt x="305" y="0"/>
                </a:lnTo>
                <a:lnTo>
                  <a:pt x="229" y="0"/>
                </a:lnTo>
                <a:lnTo>
                  <a:pt x="153" y="19"/>
                </a:lnTo>
                <a:lnTo>
                  <a:pt x="83" y="64"/>
                </a:lnTo>
                <a:lnTo>
                  <a:pt x="57" y="83"/>
                </a:lnTo>
                <a:lnTo>
                  <a:pt x="44" y="108"/>
                </a:lnTo>
                <a:lnTo>
                  <a:pt x="25" y="172"/>
                </a:lnTo>
                <a:lnTo>
                  <a:pt x="6" y="204"/>
                </a:lnTo>
                <a:lnTo>
                  <a:pt x="0" y="223"/>
                </a:lnTo>
                <a:lnTo>
                  <a:pt x="6" y="242"/>
                </a:lnTo>
                <a:lnTo>
                  <a:pt x="32" y="267"/>
                </a:lnTo>
                <a:lnTo>
                  <a:pt x="64" y="280"/>
                </a:lnTo>
                <a:lnTo>
                  <a:pt x="102" y="274"/>
                </a:lnTo>
                <a:lnTo>
                  <a:pt x="134" y="261"/>
                </a:lnTo>
                <a:lnTo>
                  <a:pt x="146" y="235"/>
                </a:lnTo>
                <a:lnTo>
                  <a:pt x="146" y="204"/>
                </a:lnTo>
                <a:lnTo>
                  <a:pt x="140" y="178"/>
                </a:lnTo>
                <a:lnTo>
                  <a:pt x="153" y="153"/>
                </a:lnTo>
                <a:lnTo>
                  <a:pt x="197" y="121"/>
                </a:lnTo>
                <a:lnTo>
                  <a:pt x="261" y="121"/>
                </a:lnTo>
                <a:lnTo>
                  <a:pt x="286" y="134"/>
                </a:lnTo>
                <a:lnTo>
                  <a:pt x="312" y="153"/>
                </a:lnTo>
                <a:lnTo>
                  <a:pt x="337" y="178"/>
                </a:lnTo>
                <a:lnTo>
                  <a:pt x="369" y="191"/>
                </a:lnTo>
                <a:lnTo>
                  <a:pt x="407" y="191"/>
                </a:lnTo>
                <a:lnTo>
                  <a:pt x="439" y="172"/>
                </a:lnTo>
                <a:lnTo>
                  <a:pt x="458" y="146"/>
                </a:lnTo>
                <a:lnTo>
                  <a:pt x="477" y="121"/>
                </a:lnTo>
                <a:lnTo>
                  <a:pt x="483" y="89"/>
                </a:lnTo>
                <a:lnTo>
                  <a:pt x="477" y="64"/>
                </a:lnTo>
                <a:lnTo>
                  <a:pt x="452" y="32"/>
                </a:lnTo>
                <a:lnTo>
                  <a:pt x="413" y="19"/>
                </a:lnTo>
                <a:lnTo>
                  <a:pt x="382" y="13"/>
                </a:lnTo>
                <a:lnTo>
                  <a:pt x="369" y="13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5616720" y="3678120"/>
            <a:ext cx="191880" cy="44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5641920" y="376884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5562720" y="38862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5935680" y="3757680"/>
            <a:ext cx="514440" cy="255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6083280" y="3811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021360" y="3922560"/>
            <a:ext cx="16524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6226200" y="3892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 rot="1324800">
            <a:off x="6393960" y="3425400"/>
            <a:ext cx="609840" cy="38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9"/>
          <p:cNvSpPr/>
          <p:nvPr/>
        </p:nvSpPr>
        <p:spPr>
          <a:xfrm>
            <a:off x="4572000" y="42670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T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1"/>
          <p:cNvSpPr/>
          <p:nvPr/>
        </p:nvSpPr>
        <p:spPr>
          <a:xfrm>
            <a:off x="6010200" y="358128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2"/>
          <p:cNvSpPr/>
          <p:nvPr/>
        </p:nvSpPr>
        <p:spPr>
          <a:xfrm>
            <a:off x="618012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3"/>
          <p:cNvSpPr/>
          <p:nvPr/>
        </p:nvSpPr>
        <p:spPr>
          <a:xfrm>
            <a:off x="609588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4"/>
          <p:cNvSpPr/>
          <p:nvPr/>
        </p:nvSpPr>
        <p:spPr>
          <a:xfrm>
            <a:off x="6062760" y="335268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9"/>
          <p:cNvSpPr/>
          <p:nvPr/>
        </p:nvSpPr>
        <p:spPr>
          <a:xfrm>
            <a:off x="5558040" y="481176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so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viable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0"/>
          <p:cNvSpPr/>
          <p:nvPr/>
        </p:nvSpPr>
        <p:spPr>
          <a:xfrm flipV="1">
            <a:off x="5257800" y="39625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1"/>
          <p:cNvSpPr/>
          <p:nvPr/>
        </p:nvSpPr>
        <p:spPr>
          <a:xfrm flipV="1">
            <a:off x="6019920" y="40384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2"/>
          <p:cNvSpPr/>
          <p:nvPr/>
        </p:nvSpPr>
        <p:spPr>
          <a:xfrm>
            <a:off x="6664320" y="361152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3"/>
          <p:cNvSpPr/>
          <p:nvPr/>
        </p:nvSpPr>
        <p:spPr>
          <a:xfrm>
            <a:off x="6512040" y="36576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4"/>
          <p:cNvSpPr/>
          <p:nvPr/>
        </p:nvSpPr>
        <p:spPr>
          <a:xfrm>
            <a:off x="6485040" y="342900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5"/>
          <p:cNvSpPr/>
          <p:nvPr/>
        </p:nvSpPr>
        <p:spPr>
          <a:xfrm>
            <a:off x="662940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6"/>
          <p:cNvSpPr/>
          <p:nvPr/>
        </p:nvSpPr>
        <p:spPr>
          <a:xfrm>
            <a:off x="6629400" y="3505320"/>
            <a:ext cx="68400" cy="75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7"/>
          <p:cNvSpPr/>
          <p:nvPr/>
        </p:nvSpPr>
        <p:spPr>
          <a:xfrm>
            <a:off x="5715000" y="25146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8"/>
          <p:cNvSpPr/>
          <p:nvPr/>
        </p:nvSpPr>
        <p:spPr>
          <a:xfrm>
            <a:off x="4641840" y="190512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ysoso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free oxigene radic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9"/>
          <p:cNvSpPr/>
          <p:nvPr/>
        </p:nvSpPr>
        <p:spPr>
          <a:xfrm flipH="1">
            <a:off x="6781320" y="2971800"/>
            <a:ext cx="6858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0"/>
          <p:cNvSpPr/>
          <p:nvPr/>
        </p:nvSpPr>
        <p:spPr>
          <a:xfrm>
            <a:off x="6778080" y="2438280"/>
            <a:ext cx="19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-lysosomes w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activated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3"/>
          <p:cNvSpPr/>
          <p:nvPr/>
        </p:nvSpPr>
        <p:spPr>
          <a:xfrm>
            <a:off x="1127160" y="4199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inh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H blocks the synthesis of cell-wall mycolic acids, the major components of the envelope o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 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e intracellular target of the drug is fatty-acid enoyl-acyl carrier protein reductase (In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s enzyme is involved in the synthesis of mycolic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tations in the promoter region of the gene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h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encoding this enzyme result in over-expression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over-expressed enzyme may counter-balance the effect of INH and will result in a low-level resistance to the dr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9"/>
          <p:cNvGraphicFramePr/>
          <p:nvPr/>
        </p:nvGraphicFramePr>
        <p:xfrm>
          <a:off x="4724280" y="160020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4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ifampin resist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ne of the main reasons for treatment failure and fatal clinical outcome in tuberculosis patients is resistance to R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exhibits a significant early bactericidal effect on metabolically activ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and excellent late sterilizing action on semidormant organisms undergoing short bursts of metabolic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hile monoresistance to INH is common, monoresistance to RMP is r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resistance occurs most often in strains that are also resistant to INH; thus RMP resistance can be used as a surrogate marker for M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inhibits mycobacterial transcription by targeting DNA-dependent RNA polymer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4724280" y="152388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52388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1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762120" y="228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9"/>
                </a:solidFill>
                <a:latin typeface="Arial"/>
              </a:rPr>
              <a:t>Rifampin resistance and </a:t>
            </a:r>
            <a:r>
              <a:rPr b="0" i="1" lang="en-US" sz="4000" spc="-1" strike="noStrike">
                <a:solidFill>
                  <a:srgbClr val="ffffb9"/>
                </a:solidFill>
                <a:latin typeface="Arial"/>
              </a:rPr>
              <a:t>rpo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62120" y="2971800"/>
            <a:ext cx="78199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istance to RMP is due to mutations in a well-defined, 81 base-pair (27 codons) central region of the gene that encodes the β-subunit of RNA polymerase 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re than 96% of the rifampin-resistant strains contain a mutation in this 81 bp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most common mutations (65–86%) alter either codon 526 or codon 531, and result in high-level resistance to R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terations in other codons result in low-level resi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re mutations associated with rifampin resistance have also been found in the amino-terminal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LIPA2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14400" y="1295280"/>
            <a:ext cx="7010280" cy="1551240"/>
          </a:xfrm>
          <a:prstGeom prst="rect">
            <a:avLst/>
          </a:prstGeom>
          <a:ln w="38160">
            <a:solidFill>
              <a:srgbClr val="6666cc"/>
            </a:solidFill>
            <a:miter/>
          </a:ln>
        </p:spPr>
      </p:pic>
      <p:cxnSp>
        <p:nvCxnSpPr>
          <p:cNvPr id="220" name="Straight Arrow Connector 10"/>
          <p:cNvCxnSpPr/>
          <p:nvPr/>
        </p:nvCxnSpPr>
        <p:spPr>
          <a:xfrm flipH="1" flipV="1">
            <a:off x="5486040" y="2514240"/>
            <a:ext cx="38160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1" name="Straight Arrow Connector 13"/>
          <p:cNvCxnSpPr/>
          <p:nvPr/>
        </p:nvCxnSpPr>
        <p:spPr>
          <a:xfrm flipH="1" flipV="1">
            <a:off x="6781320" y="2513880"/>
            <a:ext cx="15336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MDR-XDR T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46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 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lti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resistan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atalit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s treatment with second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herapy (18 months): Increased cost,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D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ively 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B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to INH and RMP (MDR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u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any fluoroquinolone, and at least one injectable second-line drug (capreomycin, kanamycin, and/or amikac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ld be inc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388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molecular detection of INH and RMP resistance: Line – probe assay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NA isolated from processed original specimen or from cultured bacter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xed amplification (PCR) of mycobacterial DNA using biotin-labelled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naturation of the amplified DNA products into single-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ybridization of the denatured DNA to probes on a membrane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zyme-mediated detection of bands where DNA products have bound to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pcr3"/>
          <p:cNvPicPr/>
          <p:nvPr/>
        </p:nvPicPr>
        <p:blipFill>
          <a:blip r:embed="rId1"/>
          <a:srcRect l="1964" t="0" r="1964" b="2718"/>
          <a:stretch/>
        </p:blipFill>
        <p:spPr>
          <a:xfrm>
            <a:off x="0" y="1711440"/>
            <a:ext cx="9144000" cy="43099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228600" y="2286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Polymerase chain re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4670" t="12486" r="28735" b="6253"/>
          <a:stretch/>
        </p:blipFill>
        <p:spPr>
          <a:xfrm>
            <a:off x="755640" y="1155600"/>
            <a:ext cx="7488360" cy="57024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0" y="195120"/>
            <a:ext cx="86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TBDR plus strip for identification of MTB comple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resistance to RMP and/or IN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b9"/>
                </a:solidFill>
                <a:latin typeface="Arial"/>
              </a:rPr>
              <a:t>TB molecular identif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64000" y="1413000"/>
            <a:ext cx="244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VANTAGES of molecular tes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pi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done in the presence of conta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biohazard risk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156360" y="1412640"/>
            <a:ext cx="2519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DVANTAGES of molecular tes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icated equipment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expertis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615636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356400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95280" y="1413000"/>
            <a:ext cx="3097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SYSTEMS (Commerci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n GenotType MTBDRp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LiPA Ri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ummary: why is molecular detection of drug resistance important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pid and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vir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the level of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help to identify molecular pathways to develop new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C778-F402-4517-BD01-E0E8C602A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-7632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0" y="0"/>
          <a:ext cx="8915400" cy="635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3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6"/>
          <p:cNvSpPr/>
          <p:nvPr/>
        </p:nvSpPr>
        <p:spPr>
          <a:xfrm>
            <a:off x="380880" y="6324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True global distribution unknown due to limited culture and DST testing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b9"/>
                </a:solidFill>
                <a:latin typeface="Arial"/>
              </a:rPr>
              <a:t>Conventional laboratory diagnosis of tuberculosi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TB is caused by the bacterial species </a:t>
            </a:r>
            <a:r>
              <a:rPr b="0" i="1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ycobacterium tuberculos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 and occasionally by other species belonging to the TB complex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bov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africanum, M. canetti, M. pennipedii, M. microt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embers of the TB complex are also known as tubercule baci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Laboratory methods for detection and diagnosis of T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AFB smear micros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Culture for detection and identification of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Drug-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Molecular and new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24912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The causative agent of TB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715000" y="6338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ations  of AFB smear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ensitivity for AFB detection in spu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5000–10,000 AFB/ml of spu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co-infection further reduces sensitivity (non-cavitary disease with lower numbers of bacteria in spu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increases with specimen concentration and fluorescent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ins both live and dead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ifferentiate tubercle bacilli from other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2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mitations of TB cul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growth of the MTB; long turn-arou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; limited number of laboratories perform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ence to strict biosafet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infrastructure, facilities, electricity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of qualifi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use and maintenance of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ous supply of media, reagents and 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men transpo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Management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Ps, organized workflow, quality control, quality as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enotypic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urn-arou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growth for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turn-around time is 21 days from inoculation to L J or 7H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2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turn-around time compared to solid DST 4 – 13/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76680" y="1447560"/>
            <a:ext cx="944892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lecular mechanisms of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ltidrug-resistant 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9:28:36Z</dcterms:created>
  <dc:creator>D</dc:creator>
  <dc:description/>
  <dc:language>en-US</dc:language>
  <cp:lastModifiedBy>Philip</cp:lastModifiedBy>
  <dcterms:modified xsi:type="dcterms:W3CDTF">2012-01-26T09:52:21Z</dcterms:modified>
  <cp:revision>98</cp:revision>
  <dc:subject/>
  <dc:title>Slide 1</dc:title>
</cp:coreProperties>
</file>