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BA83-3312-4D1A-8232-311808794F7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F09B-9758-41DE-8910-4F1402967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C0C5-E14D-42DA-B0F7-5E9542AA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6562-C1D5-4A8C-9239-D384BD26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A1A-8FF6-4AB2-95E6-DDC73EDA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2144-D4C0-424E-AC08-EDECB057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62D1-341B-4E65-B21C-B49C5DAA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8BE8-60B0-4E9E-BAF7-16F8FCFE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6AA6-2DB5-4FBA-8DE4-2F53EA2C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1D66-0589-4FF7-9126-8B7DF3CF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C9FB-AE8C-4F3E-ABF8-50A76389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D739-94A1-44B9-9DEA-6BA9E1A7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3D6C-736E-4950-BF9A-EF9D76E7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2BB-B85C-4F2B-9CEF-E3B14380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E0ED-6765-4B0A-AF68-AC1B1C8E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6C73-DCC2-4C33-9AEC-A847BBE7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ECE9-4687-492F-9C4F-9BF3CE75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A621-B3D3-4F75-BD43-D513B048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08AD-AB4F-459B-A72D-BB42C74F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BA9D4-D0EA-4721-AEB5-A442B003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2A5A3-087D-4BA4-AB7F-04F55ACA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B9691-AA3D-476D-8970-3D6F5FDC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D4C53-C423-4E9E-9933-4E3400D8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85970-73CF-4276-8B5E-BBCCB311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DB48-D209-4177-AB8D-63FB12FF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13A40-07AE-4622-84C4-AA362CAB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66E61-5D09-4DE0-869B-9E7F257B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98550-698B-4568-9947-96A6915C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B7C0F-6BDF-456B-927A-BF171357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6D691-5783-4B2D-923C-1E782AA7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D4359-1F7F-45E4-BF81-59402E94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9D4DA-D932-4CDD-B9B0-EA0A3B9E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941-2989-43FF-A435-0182A51D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048-4E27-4ECC-AA20-FF88F01A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B869-D63D-4795-A1F6-343BDE7E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8FC9-5131-41B5-B45C-17523B3D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334-E0EC-4859-84BD-ABD3FF6E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907C-2A04-451C-87E3-BCD2B26B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55D9-EB55-48C1-9AF8-5EFDDD12E9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6649-C89B-41FE-888B-EDB3D34BC9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7CF1-6595-4F1D-83EE-282ECF3BF4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 of drug resistance to antituberculosis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four-drug TB therapy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irst-line, most effective dru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80880" y="1523880"/>
            <a:ext cx="83059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effective 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 with multiple antibio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herapy –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wo months with RMP, INH and PZA and either EMB or 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four months with RMP and 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gi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ntibacteri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s development of res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persisting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jectives of antituberculosis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kill large numbers of rapidly growing bacilli in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e the patient and increase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infectiousness of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emergence of drug-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ization (elimination) of the dormant but still viable bacilli from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therapeutic failure and re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the chance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alizatio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infected tissue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 of rapidly dividing bacilli in pulmonar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illi multiplying less rapidly due to local adverse conditions (most often acid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mant but still viable bacilli (often sequestered in granulo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TB drugs act on different population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3320" y="139536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s that kill Population A are considered to have rap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asured by rapidity of sputum and culture conversion (from + to 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rugs are most effective in preventing the emergence of drug resistant cells that arise in the large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571680" y="1371600"/>
            <a:ext cx="144756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 rot="5400000">
            <a:off x="110448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 rot="5400000">
            <a:off x="243828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64764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24004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94400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287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8644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88020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rilizing effe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9600" y="15998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that are more effective against Populations B and C are regarded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y is reflected by a high cure rate with limited relapses in patients completing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4583160" y="1371600"/>
            <a:ext cx="144792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4"/>
          <p:cNvSpPr/>
          <p:nvPr/>
        </p:nvSpPr>
        <p:spPr>
          <a:xfrm rot="5400000">
            <a:off x="511596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"/>
          <p:cNvSpPr/>
          <p:nvPr/>
        </p:nvSpPr>
        <p:spPr>
          <a:xfrm rot="5400000">
            <a:off x="645012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465948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641196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595584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8013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59828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489168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5143680" y="714240"/>
            <a:ext cx="3857400" cy="600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304920" y="762120"/>
          <a:ext cx="469080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690800" cy="5638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7" name="Text Box 6"/>
          <p:cNvSpPr/>
          <p:nvPr/>
        </p:nvSpPr>
        <p:spPr>
          <a:xfrm>
            <a:off x="293400" y="6477120"/>
            <a:ext cx="434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: Somoskovi et al. Respir Res 2001, 2: 164-1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-9360" y="152280"/>
            <a:ext cx="9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-line antituberculosis drugs and their mechanism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257800" y="8377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catalase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r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the synthesis of cell wall, acts on other targets in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effective anti-TB drug with bo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s bacterial RNA transcription by binding to RNA poly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l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ffect on Population B (in an acidic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pyrazinam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s with fatty acid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rug resistance in the MTB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B complex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, 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 strai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see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africanum, M. canettii, M. microti, M. caprae, M. pinnipe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esistance to 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obic cell envelope (permeability barri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efflux systems and drug-modifying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toxic substances out of cell and produce enzymes to change the dru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resistanc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canettii, M.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CG (other members are usually susceptible to P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types of resistance to first-line drugs – WHO class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newly identifi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mary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previously treat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quired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resistance between different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are chemically related (similar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have the same or similar target within the bacteri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amycins, aminoglycosides, fluoroquino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istance in TB to more than one dru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to more than one antituberculosis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drug resistant TB (M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at leas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treatment failure and fatal outcomes more often than with resistance to other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ly drug resistant TB (X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R-TB also resistant to any of the fluoroquinolones and to at least one injectabl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ntre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0" y="1428840"/>
            <a:ext cx="892980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-142920" y="309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ion of drug resistant mutants in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14200" y="1428840"/>
            <a:ext cx="8605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taneous mutations occur in the DNA of 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 can change the structure of a protein that is a drug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still functions, but is no longer inactivated by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TB can grow in the presence of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s linked to large bacterial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nts resistant to any drug occur on average once in every 100 million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B in the lung, cavities often contain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avitary lesions contain about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two antibiotics, chances for both targets to be mutated is extremely small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therapy led to selection of drug-resistant populations in cavitary disease more often than in cases with non-cavitary le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rationale for treatment regimens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objectives and rationale of combined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basic definitions of drug resistance in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how drug resistance deve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rationale for using a critical concentration of drug in laboratory as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the rationale for determining the  proportion of resistant bacteria that is clinically signific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2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actors influencing the development of drug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3665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abolism of bacilli shifted to dorm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aired/decreased drug uptake by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on of drugs to various body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ptimal concentration of drugs at some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drug absorption due to underlying host conditions such as HIV/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with inappropriate drugs, combinations or do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 or irregular trea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number of doses not taken (patient non-compli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llenges for TB drug susceptibility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critical concentrations of drugs necessary to eliminate the growth of susceptible (wild type)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uscepti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what proportion of cells in a popul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need to be resistant to a drug in order for that strain to be interpreted as re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0920"/>
            <a:ext cx="86868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rugs used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 drug susceptibility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oncentration of drug that inhibits the growth of wild type strains without appreciably affecting the growth of resistant ce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rugs were found to vary dependent upon the media used (especially solid vs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6760" y="31680"/>
            <a:ext cx="8247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clinically significant proportion of resistant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significant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of resistant cells in the presence of the critical concentration of the drug that is equal to or greater than 1% of the growth of the total population in the absence of th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ce of 1% resis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significant increase in resist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assays are based on this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ortion method for determining drug resistance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assay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rowth of a 1:100 dilution of the TB isolate on media without drug (Growth Control) to the growth of the undiluted suspension on media containing each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undiluted suspension grows faster or more abundantly in the presence of the drug than the Growth Control, the isolate is considered to contain a resistant population of greater than 1%, and is reported as resist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5240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antituberculosis therapy is the cornerstone of effective treatment and prevention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-line antituberculosis drugs are INH, RMP, PZA and sometimes EMB and 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exhibit natural resistance to certain antibiotics and may develop resistance to antituberculosis agents due to spontaneous mutations in genes encoding drug targets or drug-activating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tomical, metabolic compartmentalization, mutation rates and increase in the bacterial load in the lesion may also highly influence the emergence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recommends use of the phrase “drug resistance among new cases” instead of primary resistance, and “drug resistance among previously treated patients” instead of acquired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concentration is the amount of drug in the medium that inhibits the growth of susceptible organisms but not that of the 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nically significant proportion of resistant mutants (determined to be greater than 1% of the population) indicates the magnitude of drug resistant cells that either predict or reflect therapeutic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A6A1-22C6-4135-ADAC-F234A7CBC14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514520"/>
            <a:ext cx="8762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and objectives of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tmentaliz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e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cidal and sterilizing activity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line antituberculosis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efinition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and genetic basi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of critical concentrations and proportion of resistant bacteria to prediction of treatment 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DR and XDR tuberculosis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avigli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.C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nd Sm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.M.,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656-9</a:t>
            </a: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76520" y="1579680"/>
            <a:ext cx="5715000" cy="40590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51" name="Rectangle 6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sistant tuberculosis is present world wide wherever treatment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tribution of MDR TB in new cases, 1994-2009 (WHO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9200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5D9E-EF99-4510-97CB-DDC346AC1A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 of MDR TB  among previously treated TB cases, 1994-2009 (WH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835344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390F-D579-4161-903B-D6B9DAA33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tribution of XDR TB - WHO 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4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925040" cy="441936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6B84-D550-4CDD-8743-63DDD79CFB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68360" y="18900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y of antituberculosis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28600" y="1371600"/>
            <a:ext cx="8534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rugs introduced for TB therapy in 19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ptomycin (SM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minosalicylic acid (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either SM or PAS alone in treatment of TB was initially found to reduce deaths among treated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, it was found that single drug therapy resulted in emergence of drug resistant strains in ~70% of th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mbining SM + PAS the resistance rate was reduced to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14200" y="7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of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effective antituberculosis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80880" y="1928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niazid (INH), more potent drug,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therapy – SM + PAS + INH (1950s) proved highly effective in preventing emergence of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, 18-months of treatment required to ensure adequate c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azinamide (PZA), Ethambutol (EMB) and Rifampin (R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(1952), EMB (1962) and RMP (1963) effectively combined with INH for combination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6:46Z</dcterms:modified>
  <cp:revision>147</cp:revision>
  <dc:subject/>
  <dc:title>PowerPoint Presentation</dc:title>
</cp:coreProperties>
</file>