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1E89-BE1D-45EF-9D42-C341E3A6B92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C41A-4E68-4543-A8C7-0345EF93442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9445-E285-4110-9EA3-48D76E2283C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4F95-B71A-4A4E-925D-D4723F5C965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3879-93C5-432E-8F66-D862D86F820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D42F-7291-4F6D-A8A3-189C9EE9D76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3640-C9CC-481B-B4FF-EAF709D1A83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29E2-21B5-4BDD-8A38-E497A0531F2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10F4-E47E-4706-A17E-43E91746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C44A-12F8-40DB-A6D9-1AD90BB9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DC3-7C60-4557-A409-FFDBAF12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3524-7DCF-45E0-9BA4-1FF517D9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D06E-CD63-487C-94EA-483C661D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4E28-5B08-4534-871E-23A063A0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6426-8909-431B-B715-19997B63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C8E9-0BA7-46B0-A55F-8DFF24D9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902F-0FD5-4CD3-A4BC-3706DBB3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2CD42-56F5-41AD-BC9A-061E6BFA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C6F4-C08E-422F-A701-48070E78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E1CF-D8E8-41EB-B98F-FC2C38BF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60FC6-5D31-44B1-9B01-B47B9B21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0176-9D41-4A3C-B228-61E80F0C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2462-D574-4CD9-84D5-41069BD7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68BDC-9E93-4B90-B126-69736336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62FF-A53F-4BE2-8BBC-8CE6941E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8C8-8C93-4A57-8BD7-C81ADF8F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6605-9D97-40AF-8632-BC98B958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1771-198E-4253-82BF-C8E25017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FEB-EC13-4336-BCC4-3E20FC806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DE95-5FDD-4BE4-8E2F-DEBBF81A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C46-AD74-411A-8903-0A33CA58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31B-6009-4021-A605-2B214AFA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200A-88B3-4985-8141-C61C14DC0A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CF06-6DDD-4471-B493-E6A1CE6A15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and reporting of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ACB6-6A0B-4D03-8AC9-A5D8CAC672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95280" y="1484280"/>
            <a:ext cx="82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U values around 1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drug-containing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late can have a borderline resistance (typically a MIC near the test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will interpret strictly according to th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 = 99, interpretation is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=100, interpretation is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GU for drugs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y of DST results for patients and examine border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93F1-1054-4DE6-AB17-67B4AA6ECC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0040" y="1571760"/>
            <a:ext cx="8001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tus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s that encounter any type of error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indetermin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42960" y="2219400"/>
            <a:ext cx="8072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tube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not positive within 13 days (SIRE) or 21 days (P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under-inoc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positive too soon (&lt; 4 da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over-inoculated or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64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7D42-48AA-4628-AC9B-AA950482E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59372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ALWAYS calls the ENTIRE DST SET invalid, NEVER one tube within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shows sub-codes (for the E92 DST set error) printed beneath the respective tube within a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0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l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fficient growth in GC within 13 or 21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4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-inoculation or cont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BACTEC MGIT 960 Systems User’s Manual for a complete list of error c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015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sets: 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nt an Inventory Control report for the drawer(s) with errors before scanning out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 report prints GU for GC drug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tus of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owth Control GU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tubes GU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int inventory control if tubes are removed (unless epi centre is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2CE3-8BCE-41B0-A6C0-F19D6ABF3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ll invalid 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ate new MGIT seed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GU for GC and drugs on failed D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C was not zero, look at age of MGIT tube when DST was set. A 1:5 dilution on day 3 may give a lower bacterial concentration. Consider resetting the DST set on Day 2 (undiluted) or wait for Day 5 (diluted) to have more bacter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with GU = 0, may not be ino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7429-E390-4C24-9DD0-0514AFA205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907A-5154-4B7C-BFAA-C704CD7B9E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76440" y="32544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Reading MGIT 960 DST: 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76440" y="1357200"/>
            <a:ext cx="8038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monitors DST set [drugs and Growth Control (GC) tub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usceptibility automatically (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owth Control GU reaches 400, the instrument evaluates dru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≤100 =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&gt;100 =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around 100 = usually borderline (interpreted S or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utomatically interpreted:  S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o heavy or too light inocul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‘X’ (indeterm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3B7F-19AE-464D-A47C-FF54403811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42960" y="1285920"/>
            <a:ext cx="7929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that the culture it is not contaminated by NTM or other bacteria (check the medium visually, look for turbidity, ZN smear, purity on blood agar and 7H10 pl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mono-resistance against RIF, PZA or E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 to verify resistance before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o-resistance to P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ncommon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bovi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. bov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G, is naturally resistant to P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a new patient isolate found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firm the resistance by th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ame or different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un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EA36-F262-42A5-ABC0-48DF65D2E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008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42884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6" descr=""/>
          <p:cNvPicPr/>
          <p:nvPr/>
        </p:nvPicPr>
        <p:blipFill>
          <a:blip r:embed="rId1"/>
          <a:stretch/>
        </p:blipFill>
        <p:spPr>
          <a:xfrm>
            <a:off x="566640" y="1378080"/>
            <a:ext cx="8089920" cy="50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071720" y="2357280"/>
          <a:ext cx="2428560" cy="1793880"/>
        </p:xfrm>
        <a:graphic>
          <a:graphicData uri="http://schemas.openxmlformats.org/drawingml/2006/table">
            <a:tbl>
              <a:tblPr/>
              <a:tblGrid>
                <a:gridCol w="571320"/>
                <a:gridCol w="928800"/>
                <a:gridCol w="928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EB4B-DE5D-4D97-90E0-AB02AD96AC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398600" y="1500120"/>
            <a:ext cx="53881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and identification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ulture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cultu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DST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log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/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57160" y="142920"/>
            <a:ext cx="745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7201-AE29-4997-8AB6-DAE4623B65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57160" y="14292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1680" y="174312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results immediately on DST worksheet and 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check agreement between lab serial number on tube and number in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for clerical err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3ECE-3841-4DCC-9176-6E25940730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utomatic quantitative read and qualitative interpret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in the laboratory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tubercul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on WH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13A9-1AE4-45EE-9C5D-618C5A45C0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port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00040" y="1500120"/>
            <a:ext cx="8286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have to specifically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th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concentration of the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ative result: “Susceptible” or “Resista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rcRect l="44150" t="819" r="20964" b="0"/>
          <a:stretch/>
        </p:blipFill>
        <p:spPr>
          <a:xfrm>
            <a:off x="4143240" y="5818320"/>
            <a:ext cx="3241800" cy="39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rcRect l="0" t="0" r="22809" b="0"/>
          <a:stretch/>
        </p:blipFill>
        <p:spPr>
          <a:xfrm>
            <a:off x="932040" y="3571920"/>
            <a:ext cx="7140240" cy="2249280"/>
          </a:xfrm>
          <a:prstGeom prst="rect">
            <a:avLst/>
          </a:prstGeom>
          <a:ln w="28440">
            <a:solidFill>
              <a:srgbClr val="1f1f99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rcRect l="0" t="28649" r="74466" b="0"/>
          <a:stretch/>
        </p:blipFill>
        <p:spPr>
          <a:xfrm>
            <a:off x="1652760" y="5929200"/>
            <a:ext cx="2371680" cy="285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801520" y="32148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99"/>
                </a:solidFill>
                <a:latin typeface="Arial"/>
              </a:rPr>
              <a:t>DST final report on WH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C5E6-F3AC-4568-BF91-B3C6467B4F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 higher concentration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3068640"/>
            <a:ext cx="70722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H resistant at low concentration, send a prelimin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indicates the presence of low-level INH resistance.  Testing at the higher level of INH will be performed.  A specialist in the treatment of tuberculosis should be consulted concerning the appropriate therapeutic regimen and dosag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8720" y="1773360"/>
            <a:ext cx="83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– Laboratory dependent. Report only if a hig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IN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BF7D-6EB7-4F07-8567-BFF8142F16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-around time for D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71680" y="2003400"/>
            <a:ext cx="7929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rom specimen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ays after isolation of MT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validated DST results as soon as they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elephone/fax/computer/messenger with a follow-up hard cop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questing physician, infection control staff, and the local tuberculosis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Assurance Ind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number of days for each final DST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6862-222A-4723-AF34-6780EE58C16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78B2-4B33-45AE-B4F5-254091EC44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17720" y="1357200"/>
            <a:ext cx="5626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GIT 960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aded AST se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f D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oratory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A607-8BA3-48C0-9A51-8409B79AB9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00080" y="16574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TEC MGIT 960 instrument continuously monitors the fluorescence of tubes in terms of Growth Units (GU, quant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85920" y="3143160"/>
            <a:ext cx="4500360" cy="2857680"/>
            <a:chOff x="1285920" y="3143160"/>
            <a:chExt cx="4500360" cy="285768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rcRect l="10814" t="17436" r="5521" b="17091"/>
            <a:stretch/>
          </p:blipFill>
          <p:spPr>
            <a:xfrm>
              <a:off x="1285920" y="3143160"/>
              <a:ext cx="45003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3"/>
            <p:cNvSpPr/>
            <p:nvPr/>
          </p:nvSpPr>
          <p:spPr>
            <a:xfrm>
              <a:off x="1863720" y="3444840"/>
              <a:ext cx="28083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2035080" y="3666960"/>
              <a:ext cx="160308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4713120" y="4983120"/>
              <a:ext cx="660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6357960" y="3936960"/>
            <a:ext cx="200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500880" y="4572000"/>
            <a:ext cx="42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CCEE-4A6D-4B99-A792-5196010B61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42960" y="171612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wth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s a GU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for SIRE and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s for PZ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fined algorithms compare the GU of drug containing tubes with the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1928880" y="3500280"/>
            <a:ext cx="3857400" cy="2357640"/>
            <a:chOff x="1928880" y="3500280"/>
            <a:chExt cx="3857400" cy="2357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rcRect l="10817" t="17433" r="5522" b="17093"/>
            <a:stretch/>
          </p:blipFill>
          <p:spPr>
            <a:xfrm>
              <a:off x="1928880" y="3500280"/>
              <a:ext cx="385740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2"/>
            <p:cNvSpPr/>
            <p:nvPr/>
          </p:nvSpPr>
          <p:spPr>
            <a:xfrm>
              <a:off x="2422440" y="3747960"/>
              <a:ext cx="2408040" cy="12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2570040" y="3933720"/>
              <a:ext cx="1376280" cy="14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4865760" y="5018040"/>
              <a:ext cx="566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5"/>
          <p:cNvSpPr/>
          <p:nvPr/>
        </p:nvSpPr>
        <p:spPr>
          <a:xfrm>
            <a:off x="6572160" y="4222800"/>
            <a:ext cx="20005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6715080" y="4857840"/>
            <a:ext cx="428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DF5C-FC38-4D05-8092-A341690D2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643800" y="3857760"/>
            <a:ext cx="19288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niaz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fampi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0817" t="17441" r="5521" b="17467"/>
          <a:stretch/>
        </p:blipFill>
        <p:spPr>
          <a:xfrm>
            <a:off x="3143160" y="3916440"/>
            <a:ext cx="32148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15"/>
          <p:cNvSpPr/>
          <p:nvPr/>
        </p:nvSpPr>
        <p:spPr>
          <a:xfrm>
            <a:off x="6715080" y="4680000"/>
            <a:ext cx="482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6"/>
          <p:cNvSpPr/>
          <p:nvPr/>
        </p:nvSpPr>
        <p:spPr>
          <a:xfrm>
            <a:off x="6715080" y="4929120"/>
            <a:ext cx="48276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"/>
          <p:cNvSpPr/>
          <p:nvPr/>
        </p:nvSpPr>
        <p:spPr>
          <a:xfrm>
            <a:off x="6715080" y="5199120"/>
            <a:ext cx="48276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6715080" y="5429160"/>
            <a:ext cx="4827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6715080" y="5715000"/>
            <a:ext cx="4827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11280" y="119700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ontrol GU reading is 400 for vali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qualitatively interpreted from the GU of the drug-contain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GU &lt; 10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d a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”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 &gt;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reted a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357120" y="44337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TBC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ceptible to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INH-RIF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7"/>
          <p:cNvSpPr/>
          <p:nvPr/>
        </p:nvSpPr>
        <p:spPr>
          <a:xfrm>
            <a:off x="4510080" y="4103640"/>
            <a:ext cx="609480" cy="1282680"/>
          </a:xfrm>
          <a:custGeom>
            <a:avLst/>
            <a:gdLst>
              <a:gd name="textAreaLeft" fmla="*/ 0 w 609480"/>
              <a:gd name="textAreaRight" fmla="*/ 609840 w 6094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609600" h="1281113">
                <a:moveTo>
                  <a:pt x="609600" y="0"/>
                </a:moveTo>
                <a:cubicBezTo>
                  <a:pt x="607219" y="1588"/>
                  <a:pt x="604480" y="2739"/>
                  <a:pt x="602456" y="4763"/>
                </a:cubicBezTo>
                <a:cubicBezTo>
                  <a:pt x="593607" y="13612"/>
                  <a:pt x="597034" y="22804"/>
                  <a:pt x="595312" y="35719"/>
                </a:cubicBezTo>
                <a:cubicBezTo>
                  <a:pt x="594777" y="39731"/>
                  <a:pt x="593503" y="43618"/>
                  <a:pt x="592931" y="47625"/>
                </a:cubicBezTo>
                <a:cubicBezTo>
                  <a:pt x="591915" y="54741"/>
                  <a:pt x="591732" y="61967"/>
                  <a:pt x="590550" y="69057"/>
                </a:cubicBezTo>
                <a:cubicBezTo>
                  <a:pt x="590137" y="71533"/>
                  <a:pt x="588858" y="73787"/>
                  <a:pt x="588168" y="76200"/>
                </a:cubicBezTo>
                <a:cubicBezTo>
                  <a:pt x="587269" y="79347"/>
                  <a:pt x="586581" y="82550"/>
                  <a:pt x="585787" y="85725"/>
                </a:cubicBezTo>
                <a:cubicBezTo>
                  <a:pt x="584993" y="93663"/>
                  <a:pt x="584619" y="101653"/>
                  <a:pt x="583406" y="109538"/>
                </a:cubicBezTo>
                <a:cubicBezTo>
                  <a:pt x="582512" y="115348"/>
                  <a:pt x="578457" y="121086"/>
                  <a:pt x="576262" y="126207"/>
                </a:cubicBezTo>
                <a:cubicBezTo>
                  <a:pt x="573516" y="132613"/>
                  <a:pt x="572897" y="138269"/>
                  <a:pt x="571500" y="145257"/>
                </a:cubicBezTo>
                <a:cubicBezTo>
                  <a:pt x="570706" y="154782"/>
                  <a:pt x="570235" y="164339"/>
                  <a:pt x="569118" y="173832"/>
                </a:cubicBezTo>
                <a:cubicBezTo>
                  <a:pt x="568645" y="177852"/>
                  <a:pt x="567210" y="181718"/>
                  <a:pt x="566737" y="185738"/>
                </a:cubicBezTo>
                <a:cubicBezTo>
                  <a:pt x="565620" y="195231"/>
                  <a:pt x="566819" y="205078"/>
                  <a:pt x="564356" y="214313"/>
                </a:cubicBezTo>
                <a:cubicBezTo>
                  <a:pt x="563488" y="217567"/>
                  <a:pt x="559593" y="219076"/>
                  <a:pt x="557212" y="221457"/>
                </a:cubicBezTo>
                <a:cubicBezTo>
                  <a:pt x="556418" y="223838"/>
                  <a:pt x="554831" y="226090"/>
                  <a:pt x="554831" y="228600"/>
                </a:cubicBezTo>
                <a:cubicBezTo>
                  <a:pt x="554831" y="244581"/>
                  <a:pt x="560204" y="247022"/>
                  <a:pt x="554831" y="259557"/>
                </a:cubicBezTo>
                <a:cubicBezTo>
                  <a:pt x="553704" y="262187"/>
                  <a:pt x="552222" y="264816"/>
                  <a:pt x="550068" y="266700"/>
                </a:cubicBezTo>
                <a:cubicBezTo>
                  <a:pt x="545760" y="270469"/>
                  <a:pt x="535781" y="276225"/>
                  <a:pt x="535781" y="276225"/>
                </a:cubicBezTo>
                <a:cubicBezTo>
                  <a:pt x="536575" y="278606"/>
                  <a:pt x="536594" y="281409"/>
                  <a:pt x="538162" y="283369"/>
                </a:cubicBezTo>
                <a:cubicBezTo>
                  <a:pt x="539950" y="285604"/>
                  <a:pt x="545068" y="285280"/>
                  <a:pt x="545306" y="288132"/>
                </a:cubicBezTo>
                <a:cubicBezTo>
                  <a:pt x="546006" y="296536"/>
                  <a:pt x="541256" y="309806"/>
                  <a:pt x="538162" y="319088"/>
                </a:cubicBezTo>
                <a:cubicBezTo>
                  <a:pt x="537368" y="330200"/>
                  <a:pt x="537011" y="341352"/>
                  <a:pt x="535781" y="352425"/>
                </a:cubicBezTo>
                <a:cubicBezTo>
                  <a:pt x="535420" y="355678"/>
                  <a:pt x="533749" y="358696"/>
                  <a:pt x="533400" y="361950"/>
                </a:cubicBezTo>
                <a:cubicBezTo>
                  <a:pt x="531363" y="380957"/>
                  <a:pt x="530225" y="400050"/>
                  <a:pt x="528637" y="419100"/>
                </a:cubicBezTo>
                <a:cubicBezTo>
                  <a:pt x="528399" y="421952"/>
                  <a:pt x="525155" y="423684"/>
                  <a:pt x="523875" y="426244"/>
                </a:cubicBezTo>
                <a:cubicBezTo>
                  <a:pt x="514016" y="445962"/>
                  <a:pt x="530378" y="420059"/>
                  <a:pt x="516731" y="440532"/>
                </a:cubicBezTo>
                <a:cubicBezTo>
                  <a:pt x="515143" y="450057"/>
                  <a:pt x="515021" y="459946"/>
                  <a:pt x="511968" y="469107"/>
                </a:cubicBezTo>
                <a:cubicBezTo>
                  <a:pt x="510381" y="473869"/>
                  <a:pt x="508031" y="478442"/>
                  <a:pt x="507206" y="483394"/>
                </a:cubicBezTo>
                <a:cubicBezTo>
                  <a:pt x="506290" y="488891"/>
                  <a:pt x="505376" y="498959"/>
                  <a:pt x="502443" y="504825"/>
                </a:cubicBezTo>
                <a:cubicBezTo>
                  <a:pt x="493861" y="521988"/>
                  <a:pt x="501257" y="500646"/>
                  <a:pt x="492918" y="521494"/>
                </a:cubicBezTo>
                <a:cubicBezTo>
                  <a:pt x="491054" y="526155"/>
                  <a:pt x="489743" y="531019"/>
                  <a:pt x="488156" y="535782"/>
                </a:cubicBezTo>
                <a:lnTo>
                  <a:pt x="485775" y="542925"/>
                </a:lnTo>
                <a:cubicBezTo>
                  <a:pt x="484981" y="545306"/>
                  <a:pt x="484002" y="547634"/>
                  <a:pt x="483393" y="550069"/>
                </a:cubicBezTo>
                <a:cubicBezTo>
                  <a:pt x="476335" y="578304"/>
                  <a:pt x="487162" y="533604"/>
                  <a:pt x="478631" y="576263"/>
                </a:cubicBezTo>
                <a:cubicBezTo>
                  <a:pt x="478139" y="578724"/>
                  <a:pt x="476940" y="580993"/>
                  <a:pt x="476250" y="583407"/>
                </a:cubicBezTo>
                <a:cubicBezTo>
                  <a:pt x="475351" y="586554"/>
                  <a:pt x="474767" y="589785"/>
                  <a:pt x="473868" y="592932"/>
                </a:cubicBezTo>
                <a:cubicBezTo>
                  <a:pt x="473178" y="595345"/>
                  <a:pt x="472147" y="597654"/>
                  <a:pt x="471487" y="600075"/>
                </a:cubicBezTo>
                <a:cubicBezTo>
                  <a:pt x="469765" y="606390"/>
                  <a:pt x="468313" y="612775"/>
                  <a:pt x="466725" y="619125"/>
                </a:cubicBezTo>
                <a:cubicBezTo>
                  <a:pt x="465395" y="624445"/>
                  <a:pt x="461896" y="639466"/>
                  <a:pt x="459581" y="642938"/>
                </a:cubicBezTo>
                <a:lnTo>
                  <a:pt x="454818" y="650082"/>
                </a:lnTo>
                <a:cubicBezTo>
                  <a:pt x="454024" y="655638"/>
                  <a:pt x="453441" y="661228"/>
                  <a:pt x="452437" y="666750"/>
                </a:cubicBezTo>
                <a:cubicBezTo>
                  <a:pt x="449470" y="683067"/>
                  <a:pt x="451073" y="669828"/>
                  <a:pt x="447675" y="683419"/>
                </a:cubicBezTo>
                <a:cubicBezTo>
                  <a:pt x="444279" y="697003"/>
                  <a:pt x="446576" y="692636"/>
                  <a:pt x="442912" y="704850"/>
                </a:cubicBezTo>
                <a:cubicBezTo>
                  <a:pt x="441470" y="709659"/>
                  <a:pt x="439738" y="714375"/>
                  <a:pt x="438150" y="719138"/>
                </a:cubicBezTo>
                <a:cubicBezTo>
                  <a:pt x="437356" y="721519"/>
                  <a:pt x="437160" y="724193"/>
                  <a:pt x="435768" y="726282"/>
                </a:cubicBezTo>
                <a:lnTo>
                  <a:pt x="426243" y="740569"/>
                </a:lnTo>
                <a:cubicBezTo>
                  <a:pt x="425449" y="742950"/>
                  <a:pt x="425254" y="745624"/>
                  <a:pt x="423862" y="747713"/>
                </a:cubicBezTo>
                <a:cubicBezTo>
                  <a:pt x="411970" y="765552"/>
                  <a:pt x="419999" y="745015"/>
                  <a:pt x="414337" y="762000"/>
                </a:cubicBezTo>
                <a:cubicBezTo>
                  <a:pt x="413691" y="765875"/>
                  <a:pt x="412366" y="778408"/>
                  <a:pt x="409575" y="783432"/>
                </a:cubicBezTo>
                <a:cubicBezTo>
                  <a:pt x="406795" y="788435"/>
                  <a:pt x="401860" y="792289"/>
                  <a:pt x="400050" y="797719"/>
                </a:cubicBezTo>
                <a:cubicBezTo>
                  <a:pt x="399256" y="800100"/>
                  <a:pt x="398887" y="802669"/>
                  <a:pt x="397668" y="804863"/>
                </a:cubicBezTo>
                <a:cubicBezTo>
                  <a:pt x="394888" y="809866"/>
                  <a:pt x="391318" y="814388"/>
                  <a:pt x="388143" y="819150"/>
                </a:cubicBezTo>
                <a:lnTo>
                  <a:pt x="383381" y="826294"/>
                </a:lnTo>
                <a:cubicBezTo>
                  <a:pt x="382587" y="842963"/>
                  <a:pt x="385500" y="860231"/>
                  <a:pt x="381000" y="876300"/>
                </a:cubicBezTo>
                <a:cubicBezTo>
                  <a:pt x="379457" y="881812"/>
                  <a:pt x="366712" y="885825"/>
                  <a:pt x="366712" y="885825"/>
                </a:cubicBezTo>
                <a:cubicBezTo>
                  <a:pt x="365125" y="888206"/>
                  <a:pt x="363230" y="890409"/>
                  <a:pt x="361950" y="892969"/>
                </a:cubicBezTo>
                <a:cubicBezTo>
                  <a:pt x="352091" y="912687"/>
                  <a:pt x="368453" y="886784"/>
                  <a:pt x="354806" y="907257"/>
                </a:cubicBezTo>
                <a:cubicBezTo>
                  <a:pt x="351440" y="924089"/>
                  <a:pt x="353706" y="915319"/>
                  <a:pt x="347662" y="933450"/>
                </a:cubicBezTo>
                <a:cubicBezTo>
                  <a:pt x="346868" y="935831"/>
                  <a:pt x="347369" y="939202"/>
                  <a:pt x="345281" y="940594"/>
                </a:cubicBezTo>
                <a:cubicBezTo>
                  <a:pt x="331640" y="949689"/>
                  <a:pt x="344285" y="940114"/>
                  <a:pt x="330993" y="954882"/>
                </a:cubicBezTo>
                <a:cubicBezTo>
                  <a:pt x="326488" y="959888"/>
                  <a:pt x="316706" y="969169"/>
                  <a:pt x="316706" y="969169"/>
                </a:cubicBezTo>
                <a:cubicBezTo>
                  <a:pt x="315118" y="973932"/>
                  <a:pt x="314188" y="978967"/>
                  <a:pt x="311943" y="983457"/>
                </a:cubicBezTo>
                <a:cubicBezTo>
                  <a:pt x="310356" y="986632"/>
                  <a:pt x="308499" y="989686"/>
                  <a:pt x="307181" y="992982"/>
                </a:cubicBezTo>
                <a:cubicBezTo>
                  <a:pt x="298585" y="1014471"/>
                  <a:pt x="307468" y="1000535"/>
                  <a:pt x="295275" y="1016794"/>
                </a:cubicBezTo>
                <a:cubicBezTo>
                  <a:pt x="287837" y="1039101"/>
                  <a:pt x="300021" y="1006107"/>
                  <a:pt x="285750" y="1031082"/>
                </a:cubicBezTo>
                <a:cubicBezTo>
                  <a:pt x="284126" y="1033924"/>
                  <a:pt x="284657" y="1037599"/>
                  <a:pt x="283368" y="1040607"/>
                </a:cubicBezTo>
                <a:cubicBezTo>
                  <a:pt x="280193" y="1048015"/>
                  <a:pt x="277812" y="1048279"/>
                  <a:pt x="271462" y="1052513"/>
                </a:cubicBezTo>
                <a:cubicBezTo>
                  <a:pt x="269875" y="1054894"/>
                  <a:pt x="268532" y="1057458"/>
                  <a:pt x="266700" y="1059657"/>
                </a:cubicBezTo>
                <a:cubicBezTo>
                  <a:pt x="264544" y="1062244"/>
                  <a:pt x="261424" y="1063998"/>
                  <a:pt x="259556" y="1066800"/>
                </a:cubicBezTo>
                <a:cubicBezTo>
                  <a:pt x="258164" y="1068889"/>
                  <a:pt x="258164" y="1071637"/>
                  <a:pt x="257175" y="1073944"/>
                </a:cubicBezTo>
                <a:cubicBezTo>
                  <a:pt x="255777" y="1077207"/>
                  <a:pt x="253810" y="1080206"/>
                  <a:pt x="252412" y="1083469"/>
                </a:cubicBezTo>
                <a:cubicBezTo>
                  <a:pt x="249616" y="1089993"/>
                  <a:pt x="248243" y="1102320"/>
                  <a:pt x="240506" y="1104900"/>
                </a:cubicBezTo>
                <a:lnTo>
                  <a:pt x="233362" y="1107282"/>
                </a:lnTo>
                <a:cubicBezTo>
                  <a:pt x="231775" y="1109663"/>
                  <a:pt x="229762" y="1111810"/>
                  <a:pt x="228600" y="1114425"/>
                </a:cubicBezTo>
                <a:cubicBezTo>
                  <a:pt x="226561" y="1119013"/>
                  <a:pt x="228014" y="1125928"/>
                  <a:pt x="223837" y="1128713"/>
                </a:cubicBezTo>
                <a:cubicBezTo>
                  <a:pt x="217485" y="1132947"/>
                  <a:pt x="214488" y="1134270"/>
                  <a:pt x="209550" y="1140619"/>
                </a:cubicBezTo>
                <a:cubicBezTo>
                  <a:pt x="194593" y="1159851"/>
                  <a:pt x="206710" y="1150451"/>
                  <a:pt x="192881" y="1159669"/>
                </a:cubicBezTo>
                <a:cubicBezTo>
                  <a:pt x="181964" y="1176046"/>
                  <a:pt x="188786" y="1172147"/>
                  <a:pt x="176212" y="1176338"/>
                </a:cubicBezTo>
                <a:cubicBezTo>
                  <a:pt x="173831" y="1178719"/>
                  <a:pt x="171224" y="1180895"/>
                  <a:pt x="169068" y="1183482"/>
                </a:cubicBezTo>
                <a:cubicBezTo>
                  <a:pt x="164516" y="1188945"/>
                  <a:pt x="162679" y="1195246"/>
                  <a:pt x="157162" y="1200150"/>
                </a:cubicBezTo>
                <a:cubicBezTo>
                  <a:pt x="152884" y="1203953"/>
                  <a:pt x="142875" y="1209675"/>
                  <a:pt x="142875" y="1209675"/>
                </a:cubicBezTo>
                <a:cubicBezTo>
                  <a:pt x="134074" y="1222876"/>
                  <a:pt x="143148" y="1212434"/>
                  <a:pt x="130968" y="1219200"/>
                </a:cubicBezTo>
                <a:cubicBezTo>
                  <a:pt x="125965" y="1221980"/>
                  <a:pt x="122111" y="1226915"/>
                  <a:pt x="116681" y="1228725"/>
                </a:cubicBezTo>
                <a:lnTo>
                  <a:pt x="102393" y="1233488"/>
                </a:lnTo>
                <a:lnTo>
                  <a:pt x="88106" y="1243013"/>
                </a:lnTo>
                <a:cubicBezTo>
                  <a:pt x="85725" y="1244600"/>
                  <a:pt x="83677" y="1246870"/>
                  <a:pt x="80962" y="1247775"/>
                </a:cubicBezTo>
                <a:lnTo>
                  <a:pt x="73818" y="1250157"/>
                </a:lnTo>
                <a:cubicBezTo>
                  <a:pt x="71437" y="1252538"/>
                  <a:pt x="69619" y="1255665"/>
                  <a:pt x="66675" y="1257300"/>
                </a:cubicBezTo>
                <a:cubicBezTo>
                  <a:pt x="51194" y="1265900"/>
                  <a:pt x="22108" y="1263745"/>
                  <a:pt x="9525" y="1264444"/>
                </a:cubicBezTo>
                <a:cubicBezTo>
                  <a:pt x="27481" y="1270429"/>
                  <a:pt x="5345" y="1262354"/>
                  <a:pt x="23812" y="1271588"/>
                </a:cubicBezTo>
                <a:cubicBezTo>
                  <a:pt x="27227" y="1273296"/>
                  <a:pt x="37431" y="1275587"/>
                  <a:pt x="40481" y="1276350"/>
                </a:cubicBezTo>
                <a:cubicBezTo>
                  <a:pt x="41275" y="1273969"/>
                  <a:pt x="45323" y="1269699"/>
                  <a:pt x="42862" y="1269207"/>
                </a:cubicBezTo>
                <a:cubicBezTo>
                  <a:pt x="37940" y="1268223"/>
                  <a:pt x="33527" y="1273144"/>
                  <a:pt x="28575" y="1273969"/>
                </a:cubicBezTo>
                <a:lnTo>
                  <a:pt x="14287" y="1276350"/>
                </a:lnTo>
                <a:lnTo>
                  <a:pt x="0" y="128111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9"/>
          <p:cNvSpPr/>
          <p:nvPr/>
        </p:nvSpPr>
        <p:spPr>
          <a:xfrm flipH="1">
            <a:off x="3571920" y="5078520"/>
            <a:ext cx="2556000" cy="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43"/>
          <p:cNvSpPr/>
          <p:nvPr/>
        </p:nvSpPr>
        <p:spPr>
          <a:xfrm>
            <a:off x="4468680" y="5391000"/>
            <a:ext cx="1643040" cy="0"/>
          </a:xfrm>
          <a:prstGeom prst="line">
            <a:avLst/>
          </a:prstGeom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75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03D4-3F6C-4B5C-A252-B3E52CF002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3211560"/>
            <a:ext cx="5572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move completed D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esired drawer and press the “remove completed AST sets” sof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mpleted DST set stations illuminate with FLASHING GR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carrier and scan its barcode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186600" y="3929040"/>
            <a:ext cx="2100240" cy="215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173640" y="3143160"/>
            <a:ext cx="2041560" cy="6429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500040" y="1571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est is complete, the instrument indicates that the results ar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6033960" y="1928880"/>
            <a:ext cx="2538720" cy="4284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1F49-679E-4F2A-B6A9-7BFB6E65C1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"/>
          <p:cNvPicPr/>
          <p:nvPr/>
        </p:nvPicPr>
        <p:blipFill>
          <a:blip r:embed="rId1"/>
          <a:stretch/>
        </p:blipFill>
        <p:spPr>
          <a:xfrm>
            <a:off x="5857920" y="2286000"/>
            <a:ext cx="2386080" cy="2451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484280"/>
            <a:ext cx="50004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ck that the GC is left-most of the tube set, and that the placement of drug-containing tubes is in expecte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result in the Unloaded DST set  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o remove additional DST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re than one DST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ll completed DSTs and print unloaded D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448E-0B4C-458F-94EA-53A4E299F5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581800" cy="4205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78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D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916360" y="3789360"/>
            <a:ext cx="5032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18120" y="5157720"/>
            <a:ext cx="3138840" cy="6426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s 400. GC for dru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&lt; 100 =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635280" y="3789360"/>
            <a:ext cx="2890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48360" y="3716280"/>
            <a:ext cx="936360" cy="1324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9:22Z</dcterms:modified>
  <cp:revision>333</cp:revision>
  <dc:subject/>
  <dc:title>PowerPoint Presentation</dc:title>
</cp:coreProperties>
</file>