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13DA-1A40-43D9-99F1-C8C319A6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A48B-1488-4CEC-988A-A1789078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77B9-B6A3-4FBB-9F1E-E60BD765D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F3D1-2B81-4790-8C51-F2E8FC811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C0CF-D69F-4B3D-BE13-47A90DED9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12CB-2D62-4B8E-9016-210D5B52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75CC-89E9-4AAE-BD75-25DB1E46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262EA-311C-4792-B542-92599AB9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F4E5-E951-4177-8E97-5122F57E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E76F-A6C5-4C00-B6D1-ED49D02A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183C-F328-4D19-8BDA-20941F5B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48D9-4336-48DF-87D2-0D6E976A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1902A-3ECE-4896-8857-B65BB902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0AE6-4DF3-4DD1-8B48-FE39D2C0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DC14-E67E-48D8-9936-6E6134B3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98E8-B268-4163-A5B3-DC36ECE8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444A-0C0F-4B5D-8CCC-036F6DF6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6CE39-4308-4E73-9362-7324A3BB7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0C211-59A3-4227-B732-96DA000B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FC955-E6D5-4B42-80A9-862BEA8F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9EA62-91CF-43A0-A8D5-D9E91BAD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8B721-D671-449A-BBF5-8BF61EDD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1748-9A57-4902-A898-B127403D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6EC3F-1AD4-4F30-B6B5-C3F048D1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CD781-0037-43DC-9963-354AE30C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04E58-96AB-4959-B5CD-7DA69960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51394-2353-48E3-AB58-57D31230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A6310-AB91-4518-B3BA-6543E21C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FB6A7-B9EB-4873-A4B8-0B8C3D09F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73808-BD6B-446A-A852-B250159C3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190D-1C12-4001-AE69-5992F462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9A79-E91F-46DA-8719-7B2A856F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3C8B-1673-4D17-A9B2-D5631D0A7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8CE1-7E68-4F09-8342-ECC3B54D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BD71-0817-4D98-9DF6-CE221E34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FA4F-F2D0-4889-B8EA-10B6D137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21B2-AB40-4247-9A31-5D090D86AD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487D-510B-4533-A70C-06A713265B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6" descr="LogoColour"/>
          <p:cNvPicPr/>
          <p:nvPr/>
        </p:nvPicPr>
        <p:blipFill>
          <a:blip r:embed="rId2"/>
          <a:stretch/>
        </p:blipFill>
        <p:spPr>
          <a:xfrm>
            <a:off x="6572160" y="6215040"/>
            <a:ext cx="1008000" cy="506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D8F6-47CE-4A23-8104-7F1E35AF60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571400"/>
            <a:ext cx="8820000" cy="14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lecular biology basic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cription - transl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4A9B-F635-4083-8475-DF6924D041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666880" y="2190600"/>
            <a:ext cx="38102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lation (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NA passes through the sections of the ribos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bosome reads the code in 3 letter words (codon) in the genetic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ptide chain is built as amino acids are added to the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s are made and have various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AB94-0033-4195-8D24-3AC5D48E5C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38862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lecular identification of bacte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5434200" cy="13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10B3-8A27-41CC-B526-73A92F608D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2714760" y="3429000"/>
            <a:ext cx="29289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rial DN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in every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loop of stable chromosomal DNA stored in the nucleoid of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double-stra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of DNA v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d in base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-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a few million base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E99E-F3BB-4438-A4C0-D2F687E9E4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4648320" y="2228760"/>
            <a:ext cx="3886200" cy="3162240"/>
          </a:xfrm>
          <a:prstGeom prst="rect">
            <a:avLst/>
          </a:prstGeom>
          <a:ln w="0">
            <a:noFill/>
          </a:ln>
        </p:spPr>
      </p:pic>
      <p:sp>
        <p:nvSpPr>
          <p:cNvPr id="186" name="Up Arrow 10"/>
          <p:cNvSpPr/>
          <p:nvPr/>
        </p:nvSpPr>
        <p:spPr>
          <a:xfrm rot="19715400">
            <a:off x="6519600" y="4074840"/>
            <a:ext cx="484200" cy="1395360"/>
          </a:xfrm>
          <a:prstGeom prst="upArrow">
            <a:avLst>
              <a:gd name="adj1" fmla="val 50000"/>
              <a:gd name="adj2" fmla="val 4999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lecular identification of mycobacte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00040" y="1599840"/>
            <a:ext cx="8034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conserved regions of DNA allow for species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sequences are conserved within a species or complex, but differ from other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s with sequence differences that are used for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S r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S r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S – 23S ITS (internal transcribed spacer)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p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s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59DB-05F8-485D-A615-84B325EAE9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210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TB complex can be differentiated from other mycobacterial spe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00040" y="1599840"/>
            <a:ext cx="8034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of the TB complex have identical DNA sequences in these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mycobacterial species have sequence differences in these regions and this is the basis for molecula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1050-30DA-49EF-AF94-63B7978A9F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identification metho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00040" y="1499760"/>
            <a:ext cx="803448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p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 to DNA or RNA from growth-amplified cells (need isolates for tes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Probe AccuProbes bind ribosomal 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AT (nucleic acid amplification te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nzymatic amplification of DNA or RNA (PC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probe ass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brew assays, other commercial k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FC1F-2FFF-4542-B13C-324EB3389A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arget and prob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nucleic acid sequences or amplified product (amplicon) from the specimen or isolate to be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 molecule of nucleic acid (DNA or RNA) used to identify complementary nucleic acid sequences in the target by hybrid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F548-7AF7-42CC-8596-A8CCD3D529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be: Target dete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09480" y="1428480"/>
            <a:ext cx="79250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 is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e is in sol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is not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 to a solid support (membrane or pl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hybri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 is not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 to a solid support (membrane or pl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is labelled during amplification by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opy is label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licons are in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BB63-9ADC-4B70-9B9F-D6385244EB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D795-00BE-4A59-8235-C4AF6E42CC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biology basic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oxyribo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cleic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d (D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in all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cobac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a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74F5-7088-49FE-B496-323E638495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hat is DNA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ed of two strands of nucleotide units boun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der of the nucleic subunits in the structure represents all of the genetic information carried by a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contains genetic information and instructions for the development and functioning of all living 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–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karyotes –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02E0-FBC0-45B9-8248-40CABC2C37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four letters in the code: A T C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de is stored in the sequence of bases in the DNA st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s: the bases (letters) are arranged in specific  orders and functional se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ene may have thousands of nucleot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NA strand has thousands of g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quence of bases are interpreted into instructions for every action that happens in the c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5426-28AD-4179-93D0-D4373C1EC1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unctions of DN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-term storage of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Co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 to build necessary components of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al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mission of genetic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7289-9099-462A-8906-E8D5E1C508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2268360" y="4724280"/>
            <a:ext cx="338940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made of two long strands of polymers called nucleot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otides are monomers, the building blocks of DNA and are composed of three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obase or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ic nitrogen-containing comp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types: Adenine (A), cytosine (C), Guanine (G), and Thymine 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ase is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-carbon s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oxyrib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sphate group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NA has the same composition but a different 5-carbon sugar- rib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7856-89FD-4384-B57A-CE93118DCA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4067280" y="4437000"/>
            <a:ext cx="4093920" cy="1440000"/>
          </a:xfrm>
          <a:prstGeom prst="rect">
            <a:avLst/>
          </a:prstGeom>
          <a:ln w="0">
            <a:noFill/>
          </a:ln>
        </p:spPr>
      </p:pic>
      <p:cxnSp>
        <p:nvCxnSpPr>
          <p:cNvPr id="151" name="Curved Connector 7"/>
          <p:cNvCxnSpPr/>
          <p:nvPr/>
        </p:nvCxnSpPr>
        <p:spPr>
          <a:xfrm flipV="1" rot="10800000">
            <a:off x="6155640" y="4508280"/>
            <a:ext cx="864360" cy="289440"/>
          </a:xfrm>
          <a:prstGeom prst="curvedConnector5">
            <a:avLst>
              <a:gd name="adj1" fmla="val 50000"/>
              <a:gd name="adj2" fmla="val 49937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2" name="Curved Connector 18"/>
          <p:cNvCxnSpPr/>
          <p:nvPr/>
        </p:nvCxnSpPr>
        <p:spPr>
          <a:xfrm rot="10800000">
            <a:off x="6155640" y="4796640"/>
            <a:ext cx="937440" cy="432720"/>
          </a:xfrm>
          <a:prstGeom prst="curvedConnector5">
            <a:avLst>
              <a:gd name="adj1" fmla="val 28121"/>
              <a:gd name="adj2" fmla="val 49958"/>
              <a:gd name="adj3" fmla="val 28121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ot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base per nucleotide (A,T,G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ur bases are classified into two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ines (A,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rimidines (T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base can be next to each other on the st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DNA strands bind together to form a double hel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only binds to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only binds to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wo strands are complementary to each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0E8F-93C8-4EF0-B953-327A57DD29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dna-2"/>
          <p:cNvPicPr/>
          <p:nvPr/>
        </p:nvPicPr>
        <p:blipFill>
          <a:blip r:embed="rId1"/>
          <a:srcRect l="0" t="5764" r="6378" b="0"/>
          <a:stretch/>
        </p:blipFill>
        <p:spPr>
          <a:xfrm>
            <a:off x="4786200" y="2286000"/>
            <a:ext cx="3567240" cy="37861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6"/>
          <p:cNvSpPr/>
          <p:nvPr/>
        </p:nvSpPr>
        <p:spPr>
          <a:xfrm>
            <a:off x="6866280" y="1643040"/>
            <a:ext cx="171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quence of nucleotid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Straight Arrow Connector 8"/>
          <p:cNvCxnSpPr/>
          <p:nvPr/>
        </p:nvCxnSpPr>
        <p:spPr>
          <a:xfrm flipH="1">
            <a:off x="6357600" y="1999080"/>
            <a:ext cx="100080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9" name="Straight Arrow Connector 11"/>
          <p:cNvCxnSpPr>
            <a:stCxn id="157" idx="2"/>
          </p:cNvCxnSpPr>
          <p:nvPr/>
        </p:nvCxnSpPr>
        <p:spPr>
          <a:xfrm flipH="1">
            <a:off x="6143040" y="1905120"/>
            <a:ext cx="1580040" cy="45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3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usually found as a double helix where two strands of nucleotides are wrapped around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ands are anti-parall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rand runs 5’ to 3’, the complementary strand runs 3’ to 5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B094-34F0-465C-A7F2-61B6819523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4857840" y="1571760"/>
            <a:ext cx="3340080" cy="4419360"/>
          </a:xfrm>
          <a:prstGeom prst="rect">
            <a:avLst/>
          </a:prstGeom>
          <a:ln w="0">
            <a:noFill/>
          </a:ln>
        </p:spPr>
      </p:pic>
      <p:sp>
        <p:nvSpPr>
          <p:cNvPr id="164" name="Right Arrow 9"/>
          <p:cNvSpPr/>
          <p:nvPr/>
        </p:nvSpPr>
        <p:spPr>
          <a:xfrm flipV="1">
            <a:off x="4714920" y="1785240"/>
            <a:ext cx="331920" cy="9684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ight Arrow 10"/>
          <p:cNvSpPr/>
          <p:nvPr/>
        </p:nvSpPr>
        <p:spPr>
          <a:xfrm>
            <a:off x="4572000" y="528624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eft Arrow 11"/>
          <p:cNvSpPr/>
          <p:nvPr/>
        </p:nvSpPr>
        <p:spPr>
          <a:xfrm>
            <a:off x="7643880" y="1928880"/>
            <a:ext cx="500040" cy="71280"/>
          </a:xfrm>
          <a:prstGeom prst="leftArrow">
            <a:avLst>
              <a:gd name="adj1" fmla="val 50000"/>
              <a:gd name="adj2" fmla="val 5011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eft Arrow 12"/>
          <p:cNvSpPr/>
          <p:nvPr/>
        </p:nvSpPr>
        <p:spPr>
          <a:xfrm>
            <a:off x="7929720" y="5286240"/>
            <a:ext cx="642960" cy="14292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lation (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ormation is coded in DNA in the order of the chemical letters of which DNA is made (A T G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ction of DNA is transcribed into RNA (mR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NA is a working copy of the DNA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 G C where U replaces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NA is translated into amino acids at the ribos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quence of three nucleotide letters (triplets) codes for a specific amino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ins: a sequence of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ode is based on the order of nucleotide triplets (CTT, ATT CTG etc.) in a gene, which specify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 of particular amino acids in a prote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DB4D-4DB3-4135-A112-984A16FD6C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RAGENA, Jean de Dieu</cp:lastModifiedBy>
  <dcterms:modified xsi:type="dcterms:W3CDTF">2012-10-24T22:14:14Z</dcterms:modified>
  <cp:revision>631</cp:revision>
  <dc:subject/>
  <dc:title>PowerPoint Presentation</dc:title>
</cp:coreProperties>
</file>