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CA97-B8BD-4A36-9AD3-6D22AA5D7B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3CF2-0BDE-4FDC-8B4B-0F1651A423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C165-7091-4B96-9A1E-EF1C6428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854-78F8-43DE-83EF-699E38D9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742C-01F2-4310-B84F-4DEAD0F9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2BC-52C5-4884-B4D4-8312A1F9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CB99-D055-4EC9-BC5C-DF7D6AA4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B78D-1C59-4B70-9E88-07F60AF4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6185-7EA6-4AD8-8B42-10C4CDCB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41C7-118B-4CD1-BB17-1EB69B72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AB2C-39B0-4312-9801-0A4D5716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14BE-500A-48E0-8115-F5638DA2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B2F1-702C-4DC6-A3D4-FC6A929B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EE02-A8F5-4472-9B90-73B9C2CA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1783-2AA2-4181-8A0E-82916BF9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6419-BE72-4F69-AA1F-59BFCF4B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0247-1933-4993-86BF-55F06627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BE2E-DF1C-4E7D-8E38-2E054962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1B9C-D257-4B87-824F-FC019FE8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318-DA11-4D46-9100-E7BF1420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E5A-3E1B-4900-BF58-E255564E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BA2A-035E-48BA-99B3-4988C20A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F984-DD77-41ED-909E-F52054FD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80CE-95E9-4F45-A79E-FBB2C401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46A-D4C9-427F-AB2E-4B8149E1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07D-DCB1-49EA-884E-E9BC8A3B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793E-8722-41A7-95E2-CDF5B22D02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AB25-0ACF-4BAF-BA08-57C706202B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20" y="141300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plus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sl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agent preparation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ols and instruments that are used here have to be labelled accordingly and cannot be used els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CR tubes can only be taken to specimen preparation area in an aluminum foil-covered bea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bring back this beaker to reagent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0.5 ml or 0.2 ml individual PCR tubes instead of 0.2 ml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PCR hood with 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nge shoes or use shoe cover before entering clean room  Autoclave and calibrate pipettes regul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you have finished working in the specimen preparation area, do not come back and clean the reagent preparation area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648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epare fresh Na-hypochlorite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eck undiluted bleac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nal concentration of hypochlorite should not fall below 1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orking solutions of 5 g/l are necessary for dealing with biohazard sp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tainers containing bleach CANNOT be autoclav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instead of distilled water for clea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an Eppendorf repeat pipettor with individually wrapped sterile combi tips for aliquoting, if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688080" y="2133720"/>
            <a:ext cx="2033640" cy="236520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59" name="Picture 5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E318-97ED-40A5-B320-3D92EE977CF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344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41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alculation of volume of master mix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Reagent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553080" cy="526716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 rot="5400000">
            <a:off x="1943640" y="224640"/>
            <a:ext cx="2592360" cy="4968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78640" y="2852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532720" y="6551640"/>
            <a:ext cx="611280" cy="30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1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959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heets used in Specimen Preparation area shoul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be brought over to this are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to calculate the volume master mix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8"/>
          <p:cNvGraphicFramePr/>
          <p:nvPr/>
        </p:nvGraphicFramePr>
        <p:xfrm>
          <a:off x="4552920" y="1657440"/>
          <a:ext cx="3921120" cy="41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2920" y="1657440"/>
                    <a:ext cx="392112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20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2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on of component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396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termine the number of specimens and controls (number of samples to be analyzed plus control s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µl AM-A; 35µl AM-B; 5 µl DNA (after DNA extraction with GenoLyse) or 10µl DNA (after DNA extraction with GXT DNA/RNA Extraction K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nal volume: 50µl (GenoLyse) or 55 µl (GXT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volume of master mix is 45 µl per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2" descr="Ein Bild, das Tasse, Zahnbürste, klein, Tisch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520560" y="2266920"/>
            <a:ext cx="4051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3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t on gloves and laboratory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ntaminate work area with freshly diluted 1.5% bleach (20 min), followed by 70%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ver the work area with clean paper to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4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 mix prepa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132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ore molecular grade water, and other reagents, in the DNA-fre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pletely thaw all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ipette calculated amount of different components of master mix into 1.5 ml conical screw-cap vial using filtered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ange tips between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use a new aliquot of molecular grade water for negativ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master mix containing AM-A and AM-B and mix carefully but thoroughly (do not vor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open only one reagent vial at a time, and place vials back in mini cooler after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ease note that the master mix needs to be prepared freshly each time and needs to be processed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5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ensing master mix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abel PCR tubes in line with numbers of specimens and controls on your work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lace PCR tubes onto the PCR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pense 4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master mix into each PCR tube using filtered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of same sterile, molecular grade water used to prepare master mix into negative control PCR 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ose PCR tubes with PCR tube caps and place them in a sterile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45" name="Grafik 2" descr="Ein Bild, das Essen, Messer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1476360" y="1436760"/>
            <a:ext cx="5616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6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of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104920"/>
            <a:ext cx="79246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each use, clean pipettes, racks, instruments and the workstation with freshly diluted 1.5% bleach (20 minutes), followed by 70% alcohol and UV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10:04:15Z</dcterms:modified>
  <cp:revision>374</cp:revision>
  <dc:subject/>
  <dc:title>PowerPoint Presentation</dc:title>
</cp:coreProperties>
</file>