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3815-0050-4C9F-8686-C19A1B2BE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8186-48F9-4FD4-8D1A-6FF8A6829E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FA37-789A-42F1-9B2A-13BCD84149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4306-18D9-47B8-979B-3152E3FDDC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91E1-7073-4D8D-B94D-37236791BB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5056-E7AA-4CFB-A1A1-407EF130682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2D96-00CD-47A5-9722-48D5C2A488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2079F-62C7-4A76-8BAA-97CA829747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6495-C292-4C2B-830C-5B16EAB3AF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9640-2331-4174-8529-C4589D41CB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D497-FD0A-4426-ACC5-6CF03E0A70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9FF1-0C38-4DBC-A380-99AC864E53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A5C2-B179-4788-B320-1C061F2926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3CD0-5ABB-4FD5-9B59-EE8F5432D8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789C-899D-49C8-9828-6BAFA67743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8058-B28A-4C20-840E-CB7499174C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0362-1E08-484C-A216-427060C878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6750-1399-4069-BA80-10121460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4658-C9B7-4957-A8C5-76F03037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D45-621D-4718-83A2-B5DEA016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FC35-6A5B-416C-A89B-EEA1E016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80AC-9306-4972-B25B-B33B0D05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4E4A-3A70-4C00-805D-40F7F5C5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D3A2-1E97-47CE-9AAA-ECE24BA5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83D2-9ED8-4450-BEDF-E7A1D2D0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60ED-31EE-4BCE-8CD6-7786747E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914F-73D0-44B9-96BA-BC35CB39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0B89-1A30-4F39-A09E-87C80A15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889-83BA-42B6-94CA-C62A7F8B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77FE-44FB-43B0-A99B-08482819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C0A7-CF1E-4807-A567-6D8BF971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AEB8-E1FD-49FF-8612-8FB915F9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C8D1-E96C-4682-A971-24AD966A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A45F-5C80-4004-9BB5-E3BB67BCE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BDD8-4116-4E32-8209-2CE8B74E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813-74D1-4564-A758-4FCE1DB3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6AE2-5C9F-4EC7-8C76-8B2D79FA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07A9-1888-4DB2-ADD8-26017F8C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B3E-2386-4DF2-A8BF-FEAF17E5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1B9-5D78-4EBF-889F-1E8FCE3A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D2B-BFE5-4448-8D6C-65D3C445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F60F-A595-49FF-8313-7ABDCD8681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352B-0596-4AE3-9131-48F3EEE933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148104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EE87-568E-4F60-8384-36403A95DF1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191280" y="3197160"/>
            <a:ext cx="2502000" cy="303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80960" y="1357200"/>
            <a:ext cx="8477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itle 2" descr=""/>
          <p:cNvPicPr/>
          <p:nvPr/>
        </p:nvPicPr>
        <p:blipFill>
          <a:blip r:embed="rId3"/>
          <a:stretch/>
        </p:blipFill>
        <p:spPr>
          <a:xfrm>
            <a:off x="487440" y="2859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380880" y="4000680"/>
            <a:ext cx="8477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activate living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5139-4476-4228-A312-F51C054146D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481040"/>
            <a:ext cx="8015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6F48-EE5B-44A0-9DCF-FFE1250D94B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emperature with calibrated thermometer in an oil filled tu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EA73-C39C-4790-B0D8-B71E9D8A99D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1%-1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88BA-B630-4F77-BE1B-A163B35D504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943600" y="3301920"/>
            <a:ext cx="2176560" cy="283068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A662-B5F4-464F-84BD-3188D3EA2E2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66480" y="1481040"/>
            <a:ext cx="83962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D39E-2DA3-492B-9713-F5D537C1E70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481040"/>
            <a:ext cx="8406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ing rate (2.2°C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7F46-0DC9-46E8-87A3-6EAC225C1A9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3520" y="1481040"/>
            <a:ext cx="8253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324480" y="4076640"/>
            <a:ext cx="1986120" cy="183348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8FB9-19DD-43B2-AA69-4C8BCC7A335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481040"/>
            <a:ext cx="5029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fter use (when in regular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659560" y="2154240"/>
            <a:ext cx="293976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08D9-3750-43D9-B876-3FD2784FC70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9074-0F29-4794-9565-A765B9033B4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M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M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M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4740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48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2438280" y="3276720"/>
            <a:ext cx="3857760" cy="27194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9C46-E9E2-4CAC-8B17-0C2203C2844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440" y="176040"/>
            <a:ext cx="84013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6095-8A2A-451A-9404-D1A5C736F55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9712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after use (when in regular us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first with soapy and then again only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8F12-D82E-4388-801A-20212DCC605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E937-0434-4215-A1E3-BF2316FA943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503E-AAF1-4D84-B803-A3A3FBF0DB7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M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489E-2447-4A76-BD3E-CE760B95CC0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1%-1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F3BA-5542-46CA-BFA5-054C2D88A2F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A9DBB-42C1-4E41-BDD3-C42F1C3347B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1%-1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CF89-0D92-4C51-80A6-5FBD3091B1D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oType MTBDRplus VER 2.0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2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5646-5B56-4A1A-A854-BAFEADAC3B3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447920"/>
            <a:ext cx="8175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      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93364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7E0A-8B44-4E48-A8BF-7B54BE8DD16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Tagliani Elisa</cp:lastModifiedBy>
  <dcterms:modified xsi:type="dcterms:W3CDTF">2020-06-12T10:11:24Z</dcterms:modified>
  <cp:revision>58</cp:revision>
  <dc:subject/>
  <dc:title>Slide 1</dc:title>
</cp:coreProperties>
</file>