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6781-AD20-4EA2-85D9-D64DA7260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3F13-172B-425C-B927-31FD3C38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153F-8730-42A1-9FFF-90CB9A12B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7465-2CA2-493C-A6E0-CB0006E11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D644-AF2B-4B0E-AEE3-AB4F1F980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0C24-4EB7-4426-A167-22773536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E9B9-21E0-4A79-8263-C33ABA10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B729-6EFE-4C8C-B1B8-F272D8D0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9A4E-0EBD-41C3-8C75-64225B8F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023C-A54B-45A3-A23D-0FC9CC25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488B-DDA9-489C-953D-A99F9423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65B0-ABF3-4F12-9AD6-FAB6AA92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C9F2-B22A-472E-B6ED-41061B2F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AF0B-8CA6-4C64-B3AA-7D24B7F3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6240-A87D-49CD-A022-8170802F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6476-E34F-4E4E-A0CE-101132F70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AEE4-091B-4474-A779-37BA9C82E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44A2-6F9D-4B68-B70C-983075BD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1338-CC0B-4928-8D1C-559315C9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35A0-8EF0-47D8-87F8-1B5DA545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27FB-FF45-4685-88A0-260F39D1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1D61-967A-4604-B692-33CC0742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B061-0ACB-452F-BFC2-1FB90E1A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6FDA-33C7-459A-BA42-BDC6F452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5215-E40B-4491-A413-0EC5A63D5CD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254A-8727-4868-87E9-97A7D63979F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  <a:ea typeface="宋体"/>
              </a:rPr>
              <a:t>Overview of the Advocacy and Communications Working Grou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Michael Luhan, Communications Adviser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October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1. Antecedents: 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d hoc Task Force created in 2001 to "prioritize, plan, develop and coordinate advocacy and communication activities" to support Global Plan and six Working 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ork broadly guided by Strategic Plan for Advocacy and Communications (2002-2005) budgeted at $20 m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F meetings held in Atlanta (May 01), Geneva (Jan 02), Newark (Apr 02), Johannesburg (Sep 03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Implementation hampered by unstable and HQ-centric Secretariat, inconstant partners, informal charact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Lack of strategic framework, evidence base, pedagogy and specialized partners for country level communic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Main achievements: Strengthened cooperation with selected partners, increased level of global advocacy focused on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84280"/>
            <a:ext cx="8526600" cy="79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Mandate to form 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ancun experts' consultation, Jun 03: Urges creation of more formal entity for strategic guidance in programme communication to support DOTS expa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ohannesburg TF meeting, Sep 03: Recommends Board upgrade TF to full WG status, establishes main work stream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xternal STB evaluation, Dec 03: Supports recommendation to create more formal entity for A&amp;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authorizes formation of new WG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5922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ormation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 Carter elected chair of TF Core Group in Joburg meeting, Sep 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endorses J Carter as chair a.i. for new WG and directs Secretariat to support formation process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rafting of Basic Framework and initial members' roster by Secretariat, review by Core Group, Sep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rst WG meeting proposed for Dec 04 or Jan 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50752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Proposed WG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G chair with permanent seat on the Bo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wo vice-chairs to lead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representative from each of the other 6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re funding from Secretariat ($100k/yr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annual WG meeting, two meetings for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5075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Global advocacy for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nalysis of funding needs; setting of strategic advocacy agenda; mapping of advocacy opportunities; coordination of planning, implementation and evaluation of activ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Program communication and country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rategic framework and guidance; communication pedagogy and tools; operational research; strengthening NTP capacities; support for national partnership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unc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velop strategic approaches for scaling up effective A&amp;C interventions and propagate evidence-based best practic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mpower Stop TB partners to develop, implement and evaluation A&amp;C activities at global, regional and country leve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dvise the Coordinating Board on all matters pertaining to advocacy, in-country programme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1341360"/>
            <a:ext cx="424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1557360"/>
            <a:ext cx="864072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Infuse a sense of urgency in the Stop TB movement and accelerate efforts of all stakeholders to meet the 2005 targets and 2015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Sustain the increased flow of resources into TB control and ensure that resources are appropriately targeted and utiliz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Catalyze participation of civil society and build a genuine social movement against TB at glob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1T09:08:19Z</dcterms:modified>
  <cp:revision>18</cp:revision>
  <dc:subject/>
  <dc:title>Financial situation,  Budget &amp; plans 2005</dc:title>
</cp:coreProperties>
</file>