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DDF2E-BDDC-49B4-AF8E-B5651A4F0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408F5-0C9A-4256-A798-AA6D58C9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36BB8-66BC-4D5C-A9A8-1777E7421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9AE1F-5CBE-45E4-AA9F-31DE38F5C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C1E6-A105-4E24-B8B9-A2B9195BA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6E62-A7B4-4C4A-98B0-50F8F55E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405D-AF10-43A0-B980-007C55DA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4F23-A164-4E94-84D3-52DD2980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B148-A055-445B-9A0B-6018F4E1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396B-2986-4CB1-BF36-A0AAF029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2680-FA0E-46D2-A8FE-2665C52E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24EC7-C090-4A61-BB32-A6ACB765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AB10-749C-4790-87A4-256E5FA8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A2D1-F38A-4DE9-8A76-8AE266C9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0554-9E6B-4C63-AD72-E91FD076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80E9-CA62-4455-8983-C9A6FD942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B25E-3B76-4D00-B3D3-DF6EC8071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BC8CA-E32F-4ECF-985A-93958EBD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0DCC0-5438-4565-AF57-C37175F2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023A2-7294-4C4E-BE49-6201F4A3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79D87-1AA0-43DC-9E11-AB1E4442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24219-ABD6-4C89-BCA9-68E4A5DD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69008-9D4D-4E5A-9066-436223E6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B2256-F17C-4EBC-B3EA-D69BAE04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12A6-000A-4C41-9ADF-B0DDA34E362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BBF1-A6AC-43B6-9B74-3149D7CE297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: Short summary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ichael Luh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ctober 20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Purp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uild political will for achieving the MD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able people's actions in holding their governments accountable to the Millennium Pled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ampaig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pproa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orking with coalitions and partnerships in 3 area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rassroots advoca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edia and public aware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olicy chan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Key partnership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North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Parliamentarian Network of WB's Implementation Watch, MDG organizations in USA, UK, Italy, Spain, Ireland, Austral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CSOs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Oxfam, Amnesty Int'l, Trade Justice Movement, Social Watch, Civicus, Global Campaign for Education, People's Health Movement, World AIDS Campaign, Save the Children, Global Movement for Children, Plan Internat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Faith-based Group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Caritas, Cidse, Micah Challenge, Vatican Commission Justicia &amp; Pax, World Parliament for Relig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Media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:  BBC Trust, All Africa.com, EFE, IPS, One Worl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Event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: Barcelona Forum, Rome Marathon, Olympics, Rock in R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Key Events in 200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UN Heads of State meeting, Sep 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G8 meeting with development and MDGs focus, Jun 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Doha Round: Global Week of Action (Apr 05), Ministeri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meeting (Dec 0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Financing for achieving the MDGs: Lula/Chirac summit, Sep 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outh-South and North-South linkages linked to World Social Forum and other initiativ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ngagement with Stop TB Partn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High-level meetings with STB Global Ambassador Rahman in NYC, Apr 04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ampaign Director Salil Shetty to address IUATLD world conference in Paris, Oct 0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Rahman to participate in India national MDG campaign meeting, Nov 0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MDG Campaign regional partners and in selected countries  to mobilize for WTBD, Mar 0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09:05:18Z</dcterms:created>
  <dc:creator>luhanm</dc:creator>
  <dc:description/>
  <dc:language>en-US</dc:language>
  <cp:lastModifiedBy>luhanm</cp:lastModifiedBy>
  <dcterms:modified xsi:type="dcterms:W3CDTF">2004-10-11T16:14:43Z</dcterms:modified>
  <cp:revision>2</cp:revision>
  <dc:subject/>
  <dc:title>MDGs Campaign: Short summary</dc:title>
</cp:coreProperties>
</file>