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DEA9-8B7E-43F9-972B-B03625DA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3178-2D3D-4660-8186-267E6D4D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509F-63E7-4428-B660-7F6A0419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5564-97AC-43A7-8593-3DA5BBB7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4179-EC4B-4815-9C13-E8C98721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7884-66AA-4851-AA80-ECBA0933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9503-AA87-4891-898C-3115D4C0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C0B2-6E15-4BD4-8E15-44DC0E19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DCC1-F400-4688-B26E-A4B30831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BB98-2994-4087-8F95-6190E8B2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5FF9-D883-4588-92FD-A6F494F1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1E45-8467-46E8-8CC5-C805B264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0530-6F9E-46F6-8CE9-976B1AA0A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0872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Meeting of chairpersons of Working Groups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aturday 16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3516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view of progress in developing the Global Plan 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ntribution of Working Groups to the Global Plan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imel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120" y="162864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ime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8120" y="765000"/>
            <a:ext cx="84549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– March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scenarios and inter-active planning process with Working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ach WG should identify a focal po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 – May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by each Working Group of workplan, 2006-2015, guided by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- Jun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nalisation of Global Plan, 2006-2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take-home mess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29:12Z</dcterms:modified>
  <cp:revision>93</cp:revision>
  <dc:subject/>
  <dc:title>Africa: HIV is driving the TB epidemic TB notification rates, 1980-1998</dc:title>
</cp:coreProperties>
</file>