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0191-7792-43A3-ADB6-CC7A6AE8E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Trust Fund at  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Bank levies a  3% Admin Fees on money passing   through this trust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Interim Trust Fund at W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has a 6% reduced PSC (compared to 1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(interim programme support cost) of 6% reaso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put to increase substantially as resource mobilisation gathers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number of transactions (financial legal, and other) over a 12 month period is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82720" y="73980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of 6% reasonable (Cont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 fees to-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% to W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 to WHO on an exceptional basis till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 goodwill gesture by WHO while it shouldered the full burden of admin work associated with drawing up and  implementing the contracts for using funds at the WB T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cost per transaction US$275 at the rate of 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y below the actual estimated cost $1,275 (Informally advised by WH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 the Operating Principles of the Stop TB Partnership Trust Fund at 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to the 6% PSC for the Interim Trust    Fund at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 the negotiating team to aim for agreeing with WHO a similar fixed percentage admin fees (6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41C-22B5-48C6-81C7-D08CDE74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9FA-FC5B-4EF2-9219-903CCC0A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ADAC-CBDF-42E0-9A55-AE8826DB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9F9-B5A6-4B2D-9994-30537402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E272-E280-4B2B-BDB4-502E78E5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ECC9-4895-4EA2-A591-D59B4484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779A-FFC9-4377-AFC5-41388A6F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5EB3-3CBF-48E3-94E7-E1257562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AEB5-C03D-43DA-A5B6-C7881FFE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FFC0-1831-4600-BAFD-CC766943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F07C-61DF-4D05-A0E4-E86096D0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D84-FD23-40FD-8AEB-6D62EE68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D210-F565-4417-A65C-FA7FC346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1B4C-FCA5-42C3-8535-63C872BB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4094-2990-495A-9639-F2D69E92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FB08-8034-42FD-B8F5-42662F50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1603-FE1C-4184-8AE3-03546BB4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F243-AC45-46B9-A30B-A0866B75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287-D431-4D04-A4F4-2C7F86F3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BE9-4C0F-4614-A4F6-6C7B6DC5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9BE-07DB-4951-A826-6F43D6B8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7EE0-89BA-468A-8919-C0E0DCC9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007-44B2-45D4-91F3-CE40C6A4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499-9AFE-464C-9B18-516D5D7C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2275-57E3-4FE3-9E10-E70EBE6ED8D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3AA0-C03D-41DB-A11B-4D9594C1A8B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Stop TB Partnership Trust Fund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urrent Statu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Two Trust Funds at Pres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Trust Fund at  the World Bank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e Bank levies a  3% admin fees on money passing through this trust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It has a 6% reduced PSC (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s opposed to its usu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13%)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e.g. DFID contribution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the WB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duced PSC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Final Trust Fund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f 6% reasonable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unding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o increa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e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substantially as resource mobilisation gathers moment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number of transactions (financi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, contractual, administrative 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legal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logistic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and other) over a 12 month period i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aro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5,000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duced PSC of 6% reasonable (Contd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dmin fees to-dat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3% to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0% to WHO on an exception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interim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basis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since      February 2003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cost per transaction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with WHO Trust F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US$275 at the rate of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Operating Principles of the Stop TB Partnership Trust Fund at WB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transfer of funds every six months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interest accrues to the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procurement policies of WHO app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standard WB and WHO repor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6% PSC for the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irect the negotiating team to aim for agreeing with WHO a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n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ppropriate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fixed  admin fees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the definitive Trust Fund including a mechanism for adapting the fee to changing throughpu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1:16Z</dcterms:modified>
  <cp:revision>82</cp:revision>
  <dc:subject/>
  <dc:title>Slide 1</dc:title>
</cp:coreProperties>
</file>