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1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D4D0-4F8C-441E-B6AF-5DA27DE7B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F354-693A-461D-9801-47F2551B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D4E0-FE57-462E-9B9B-1F67DAA1C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9F59-340C-4FD3-A30C-897B3FCAB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AE80-C012-4D45-B686-61C3A415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D11C-3ED6-407B-AF1D-042C74BE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7C07-854C-44AC-9D43-EE983253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8742-472F-4F8F-96DF-A287DE15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F988-0FBA-44AA-99E9-008C4728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05EA-75F5-4552-A585-464BB4AA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DF8F-50F3-47F2-A619-70F087FA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F516-160C-4464-B764-D30ED371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B110-780A-447B-BE9E-0920EDCDD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4 – 15 October, 2004,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 Kitty Lambregts-van Weezenb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O HQ/STOP TB/T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924680" y="228600"/>
          <a:ext cx="990720" cy="99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228600"/>
                    <a:ext cx="9907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890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380880"/>
          <a:ext cx="76212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80880"/>
                    <a:ext cx="762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755640" y="19162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Stop TB Coordinating Board Mee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LD reality in a letter from Pak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…….One national pharmaceutical Company; of Lahore has started manufacturing on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ine Anti-TB drug only but its perhaps commercially not that profitable hence they have adopted unethical practices &amp; introduced this drug to general practitioners, especially in the rural areas &amp; other speciality consultants promoting it as a new Anti-TB drug thus by producing more Drug resistant cases.  I am afraid this drug will also be lost soon for TB patients.  Its criminal…..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 Abdullah Jan Pathan, Chest Physician, Hyderab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184320"/>
            <a:ext cx="914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-GLC DOTS-Plus projects by October 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050920" y="1635120"/>
            <a:ext cx="114480" cy="1000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119320" y="1714680"/>
            <a:ext cx="419040" cy="55548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519200" y="1504800"/>
            <a:ext cx="152280" cy="1303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39800" y="1562040"/>
            <a:ext cx="227160" cy="23184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185920" y="3713040"/>
            <a:ext cx="158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16160" y="3776760"/>
            <a:ext cx="936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220920" y="2187720"/>
            <a:ext cx="20016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394000" y="1346040"/>
            <a:ext cx="404640" cy="2890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929040" y="1555920"/>
            <a:ext cx="131760" cy="648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382920" y="3535200"/>
            <a:ext cx="39384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68560" y="4159080"/>
            <a:ext cx="130320" cy="14940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890880" y="4159080"/>
            <a:ext cx="42840" cy="270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679920" y="3594240"/>
            <a:ext cx="3348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41920" y="4186080"/>
            <a:ext cx="792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141800" y="255744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084560" y="2898720"/>
            <a:ext cx="84240" cy="17136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129200" y="2994120"/>
            <a:ext cx="52200" cy="7596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865680" y="3868560"/>
            <a:ext cx="17604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16320" y="3341520"/>
            <a:ext cx="281160" cy="2876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125960" y="2830680"/>
            <a:ext cx="187200" cy="14436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699080" y="44863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478400" y="3276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4889520" y="3571920"/>
            <a:ext cx="936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211640" y="143676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516640" y="251316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925960" y="3581280"/>
            <a:ext cx="212760" cy="44604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986440" y="3516480"/>
            <a:ext cx="18576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027840" y="3505320"/>
            <a:ext cx="19980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257880" y="4003560"/>
            <a:ext cx="211320" cy="1825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537160" y="3929040"/>
            <a:ext cx="46080" cy="10476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292720" y="234936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5446800" y="3209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5443560" y="318600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5443200" y="3168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H="1" flipV="1">
            <a:off x="5724360" y="3357720"/>
            <a:ext cx="446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H="1" flipV="1">
            <a:off x="5795640" y="3284640"/>
            <a:ext cx="270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5843520" y="332532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335640" y="3462480"/>
            <a:ext cx="334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305400" y="347040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094440" y="4124160"/>
            <a:ext cx="31680" cy="399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361200" y="404496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929200" y="4033800"/>
            <a:ext cx="23832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481800" y="4159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762600" y="3943440"/>
            <a:ext cx="34920" cy="4284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481800" y="2903400"/>
            <a:ext cx="7776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638760" y="3036960"/>
            <a:ext cx="446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554120" y="3787920"/>
            <a:ext cx="55440" cy="3960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936960" y="4665600"/>
            <a:ext cx="298440" cy="32868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13560" y="42260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433760" y="3629160"/>
            <a:ext cx="127080" cy="2174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578480" y="3591000"/>
            <a:ext cx="50760" cy="55440"/>
          </a:xfrm>
          <a:custGeom>
            <a:avLst/>
            <a:gdLst/>
            <a:ahLst/>
            <a:rect l="l" t="t" r="r" b="b"/>
            <a:pathLst>
              <a:path w="35" h="36">
                <a:moveTo>
                  <a:pt x="0" y="0"/>
                </a:moveTo>
                <a:lnTo>
                  <a:pt x="29" y="12"/>
                </a:lnTo>
                <a:lnTo>
                  <a:pt x="35" y="36"/>
                </a:lnTo>
                <a:lnTo>
                  <a:pt x="1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243400" y="3084480"/>
            <a:ext cx="64152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200560" y="3103560"/>
            <a:ext cx="185760" cy="42372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124680" y="3394080"/>
            <a:ext cx="279360" cy="169920"/>
          </a:xfrm>
          <a:custGeom>
            <a:avLst/>
            <a:gdLst/>
            <a:ahLst/>
            <a:rect l="l" t="t" r="r" b="b"/>
            <a:pathLst>
              <a:path w="198" h="110">
                <a:moveTo>
                  <a:pt x="0" y="72"/>
                </a:moveTo>
                <a:lnTo>
                  <a:pt x="8" y="86"/>
                </a:lnTo>
                <a:lnTo>
                  <a:pt x="30" y="98"/>
                </a:lnTo>
                <a:lnTo>
                  <a:pt x="56" y="90"/>
                </a:lnTo>
                <a:lnTo>
                  <a:pt x="56" y="106"/>
                </a:lnTo>
                <a:lnTo>
                  <a:pt x="72" y="110"/>
                </a:lnTo>
                <a:lnTo>
                  <a:pt x="78" y="90"/>
                </a:lnTo>
                <a:lnTo>
                  <a:pt x="114" y="70"/>
                </a:lnTo>
                <a:lnTo>
                  <a:pt x="122" y="60"/>
                </a:lnTo>
                <a:lnTo>
                  <a:pt x="128" y="70"/>
                </a:lnTo>
                <a:lnTo>
                  <a:pt x="172" y="38"/>
                </a:lnTo>
                <a:lnTo>
                  <a:pt x="198" y="0"/>
                </a:lnTo>
                <a:cubicBezTo>
                  <a:pt x="177" y="9"/>
                  <a:pt x="162" y="22"/>
                  <a:pt x="140" y="22"/>
                </a:cubicBezTo>
                <a:lnTo>
                  <a:pt x="110" y="28"/>
                </a:lnTo>
                <a:lnTo>
                  <a:pt x="64" y="72"/>
                </a:lnTo>
                <a:lnTo>
                  <a:pt x="36" y="68"/>
                </a:lnTo>
                <a:lnTo>
                  <a:pt x="8" y="86"/>
                </a:lnTo>
                <a:lnTo>
                  <a:pt x="24" y="96"/>
                </a:lnTo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907400" y="5181480"/>
            <a:ext cx="91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Narrow"/>
              </a:rPr>
              <a:t>Source: WHO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130920" y="5734080"/>
            <a:ext cx="228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Applications under review by the G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916360" y="5734080"/>
            <a:ext cx="104760" cy="11592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322960" y="3316320"/>
            <a:ext cx="172800" cy="19044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362560" y="2311560"/>
            <a:ext cx="173160" cy="188640"/>
          </a:xfrm>
          <a:prstGeom prst="ellipse">
            <a:avLst/>
          </a:prstGeom>
          <a:solidFill>
            <a:srgbClr val="66ff66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916360" y="5516640"/>
            <a:ext cx="104760" cy="11592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130560" y="5526000"/>
            <a:ext cx="210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GLC-approved DOTS-Plus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114800" y="2509920"/>
            <a:ext cx="189000" cy="792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452840" y="2287440"/>
            <a:ext cx="17460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057640" y="259236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916360" y="5950080"/>
            <a:ext cx="104760" cy="11592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132000" y="5950080"/>
            <a:ext cx="201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Countries preparing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386240" y="2065320"/>
            <a:ext cx="17316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508720" y="3429000"/>
            <a:ext cx="17280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452840" y="4556160"/>
            <a:ext cx="108000" cy="9828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513480" y="3745080"/>
            <a:ext cx="122400" cy="12348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201680" y="3471840"/>
            <a:ext cx="17460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100240" y="4572000"/>
            <a:ext cx="17316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940280" y="2863800"/>
            <a:ext cx="111240" cy="15084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502160" y="4156200"/>
            <a:ext cx="101520" cy="108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70480" y="4351320"/>
            <a:ext cx="82440" cy="7632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662360" y="2287440"/>
            <a:ext cx="173160" cy="1908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267080" y="3352680"/>
            <a:ext cx="133560" cy="1476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867280" y="2637000"/>
            <a:ext cx="173160" cy="18864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435640" y="350028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219640" y="3141720"/>
            <a:ext cx="144360" cy="11736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916360" y="6165720"/>
            <a:ext cx="104760" cy="115920"/>
          </a:xfrm>
          <a:prstGeom prst="ellipse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916360" y="6381720"/>
            <a:ext cx="104760" cy="115920"/>
          </a:xfrm>
          <a:prstGeom prst="ellipse">
            <a:avLst/>
          </a:prstGeom>
          <a:solidFill>
            <a:srgbClr val="ff99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132000" y="6165720"/>
            <a:ext cx="223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Secondline drugs widely avai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132000" y="6381720"/>
            <a:ext cx="223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Secondline drugs NOT  avai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166760" y="619200"/>
            <a:ext cx="642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 HB countries: Nationwide drug resistance surveillance data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   HB countries: Sub-national (Russian Federation, China, and Ind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   HB countries: No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7056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is far more complicated than D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4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boratory capacity:  diagnosis and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eatment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 during 18-24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f (frequent) side-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ften difficult patient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ug procurement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recording &amp; repor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00244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inking Independent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028960" y="1628640"/>
            <a:ext cx="2506680" cy="221004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535640" y="1628640"/>
            <a:ext cx="2506680" cy="213372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348000" y="3573360"/>
            <a:ext cx="2778120" cy="228600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857760" y="2771640"/>
            <a:ext cx="1577880" cy="152100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780000" y="2924280"/>
            <a:ext cx="1728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00"/>
                </a:solidFill>
                <a:latin typeface="Arial"/>
              </a:rPr>
              <a:t>G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00"/>
                </a:solidFill>
                <a:latin typeface="Arial"/>
              </a:rPr>
              <a:t>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165400" y="2085840"/>
            <a:ext cx="209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ACCESS: Price &amp;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603680" y="2085840"/>
            <a:ext cx="237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RATIONAL    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857760" y="43718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023840" y="111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51220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7164360" y="1557360"/>
            <a:ext cx="914400" cy="8431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chn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s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948360" y="213372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524720" y="2637000"/>
            <a:ext cx="934920" cy="647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948360" y="3429000"/>
            <a:ext cx="935280" cy="863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7093080" y="292428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6804000" y="342864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012000" y="5589720"/>
            <a:ext cx="1081080" cy="105876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uid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340000" y="5589720"/>
            <a:ext cx="1079640" cy="1079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pera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276720" y="573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3132000" y="5300280"/>
            <a:ext cx="28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 flipH="1" flipV="1">
            <a:off x="6011640" y="530064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4360" y="1700280"/>
            <a:ext cx="1008000" cy="9367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qual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84360" y="2924280"/>
            <a:ext cx="1008000" cy="9144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oo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763640" y="2133720"/>
            <a:ext cx="2872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1763640" y="3141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0" y="183960"/>
            <a:ext cx="9144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WHO-GLC DOTS-Plus projects by October  200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050920" y="1635120"/>
            <a:ext cx="114480" cy="1000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119320" y="1714680"/>
            <a:ext cx="419040" cy="55548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519200" y="1504800"/>
            <a:ext cx="152280" cy="1303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639800" y="1562040"/>
            <a:ext cx="227160" cy="23184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185920" y="3713040"/>
            <a:ext cx="158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216160" y="3776760"/>
            <a:ext cx="936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220920" y="2187720"/>
            <a:ext cx="20016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394000" y="1346040"/>
            <a:ext cx="404640" cy="2890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929040" y="1555920"/>
            <a:ext cx="131760" cy="648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382920" y="3535200"/>
            <a:ext cx="39384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3868560" y="4159080"/>
            <a:ext cx="130320" cy="14940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890880" y="4159080"/>
            <a:ext cx="42840" cy="270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3679920" y="3594240"/>
            <a:ext cx="3348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841920" y="4186080"/>
            <a:ext cx="792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141800" y="255744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084560" y="2898720"/>
            <a:ext cx="84240" cy="17136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4129200" y="2994120"/>
            <a:ext cx="52200" cy="7596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865680" y="3868560"/>
            <a:ext cx="17604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216320" y="3341520"/>
            <a:ext cx="281160" cy="2876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125960" y="2830680"/>
            <a:ext cx="187200" cy="14436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699080" y="44863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4478400" y="3276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4889520" y="3571920"/>
            <a:ext cx="936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4211640" y="143676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516640" y="251316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925960" y="3581280"/>
            <a:ext cx="212760" cy="44604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986440" y="3516480"/>
            <a:ext cx="18576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027840" y="350532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257880" y="4003560"/>
            <a:ext cx="211320" cy="1825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537160" y="3929040"/>
            <a:ext cx="46080" cy="10476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295960" y="235440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5446800" y="3209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5443560" y="318600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5443200" y="3168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5769000" y="3354120"/>
            <a:ext cx="158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823000" y="334008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5843520" y="332532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6335640" y="3462480"/>
            <a:ext cx="334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6305400" y="347040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6094440" y="4124160"/>
            <a:ext cx="31680" cy="399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6361200" y="404496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929200" y="4033800"/>
            <a:ext cx="23832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481800" y="4159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762600" y="394344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6481800" y="2903400"/>
            <a:ext cx="7776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638760" y="3036960"/>
            <a:ext cx="446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554120" y="3787920"/>
            <a:ext cx="55440" cy="3960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3936960" y="4665600"/>
            <a:ext cx="298440" cy="32868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7513560" y="42260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4433760" y="3629160"/>
            <a:ext cx="127080" cy="2174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578480" y="3591000"/>
            <a:ext cx="50760" cy="55440"/>
          </a:xfrm>
          <a:custGeom>
            <a:avLst/>
            <a:gdLst/>
            <a:ahLst/>
            <a:rect l="l" t="t" r="r" b="b"/>
            <a:pathLst>
              <a:path w="35" h="36">
                <a:moveTo>
                  <a:pt x="0" y="0"/>
                </a:moveTo>
                <a:lnTo>
                  <a:pt x="29" y="12"/>
                </a:lnTo>
                <a:lnTo>
                  <a:pt x="35" y="36"/>
                </a:lnTo>
                <a:lnTo>
                  <a:pt x="1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5243400" y="3084480"/>
            <a:ext cx="64152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200560" y="3103560"/>
            <a:ext cx="185760" cy="42372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6124680" y="3394080"/>
            <a:ext cx="279360" cy="169920"/>
          </a:xfrm>
          <a:custGeom>
            <a:avLst/>
            <a:gdLst/>
            <a:ahLst/>
            <a:rect l="l" t="t" r="r" b="b"/>
            <a:pathLst>
              <a:path w="198" h="110">
                <a:moveTo>
                  <a:pt x="0" y="72"/>
                </a:moveTo>
                <a:lnTo>
                  <a:pt x="8" y="86"/>
                </a:lnTo>
                <a:lnTo>
                  <a:pt x="30" y="98"/>
                </a:lnTo>
                <a:lnTo>
                  <a:pt x="56" y="90"/>
                </a:lnTo>
                <a:lnTo>
                  <a:pt x="56" y="106"/>
                </a:lnTo>
                <a:lnTo>
                  <a:pt x="72" y="110"/>
                </a:lnTo>
                <a:lnTo>
                  <a:pt x="78" y="90"/>
                </a:lnTo>
                <a:lnTo>
                  <a:pt x="114" y="70"/>
                </a:lnTo>
                <a:lnTo>
                  <a:pt x="122" y="60"/>
                </a:lnTo>
                <a:lnTo>
                  <a:pt x="128" y="70"/>
                </a:lnTo>
                <a:lnTo>
                  <a:pt x="172" y="38"/>
                </a:lnTo>
                <a:lnTo>
                  <a:pt x="198" y="0"/>
                </a:lnTo>
                <a:cubicBezTo>
                  <a:pt x="177" y="9"/>
                  <a:pt x="162" y="22"/>
                  <a:pt x="140" y="22"/>
                </a:cubicBezTo>
                <a:lnTo>
                  <a:pt x="110" y="28"/>
                </a:lnTo>
                <a:lnTo>
                  <a:pt x="64" y="72"/>
                </a:lnTo>
                <a:lnTo>
                  <a:pt x="36" y="68"/>
                </a:lnTo>
                <a:lnTo>
                  <a:pt x="8" y="86"/>
                </a:lnTo>
                <a:lnTo>
                  <a:pt x="24" y="96"/>
                </a:lnTo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7907400" y="5181480"/>
            <a:ext cx="91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Narrow"/>
              </a:rPr>
              <a:t>Source: WHO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2934000" y="5792760"/>
            <a:ext cx="365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Applications under review by the G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901960" y="5824440"/>
            <a:ext cx="174600" cy="189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5322960" y="3316320"/>
            <a:ext cx="172800" cy="19044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5362560" y="2311560"/>
            <a:ext cx="173160" cy="188640"/>
          </a:xfrm>
          <a:prstGeom prst="ellipse">
            <a:avLst/>
          </a:prstGeom>
          <a:solidFill>
            <a:srgbClr val="66ff66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2901960" y="5484960"/>
            <a:ext cx="174600" cy="1872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3135960" y="5451480"/>
            <a:ext cx="336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GLC-approved DOTS-Plus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114800" y="2509920"/>
            <a:ext cx="189000" cy="792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4452840" y="2287440"/>
            <a:ext cx="17460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057640" y="259236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2901960" y="6145200"/>
            <a:ext cx="174600" cy="18720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3130560" y="6145200"/>
            <a:ext cx="6013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Countries preparing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386240" y="2065320"/>
            <a:ext cx="17316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5537160" y="3397320"/>
            <a:ext cx="17316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4452840" y="4556160"/>
            <a:ext cx="108000" cy="9828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6513480" y="3745080"/>
            <a:ext cx="122400" cy="12348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1201680" y="3471840"/>
            <a:ext cx="17460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2100240" y="4572000"/>
            <a:ext cx="17316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4940280" y="2863800"/>
            <a:ext cx="111240" cy="15084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502160" y="4156200"/>
            <a:ext cx="101520" cy="108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4470480" y="4351320"/>
            <a:ext cx="82440" cy="7632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4662360" y="2287440"/>
            <a:ext cx="173160" cy="1908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4267080" y="3352680"/>
            <a:ext cx="133560" cy="1476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5867280" y="2637000"/>
            <a:ext cx="173160" cy="18864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435640" y="350028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219640" y="3141720"/>
            <a:ext cx="144360" cy="11736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t Recent Develop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ubTitle"/>
          </p:nvPr>
        </p:nvSpPr>
        <p:spPr>
          <a:xfrm>
            <a:off x="899640" y="1844640"/>
            <a:ext cx="7417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om pilot phase to expansion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not longer limited to so-called "hot spot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t 4 regimens recognised as the standard of care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DR-TB (STAG decision, June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litics:  EB resolution 114.R1, GF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Guidelines are under revision/train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LD are used almost everywhe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7417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B resolution May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1042920" y="1413000"/>
            <a:ext cx="7345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NCOURAGES ALL MEMBER STAT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To ensure that all tuberculosis patients have access to the universal standard of care that is based on the proper diagnostics, treatment and reporting consistent with DOTS strategy…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QUESTS THE DIRECTOR GENERAL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Implement and strengthen strategies for the effective control and management of persons with drug-resistant tuberculosi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80720" y="151920"/>
            <a:ext cx="877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llaboration agreed with the GFT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ubTitle"/>
          </p:nvPr>
        </p:nvSpPr>
        <p:spPr>
          <a:xfrm>
            <a:off x="552240" y="1879560"/>
            <a:ext cx="794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o help contain resistance to second-line anti-TB drugs and consistent with the policies of other international funding sources, all procurement of medications to treat MDR-TB must be conducted through the Green Light Committee (GLC)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ird Board Meeting, 10-11 October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Global Fund to Fight AIDS, Tuberculosis and Mal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466560" y="79056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8099280" y="57456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ALLENGES 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1476360" y="1773360"/>
            <a:ext cx="640080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resources / consultant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ing demands for technical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ug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-line drugs outside DOTS-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890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lan of Action DOTS + Working Group</a:t>
            </a:r>
            <a:br>
              <a:rPr sz="28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close collaboration with DEWG, the New Diagnostics WG and the Stop TBP Secretari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nt capacity ↑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ratory Capacity ↑(DEWG, New Diagnostics 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grading GLC operations (GLC member institu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ource Mobilization (Stop TB partner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al research /policy development (New Diagnostics 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835280" y="551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CONTENT OF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gnitude of the MDR-TB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of second-line drugs 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C mechanism: status an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ant recent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9396000" y="-5234040"/>
            <a:ext cx="2890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y IV regimens have been recommended for cases of drug resistance for a number of years by the WHO.  Programs without access to them are operating in “DOTS-minu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T'S  MOVE  FROM  “DOTS MINUS” TO  FULL  DO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gnitude of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Resistance surveys in 64 countries and predictive data from 72 countries the number of new cases of MDR-TB for 2000 was estimated to be 273,000 (95% confidence limits 185,000 and 414,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e C, Espinal MA, Watt CJ, Mbiaga C, Williams BG.  Worldwide Incidence of Multidrug-Resistant Tuberculosis.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 of Infec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2002;185:1197-20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4916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timated incidence of new MDR-TB cases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pdate of Dye C, Espinal M, Watt C, et al. Worldwide Incidence of Multidrug-Resistant Tuberculosis. JID 2002, 185:1197-2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1633680"/>
            <a:ext cx="114480" cy="10152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19320" y="171612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19200" y="1504800"/>
            <a:ext cx="152280" cy="12888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39800" y="156204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87720" y="371304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16160" y="377676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19480" y="2187720"/>
            <a:ext cx="20160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94000" y="1346040"/>
            <a:ext cx="404640" cy="28764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29040" y="155412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82920" y="353520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68560" y="4159080"/>
            <a:ext cx="13500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90880" y="415908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79920" y="3594240"/>
            <a:ext cx="3366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41920" y="4187880"/>
            <a:ext cx="79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6480" y="255600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84560" y="289872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29200" y="299412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68560" y="3868560"/>
            <a:ext cx="17640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43520" y="4815000"/>
            <a:ext cx="36828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6320" y="334152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19480" y="283212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99080" y="448632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478400" y="328428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890960" y="357192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26040" y="1450800"/>
            <a:ext cx="2946240" cy="157356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522760" y="253224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925960" y="3581280"/>
            <a:ext cx="23508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979960" y="3516480"/>
            <a:ext cx="19224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31080" y="350532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57880" y="400356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56240" y="397188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5960" y="236700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445000" y="320976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443560" y="31860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5443560" y="31683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769000" y="3354120"/>
            <a:ext cx="158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823000" y="334008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845320" y="332532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943600" y="406224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481800" y="417816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62600" y="394344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481800" y="290340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640560" y="303696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54120" y="378936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936960" y="466416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515360" y="422604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433760" y="362736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268960" y="309708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00560" y="310356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948040" y="5424480"/>
            <a:ext cx="142920" cy="13500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01840" y="540540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More than 50 0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17806800">
            <a:off x="3877200" y="414720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043520" y="4815000"/>
            <a:ext cx="36828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607000" y="3552840"/>
            <a:ext cx="17316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41560" y="5659560"/>
            <a:ext cx="142920" cy="1346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940120" y="5899320"/>
            <a:ext cx="142920" cy="134640"/>
          </a:xfrm>
          <a:prstGeom prst="ellipse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946240" y="6135840"/>
            <a:ext cx="142920" cy="134640"/>
          </a:xfrm>
          <a:prstGeom prst="ellipse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948040" y="6375240"/>
            <a:ext cx="142920" cy="135000"/>
          </a:xfrm>
          <a:prstGeom prst="ellipse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205080" y="5645160"/>
            <a:ext cx="21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0 000 to 50 0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01840" y="6361200"/>
            <a:ext cx="177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Less than 1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205080" y="5881680"/>
            <a:ext cx="21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 000 to 9 999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05080" y="6111720"/>
            <a:ext cx="215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00 to 999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tion of retreatment cases among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mear-positiv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125600" y="6521400"/>
            <a:ext cx="500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For Russia, all cases are included not only smear-posi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684360" y="1006560"/>
          <a:ext cx="7561080" cy="56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06560"/>
                    <a:ext cx="7561080" cy="56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268200"/>
            <a:ext cx="7318440" cy="459288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100000">
                <a:srgbClr val="99ccff">
                  <a:alpha val="0"/>
                </a:srgbClr>
              </a:gs>
            </a:gsLst>
            <a:lin ang="135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94360" y="322200"/>
            <a:ext cx="24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zakhsta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660680" y="2522520"/>
            <a:ext cx="1872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13240" y="3913200"/>
            <a:ext cx="5630760" cy="294480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99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093080" y="3233880"/>
            <a:ext cx="20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yrgyz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222880" y="4135320"/>
            <a:ext cx="3362400" cy="2379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87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852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6.4%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f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26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retreated cases c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4.3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6.1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Rt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non-nat'l-CR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003320" y="1154160"/>
            <a:ext cx="3529080" cy="3018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9,706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,900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3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ss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survey indicates 47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.2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new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6.4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re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1.8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resistant to all drugs tes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st 11,025 MDR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223920" y="235080"/>
            <a:ext cx="8496360" cy="616572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gradFill rotWithShape="0">
            <a:gsLst>
              <a:gs pos="0">
                <a:srgbClr val="171746"/>
              </a:gs>
              <a:gs pos="100000">
                <a:srgbClr val="333399">
                  <a:alpha val="9019"/>
                </a:srgbClr>
              </a:gs>
            </a:gsLst>
            <a:lin ang="81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262240" y="800280"/>
            <a:ext cx="127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490840" y="3189240"/>
            <a:ext cx="23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325600" y="2546280"/>
            <a:ext cx="5505480" cy="2989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67,414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8,881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5.7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ss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20% DOTS vs. 30% non-DO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/ 31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provinces surve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DR among new rang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2.1% – 10.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DR among rtmt rang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17.5 – 36.6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MDR-TB CASES INFLUENCING THE EPIDE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ture Medicine, Sept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ling epidemics of multidrug-resistan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 tuberculosi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heterogeneous fitness (Ted Cohen &amp; Megan Murr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ling the emergence of the "hot zones":  tuberculosis and the amplification dynamics of drug resistance (Sally M Blower &amp; Tom Ch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LLOW-UP OF CHRONIC TUBERCULOSIS PATIENTS IN HO CHI MINH CITY, VIETNAM,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Quy et al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9% 2 year surv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6% and 69% culture/smear positive (M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mission to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2002 Sales by Country</a:t>
            </a:r>
            <a:br>
              <a:rPr sz="3600"/>
            </a:br>
            <a:br>
              <a:rPr sz="3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preomycin (units = vials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Cycloserin (units = capsu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2166840" y="2338560"/>
          <a:ext cx="614520" cy="69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6840" y="2338560"/>
                    <a:ext cx="61452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6388200" y="2397240"/>
          <a:ext cx="563400" cy="5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88200" y="2397240"/>
                    <a:ext cx="5634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2166840" y="4686480"/>
          <a:ext cx="614520" cy="6998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66840" y="4686480"/>
                    <a:ext cx="61452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5292720" y="2133720"/>
          <a:ext cx="3630600" cy="33112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92720" y="2133720"/>
                    <a:ext cx="363060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684360" y="2133720"/>
          <a:ext cx="3733560" cy="331128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4360" y="2133720"/>
                    <a:ext cx="373356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836784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76200" y="381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296200" y="111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9220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919840" y="1477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9:07:40Z</dcterms:created>
  <dc:creator>smythc</dc:creator>
  <dc:description/>
  <dc:language>en-US</dc:language>
  <cp:lastModifiedBy>smythc</cp:lastModifiedBy>
  <dcterms:modified xsi:type="dcterms:W3CDTF">2004-10-06T11:24:38Z</dcterms:modified>
  <cp:revision>13</cp:revision>
  <dc:subject/>
  <dc:title>    </dc:title>
</cp:coreProperties>
</file>