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DBF39-B8DE-405A-9E05-C9AE9A73C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71ACA-A1D0-4B72-843A-7659879C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4F94E-68FC-4BC0-A123-6BBCA97EB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B38BD-3E9A-427F-A1A1-4058C7BFD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8E1F-0EAD-4F7B-9336-EA8AFA135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DC97-49B1-4B60-9EFD-F62E1B52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1C6A-0EC7-482F-B6CF-54B30B97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1150-54A0-45C6-B7A8-600B96FA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23E2B-7DDF-4481-9A2D-CE02709C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F4E7-B079-4F0A-92F4-6D90BB7F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5C30-D8C3-49CA-AA5A-6C1243DB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C1200-F247-48DD-B004-069FE4E0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E6BB-935A-4DB9-A3FE-546F6BD2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7347-A512-41DB-9E91-738805F4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43DD-2F79-46D5-984C-808C1FDB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7D3F-5D53-4657-8FA9-D35C56FDC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E178A-5D20-4CAB-A5DD-08E539264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726E4-D8A8-4E9E-823B-DF76DBEE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F1EF0-15E7-44EA-93E7-519096CB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E6218-D8DC-4916-AB03-03EE544F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8EFF9-4034-4F1A-A6A9-DE6E0D05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6DCEB-34E3-4841-A88E-97C3C405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1223E-44E6-48F3-83A4-3D08B58A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BCACD-7B9F-4672-A22C-BE61FCCD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3C98-04E1-4D16-8D0B-056C78C1A07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C15E-C7AF-4F0C-8629-A28EC05E5A5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: Short summary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ichael Luh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ctober 200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Purp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uild political will for achieving the MD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able people's actions in holding their governments accountable to the Millennium Pled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ampaign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pproa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orking with coalitions and partnerships in 3 area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rassroots advoca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edia and public awaren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olicy chan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Key partnership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North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Parliamentarian Network of WB's Implementation Watch, MDG organizations in USA, UK, Italy, Spain, Ireland, Austral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CSOs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Oxfam, Amnesty Int'l, Trade Justice Movement, Social Watch, Civicus, Global Campaign for Education, People's Health Movement, World AIDS Campaign, Save the Children, Global Movement for Children, Plan Internat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Faith-based Group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 Caritas, Cidse, Micah Challenge, Vatican Commission Justicia &amp; Pax, World Parliament for Relig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Media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:  BBC Trust, All Africa.com, EFE, IPS, One Worl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Events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: Barcelona Forum, Rome Marathon, Olympics, Rock in R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Key Events in 200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UN Heads of State meeting, Sep 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G8 meeting with development and MDGs focus, Jun 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Doha Round: Global Week of Action (Apr 05), Ministeri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meeting (Dec 0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Financing for achieving the MDGs: Lula/Chirac summit, Sep 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outh-South and North-South linkages linked to World Social Forum and other initiativ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ngagement with Stop TB Partner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High-level meetings with STB Global Ambassador Rahman in NYC, Apr 04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Campaign Director Salil Shetty to address IUATLD world conference in Paris, Oct 0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Rahman to participate in India national MDG campaign meeting, Nov 0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MDG Campaign regional partners and in selected countries  to mobilize for WTBD, Mar 0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09:05:18Z</dcterms:created>
  <dc:creator>luhanm</dc:creator>
  <dc:description/>
  <dc:language>en-US</dc:language>
  <cp:lastModifiedBy>luhanm</cp:lastModifiedBy>
  <dcterms:modified xsi:type="dcterms:W3CDTF">2004-10-11T16:14:43Z</dcterms:modified>
  <cp:revision>2</cp:revision>
  <dc:subject/>
  <dc:title>MDGs Campaign: Short summary</dc:title>
</cp:coreProperties>
</file>