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DC8-A848-4DD0-8153-6EE94273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802-6434-4534-9137-0A6615E3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B1C-FC9A-4090-98F3-F629C8BD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5129-0A0A-43E1-90F4-1348A481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7B1-D142-4787-860F-7B77A4A6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D0A2-BF6B-4419-B294-F5672077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31A8-DB68-4C69-AECF-2CA7CEA8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D31-E789-441F-AA16-E220F531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B24-4CD8-47A7-9A1D-C7CD072A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1271-8FBD-443E-8F0B-FA299B51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96F-C194-4CF9-AE01-36CB4E8E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CBC-A787-4C16-8F59-1A97F639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862A-4AEB-4DC2-96A4-D082294A4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7632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approved Financial Policy being applied which led to better control through  improved financial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transactions of GDF streaml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Working Groups given resources to catalyse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lk of the contributions from Bilateral Government sources-85.5% of the total income of US$13.8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total expenditure of US$10.8 million TB Control Drugs cost 78% while other partnership activities cost 23% of th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ed income for the whole year US$23.1 million, projected expenditure US$ 23.6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ed shortfall for 2005 25 million based on Targeted Work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ted effort to be made for mobilising more resources by targeting more donors in the current donor segments and by exploring new dono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 catalytic support to all Working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draft of the Global Plan to control TB to provide overall business plan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with GFATM to become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and Communication effort to be intensified considerable to increase political support and enhance public awarenes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8:56:30Z</dcterms:created>
  <dc:creator>vijaya</dc:creator>
  <dc:description/>
  <dc:language>en-US</dc:language>
  <cp:lastModifiedBy>vijaya</cp:lastModifiedBy>
  <dcterms:modified xsi:type="dcterms:W3CDTF">2004-10-04T09:49:34Z</dcterms:modified>
  <cp:revision>6</cp:revision>
  <dc:subject/>
  <dc:title>Highlights</dc:title>
</cp:coreProperties>
</file>