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3.gif" ContentType="image/gif"/>
  <Override PartName="/ppt/media/image16.png" ContentType="image/png"/>
  <Override PartName="/ppt/media/image9.png" ContentType="image/png"/>
  <Override PartName="/ppt/media/image17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2DEEF-CD54-4A27-BB86-9A2CB917815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ng HIV/AIDS and TB Efforts: The Challenge for the President's AIDS Initiative.  Results educational fund.  Network Public Health Programmes.  Open Society Instit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3C87-5629-4768-A40D-FC9AF1C40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87BC-3BEE-4689-995F-A736CDCA5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9348-EFBF-43C1-839B-1D6D7CA68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E110-EADC-4FEB-8B11-9378481A4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7102-19FA-4C60-80D6-25429A892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CE26-ACA1-4BCF-8A4E-19D15C720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F3F8-3A3D-416F-A135-C90247250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B639-DD0E-43C9-BE3D-B68DC1505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18960" y="53316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2549-E34B-47C0-BA3E-E5AEFE8A8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C182-51F8-4F7F-A375-8D8C9096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F818-6410-4059-9204-4B5B63CF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CC0B-C39A-4166-9B6D-DD3C151C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0992B-A715-4CA5-9075-E4A26889AA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66680" cy="6858000"/>
            <a:chOff x="0" y="0"/>
            <a:chExt cx="1066680" cy="68580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990720" cy="68580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0" y="0"/>
              <a:ext cx="1066680" cy="6858000"/>
              <a:chOff x="0" y="0"/>
              <a:chExt cx="1066680" cy="6858000"/>
            </a:xfrm>
          </p:grpSpPr>
          <p:graphicFrame>
            <p:nvGraphicFramePr>
              <p:cNvPr id="8" name=""/>
              <p:cNvGraphicFramePr/>
              <p:nvPr/>
            </p:nvGraphicFramePr>
            <p:xfrm>
              <a:off x="0" y="5791320"/>
              <a:ext cx="1066680" cy="106668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9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0" y="5791320"/>
                        <a:ext cx="1066680" cy="1066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1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990720" cy="5715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248520" y="0"/>
            <a:ext cx="289548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6248520" y="0"/>
            <a:ext cx="28954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0"/>
            <a:ext cx="14479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0" y="5497560"/>
          <a:ext cx="1447920" cy="136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497560"/>
                    <a:ext cx="1447920" cy="13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152280" y="609480"/>
            <a:ext cx="59436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en-GB" sz="28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STOP TB  Coordinating Board Meeting, Beijing, October 14-15,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B/HIV Working Group Strate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79640" y="4869000"/>
            <a:ext cx="374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Gijs Elzing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Paul Nun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6400800" y="58672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705720" y="5867280"/>
            <a:ext cx="259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Haettenschweiler"/>
              </a:rPr>
              <a:t>GLOBAL PARTNERSHIP TO STOP 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Partnership - Collabora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537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ccessful TB/HIV Working Group Meetin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reasing involvement HIV activ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ner-partner collaboration exp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ansion of regional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ategy setting cor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V/TB Task Force in WHO HIV Dept/S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443640" y="1628640"/>
            <a:ext cx="2484360" cy="3240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851280" y="5516640"/>
            <a:ext cx="3240000" cy="1003320"/>
          </a:xfrm>
          <a:prstGeom prst="ellipse">
            <a:avLst/>
          </a:pr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IV-A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5805360"/>
            <a:ext cx="1871640" cy="0"/>
          </a:xfrm>
          <a:prstGeom prst="line">
            <a:avLst/>
          </a:prstGeom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16000" y="5516640"/>
            <a:ext cx="3600360" cy="1003320"/>
          </a:xfrm>
          <a:prstGeom prst="ellipse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20454600">
            <a:off x="2482200" y="5541480"/>
            <a:ext cx="3394800" cy="332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49" y="411"/>
                </a:moveTo>
                <a:arcTo wR="10800" hR="10800" stAng="-6351581" swAng="4071902"/>
                <a:lnTo>
                  <a:pt x="10800" y="10800"/>
                </a:lnTo>
                <a:close/>
              </a:path>
              <a:path fill="none" w="21600" h="21600">
                <a:moveTo>
                  <a:pt x="7849" y="411"/>
                </a:moveTo>
                <a:arcTo wR="10800" hR="10800" stAng="-6351581" swAng="4071902"/>
              </a:path>
            </a:pathLst>
          </a:custGeom>
          <a:noFill/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93080" y="5373720"/>
            <a:ext cx="273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Heavy traffic across TB/HIV bri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Strategy for moving forwar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6000" y="1052640"/>
            <a:ext cx="77724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vocacy – to increase visibility of TB and TB/HIV, with ACWG and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Media push in Britain (G8 host, EU President, Africa Commission, commitment to increase ODA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Media push in Africa (AU, NEPAD, formation and support of national advocates at country level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Meeting being planned with Peter Piot, UNAIDS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Need inclusion in G8 planning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llaboration – promoting engagement of HIV community in TB/HIV and to create better strategies and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UNAIDS, PEPFAR, Global Fund, World Bank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WHO/HIV Dept., Research community, PATH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CDC – GAP and DTBE (HIV surveillance meeting Oct 2004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New Diagnostics – FIND; New Drugs – GATB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Development of community based care delivery strategy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Need corporate sector plan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Strategy for moving forwar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untry Support – to deliver patient-centred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Resource mobilisation assistance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Health workforce strengthening a must 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Expanded delivery joint TB/HIV-AIDS services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Co-ordination of technical assistance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Address shortcomings in implementation of DOTS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Address HIV MDR-TB interaction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Conclusions at Brasilia - 2003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42560" y="1700280"/>
            <a:ext cx="784548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ing DOTS necessary, but not sufficient, to meet the TB targets in HIV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out better HIV/AIDS control, meeting the TB targets will not cause TB to 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will fall only through patient centered, country-wide TB &amp; HIV collaborative service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ay not only bring the TB targets in SSA within reach, but also support provision of ARVs t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llion HIV-AIDS patient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00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BCB is uniquely poised to mobilize the forces and resources to trigger 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the WG has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WG's strategy for moving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What has the WG achieved since Brasilia? – Analysis &amp; Policy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 rot="20563200">
            <a:off x="1403280" y="1341000"/>
            <a:ext cx="1676520" cy="2230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 rot="20595000">
            <a:off x="5363640" y="1341360"/>
            <a:ext cx="1555920" cy="2087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 rot="20558400">
            <a:off x="3419280" y="1341000"/>
            <a:ext cx="1601640" cy="2097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 rot="1740000">
            <a:off x="3962160" y="4495680"/>
            <a:ext cx="1122120" cy="1557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 rot="9785400">
            <a:off x="7235280" y="1267920"/>
            <a:ext cx="1538280" cy="21178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038960" y="3645000"/>
            <a:ext cx="80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Interim policy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M&amp;E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Surveillance         A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9880" y="6237360"/>
            <a:ext cx="80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ffff"/>
                </a:solidFill>
                <a:latin typeface="Tahoma"/>
                <a:ea typeface="Tahoma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ProTEST lessons  TBHIV Clinical         HIV testing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 rot="1967400">
            <a:off x="1547280" y="4365720"/>
            <a:ext cx="1276560" cy="1666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6443640" y="4508640"/>
            <a:ext cx="246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What has the WG achieved since Brasilia? – Analysis &amp; Policy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 rot="20563200">
            <a:off x="1403280" y="1341000"/>
            <a:ext cx="1676520" cy="2230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 rot="20595000">
            <a:off x="5363640" y="1341360"/>
            <a:ext cx="1555920" cy="20876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 rot="20558400">
            <a:off x="3419280" y="1341000"/>
            <a:ext cx="1601640" cy="2097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 rot="1740000">
            <a:off x="3962160" y="4495680"/>
            <a:ext cx="1122120" cy="1557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 rot="9785400">
            <a:off x="7235280" y="1267920"/>
            <a:ext cx="1538280" cy="21178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038960" y="3645000"/>
            <a:ext cx="80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Interim policy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M&amp;E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Surveillance         A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39880" y="6237360"/>
            <a:ext cx="80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ffff"/>
                </a:solidFill>
                <a:latin typeface="Tahoma"/>
                <a:ea typeface="Tahoma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ProTEST lessons  TBHIV Clinical         HIV testing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 rot="1967400">
            <a:off x="1547280" y="4365720"/>
            <a:ext cx="1276560" cy="1666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6443640" y="4508640"/>
            <a:ext cx="2465280" cy="1295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 rot="19678800">
            <a:off x="1546920" y="2257920"/>
            <a:ext cx="7062840" cy="2287440"/>
          </a:xfrm>
          <a:prstGeom prst="rect">
            <a:avLst/>
          </a:prstGeom>
          <a:solidFill>
            <a:srgbClr val="00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cc"/>
                </a:solidFill>
                <a:latin typeface="STHupo"/>
                <a:ea typeface="STHupo"/>
              </a:rPr>
              <a:t>Minimum Essential Set of Policy Guidance Is Now Availab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What has the WG achieved since Brasilia? – Country progress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28 countries pledged GFATM support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13 countries receiving (3 in 2003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The Presidential AIDS Initiative and WB MAPs include TB/HIV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Completed for 34 high HIV burden countries - $300 million annually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051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nitoring and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2002-3 baseline established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Annual system now in place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Global to national level training under way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Country progress – Sept 2004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ding commitment is no longer the bottleneck – dispersal mechanism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B/HIV activities in most reg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3/33 countries surveyed have coordination mechanism, 50% doing joint planning, but implementation still low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rge human resource g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ording and reporting gap at peripher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187280" y="333360"/>
            <a:ext cx="5688360" cy="654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987640" y="1341360"/>
            <a:ext cx="3311640" cy="2521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187280" y="1341360"/>
            <a:ext cx="18003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ique Olv (W1)"/>
                <a:ea typeface="Arial"/>
              </a:rPr>
              <a:t>Mandela urges action to fight TB</a:t>
            </a:r>
            <a:br>
              <a:rPr sz="2400"/>
            </a:br>
            <a:r>
              <a:rPr b="0" i="1" lang="en-US" sz="1400" spc="-1" strike="noStrike">
                <a:solidFill>
                  <a:srgbClr val="000000"/>
                </a:solidFill>
                <a:latin typeface="Antique Olv (W1)"/>
                <a:ea typeface="Arial"/>
              </a:rPr>
              <a:t>By Chris Hogg 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BC Bangko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3635280" y="4797360"/>
            <a:ext cx="3170160" cy="704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492360" y="5589720"/>
            <a:ext cx="605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dela sounds alarm on TB "death sentence" in AIDS war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Darren Schuett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16000" y="4043520"/>
            <a:ext cx="2268720" cy="30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NGKOK (Reuters) –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global war on AIDS could be lost if the world ignores tuberculosis, often a "death sentence" for people infected with HIV, former South African president Nelson Mandela said on Thursda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6516720" y="1484280"/>
            <a:ext cx="2448000" cy="701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300720" y="2421000"/>
            <a:ext cx="259236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NGKOK: by Lawrence K. Altman –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elson Mandela came to the 15th International AIDS Conference here Thursday to lend his prestige to the battles against tuberculosis and AIDS, two deadly diseases that are intricately link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Advocacy – as at October 2004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42920" y="1553760"/>
            <a:ext cx="7772400" cy="53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shift in environment in past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asing recognition in HIV community of TB as part of the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volvement of HIV advocacy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dia material develo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frican Union in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asing interest in TB Community and DE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9T07:21:14Z</dcterms:created>
  <dc:creator>Nunn</dc:creator>
  <dc:description/>
  <dc:language>en-US</dc:language>
  <cp:lastModifiedBy>Paul Nunn</cp:lastModifiedBy>
  <dcterms:modified xsi:type="dcterms:W3CDTF">2004-10-15T04:48:54Z</dcterms:modified>
  <cp:revision>46</cp:revision>
  <dc:subject/>
  <dc:title>No Slide Title</dc:title>
</cp:coreProperties>
</file>