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5240-7830-43BF-B368-C116B364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491-6D6B-470D-BE2E-627C8D79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984-2844-41CF-B962-1AB69424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337-E010-49C9-9FAC-A1C69D12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FF0-405E-448D-AEDD-0E7DFC72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8DA-5FAD-4323-B87B-B42DFA53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066-ABA3-40FC-A590-7F5F1615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462-1962-4383-8C60-CBA987C8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26AE-F34E-4572-BDF4-F6EC89C2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D8B-AEE9-4FB4-A17E-270D46B2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CCE-D00D-4469-B63E-A06DBD4F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F081-2BF5-40BE-B3B1-BDB09AE4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8B9B-CA44-42E9-9F0C-F994D5B2B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Meeting of chairpersons of Working Groups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aturday 16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3516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view of progress in developing the Global Plan 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ntribution of Working Groups to the Global Plan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ime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120" y="162864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ime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8120" y="765000"/>
            <a:ext cx="84549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– March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scenarios and inter-active planning process with Working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ach WG should identify a focal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 – May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by each Working Group of workplan, 2006-2015, guided by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- Jun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nalisation of Global Plan, 2006-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take-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29:12Z</dcterms:modified>
  <cp:revision>93</cp:revision>
  <dc:subject/>
  <dc:title>Africa: HIV is driving the TB epidemic TB notification rates, 1980-1998</dc:title>
</cp:coreProperties>
</file>