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D4A4B-05BF-4080-9BC6-ECBFB943B0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698C7-4143-4AAE-AE55-51E0FC5354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03CFC-9F10-41C6-8E21-D51D864961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62660-855A-433F-971B-AEB40FB57E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185A0-C3B8-46DD-8E75-12E3109DE4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00F13-4DE3-46E8-A665-004842BD56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488AA-0BF2-46BC-A074-59B99CB0F9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5912E-D9FD-45A2-B360-08D1AFE8B4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A0561-E2A5-42B6-A332-C01F13C8FA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39E53-7810-473A-8AB9-FC50ABEE3E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0ADCF-C212-40DF-A0DD-DEA46F2FBC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91E24-6D6C-4370-97D4-14BF5DE25F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124000" y="6237000"/>
            <a:ext cx="568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, 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59280" y="6308280"/>
            <a:ext cx="5223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igh Level Missions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506480"/>
            <a:ext cx="74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A tool of the STB Coordinating Board  for political advoc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roposed procedures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ecretariat prepares, based on the request, the draft Terms of Refere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LM members finalise and the Chair of CB approves the Terms of Refere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ecretariat prepares with the host the detailed program, press events and provides logistical liais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ost is responsible for actual program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LM rapporteur prepares joint report after the visit to full CB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LM members report back to their respective constituenc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Discuss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Expanded Purpose of HLM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ot only just TB burde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Includes international and global governance attendan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easible number of HLMs per yea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election of HLM members based on constituen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Preparation by secretariat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Reporting and feed back to constituen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Who will pay for the expenses?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urposes of High Level Miss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General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represent the Global Stop TB Partnership (incl. its component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enhance the profile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advocate effective TB control using international standards and strateg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highlight Stop TB achievement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Specific</a:t>
            </a: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generate additional support for TB control and DOTS among key decision mak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obtain political commit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High Level Missions to go where….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TB burden countri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regional and international meetings with relevant agenda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regional, international or global political governance entiti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new governmental donor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(global) summi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Why High Level Missions in the international and global arena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demonstrate the global solidarity of Stop TB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increase awareness about TB contro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put TB on the relevant political agenda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generate political and macro-economic interests, resulting in additional fun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713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me NTPs meet specific constraints beyond their influence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hy High Level Missions to countries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3141720"/>
            <a:ext cx="3816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5330880"/>
            <a:ext cx="3745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2175120"/>
            <a:ext cx="28796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 priority for T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 TB allocation in bud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ing with other programs and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80000" y="2176200"/>
            <a:ext cx="4824360" cy="26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ack of political awar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ack of political commi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Health policy indif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ack of social awar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e underlying proces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36734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When meeting and discussing with the key politicians and decision makers, the crucial issues of TB control are presented from an </a:t>
            </a: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international and global perspective.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he issues are likely to be taken more seriously and with a different dimension than if it comes from a lower level voice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5584320"/>
            <a:ext cx="8642160" cy="581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Using high level political peer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hat happened up till now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High Level Missions to countries </a:t>
            </a:r>
            <a:r>
              <a:rPr b="1" i="1" lang="en-GB" sz="3200" spc="-1" strike="noStrike">
                <a:solidFill>
                  <a:srgbClr val="720000"/>
                </a:solidFill>
                <a:latin typeface="Tahoma"/>
              </a:rPr>
              <a:t>only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like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Indonesia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Bangladesh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Nigeria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Participation on basis of individual interest and availability of CB member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o prior Terms of Reference or brief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o reporting back to the Coordinating Boar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Proposal: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aking High Level Missions effectiv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Decis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B decides on HLMs based on substantiated requests from countries or partners and selects </a:t>
            </a:r>
            <a:r>
              <a:rPr b="1" i="1" lang="en-GB" sz="2000" spc="-1" strike="noStrike">
                <a:solidFill>
                  <a:srgbClr val="720000"/>
                </a:solidFill>
                <a:latin typeface="Tahoma"/>
              </a:rPr>
              <a:t>constituencies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to participat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repar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repare TOR and determine expected outcome and results; detailed programm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tailed briefing document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Actual visi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Being open, sensitive, constructive and diplomatic; demonstrate joint purpose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portin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Joint report with conclusions and recommendations to the full Coordinating Boar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roposed procedures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CB invites HLM members based on their respective </a:t>
            </a:r>
            <a:r>
              <a:rPr b="1" i="1" lang="en-GB" sz="3200" spc="-1" strike="noStrike">
                <a:solidFill>
                  <a:srgbClr val="720000"/>
                </a:solidFill>
                <a:latin typeface="Tahoma"/>
              </a:rPr>
              <a:t>constituency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and allows for a representative to participat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ecretariat participates in the HLM with one high level staff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HLM members agree on a spokesperson and a rapporteur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diazv</cp:lastModifiedBy>
  <cp:lastPrinted>2004-03-17T17:37:17Z</cp:lastPrinted>
  <dcterms:modified xsi:type="dcterms:W3CDTF">2004-10-07T17:02:39Z</dcterms:modified>
  <cp:revision>176</cp:revision>
  <dc:subject/>
  <dc:title>Secretariat, 2003 Progress Report</dc:title>
</cp:coreProperties>
</file>