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9A00-612F-4D19-B88A-6602AFC4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3EE9-C29E-4336-B1E5-8957C541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853E-60AE-4EFA-9139-89A3125E4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474C-937B-444C-AB53-F65D58B09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4E21-78E0-4597-B371-CEBCB048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C107-2CA4-405F-8587-2462B34A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98B0-4B94-4C8D-8B98-CAFA06B4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D68F-787E-4D6D-B9BF-E0632765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8B6B-6A03-4A80-9DB2-8BDA4DE2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5084-B263-4818-BF59-3169D695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8D0B-44E3-4882-B441-E110BD48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C1E8-B573-4856-9DC7-2F070A98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AE0D-BC97-414F-9928-E5EA31FB6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6:17:39Z</dcterms:modified>
  <cp:revision>92</cp:revision>
  <dc:subject/>
  <dc:title>Africa: HIV is driving the TB epidemic TB notification rates, 1980-1998</dc:title>
</cp:coreProperties>
</file>