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C65A1-ACC8-4A39-BAD3-70E8F07EC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5F28C-902E-41A5-AAB3-33454906B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65671-01A7-492C-ACD8-746A39A5E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B5E3F-14A8-47C5-8C1D-7C0BB729D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B0C5D-62AB-438F-99F9-24A7225BC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E4281-AEF2-440E-9190-20F387E3E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99EAA-1667-40E1-8541-F8D1E3045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D7F01-EBAE-41F1-881B-AAF9F8BFE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70BE6-3ADF-40E5-8E34-DCC736BC6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2806D-22AB-4CF5-A3C2-AABF50E9A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EE160-6293-4A78-B069-84BF6AD3A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73778-CF11-4BFC-9398-FBA2B87FE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C6A11-BC77-4D29-B6A5-2B29B9B64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623E5-960C-4836-B187-FF830DC4C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BCAC4-89DC-4D59-8D07-02A6285FE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3D97B-71CE-4FBC-8403-A638C3FA6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7E00A-934F-4BD0-93DE-5879C479A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31A2A-B984-4E50-AC09-EF91A41D7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E33EA-FECA-41B8-B55E-C882F36A8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3356B-8FCB-4156-914A-F3DDD3F6E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6A608-02A2-41D6-BD61-B7EB0DF18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E8910-D2F5-4BE1-9B0D-35F0F5A2A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9D983-225B-4E9B-8BDB-C4D1F75E8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AB5E4-F8CB-4125-A382-F509938F5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ahoma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ahoma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BB545-C824-4112-805F-D094DDA52267}" type="slidenum">
              <a:rPr b="0" lang="zh-CN" sz="1200" spc="-1" strike="noStrike">
                <a:solidFill>
                  <a:srgbClr val="ffffff"/>
                </a:solidFill>
                <a:latin typeface="Tahoma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ahoma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ahoma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4E842-E3B5-49FA-B58C-72E1DAD32F9D}" type="slidenum">
              <a:rPr b="0" lang="zh-CN" sz="1200" spc="-1" strike="noStrike">
                <a:solidFill>
                  <a:srgbClr val="ffffff"/>
                </a:solidFill>
                <a:latin typeface="Tahoma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72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394920" y="2060640"/>
            <a:ext cx="849636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  <a:ea typeface="宋体"/>
              </a:rPr>
              <a:t>Advocacy and Communications Working Group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  <a:ea typeface="宋体"/>
              </a:rPr>
              <a:t>Plenary Discussion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  <a:ea typeface="宋体"/>
              </a:rPr>
              <a:t>Joanne Carter, Chair A.I.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  <a:ea typeface="宋体"/>
              </a:rPr>
              <a:t>15 October 2004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6732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vocacy and Communications Working Group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9280" y="1628280"/>
            <a:ext cx="8964720" cy="475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  <a:ea typeface="宋体"/>
              </a:rPr>
              <a:t>Progress since last CB meeting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Basic Framework draft (main objectives, functions, structure, main work streams)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Proposed roster of initial members (65</a:t>
            </a:r>
            <a:r>
              <a:rPr b="0" lang="en-GB" sz="2400" spc="-1" strike="noStrike" u="sng">
                <a:solidFill>
                  <a:srgbClr val="720000"/>
                </a:solidFill>
                <a:uFillTx/>
                <a:latin typeface="Tahoma"/>
                <a:ea typeface="宋体"/>
              </a:rPr>
              <a:t>+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)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8c00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Development of new alliances – HIV/AIDS, MDGs Campaig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8c00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First formal meeting of ACWG set for Dec 04/Jan 05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8c00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Informal pre-meeting at IUATLD conference to discuss agenda and expected outcom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720000"/>
                </a:solidFill>
                <a:latin typeface="Tahoma"/>
                <a:ea typeface="宋体"/>
              </a:rPr>
              <a:t>  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-360" y="115560"/>
            <a:ext cx="727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vocacy and Communications Working Group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58560" y="1484280"/>
            <a:ext cx="87850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  <a:ea typeface="宋体"/>
              </a:rPr>
              <a:t>Proposed structural feature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  <a:ea typeface="宋体"/>
              </a:rPr>
              <a:t>1. Chair with permanent seat on CB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  <a:ea typeface="宋体"/>
              </a:rPr>
              <a:t>2. Two initial sub-group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44600" indent="-444600">
              <a:lnSpc>
                <a:spcPct val="90000"/>
              </a:lnSpc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  <a:ea typeface="宋体"/>
              </a:rPr>
              <a:t>Global advocacy for resource mobilization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444600" indent="-444600">
              <a:lnSpc>
                <a:spcPct val="90000"/>
              </a:lnSpc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  <a:ea typeface="宋体"/>
              </a:rPr>
              <a:t>Country level advocacy, communication and social mobilization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  <a:ea typeface="宋体"/>
              </a:rPr>
              <a:t>3. Focal points for all 6 technical WG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44600" indent="-444600">
              <a:lnSpc>
                <a:spcPct val="90000"/>
              </a:lnSpc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  <a:ea typeface="宋体"/>
              </a:rPr>
              <a:t>Critical to ensure close coordination in cross-cutting role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  <a:ea typeface="宋体"/>
              </a:rPr>
              <a:t>4. Stronger representation for patients  and countri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720000"/>
                </a:solidFill>
                <a:latin typeface="Tahoma"/>
                <a:ea typeface="宋体"/>
              </a:rPr>
              <a:t>Basic Framework to be approved and Chair/vice-chairs elected in first formal meeting of WG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608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vocacy and Communications Working Group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179280" y="1413000"/>
            <a:ext cx="8526600" cy="76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  <a:ea typeface="宋体"/>
              </a:rPr>
              <a:t>Key immediate prior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Resource mobiliz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Generate more robust numbers on funding ga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Close collaboration with Resource Mobilization Task For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Target key national, multilateral and private sector dono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2. 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Develop short-and long-term advocacy strategy around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2005 targets and MDG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Global Plan I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World TB Da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3. 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Rapid scale up of support to countries for ACS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TA for GFATM proposals/ISAC – Nov 04 worksho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Guidance, tools, training for emerging national partnership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Mobilization of new advocacy partners at regional and country leve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119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vocacy and Communications Working Group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68360" y="1844640"/>
            <a:ext cx="8381880" cy="39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  <a:ea typeface="宋体"/>
              </a:rPr>
              <a:t>Request for C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2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Feedback on formation process, structure, key priorit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2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2.  Technical WG chairs need to assign focal points to ACW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3T15:56:53Z</dcterms:created>
  <dc:creator>Robert Hernandez</dc:creator>
  <dc:description/>
  <dc:language>en-US</dc:language>
  <cp:lastModifiedBy>luhanm</cp:lastModifiedBy>
  <dcterms:modified xsi:type="dcterms:W3CDTF">2004-10-19T10:57:18Z</dcterms:modified>
  <cp:revision>21</cp:revision>
  <dc:subject/>
  <dc:title>Financial situation,  Budget &amp; plans 2005</dc:title>
</cp:coreProperties>
</file>