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1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487D-8344-477B-9BB3-B2AAE9ACC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96AB-D987-4479-A183-4E28FDF9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87D5-9855-482D-93BA-5E23D8964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1D72-8632-4804-974C-A0AA13202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495E-726E-46D5-9D4C-8C97E12C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9221-BCF6-4972-9921-8856044D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F634-D1C1-434D-A215-76468422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70B4-7AEB-40A9-9A86-D7BBEBFE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0364-2092-430C-AA97-CAB023D8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3E1C-2562-45B5-800D-6E9401B7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F547-E3F8-4DC1-9955-28E03470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1D6F-8E7C-4F4D-9A14-B3AEF1BC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8D44-3B39-46BE-87A8-0C0E8ABBD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4 – 15 October, 2004, Bei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 Kitty Lambregts-van Weezenb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O HQ/STOP TB/T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924680" y="228600"/>
          <a:ext cx="990720" cy="99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228600"/>
                    <a:ext cx="9907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8908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380880"/>
          <a:ext cx="76212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80880"/>
                    <a:ext cx="762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755640" y="191628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Stop TB Coordinating Board Mee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SLD reality in a letter from Paki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…….One national pharmaceutical Company; of Lahore has started manufacturing on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ine Anti-TB drug only but its perhaps commercially not that profitable hence they have adopted unethical practices &amp; introduced this drug to general practitioners, especially in the rural areas &amp; other speciality consultants promoting it as a new Anti-TB drug thus by producing more Drug resistant cases.  I am afraid this drug will also be lost soon for TB patients.  Its criminal…..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 Abdullah Jan Pathan, Chest Physician, Hyderab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184320"/>
            <a:ext cx="914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O-GLC DOTS-Plus projects by October 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95320" y="216216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043000" y="4481640"/>
            <a:ext cx="284400" cy="37764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751040" y="420048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760400" y="415620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936800" y="385452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228760" y="388296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225520" y="385452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2238480" y="385452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050920" y="1635120"/>
            <a:ext cx="114480" cy="1000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301760" y="182556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695600" y="140796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784520" y="144288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881360" y="135720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021040" y="135720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014560" y="148104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512720" y="367668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32120" y="161604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355840" y="2711520"/>
            <a:ext cx="14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119320" y="1714680"/>
            <a:ext cx="419040" cy="55548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023920" y="203976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050920" y="216684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336680" y="1998720"/>
            <a:ext cx="92160" cy="8424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463760" y="245592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519200" y="1504800"/>
            <a:ext cx="152280" cy="1303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639800" y="1562040"/>
            <a:ext cx="227160" cy="23184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203560" y="154944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317680" y="140004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349360" y="199872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574640" y="373680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579680" y="366552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704960" y="352728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733400" y="357516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94040" y="364500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841400" y="3676680"/>
            <a:ext cx="46080" cy="2232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927080" y="363852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44640" y="347652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949400" y="358452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961640" y="353700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201760" y="373680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095560" y="3673440"/>
            <a:ext cx="25200" cy="2556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184480" y="3686040"/>
            <a:ext cx="6120" cy="1296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170080" y="370188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136600" y="3689280"/>
            <a:ext cx="17640" cy="972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185920" y="3713040"/>
            <a:ext cx="158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2114280" y="357192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144880" y="357840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2180880" y="359100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2225160" y="3722760"/>
            <a:ext cx="558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228760" y="382104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232000" y="379404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16160" y="3776760"/>
            <a:ext cx="936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209680" y="375912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234880" y="380376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2246400" y="3760920"/>
            <a:ext cx="41040" cy="37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2216160" y="3686040"/>
            <a:ext cx="55440" cy="74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2203200" y="3648240"/>
            <a:ext cx="507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2197080" y="362268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394000" y="405612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228760" y="3962520"/>
            <a:ext cx="114480" cy="21276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303640" y="403380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479680" y="4189320"/>
            <a:ext cx="28440" cy="208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54520" y="2523960"/>
            <a:ext cx="38160" cy="1620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21120" y="2576520"/>
            <a:ext cx="9360" cy="3348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892680" y="258912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658960" y="132876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220920" y="2187720"/>
            <a:ext cx="200160" cy="14436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108320" y="249552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394000" y="1346040"/>
            <a:ext cx="404640" cy="2890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813120" y="1598760"/>
            <a:ext cx="144360" cy="17748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929040" y="1555920"/>
            <a:ext cx="131760" cy="648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998880" y="1652760"/>
            <a:ext cx="25560" cy="21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255840" y="376704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397320" y="398628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470400" y="3916440"/>
            <a:ext cx="13176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352680" y="3946680"/>
            <a:ext cx="73080" cy="9036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311640" y="387180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271680" y="3871800"/>
            <a:ext cx="74880" cy="4788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268800" y="383220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278160" y="3470400"/>
            <a:ext cx="270000" cy="35388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382920" y="3535200"/>
            <a:ext cx="39384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543480" y="380988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143160" y="381168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867120" y="300996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720960" y="309708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70400" y="3040200"/>
            <a:ext cx="58680" cy="13788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562200" y="2489040"/>
            <a:ext cx="157320" cy="29556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535200" y="2481120"/>
            <a:ext cx="14400" cy="3204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475080" y="3198960"/>
            <a:ext cx="495360" cy="50796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278160" y="346392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43360" y="3195720"/>
            <a:ext cx="96840" cy="18900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81520" y="330660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68560" y="4159080"/>
            <a:ext cx="130320" cy="14940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890880" y="4159080"/>
            <a:ext cx="42840" cy="270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695760" y="388944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673440" y="3919680"/>
            <a:ext cx="38160" cy="12528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592440" y="391968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679920" y="3594240"/>
            <a:ext cx="334800" cy="30132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976560" y="3586320"/>
            <a:ext cx="247680" cy="43308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841920" y="4186080"/>
            <a:ext cx="792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956040" y="3181320"/>
            <a:ext cx="3348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968640" y="313524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862440" y="306396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989520" y="2887560"/>
            <a:ext cx="102960" cy="921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60720" y="2992320"/>
            <a:ext cx="1800" cy="50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141800" y="2557440"/>
            <a:ext cx="196920" cy="19836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149720" y="268128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108320" y="253512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019400" y="291780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165560" y="2955960"/>
            <a:ext cx="120600" cy="8424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084560" y="2898720"/>
            <a:ext cx="84240" cy="17136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129200" y="2994120"/>
            <a:ext cx="52200" cy="7596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998880" y="3919680"/>
            <a:ext cx="293760" cy="24444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357800" y="4108320"/>
            <a:ext cx="1188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346640" y="424008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062680" y="250992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865680" y="3868560"/>
            <a:ext cx="176040" cy="29880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170240" y="3594240"/>
            <a:ext cx="395280" cy="56484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346640" y="427680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170240" y="442440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943440" y="436896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425840" y="4457880"/>
            <a:ext cx="71640" cy="23328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946680" y="407520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943440" y="4334040"/>
            <a:ext cx="25200" cy="2844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667400" y="4543560"/>
            <a:ext cx="169560" cy="37620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273560" y="499752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367160" y="4500720"/>
            <a:ext cx="231840" cy="45072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235400" y="462276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862520" y="47307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16320" y="3341520"/>
            <a:ext cx="281160" cy="2876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440240" y="327672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464000" y="323676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471920" y="314784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259160" y="300996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249800" y="3009960"/>
            <a:ext cx="61920" cy="5724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460760" y="327672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206960" y="3219480"/>
            <a:ext cx="61920" cy="172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653000" y="298296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246560" y="279720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530600" y="292104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621320" y="300024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660920" y="306216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4476600" y="332712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692600" y="3390840"/>
            <a:ext cx="82440" cy="2880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968640" y="2887560"/>
            <a:ext cx="58680" cy="5580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43360" y="255276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057560" y="2025720"/>
            <a:ext cx="219240" cy="40968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587760" y="275256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473280" y="2971800"/>
            <a:ext cx="279720" cy="22716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740040" y="272556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754440" y="266544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519360" y="260676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70400" y="260676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797280" y="277956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22840" y="287496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813120" y="284796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973680" y="255744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879720" y="2793960"/>
            <a:ext cx="165240" cy="986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008600" y="277020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027320" y="282420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108320" y="253512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797280" y="2624040"/>
            <a:ext cx="192240" cy="23364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940200" y="2733840"/>
            <a:ext cx="101520" cy="9036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125960" y="2830680"/>
            <a:ext cx="187200" cy="14436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108320" y="3019320"/>
            <a:ext cx="41400" cy="8280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137120" y="302256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395960" y="321624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465800" y="327348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438800" y="335916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440240" y="337500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444920" y="3384720"/>
            <a:ext cx="64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452840" y="340524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4465800" y="339048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4468680" y="337176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4471920" y="3351240"/>
            <a:ext cx="18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357800" y="423720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699080" y="44863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875120" y="43084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911840" y="373392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621320" y="388944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440240" y="384984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641840" y="388620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518000" y="373068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670280" y="3691080"/>
            <a:ext cx="250920" cy="16668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718160" y="373392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751280" y="3745080"/>
            <a:ext cx="176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4776840" y="373680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4803840" y="372276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4834080" y="370512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898880" y="370188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906800" y="371952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694400" y="3726000"/>
            <a:ext cx="15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460760" y="3303720"/>
            <a:ext cx="498600" cy="45540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540320" y="314784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844880" y="347976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4667400" y="374760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4673520" y="374292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4673520" y="372744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4476600" y="330804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4476600" y="3293640"/>
            <a:ext cx="180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478400" y="3276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4471920" y="327312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4465800" y="327312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4970520" y="35175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875120" y="3476520"/>
            <a:ext cx="10476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649760" y="3076560"/>
            <a:ext cx="46368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898880" y="350352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960800" y="3459240"/>
            <a:ext cx="12960" cy="172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4870440" y="3688920"/>
            <a:ext cx="2376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4902120" y="366192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4921200" y="3641760"/>
            <a:ext cx="1584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4943520" y="362268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951440" y="360000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 flipV="1">
            <a:off x="4940280" y="3584160"/>
            <a:ext cx="6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4911840" y="3574800"/>
            <a:ext cx="158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4889520" y="3571920"/>
            <a:ext cx="936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4871520" y="3560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846680" y="3535200"/>
            <a:ext cx="6480" cy="8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859280" y="354960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4951440" y="356076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4959360" y="353988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140440" y="2979720"/>
            <a:ext cx="187200" cy="13176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083200" y="308124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816440" y="2946240"/>
            <a:ext cx="29700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894200" y="2863800"/>
            <a:ext cx="308160" cy="23832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140440" y="285264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4979880" y="351000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829040" y="344952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032440" y="306396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211640" y="143676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602240" y="161604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564240" y="222732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568760" y="183996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713120" y="239724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699080" y="1930320"/>
            <a:ext cx="39600" cy="4788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262480" y="132876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140440" y="129528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808680" y="140328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979960" y="137304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056280" y="137628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991200" y="204948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186680" y="212724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224320" y="2732040"/>
            <a:ext cx="1270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818320" y="2346480"/>
            <a:ext cx="42840" cy="13788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407200" y="3209760"/>
            <a:ext cx="612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391000" y="313056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516640" y="2513160"/>
            <a:ext cx="689040" cy="35856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5321160" y="308772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5305320" y="3121200"/>
            <a:ext cx="648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305320" y="314784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321160" y="31687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340240" y="3203640"/>
            <a:ext cx="111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5354640" y="320652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5369040" y="318564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H="1" flipV="1">
            <a:off x="5368680" y="316188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5357880" y="313848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 flipV="1">
            <a:off x="5347800" y="3123720"/>
            <a:ext cx="32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 flipV="1">
            <a:off x="5335200" y="310788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342040" y="3102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64000" y="3114720"/>
            <a:ext cx="972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416560" y="314784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432400" y="3156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5378400" y="323532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5386320" y="32065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925960" y="3581280"/>
            <a:ext cx="212760" cy="44604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504040" y="331164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700600" y="335916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688000" y="3413160"/>
            <a:ext cx="123840" cy="16524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799240" y="333360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986440" y="3516480"/>
            <a:ext cx="185760" cy="24732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027840" y="3505320"/>
            <a:ext cx="19980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066000" y="375912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257880" y="4003560"/>
            <a:ext cx="211320" cy="1825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006960" y="400356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537160" y="3929040"/>
            <a:ext cx="46080" cy="10476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03960" y="40672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292720" y="234936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180120" y="358128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419800" y="322272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5430960" y="3222720"/>
            <a:ext cx="1260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5446800" y="3209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5443560" y="318600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H="1" flipV="1">
            <a:off x="5443200" y="3168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H="1" flipV="1">
            <a:off x="5724360" y="3357720"/>
            <a:ext cx="446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5797440" y="332748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H="1" flipV="1">
            <a:off x="5795640" y="3284640"/>
            <a:ext cx="270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5843520" y="332532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861160" y="332568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434280" y="339084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335640" y="3462480"/>
            <a:ext cx="334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305400" y="347040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094440" y="4124160"/>
            <a:ext cx="31680" cy="399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361200" y="404496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394320" y="444024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475320" y="4500720"/>
            <a:ext cx="52560" cy="3168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221520" y="4087800"/>
            <a:ext cx="241200" cy="28116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929200" y="4033800"/>
            <a:ext cx="23832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772320" y="422604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481800" y="4159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167520" y="438624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580080" y="448452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165720" y="425448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481800" y="360036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543720" y="389268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437160" y="385452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553080" y="386064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597720" y="379872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540480" y="383220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586560" y="3857760"/>
            <a:ext cx="11160" cy="205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512040" y="377820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834240" y="3498840"/>
            <a:ext cx="30240" cy="381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762600" y="3943440"/>
            <a:ext cx="34920" cy="4284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618240" y="431172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81960" y="429408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657840" y="412596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496200" y="4457880"/>
            <a:ext cx="71280" cy="3168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912000" y="444024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481800" y="2903400"/>
            <a:ext cx="7776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413400" y="273204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602400" y="275256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699240" y="2581200"/>
            <a:ext cx="109440" cy="1684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589800" y="304812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638760" y="3036960"/>
            <a:ext cx="446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608120" y="378144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708200" y="3922560"/>
            <a:ext cx="1461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641600" y="388152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554120" y="3787920"/>
            <a:ext cx="55440" cy="3960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023920" y="469908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209680" y="580068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043000" y="5451480"/>
            <a:ext cx="15840" cy="363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241720" y="590868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070000" y="481176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247840" y="581652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357280" y="503568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414520" y="572760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382840" y="572760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050920" y="551484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050920" y="565776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157480" y="586260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104920" y="5803920"/>
            <a:ext cx="22320" cy="2556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216160" y="474984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935000" y="405612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781440" y="197496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936960" y="4665600"/>
            <a:ext cx="298440" cy="32868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362480" y="491328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119480" y="4694400"/>
            <a:ext cx="217440" cy="24912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265800" y="457992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834240" y="564660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32760" y="578016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486560" y="5522760"/>
            <a:ext cx="13644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570800" y="471816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489800" y="50306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674120" y="480384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743960" y="48769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46840" y="4927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732720" y="457200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466040" y="505944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921360" y="3605040"/>
            <a:ext cx="32040" cy="4320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524720" y="397656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112160" y="3848040"/>
            <a:ext cx="31680" cy="4140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473960" y="452448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601040" y="41608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738920" y="442764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7004160" y="4300560"/>
            <a:ext cx="210960" cy="27792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182000" y="436572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243920" y="430200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616880" y="43988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740720" y="451476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743960" y="45720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6840" y="4630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13560" y="42260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419960" y="4449600"/>
            <a:ext cx="3024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7385040" y="441324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7399440" y="4464000"/>
            <a:ext cx="23760" cy="36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450200" y="446400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435800" y="4500720"/>
            <a:ext cx="20520" cy="3168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531800" y="356076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433760" y="3629160"/>
            <a:ext cx="127080" cy="2174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578480" y="3591000"/>
            <a:ext cx="50760" cy="55440"/>
          </a:xfrm>
          <a:custGeom>
            <a:avLst/>
            <a:gdLst/>
            <a:ahLst/>
            <a:rect l="l" t="t" r="r" b="b"/>
            <a:pathLst>
              <a:path w="35" h="36">
                <a:moveTo>
                  <a:pt x="0" y="0"/>
                </a:moveTo>
                <a:lnTo>
                  <a:pt x="29" y="12"/>
                </a:lnTo>
                <a:lnTo>
                  <a:pt x="35" y="36"/>
                </a:lnTo>
                <a:lnTo>
                  <a:pt x="1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883040" y="469728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98440" y="1863720"/>
            <a:ext cx="33480" cy="270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92240" y="1897200"/>
            <a:ext cx="74520" cy="3780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984240" y="246852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895320" y="206676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92080" y="2222640"/>
            <a:ext cx="23760" cy="396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800360" y="383868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932040" y="255276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74760" y="140796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92200" y="267804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340000" y="280836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905280" y="207972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728880" y="3844800"/>
            <a:ext cx="270000" cy="26064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4460760" y="4095720"/>
            <a:ext cx="187560" cy="2462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243400" y="3084480"/>
            <a:ext cx="64152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200560" y="3103560"/>
            <a:ext cx="185760" cy="42372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124680" y="3394080"/>
            <a:ext cx="279360" cy="169920"/>
          </a:xfrm>
          <a:custGeom>
            <a:avLst/>
            <a:gdLst/>
            <a:ahLst/>
            <a:rect l="l" t="t" r="r" b="b"/>
            <a:pathLst>
              <a:path w="198" h="110">
                <a:moveTo>
                  <a:pt x="0" y="72"/>
                </a:moveTo>
                <a:lnTo>
                  <a:pt x="8" y="86"/>
                </a:lnTo>
                <a:lnTo>
                  <a:pt x="30" y="98"/>
                </a:lnTo>
                <a:lnTo>
                  <a:pt x="56" y="90"/>
                </a:lnTo>
                <a:lnTo>
                  <a:pt x="56" y="106"/>
                </a:lnTo>
                <a:lnTo>
                  <a:pt x="72" y="110"/>
                </a:lnTo>
                <a:lnTo>
                  <a:pt x="78" y="90"/>
                </a:lnTo>
                <a:lnTo>
                  <a:pt x="114" y="70"/>
                </a:lnTo>
                <a:lnTo>
                  <a:pt x="122" y="60"/>
                </a:lnTo>
                <a:lnTo>
                  <a:pt x="128" y="70"/>
                </a:lnTo>
                <a:lnTo>
                  <a:pt x="172" y="38"/>
                </a:lnTo>
                <a:lnTo>
                  <a:pt x="198" y="0"/>
                </a:lnTo>
                <a:cubicBezTo>
                  <a:pt x="177" y="9"/>
                  <a:pt x="162" y="22"/>
                  <a:pt x="140" y="22"/>
                </a:cubicBezTo>
                <a:lnTo>
                  <a:pt x="110" y="28"/>
                </a:lnTo>
                <a:lnTo>
                  <a:pt x="64" y="72"/>
                </a:lnTo>
                <a:lnTo>
                  <a:pt x="36" y="68"/>
                </a:lnTo>
                <a:lnTo>
                  <a:pt x="8" y="86"/>
                </a:lnTo>
                <a:lnTo>
                  <a:pt x="24" y="96"/>
                </a:lnTo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009800" y="315108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907400" y="5181480"/>
            <a:ext cx="91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Narrow"/>
              </a:rPr>
              <a:t>Source: WHO 2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3130920" y="5734080"/>
            <a:ext cx="228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Applications under review by the G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009800" y="314496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916360" y="5734080"/>
            <a:ext cx="104760" cy="11592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322960" y="3316320"/>
            <a:ext cx="172800" cy="19044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362560" y="2311560"/>
            <a:ext cx="173160" cy="188640"/>
          </a:xfrm>
          <a:prstGeom prst="ellipse">
            <a:avLst/>
          </a:prstGeom>
          <a:solidFill>
            <a:srgbClr val="66ff66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916360" y="5516640"/>
            <a:ext cx="104760" cy="11592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130560" y="5526000"/>
            <a:ext cx="210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GLC-approved DOTS-Plus 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751040" y="41940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114800" y="2509920"/>
            <a:ext cx="189000" cy="792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481800" y="359424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6543720" y="388620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6437160" y="3849840"/>
            <a:ext cx="44640" cy="9360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553080" y="385452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597720" y="379260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540480" y="382572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86560" y="385272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512040" y="377208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4452840" y="2287440"/>
            <a:ext cx="17460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057640" y="259236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916360" y="5950080"/>
            <a:ext cx="104760" cy="11592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132000" y="5950080"/>
            <a:ext cx="201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Countries preparing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641600" y="38750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386240" y="2065320"/>
            <a:ext cx="17316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508720" y="3429000"/>
            <a:ext cx="172800" cy="1890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452840" y="4556160"/>
            <a:ext cx="108000" cy="9828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513480" y="3745080"/>
            <a:ext cx="122400" cy="12348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201680" y="3471840"/>
            <a:ext cx="17460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100240" y="4572000"/>
            <a:ext cx="17316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940280" y="2863800"/>
            <a:ext cx="111240" cy="15084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502160" y="4156200"/>
            <a:ext cx="101520" cy="108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470480" y="4351320"/>
            <a:ext cx="82440" cy="7632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662360" y="2287440"/>
            <a:ext cx="173160" cy="1908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267080" y="3352680"/>
            <a:ext cx="133560" cy="1476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867280" y="2637000"/>
            <a:ext cx="173160" cy="18864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435640" y="350028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219640" y="3141720"/>
            <a:ext cx="144360" cy="11736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916360" y="6165720"/>
            <a:ext cx="104760" cy="115920"/>
          </a:xfrm>
          <a:prstGeom prst="ellipse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916360" y="6381720"/>
            <a:ext cx="104760" cy="115920"/>
          </a:xfrm>
          <a:prstGeom prst="ellipse">
            <a:avLst/>
          </a:prstGeom>
          <a:solidFill>
            <a:srgbClr val="ff99c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132000" y="6165720"/>
            <a:ext cx="223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Secondline drugs widely avail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3132000" y="6381720"/>
            <a:ext cx="223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Secondline drugs NOT  avail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166760" y="619200"/>
            <a:ext cx="642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 HB countries: Nationwide drug resistance surveillance data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   HB countries: Sub-national (Russian Federation, China, and Ind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   HB countries: No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187280" y="549360"/>
            <a:ext cx="7056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is far more complicated than D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ubTitle"/>
          </p:nvPr>
        </p:nvSpPr>
        <p:spPr>
          <a:xfrm>
            <a:off x="1403280" y="1268280"/>
            <a:ext cx="644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boratory capacity:  diagnosis and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eatment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 during 18-24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of (frequent) side-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ften difficult patient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ug procurement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recording &amp; repor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41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00244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inking Independent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028960" y="1628640"/>
            <a:ext cx="2506680" cy="2210040"/>
          </a:xfrm>
          <a:prstGeom prst="ellipse">
            <a:avLst/>
          </a:prstGeom>
          <a:solidFill>
            <a:srgbClr val="71aa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535640" y="1628640"/>
            <a:ext cx="2506680" cy="2133720"/>
          </a:xfrm>
          <a:prstGeom prst="ellipse">
            <a:avLst/>
          </a:prstGeom>
          <a:solidFill>
            <a:srgbClr val="71aa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348000" y="3573360"/>
            <a:ext cx="2778120" cy="2286000"/>
          </a:xfrm>
          <a:prstGeom prst="ellipse">
            <a:avLst/>
          </a:prstGeom>
          <a:solidFill>
            <a:srgbClr val="71aa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857760" y="2771640"/>
            <a:ext cx="1577880" cy="152100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780000" y="2924280"/>
            <a:ext cx="17287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00"/>
                </a:solidFill>
                <a:latin typeface="Arial"/>
              </a:rPr>
              <a:t>G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00"/>
                </a:solidFill>
                <a:latin typeface="Arial"/>
              </a:rPr>
              <a:t>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2165400" y="2085840"/>
            <a:ext cx="209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ACCESS: Price &amp;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603680" y="2085840"/>
            <a:ext cx="237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RATIONAL    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857760" y="43718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023840" y="111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8512200" y="1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7164360" y="1557360"/>
            <a:ext cx="914400" cy="8431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chn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s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6948360" y="213372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524720" y="2637000"/>
            <a:ext cx="934920" cy="647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948360" y="3429000"/>
            <a:ext cx="935280" cy="863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7093080" y="292428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 flipV="1">
            <a:off x="6804000" y="342864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012000" y="5589720"/>
            <a:ext cx="1081080" cy="105876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uid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2340000" y="5589720"/>
            <a:ext cx="1079640" cy="1079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pera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276720" y="573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3132000" y="5300280"/>
            <a:ext cx="287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 flipH="1" flipV="1">
            <a:off x="6011640" y="530064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84360" y="1700280"/>
            <a:ext cx="1008000" cy="9367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qual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84360" y="2924280"/>
            <a:ext cx="1008000" cy="9144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oo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763640" y="2133720"/>
            <a:ext cx="2872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 flipV="1">
            <a:off x="1763640" y="31413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0" y="183960"/>
            <a:ext cx="91440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WHO-GLC DOTS-Plus projects by October  2004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895320" y="216216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043000" y="4481640"/>
            <a:ext cx="284400" cy="37764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751040" y="420048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760400" y="415620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936800" y="385452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228760" y="388296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225520" y="385452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2238480" y="385452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2050920" y="1635120"/>
            <a:ext cx="114480" cy="1000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301760" y="182556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695600" y="140796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784520" y="144288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881360" y="135720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2021040" y="135720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014560" y="148104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512720" y="367668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32120" y="161604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355840" y="2711520"/>
            <a:ext cx="14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119320" y="1714680"/>
            <a:ext cx="419040" cy="55548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2023920" y="203976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2050920" y="216684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336680" y="1998720"/>
            <a:ext cx="92160" cy="8424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463760" y="245592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519200" y="1504800"/>
            <a:ext cx="152280" cy="1303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639800" y="1562040"/>
            <a:ext cx="227160" cy="23184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2203560" y="154944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317680" y="140004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349360" y="199872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574640" y="373680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579680" y="366552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704960" y="352728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733400" y="357516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1994040" y="364500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841400" y="3676680"/>
            <a:ext cx="46080" cy="2232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927080" y="363852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844640" y="347652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1949400" y="358452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1961640" y="353700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2201760" y="373680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095560" y="3673440"/>
            <a:ext cx="25200" cy="2556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84480" y="3686040"/>
            <a:ext cx="6120" cy="1296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170080" y="370188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136600" y="3689280"/>
            <a:ext cx="17640" cy="972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185920" y="3713040"/>
            <a:ext cx="158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2114280" y="357192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2144880" y="357840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 flipH="1">
            <a:off x="2180880" y="359100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2225160" y="3722760"/>
            <a:ext cx="558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228760" y="382104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232000" y="379404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216160" y="3776760"/>
            <a:ext cx="936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209680" y="375912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2234880" y="380376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2246400" y="3760920"/>
            <a:ext cx="41040" cy="37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2216160" y="3686040"/>
            <a:ext cx="55440" cy="74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2203200" y="3648240"/>
            <a:ext cx="507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2197080" y="362268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394000" y="405612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228760" y="3962520"/>
            <a:ext cx="114480" cy="21276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303640" y="403380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479680" y="4189320"/>
            <a:ext cx="28440" cy="208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854520" y="2523960"/>
            <a:ext cx="38160" cy="1620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921120" y="2576520"/>
            <a:ext cx="9360" cy="3348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892680" y="258912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658960" y="132876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220920" y="2187720"/>
            <a:ext cx="200160" cy="14436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108320" y="249552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394000" y="1346040"/>
            <a:ext cx="404640" cy="2890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813120" y="1598760"/>
            <a:ext cx="144360" cy="17748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3929040" y="1555920"/>
            <a:ext cx="131760" cy="648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3998880" y="1652760"/>
            <a:ext cx="25560" cy="21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255840" y="376704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397320" y="398628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470400" y="3916440"/>
            <a:ext cx="13176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352680" y="3946680"/>
            <a:ext cx="73080" cy="9036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3311640" y="387180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271680" y="3871800"/>
            <a:ext cx="74880" cy="4788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268800" y="383220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278160" y="3470400"/>
            <a:ext cx="270000" cy="35388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3382920" y="3535200"/>
            <a:ext cx="39384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543480" y="380988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143160" y="381168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867120" y="300996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720960" y="309708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470400" y="3040200"/>
            <a:ext cx="58680" cy="13788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562200" y="2489040"/>
            <a:ext cx="157320" cy="29556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535200" y="2481120"/>
            <a:ext cx="14400" cy="3204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475080" y="3198960"/>
            <a:ext cx="495360" cy="50796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278160" y="346392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843360" y="3195720"/>
            <a:ext cx="96840" cy="18900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881520" y="330660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3868560" y="4159080"/>
            <a:ext cx="130320" cy="14940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890880" y="4159080"/>
            <a:ext cx="42840" cy="270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695760" y="388944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3673440" y="3919680"/>
            <a:ext cx="38160" cy="12528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592440" y="391968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3679920" y="3594240"/>
            <a:ext cx="334800" cy="30132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3976560" y="3586320"/>
            <a:ext cx="247680" cy="43308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841920" y="4186080"/>
            <a:ext cx="792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956040" y="3181320"/>
            <a:ext cx="3348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968640" y="313524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862440" y="306396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989520" y="2887560"/>
            <a:ext cx="102960" cy="921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960720" y="2992320"/>
            <a:ext cx="1800" cy="50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141800" y="2557440"/>
            <a:ext cx="196920" cy="19836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4149720" y="268128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108320" y="253512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4019400" y="291780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4165560" y="2955960"/>
            <a:ext cx="120600" cy="8424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4084560" y="2898720"/>
            <a:ext cx="84240" cy="17136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4129200" y="2994120"/>
            <a:ext cx="52200" cy="7596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3998880" y="3919680"/>
            <a:ext cx="293760" cy="24444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4357800" y="4108320"/>
            <a:ext cx="1188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4346640" y="424008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5062680" y="250992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865680" y="3868560"/>
            <a:ext cx="176040" cy="29880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4170240" y="3594240"/>
            <a:ext cx="395280" cy="56484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4346640" y="427680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170240" y="442440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943440" y="436896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4425840" y="4457880"/>
            <a:ext cx="71640" cy="23328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946680" y="407520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943440" y="4334040"/>
            <a:ext cx="25200" cy="2844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4667400" y="4543560"/>
            <a:ext cx="169560" cy="37620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4273560" y="499752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4367160" y="4500720"/>
            <a:ext cx="231840" cy="45072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4235400" y="462276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862520" y="47307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4216320" y="3341520"/>
            <a:ext cx="281160" cy="2876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4440240" y="327672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464000" y="323676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4471920" y="314784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4259160" y="300996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4249800" y="3009960"/>
            <a:ext cx="61920" cy="5724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4460760" y="327672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4206960" y="3219480"/>
            <a:ext cx="61920" cy="172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4653000" y="298296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4246560" y="279720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4530600" y="292104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621320" y="300024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660920" y="306216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V="1">
            <a:off x="4476600" y="332712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4692600" y="3390840"/>
            <a:ext cx="82440" cy="2880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3968640" y="2887560"/>
            <a:ext cx="58680" cy="5580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843360" y="255276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057560" y="2025720"/>
            <a:ext cx="219240" cy="40968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3587760" y="275256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3473280" y="2971800"/>
            <a:ext cx="279720" cy="22716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740040" y="272556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3754440" y="266544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519360" y="260676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470400" y="260676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3797280" y="277956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822840" y="287496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3813120" y="284796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973680" y="255744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879720" y="2793960"/>
            <a:ext cx="165240" cy="986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008600" y="277020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027320" y="282420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108320" y="253512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797280" y="2624040"/>
            <a:ext cx="192240" cy="23364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940200" y="2733840"/>
            <a:ext cx="101520" cy="9036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125960" y="2830680"/>
            <a:ext cx="187200" cy="14436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108320" y="3019320"/>
            <a:ext cx="41400" cy="8280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4137120" y="302256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4395960" y="321624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4465800" y="327348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438800" y="335916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4440240" y="337500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4444920" y="3384720"/>
            <a:ext cx="64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4452840" y="340524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V="1">
            <a:off x="4465800" y="339048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4468680" y="337176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471920" y="3351240"/>
            <a:ext cx="18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357800" y="423720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699080" y="44863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4875120" y="43084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911840" y="373392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4621320" y="388944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4440240" y="384984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4641840" y="388620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4518000" y="373068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4670280" y="3691080"/>
            <a:ext cx="250920" cy="16668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4718160" y="373392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4751280" y="3745080"/>
            <a:ext cx="176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4776840" y="373680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4803840" y="372276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4834080" y="370512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898880" y="370188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4906800" y="371952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694400" y="3726000"/>
            <a:ext cx="15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4460760" y="3303720"/>
            <a:ext cx="498600" cy="45540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4540320" y="314784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844880" y="347976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4667400" y="374760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673520" y="374292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4673520" y="372744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4476600" y="330804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4476600" y="3293640"/>
            <a:ext cx="180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4478400" y="3276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 flipH="1" flipV="1">
            <a:off x="4471920" y="327312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flipH="1" flipV="1">
            <a:off x="4465800" y="327312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4970520" y="35175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875120" y="3476520"/>
            <a:ext cx="10476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4649760" y="3076560"/>
            <a:ext cx="46368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898880" y="350352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4960800" y="3459240"/>
            <a:ext cx="12960" cy="172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4870440" y="3688920"/>
            <a:ext cx="2376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4902120" y="366192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4921200" y="3641760"/>
            <a:ext cx="1584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4943520" y="362268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4951440" y="360000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flipH="1" flipV="1">
            <a:off x="4940280" y="3584160"/>
            <a:ext cx="6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H="1" flipV="1">
            <a:off x="4911840" y="3574800"/>
            <a:ext cx="158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 flipH="1">
            <a:off x="4889520" y="3571920"/>
            <a:ext cx="936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flipH="1" flipV="1">
            <a:off x="4871520" y="3560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846680" y="3535200"/>
            <a:ext cx="6480" cy="8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859280" y="354960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4951440" y="356076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4959360" y="353988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140440" y="2979720"/>
            <a:ext cx="187200" cy="13176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5083200" y="308124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4816440" y="2946240"/>
            <a:ext cx="29700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894200" y="2863800"/>
            <a:ext cx="308160" cy="23832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5140440" y="285264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4979880" y="351000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4829040" y="344952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5032440" y="306396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4211640" y="143676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4602240" y="161604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564240" y="222732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568760" y="183996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4713120" y="239724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4699080" y="1930320"/>
            <a:ext cx="39600" cy="4788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262480" y="132876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140440" y="129528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6808680" y="140328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979960" y="137304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6056280" y="137628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6991200" y="204948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7186680" y="212724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224320" y="2732040"/>
            <a:ext cx="1270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5818320" y="2346480"/>
            <a:ext cx="42840" cy="13788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5407200" y="3209760"/>
            <a:ext cx="612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5391000" y="313056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516640" y="2513160"/>
            <a:ext cx="689040" cy="35856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5321160" y="308772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5305320" y="3121200"/>
            <a:ext cx="648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305320" y="314784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5321160" y="31687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340240" y="3203640"/>
            <a:ext cx="111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5354640" y="320652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5369040" y="318564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H="1" flipV="1">
            <a:off x="5368680" y="316188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 flipH="1" flipV="1">
            <a:off x="5357880" y="313848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 flipH="1" flipV="1">
            <a:off x="5347800" y="3123720"/>
            <a:ext cx="32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 flipH="1" flipV="1">
            <a:off x="5335200" y="310788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342040" y="3102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364000" y="3114720"/>
            <a:ext cx="972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5416560" y="314784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5432400" y="3156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5378400" y="323532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5386320" y="32065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925960" y="3581280"/>
            <a:ext cx="212760" cy="44604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5504040" y="331164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5700600" y="335916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5688000" y="3413160"/>
            <a:ext cx="123840" cy="16524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799240" y="333360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5986440" y="3516480"/>
            <a:ext cx="185760" cy="24732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6027840" y="350532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6066000" y="375912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257880" y="4003560"/>
            <a:ext cx="211320" cy="1825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006960" y="400356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537160" y="3929040"/>
            <a:ext cx="46080" cy="10476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5403960" y="40672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295960" y="235440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180120" y="358128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419800" y="322272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5430960" y="3222720"/>
            <a:ext cx="1260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5446800" y="3209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5443560" y="318600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H="1" flipV="1">
            <a:off x="5443200" y="3168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5769000" y="3354120"/>
            <a:ext cx="158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5797440" y="332748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823000" y="334008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5843520" y="332532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5861160" y="332568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6434280" y="339084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6335640" y="3462480"/>
            <a:ext cx="334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6305400" y="347040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6094440" y="4124160"/>
            <a:ext cx="31680" cy="399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6361200" y="404496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6394320" y="444024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6475320" y="4500720"/>
            <a:ext cx="52560" cy="3168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221520" y="4087800"/>
            <a:ext cx="241200" cy="28116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929200" y="4033800"/>
            <a:ext cx="23832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6772320" y="422604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481800" y="4159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167520" y="438624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580080" y="448452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6165720" y="425448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481800" y="360036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6543720" y="389268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6437160" y="385452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553080" y="386064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597720" y="379872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540480" y="383220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586560" y="3857760"/>
            <a:ext cx="11160" cy="205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6512040" y="377820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834240" y="349884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6762600" y="394344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6618240" y="431172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6681960" y="429408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6657840" y="412596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6496200" y="4457880"/>
            <a:ext cx="71280" cy="3168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912000" y="444024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6481800" y="2903400"/>
            <a:ext cx="7776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6413400" y="273204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6602400" y="275256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6699240" y="2581200"/>
            <a:ext cx="109440" cy="1684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6589800" y="304812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6638760" y="3036960"/>
            <a:ext cx="446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608120" y="378144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708200" y="3922560"/>
            <a:ext cx="1461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641600" y="388152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1554120" y="3787920"/>
            <a:ext cx="55440" cy="3960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2023920" y="469908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2209680" y="580068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2043000" y="5451480"/>
            <a:ext cx="15840" cy="363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2241720" y="590868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2070000" y="481176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247840" y="581652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357280" y="503568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414520" y="572760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382840" y="572760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050920" y="551484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2050920" y="565776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2157480" y="586260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2104920" y="5803920"/>
            <a:ext cx="22320" cy="2556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2216160" y="474984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1935000" y="405612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3781440" y="197496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3936960" y="4665600"/>
            <a:ext cx="298440" cy="32868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4362480" y="491328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119480" y="4694400"/>
            <a:ext cx="217440" cy="24912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265800" y="457992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834240" y="564660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7232760" y="578016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7486560" y="5522760"/>
            <a:ext cx="13644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7570800" y="471816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7489800" y="50306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7674120" y="480384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7743960" y="48769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7746840" y="4927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732720" y="457200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7466040" y="505944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6921360" y="3605040"/>
            <a:ext cx="32040" cy="432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7524720" y="397656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7112160" y="384804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7473960" y="452448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7601040" y="41608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7738920" y="442764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7004160" y="4300560"/>
            <a:ext cx="210960" cy="27792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7182000" y="436572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7243920" y="430200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7616880" y="43988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7740720" y="451476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7743960" y="45720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7746840" y="4630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7513560" y="42260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7419960" y="4449600"/>
            <a:ext cx="3024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7385040" y="441324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7399440" y="4464000"/>
            <a:ext cx="23760" cy="36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7450200" y="446400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7435800" y="4500720"/>
            <a:ext cx="20520" cy="3168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1531800" y="356076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4433760" y="3629160"/>
            <a:ext cx="127080" cy="2174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578480" y="3591000"/>
            <a:ext cx="50760" cy="55440"/>
          </a:xfrm>
          <a:custGeom>
            <a:avLst/>
            <a:gdLst/>
            <a:ahLst/>
            <a:rect l="l" t="t" r="r" b="b"/>
            <a:pathLst>
              <a:path w="35" h="36">
                <a:moveTo>
                  <a:pt x="0" y="0"/>
                </a:moveTo>
                <a:lnTo>
                  <a:pt x="29" y="12"/>
                </a:lnTo>
                <a:lnTo>
                  <a:pt x="35" y="36"/>
                </a:lnTo>
                <a:lnTo>
                  <a:pt x="1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4883040" y="469728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298440" y="1863720"/>
            <a:ext cx="33480" cy="270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92240" y="1897200"/>
            <a:ext cx="74520" cy="3780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984240" y="246852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895320" y="206676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892080" y="2222640"/>
            <a:ext cx="23760" cy="396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800360" y="383868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932040" y="255276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374760" y="140796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2392200" y="267804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2340000" y="280836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3905280" y="207972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728880" y="3844800"/>
            <a:ext cx="270000" cy="26064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4460760" y="4095720"/>
            <a:ext cx="187560" cy="2462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5243400" y="3084480"/>
            <a:ext cx="64152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5200560" y="3103560"/>
            <a:ext cx="185760" cy="42372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6124680" y="3394080"/>
            <a:ext cx="279360" cy="169920"/>
          </a:xfrm>
          <a:custGeom>
            <a:avLst/>
            <a:gdLst/>
            <a:ahLst/>
            <a:rect l="l" t="t" r="r" b="b"/>
            <a:pathLst>
              <a:path w="198" h="110">
                <a:moveTo>
                  <a:pt x="0" y="72"/>
                </a:moveTo>
                <a:lnTo>
                  <a:pt x="8" y="86"/>
                </a:lnTo>
                <a:lnTo>
                  <a:pt x="30" y="98"/>
                </a:lnTo>
                <a:lnTo>
                  <a:pt x="56" y="90"/>
                </a:lnTo>
                <a:lnTo>
                  <a:pt x="56" y="106"/>
                </a:lnTo>
                <a:lnTo>
                  <a:pt x="72" y="110"/>
                </a:lnTo>
                <a:lnTo>
                  <a:pt x="78" y="90"/>
                </a:lnTo>
                <a:lnTo>
                  <a:pt x="114" y="70"/>
                </a:lnTo>
                <a:lnTo>
                  <a:pt x="122" y="60"/>
                </a:lnTo>
                <a:lnTo>
                  <a:pt x="128" y="70"/>
                </a:lnTo>
                <a:lnTo>
                  <a:pt x="172" y="38"/>
                </a:lnTo>
                <a:lnTo>
                  <a:pt x="198" y="0"/>
                </a:lnTo>
                <a:cubicBezTo>
                  <a:pt x="177" y="9"/>
                  <a:pt x="162" y="22"/>
                  <a:pt x="140" y="22"/>
                </a:cubicBezTo>
                <a:lnTo>
                  <a:pt x="110" y="28"/>
                </a:lnTo>
                <a:lnTo>
                  <a:pt x="64" y="72"/>
                </a:lnTo>
                <a:lnTo>
                  <a:pt x="36" y="68"/>
                </a:lnTo>
                <a:lnTo>
                  <a:pt x="8" y="86"/>
                </a:lnTo>
                <a:lnTo>
                  <a:pt x="24" y="96"/>
                </a:lnTo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009800" y="315108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7907400" y="5181480"/>
            <a:ext cx="91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Narrow"/>
              </a:rPr>
              <a:t>Source: WHO 2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2934000" y="5792760"/>
            <a:ext cx="365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Applications under review by the GL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1009800" y="314496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2901960" y="5824440"/>
            <a:ext cx="174600" cy="189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5322960" y="3316320"/>
            <a:ext cx="172800" cy="19044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5362560" y="2311560"/>
            <a:ext cx="173160" cy="188640"/>
          </a:xfrm>
          <a:prstGeom prst="ellipse">
            <a:avLst/>
          </a:prstGeom>
          <a:solidFill>
            <a:srgbClr val="66ff66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2901960" y="5484960"/>
            <a:ext cx="174600" cy="1872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3135960" y="5451480"/>
            <a:ext cx="336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GLC-approved DOTS-Plus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751040" y="41940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4114800" y="2509920"/>
            <a:ext cx="189000" cy="792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6481800" y="359424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6543720" y="388620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6437160" y="3849840"/>
            <a:ext cx="44640" cy="9360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6553080" y="385452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6597720" y="379260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6540480" y="382572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6586560" y="385272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6512040" y="377208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4452840" y="2287440"/>
            <a:ext cx="17460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057640" y="259236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2901960" y="6145200"/>
            <a:ext cx="174600" cy="18720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3130560" y="6145200"/>
            <a:ext cx="6013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Countries preparing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1641600" y="38750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4386240" y="2065320"/>
            <a:ext cx="17316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5537160" y="3397320"/>
            <a:ext cx="173160" cy="1890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4452840" y="4556160"/>
            <a:ext cx="108000" cy="9828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6513480" y="3745080"/>
            <a:ext cx="122400" cy="12348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1201680" y="3471840"/>
            <a:ext cx="17460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2100240" y="4572000"/>
            <a:ext cx="17316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4940280" y="2863800"/>
            <a:ext cx="111240" cy="15084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4502160" y="4156200"/>
            <a:ext cx="101520" cy="108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4470480" y="4351320"/>
            <a:ext cx="82440" cy="7632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4662360" y="2287440"/>
            <a:ext cx="173160" cy="1908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4267080" y="3352680"/>
            <a:ext cx="133560" cy="1476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5867280" y="2637000"/>
            <a:ext cx="173160" cy="18864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435640" y="350028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219640" y="3141720"/>
            <a:ext cx="144360" cy="11736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mportant Recent Develop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subTitle"/>
          </p:nvPr>
        </p:nvSpPr>
        <p:spPr>
          <a:xfrm>
            <a:off x="899640" y="1844640"/>
            <a:ext cx="7417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rom pilot phase to expansion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not longer limited to so-called "hot spot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t 4 regimens recognised as the standard of care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DR-TB (STAG decision, June 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litics:  EB resolution 114.R1, GF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Guidelines are under revision/train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LD are used almost everywhe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441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899640" y="549360"/>
            <a:ext cx="7417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B resolution May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1042920" y="1413000"/>
            <a:ext cx="7345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NCOURAGES ALL MEMBER STATE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To ensure that all tuberculosis patients have access to the universal standard of care that is based on the proper diagnostics, treatment and reporting consistent with DOTS strategy…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QUESTS THE DIRECTOR GENERAL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Implement and strengthen strategies for the effective control and management of persons with drug-resistant tuberculosi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441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80720" y="151920"/>
            <a:ext cx="877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llaboration agreed with the GFT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subTitle"/>
          </p:nvPr>
        </p:nvSpPr>
        <p:spPr>
          <a:xfrm>
            <a:off x="552240" y="1879560"/>
            <a:ext cx="794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To help contain resistance to second-line anti-TB drugs and consistent with the policies of other international funding sources, all procurement of medications to treat MDR-TB must be conducted through the Green Light Committee (GLC)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ird Board Meeting, 10-11 October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Global Fund to Fight AIDS, Tuberculosis and Mal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466560" y="79056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8099280" y="57456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ALLENGES 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1476360" y="1773360"/>
            <a:ext cx="6400800" cy="40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man resources / consultant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ing demands for technical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ug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ond-line drugs outside DOTS-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8908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lan of Action DOTS + Working Group</a:t>
            </a:r>
            <a:br>
              <a:rPr sz="28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close collaboration with DEWG, the New Diagnostics WG and the Stop TBP Secretari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ltant capacity ↑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ratory Capacity ↑(DEWG, New Diagnostics 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grading GLC operations (GLC member institu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ource Mobilization (Stop TB partnersh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onal research /policy development (New Diagnostics 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835280" y="551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CONTENT OF 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gnitude of the MDR-TB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of second-line drugs world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C mechanism: status an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ant recent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 of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9396000" y="-5234040"/>
            <a:ext cx="2890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y IV regimens have been recommended for cases of drug resistance for a number of years by the WHO.  Programs without access to them are operating in “DOTS-minu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T'S  MOVE  FROM  “DOTS MINUS” TO  FULL  DO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gnitude of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Resistance surveys in 64 countries and predictive data from 72 countries the number of new cases of MDR-TB for 2000 was estimated to be 273,000 (95% confidence limits 185,000 and 414,00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e C, Espinal MA, Watt CJ, Mbiaga C, Williams BG.  Worldwide Incidence of Multidrug-Resistant Tuberculosis.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 of Infec D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2002;185:1197-20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4916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timated incidence of new MDR-TB cases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pdate of Dye C, Espinal M, Watt C, et al. Worldwide Incidence of Multidrug-Resistant Tuberculosis. JID 2002, 185:1197-2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95320" y="216216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000" y="4481640"/>
            <a:ext cx="284400" cy="37764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51040" y="420048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60400" y="415620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36800" y="385452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28760" y="388296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25520" y="385452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238480" y="385452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0920" y="1633680"/>
            <a:ext cx="114480" cy="10152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01760" y="182556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95600" y="140796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84520" y="144288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81360" y="135720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21040" y="135720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14560" y="148104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12720" y="367668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32120" y="161604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55840" y="2711520"/>
            <a:ext cx="14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19320" y="171612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23920" y="203976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0920" y="216684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36680" y="1998720"/>
            <a:ext cx="92160" cy="8424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63760" y="245592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19200" y="1504800"/>
            <a:ext cx="152280" cy="12888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39800" y="156204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3560" y="154944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17680" y="140004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49360" y="199872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74640" y="373680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79680" y="366552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04960" y="352728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33400" y="357516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94040" y="364500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41400" y="3676680"/>
            <a:ext cx="46080" cy="2232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27080" y="363852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44640" y="347652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9400" y="358452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961640" y="353700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01760" y="373680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95560" y="3673440"/>
            <a:ext cx="25200" cy="2556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84480" y="3686040"/>
            <a:ext cx="6120" cy="1296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70080" y="370188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6600" y="3689280"/>
            <a:ext cx="17640" cy="972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87720" y="371304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114280" y="357192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144880" y="357840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180880" y="359100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225160" y="3722760"/>
            <a:ext cx="558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28760" y="382104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32000" y="379404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16160" y="377676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375912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234880" y="380376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246400" y="3760920"/>
            <a:ext cx="41040" cy="37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216160" y="3686040"/>
            <a:ext cx="55440" cy="74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03200" y="3648240"/>
            <a:ext cx="507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197080" y="362268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94000" y="405612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28760" y="3962520"/>
            <a:ext cx="114480" cy="21276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03640" y="403380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79680" y="4189320"/>
            <a:ext cx="28440" cy="208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4520" y="2523960"/>
            <a:ext cx="38160" cy="1620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21120" y="2576520"/>
            <a:ext cx="9360" cy="3348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92680" y="258912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58960" y="132876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19480" y="2187720"/>
            <a:ext cx="201600" cy="14436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08320" y="249552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94000" y="1346040"/>
            <a:ext cx="404640" cy="28764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13120" y="1598760"/>
            <a:ext cx="144360" cy="17748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29040" y="155412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98880" y="1652760"/>
            <a:ext cx="25560" cy="21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55840" y="376704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97320" y="398628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70400" y="3916440"/>
            <a:ext cx="13176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946680"/>
            <a:ext cx="73080" cy="9036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387180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1680" y="3871800"/>
            <a:ext cx="74880" cy="4788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68800" y="383220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8160" y="3470400"/>
            <a:ext cx="270000" cy="35388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82920" y="353520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43480" y="380988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43160" y="381168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67120" y="300996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20960" y="309708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70400" y="3040200"/>
            <a:ext cx="58680" cy="13788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62200" y="2489040"/>
            <a:ext cx="157320" cy="29556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35200" y="2481120"/>
            <a:ext cx="14400" cy="3204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5080" y="3198960"/>
            <a:ext cx="495360" cy="50796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78160" y="346392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43360" y="3195720"/>
            <a:ext cx="96840" cy="18900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81520" y="330660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68560" y="4159080"/>
            <a:ext cx="13500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90880" y="415908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95760" y="388944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73440" y="3919680"/>
            <a:ext cx="38160" cy="12528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92440" y="391968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79920" y="3594240"/>
            <a:ext cx="336600" cy="30132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76560" y="3586320"/>
            <a:ext cx="247680" cy="43308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41920" y="4187880"/>
            <a:ext cx="79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6040" y="3181320"/>
            <a:ext cx="3348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68640" y="313524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62440" y="306396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89520" y="2887560"/>
            <a:ext cx="102960" cy="921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60720" y="2992320"/>
            <a:ext cx="1800" cy="50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46480" y="2556000"/>
            <a:ext cx="196920" cy="19836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9720" y="268128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08320" y="253512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19400" y="291780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65560" y="2955960"/>
            <a:ext cx="120600" cy="8424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84560" y="289872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29200" y="299412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98880" y="3919680"/>
            <a:ext cx="293760" cy="24444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57800" y="4108320"/>
            <a:ext cx="1188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46640" y="424008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62680" y="250992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68560" y="3868560"/>
            <a:ext cx="176400" cy="29880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70240" y="3594240"/>
            <a:ext cx="395280" cy="56484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46640" y="427680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70240" y="442440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43440" y="436896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25840" y="4457880"/>
            <a:ext cx="71640" cy="23328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46680" y="407520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43440" y="4334040"/>
            <a:ext cx="25200" cy="2844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67400" y="4543560"/>
            <a:ext cx="169560" cy="37620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43520" y="4815000"/>
            <a:ext cx="36828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73560" y="499752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67160" y="4500720"/>
            <a:ext cx="231840" cy="45072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35400" y="462276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62520" y="47307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6320" y="334152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40240" y="327672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64000" y="323676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71920" y="314784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59160" y="300996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49800" y="3009960"/>
            <a:ext cx="61920" cy="5724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60760" y="327672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06960" y="3219480"/>
            <a:ext cx="61920" cy="172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53000" y="298296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46560" y="279720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30600" y="292104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21320" y="300024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60920" y="306216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476600" y="332712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92600" y="3390840"/>
            <a:ext cx="82440" cy="2880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68640" y="2887560"/>
            <a:ext cx="58680" cy="5580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43360" y="255276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57560" y="2025720"/>
            <a:ext cx="219240" cy="40968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87760" y="275256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73280" y="2971800"/>
            <a:ext cx="279720" cy="22716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40040" y="272556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54440" y="266544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19360" y="260676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70400" y="260676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97280" y="277956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22840" y="287496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13120" y="284796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73680" y="255744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79720" y="2793960"/>
            <a:ext cx="165240" cy="986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008600" y="277020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27320" y="282420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08320" y="253512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97280" y="2624040"/>
            <a:ext cx="192240" cy="23364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40200" y="2733840"/>
            <a:ext cx="101520" cy="9036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19480" y="283212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08320" y="3019320"/>
            <a:ext cx="41400" cy="8280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37120" y="302256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95960" y="321624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65800" y="327348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38800" y="335916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40240" y="337500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444920" y="3384720"/>
            <a:ext cx="64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52840" y="340524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465800" y="339048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468680" y="337176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471920" y="3351240"/>
            <a:ext cx="18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57800" y="423720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99080" y="448632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75120" y="43084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11840" y="373392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21320" y="388944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40240" y="384984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1840" y="388620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18000" y="373068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70280" y="3691080"/>
            <a:ext cx="250920" cy="16668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18160" y="373392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51280" y="3745080"/>
            <a:ext cx="176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776840" y="373680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803840" y="372276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834080" y="370512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898880" y="370188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06800" y="371952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94400" y="3726000"/>
            <a:ext cx="15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60760" y="3303720"/>
            <a:ext cx="498600" cy="45540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40320" y="314784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44880" y="347976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667400" y="374760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4673520" y="374292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673520" y="372744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476600" y="330804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476600" y="3293640"/>
            <a:ext cx="180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478400" y="328428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4471920" y="327312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4465800" y="327312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970520" y="35175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875120" y="3476520"/>
            <a:ext cx="10476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49760" y="3076560"/>
            <a:ext cx="46368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98880" y="350352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960800" y="3459240"/>
            <a:ext cx="12960" cy="172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870440" y="3688920"/>
            <a:ext cx="2376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902120" y="366192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4921200" y="3641760"/>
            <a:ext cx="1584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943520" y="362268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951440" y="360000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4940280" y="3584160"/>
            <a:ext cx="6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4911840" y="3574800"/>
            <a:ext cx="158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890960" y="357192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4871520" y="3560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46680" y="3535200"/>
            <a:ext cx="6480" cy="8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859280" y="354960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951440" y="356076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959360" y="353988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0440" y="2979720"/>
            <a:ext cx="187200" cy="13176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83200" y="308124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816440" y="2946240"/>
            <a:ext cx="29700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94200" y="2863800"/>
            <a:ext cx="308160" cy="23832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140440" y="285264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979880" y="351000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29040" y="344952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032440" y="306396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26040" y="1450800"/>
            <a:ext cx="2946240" cy="157356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02240" y="161604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64240" y="222732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68760" y="183996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713120" y="239724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99080" y="1930320"/>
            <a:ext cx="39600" cy="4788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62480" y="132876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40440" y="129528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08680" y="140328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979960" y="137304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056280" y="137628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991200" y="204948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186680" y="212724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24320" y="2732040"/>
            <a:ext cx="1270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818320" y="2346480"/>
            <a:ext cx="42840" cy="13788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407200" y="3209760"/>
            <a:ext cx="612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91000" y="313056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522760" y="2532240"/>
            <a:ext cx="689040" cy="35856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321160" y="308772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5305320" y="3121200"/>
            <a:ext cx="648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05320" y="314784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21160" y="31687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340240" y="3203640"/>
            <a:ext cx="111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354640" y="320652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369040" y="318564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5368680" y="316188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57880" y="313848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5347800" y="3123720"/>
            <a:ext cx="32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5335200" y="310788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42040" y="3102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64000" y="3114720"/>
            <a:ext cx="972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16560" y="314784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32400" y="3156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378400" y="323532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386320" y="32065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925960" y="3581280"/>
            <a:ext cx="23508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504040" y="331164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00600" y="335916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688000" y="3413160"/>
            <a:ext cx="123840" cy="16524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9240" y="333360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979960" y="3516480"/>
            <a:ext cx="192240" cy="24732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31080" y="350532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66000" y="375912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57880" y="400356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006960" y="400356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556240" y="397188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403960" y="40672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95960" y="236700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180120" y="358128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19800" y="322272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5430960" y="3222720"/>
            <a:ext cx="1260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445000" y="320976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443560" y="31860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 flipV="1">
            <a:off x="5443560" y="31683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5769000" y="3354120"/>
            <a:ext cx="158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5797440" y="332748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823000" y="334008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845320" y="332532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861160" y="332568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434280" y="339084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94320" y="444024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475320" y="4500720"/>
            <a:ext cx="52560" cy="3168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1520" y="4087800"/>
            <a:ext cx="241200" cy="28116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943600" y="406224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772320" y="422604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481800" y="417816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167520" y="438624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580080" y="448452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165720" y="425448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481800" y="360036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543720" y="389268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437160" y="385452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553080" y="386064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97720" y="379872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540480" y="383220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586560" y="3857760"/>
            <a:ext cx="11160" cy="205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512040" y="377820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34240" y="349884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762600" y="394344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618240" y="431172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681960" y="429408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657840" y="412596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496200" y="4457880"/>
            <a:ext cx="71280" cy="3168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912000" y="444024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481800" y="290340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413400" y="273204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602400" y="275256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99240" y="2581200"/>
            <a:ext cx="109440" cy="1684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589800" y="304812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640560" y="303696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08120" y="378144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08200" y="3922560"/>
            <a:ext cx="1461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641600" y="388152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54120" y="378936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023920" y="469908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209680" y="580068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043000" y="5451480"/>
            <a:ext cx="15840" cy="363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41720" y="590868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070000" y="481176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47840" y="581652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357280" y="503568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14520" y="572760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382840" y="572760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050920" y="551484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050920" y="565776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157480" y="586260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104920" y="5803920"/>
            <a:ext cx="22320" cy="2556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216160" y="474984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35000" y="405612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81440" y="197496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936960" y="466416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362480" y="491328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119480" y="4694400"/>
            <a:ext cx="217440" cy="24912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265800" y="457992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34240" y="564660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232760" y="578016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486560" y="5522760"/>
            <a:ext cx="13644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570800" y="471816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489800" y="50306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674120" y="480384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743960" y="48769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746840" y="4927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732720" y="457200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466040" y="505944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921360" y="3605040"/>
            <a:ext cx="32040" cy="432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24720" y="397656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112160" y="384804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473960" y="452448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601040" y="41608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738920" y="442764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004160" y="4300560"/>
            <a:ext cx="210960" cy="27792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182000" y="436572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43920" y="430200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616880" y="43988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40720" y="451476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43960" y="45720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746840" y="4630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515360" y="422604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419960" y="4449600"/>
            <a:ext cx="3024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385040" y="441324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399440" y="4464000"/>
            <a:ext cx="23760" cy="36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450200" y="446400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435800" y="4500720"/>
            <a:ext cx="20520" cy="3168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531800" y="356076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433760" y="362736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883040" y="469728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98440" y="1863720"/>
            <a:ext cx="33480" cy="270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92240" y="1897200"/>
            <a:ext cx="74520" cy="3780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984240" y="246852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95320" y="206676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92080" y="2222640"/>
            <a:ext cx="23760" cy="396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800360" y="383868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932040" y="255276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74760" y="140796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392200" y="267804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340000" y="280836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05280" y="207972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728880" y="3844800"/>
            <a:ext cx="270000" cy="26064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460760" y="4095720"/>
            <a:ext cx="187560" cy="2462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268960" y="309708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00560" y="310356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009800" y="315108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009800" y="314496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948040" y="5424480"/>
            <a:ext cx="142920" cy="13500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01840" y="540540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More than 50 000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751040" y="41940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17806800">
            <a:off x="3877200" y="414720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481800" y="359424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543720" y="388620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437160" y="3849840"/>
            <a:ext cx="44640" cy="9360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553080" y="385452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597720" y="379260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540480" y="382572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86560" y="385272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512040" y="377208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641600" y="38750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043520" y="4815000"/>
            <a:ext cx="36828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607000" y="3552840"/>
            <a:ext cx="173160" cy="1890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41560" y="5659560"/>
            <a:ext cx="142920" cy="1346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940120" y="5899320"/>
            <a:ext cx="142920" cy="134640"/>
          </a:xfrm>
          <a:prstGeom prst="ellipse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946240" y="6135840"/>
            <a:ext cx="142920" cy="134640"/>
          </a:xfrm>
          <a:prstGeom prst="ellipse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948040" y="6375240"/>
            <a:ext cx="142920" cy="135000"/>
          </a:xfrm>
          <a:prstGeom prst="ellipse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205080" y="5645160"/>
            <a:ext cx="21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From 10 000 to 50 000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01840" y="6361200"/>
            <a:ext cx="177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Less than 100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205080" y="5881680"/>
            <a:ext cx="21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From 1 000 to 9 999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05080" y="6111720"/>
            <a:ext cx="215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From 100 to 999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tion of retreatment cases among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mear-positiv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125600" y="6521400"/>
            <a:ext cx="500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For Russia, all cases are included not only smear-posi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684360" y="1006560"/>
          <a:ext cx="7561080" cy="566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006560"/>
                    <a:ext cx="7561080" cy="56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268200"/>
            <a:ext cx="7318440" cy="459288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100000">
                <a:srgbClr val="99ccff">
                  <a:alpha val="0"/>
                </a:srgbClr>
              </a:gs>
            </a:gsLst>
            <a:lin ang="135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94360" y="322200"/>
            <a:ext cx="24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zakhstan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660680" y="2522520"/>
            <a:ext cx="1872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13240" y="3913200"/>
            <a:ext cx="5630760" cy="294480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99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093080" y="3233880"/>
            <a:ext cx="20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yrgyz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222880" y="4135320"/>
            <a:ext cx="3362400" cy="2379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487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notified new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852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ified retreatmen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eat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6.4%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f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26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of retreated cases c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4.3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6.1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Rt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non-nat'l-CR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003320" y="1154160"/>
            <a:ext cx="3529080" cy="3018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9,706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notified new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,900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ified retreatmen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eat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3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of ss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survey indicates 47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4.2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new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6.4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re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71.8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resistant to all drugs tes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st 11,025 MDR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223920" y="235080"/>
            <a:ext cx="8496360" cy="616572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gradFill rotWithShape="0">
            <a:gsLst>
              <a:gs pos="0">
                <a:srgbClr val="171746"/>
              </a:gs>
              <a:gs pos="100000">
                <a:srgbClr val="333399">
                  <a:alpha val="9019"/>
                </a:srgbClr>
              </a:gs>
            </a:gsLst>
            <a:lin ang="81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262240" y="800280"/>
            <a:ext cx="127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490840" y="3189240"/>
            <a:ext cx="23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325600" y="2546280"/>
            <a:ext cx="5505480" cy="2989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67,414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notified new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8,881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ified retreatmen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eat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5.7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of ss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20% DOTS vs. 30% non-DO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/ 31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provinces survey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DR among new rang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2.1% – 10.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DR among rtmt rang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17.5 – 36.6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MDR-TB CASES INFLUENCING THE EPIDEM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ature Medicine, Septembe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ling epidemics of multidrug-resistan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 tuberculosi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heterogeneous fitness (Ted Cohen &amp; Megan Murr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ling the emergence of the "hot zones":  tuberculosis and the amplification dynamics of drug resistance (Sally M Blower &amp; Tom Cho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LLOW-UP OF CHRONIC TUBERCULOSIS PATIENTS IN HO CHI MINH CITY, VIETNAM,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Quy et al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9% 2 year survi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6% and 69% culture/smear positive (MD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mission to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2002 Sales by Country</a:t>
            </a:r>
            <a:br>
              <a:rPr sz="3600"/>
            </a:br>
            <a:br>
              <a:rPr sz="3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preomycin (units = vials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Cycloserin (units = capsu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2166840" y="2338560"/>
          <a:ext cx="614520" cy="69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6840" y="2338560"/>
                    <a:ext cx="61452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6388200" y="2397240"/>
          <a:ext cx="563400" cy="58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88200" y="2397240"/>
                    <a:ext cx="5634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2166840" y="4686480"/>
          <a:ext cx="614520" cy="6998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66840" y="4686480"/>
                    <a:ext cx="61452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5292720" y="2133720"/>
          <a:ext cx="3630600" cy="33112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92720" y="2133720"/>
                    <a:ext cx="363060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684360" y="2133720"/>
          <a:ext cx="3733560" cy="331128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4360" y="2133720"/>
                    <a:ext cx="373356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"/>
          <p:cNvSpPr/>
          <p:nvPr/>
        </p:nvSpPr>
        <p:spPr>
          <a:xfrm>
            <a:off x="8367840" y="1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76200" y="381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8296200" y="111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92200" y="1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919840" y="14778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09:07:40Z</dcterms:created>
  <dc:creator>smythc</dc:creator>
  <dc:description/>
  <dc:language>en-US</dc:language>
  <cp:lastModifiedBy>smythc</cp:lastModifiedBy>
  <dcterms:modified xsi:type="dcterms:W3CDTF">2004-10-06T11:24:38Z</dcterms:modified>
  <cp:revision>13</cp:revision>
  <dc:subject/>
  <dc:title>    </dc:title>
</cp:coreProperties>
</file>