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E6BA-26F1-49F5-B5FA-5619D42DA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8B47-740F-4FB8-906D-40EEF6F02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9BAF-FBEE-467D-A72E-F8DE8F81D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4A13-F8D2-4442-BD5B-C99626892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A73E-78E1-42ED-8AD6-90B453888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29D5-EBBB-4ABF-B637-F6E453DBE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192A-32F4-41A9-9642-F4196FBF2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A87E-392B-4ED2-BD3D-36DE596B0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ED7-744D-4F2D-ADA9-DB0675D5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DF2-858A-428A-9460-741E4EB1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DFA-8F57-4EB2-BC2D-98BE77B2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EAA-F605-4585-A097-940A84C7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5D2E-460D-4A2A-ACC0-99E5174B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A9EE-6608-455A-A5DF-03934935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853E-B729-4CE2-B99D-F66AF737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3CDF-09DE-43B2-BD85-E394B273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3572-263A-44F0-9E4B-B25BBFD4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3933-56E6-4392-BFC3-C80177D8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1DC7-6134-4EF5-ADE3-F586A886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A9C-C7AC-4D25-AD4D-CBB83439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86E4-A7AA-4604-9A59-6CFB4365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AD96-FAE3-41D1-97EE-98B1CB6A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EC59-0FFC-48DD-A614-3733F993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3441-140F-4CC9-9E75-BF52D08E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48E3-540D-41F9-8D92-3520C1B6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B44-9F11-4B4D-9E88-7890E580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4913-A2E0-4370-B9DA-516B352F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313-DDAC-4E08-9679-1FFF5FDC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9B8-A492-444A-AA4C-F6977BDE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867F-BEDB-43DA-AB80-9E390AE5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0E0E-57B4-4A44-BEB0-E1CFE493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5FD-7026-4F69-B9B2-36F1B671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4A60-C51E-4468-8587-A24241EFB3F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79C1-FCE9-484A-B150-C3584DF6478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 Mobilisation Action Pla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2004-2005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ased on the 2003 Resource Mobilisation Strategy and modified to reflect changes in the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eeks to generate resources for the Partnership as a whole and the Secretariat-management programs in particul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ed: US$3.77 billion for the Partnership as a whole and US$40.6 million for the programs managed directly by the Secretariat (GDF, working groups,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tion Plan Objectiv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a set of support structures &amp; formal process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ete baseline information on donors and resources contributed by the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trategic alliance between Stop TB and other development oriented institutions/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422360" indent="-507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BM, UNAIDS, GFATM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-examine and revamp the Resource Mobilis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internet for fund raising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532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donors recognition &amp; support for the Stop TB Partnership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llaborate with the Communication and Advocacy working group to develop a global communication strategy that has fund raising as an integral pa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resource flow from the existing supporters in a timely manne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 support from bilateral governm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closer ties with GFAT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ultivate support from the EU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dentify several private foundations/commercial enterprises to engage as new supporter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links with fraternal organisations like the Rotary Internation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2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possibility of securing the support of high net worth individuals</a:t>
            </a:r>
            <a:r>
              <a:rPr b="1" lang="en-GB" sz="8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new fund raising products and approach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termine the type of products that will appeal to       donors and that will make the case clear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cause-related marketing with some large multinational enterpris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concept of planned giving fo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high-net worth individu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Convert the Resource Mobilisation Task Force into and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ad hoc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 advisory group available to the Secretariat and the Board on an as needed ba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Operationalise the Resource Mobilisation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llocate responsibil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sequenced schedule of work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time line with all concern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on resources to be allocated for the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Execute the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Update the plan based on a feedback in November 2005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4:33Z</dcterms:modified>
  <cp:revision>33</cp:revision>
  <dc:subject/>
  <dc:title>Financial situation,  Budget &amp; plans 2005</dc:title>
</cp:coreProperties>
</file>