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55C-9911-4A79-BB75-36AA70BB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3EC0-05AB-4F9D-A293-05F074C8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B98-7F8E-4E5A-8945-5EFDD686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D61-4C6F-444A-A7EE-0C1B7598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8F73-ED39-415A-9A5A-2380BBB9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CD00-7AF6-4B96-A418-8584A3B4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5880-CE44-4E31-8153-D27D7970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8979-012A-4F8F-86EB-01EFF6C9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6451-20E7-4A38-99C0-60AE49C3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0A99-955A-43C0-A805-889236C6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5C02-7BB0-4413-85E6-EFFC7817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91D-4813-4491-8389-9DAF6844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D12B-C45A-4490-8530-85DDC90E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4F8A-F491-4AD1-B858-5DC97CB1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7AFC-411D-477A-80FE-C92F2351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8581-4516-4D1B-8C07-AB0B783B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E1B6-21A0-48EB-AAA6-8A77FA38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D16-1251-4EFC-A1EE-4274548B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FCD9-B618-4AE4-8A11-C18BCAFB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3B4-3352-4C58-900E-BDC71714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1EC9-ECBE-49B5-A298-49082998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7DDF-B9D6-44BD-9717-E39E6E67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DC7-E1DC-46F9-B8D4-A55C015A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04A-4A73-43CE-9FCA-A0C76611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49A5-5C75-46BE-98FB-B7BF3EA5348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0003-6D59-4614-92FF-11AE76FFDA2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for Action on TB and Povert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9319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mote access to DOTS and TB 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gramm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is the Network Action on TB and Poverty 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 platform for TB control and Poverty experts to create a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synergy for coordinated action in support of poor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ction and output orient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ase detec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ure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vidence and performance bas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inking TB control with global and local poverty alleviation initiativ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Managed by t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National Tuberculosis Programme of Malawi, in conjunction with the local NGO Reach Tru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ctive participation from the DOTS Expansion Working Group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Why do we need .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istribution of TB is higher among the poor than the non poo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 easy access for the poor to health services due to: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athways to diagnosis of TB patients extended due to repeated visits to different care providers, regardless of socio-economic statu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spend proportionally more on accessing TB diagno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are sometimes actively excluded from TB servic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OTS can help to fight poverty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o-poor access to DOTS helps reaching the TB targets of case finding and c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twork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age key stakeholders to promote action on TB and Poverty prioritising the AFRO reg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case studies will be presented at the IUATLD Par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ster research to inform TB control operations and poli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te pro-poor approaches using DOTS and link up with other initiatives and funding (e.g. Fidelis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etwork Product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ovative pro-poor approaches in DOTS applied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Guide on TB and Poverty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framework for mainstreaming of poverty in TB control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&amp;E on poverty mainstreaming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ional research on demand from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s and exchanges with other health equity initiativ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ds to the demand from countries on how to mainstream TB poverty in DOTS and TB control programm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tive paper on TB and Poverty as policy guiding tool and practical roadma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strategic and practical guidance to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O Guide on TB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nd Pov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unching the WHO guide on TB and Poverty for NTP manag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anding TB Poverty related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cilitate representation for the network to the other working group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mote special features on TB and Poverty at national/regional meeting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Nils Billo</cp:lastModifiedBy>
  <cp:lastPrinted>2004-03-17T17:37:17Z</cp:lastPrinted>
  <dcterms:modified xsi:type="dcterms:W3CDTF">2004-10-14T00:25:33Z</dcterms:modified>
  <cp:revision>176</cp:revision>
  <dc:subject/>
  <dc:title>Secretariat, 2003 Progress Report</dc:title>
</cp:coreProperties>
</file>