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E4F19-401B-48F6-B9FC-4E5A238E4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B93E0-194B-48CA-9CF8-F053BC3F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225C9-B077-40EC-BCF8-F2A62A83A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6C4D6-BEA4-4CE5-9F5C-2AB9AFB0B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7AFA-DC31-4F4C-890F-5307FA167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F1B2-E556-4123-8F1D-4C88D67D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E55C-E7B1-4309-86ED-724157D6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FA680-0353-4E8F-A87E-4491DA79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3A19-0986-40D1-B93E-EE280774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2DF6-3FAF-4E73-BE95-C27434CB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A6AB-13C1-4A7C-BF63-C8E55E08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C23E4-58ED-460A-BD6C-D65E7A9B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CDB9-EA7C-4C47-A0DC-82DF3FB6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830F-1475-479F-B7FE-E653DA76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245D5-C3E8-4B95-BA89-0357D985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7576-DD1C-4BF1-84F6-C23B69CB3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0198-77FE-475C-9A97-3ACEFB706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CB24C-BDEF-4AAF-899E-71E66B86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B0384-E98E-4786-8A57-66A9AF34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04A7B-F18F-4730-ADF2-F8ED9FC3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6B8B6-BED8-4B53-8414-186D6EA2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97EF9-D4A0-4BBE-A1CD-67B20775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C3A53-9944-4A6B-82F9-A72D8EF8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0BC33-D41A-4CE8-9CEA-E39F4570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469F-2128-412E-A8F8-B5846338E71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361D-DE17-4D57-88FD-6AD6952E682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: Short summary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ichael Luh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ctober 200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Purp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uild political will for achieving the MD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able people's actions in holding their governments accountable to the Millennium Pled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ampaign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pproa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orking with coalitions and partnerships in 3 area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rassroots advoca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edia and public awaren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olicy chan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Key partnership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North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Parliamentarian Network of WB's Implementation Watch, MDG organizations in USA, UK, Italy, Spain, Ireland, Austral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CSOs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Oxfam, Amnesty Int'l, Trade Justice Movement, Social Watch, Civicus, Global Campaign for Education, People's Health Movement, World AIDS Campaign, Save the Children, Global Movement for Children, Plan Internat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Faith-based Group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 Caritas, Cidse, Micah Challenge, Vatican Commission Justicia &amp; Pax, World Parliament for Relig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Media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:  BBC Trust, All Africa.com, EFE, IPS, One Worl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Events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: Barcelona Forum, Rome Marathon, Olympics, Rock in R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Key Events in 200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UN Heads of State meeting, Sep 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G8 meeting with development and MDGs focus, Jun 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Doha Round: Global Week of Action (Apr 05), Ministeri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meeting (Dec 0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Financing for achieving the MDGs: Lula/Chirac summit, Sep 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outh-South and North-South linkages linked to World Social Forum and other initiativ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ngagement with Stop TB Partner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High-level meetings with STB Global Ambassador Rahman in NYC, Apr 04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Campaign Director Salil Shetty to address IUATLD world conference in Paris, Oct 0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Rahman to participate in India national MDG campaign meeting, Nov 0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MDG Campaign regional partners and in selected countries  to mobilize for WTBD, Mar 0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09:05:18Z</dcterms:created>
  <dc:creator>luhanm</dc:creator>
  <dc:description/>
  <dc:language>en-US</dc:language>
  <cp:lastModifiedBy>luhanm</cp:lastModifiedBy>
  <dcterms:modified xsi:type="dcterms:W3CDTF">2004-10-11T16:14:43Z</dcterms:modified>
  <cp:revision>2</cp:revision>
  <dc:subject/>
  <dc:title>MDGs Campaign: Short summary</dc:title>
</cp:coreProperties>
</file>