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B5042E-C207-4330-B9BF-7F913090F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8403B4-CABF-4DD6-96CB-251FDA0D9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C67D1F-8164-415C-8823-4381A120F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EB1EA1-5631-4A59-8128-7210DFFFC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C34053-7B8D-4D0E-99D9-412E18027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BC5954-A81A-4E9C-BA6F-EA64A0936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123709-C4E0-4575-B855-1820AB795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099DBC-D2AF-454E-B4BE-50B599A62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B103B0-7AC6-4C01-9128-FFEE202F6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965802-1ED1-4812-BDCA-C610574B6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CB9D8D-68CA-4008-B2AC-9CE416E98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E35CA7-A3DE-47BB-B6AB-2854EE804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916360" y="6248520"/>
            <a:ext cx="5400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top TB Coordination Board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66"/>
                </a:solidFill>
                <a:latin typeface="Tahoma"/>
              </a:rPr>
              <a:t>14 October Beij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ftr" idx="4"/>
          </p:nvPr>
        </p:nvSpPr>
        <p:spPr>
          <a:xfrm>
            <a:off x="2843280" y="6165720"/>
            <a:ext cx="3184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top TB Coordination Board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4 October Beij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37326-A619-4AF1-B322-C50F64AA2ACB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11280" y="349992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national and regional initiatives</a:t>
            </a:r>
            <a:endParaRPr b="1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"/>
          <p:cNvSpPr/>
          <p:nvPr/>
        </p:nvSpPr>
        <p:spPr>
          <a:xfrm>
            <a:off x="1039320" y="2202840"/>
            <a:ext cx="689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Partnerships to Stop TB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Existing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Partnership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00000"/>
              </a:lnSpc>
              <a:spcBef>
                <a:spcPts val="7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National Partnership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1168560" indent="-71136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op TB Canada (Feb' 01)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1168560" indent="-71136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op TB Indonesia (Jan' 02)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1168560" indent="-71136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op TB Pakistan (April' 04)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1168560" indent="-71136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op TB Mexico (Sept '04)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11685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Energize Partnerships in countries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ecretariat develops support products for countries: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Advocacy &amp; Communication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Communication Handbook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B Control and DOTS Expansion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Needs Assessment : Uganda, Brazil, Indonesia, Pakistan 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Tahom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DF &amp; ISAC country support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Tahom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rtnership IT products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Clr>
                <a:srgbClr val="000000"/>
              </a:buClr>
              <a:buFont typeface="Tahom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ternet, online discussion etc.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Tahom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source Mobilization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Clr>
                <a:srgbClr val="000000"/>
              </a:buClr>
              <a:buFont typeface="Tahoma"/>
              <a:buChar char="—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ethical guidelines, how link with CCMs, donors and business sector, innovative approaches 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Clr>
                <a:srgbClr val="000000"/>
              </a:buClr>
              <a:buFont typeface="Tahoma"/>
              <a:buChar char="—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engaging non-traditional partners 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Accelerate Progress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2004-2005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lnSpc>
                <a:spcPct val="8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ew National Partnerships to Stop TB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2" marL="1523880" indent="-609480">
              <a:lnSpc>
                <a:spcPct val="8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ganda, Nigeria, Brazil, Russian Federation, France and Croatia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812880" indent="-812880">
              <a:lnSpc>
                <a:spcPct val="8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Sub-) Regional Partnerships to Stop TB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2" marL="1523880" indent="-609480">
              <a:lnSpc>
                <a:spcPct val="8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Europ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: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3" marL="1879560" indent="-507960">
              <a:lnSpc>
                <a:spcPct val="8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uropean Partnership to Stop TB (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Stop TB Europ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3" marL="1879560" indent="-507960">
              <a:lnSpc>
                <a:spcPct val="8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entral Asian Republics Sub-Regional Partnership under development with stakeholder analysis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2" marL="1523880" indent="-609480">
              <a:lnSpc>
                <a:spcPct val="8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South East Asia and Africa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: under development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81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Future Plans 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nteraction of the Advocacy and Communication Working Group with the various partnerships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onal Workshop on Advocacy and Communicat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ffective use of the Stop TB '</a:t>
            </a: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Champions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'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Join forces with other initiatives and partnerships (GFATM, 3by5, RBM etc.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Use national and international political platforms to get TB on the agenda (European Union, ASEAN, SAARC, ADEAN, African Union, NEPAD etc.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09:46:41Z</dcterms:created>
  <dc:creator>MudasiaE</dc:creator>
  <dc:description/>
  <dc:language>en-US</dc:language>
  <cp:lastModifiedBy>steenbergeng</cp:lastModifiedBy>
  <cp:lastPrinted>2004-03-17T17:37:17Z</cp:lastPrinted>
  <dcterms:modified xsi:type="dcterms:W3CDTF">2004-10-07T11:32:42Z</dcterms:modified>
  <cp:revision>206</cp:revision>
  <dc:subject/>
  <dc:title>Secretariat, 2003 Progress Report</dc:title>
</cp:coreProperties>
</file>