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A47-6C01-4CF8-99CB-E751EA2E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7BB-4080-4858-8623-8E071447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E3F-05FF-4184-BB6B-840AE0B3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1A1-22CB-46D3-A571-8F8A88E4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7B9D-8F69-43E2-A321-F88B753F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B8BA-254D-4BB4-9A0C-080828F1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E8DD-4C87-40FE-9714-230325AA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67A4-EE71-4DBB-8729-716FE922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A764-6DEE-4E2B-97DA-E9DDDF96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538B-9117-44D9-9D23-89DE1C80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F156-7E97-4393-BFFF-0B606C51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867-0502-45F5-9665-C979F960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2663-37A2-419C-A567-6122D86E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CB3D-12C6-4BC6-A58E-0FD353CB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46C0-DA0A-4312-81C1-28E0E731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A3D2-C50A-4475-9B09-3D577D11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92F3-0799-4318-BC2B-859C3444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7C32-FAD9-47C6-86C6-DD9111C4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67E-C20E-40E8-9E7A-7120DECB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B31-5FD2-4B29-B29E-BEC5883C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E22-1E25-4542-8FBB-E7FF59B8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9F2-5160-4999-8563-6D0739BD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4BE-6366-4A13-8233-1896BFB4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2EB-FC49-4541-938D-9CDC9868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FE5F-EBAF-457F-ACBC-B47D1B0D0B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641C-7D2C-46B4-847F-908093B385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  <a:ea typeface="宋体"/>
              </a:rPr>
              <a:t>Highlights 2004 &amp; Priorities 2005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National partnerships, TB &amp; Pover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Second Global Plan to Stop T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Global TB Drug Facility (GDF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Advocacy &amp; Commun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Finances &amp; 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Priorities end-2004 and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ctivate Advocacy and Communication Working Grou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tensify advocacy efforts in Canada, Japan, USA, UK, European Un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funding for TB and TB/HIV in Round 5 of GFATM and incorporate AC activities into key HBC propos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talyze AC activities with HIV/AIDS groups to accelerate uptake of TB/HIV collaborative activities at country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duct 4 regional AC needs assessments/trainings (AMRO, AFRO, EURO, WPRO) and 4 at country level (Brazil, Indonesia, Pakistan, Uganda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B approved Financial Policy being applied which led to better control through  improved financial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ncial transactions of GDF stream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 Working Groups given resources to catalys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&amp;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f the total expenditure of US$10.8 million, TB Control Drugs cost 78%, while other partnership activities cost 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income for the whole year US$23.1 million, projected expenditure US$ 23.6 million (as per the Operational Work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lights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shortfall for 2005 is US$25 million based on Targeted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certed effort to be made for mobilising more resource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targeting more donors in the current donor seg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exploring new donor segmen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developing new resource mobilisation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inued catalytic support to all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loser ties with 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Secretariat of the Network for Action on TB and Poverty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 platform for TB control and opportunity for Poverty experts to create a synergy for coordinated action in support of countries and the poor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Guide for NTP managers on TB and Pover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In response to the demand from countries, endorsed by the STAG and DEWG, WHO spearheads this normative publication on how to mainstream pro-poor approaches in DOTS and TB control programm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 to Stop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Uganda, Brazil, Russian Federation, (France, Croatia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Launching the WHO guide on TB and Poverty for NTP manag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panding TB Poverty related activit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(Sub-)Reg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 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pean Partnership to Stop TB (Stop TB Europe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R Sub-Regional Partnership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EARO / AFRO :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" y="138240"/>
            <a:ext cx="442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13000"/>
            <a:ext cx="86598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ogress in first half of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rvey of partners' views on the first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ment of outline of Global Plan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of steering committee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to develop scenarios for reaching MDG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on developing contribution of each Working Group to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382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4130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Key activities in second half of 2004 and in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cenarios completed for reaching MDG for TB (epidemiological forecasting and cos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ributions of each Working Group to the Plan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completed, reviewed widely and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finalised and published in time for UN summit on MDGs,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Achiev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rugs delivered t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5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ies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3.24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million patien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0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y evaluations organized by GDF/STB Partners.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OTS Coverage - average increase of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20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per GDF count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Additionality -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8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GDF recipients increased expenditure on T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Cost - Average drug cost per patient: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~$1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ocurement -  lead time met for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77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of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Quality -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ll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GDF batches passed independent QC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958160" y="5157720"/>
          <a:ext cx="1185840" cy="17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8160" y="5157720"/>
                    <a:ext cx="1185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Fu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Maintain the Gain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verage, programme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ice, quality and servi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Fill new gaps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itional grants, non-traditional user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vide new service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ediatrics, diagnostics, expanded monitor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mprove Drug Management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2005 Training in AFRO, SEARO, EMRO, EUR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USA Media Tour, 20-29 Sep 04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urpose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ngage Congress for more TB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media attention to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n full partners meeting for November 2004 for advocacy and legislative a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ed in collaboration with CB members, RESULTS, ATS, Global Health Council, OSI, Global Alliance for TB Drug Development and other Stop TB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Outcom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Cities in 7 days—DC,  NYC, Indianapolis and L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etings with Congressional staffers, Rep. Sherrod Brow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10 Editorial board meetings or interview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dia stories and count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Speaking engagement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Full US Partners meeting set for 14-15 November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Last minute legislative push  plann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rch-October 2004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Media promotion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Major TV and newspaper coverage of MDR-TB report -- Rahman appointment -- Partners Forum/WTBD -- Int'l AIDS Conference -- Lancet report on China --  TB/HIV meeting in Addis Ababa -- USA tou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720000"/>
                </a:solidFill>
                <a:latin typeface="Tahoma"/>
              </a:rPr>
              <a:t>Global coverage of the Stop TB Partnership, and regional coverage of DOTS expansion in Africa and Asia, are now at their highest levels ever in major media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Advocacy materials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Joint UNAIDS/Stop TB info pack on TB/HIV -- Progress Report on GPSTB -- 25 minute documentary film on BBC World TV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Partnership building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Well-established alliances with UNAIDS and HIV/AIDS community -- formation of Advocacy and Communication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heitkampp</cp:lastModifiedBy>
  <dcterms:modified xsi:type="dcterms:W3CDTF">2004-10-05T09:56:54Z</dcterms:modified>
  <cp:revision>11</cp:revision>
  <dc:subject/>
  <dc:title>Financial situation,  Budget &amp; plans 2005</dc:title>
</cp:coreProperties>
</file>