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EAB4-77CE-4B20-BEBE-0B387EDC9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Trust Fund at 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Bank levies a  3% Admin Fees on money passing   through this trust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Interim Trust Fund at 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has a 6% reduced PSC (compared to 1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(interim programme support cost) of 6% reaso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put to increase substantially as resource mobilisation gathers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number of transactions (financial legal, and other) over a 12 month period is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82720" y="73980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of 6% reasonable (Cont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 fees to-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% to W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 to WHO on an exceptional basis till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 goodwill gesture by WHO while it shouldered the full burden of admin work associated with drawing up and  implementing the contracts for using funds at the WB T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cost per transaction US$275 at the rate of 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y below the actual estimated cost $1,275 (Informally advised by WH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 the Operating Principles of the Stop TB Partnership Trust Fund at 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to the 6% PSC for the Interim Trust    Fund at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 the negotiating team to aim for agreeing with WHO a similar fixed percentage admin fees (6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71F-AD11-473F-A1CC-F0EE06B5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BC2A-3678-4E6F-BC57-C458B11D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E67-48D4-439A-AE73-DB1674A6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97D-C49F-4FB2-BC51-3E059035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405E-A712-4B56-BB56-EF4F0DA0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425F-F101-4426-AA1F-795B550F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B91D-9753-4363-BF77-AA1DC3A1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4266-9E70-4691-B4D6-FFE57554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2A4E-D948-4F18-9DC5-3985C86D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16B4-482E-465E-9E49-33B2D3D5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E440-97F4-44CB-8B90-15CC4DBA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6B8-22F7-4379-B2CC-CE587842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8B4A-6453-4375-9778-EC756E77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BCFA-FEAA-4218-B6C2-8DCD9F7B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57B4-6AA4-4B48-9790-5C3B8579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9CF9-952A-4F3F-A162-27F40062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68FE-B19B-4B0E-8BD9-9B56F209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EAB-050A-46EB-B917-91EFF37C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D22-391D-4622-980F-5BAB442D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4DC-700E-4023-8E3C-A5BCD3A4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54C9-E23B-4E4E-B067-E09D28D7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276-7411-4B27-89E8-96DF9E6F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098-00BD-4902-ADB1-6C681386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990-1EE6-482D-85D0-AA27A80A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961C-853C-4CF5-B559-AB3D79CA16E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4884-6C92-4554-8F5B-DD952BF1EFE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Stop TB Partnership Trust Fund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urrent Statu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Two Trust Funds at Pres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Trust Fund at  the World Bank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e Bank levies a  3% admin fees on money passing through this trust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It has a 6% reduced PSC (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s opposed to its usu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13%)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e.g. DFID contribution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the WB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duced PSC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Final Trust Fund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f 6% reasonable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unding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o increa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e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substantially as resource mobilisation gathers moment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number of transactions (financi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, contractual, administrative 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legal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logistic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and other) over a 12 month period i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aro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5,000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duced PSC of 6% reasonable (Contd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dmin fees to-dat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3% to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0% to WHO on an exception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interim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basis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since      February 2003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cost per transaction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with WHO Trust F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US$275 at the rate of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Operating Principles of the Stop TB Partnership Trust Fund at WB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transfer of funds every six months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interest accrues to the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procurement policies of WHO app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standard WB and WHO repor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6% PSC for the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irect the negotiating team to aim for agreeing with WHO a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n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ppropriate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fixed  admin fees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the definitive Trust Fund including a mechanism for adapting the fee to changing throughpu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1:16Z</dcterms:modified>
  <cp:revision>82</cp:revision>
  <dc:subject/>
  <dc:title>Slide 1</dc:title>
</cp:coreProperties>
</file>