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AAEF-D9CC-45CD-845B-7D07A536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5821-F7D4-4E19-8EA7-EA63F304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62FA-B1D1-41F1-9917-8EEC895F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8CFE-B5DD-4FE5-A10A-9CAF7C22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4407-5D85-4165-BB8F-CF7E939F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8B54-F2F3-4F37-802B-6D79685F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CCDF-ED68-4426-9964-E809C9D4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D0F8-3D71-4F2E-B16D-F1917F97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0526-EE03-4DD4-8686-ADC04168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EBC9-AEBD-4DB5-B971-A6724CED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23CE-7E69-48FD-966C-4700FDFE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A0C7-2622-43F8-BD7A-FD4537FB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392A-2A05-4EAA-B2DC-8AB6155E3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1341000"/>
            <a:ext cx="7632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approved Financial Policy being applied which led to better control through  improved financial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transactions of GDF streaml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Working Groups given resources to catalyse thei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lk of the contributions from Bilateral Government sources-85.5% of the total income of US$13.8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total expenditure of US$10.8 million TB Control Drugs cost 78% while other partnership activities cost 23% of the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ed income for the whole year US$23.1 million, projected expenditure US$ 23.6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ed shortfall for 2005 25 million based on Targeted Work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rted effort to be made for mobilising more resources by targeting more donors in the current donor segments and by exploring new donor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ed catalytic support to all Working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 draft of the Global Plan to control TB to provide overall business plan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with GFATM to become clo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and Communication effort to be intensified considerable to increase political support and enhance public awarenes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8:56:30Z</dcterms:created>
  <dc:creator>vijaya</dc:creator>
  <dc:description/>
  <dc:language>en-US</dc:language>
  <cp:lastModifiedBy>vijaya</cp:lastModifiedBy>
  <dcterms:modified xsi:type="dcterms:W3CDTF">2004-10-04T09:49:34Z</dcterms:modified>
  <cp:revision>6</cp:revision>
  <dc:subject/>
  <dc:title>Highlights</dc:title>
</cp:coreProperties>
</file>