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53CA-20BB-45A6-A575-DF0D0651501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93DB-BE27-48A7-B27E-C2858977993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sterdam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B9A-35FE-44AF-9E20-50D1EE2E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95CF-E6D7-41C1-8E96-F0B7CB7C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428-B55E-46F5-B8AD-6FE5FB4A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C78-974D-4545-BC61-5262162A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E68E-5E5C-4053-A1E6-76AFB8EE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97C6-76F7-4FBA-8AD9-C788F6C0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93C9-CBE6-4133-B8E5-7C30E9D6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C9AE-45BD-4586-A7B1-820A54D8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5C3B-833B-48C1-822B-FEC003AF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8BD5-A483-4155-94E4-9459914C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1BDC-9594-4931-8889-79EA925B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A48A-A9F8-4E6A-82A6-62B0E4AA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2F03-0831-429A-A28E-A499E6E2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BC2D-01E4-41FD-AF68-5C91DE28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C4ED-C2F5-41D2-A6EA-7BDF534E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CF7A-0987-40D3-82E5-743F7BB7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AAFA-140B-441D-90C4-091D3020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CC9C-3227-4C19-8208-F0EB7B61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236F-EBF6-445C-A594-DC0B8E41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A1A-88C8-46B7-A9D7-FA27A991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1A5E-25FB-4157-A12D-A4FE90B4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127-5ADE-42E0-81DE-2646387A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0A5E-3D23-4345-9BC1-B1E627EF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B3B-258D-468D-A647-7653F737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FCD8-B790-4D2A-A1E8-2EFA8C9ED94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3E45-7654-42AB-92DA-3E3909B9B75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6421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lobal Partnership issues &amp; planning:</a:t>
            </a:r>
            <a:br>
              <a:rPr sz="2000"/>
            </a:br>
            <a:br>
              <a:rPr sz="20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lobal Plan II progress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-  Working groups: MDR-TB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  <a:ea typeface="宋体"/>
              </a:rPr>
              <a:t>-  Partners Forum Evaluation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  <a:ea typeface="宋体"/>
              </a:rPr>
              <a:t> 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ir:   Giorgio Roscigno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apporteur:  Nils Billo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360" y="1890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Global Plan to Stop TB, 2006-1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1484280"/>
            <a:ext cx="8605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ey feat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ilds on first Global Plan (2000-05) and Progress Re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10 years' timeframe (2006-15), leading to 2015 MD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mplementary to MDGs TB working group report (that calls for support for the Global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sistent with proposed WHA resolutio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pports national needs for long-term planning and financial sus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s strategic directions set out by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ad hoc Committee on the TB epide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contributions of each WG's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0960"/>
            <a:ext cx="6300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view of progress in developing Global Plan, 2006-201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57360"/>
            <a:ext cx="85881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Ma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Executive Board approved resolution on Global Plan for 2005 World Health Assemb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Strategic and Technical Advisory Group endorsed outline of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sent to all partners for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l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endorsed by Coordinating Bo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Augus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teering committee endorsed by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ep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 initiated on pro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4211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484280"/>
            <a:ext cx="87058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1. Board endor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) key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) development of projections to inform plan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2. Board requests each WG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velop plans (2006-2015) in contribution to the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a focal point from the W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resource needs for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3. Board proposes launch of Global Pla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ither a) between WHA (May) and UNGASS (Sep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 b) late 2005, e.g. November Board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4067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484280"/>
            <a:ext cx="87058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4. Board endorses approach of advocacy champ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lson Mandela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martya Sen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ofi Ann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*preference to write foreword by one of th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5. Board endorses dissemination of Global Plan advocacy messages to key constituencies, including HIV/A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agnitude of the proble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Dye C, Espinal MA, Watt CJ, Mbiaga C, Williams BG.  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Worldwide Incidence of Multidrug-Resistant Tuberculosis.  </a:t>
            </a:r>
            <a:r>
              <a:rPr b="0" i="1" lang="en-US" sz="1200" spc="-1" strike="noStrike">
                <a:solidFill>
                  <a:srgbClr val="720000"/>
                </a:solidFill>
                <a:latin typeface="Tahoma"/>
              </a:rPr>
              <a:t>J of Infec Dis</a:t>
            </a: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; 2002;185:1197-202.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Important recent development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OTS-Plus not longer limited to so-called "hot spots"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GLC was able to start, maintain and expand it's operations thanks to grants from different donors, including the B&amp;M Gates Found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comes to an end: mid July 20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…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Acknowledges GLC plays a pivotal role in the control of MDRTB/ prevention of the emergence of resistance to 2</a:t>
            </a:r>
            <a:r>
              <a:rPr b="0" lang="en-GB" sz="22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 line drugs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financial sustainability of GLC is at stake—donors should be mobilized to ensure the financial sustainability.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stimated budget (next 3 yrs): 5 million US$/ operations GL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additional funding is required at country level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laboratory capacity strengthening,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urchase of 2</a:t>
            </a:r>
            <a:r>
              <a:rPr b="0" lang="en-GB" sz="20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line drugs,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human resource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Endorses and supports intensified coordination/ collaboration between DOTS-Plus WG, DOTS Expansion WG and New Diagnostics WG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33200"/>
            <a:ext cx="54104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920" y="1484280"/>
            <a:ext cx="734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Amsterdam Declaration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to Stop TB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March, 2000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rst Stop TB Partners' Forum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Oct 2001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23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w Delhi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Stop TB Partners Forum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(March 2004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um funct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ssembly of the Partnership—Inclusive, consultative meeting of partn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solidate and increase support &amp; commit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Review and comment on Partnership progres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tform of information exchange on progress, problems and challeng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093080" y="1484280"/>
            <a:ext cx="1969920" cy="1555920"/>
            <a:chOff x="7093080" y="1484280"/>
            <a:chExt cx="1969920" cy="15559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0" t="0" r="0" b="8274"/>
            <a:stretch/>
          </p:blipFill>
          <p:spPr>
            <a:xfrm>
              <a:off x="7093080" y="1484280"/>
              <a:ext cx="1969920" cy="1555920"/>
            </a:xfrm>
            <a:prstGeom prst="rect">
              <a:avLst/>
            </a:prstGeom>
            <a:ln w="0">
              <a:noFill/>
            </a:ln>
            <a:effectLst>
              <a:outerShdw dist="89604" dir="2700000" blurRad="0" rotWithShape="0">
                <a:srgbClr val="a50021"/>
              </a:outerShdw>
            </a:effectLst>
          </p:spPr>
        </p:pic>
        <p:sp>
          <p:nvSpPr>
            <p:cNvPr id="111" name=""/>
            <p:cNvSpPr txBox="1"/>
            <p:nvPr/>
          </p:nvSpPr>
          <p:spPr>
            <a:xfrm>
              <a:off x="7093080" y="1484280"/>
              <a:ext cx="1969920" cy="15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cc66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093080" y="3124080"/>
            <a:ext cx="1946160" cy="1744920"/>
            <a:chOff x="7093080" y="3124080"/>
            <a:chExt cx="1946160" cy="1744920"/>
          </a:xfrm>
        </p:grpSpPr>
        <p:sp>
          <p:nvSpPr>
            <p:cNvPr id="113" name=""/>
            <p:cNvSpPr/>
            <p:nvPr/>
          </p:nvSpPr>
          <p:spPr>
            <a:xfrm>
              <a:off x="7097760" y="3124080"/>
              <a:ext cx="1941480" cy="16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rcRect l="0" t="0" r="7996" b="0"/>
            <a:stretch/>
          </p:blipFill>
          <p:spPr>
            <a:xfrm>
              <a:off x="7093080" y="3150720"/>
              <a:ext cx="1929240" cy="1718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valuation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c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 confirms that the Forum is an important body of the Stop TB Partnership which needs to be meeting once every 3 yea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quests the Secretariat to conduct an online poll about the future format and date of the For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the results of the poll, the Secretariat will propose a concept of the next Forum (eg. Constituency engagement, break-out sessions, advocacy regarding outcomes 2005 Targets, etc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5T05:24:24Z</dcterms:modified>
  <cp:revision>177</cp:revision>
  <dc:subject/>
  <dc:title>Secretariat, 2003 Progress Report</dc:title>
</cp:coreProperties>
</file>