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6ADF-06B1-4CE1-844B-41EDA8398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you can see, some very practical improvements in TB control have been achieved through the work of the GD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me just highlight that 100 country evaluations is an amazing amount of work for a small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evaluations are one of the reasons why the GDF should not be thought of as another drug wholesal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ountry receiving grants is examined to ensure they are able to use the drugs properly and then examined to ensure they did use the drugs proper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process any area of weakness in the programme is identified and appeals made, on behalf of the country, to technical partners for help in making improv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untry ends up with a better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55B-AF33-4D56-8967-3583EB74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883F-D374-46C6-BEFD-C6AEEF3C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6EB-4142-4D3A-A4B3-451BB55B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518-B7A6-437B-BE49-7DF71F2E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68F1-2A29-44A8-9CA3-6FE6EBC6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C1A-9D08-419E-9FA8-A20518D4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E04-0AE9-4DB1-8A41-1BDD5FB2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6D2-4EB0-494C-B00A-C5F49969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F9A-89A0-4A7B-BCDF-E124ACA5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0B9-9368-44E3-88CF-CD94D66C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94C-716C-4FEC-A423-4037D81F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4FE-C59E-4AC7-AF2B-06231AE1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1BD0-E005-410C-A988-D3EF770EF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280" y="260280"/>
            <a:ext cx="83883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s delivered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untrie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llion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evaluations organized by GDF/STB Partn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S Coverage - average increas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D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ity -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8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recipients increased expenditure on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- Average drug cost per patient: ~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$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urement -  lead time met f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7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batches passed independent Q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64360" y="4005360"/>
          <a:ext cx="1830240" cy="22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005360"/>
                    <a:ext cx="183024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971640" y="40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GDF Achiev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Arial"/>
              </a:rPr>
              <a:t>GDF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Maintain the Gai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overage,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rice, quality an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Fill new g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transitional grants, non-traditional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vide new serv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ediatrics, diagnostics, expanded monit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Improve Drug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2005 Training in AFRO, SEARO, EMRO,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1:49:27Z</dcterms:created>
  <dc:creator>evansp</dc:creator>
  <dc:description/>
  <dc:language>en-US</dc:language>
  <cp:lastModifiedBy>heitkampp</cp:lastModifiedBy>
  <dcterms:modified xsi:type="dcterms:W3CDTF">2004-10-04T13:46:13Z</dcterms:modified>
  <cp:revision>9</cp:revision>
  <dc:subject/>
  <dc:title>Slide 1</dc:title>
</cp:coreProperties>
</file>