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0B81-A334-4076-B531-73C911EF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CB79-0177-49AB-8B44-DB2BA9DE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240-04FB-4199-93B4-B52698E1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D93B-0DC2-4A3D-BC80-1E9BB87F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6367-EC2F-457B-83CD-FD8B8547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BB75-C19D-47ED-BF49-FFAEDC5C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3F6D-0EC4-406D-A8D1-CC021E07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2726-F2C8-41F7-BD51-41E2CB2C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B203-7DD1-4DBC-902E-CC2D27AF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38D4-326A-46AA-9BFE-E8667D13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3A03-0F74-4E6A-9406-738ADA90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D950-E5F2-446A-8EBE-82AE79DE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7B05-1D12-47CE-9B17-87BBC4E6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4C12-FAFA-4725-B45A-EC161258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F428-5E02-4E27-8700-254CA468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DAB1-05D9-4D7B-BD3D-F3A80CC8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D74E-9588-4E5B-8DCF-AD2EC9C9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F81-A0E7-47C2-81D0-80448153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17F-2BFA-4AC4-BEEE-2FB98D05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2F6-E735-49F1-9CBE-E39BC62B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BBE8-560B-4B26-9825-D57856BA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31A-2231-40C6-ACAF-AC2AF912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5C9B-0607-4C13-B0A0-C287ACA4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903-94EF-4354-B4A3-616B92AA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4A58-43A7-4022-A952-7CA489305FB7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7503-2D82-4C53-8739-29196F00953E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7:18Z</dcterms:modified>
  <cp:revision>21</cp:revision>
  <dc:subject/>
  <dc:title>Financial situation,  Budget &amp; plans 2005</dc:title>
</cp:coreProperties>
</file>