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D13C-BBB5-4AAF-A4D4-13455F1F0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269C-B5F1-4C06-8CA6-52EC4E36F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AF2D-C510-4F8E-B835-635D44BDA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9BE6-FA67-4B62-8604-E2B9B79C1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2EBD-DF08-4EC2-84EB-93A16D0CC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1A48-B152-48E8-A8D8-98CA30817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7E0A-724B-40EA-80A9-744F21530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BBD1-B04E-4421-A7C5-126CB3654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391F-C56A-45BD-86CC-C01FE130A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4A3A-493E-4CC9-B28E-363716CA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CB8B-C6B9-4DD9-9AFE-C011E886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E97C-0B10-4B31-905F-EBFA1241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963F1-EBB2-4083-8B94-AD86C8342B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08720" cy="33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Meeting of chairpersons of Working Groups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aturday 16 October 2004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Second Global Plan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o Stop TB:  2006-2015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836280"/>
            <a:ext cx="83516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review of progress in developing the Global Plan 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ntribution of Working Groups to the Global Plan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imeli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5698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rocess for developing the Second Global Plan to Stop TB: 2006-20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120" y="1628640"/>
            <a:ext cx="8381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cess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ordinated by Stop TB Partnership secretari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uided by steering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formed by feedback from first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ed on contributions of the 7 Stop TB Partnership Working Groups (DOTS Expansion, DOTS-Plus, TB/HIV, drugs, diagnostics, vaccines, and advocacy &amp; communica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riven by 2015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econd Global Plan to Stop TB, 2006-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1052640"/>
            <a:ext cx="858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0 years' time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first Global Plan and Progress Repo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ads to 2015 Millennium Development Goals (MD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ary to MDGs TB working group report (that calls for support for the Global Pl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istent with proposed World Health Assembly resolution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sponds to country needs for long-term planning and financi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s strategic directions set out b y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 on the TB epide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view of progress in developing Global Plan, 2006-20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1197000"/>
            <a:ext cx="858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y 2004 - WHO Executive Board approved resolution on Global Plan for 2005 World Health Assemb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WHO Strategic and Technical Advisory Group endorsed outline of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Outline sent to all partners for 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ly 2004 - Outline endorsed by Coordinating Boar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ugust 2004 - Steering committee endorsed by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ptember 2004 – work initiated on proj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ontributions of Working Groups (WGs) to development of pl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8120" y="1792440"/>
            <a:ext cx="8381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ationa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ccessful development of plan depends on contribution of all W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cess builds the "buy-in" necessary for the implementation of the plan by the W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Gs stand to gain from a plan with wide support (political and financial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veloping the road map to reach the 2015 global TB control targe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8120" y="1792440"/>
            <a:ext cx="8381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truction of possible scenarios for how the regions individually and the world overall can reach the targets, i.e. development of epidemiological and costing proje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ach WG to use the projections as the basis for developing their own long-term workplan in contribution to achieving the targe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ilestones and timelines for expected prog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ime li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8120" y="765000"/>
            <a:ext cx="845496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ctober – March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ment of scenarios and inter-active planning process with Working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each WG should identify a focal poi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ctober 2004 – May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ment by each Working Group of workplan, 2006-2015, guided by proj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y - June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inalisation of Global Plan, 2006-20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ptember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unch of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take-home mess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8120" y="1792440"/>
            <a:ext cx="8381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success of the Global Plan depends on the contribution of the Working Grou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ach Working Group needs to indicate how it will make its contribution to the Global Pl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secretariat in each case  should facilitate each Working Group's contribu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08T12:29:12Z</dcterms:modified>
  <cp:revision>93</cp:revision>
  <dc:subject/>
  <dc:title>Africa: HIV is driving the TB epidemic TB notification rates, 1980-1998</dc:title>
</cp:coreProperties>
</file>