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69B-539D-4000-8F49-1E1B9A46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61C-891C-47E7-AEFD-EF4FD782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AB37-4AE1-4C9A-A2A5-38C43C16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ABE-9FF8-4DB8-90F8-957A46F6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3433-D9EB-4BC2-BB8E-FFBAFA5A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989D-8DD5-4ACD-A95C-8382F547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ED2B-0105-4DAC-9B83-A8082115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FAEF-DBF0-4134-950F-D0E20563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A98D-5425-48A4-B9D0-13136794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7B8D-5574-4464-B9DB-C3AA0D57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9A89-ADA3-4145-B76D-B3D37B8A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A20-2E00-4AA0-8ADD-BAD3E1AD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BBCF-1AB7-4FDA-BE7F-64E572B0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289F-1AA5-45A1-8D22-7523CB09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0FFE-82DD-4D86-B7C1-7E1EF9C7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3276-C1AE-4F66-A8E8-1BB3CAF6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7E84-ADF4-4ACB-AF09-8F44FDF4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5EDE-1B1B-45BE-B7AB-B3DF7E19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7745-B52D-4024-AA08-F16DF73F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BF4F-544B-4902-B314-A79C3471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39E-CA6B-444A-8B4F-6B93BC45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762A-DFAF-4982-AA12-D603C858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5D84-A011-4FCF-9146-A3AD6B0E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4D0-BBF8-4DF4-999E-C7001541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61B6-14FF-4512-9B5B-2DE71ACED31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3A19-7FAE-48AB-9D8E-5F19250E328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for Action on TB and Povert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9319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mote access to DOTS and TB 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gramm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is the Network Action on TB and Poverty 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 platform for TB control and Poverty experts to create a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synergy for coordinated action in support of poor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ction and output orient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ase detec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ure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vidence and performance bas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inking TB control with global and local poverty alleviation initiativ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Managed by t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National Tuberculosis Programme of Malawi, in conjunction with the local NGO Reach Tru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ctive participation from the DOTS Expansion Working Group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Why do we need .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istribution of TB is higher among the poor than the non poo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 easy access for the poor to health services due to: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athways to diagnosis of TB patients extended due to repeated visits to different care providers, regardless of socio-economic statu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spend proportionally more on accessing TB diagno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are sometimes actively excluded from TB servic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OTS can help to fight poverty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o-poor access to DOTS helps reaching the TB targets of case finding and c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twork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age key stakeholders to promote action on TB and Poverty prioritising the AFRO reg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case studies will be presented at the IUATLD Par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ster research to inform TB control operations and poli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te pro-poor approaches using DOTS and link up with other initiatives and funding (e.g. Fidelis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etwork Product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ovative pro-poor approaches in DOTS applied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Guide on TB and Poverty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framework for mainstreaming of poverty in TB control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&amp;E on poverty mainstreaming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ional research on demand from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s and exchanges with other health equity initiativ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ds to the demand from countries on how to mainstream TB poverty in DOTS and TB control programm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tive paper on TB and Poverty as policy guiding tool and practical roadma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strategic and practical guidance to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O Guide on TB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nd Pov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unching the WHO guide on TB and Poverty for NTP manag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anding TB Poverty related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cilitate representation for the network to the other working group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mote special features on TB and Poverty at national/regional meeting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Nils Billo</cp:lastModifiedBy>
  <cp:lastPrinted>2004-03-17T17:37:17Z</cp:lastPrinted>
  <dcterms:modified xsi:type="dcterms:W3CDTF">2004-10-14T00:25:33Z</dcterms:modified>
  <cp:revision>176</cp:revision>
  <dc:subject/>
  <dc:title>Secretariat, 2003 Progress Report</dc:title>
</cp:coreProperties>
</file>