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1B76-4C58-4DE6-BD96-C545A655C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DF80-AB78-40EE-BBB3-A758E28CA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0F9E-F04C-49CB-812F-49DF431D5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7905-EADA-4EC8-AC1E-6E0E6CFD8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1AD5-4F59-42FF-91F6-372984875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6B84-50DB-4282-9762-25E976B3B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6CB9-4E4D-4FD6-9185-3EA5BAE06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DD8A-4A4C-4459-822B-ED22F4988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C7CA-4B31-41A4-86AB-ADA10AA3D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B286-DDA1-4F61-81FE-8F17B9C08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23A8-C8C8-4B59-8699-A1AFDC61A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2D06-6ADF-4FEA-B1D3-96FB723B7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9E612-1D3E-49E3-B7EC-BB03B6CC37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920" y="404280"/>
            <a:ext cx="7274160" cy="25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Stop TB Partnership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Coordinating Board meeting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14-15 October 2004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Beijing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he Second Global Plan 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o Stop TB:  2006-2015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Contributions of Working Groups (WGs) to development of plan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38120" y="1792440"/>
            <a:ext cx="8381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success of the Global Plan depends on the contribution of the Working Grou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ach Working Group needs to indicate how it will make its contribution to the Global Pl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The secretariat in each case  should facilitate each Working Group's contribu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veloping the road map to reach the 2015 global TB control targe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38120" y="1792440"/>
            <a:ext cx="8381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struction of possible scenarios for how the regions individually and the world overall can reach the targets, i.e. development of epidemiological and costing proje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ach WG to use the projections as the basis for developing their own long-term workplan in contribution to achieving the targe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ilestones and timelines for expected prog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When to launch the Global Pla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8120" y="1125360"/>
            <a:ext cx="8705880" cy="73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im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enerate media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how how the Global Plan responds to calls to achieve the 2015 TB control targets (World Health Assembly resolution May 2005, UNGASS on MDGs Sept 200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aunch op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etween WHA (May 2005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d UNGASS (Sept 200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orld TB Day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top TB Partners' Forum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r provide a pre-publication version at UNGASS and launch the document  in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Who can champion the Global Pla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8120" y="1125360"/>
            <a:ext cx="87058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posed advocacy champ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martya 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ofi Ann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elson Mande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oreword by one of the ab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675640" cy="60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Why do we need a Global Plan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to Stop TB?</a:t>
            </a:r>
            <a:br>
              <a:rPr sz="3600"/>
            </a:br>
            <a:br>
              <a:rPr sz="48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As a roadmap to achieve targets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As a tool for advocacy and fundraising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To support long-term national plan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Global TB control targe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1197000"/>
            <a:ext cx="83818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005 (World Health Assemb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detect 70% of smear-positive c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treat successfully 85% of all such c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015 (Millennium Development Goa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decrease TB prevalence and deaths by ha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.B.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chievement of the impact targets (prevalence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d deaths) depends on sustained achievement of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process targets (case detection and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reatment succ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Global Plan to Stop T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413000"/>
            <a:ext cx="83818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irst global plan: 2000-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scribed mechanisms, activities and resources needed to accelerate progress towards 2005 tar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lans of action of 6 Stop TB working grou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OTS Expan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OTS-Pl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B/HI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ru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agno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acc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Second Global Plan to Stop TB, 2006-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1052640"/>
            <a:ext cx="85881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ey featu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0 years' timefr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ilds on first Global Plan and Progress Repor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ads to 2015 Millennium Development Goals (MD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mplementary to MDGs TB working group report (that calls for support for the Global Pl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sistent with proposed World Health Assembly resolution in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sponds to country needs for long-term planning and financial sustain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s strategic directions set out b y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 hoc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mmittee on the TB epidem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5698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ocess for developing the Second Global Plan to Stop TB: 2006-201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1768320"/>
            <a:ext cx="83818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cess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ordinated by Stop TB Partnership secretari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uided by steering committ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formed by feedback from first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ased on contributions of the 7 Stop TB Partnership Working Groups (DOTS Expansion, DOTS-Plus, TB/HIV, drugs, diagnostics, vaccines, and advocacy &amp; communicati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riven by 2015 tar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embers of steering committ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38120" y="1125360"/>
            <a:ext cx="83818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 Adeyi (World Ban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 Ahmed (Bangladesh Rural Advancement Committe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 Billo (IUATL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 Broekmans (KNC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 Castro (CDC, US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Espinal (Stop TB Partnership secretari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Freire (Alliance for TB drug developm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 Hopewell (San Francisco General Hospital, US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 Narayanan (TB Research Centre, Chennai, Ind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 Omaswa (Ministry of Health, Ugand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Raviglione (WHO Stop TB Departm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 Shah (National TB Programme, Pakist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 Tapia (Ministry of Health, Mexic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view of progress in developing Global Plan, 2006-20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1197000"/>
            <a:ext cx="85881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y 2004 - WHO Executive Board approved resolution on Global Plan for 2005 World Health Assemb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ne 2004 - WHO Strategic and Technical Advisory Group endorsed outline of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ne 2004 - Outline sent to all partners for feed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ly 2004 - Outline endorsed by Coordinating Boar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ugust 2004 - Steering committee endorsed by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ptember 2004 – work initiated on proj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Contributions of Working Groups (WGs) to development of plan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8120" y="1792440"/>
            <a:ext cx="8381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ationa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ccessful development of plan depends on contribution of all W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cess builds the "buy-in" necessary for the implementation of the plan by the W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Gs stand to gain from a plan with wide support (political and financial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maherd</cp:lastModifiedBy>
  <cp:lastPrinted>2003-06-23T18:01:16Z</cp:lastPrinted>
  <dcterms:modified xsi:type="dcterms:W3CDTF">2004-10-08T12:35:51Z</dcterms:modified>
  <cp:revision>91</cp:revision>
  <dc:subject/>
  <dc:title>Africa: HIV is driving the TB epidemic TB notification rates, 1980-1998</dc:title>
</cp:coreProperties>
</file>