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19A3-1C66-4BDD-9C65-BFFF4543B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A4DA-B829-4553-A21B-25DB7E3E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F963-BD75-4452-9FB1-665B85ABD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F9F5-1FF8-46A7-8052-2C256EAA5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3763-E8A0-4154-A84D-FEC38019D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D1AF-83D1-4153-B303-728CB56B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D80A-AD3E-40C5-AC5C-94563EAE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4292-7DFF-4B12-A380-BEE96476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39F5-5C72-4BB6-9EA2-09AA4BF2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DD26-4E5F-4B96-B96C-006BB0D7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EDA5-97B7-43EB-8C73-9C0F5711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E1BD-839C-4C71-BE4C-FD81FCAD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A3B7-B7F0-478E-ACE4-8CEC9DBF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C42F-D2FD-45FB-8AB6-D1F05882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5D68-F601-4D0D-AA35-903B1760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8C25-3661-4482-BAF3-E0DF8D4EE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F1B9-F48E-4361-8100-2988EB86A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8319-52B5-4360-A836-19A7A0FE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F356-1659-401F-8670-E63862B8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7E28-B248-4B54-B2EE-0A92BCD2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BC82-DB78-4E8B-8301-192235CF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D199-78DC-45D9-994E-38CA8BED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52ED-4EDA-4644-8507-A8845989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32CB-6CB8-47C1-9EC6-B69B2ADB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A4CD-276B-4A1E-B6D3-6C85CF4EAFA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BB43-5077-4EA5-9C82-ABB849E01F4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24000" y="2276640"/>
            <a:ext cx="8496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  <a:ea typeface="宋体"/>
              </a:rPr>
              <a:t>Highlights 2004 &amp; Priorities 2005: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National partnerships, TB &amp; Poverty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Second Global Plan to Stop TB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Global TB Drug Facility (GDF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Advocacy &amp; Communicat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Finances &amp; Resourc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dvocacy and Communication Priorities end-2004 and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5075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ctivate Advocacy and Communication Working Group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Intensify advocacy efforts in Canada, Japan, USA, UK, European Un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Increase funding for TB and TB/HIV in Round 5 of GFATM and incorporate AC activities into key HBC proposa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atalyze AC activities with HIV/AIDS groups to accelerate uptake of TB/HIV collaborative activities at country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onduct 4 regional AC needs assessments/trainings (AMRO, AFRO, EURO, WPRO) and 4 at country level (Brazil, Indonesia, Pakistan, Uganda)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4038480"/>
            <a:ext cx="4876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836784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419640" y="19890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1413000"/>
            <a:ext cx="842472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B approved Financial Policy being applied which led to better control through  improved financial manage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nancial transactions of GDF streaml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ll Working Groups given resources to catalyse their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ulk of the contributions from Bilateral Government sources-85.5% of the total income of US$13.8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erformance &amp; Resource Administration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4038480"/>
            <a:ext cx="4876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836784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19890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1413000"/>
            <a:ext cx="842472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ulk of the contributions from Bilateral Government sources-85.5% of the total income of US$13.8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f the total expenditure of US$10.8 million, TB Control Drugs cost 78%, while other partnership activities cost 2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ojected income for the whole year US$23.1 million, projected expenditure US$ 23.6 million (as per the Operational Work pl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erformance and Resource Administration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erformance and Resource Administration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ighlights 2005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2627280" y="1341360"/>
            <a:ext cx="42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1484280"/>
            <a:ext cx="8640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ojected shortfall for 2005 is US$25 million based on Targeted Work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certed effort to be made for mobilising more resources b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Arial"/>
              </a:rPr>
              <a:t>targeting more donors in the current donor segmen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Arial"/>
              </a:rPr>
              <a:t>exploring new donor segment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Arial"/>
              </a:rPr>
              <a:t>developing new resource mobilisation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tinued catalytic support to all Working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loser ties with GFA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 &amp; Poverty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9647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stablishment Secretariat of the Network for Action on TB and Poverty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 platform for TB control and opportunity for Poverty experts to create a synergy for coordinated action in support of countries and the poor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HO Guide for NTP managers on TB and Pover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5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In response to the demand from countries, endorsed by the STAG and DEWG, WHO spearheads this normative publication on how to mainstream pro-poor approaches in DOTS and TB control programme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ational Partnerships: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99"/>
              </a:spcBef>
              <a:buClr>
                <a:srgbClr val="ff99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op TB Pakistan (April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99"/>
              </a:spcBef>
              <a:buClr>
                <a:srgbClr val="ff99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op TB Mexico (Sept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 &amp; Poverty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ational Partnerships to Stop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27792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Uganda, Brazil, Russian Federation, (France, Croatia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Launching the WHO guide on TB and Poverty for NTP manag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xpanding TB Poverty related activiti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(Sub-)Regional Partnerships: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27792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URO :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2" marL="1957320" indent="-609480">
              <a:buClr>
                <a:srgbClr val="ff99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uropean Partnership to Stop TB (Stop TB Europe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2" marL="1957320" indent="-609480">
              <a:buClr>
                <a:srgbClr val="ff99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AR Sub-Regional Partnership under develop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27792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EARO / AFRO : under develop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000" y="138240"/>
            <a:ext cx="442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econd Global Plan to Stop TB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413000"/>
            <a:ext cx="865980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rogress in first half of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rvey of partners' views on the first Globa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velopment of outline of Global Plan endorsed by Coordinating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stablishment of steering committee endorsed by Coordinating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Initiation of work to develop scenarios for reaching MDG for T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Initiation of work on developing contribution of each Working Group to the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560" y="138240"/>
            <a:ext cx="471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econd Global Plan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o Stop TB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4130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Key activities in second half of 2004 and in 2005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cenarios completed for reaching MDG for TB (epidemiological forecasting and costing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tributions of each Working Group to the Plan comple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lan completed, reviewed widely and endorsed by Coordinating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lan finalised and published in time for UN summit on MDGs, September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GDF Achievemen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7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Drugs delivered to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51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countries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3.24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million patients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100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country evaluations organized by GDF/STB Partners.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DOTS Coverage - average increase of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20%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per GDF count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Additionality - 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88%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GDF recipients increased expenditure on T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Cost - Average drug cost per patient: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~$11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Procurement -  lead time met for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77%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of countri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Quality -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All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GDF batches passed independent QC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958160" y="5157720"/>
          <a:ext cx="1185840" cy="1700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58160" y="5157720"/>
                    <a:ext cx="1185840" cy="17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GDF Futur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Maintain the Gains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verage, programme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ice, quality and servi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Fill new gaps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ransitional grants, non-traditional user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Provide new services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aediatrics, diagnostics, expanded monitorin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Improve Drug Management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2005 Training in AFRO, SEARO, EMRO, EURO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12000" y="5084640"/>
          <a:ext cx="1332000" cy="1773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12000" y="5084640"/>
                    <a:ext cx="133200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dvocacy and Communication Achievement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44719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USA Media Tour, 20-29 Sep 04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urpose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ngage Congress for more TB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Increase media attention to TB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lan full partners meeting for November 2004 for advocacy and legislative ac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veloped in collaboration with CB members, RESULTS, ATS, Global Health Council, OSI, Global Alliance for TB Drug Development and other Stop TB partner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2920" y="2205000"/>
            <a:ext cx="40388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Outcom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4 Cities in 7 days—DC,  NYC, Indianapolis and LA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5 meetings with Congressional staffers, Rep. Sherrod Brow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10 Editorial board meetings or interview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5 Media stories and count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4 Speaking engagement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Full US Partners meeting set for 14-15 November 2004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Last minute legislative push  planne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dvocacy and Communication Achievement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5075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March-October 2004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Media promotion: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Major TV and newspaper coverage of MDR-TB report -- Rahman appointment -- Partners Forum/WTBD -- Int'l AIDS Conference -- Lancet report on China --  TB/HIV meeting in Addis Ababa -- USA tour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720000"/>
                </a:solidFill>
                <a:latin typeface="Tahoma"/>
              </a:rPr>
              <a:t>Global coverage of the Stop TB Partnership, and regional coverage of DOTS expansion in Africa and Asia, are now at their highest levels ever in major media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Advocacy materials: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Joint UNAIDS/Stop TB info pack on TB/HIV -- Progress Report on GPSTB -- 25 minute documentary film on BBC World TV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Partnership building: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Well-established alliances with UNAIDS and HIV/AIDS community -- formation of Advocacy and Communication Working Group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heitkampp</cp:lastModifiedBy>
  <dcterms:modified xsi:type="dcterms:W3CDTF">2004-10-05T09:56:54Z</dcterms:modified>
  <cp:revision>11</cp:revision>
  <dc:subject/>
  <dc:title>Financial situation,  Budget &amp; plans 2005</dc:title>
</cp:coreProperties>
</file>