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1ACC-F588-4069-BE46-B804E65713A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E837-A8D2-4AD6-B509-159577CEA63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199E-4CC4-49A0-B189-C5808EBBEAE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4149-609F-46E5-8EEB-985ADFEA9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A6E0-CB9D-4B9C-B31F-9D1CA313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44C1-136D-4993-89FE-967C8A112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CF96-4783-4CFA-8B8E-484EB9F1E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76D6-5B84-4628-AE71-411F69D4B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73B7-3384-4543-8A09-CE0E6315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FF24-EA22-4C7C-BE02-615C76F1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3311-7A5A-4C88-A8A0-DB452582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873B-2149-463A-89FB-2066CBF4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727A-083F-493C-9CFA-5BCB34D0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1EFF-37D1-4F38-9E2D-6FDF3C1F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C2A4-97E1-40F3-85C1-575709FE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7FF0-BB92-4FC8-8F27-5C328178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5615-79DE-46E3-9EE9-C9F71C6F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0813-F317-457E-9ACE-2A7F23F0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A51D-F934-4894-8CD1-EE5E6040A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A237-1BE8-4D3C-A1DE-B06AF9062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F9E0-0001-4AE7-A519-9B8A3C5C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DE97-CEF4-49A6-94CC-FC8DFCD8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6522-E90E-44BA-B803-6872328E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B35C-BDD2-4DA5-8339-D0FC08A9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645D-3A5E-439A-9FEF-D2C6161C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BD9B-844F-4A77-8318-6A0415CE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A29E-5FD6-47F8-B90E-5FAA16D5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A4FD-D884-4AF1-81CD-26EBED989E3E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EF7C-0D15-41EC-8875-B11318A5AD63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3499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Expanding Regional, National and sub-national Partnerships</a:t>
            </a: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2124720" y="2202840"/>
            <a:ext cx="471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rogress Repor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920" y="404640"/>
            <a:ext cx="777240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asks for Stop TB Pakist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gain additional social &amp; political support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enhance public and political perception of TB-DO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increase TB awareness throughout Pakistan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engage non-traditional partners in the fight against TB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build alliances with other health and development initiatives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1049760" y="5734080"/>
            <a:ext cx="7360200" cy="703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0000"/>
                </a:solidFill>
                <a:latin typeface="Times New Roman"/>
              </a:rPr>
              <a:t>TO GET TB ON THE AGENDA 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kistan: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Partn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Ex officio: MOH represented by NTP Pakista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WHO Pakistan has offered support to host organiza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IACC members willing to adher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Pakistani partners of the Global Partnership willing to adher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In the future: Associations/institutions named by at least 2 members     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ssues to be addressed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o reach the targe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52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Weak community involvement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Weak advocacy activit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Weak integration with other programm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Still limited Public-public mix and private-public mix activitie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Lack of human resources at all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Lack of commitment at District level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Lack of structured supply management system at all level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DOTS yet to be implemented in urban areas and at peripheral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STOP TB PAKISTAN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47920" y="352872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akistan's own national enhanced response to the challenge of TB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xisting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ational Partnership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Canada (Feb' 01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Indonesia (Jan' 02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Pakistan (April' 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Mexico (Sept '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nergize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s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 further support initiatives for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'Communication Handbook'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TB Control and DOTS Expansio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eds Assessment Program : Uganda, Brazil, Indonesia,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kistan + ISAC countrie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DF/ISAC Country-level Partnership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randing Partnership IT Package (web services, online discussion forum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uidance on Resource Mobilization (ethical guidelines, link with CCMs and the business sector, innovative approaches for fund rais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rengthen relationships with all Stop TB Partner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gaging non-traditional partner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ccelerate Progres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ational Partnerships to Stop TB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ganda, Nigeria, Brazil, Russian Federation, France and Croatia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Sub-)Regional Partnerships: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URO :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uropean Partnership to Stop TB (Stop TB Europe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R Sub-Regional Partnership under develop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ARO / AFRO : under develop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Future Plan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oost the Advocacy, Communication and Social Mobilization Working Group with the various partnership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onal Workshop on Advocacy and Communic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of the Stop TB '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Champion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'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mplement a strategy plan and join forces with other partnerships (GFATM, 3by5, RBM.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national political forums to empower global, national and regional partnerships building (ASEAN, SAARC, ADEAN, African Union, NEPAD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1546200"/>
            <a:ext cx="772164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Stop TB Pakistan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86920" y="2707920"/>
            <a:ext cx="69138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The answer to a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ahoma"/>
              </a:rPr>
              <a:t>broader</a:t>
            </a: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and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ahoma"/>
              </a:rPr>
              <a:t>more intensified</a:t>
            </a: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collaboration involving other partn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4000" y="2806560"/>
            <a:ext cx="1425600" cy="14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kistan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ghting TB requires more than just the NTP and the IACC collaborating partner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Pakistan has many and diverse resources that have not yet been tapp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increase case detection and treatment success diverse and additional partners are need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1265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National TB Programme Managers Meeting, Lahore, 29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ahoma"/>
              </a:rPr>
              <a:t>th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 April 2004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901880" y="2657520"/>
            <a:ext cx="5413320" cy="3724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9600" y="178200"/>
            <a:ext cx="412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Milestone for STOP T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akistan Part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000" y="115560"/>
            <a:ext cx="44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dded value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kist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17884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Political advocacy and social mobilis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nnovative approaches and interven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broad participation from Pakistani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Sharing inform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ewsletters and information materia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ata base on activities &amp;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Resource mobilis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ew and other expertise/experien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human resources from new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financial resources from other initiati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14T00:29:22Z</dcterms:modified>
  <cp:revision>252</cp:revision>
  <dc:subject/>
  <dc:title>Secretariat, 2003 Progress Report</dc:title>
</cp:coreProperties>
</file>