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447B1-7084-4964-A18A-D1C3E2807D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A4180-7A81-4529-8185-5FDE21E6FE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844A0-29DF-4C26-9C90-8DE7DDAD85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3F984-C5AB-47D6-B395-C9257F1E22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6AB30-81CC-4A57-B3BF-A3AFDF8D4E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C96DF-0CEA-4840-BC01-C3845781AD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F2080-3EBD-4C8C-B63A-BAABF93359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2679C-E402-4F34-9682-EF0422BE98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9107F-599A-4054-9782-418E4BAE4D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43957-C9E6-4538-8A3A-8F7ED5187D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AF278-FE54-4E84-8C01-A310365DFE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B41D7-907D-437E-B94F-60FF1D3036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24000" y="6237000"/>
            <a:ext cx="568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, 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59280" y="6308280"/>
            <a:ext cx="5223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Country Progress</a:t>
            </a:r>
            <a:br>
              <a:rPr sz="4000"/>
            </a:b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252320"/>
            <a:ext cx="74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hair Dr. Miaka Bile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Rapporteur Dr. Karam Sh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3T23:33:41Z</dcterms:modified>
  <cp:revision>178</cp:revision>
  <dc:subject/>
  <dc:title>Secretariat, 2003 Progress Report</dc:title>
</cp:coreProperties>
</file>