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7346-EE71-4C06-9EE0-C25433A11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you can see, some very practical improvements in TB control have been achieved through the work of the GD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 me just highlight that 100 country evaluations is an amazing amount of work for a small te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evaluations are one of the reasons why the GDF should not be thought of as another drug wholesal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country receiving grants is examined to ensure they are able to use the drugs properly and then examined to ensure they did use the drugs proper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process any area of weakness in the programme is identified and appeals made, on behalf of the country, to technical partners for help in making improv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ountry ends up with a better program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E220-DDE3-44A6-BC25-E1D54123D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ECDC-F6AC-4A5E-B7E2-31114055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48A8-4CBE-4D37-8D14-8D57097EC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EB43-17AA-485E-AF48-0C749D4A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4836-A436-49FC-A6D3-14759548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D31A-3BB6-4896-98BF-CDFD6AA0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0FEA-92EF-4330-B0D3-BA9D5F4B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CE62-5474-4C46-9987-84AA8AC9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A181-1072-41FE-B9A9-976B1073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EE6A-00CB-4D9D-A747-588E0252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6994-9967-4863-AB6F-AB4CE7B5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7708-186E-4F87-AAC4-39EB973F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C34D-8FA9-4C0A-9551-DE64AE50A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55280" y="260280"/>
            <a:ext cx="83883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ugs delivered to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5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untrie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.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illion pati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0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evaluations organized by GDF/STB Partne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TS Coverage - average increas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 GDF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ity -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88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DF recipients increased expenditure on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- Average drug cost per patient: ~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$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urement -  lead time met for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77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count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ty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DF batches passed independent Q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164360" y="4005360"/>
          <a:ext cx="1830240" cy="220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4360" y="4005360"/>
                    <a:ext cx="1830240" cy="22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971640" y="404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GDF Achieve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Arial"/>
              </a:rPr>
              <a:t>GDF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Maintain the Gai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coverage, program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price, quality and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Fill new ga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transitional grants, non-traditional u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Provide new servic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ediatrics, diagnostics, expanded monito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Improve Drug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2005 Training in AFRO, SEARO, EMRO,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812000" y="5084640"/>
          <a:ext cx="1332000" cy="177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0" y="5084640"/>
                    <a:ext cx="133200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11:49:27Z</dcterms:created>
  <dc:creator>evansp</dc:creator>
  <dc:description/>
  <dc:language>en-US</dc:language>
  <cp:lastModifiedBy>heitkampp</cp:lastModifiedBy>
  <dcterms:modified xsi:type="dcterms:W3CDTF">2004-10-04T13:46:13Z</dcterms:modified>
  <cp:revision>9</cp:revision>
  <dc:subject/>
  <dc:title>Slide 1</dc:title>
</cp:coreProperties>
</file>