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2A3BFC0-3FDB-4975-847F-FE383F61BE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ina: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gress Since Partner’s Forum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te Council meeting on TB; commitment to reach 60% CDR by end of 2004, 70% by end of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entral government increased TB budget from $5 million to $35 million for 2004-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ound 4 GFATM TB project approved ($56 mill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ew policies to facilitate increase in case-detection being plan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inued DOTS expansion – expected to reach 95% population coverage by end of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ase-notification rate exceeding 2003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 Existing Constrai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sufficient human resource capacity in NTP, starting at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management of N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technical guidance provided by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chnical elements of DOTS weak in many provinces; quality of DOTS a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bsorptive capacity a problem at periphe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ISAC Propo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National part: GFA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ire and place 24 staffs into 24 provi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DC-WHO training programme for provincial staffs (2-y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ational consul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quipment, vehicles, set-up of training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International part: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elp train and manage 24 staf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vide training and mentoring for train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 international staffs; 2 national staffs; and short-term consultants to provide technical as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Leopold Blanc</cp:lastModifiedBy>
  <cp:lastPrinted>2004-01-30T14:19:50Z</cp:lastPrinted>
  <dcterms:modified xsi:type="dcterms:W3CDTF">2004-10-14T00:25:45Z</dcterms:modified>
  <cp:revision>528</cp:revision>
  <dc:subject/>
  <dc:title>Progress in Global Tuberculosis Control 1995-97</dc:title>
</cp:coreProperties>
</file>