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1C19-6428-47F1-A7C8-1ADB5B56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5569-2EE0-4F71-91E2-5A3C85E5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D1C1C-88E5-45A0-B117-659F3AC6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52FE5-9981-43FD-86D4-62E15015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F038-BC53-446C-BE18-473FA499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9FDD-ED73-4A5B-8688-2C352CF0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3094-0106-4CC7-9BBF-EE21426C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73FB-647D-4175-82FA-F71CE348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3708-EE05-4021-96F6-E1B4A99F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C4CD-B097-400F-8491-05BD6FB8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3BC5-986E-4966-ADBE-E67DB75C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F34F-350C-4D25-A13B-78DE528E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ABFA-04E8-4F0C-AFD1-8C54A3E8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A32D-2A83-40D1-A5B6-28B4835D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B1FA-294C-4BAE-B869-6F20746E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EC02-5887-4116-98D9-CC15B9A2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7E8B-F125-4A1B-9634-E29DD501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0CE3F-C714-4F46-9FCC-8C06ACD8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E2D0-1D76-41D6-A94B-96203CE4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B640-BFF5-480B-BFE2-3C2C374A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89B23-1AB3-413A-A92A-0A51516B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2500-D4C6-49A8-8746-81C4E56B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8AA7-F512-4790-8A67-E67AC37F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51626-8C57-4A3A-9C18-2CDCB5D2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B506-0C15-4AA2-B30D-0E4DA54D7F0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DB3A-1CE0-4DAC-988B-57CD7001876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: Short 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hael L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 political will for achieving the MD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 people's actions in holding their governments accountable to the Millennium P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ampaig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with coalitions and partnerships in 3 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ssroots advoc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and public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icy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partner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rth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rliamentarian Network of WB's Implementation Watch, MDG organizations in USA, UK, Italy, Spain, Ireland, 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S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xfam, Amnesty Int'l, Trade Justice Movement, Social Watch, Civicus, Global Campaign for Education, People's Health Movement, World AIDS Campaign, Save the Children, Global Movement for Children, Plan Inter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aith-based Group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Caritas, Cidse, Micah Challenge, Vatican Commission Justicia &amp; Pax, World Parliament for Relig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 BBC Trust, All Africa.com, EFE, IPS, On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ve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Barcelona Forum, Rome Marathon, Olympics, Rock in 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Events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N Heads of State meeting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G8 meeting with development and MDGs focus, Jun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ha Round: Global Week of Action (Apr 05), Ministe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eting (Dec 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inancing for achieving the MDGs: Lula/Chirac summit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uth-South and North-South linkages linked to World Social Forum and other initia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gagement with Stop TB Part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gh-level meetings with STB Global Ambassador Rahman in NYC, Apr 04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mpaign Director Salil Shetty to address IUATLD world conference in Paris, Oct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hman to participate in India national MDG campaign meeting, Nov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DG Campaign regional partners and in selected countries  to mobilize for WTBD, Mar 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05:18Z</dcterms:created>
  <dc:creator>luhanm</dc:creator>
  <dc:description/>
  <dc:language>en-US</dc:language>
  <cp:lastModifiedBy>luhanm</cp:lastModifiedBy>
  <dcterms:modified xsi:type="dcterms:W3CDTF">2004-10-11T16:14:43Z</dcterms:modified>
  <cp:revision>2</cp:revision>
  <dc:subject/>
  <dc:title>MDGs Campaign: Short summary</dc:title>
</cp:coreProperties>
</file>