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2A192-23BD-492F-8C28-2B9A4F1A9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E79CF-85F6-417F-B09B-EB97D4B2D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E7F6F-EAE5-4D37-A0AF-7D0A768D1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4F584-59C5-47D3-B753-3BEAD11C6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5A533-6876-4E7E-AAC9-9969055A9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BAD8B-97DD-416F-B781-4ECAA42E0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E3027-8BED-43A3-B418-99126FE03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A8F14-CF6D-4281-A914-D073C2417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380B0-CD10-43B5-8574-A294C9EDA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65ED6-3EC3-4422-9E09-5D89C9FF8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B855E-E741-4A1D-951D-2F64AD14C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3F2B0-F16A-4F81-84BB-2BC0B706C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EB360-F0B7-4B66-B15C-5B563C047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DE548-0DD8-4BD6-8A0D-1579AF33F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6B7DD-573F-4403-B3C9-DC8C3D9E1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CB9FC-9DDC-4BC9-956F-6A589B80E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F5190-550B-4A92-9B0B-0B601245E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82B38-E76C-4E0F-9D27-0168AFC9B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5E872-66CE-4EFD-B9B1-D219D0068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6C225-9EE9-4A38-B322-87758FD7B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AFB9F-5FA7-4619-AC85-7885C0A90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807A1-99B1-4AB5-8833-C6FFB44DB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CD8C7-65B0-46D0-8737-02CE8C5C2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6C2AF-D647-4F73-B290-54FD788B2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ahoma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ahoma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6B837-82A6-4E1F-8BF6-A952F13CD9CA}" type="slidenum">
              <a:rPr b="0" lang="zh-CN" sz="1200" spc="-1" strike="noStrike">
                <a:solidFill>
                  <a:srgbClr val="ffffff"/>
                </a:solidFill>
                <a:latin typeface="Tahoma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ahoma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ahoma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464DD-92CC-4467-83EF-3ED9B99D2B92}" type="slidenum">
              <a:rPr b="0" lang="zh-CN" sz="1200" spc="-1" strike="noStrike">
                <a:solidFill>
                  <a:srgbClr val="ffffff"/>
                </a:solidFill>
                <a:latin typeface="Tahoma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72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394920" y="2060640"/>
            <a:ext cx="849636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  <a:ea typeface="宋体"/>
              </a:rPr>
              <a:t>Advocacy and Communications Working Group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  <a:ea typeface="宋体"/>
              </a:rPr>
              <a:t>Plenary Discussion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  <a:ea typeface="宋体"/>
              </a:rPr>
              <a:t>Joanne Carter, Chair A.I.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  <a:ea typeface="宋体"/>
              </a:rPr>
              <a:t>15 October 2004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6732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vocacy and Communications Working Group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9280" y="1628280"/>
            <a:ext cx="8964720" cy="475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  <a:ea typeface="宋体"/>
              </a:rPr>
              <a:t>Progress since last CB meeting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Basic Framework draft (main objectives, functions, structure, main work streams)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Proposed roster of initial members (65</a:t>
            </a:r>
            <a:r>
              <a:rPr b="0" lang="en-GB" sz="2400" spc="-1" strike="noStrike" u="sng">
                <a:solidFill>
                  <a:srgbClr val="720000"/>
                </a:solidFill>
                <a:uFillTx/>
                <a:latin typeface="Tahoma"/>
                <a:ea typeface="宋体"/>
              </a:rPr>
              <a:t>+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)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8c00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Development of new alliances – HIV/AIDS, MDGs Campaig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8c00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First formal meeting of ACWG set for Dec 04/Jan 05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8c00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Informal pre-meeting at IUATLD conference to discuss agenda and expected outcom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720000"/>
                </a:solidFill>
                <a:latin typeface="Tahoma"/>
                <a:ea typeface="宋体"/>
              </a:rPr>
              <a:t>  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-360" y="115560"/>
            <a:ext cx="727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vocacy and Communications Working Group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58560" y="1484280"/>
            <a:ext cx="87850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  <a:ea typeface="宋体"/>
              </a:rPr>
              <a:t>Proposed structural feature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  <a:ea typeface="宋体"/>
              </a:rPr>
              <a:t>1. Chair with permanent seat on CB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  <a:ea typeface="宋体"/>
              </a:rPr>
              <a:t>2. Two initial sub-group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44600" indent="-444600">
              <a:lnSpc>
                <a:spcPct val="90000"/>
              </a:lnSpc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  <a:ea typeface="宋体"/>
              </a:rPr>
              <a:t>Global advocacy for resource mobilization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444600" indent="-444600">
              <a:lnSpc>
                <a:spcPct val="90000"/>
              </a:lnSpc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  <a:ea typeface="宋体"/>
              </a:rPr>
              <a:t>Country level advocacy, communication and social mobilization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  <a:ea typeface="宋体"/>
              </a:rPr>
              <a:t>3. Focal points for all 6 technical WG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44600" indent="-444600">
              <a:lnSpc>
                <a:spcPct val="90000"/>
              </a:lnSpc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  <a:ea typeface="宋体"/>
              </a:rPr>
              <a:t>Critical to ensure close coordination in cross-cutting role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  <a:ea typeface="宋体"/>
              </a:rPr>
              <a:t>4. Stronger representation for patients  and countri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720000"/>
                </a:solidFill>
                <a:latin typeface="Tahoma"/>
                <a:ea typeface="宋体"/>
              </a:rPr>
              <a:t>Basic Framework to be approved and Chair/vice-chairs elected in first formal meeting of WG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608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vocacy and Communications Working Group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179280" y="1413000"/>
            <a:ext cx="8526600" cy="76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  <a:ea typeface="宋体"/>
              </a:rPr>
              <a:t>Key immediate prior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Resource mobiliz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Generate more robust numbers on funding ga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Close collaboration with Resource Mobilization Task For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Target key national, multilateral and private sector dono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2. 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Develop short-and long-term advocacy strategy around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2005 targets and MDG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Global Plan I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World TB Da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3. 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Rapid scale up of support to countries for ACS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TA for GFATM proposals/ISAC – Nov 04 worksho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Guidance, tools, training for emerging national partnership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Mobilization of new advocacy partners at regional and country leve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119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vocacy and Communications Working Group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68360" y="1844640"/>
            <a:ext cx="8381880" cy="39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  <a:ea typeface="宋体"/>
              </a:rPr>
              <a:t>Request for C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2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Feedback on formation process, structure, key priorit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2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2.  Technical WG chairs need to assign focal points to ACW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3T15:56:53Z</dcterms:created>
  <dc:creator>Robert Hernandez</dc:creator>
  <dc:description/>
  <dc:language>en-US</dc:language>
  <cp:lastModifiedBy>luhanm</cp:lastModifiedBy>
  <dcterms:modified xsi:type="dcterms:W3CDTF">2004-10-19T10:57:18Z</dcterms:modified>
  <cp:revision>21</cp:revision>
  <dc:subject/>
  <dc:title>Financial situation,  Budget &amp; plans 2005</dc:title>
</cp:coreProperties>
</file>