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C9DF-6169-45B5-AABA-7E0AE2FA9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8714-12DD-4153-B753-B511FE319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0DB2-B7D1-48F5-810C-99A27C7F1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419E-04EA-4D40-8AE8-01B304919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A21B-66FA-460E-AEB6-E70F3EB87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FC86-77AB-4004-B046-AAE536A12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C755-A078-4A09-80AC-FFD1E0C1D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E952-3FFA-4D72-AB2B-F2A049580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CE9D-FA66-430F-8C41-591E84309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B2C8-9E45-4071-BBC0-01BCB470A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1511-218F-4270-B5C8-4D22997EE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0BC0-E446-4940-AD7F-108B99034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B1D2A-C207-460A-9282-4B74B786C0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mailto:maherd@who.ch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0920" y="692280"/>
            <a:ext cx="806436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Stop TB Partnership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Coordinating Board meeting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Beijing, 15-15 October 2004</a:t>
            </a:r>
            <a:br>
              <a:rPr sz="4800"/>
            </a:b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The Millennium Development Goals Project</a:t>
            </a: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84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Request to Coordinating Board to endorse the follow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42920" y="1268280"/>
            <a:ext cx="88930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The recommendations of the working group on TB (Working Group report, p9-1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The inclusion of "TB" in MDG 6, thus "combat HIV/AIDS, TB, malaria and other diseases" (overall MDGs report, p3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Draft General Assembly resolution point 37 "to request a revision of the targets and indicators for monitoring the MDGs to make them consistent with the technical recommendations of the UN Millennium Project Task Forces and other experts, by mid-2006" (overall MDGs report, p3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Development of advocacy strategy by WG on A &amp; C (in collaboration with MDGs Campaign) to push main TB mess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a) launch of MDGs report in January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b) UN special summit on MDGs in September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5.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Coordination with second Global Plan to Stop TB (2006-2015) (WHA May 200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282600"/>
            <a:ext cx="91440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Comments on overall report </a:t>
            </a:r>
            <a:br>
              <a:rPr sz="3200"/>
            </a:b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"Global Plan to achieve the MDGs"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42920" y="255420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comments@unmillenniumproject.or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illennium Development Goal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1125360"/>
            <a:ext cx="858816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Adopted at the UN Millennium Summit, September 2000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Eradicate extreme poverty and hun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Achieve universal primary edu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Promote gender equality and empower wo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Reduce child mort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Improve maternal heal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Combat HIV/AIDS, malaria and other dise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Ensure environmental sustain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A global partnership for develop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UN summit Sept 2005 will review progress towards MDGs since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DGs Projec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42920" y="1125360"/>
            <a:ext cx="88930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Key featur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launched by UN Sec-Gen to recommend the best strategies for achieving the MD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Project runs from 2002 –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directed by J Sachs (Special Adviser to the UN Sec-Gen on the MDG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overall report "Global Plan to achieve the MDGs" for launch in Jan 2005 (unmillenniumproject.org) and endorsement at special UN summit in September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10 task forces, including 2 on healt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i) Task force 4: child and maternal health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ii) Task force 5: HIV, malaria, TB, other major diseases and access to essential medic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-24300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Members of working group on T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38120" y="620640"/>
            <a:ext cx="83818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 Billo (IUATL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 Broekmans (KNCV) w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rking group chair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 Castro (CDC, U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 Espinal (Stop TB Partnership secretari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 Evans (Global Programme on Evidence for Policy, WH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 Floyd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(Stop TB Department, WH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A Harries (Malaw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 Hopewell (San Francisco General Hospital, U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 Maher (Stop TB Department, WH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 Narayanan (TB Research Centre, Chennai, Ind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 Perelman (TB Institute, Mosco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 Raviglione (WHO Stop TB Depart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 Schwalbe (Open Society Institute, U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 Tapia (Ministry of Health, Mexic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 Weil (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WHO Stop TB Depart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Secretariat: J Paluzzi (Partners in Health, U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Writer: K Ca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40464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The working group on TB </a:t>
            </a:r>
            <a:br>
              <a:rPr sz="3600"/>
            </a:b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(part of task force 5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114300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1628640"/>
            <a:ext cx="8588160" cy="47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ey features of repor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utlines strategies to reach 2015 global TB control targ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flects overall MDGs theme of poverty re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uilds on recommendations of 2</a:t>
            </a:r>
            <a:r>
              <a:rPr b="0" lang="en-GB" sz="28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nd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d hoc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Committ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mplements ongoing work to develop 2</a:t>
            </a:r>
            <a:r>
              <a:rPr b="0" lang="en-GB" sz="28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nd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Global Plan to Stop TB (2006-201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40464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The working group on TB </a:t>
            </a:r>
            <a:br>
              <a:rPr sz="3600"/>
            </a:b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(part of task force 5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114300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920" y="1628640"/>
            <a:ext cx="8588160" cy="55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Finalisation of report of the working group on T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 February 2004 – interim report posted on we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8 October 2004 – deadline for comments from review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9 November 2004 – submission of final re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anuary 2005 – launch of task force reports with overall MDGs project re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282600"/>
            <a:ext cx="91440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The report of the Working Group on T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42920" y="1700280"/>
            <a:ext cx="88930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Introduction to the MD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Global TB epidemic and status of TB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Poverty, gender, children and T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Moving forward to achieve the 2015 TB tar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Financ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Meeting the TB target in MDG project count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Recommend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Annexes: including country case studies (Cambodia, Dominican Republic, Ethiopia, Keny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282240"/>
            <a:ext cx="9144000" cy="84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Recommendations of the Working Group on T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42920" y="1700280"/>
            <a:ext cx="8893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Promote access for all to high quality TB c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Address the TB/HIV emergency n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Engage all primary care providers in high quality TB c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Partner with communities to stop T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Accelerate the development of critically needed new tools and approach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Support the Global Plan to Stop TB 2006-201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282600"/>
            <a:ext cx="91440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Comments on the TB re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2920" y="2554200"/>
            <a:ext cx="8893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Comments ple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to Dermot Maher (</a:t>
            </a:r>
            <a:r>
              <a:rPr b="0" lang="en-GB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maherd@who.ch</a:t>
            </a: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) to compile and send to Task Force secretariat by Friday 22 Octo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5T09:27:19Z</dcterms:created>
  <dc:creator>JourdanS</dc:creator>
  <dc:description/>
  <dc:language>en-US</dc:language>
  <cp:lastModifiedBy>maherd</cp:lastModifiedBy>
  <cp:lastPrinted>2003-06-23T18:01:16Z</cp:lastPrinted>
  <dcterms:modified xsi:type="dcterms:W3CDTF">2004-10-08T12:30:08Z</dcterms:modified>
  <cp:revision>92</cp:revision>
  <dc:subject/>
  <dc:title>Africa: HIV is driving the TB epidemic TB notification rates, 1980-1998</dc:title>
</cp:coreProperties>
</file>