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A7F-D419-448D-A3CA-C7AA1D29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23A-D6DD-42F6-BC39-22F68027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A51F-8CF4-41F6-A6AA-412A27EF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DADD-4786-4824-8EDA-519BD941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58C4-4B5D-4763-94CA-653347EF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5967-1BA4-4421-9560-9B27C294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EDBE-4831-4404-8E6D-7F438E69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84A7-355B-459E-871D-571C7824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656A-1686-4B69-B09E-9FE7FE20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C641-89BF-443E-B8EF-AC718B20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5A23-44CD-4A37-80F3-07EF55F6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70FA-9C55-42AE-9B36-B74ACA91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7223-F80E-4744-A41F-EA979F34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C460-748E-49C9-9114-C252EA08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3581-74A9-4F55-AC69-94B16F5B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3855-0165-4B33-8C3C-386C260A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2B7A-D6BB-4594-BBEA-86302C0E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497-2C49-42CB-B99C-C2CD1F1B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B54-9CB1-47CB-A3A4-E3E98314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01E-9AF3-46E7-978C-5D7FF917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465-011F-4A08-ACED-3A43F98F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670-378D-4327-B31B-329E8897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8F4-88FE-4A70-A2C8-DE79AB73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5B7-D875-482A-9B97-0C3B70AC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A46C-7DC3-44FD-9A65-1BAA1730160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8177-B6D8-4D7C-A574-CF0EB8FE636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lights 2004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Establishment Secretariat of the Network for Action on TB and Poverty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A platform for TB control and opportunity for Poverty experts to create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ynergy for coordinated action in support of countries and the poor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WHO Guide for NTP managers on TB and Pover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In response to the demand from countries, endorsed by the STAG and DEWG, WHO spearheads this normative publication on how to mainstream pro-poor approaches in DOTS and TB control programme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National Partnership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Priorities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National Partnerships to Stop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Uganda, Brazil, Russian Federation, (France, Croatia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Launching the WHO guide on TB and Poverty for NTP manager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Expanding TB Poverty related activiti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(Sub-)Regional Partnerships</a:t>
            </a: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EURO 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European Partnership to Stop TB (Stop TB Europe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CAR Sub-Regional Partnership under development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SEARO / AFRO : under development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4T14:22:13Z</dcterms:modified>
  <cp:revision>141</cp:revision>
  <dc:subject/>
  <dc:title>Secretariat, 2003 Progress Report</dc:title>
</cp:coreProperties>
</file>