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0C17-9D9D-4DD6-8506-0CCAB4EFA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Trust Fund at 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Bank levies a  3% Admin Fees on money passing   through this trust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Interim Trust Fund at 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has a 6% reduced PSC (compared to 1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(interim programme support cost) of 6% reaso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put to increase substantially as resource mobilisation gathers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number of transactions (financial legal, and other) over a 12 month period is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82720" y="73980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of 6% reasonable (Cont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 fees to-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% to W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 to WHO on an exceptional basis till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 goodwill gesture by WHO while it shouldered the full burden of admin work associated with drawing up and  implementing the contracts for using funds at the WB T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cost per transaction US$275 at the rate of 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y below the actual estimated cost $1,275 (Informally advised by WH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 the Operating Principles of the Stop TB Partnership Trust Fund at 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to the 6% PSC for the Interim Trust    Fund at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 the negotiating team to aim for agreeing with WHO a similar fixed percentage admin fees (6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1E1-AF97-487A-ADDF-5B608787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F49-41B8-482E-92CC-551FAD03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804-C1AA-4689-899E-9BBB3BFF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79F-C135-4CAD-B1D3-120CA064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8F58-4FA3-47B4-8F68-5461E453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1F5B-CDBE-4050-8792-A19AC310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53C1-C90A-4B71-BE9D-EECDDC0B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F08D-7AA4-48F0-BD1F-A53FE4D9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C972-BECE-4A4D-8742-46F914B6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AC50-C949-493A-96B4-E4BF8384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F3BC-525D-41E4-A67D-C711308B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7FA-FEA6-44FC-ABF4-0BEDAC67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68CF-1AFE-44E2-9EC4-08AD1061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5199-C172-4816-BFB0-4D928E7D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38F4-FE32-4023-BCF7-FCEE5EFC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F5A6-8EC3-4EF1-9424-A5365AF2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1B38-D8D8-4F9A-9F04-89E91A7A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DE3-F959-44D1-BFC8-F762F3DD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E65-4FAE-4E7F-9B39-436779C8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072-046D-46F2-BC9E-18E16C2C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5BC9-7136-4AED-BD8B-EB186145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02AF-D5F0-4579-A1B1-83C7D22F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216E-7AAA-454B-86BA-54B670E0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A85-89B4-46C5-9AA2-FC5A82E7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13BB-F74C-43B6-BF1D-3DE1FC0B692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BE53-72C0-480A-B167-95D3CD9E048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Stop TB Partnership Trust Fund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urrent Statu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Two Trust Funds at Pres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Trust Fund at  the World Bank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e Bank levies a  3% admin fees on money passing through this trust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It has a 6% reduced PSC (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s opposed to its usu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13%)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e.g. DFID contribution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the WB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duced PSC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Final Trust Fund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f 6% reasonable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unding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o increa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e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substantially as resource mobilisation gathers moment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number of transactions (financi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, contractual, administrative 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legal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logistic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and other) over a 12 month period i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aro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5,000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duced PSC of 6% reasonable (Contd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dmin fees to-dat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3% to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0% to WHO on an exception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interim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basis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since      February 2003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cost per transaction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with WHO Trust F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US$275 at the rate of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Operating Principles of the Stop TB Partnership Trust Fund at WB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transfer of funds every six months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interest accrues to the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procurement policies of WHO app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standard WB and WHO repor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6% PSC for the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irect the negotiating team to aim for agreeing with WHO a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n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ppropriate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fixed  admin fees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the definitive Trust Fund including a mechanism for adapting the fee to changing throughpu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1:16Z</dcterms:modified>
  <cp:revision>82</cp:revision>
  <dc:subject/>
  <dc:title>Slide 1</dc:title>
</cp:coreProperties>
</file>