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A1B-9205-41E4-AF20-5CA8530F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78D-E5EF-4A28-A462-756FE8D5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18CD-70AD-4A85-A02C-7E748E1F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B014-86A9-4FF2-9E41-5E45627D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079F-C336-4E57-B443-6F080F89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BB08-A224-494F-8564-C28B6CAD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458F-9FD6-4EB9-A94D-F18BE782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E91-912A-49F2-A68A-8F2270AD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6D5-CD0C-4F9D-8317-32285B64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142-1E25-41D8-A7FB-0E9D1DC7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B8AC-97E8-40DC-9A41-4410E1DC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683B-D941-4DC1-8E1B-C657D6AF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79F6-B4A0-42E6-99EC-8DFBA1CB6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7632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approved Financial Policy being applied which led to better control through  improved financial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transactions of GDF streaml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Working Groups given resources to catalyse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lk of the contributions from Bilateral Government sources-85.5% of the total income of US$13.8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total expenditure of US$10.8 million TB Control Drugs cost 78% while other partnership activities cost 23% of th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ed income for the whole year US$23.1 million, projected expenditure US$ 23.6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ed shortfall for 2005 25 million based on Targeted Work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ted effort to be made for mobilising more resources by targeting more donors in the current donor segments and by exploring new dono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 catalytic support to all Working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draft of the Global Plan to control TB to provide overall business plan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with GFATM to become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and Communication effort to be intensified considerable to increase political support and enhance public awarenes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8:56:30Z</dcterms:created>
  <dc:creator>vijaya</dc:creator>
  <dc:description/>
  <dc:language>en-US</dc:language>
  <cp:lastModifiedBy>vijaya</cp:lastModifiedBy>
  <dcterms:modified xsi:type="dcterms:W3CDTF">2004-10-04T09:49:34Z</dcterms:modified>
  <cp:revision>6</cp:revision>
  <dc:subject/>
  <dc:title>Highlights</dc:title>
</cp:coreProperties>
</file>