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8217-EF43-4B5D-8D38-803A45926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8F5C-08B6-413F-8390-CCB7C4D43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8E5D-CB04-4C0C-86B8-1C27B0435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269D-8C97-454B-8D40-CFD59E3A9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9FD7-9175-477A-B43D-658C405FB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64F5-6297-43BB-A8DD-83C3191AE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1E4A-3B6F-494A-85C3-8FA712777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8C34-4CE7-4D7D-9C45-C619CA198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AC20-A1CC-4460-8560-BE6E593AD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F668-EA02-4DBF-B994-3179D2A0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5321-BF69-43C0-BB06-1259F60F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CAB1-459D-4DE2-9782-C93FCD37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93552-04E4-4923-A58F-C76BA8D956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08720" cy="33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Meeting of chairpersons of Working Groups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aturday 16 October 2004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Second Global Plan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o Stop TB:  2006-2015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836280"/>
            <a:ext cx="83516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review of progress in developing the Global Plan 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ntribution of Working Groups to the Global Plan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imeli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5698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rocess for developing the Second Global Plan to Stop TB: 2006-20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120" y="1628640"/>
            <a:ext cx="8381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cess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ordinated by Stop TB Partnership secretari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uided by steering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formed by feedback from first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ed on contributions of the 7 Stop TB Partnership Working Groups (DOTS Expansion, DOTS-Plus, TB/HIV, drugs, diagnostics, vaccines, and advocacy &amp; communica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riven by 2015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econd Global Plan to Stop TB, 2006-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1052640"/>
            <a:ext cx="858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0 years' time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first Global Plan and Progress Repo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ads to 2015 Millennium Development Goals (MD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ary to MDGs TB working group report (that calls for support for the Global Pl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istent with proposed World Health Assembly resolution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sponds to country needs for long-term planning and financi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s strategic directions set out b y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 on the TB epide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view of progress in developing Global Plan, 2006-20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1197000"/>
            <a:ext cx="858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y 2004 - WHO Executive Board approved resolution on Global Plan for 2005 World Health Assemb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WHO Strategic and Technical Advisory Group endorsed outline of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Outline sent to all partners for 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ly 2004 - Outline endorsed by Coordinating Boar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ugust 2004 - Steering committee endorsed by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ptember 2004 – work initiated on proj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ontributions of Working Groups (WGs) to development of pl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8120" y="1792440"/>
            <a:ext cx="8381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ationa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ccessful development of plan depends on contribution of all W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cess builds the "buy-in" necessary for the implementation of the plan by the W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Gs stand to gain from a plan with wide support (political and financial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veloping the road map to reach the 2015 global TB control targe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8120" y="1792440"/>
            <a:ext cx="8381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truction of possible scenarios for how the regions individually and the world overall can reach the targets, i.e. development of epidemiological and costing proje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ach WG to use the projections as the basis for developing their own long-term workplan in contribution to achieving the targe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ilestones and timelines for expected prog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ime li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8120" y="765000"/>
            <a:ext cx="845496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ctober – March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ment of scenarios and inter-active planning process with Working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each WG should identify a focal poi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ctober 2004 – May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ment by each Working Group of workplan, 2006-2015, guided by proj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y - June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inalisation of Global Plan, 2006-20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ptember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unch of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take-home mess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8120" y="1792440"/>
            <a:ext cx="8381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success of the Global Plan depends on the contribution of the Working Grou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ach Working Group needs to indicate how it will make its contribution to the Global Pl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secretariat in each case  should facilitate each Working Group's contribu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08T12:29:12Z</dcterms:modified>
  <cp:revision>93</cp:revision>
  <dc:subject/>
  <dc:title>Africa: HIV is driving the TB epidemic TB notification rates, 1980-1998</dc:title>
</cp:coreProperties>
</file>