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A0844-F56C-44AD-852E-B22780AF08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4F9A3-C978-4764-969E-EFCDF158B9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59EC4-F297-4034-97FF-62CD6816E2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3C81A-90D3-465B-B07D-FEFBDD8000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DE9B5-E21B-4032-8B30-D25C3C1A60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C1FA3-B92D-4853-924A-F64811EF44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1BF1F-19A2-4BB7-9AC3-109722D872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6B95B-7BDD-461A-A849-7D86E4929A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DF29-0C86-4BCA-BFBF-F74CD46E0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A03B-1E1E-456C-A496-56EEB7571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C196-764F-429B-AB94-326F37DE0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7109-66FE-447E-938B-429ABC34D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C672B-046A-4800-8A63-C8925DB3B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CA45F-E684-4A12-9B3E-5214FD12E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63530-DA7E-43F2-B55C-3B0C74483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288A7-516B-437F-900E-E1138AA0F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03491-D096-411F-8161-C662BF6FB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E251F-92D9-4D9E-911A-233B8882E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147FE-6DEF-461D-B71A-A5C147CE9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4DA0-3AC5-434C-A91A-8A66A9BA6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DCFE0-482B-4BB4-9514-30435DE4D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5A902-585C-4E98-A5F3-8888FAC3B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0DEDA-27D3-44E7-9C02-52BD08388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C4329-4F19-4EA8-976F-3A1462F80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8028D-E15E-44D5-A8E3-2C2C3CDEC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251F-6557-4FC2-B17A-51FD0ED38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B3DC-9826-4166-A897-EB2ADF48C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A05A-C6E3-4FCE-A17B-8DA879719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22E5-E0AB-4BB4-9646-16938EEC4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4790-7FDF-4C16-96A3-531F75EE7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384E-3CA8-4C46-AE29-798F73272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65EF-DD2D-4840-973D-22D740AC1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4F912-CB08-4F9C-A777-8627CA7BEAF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A859E-CDFB-4DAC-BC48-A237B086E5A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323640" y="1483920"/>
            <a:ext cx="80643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cc"/>
                </a:solidFill>
                <a:latin typeface="Tahoma"/>
                <a:ea typeface="宋体"/>
              </a:rPr>
              <a:t>Resource Mobilisation Action Plan 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cc"/>
                </a:solidFill>
                <a:latin typeface="Tahoma"/>
                <a:ea typeface="宋体"/>
              </a:rPr>
              <a:t>2004-2005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  <a:ea typeface="宋体"/>
              </a:rPr>
              <a:t>Irene Koe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Chair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esource Mobilisation Task Force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Stop TB Partnership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7th Coordinating Board Meeting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4 October 2004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eijing, China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32944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Background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713800" cy="48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Based on the 2003 Resource Mobilisation Strategy and modified to reflect changes in the environmen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Seeks to generate resources for the Partnership as a whole and the Secretariat-management programs in particula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eed: US$3.77 billion for the Partnership as a whole and US$40.6 million for the programs managed directly by the Secretariat (GDF, working groups, etc.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40072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ction Plan Objective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713800" cy="48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velop a set of support structures and formal processe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sure donors recognise the challenge of TB control and give high priority to supporting Stop TB Partnershi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Increase flow of resources from the existing supporters of the Stop TB Partnership in a timely manne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velop new fund-raising products and approach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40072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Objective 1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964720" cy="48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402fc"/>
                </a:solidFill>
                <a:latin typeface="Arial"/>
              </a:rPr>
              <a:t>Develop a set of support structures &amp; formal process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Complete baseline information on donors and resources contributed by them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stablish strategic alliance between Stop TB and other development oriented institutions/initiativ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422360" indent="-5079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RBM, UNAIDS, GFATM etc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Re-examine and revamp the Resource Mobilisation Director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Use internet for fund raising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532908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Objective 2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713800" cy="48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402fc"/>
                </a:solidFill>
                <a:latin typeface="Arial"/>
              </a:rPr>
              <a:t>Increase donors recognition &amp; support for the Stop TB Partnership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Collaborate with the Communication and Advocacy working group to develop a global communication strategy that has fund raising as an integral par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32944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Objective 3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964720" cy="50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402fc"/>
                </a:solidFill>
                <a:latin typeface="Arial"/>
              </a:rPr>
              <a:t>Increase resource flow from the existing supporters in a timely manner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Build support from bilateral government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velop closer ties with GFATM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Cultivate support from the EU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Identify several private foundations/commercial enterprises to engage as new supporters and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stablish links with fraternal organisations like the Rotary Internationa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2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xplore the possibility of securing the support of high net worth individuals</a:t>
            </a:r>
            <a:r>
              <a:rPr b="1" lang="en-GB" sz="8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40072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Objective 4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569440" cy="43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239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402fc"/>
                </a:solidFill>
                <a:latin typeface="Arial"/>
              </a:rPr>
              <a:t>Develop new fund raising products and approach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239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23960" indent="-7239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termine the type of products that will appeal to       donors and that will make the case clearl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23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23960" indent="-7239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xplore cause-related marketing with some large multinational enterpris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23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23960" indent="-7239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xplore the concept of planned giving for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23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high-net worth individual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3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3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40072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commendation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496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Convert the Resource Mobilisation Task Force into and 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ad hoc</a:t>
            </a: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 advisory group available to the Secretariat and the Board on an as needed basi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Operationalise the Resource Mobilisation Action Pla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Arial"/>
              </a:rPr>
              <a:t>Allocate responsibiliti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Arial"/>
              </a:rPr>
              <a:t>Agree a sequenced schedule of work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Arial"/>
              </a:rPr>
              <a:t>Agree a time line with all concern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Arial"/>
              </a:rPr>
              <a:t>Agree on resources to be allocated for the pla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Execute the Action Pla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Update the plan based on a feedback in November 2005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vijaya</cp:lastModifiedBy>
  <dcterms:modified xsi:type="dcterms:W3CDTF">2004-10-21T14:44:33Z</dcterms:modified>
  <cp:revision>33</cp:revision>
  <dc:subject/>
  <dc:title>Financial situation,  Budget &amp; plans 2005</dc:title>
</cp:coreProperties>
</file>