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908-B18D-45B4-B2D5-EB172D60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47C-81EB-4DDE-A759-C70F60EB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B1B-3FE2-4037-ABD1-931BCC06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1D1-8F1D-4213-B196-B02A0F87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B14-3DA2-4890-868F-1A716332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53A-9985-4815-8003-CCF1ABFD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41F-D75A-4B39-9C87-F63DBAA3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522-4B8E-4039-ACA9-F3A691E1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2B6-2EFC-4398-BD4F-C249C23E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686-72A9-47D7-B606-F8EEAB66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8DB0-23FF-4581-99E2-B1D6B2C9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1AC-F8A3-4445-8903-66F1E9C2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30F3-38A2-4A89-82DA-CA1FA5E31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f the Steering Committee for the Global Pl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006-2015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TB Diagnos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Giorgio Rosci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Objectives and Key Activities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 To develop new, improved tools for the detec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uberculosis disease, drug resistance and latent inf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use an evidence-based approach 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characteristics of new, improved diagnostic tool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tection of tuberculosis disease, drug resistance and latent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demonstrate the epidemiological and economic imp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, improved diagnostic tools under programmatic conditions in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In collaboration with the STOP TB Partnership &amp; 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grams, to delineate a strategy for the introduction and adoption of prom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B diagnostics into resource-constrained se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 comprehensive advocacy and information strateg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 and improved TB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argets for Test Introduction Leading to Sustainable Adoption: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needs for enabling infrastructure (2006-2015) totals 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ference material bank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linical Trial Training and Lab Strengthening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Pre-qualification Projec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4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gulatory Harmoniz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Analysis Updat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1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entry schemes based on situ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5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nalys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WG secretariat/coordination and meet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5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vocacy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6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towards Finalizing the Diagnostics WG Strategic Plan &amp; the WGs’ Contribution to the Global Plan II to STOP TB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52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ulation of the Draft Strategic Plan to all WG members for comment and direct input into Table 2, Key activities and Figure 5 (Targets for Test Introdu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ptation of existing mathematical model to better represent impact of new diagnostic tools o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es of meetings with implementation working group representatives to determine which diagnostic test scenarios (Figure 5)  should be incorporated into core regional strategies and estimate their implementation co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STOP TB Working Group on Diagnostics -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916280"/>
            <a:ext cx="7488000" cy="4033440"/>
            <a:chOff x="900000" y="1916280"/>
            <a:chExt cx="7488000" cy="4033440"/>
          </a:xfrm>
        </p:grpSpPr>
        <p:sp>
          <p:nvSpPr>
            <p:cNvPr id="46" name=""/>
            <p:cNvSpPr/>
            <p:nvPr/>
          </p:nvSpPr>
          <p:spPr>
            <a:xfrm flipH="1" flipV="1">
              <a:off x="5171400" y="3984840"/>
              <a:ext cx="108288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65760" y="4255920"/>
              <a:ext cx="9025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71400" y="2847240"/>
              <a:ext cx="84168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9720" y="453888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983600" y="3908880"/>
              <a:ext cx="138276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171400" y="3603240"/>
              <a:ext cx="660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7560" y="2375640"/>
              <a:ext cx="1143000" cy="204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0160" y="4604760"/>
              <a:ext cx="1744200" cy="661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9400" y="2847240"/>
              <a:ext cx="2013840" cy="564120"/>
            </a:xfrm>
            <a:prstGeom prst="rect">
              <a:avLst/>
            </a:prstGeom>
            <a:solidFill>
              <a:srgbClr val="fee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research instit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00000" y="4822200"/>
              <a:ext cx="2044440" cy="816480"/>
            </a:xfrm>
            <a:prstGeom prst="rect">
              <a:avLst/>
            </a:pr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B Programs/Reference Labora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72840" y="2565000"/>
              <a:ext cx="2315160" cy="564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7920" y="5385600"/>
              <a:ext cx="76356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4138560"/>
              <a:ext cx="672480" cy="32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2240" y="3755880"/>
              <a:ext cx="2068200" cy="64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ational  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7920" y="2910960"/>
              <a:ext cx="781920" cy="973440"/>
            </a:xfrm>
            <a:prstGeom prst="ellipse">
              <a:avLst/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e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080" y="1916280"/>
              <a:ext cx="1591200" cy="38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87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ion of the Stop TB WG on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velop and introduce cost-effecti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new diagnostic tools that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wards control of the global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the quality of patient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dvocate and sponsor increased investment from the public and private sector in basic science that supports the development of diagnostic technolo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ontinuous mapping of landscape for promising technologies and regular dialogue with diagnostic technology and test develop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Facilitation of improved public and private sector stakeholder collaboration leading towards accelerated diagnostic tool development, evaluation, demonstration and market entry (test introduction and sustainable adop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argeted investment and management of product development in priority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Improve understanding, development and regulation of the diagnostics market in high burden countries aimed at encouraging application of potential new technologies to TB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easure the epidemiological and economic impact of new diagnostic tools in National TB Program set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ssistance to  governments and public health agencies in developing countries to evaluate the utility and cost-effectiveness or local appropriateness of new diagnostics and develop effective implementation schemes that maximize patient accessibil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Diagnostics Tools for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0600" y="1271520"/>
            <a:ext cx="7565760" cy="4678200"/>
            <a:chOff x="750600" y="1271520"/>
            <a:chExt cx="7565760" cy="4678200"/>
          </a:xfrm>
        </p:grpSpPr>
        <p:grpSp>
          <p:nvGrpSpPr>
            <p:cNvPr id="69" name=""/>
            <p:cNvGrpSpPr/>
            <p:nvPr/>
          </p:nvGrpSpPr>
          <p:grpSpPr>
            <a:xfrm>
              <a:off x="750600" y="1271520"/>
              <a:ext cx="2106720" cy="4678200"/>
              <a:chOff x="750600" y="1271520"/>
              <a:chExt cx="2106720" cy="4678200"/>
            </a:xfrm>
          </p:grpSpPr>
          <p:sp>
            <p:nvSpPr>
              <p:cNvPr id="70" name=""/>
              <p:cNvSpPr/>
              <p:nvPr/>
            </p:nvSpPr>
            <p:spPr>
              <a:xfrm>
                <a:off x="750600" y="1271520"/>
                <a:ext cx="210672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Purpo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0600" y="1929240"/>
                <a:ext cx="210672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Case 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Drug Susceptibility Test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Latent TB Infec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91800" y="1271520"/>
              <a:ext cx="5524560" cy="4678200"/>
              <a:chOff x="2791800" y="1271520"/>
              <a:chExt cx="5524560" cy="4678200"/>
            </a:xfrm>
          </p:grpSpPr>
          <p:sp>
            <p:nvSpPr>
              <p:cNvPr id="73" name=""/>
              <p:cNvSpPr/>
              <p:nvPr/>
            </p:nvSpPr>
            <p:spPr>
              <a:xfrm>
                <a:off x="2791800" y="1271520"/>
                <a:ext cx="552456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Test Indic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91800" y="1929240"/>
                <a:ext cx="552456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high bacterial load   (SS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low bacterial load   (SS -, Cx 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extra-pulmonary and pediatric T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estimated TB cases by AFB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6912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Diagnostics Development Pipeline: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45:05Z</dcterms:created>
  <dc:creator>Giorgio</dc:creator>
  <dc:description/>
  <dc:language>en-US</dc:language>
  <cp:lastModifiedBy>johnsoneb</cp:lastModifiedBy>
  <dcterms:modified xsi:type="dcterms:W3CDTF">2005-05-02T10:36:36Z</dcterms:modified>
  <cp:revision>32</cp:revision>
  <dc:subject/>
  <dc:title>Slide 1</dc:title>
</cp:coreProperties>
</file>