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9D0-EFF6-4713-98BD-19869EE5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F4A-4F5C-4201-B51A-56144DDF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9BF-940E-47E4-9CBD-BA64D321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3635-F183-4904-8ED8-8ACEDA7C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3C29-2A37-4115-B5D9-813198E3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C6E5-77CF-417A-B32F-65420C05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E1C0-B609-4AFF-9B15-2F70792E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7A84-13DC-4AC7-8C8D-20F212F3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2FD3-3AE3-4AD7-B75E-A6EFF430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14D9-A4C1-4F15-9081-D74174CF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9EAF-9609-452D-928F-CC8B9ACC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CBD-7658-438C-AE0C-CD8F6BE6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B9B1-EB62-4B6A-B32C-1843EA17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4321-F365-4BFF-9A61-3D1F0A37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14E6-84D2-4BD8-8592-F8C3A91F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12A1-CB87-4B06-8DC5-ED1A1EF6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0C90-CED4-414F-9E52-F6472076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D60-1E26-4EA3-87BA-A967E78B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BA4C-095A-49B9-9773-0F213022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518-B52E-44D2-8839-EBCAF46D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59AC-4F16-4976-9F78-E68B37EF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9EF-A3AF-41D9-AEE3-D2EA064B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FA8-9383-46B9-A4FB-3525D1C7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176-6803-4D2B-82C2-D337DCBA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37DD-8EAF-469D-88EC-3756929FBE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A18E-4045-4B63-B9E6-AEDC833501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DEWG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prelimin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s Ababa 2 Ma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DOTS expansion implementation: milestones to 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3436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Trends in additional population to be covered by different approache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641600"/>
            <a:ext cx="684072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treatment success rates 2002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628640"/>
          <a:ext cx="83534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3534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new smear positive case detection trends 2003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03280" y="1835280"/>
          <a:ext cx="7272360" cy="44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35280"/>
                    <a:ext cx="727236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cost for activities carried out by the DEW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1. Countries that intensified DOTS implementation already in 2004-2005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that sustained intensification and/or more efficient use of available resources in those countries will be sufficient to improve quality implies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treated case in 2005 multiplied by number treated cases in a year = cost related to intensified DOTS tha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ost increase proportional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2. Countries that need further intensification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a typical district with a given population size (500,000) in a typical country in the region (e.g. a rural district in Uga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required additional inputs in terms of HR, training, supervision, transport, supplies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per 500,000 pop to be covered by intensified DOTS using country or regional cost data for abov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unit cost per population with population to be covered in country/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The Uganda / AFR example </a:t>
            </a:r>
            <a:br>
              <a:rPr sz="34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(DOTS intensification and community DOTS)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,000 $US per district (500,000 p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.1 $US per cap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0 million population in AFRhig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million per annum for DOTS quality improvement + community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pproach to costing new initiatives (step 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ypical additional inpu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dditional population to be covered by the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between start up and runn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: Costing additional PPM and community invol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"field level", PPM and Community DOTS costs the same or less than "conventional" D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up and running costs only in relation to "support structure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and guidelin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/ provincial focal points an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force / national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osts on country level and by population to be 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Objectives for DOTS Expansion 2006-201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chieve, sustain and go beyond the "70/85"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equitable access to quality TB care for all people with TB, especially the poor (increasing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o reach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stain 2005 costs for DOTS quality improvement, when coverage is 100%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1484280"/>
          <a:ext cx="79531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9531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48360" y="3141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2708280"/>
            <a:ext cx="71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 for DOTS quality impro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270828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s for DOTS quality improvement and new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270828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2133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421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1916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e1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Specific objectives of the planning exerci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utline the expected DOTS expansion activities in the regions and in the world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stimate the resulting changes in case detection and treatment outcomes in regions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o provide above data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modelling of impact on TB prevalence and death rate (MD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Estimate the regional and global cost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Pas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/Feb 05: preparation of Montreux worksho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fine strategic activities to increase CD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f activities expansion (countries,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sultation with regions and som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n case detection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start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 05: Montreux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se estimates of activities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corporate TB/HIV and DOTS plus interaction with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ew estimates and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April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further consultation with regions and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orkshop in EMRO with key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reparation of the draf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re group of DEWG requests special teleconference to discuss th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Nex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costing for countries and fo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ncourage regional workshops (good preparation for cou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eleconference with 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put from sub-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mplet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n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estimates and c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lobal plan 2 to be presented to STAG and RA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 – O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rticulating DOTS Expansion – TB/HIV – DOTS plu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ct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presentation of the plan to Mega meeting Vers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DOTS Expansion scena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"Optimistic and realistic"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 implementation of existing tools and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impact on case detection and treatment outcome of combined DEWG activities (DOTS coverage, DOTS quality improvement and new approach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rom activities to impact and cos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628640"/>
            <a:ext cx="4608360" cy="36946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ddition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TS expansion activities in countries in relation to 2005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e DOTS coverage (after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d DOTS quality (HR, laboratory, supervision, drug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PM (int stand c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Community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capacity for Culture services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1628640"/>
            <a:ext cx="2016360" cy="11754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ional level out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atment su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1628640"/>
            <a:ext cx="2016000" cy="10598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pidemiological 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3213000"/>
            <a:ext cx="2016360" cy="21135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ntry level cost un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to be 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opulation to be cov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5661000"/>
            <a:ext cx="4608360" cy="916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Global and regional support for DOTS expansion, monitoring and evaluation and operational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3284640"/>
            <a:ext cx="1727280" cy="3553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x cost per treated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covered x unit cost per population for activities under step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661000"/>
            <a:ext cx="2016360" cy="6426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 level cost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20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29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609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5157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4000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verview of relevance of different types of DEWG related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686800" y="1530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2075040"/>
            <a:ext cx="72738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stimating increased case detection and success r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 the expansion of activities that have an effect on case detection (increasing access) and cure (strengthening D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sultation with regions and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s in high burden countries and countries with significant proportion of case load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average relative increase in HBCs to non-HBCs in same region and calculate regional C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05-02T07:56:50Z</dcterms:modified>
  <cp:revision>44</cp:revision>
  <dc:subject/>
  <dc:title>Slide 1</dc:title>
</cp:coreProperties>
</file>