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18A1-E4DD-4394-BE82-E7C283782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has been discussed earlier the prospect reaching for the MDG TB targets looks much more achievable in most parts of the world except for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oadmap complements the analytical document presented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take the following activities to enhance the importance and profile of TB as one of the leading health agenda in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launch a Stop TB Partnership for Africa to solicit unprecedented level of political commitment and multisectoral involvement at all levels to accelerate the implementation of TB contro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gh level missions should initiate the discussion of mainstreaming TB into development strategies such as the PR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TB causes an estimated  an economic loss of 4-7% of GDP annually in countries with a high burden of TB.  Likewise, the global cost of TB is estimated to be US$13 billion a yea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erefore, it needs to be mainstreamed in the development agenda of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3DCE-1E21-4325-B908-1893A571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044-7F72-40A9-B022-67718BDF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01A2-68F1-478B-9F10-041761F1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ED0-3B4C-426D-BF2E-49D9F60A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0A95-14E0-4CC5-94BE-049B2499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9607-D982-427A-809A-3D124459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3982-EF2F-45E5-9AEB-C8EFFF37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35D6-7BE1-4B6C-B1F3-A0349B27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ECB5-6293-4629-83B3-E18B98AF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BB51-795C-4B62-8376-F9CFD3EF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C22E-F760-413B-A291-5EDCD45F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6AC-A2D1-4272-87A6-8E27AFBC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028C-6E6F-4D69-8DDF-1E33DE09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DFB3-103F-4B7F-AFC0-C503D845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9D4F-9446-449A-A852-DF3D2382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9445-B2F7-42E5-8D49-A0879905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4C6B-B524-4793-B830-57642B42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572-8670-4661-8790-4D7B257A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FE3-76C7-43AB-A3F2-9ACD5049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016F-E23A-4B3B-BE10-FE8D0C29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1C33-BDE0-41E0-8CB7-5D96298F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143-FEE7-4DFA-BF50-83D330C5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B045-0110-48EA-A432-50F0D506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B8B4-ABCB-47B5-8B5B-96CCF541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E1F5-ED72-4255-856A-5EA649709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6B92-189A-45FE-86BF-C8A1A5BEC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Roadmap to intensify action to reach the TB MDGs in Africa.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2005-2007</a:t>
            </a:r>
            <a:br>
              <a:rPr sz="4400"/>
            </a:br>
            <a:br>
              <a:rPr sz="44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raft for 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Why the Roadm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Provide recommendations and the </a:t>
            </a:r>
            <a:r>
              <a:rPr b="0" lang="en-GB" sz="3200" spc="-1" strike="noStrike">
                <a:solidFill>
                  <a:srgbClr val="cc0000"/>
                </a:solidFill>
                <a:latin typeface="Berlin Sans FB Demi"/>
              </a:rPr>
              <a:t>provisional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 financial needs for TB control in Africa for 2005-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alls for enhanced effort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B of Stop TB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African leaders and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Donors, technical agencies and N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11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Liaise with the AU and WHO/AFRO to make TB visible and to engage in NEPA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dvocate for an AU TB resolution in the context of M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The Chair of the CB (or his/her delegate) to regularly attend the Regional Committee (RC) of AF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ssign a focal point of the CB to engage in NEPAD related consul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reate a  task force to establish the Stop TB Partnership for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high level missions to five high burden countries and meet with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heads of state</a:t>
            </a:r>
            <a:r>
              <a:rPr b="0" lang="en-GB" sz="3200" spc="-1" strike="noStrike">
                <a:solidFill>
                  <a:srgbClr val="3333cc"/>
                </a:solidFill>
                <a:latin typeface="Berlin Sans FB Dem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and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ministers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the next Stop TB Partners Forum in Africa in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The Coordinating Board shou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Organise an African TB financing summit to mobilise new and sustainable  financial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Reach out major institutions and bilateral agencies by meeting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Berlin Sans FB Demi"/>
              </a:rPr>
              <a:t>heads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of  the instit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supporting the Global Drug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African governments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Mainstream TB in their development age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P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SW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HI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trengthen TB control through DOTS and address health system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increase access to quality diagnosis and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Strengthen community involvement in TB and TB/H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engagement of NGOs and private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local drug manufacturing and procur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Implement collaborative TB/HIV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Interim Policy on Collaborative TB/HIV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Establish National Stop TB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Major donors, technical agencies and NGOs  sh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upport the proposed African TB financing summ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and increase support for Stop TB Partners working in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ordinate their national leve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HIV/AIDS NGOs should embrace TB as one of their main work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Estimated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the Coordinating Board= 1.5 mill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African countries=  1, 140 mi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0000"/>
                </a:solidFill>
                <a:latin typeface="Berlin Sans FB Demi"/>
              </a:rPr>
              <a:t>Provisional  figures built on the global plan II (2006-201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000000"/>
                </a:solidFill>
                <a:latin typeface="Berlin Sans FB Dem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1:13:30Z</dcterms:created>
  <dc:creator>getahunh</dc:creator>
  <dc:description/>
  <dc:language>en-US</dc:language>
  <cp:lastModifiedBy>johnsoneb</cp:lastModifiedBy>
  <dcterms:modified xsi:type="dcterms:W3CDTF">2005-05-11T07:59:49Z</dcterms:modified>
  <cp:revision>37</cp:revision>
  <dc:subject/>
  <dc:title>Roadmap to intensify action to reach the TB MDGs in Africa.  2005-2007 </dc:title>
</cp:coreProperties>
</file>