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E2D-536E-47FF-B4CC-EADC70F9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E39-012E-4B02-A7B7-05788490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862-8E19-4B9A-A553-FF956E62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B337-7964-4D0C-87FC-FEE23632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A34C-2C91-4E87-9EC4-3EA335F0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C78-6DBF-42DE-8382-3D6F169F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ED8-E4C2-440D-8CF0-89ACAF03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43A-DF2C-4D03-82C6-608AA2C3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1AD-66B7-4C66-B1A8-DED4A97C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CFA5-EDE7-4868-9F86-94F33FB1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E1D-2FB8-49D4-9A7F-5019B0AB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3FD2-0751-4D4A-ACDE-2BE8435F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C600-4774-4AF4-B1ED-8379D2CF45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-8 Recommended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idly develop more robust number for TB funding need/gap based on GP 2 to be referenced in G-8 Commun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guage for communique on “closing the funding gap for TB control” and “supporting convening of Emergency African TB Financing Summit and monitoring of implementation of the Road Map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B and NGO support for above to G-8 and other don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est to Ethiopian PM to attend G-8 and  become champion for TB in Africa, make the case for intensified action for TB in Africa and financing the Road M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NGO efforts associated with ActionAid eff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Engagement of World Lea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national Community—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ear presentation of GP2 resource needs before June—for G-8, GFATM Repl. Mtgs. Fair shares? Country/regional foc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M plan for GP2?????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. ID set of 7-8 RM priority donor countries (and multilaterals) with 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 for CB efforts, regular support for NGO country efforts—ID targets, support adv. capacity, media, visits.  Coordinated effort on M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ies of focused advocacy docs from G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ID strategic TB champions and make specific requests—Mandela, Tutu, Sachs. Prioritize global leaders/for a—EU, WB, AU, Other Regional Summi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BC Country lev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itize key HBCs—Africa, other priorities—ID core set of partners for each country, CB missions, NGO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plan for reaching 2-3 national leaders in target HB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e for Eco Impact of TB (WB to underta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rget Ev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 Sum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-8 (Ethiopian P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. GFATM Replenishment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G Summit—ID some champions for 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F January 2006 release of GP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a—op-ed HG/Mand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chs/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05:08:08Z</dcterms:created>
  <dc:creator>Geoff</dc:creator>
  <dc:description/>
  <dc:language>en-US</dc:language>
  <cp:lastModifiedBy>johnsoneb</cp:lastModifiedBy>
  <dcterms:modified xsi:type="dcterms:W3CDTF">2005-05-04T12:45:32Z</dcterms:modified>
  <cp:revision>4</cp:revision>
  <dc:subject/>
  <dc:title>G-8 Recommended Actions</dc:title>
</cp:coreProperties>
</file>