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AA01-98D3-4EA9-AF34-6E3E3DFC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9539-3E63-43E6-BE9A-0B0265CB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D8E5-178E-412A-9C46-564D3C55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C6DF-27F6-4D7B-925A-E735D40E9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FE34-C6F8-4E2E-A441-D112205D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C8AA-B6FD-4DDD-A658-6C1086E1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501F-6ACE-47B9-9AD0-33190912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2D06-1552-4239-82B4-5454C128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95BD-44C0-4B05-A7D9-850E3462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A579-AB3C-4E77-B367-D46B853A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BD07-BD49-4DB9-B4AD-C42A1206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59CD-3EF8-4B0C-944E-9E1D86E2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7B69-FFA6-4456-8C55-2EA6D7C0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A8F6-218C-4294-B811-2B6D1E84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D301-C3DE-4536-860D-A6E5689E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10A7-8B67-4E32-9DDE-BB11E3DC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976E-64D5-4984-B9BC-17F3D1D1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2D5D-7E5F-4F91-91A8-B070B84A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B428-37EE-4C0E-BC4E-BB1FAC3D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DD7D-A2EE-4765-B8EF-E9E19204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434B-EB94-4376-B070-E45F3E99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C2A2-D999-4B3B-99FD-C3246A74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3EE2-CCB3-4F55-A893-42BE81B8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58F8-CBA2-42BD-A7B4-02133428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1F9C-FC0F-461A-A671-EBEB939FF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CCC1-FE14-42CB-A7F8-6906A6C57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tbproposalhelp@who.int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cc"/>
                </a:solidFill>
                <a:latin typeface="Arial"/>
              </a:rPr>
              <a:t>THE GFATM: </a:t>
            </a:r>
            <a:br>
              <a:rPr sz="4400"/>
            </a:br>
            <a:r>
              <a:rPr b="1" lang="en-GB" sz="4400" spc="-1" strike="noStrike">
                <a:solidFill>
                  <a:srgbClr val="ffffcc"/>
                </a:solidFill>
                <a:latin typeface="Arial"/>
              </a:rPr>
              <a:t>MAKING ROUND 5 COU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FATM Unit, TB Strategy and Operations, WHO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"Implementation"  Working Group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TOP TB Partnership Secretaria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HOW MUCH FOR T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ple: Bangladesh, Pakistan, Nigeria, Cambodia, Zimbabwe, Brazil, China, India Sudan, Vietnam  (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stimated TB Proposal Total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$290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TURE DIR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TB components in HIV propos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ing the capacity to strongly engage with the GFATM, and to plan TA in advance (Early Warning System coordin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coming implementation bottlenecks by providing support for project management, accounting, finance, logistics (HS strength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OR BOARD CONSI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Board is request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sources of fund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continue the GFATM focal point position in WHO in advance of Round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to strengthen assistance to countries (technical and CCM) in the lead up to R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e the profile of TB in engaging at political level and with the GF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all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utting 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Much for TB in R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ailable funding has increased 60% R1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ever, TB funding has not increa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proposals have been modest.  30% of all approved proposals are for TB yet overall funding for TB is 1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FATM reports global resource gaps for AIDS, Malaria, and TB at 77%, 17%, and 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92720" y="1146600"/>
            <a:ext cx="80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000000"/>
                </a:solidFill>
                <a:latin typeface="Arial"/>
                <a:ea typeface="SimSun"/>
              </a:rPr>
              <a:t>Figure 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5320" y="6442200"/>
            <a:ext cx="17496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900" spc="-1" strike="noStrike">
                <a:solidFill>
                  <a:srgbClr val="ffff66"/>
                </a:solidFill>
                <a:latin typeface="Tahoma"/>
                <a:ea typeface="SimSun"/>
              </a:rPr>
              <a:t>2 year budg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396720" y="6767640"/>
            <a:ext cx="59623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03280" y="1413000"/>
            <a:ext cx="7072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900" spc="-1" strike="noStrike">
                <a:solidFill>
                  <a:srgbClr val="ffff66"/>
                </a:solidFill>
                <a:latin typeface="Tahoma"/>
                <a:ea typeface="SimSun"/>
              </a:rPr>
              <a:t> 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  <a:ea typeface="SimSun"/>
              </a:rPr>
              <a:t>$583 M         $886 M        $623 M         $968 M         $306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8920" y="1793880"/>
          <a:ext cx="858852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793880"/>
                    <a:ext cx="858852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22732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27320" y="3262320"/>
            <a:ext cx="555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27320" y="326232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1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27320" y="2690640"/>
            <a:ext cx="6350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27320" y="2119320"/>
            <a:ext cx="5554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10000"/>
                </a:solidFill>
                <a:latin typeface="Arial"/>
                <a:ea typeface="SimSun"/>
              </a:rPr>
              <a:t>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27320" y="1874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8968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179388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  <a:ea typeface="SimSun"/>
              </a:rPr>
              <a:t>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205000"/>
            <a:ext cx="627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3016080"/>
            <a:ext cx="5572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809960"/>
            <a:ext cx="5572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68880" y="1874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10000"/>
                </a:solidFill>
                <a:latin typeface="Arial"/>
                <a:ea typeface="SimSun"/>
              </a:rPr>
              <a:t>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68880" y="2282760"/>
            <a:ext cx="6984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68880" y="301608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3124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99160" y="492444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4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99160" y="1957320"/>
            <a:ext cx="709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31240" y="3098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99160" y="309888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4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031240" y="2282760"/>
            <a:ext cx="7887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031240" y="1793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031240" y="195732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70080" y="1025640"/>
            <a:ext cx="4827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396720" y="0"/>
            <a:ext cx="954072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Comparison across round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Two year approved budget by disease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191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FATM Unit – TBS – WHO -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 technical support throughout R5 proce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bproposalhelp@who.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S Workshop in Ca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shop "Strategic Approaches to R5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95360" y="291960"/>
            <a:ext cx="83566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orkshop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0040" y="1254240"/>
            <a:ext cx="8136000" cy="14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55640" y="1341360"/>
          <a:ext cx="7991640" cy="51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991640" cy="51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7164360" y="3789360"/>
            <a:ext cx="1079640" cy="287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64360" y="371628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00"/>
                </a:solidFill>
                <a:latin typeface="Arial"/>
              </a:rPr>
              <a:t>Workshop Frame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14600" y="44197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4038480"/>
            <a:ext cx="198108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495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4038480"/>
            <a:ext cx="198144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4038480"/>
            <a:ext cx="198108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1148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R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4495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HAS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44197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876320"/>
            <a:ext cx="2057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19051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19810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-CALL 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187632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RESULTS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92160" y="-208080"/>
            <a:ext cx="405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18900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STRATEGIC APPROACH TO R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4572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CUTTING 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8 countries plan to submit TB proposals in R5 (18HBC).  49 in R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8 countries are receiving technical support from Stop TB Partn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6 consultants trained and deployed in the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FRICA ROUND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4 Applying (8 HBC), 13 failed in R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KEY ROUND 5 PRIORITIES in AFRIC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igeria &amp; Zimbabw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09:18:59Z</dcterms:created>
  <dc:creator>johnsoneb</dc:creator>
  <dc:description/>
  <dc:language>en-US</dc:language>
  <cp:lastModifiedBy>johnsoneb</cp:lastModifiedBy>
  <dcterms:modified xsi:type="dcterms:W3CDTF">2005-05-11T09:02:35Z</dcterms:modified>
  <cp:revision>118</cp:revision>
  <dc:subject/>
  <dc:title>Slide 1</dc:title>
</cp:coreProperties>
</file>