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80F9-7643-4D6E-A8E7-E0A9B0FE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48BE-A284-42EF-B75C-AE42B847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AE3C-B96C-4676-B6A4-E9C3AA1B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40AF-BD6C-4B9F-B3FB-708EA62A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F34E-A00B-4A75-A3BB-303B50AA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2D90-365E-4E51-B15B-C3745580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4E90-49BC-4D65-B290-2930106A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763A-509F-443B-96F9-EA9E6C61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7135-CC12-4B0F-AA70-BB474043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DB13-676F-48A5-B998-D9B794D6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C192-A9DA-49CB-9760-3942EFE4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04F2-2A77-465D-B88A-DA8E320F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D280-14B1-4000-8896-2A38B351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C486-5114-4279-BD57-7BE7338A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EDCA-1A99-4635-9803-B16F98F0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8415-F46D-48DE-B372-0C24EFE9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9AC2-9948-49BF-BE90-B357BCB5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9AA7-8609-4F69-9D19-BB28620C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D7FA-05DE-4FB7-8FA7-1A48FEBE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AE94-2A06-458F-8658-FBD882E6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AAB9-6236-456B-B262-4B3A0A36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7D93-4944-42F7-8BC9-C947314A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3E22-A6F6-4149-822B-1497C7B7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CC98-CE6E-4F0E-BEA5-14D584E4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7D21-D840-4470-A6AE-586AD42D8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493C-738E-4509-BA9E-EB104526A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Arial"/>
              </a:rPr>
              <a:t>THE GFATM: </a:t>
            </a:r>
            <a:br>
              <a:rPr sz="4400"/>
            </a:br>
            <a:r>
              <a:rPr b="1" lang="en-GB" sz="4400" spc="-1" strike="noStrike">
                <a:solidFill>
                  <a:srgbClr val="ffffcc"/>
                </a:solidFill>
                <a:latin typeface="Arial"/>
              </a:rPr>
              <a:t>MAKING ROUND 5 COU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FATM Unit, TB Strategy and Operations, WHO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"Implementation"  Working Grou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OP TB Partnership Secretaria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HOW MUCH FOR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ple: Bangladesh, Pakistan, Nigeria, Cambodia, Zimbabwe, Brazil, China, India Sudan, Vietnam  (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stimated TB Proposal Total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$290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TURE DI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TB components in HIV propos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ing the capacity to strongly engage with the GFATM, and to plan TA in advance (Early Warning System coordi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ing implementation bottlenecks by providing support for project management, accounting, finance, logistics (HS strengt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OR BOARD CONSI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oard is reques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sources of fund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continue the GFATM focal point position in WHO in advance of Roun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to strengthen assistance to countries (technical and CCM) in the lead up to R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e the profile of TB in engaging at political level and with the GF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utting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Much for TB in R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ailable funding has increased 60% R1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ever, TB funding has not increa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proposals have been modest.  30% of all approved proposals are for TB yet overall funding for TB is 1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FATM reports global resource gaps for AIDS, Malaria, and TB at 77%, 17%, and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92720" y="1146600"/>
            <a:ext cx="80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  <a:ea typeface="SimSun"/>
              </a:rPr>
              <a:t>Figure 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5320" y="6442200"/>
            <a:ext cx="17496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ffff66"/>
                </a:solidFill>
                <a:latin typeface="Tahoma"/>
                <a:ea typeface="SimSun"/>
              </a:rPr>
              <a:t>2 year budg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396720" y="6767640"/>
            <a:ext cx="59623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1413000"/>
            <a:ext cx="7072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ffff66"/>
                </a:solidFill>
                <a:latin typeface="Tahoma"/>
                <a:ea typeface="SimSun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  <a:ea typeface="SimSun"/>
              </a:rPr>
              <a:t>$583 M         $886 M        $623 M         $968 M         $306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8920" y="1793880"/>
          <a:ext cx="858852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793880"/>
                    <a:ext cx="858852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22732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27320" y="3262320"/>
            <a:ext cx="555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27320" y="326232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1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27320" y="2690640"/>
            <a:ext cx="6350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27320" y="2119320"/>
            <a:ext cx="5554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10000"/>
                </a:solidFill>
                <a:latin typeface="Arial"/>
                <a:ea typeface="SimSun"/>
              </a:rPr>
              <a:t>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27320" y="1874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8968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79388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SimSun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205000"/>
            <a:ext cx="627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016080"/>
            <a:ext cx="5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809960"/>
            <a:ext cx="5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68880" y="1874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10000"/>
                </a:solidFill>
                <a:latin typeface="Arial"/>
                <a:ea typeface="SimSun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68880" y="2282760"/>
            <a:ext cx="6984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68880" y="301608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3124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99160" y="492444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4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99160" y="1957320"/>
            <a:ext cx="709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31240" y="3098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99160" y="309888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4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31240" y="2282760"/>
            <a:ext cx="7887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31240" y="1793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31240" y="195732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70080" y="1025640"/>
            <a:ext cx="482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396720" y="0"/>
            <a:ext cx="95407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Comparison across round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wo year approved budget by disease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191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FATM Unit – TBS – WHO -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technical support throughout R5 proce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bproposalhelp@who.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S Workshop in Ca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shop "Strategic Approaches to R5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95360" y="291960"/>
            <a:ext cx="8356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orkshop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040" y="1254240"/>
            <a:ext cx="8136000" cy="14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1341360"/>
          <a:ext cx="7991640" cy="51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99164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164360" y="3789360"/>
            <a:ext cx="1079640" cy="287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4360" y="371628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00"/>
                </a:solidFill>
                <a:latin typeface="Arial"/>
              </a:rPr>
              <a:t>Workshop Frame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146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038480"/>
            <a:ext cx="198108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95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4038480"/>
            <a:ext cx="198144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4038480"/>
            <a:ext cx="198108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1148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R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4495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876320"/>
            <a:ext cx="2057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19051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19810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-CALL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18763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RESULTS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92160" y="-208080"/>
            <a:ext cx="405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18900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STRATEGIC APPROACH TO R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4572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UTTING 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8 countries plan to submit TB proposals in R5 (18HBC).  49 in R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8 countries are receiving technical support from Stop TB Partn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6 consultants trained and deployed in the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FRICA ROUND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4 Applying (8 HBC), 13 failed in R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KEY ROUND 5 PRIORITIES in AFR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igeria &amp; Zimbab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09:18:59Z</dcterms:created>
  <dc:creator>johnsoneb</dc:creator>
  <dc:description/>
  <dc:language>en-US</dc:language>
  <cp:lastModifiedBy>johnsoneb</cp:lastModifiedBy>
  <dcterms:modified xsi:type="dcterms:W3CDTF">2005-05-11T09:02:35Z</dcterms:modified>
  <cp:revision>118</cp:revision>
  <dc:subject/>
  <dc:title>Slide 1</dc:title>
</cp:coreProperties>
</file>