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9DE-4EE2-4912-9DC0-15D05ECA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3D6-EF26-4752-8FAB-94CCE31C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B29-B42B-48C1-852C-6F708C2D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9DB-21EA-4974-8FAA-12CB676D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1CD7-985C-450C-9DA6-877AA999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CFC2-37E5-4476-892F-A5AF3F81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D769-86CF-408E-A5C1-B1D50335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0BD8-8023-4129-973F-B36F5D0A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041A-1377-4D0E-AAB0-2F3ACF40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EA8F-965A-42C9-B7F8-0EE4CF1F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49AF-29CD-4190-BA0E-3F700A73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395-EFE8-4562-B424-F8FCC65E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6E7F-6421-4130-88E0-A2812350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9234-C85C-453B-99C3-39934501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38DF-0377-43E9-89C0-751A83A9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5F03-C157-4B05-B6F5-DD2BC5B3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B452-574B-4D59-BAFE-9A964B21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58E-B00C-4B56-B4F5-6378A7B1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48A-1F27-4FB8-9E39-966569EE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D1B-437D-4BA0-BD35-FF308637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30F-BDB6-4AED-AE7F-6C8A73F8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8A6-53B7-4EFE-8E0B-1FA98376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A9F-00BC-4DC2-877C-47C4BD4A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B6C-54B0-43BD-B605-1D04B13B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9367-CCC7-4716-9895-782C3D1688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ECB8-639B-4188-A3E9-50FA199E01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EWG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elimin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 Ababa 2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DOTS expansion implementation: milestones to 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Trends in additional population to be covered by different approach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8407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treatment success rates 2002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628640"/>
          <a:ext cx="83534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353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new smear positive case detection trends 2003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1835280"/>
          <a:ext cx="727236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35280"/>
                    <a:ext cx="727236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cost for activities carried out by the DEW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. Countries that intensified DOTS implementation already in 2004-2005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sustained intensification and/or more efficient use of available resources in those countries will be sufficient to improve quality implies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treated case in 2005 multiplied by number treated cases in a year = cost related to intensified DOTS tha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ost increase proportional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. Countries that need further intensificatio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 typical district with a given population size (500,000) in a typical country in the region (e.g. a rural district in Ug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required additional inputs in terms of HR, training, supervision, transport, supplie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per 500,000 pop to be covered by intensified DOTS using country or regional cost data for abov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unit cost per population with population to be covered in country/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The Uganda / AFR example </a:t>
            </a:r>
            <a:br>
              <a:rPr sz="34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(DOTS intensification and community DOTS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,000 $US per district (500,000 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1 $US per cap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0 million population in AFRhig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million per annum for DOTS quality improvement + communit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pproach to costing new initiatives (step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ypical additional inpu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dditional population to be covered by th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between start up and run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: Costing additional PPM and community invol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"field level", PPM and Community DOTS costs the same or less than "conventional"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up and running costs only in relation to "support structur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and guidelin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/ provincial focal point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/ nation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sts on country level and by population to be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Objectives for DOTS Expansion 2006-201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hieve, sustain and go beyond the "70/85"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equitable access to quality TB care for all people with TB, especially the poor (increasing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o reach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stain 2005 costs for DOTS quality improvement, when coverage is 100%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484280"/>
          <a:ext cx="79531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531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8360" y="3141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708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 for DOTS quality impro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70828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s for DOTS quality improvement and new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270828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421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19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e1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Specific objectives of the planning exerci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utline the expected DOTS expansion activities in the regions and in the world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stimate the resulting changes in case detection and treatment outcomes in regions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provide above data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modelling of impact on TB prevalence and death rate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Estimate the regional and global cos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Pas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/Feb 05: preparation of Montreux worksho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strategic activities to increase CD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f activities expansion (countries,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with regions and som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n case detection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tar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05: Montreux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se estimates of activities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corporate TB/HIV and DOTS plus interaction with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ew estimates and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April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further consultation with regions an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hop in EMRO with key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paration of the draf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re group of DEWG requests special teleconference to discuss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Nex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costing for countries and f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courage regional workshops (good preparation for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eleconference with 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put from sub-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mplet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estimates and c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plan 2 to be presented to STAG and RA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 – O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ticulating DOTS Expansion – TB/HIV – DOTS plu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ct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presentation of the plan to Mega meeting Vers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DOTS Expansion scena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"Optimistic and realistic"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implementation of existing too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impact on case detection and treatment outcome of combined DEWG activities (DOTS coverage, DOTS quality improvement and new approa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om activities to impact and co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628640"/>
            <a:ext cx="4608360" cy="3694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TS expansion activities in countries in relation to 2005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DOTS coverage (aft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d DOTS quality (HR, laboratory, supervision, drug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PM (int stand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Community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capacity for Culture services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628640"/>
            <a:ext cx="2016360" cy="1175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onal level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2016000" cy="105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pidemiological 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213000"/>
            <a:ext cx="2016360" cy="2113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ntry level cost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to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opulation to be cov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5661000"/>
            <a:ext cx="4608360" cy="91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Global and regional support for DOTS expansion, monitoring and evaluation and operation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284640"/>
            <a:ext cx="1727280" cy="3553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x cost per treated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overed x unit cost per population for activities under step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661000"/>
            <a:ext cx="201636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level cost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29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1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verview of relevance of different types of DEWG related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273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stimating increased case detection and success r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expansion of activities that have an effect on case detection (increasing access) and cure (strengthening D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sultation with regions and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in high burden countries and countries with significant proportion of case load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average relative increase in HBCs to non-HBCs in same region and calculate regional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05-02T07:56:50Z</dcterms:modified>
  <cp:revision>44</cp:revision>
  <dc:subject/>
  <dc:title>Slide 1</dc:title>
</cp:coreProperties>
</file>