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7F82-8581-4BE4-B86D-2C141825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40D8-D87F-442D-9288-9C449962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0531-47BB-4A8E-91CF-2A95BC45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1C23-28EE-42BF-B597-F413B6EE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E9479-1D34-4656-AF3F-F4A92AFD48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EEB7B-AC12-4206-A4E7-3D3D752193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D5F87-FF70-4BD3-B7ED-0F622FC66C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66F23-AB03-4E28-8E1A-1FE36E9A01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71677-AE4B-4B89-957D-74ABCC9362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8B9EE-C802-47A4-B273-BDA437A087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F6138-8EEC-4CCC-884C-005F6F2D63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E077-4577-413B-8A6E-AA08EB88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F354C-6602-43C6-9069-BBFD6D17E1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1333C-64CE-4C34-B116-099AAD01E6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8BE08-A20A-44EC-85BE-72DD2520AD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04F01-BEB2-4714-A4D2-ABB6BEB332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9AD38-F692-4D53-AEEC-F50879A630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104-3443-4157-BE38-E7F59BE5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270A-E304-4611-BDF4-24CDF3BF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26C9-0924-4141-A1D7-A46BE007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0DA2-26F5-4627-8F34-53EA2191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4C65-F93E-494C-8FB9-FF424294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D5C4-3B67-4A01-816C-3D9C1360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7C4E-D0A3-4224-86E4-1C5DAC7F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C78A-C578-474C-B4E8-3A4DF3FE6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995640" y="6237000"/>
            <a:ext cx="388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956720" y="6453000"/>
            <a:ext cx="7300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73EC-B27E-4937-B540-37769A2D53C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6"/>
          </p:nvPr>
        </p:nvSpPr>
        <p:spPr>
          <a:xfrm>
            <a:off x="2700000" y="6165720"/>
            <a:ext cx="381636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Arial"/>
              </a:rPr>
              <a:t>High Level Mission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3885840"/>
            <a:ext cx="84247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Introducing procedures for high level advo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5084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Dr. Karam Sh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Decis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opt Guiding Principles for the conduct of High Level 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Review and decide on the HLM calendar of events for 2005 - 200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ition of High Level Mission (H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ual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ing and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lenda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IGH LEVEL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Engaging prominent partners / (CB members) to represent Stop TB i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powerful political advocacy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Uses international reputation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fluences key politicians &amp; decision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Creates sustained leverage in support of Stop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Arial"/>
              </a:rPr>
              <a:t>Guidelin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making HLM more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support of countries and international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most appropriate support to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ing the most appropriate STB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ding timely to importan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ing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frame work for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Composi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 is based on the actual purpose of the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d of mission (HoM) is selected by CB on basis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ituency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level partnership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B Partnership Secretariat senior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epa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and HoM draft 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dorsement 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review preferably prior to H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prepares form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prepares confidenti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makes logistics arran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ctual vis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d of Mission (HoM) assures quality performance and best expo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ve attitude and diplomatic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ructive image of S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igned tasks for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M is HLM spokes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is HLM rappor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Reporting and follow-up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7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 re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 consensus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conclusions &amp;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ed-back to constitu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mitted to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ner(s) can be invited to provide follow-u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4818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LM Calendar 2005 -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620640"/>
          <a:ext cx="7559640" cy="5981760"/>
        </p:xfrm>
        <a:graphic>
          <a:graphicData uri="http://schemas.openxmlformats.org/drawingml/2006/table">
            <a:tbl>
              <a:tblPr/>
              <a:tblGrid>
                <a:gridCol w="3816360"/>
                <a:gridCol w="1942920"/>
                <a:gridCol w="18003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/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op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 Summit Kharto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East Asi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glad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ern Pacific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ra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zah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dvi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Commi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s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(PEPFAR, Congress, USAI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z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3:59:03Z</dcterms:created>
  <dc:creator>steenbergeng</dc:creator>
  <dc:description/>
  <dc:language>en-US</dc:language>
  <cp:lastModifiedBy>bakerl</cp:lastModifiedBy>
  <dcterms:modified xsi:type="dcterms:W3CDTF">2005-04-27T11:03:42Z</dcterms:modified>
  <cp:revision>3</cp:revision>
  <dc:subject/>
  <dc:title>High Level Missions</dc:title>
</cp:coreProperties>
</file>