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4D12-CBF3-4A2F-8496-EC27C0BF7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9079-20E5-44B3-84A1-5F2A6295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7CE1-FEA4-4139-B228-1A2C5F03B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25E3-333B-489F-8C67-6E5409394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003B-835A-4361-93E5-A8A5E53A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1FE3-D3D7-45B0-8BA4-3EBDEE64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6E6B-28C6-426E-AF1E-E0DB1069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C730-1E8C-4AA5-969A-A2D66853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324A-111D-47F4-9FB0-74DF9BF0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6A50-DDFA-4553-8A54-12A5EB78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0A4D-5749-4B7D-B073-9D0FE212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B78D-EED9-4D22-AB6E-898518BD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E9D0-9795-4940-A635-E44B01BCAA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-8 Recommended A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pidly develop more robust number for TB funding need/gap based on GP 2 to be referenced in G-8 Communiq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guage for communique on “closing the funding gap for TB control” and “supporting convening of Emergency African TB Financing Summit and monitoring of implementation of the Road Map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B and NGO support for above to G-8 and other dono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quest to Ethiopian PM to attend G-8 and  become champion for TB in Africa, make the case for intensified action for TB in Africa and financing the Road Ma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sible NGO efforts associated with ActionAid effo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Engagement of World Lead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national Community—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lear presentation of GP2 resource needs before June—for G-8, GFATM Repl. Mtgs. Fair shares? Country/regional focu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M plan for GP2??????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3. ID set of 7-8 RM priority donor countries (and multilaterals) with 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 for CB efforts, regular support for NGO country efforts—ID targets, support adv. capacity, media, visits.  Coordinated effort on ML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ries of focused advocacy docs from GP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ID strategic TB champions and make specific requests—Mandela, Tutu, Sachs. Prioritize global leaders/for a—EU, WB, AU, Other Regional Summi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BC Country lev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oritize key HBCs—Africa, other priorities—ID core set of partners for each country, CB missions, NGO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ic plan for reaching 2-3 national leaders in target HB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se for Eco Impact of TB (WB to undertak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rget Ev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 Summ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-8 (Ethiopian P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t. GFATM Replenishment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DG Summit—ID some champions for T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F January 2006 release of GP2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ia—op-ed HG/Mande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chs/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4T05:08:08Z</dcterms:created>
  <dc:creator>Geoff</dc:creator>
  <dc:description/>
  <dc:language>en-US</dc:language>
  <cp:lastModifiedBy>johnsoneb</cp:lastModifiedBy>
  <dcterms:modified xsi:type="dcterms:W3CDTF">2005-05-04T12:45:32Z</dcterms:modified>
  <cp:revision>4</cp:revision>
  <dc:subject/>
  <dc:title>G-8 Recommended Actions</dc:title>
</cp:coreProperties>
</file>