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AFA4-B9E0-48DC-892C-17BFBFB66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B452-E9C8-430A-B549-E4737657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D461-88CA-4ABB-B610-150417715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F5CF-0283-4D96-A7FC-8A3093641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361D-5776-4006-9869-0755D65EE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B45A-80C7-4002-8F32-47AD2F6B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7E174-750A-4C15-89BC-F38507DE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861E-585B-4A59-A51E-2F0F186E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1B37-7EC6-46B6-9A9C-F9EE15FB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4ABF-CEFD-47FC-8065-7BEC4287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C51C-DEE0-4762-89ED-62AA1591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7021-3B0D-4ADD-BEFA-37C02E86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8F9D-BD15-4413-AF33-13303B25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870E-CE21-4A5D-913D-9E1BE7A6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4262-9A2B-4BB5-9A0C-3B5E4383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0FA1-5462-468E-A6B9-EE85DE4B5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0934-2B55-4992-9168-B6423A4BA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2069-3D64-41F1-B7A4-EFEE467E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BB31-2033-49B0-936A-8BEE44A2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B197-36DA-426F-ADFF-FD346FE82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DB1A-3149-467D-A8D5-7CAF9AE1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6EA7-26EE-4D06-96DD-85357B81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010C-4667-41D9-80D6-AD5451B1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1520-C7C4-4B7B-B484-647D09A1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086F-F006-47D3-8616-124449BD7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51C18-97BF-491E-A94C-9C9A8BD3D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tbproposalhelp@who.int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cc"/>
                </a:solidFill>
                <a:latin typeface="Arial"/>
              </a:rPr>
              <a:t>THE GFATM: </a:t>
            </a:r>
            <a:br>
              <a:rPr sz="4400"/>
            </a:br>
            <a:r>
              <a:rPr b="1" lang="en-GB" sz="4400" spc="-1" strike="noStrike">
                <a:solidFill>
                  <a:srgbClr val="ffffcc"/>
                </a:solidFill>
                <a:latin typeface="Arial"/>
              </a:rPr>
              <a:t>MAKING ROUND 5 COU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FATM Unit, TB Strategy and Operations, WHO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"Implementation"  Working Group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TOP TB Partnership Secretaria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HOW MUCH FOR TB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mple: Bangladesh, Pakistan, Nigeria, Cambodia, Zimbabwe, Brazil, China, India Sudan, Vietnam  (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stimated TB Proposal Total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$290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9625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UTURE DIR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TB components in HIV propos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engthening the capacity to strongly engage with the GFATM, and to plan TA in advance (Early Warning System coordin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coming implementation bottlenecks by providing support for project management, accounting, finance, logistics (HS strength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OR BOARD CONSI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Board is request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sources of funds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continue the GFATM focal point position in WHO in advance of Round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to strengthen assistance to countries (technical and CCM) in the lead up to R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e the profile of TB in engaging at political level and with the GFA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halle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utting 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 Much for TB in R5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9625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ailable funding has increased 60% R1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ever, TB funding has not increa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B proposals have been modest.  30% of all approved proposals are for TB yet overall funding for TB is 1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FATM reports global resource gaps for AIDS, Malaria, and TB at 77%, 17%, and 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692720" y="1146600"/>
            <a:ext cx="80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000000"/>
                </a:solidFill>
                <a:latin typeface="Arial"/>
                <a:ea typeface="SimSun"/>
              </a:rPr>
              <a:t>Figure 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5320" y="6442200"/>
            <a:ext cx="17496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900" spc="-1" strike="noStrike">
                <a:solidFill>
                  <a:srgbClr val="ffff66"/>
                </a:solidFill>
                <a:latin typeface="Tahoma"/>
                <a:ea typeface="SimSun"/>
              </a:rPr>
              <a:t>2 year budg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396720" y="6767640"/>
            <a:ext cx="59623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03280" y="1413000"/>
            <a:ext cx="70725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900" spc="-1" strike="noStrike">
                <a:solidFill>
                  <a:srgbClr val="ffff66"/>
                </a:solidFill>
                <a:latin typeface="Tahoma"/>
                <a:ea typeface="SimSun"/>
              </a:rPr>
              <a:t> 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  <a:ea typeface="SimSun"/>
              </a:rPr>
              <a:t>$583 M         $886 M        $623 M         $968 M         $306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8920" y="1793880"/>
          <a:ext cx="8588520" cy="48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793880"/>
                    <a:ext cx="858852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2227320" y="4809960"/>
            <a:ext cx="555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5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27320" y="3262320"/>
            <a:ext cx="555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27320" y="326232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12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27320" y="2690640"/>
            <a:ext cx="63504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27320" y="2119320"/>
            <a:ext cx="5554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10000"/>
                </a:solidFill>
                <a:latin typeface="Arial"/>
                <a:ea typeface="SimSun"/>
              </a:rPr>
              <a:t>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27320" y="187488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89680" y="4809960"/>
            <a:ext cx="555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5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1793880"/>
            <a:ext cx="5572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  <a:ea typeface="SimSun"/>
              </a:rPr>
              <a:t>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205000"/>
            <a:ext cx="6271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3016080"/>
            <a:ext cx="5572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27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809960"/>
            <a:ext cx="5572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56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68880" y="187488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10000"/>
                </a:solidFill>
                <a:latin typeface="Arial"/>
                <a:ea typeface="SimSun"/>
              </a:rPr>
              <a:t>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68880" y="2282760"/>
            <a:ext cx="6984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68880" y="3016080"/>
            <a:ext cx="555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27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031240" y="4809960"/>
            <a:ext cx="555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54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99160" y="4924440"/>
            <a:ext cx="5572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4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99160" y="1957320"/>
            <a:ext cx="7095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031240" y="309888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2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99160" y="3098880"/>
            <a:ext cx="5572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42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031240" y="2282760"/>
            <a:ext cx="7887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031240" y="179388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1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031240" y="195732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70080" y="1025640"/>
            <a:ext cx="4827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396720" y="0"/>
            <a:ext cx="954072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Comparison across rounds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Two year approved budget by disease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1911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SPO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FATM Unit – TBS – WHO - Part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 technical support throughout R5 proces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bproposalhelp@who.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S Workshop in Ca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shop "Strategic Approaches to R5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95360" y="291960"/>
            <a:ext cx="83566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Workshop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0040" y="1254240"/>
            <a:ext cx="8136000" cy="14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55640" y="1341360"/>
          <a:ext cx="7991640" cy="51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41360"/>
                    <a:ext cx="7991640" cy="51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7164360" y="3789360"/>
            <a:ext cx="1079640" cy="287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64360" y="371628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00"/>
                </a:solidFill>
                <a:latin typeface="Arial"/>
              </a:rPr>
              <a:t>Workshop Frame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514600" y="44197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4038480"/>
            <a:ext cx="1981080" cy="1371600"/>
          </a:xfrm>
          <a:prstGeom prst="flowChartAlternateProcess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4495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4038480"/>
            <a:ext cx="1981440" cy="1371600"/>
          </a:xfrm>
          <a:prstGeom prst="flowChartAlternateProcess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4038480"/>
            <a:ext cx="1981080" cy="1371600"/>
          </a:xfrm>
          <a:prstGeom prst="flowChartAlternateProcess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41148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R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934320" y="44956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HASE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44197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1876320"/>
            <a:ext cx="2057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52680" y="19051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19810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-CALL TECHNICAL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9920" y="1876320"/>
            <a:ext cx="3124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RESULTS 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-92160" y="-208080"/>
            <a:ext cx="4054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9280" y="18900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 STRATEGIC APPROACH TO R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4572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CUTTING 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8 countries plan to submit TB proposals in R5 (18HBC).  49 in R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8 countries are receiving technical support from Stop TB Partn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6 consultants trained and deployed in the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FRICA ROUND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24 Applying (8 HBC), 13 failed in R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KEY ROUND 5 PRIORITIES in AFRIC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igeria &amp; Zimbabw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2T09:18:59Z</dcterms:created>
  <dc:creator>johnsoneb</dc:creator>
  <dc:description/>
  <dc:language>en-US</dc:language>
  <cp:lastModifiedBy>johnsoneb</cp:lastModifiedBy>
  <dcterms:modified xsi:type="dcterms:W3CDTF">2005-05-11T09:02:35Z</dcterms:modified>
  <cp:revision>118</cp:revision>
  <dc:subject/>
  <dc:title>Slide 1</dc:title>
</cp:coreProperties>
</file>