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92EA-A7EE-4120-B64C-96EC844B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989-820A-44D2-93BE-68A5A1C7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28D8-9E6D-4D7E-A56B-DD5BB3C8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CB85-0EAE-45AB-987C-34BF0B37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6D64-44FE-48A5-BE28-A6377890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0238-FE95-4EC6-BE37-FD796FAB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A765-8858-4E4D-9B43-EECD1CE6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2FD9-7261-4F30-905B-1DE3E89D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C701-129F-4F49-9646-415C2B8B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DC84-F897-415A-BC60-E506B2BD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6284-B0D2-4352-9A26-6F3C313B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1CDF-0D6A-4D45-902A-AE8208E4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DC12-F429-4EE8-B651-5BBE7F45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4081-6720-45EC-AE5C-9D341420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BB87-FA85-4334-A24D-A2EA121B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31FA-A6A9-4CFE-A681-101787E5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2D37-ED03-4B84-8534-C0FE2B99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220B-FE90-45A7-934D-2B1F1413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60EF-B0DA-47B1-A7F3-4CDE280F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0795-B84D-48B0-B4E9-44460BF9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4D0F-9FCD-4B89-9538-25BDBAF6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292-2BF6-40AB-939C-04F31774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2A65-4F47-4BB9-BBC5-B57B23F6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A3D7-8D8E-4378-BBE6-6179EF16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9799-1295-407F-A8F4-AE58C5138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CDBC-7E7E-4834-8934-1569422D6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World Lea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A strategy for engagement with Heads of State and World Leaders was a recommendation of the Beijing Coordinating Board Meeting in October 200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o create TB champions among leading figures – but to go beyond Heads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dela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“we can not fight HIV/AIDS without also                                    fighting T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core group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burden countries - with special emphasis o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or/potential don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38880" y="2514600"/>
            <a:ext cx="1501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to strengthen TB control activities in target countries to enable TB to maintain momentum and achieve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llennium Development Go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n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support TB control from the international development commun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ive political environ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00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D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ries see achieving TB control goals as part of their wider economic development agen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Identify and inform nodal leaders and opportunities to access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ng for TB Control needs to be sustainable with sufficient funds available for Technical Assista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Health Assembly: Resolution on Sustainable Financing for TB contr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Awareness of Global Plan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inter-ministerial co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6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lit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friendly influential leaders (politicians, sports and entertainment stars etc) provide the framework to support our advocacy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rect and indirect channels to reach influential leaders: WB, EU, Wise men (Sachs, Sen etc), social experts, celebrities (including Stop TB Ambassadors), UN family (WHO, UNDP et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core groups of countries and leaders we MUST r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opportunities to access key political and other le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frican Commission, CHOGM, APEC, UNGASS, EU summit, G8, G77, WEF, World Social For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c Planning to raise the profile of Global Plan 2006-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actical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champ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ed-up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 message (full nee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johnsoneb</cp:lastModifiedBy>
  <dcterms:modified xsi:type="dcterms:W3CDTF">2005-05-03T09:24:50Z</dcterms:modified>
  <cp:revision>39</cp:revision>
  <dc:subject/>
  <dc:title>Slide 1</dc:title>
</cp:coreProperties>
</file>