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E2FE-7A01-4582-A077-47A75219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F28-CD02-4D71-B4D9-CEF5797A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6D5-5DFD-41E5-A73D-3E0FD68C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398-13CF-4DC1-AA16-81B4C12E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E72E-938F-4ADB-B283-7711720D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8B7C-3A2D-4A4B-97A1-516B2A30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7B0B-30EB-470A-8BBE-062F528A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AD09-367D-4A7F-8B55-FE23C2EF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788A-8691-4BBA-AF94-28E6453D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EA98-91C4-4906-B0DF-9277CBC8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870C-7746-4376-AC1A-D65272DD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487-1715-4C87-A976-C4D98A0E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5E71-6670-4591-BD96-545FDF99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C903-2233-4FA6-ADE7-126A89BB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8EE6-A79B-4D5C-93E1-E84F924A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FCF9-7EE0-4624-8C36-64D2171A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C7B3-F694-4F74-9EDD-7B377918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F1B-2896-430B-8D0E-CE21C69F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65E-8D06-46C1-920C-BFA8C608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D2B-7611-4ADA-83B4-556D6C3E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D6CC-B3B8-4376-8EE4-F3FF275A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44E-AE8A-413E-80E4-2F708726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119-27A2-4930-BCED-D9136368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E610-623E-483E-BB20-6B377865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916308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00" y="0"/>
            <a:ext cx="8604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56480" y="6553080"/>
            <a:ext cx="224964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900640" y="6248160"/>
            <a:ext cx="57780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89B5-C29B-4369-8911-BDCE93BFDEFB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800" y="1549440"/>
            <a:ext cx="883944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20688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148284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42360" y="1246320"/>
            <a:ext cx="84240" cy="2235240"/>
          </a:xfrm>
          <a:custGeom>
            <a:avLst/>
            <a:gdLst>
              <a:gd name="textAreaLeft" fmla="*/ 12240 w 84240"/>
              <a:gd name="textAreaRight" fmla="*/ 72000 w 8424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0791">
                <a:moveTo>
                  <a:pt x="10800" y="0"/>
                </a:moveTo>
                <a:arcTo wR="10800" hR="10800" stAng="16200000" swAng="-5400000"/>
                <a:lnTo>
                  <a:pt x="0" y="559991"/>
                </a:lnTo>
                <a:arcTo wR="10800" hR="10800" stAng="10800000" swAng="-5400000"/>
                <a:lnTo>
                  <a:pt x="10800" y="5707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1252440"/>
            <a:ext cx="83880" cy="2235240"/>
          </a:xfrm>
          <a:custGeom>
            <a:avLst/>
            <a:gdLst>
              <a:gd name="textAreaLeft" fmla="*/ 12240 w 83880"/>
              <a:gd name="textAreaRight" fmla="*/ 71640 w 8388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3231">
                <a:moveTo>
                  <a:pt x="10800" y="0"/>
                </a:moveTo>
                <a:arcTo wR="10800" hR="10800" stAng="16200000" swAng="-5400000"/>
                <a:lnTo>
                  <a:pt x="0" y="562431"/>
                </a:lnTo>
                <a:arcTo wR="10800" hR="10800" stAng="10800000" swAng="-5400000"/>
                <a:lnTo>
                  <a:pt x="10800" y="5732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67200" y="5783400"/>
            <a:ext cx="377028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7000" y="5734080"/>
            <a:ext cx="102888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752120"/>
            <a:ext cx="842004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EBE6-477E-4EEF-95B9-9AF5637E4D83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9068040" cy="2210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PATIENTS PERSPECTIVE ON THE IMPLICATIONS OF TB CONTROL IN AFRICA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48006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senter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– Lucy Chesire.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4038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971800"/>
            <a:ext cx="923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</a:rPr>
              <a:t>TB is a problem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ut is a SOLUTION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o another PROBLEM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1280" y="533520"/>
            <a:ext cx="51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PARTING SHOT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.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.3 m cases of T.B in Africa occurring yearly???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Have we lost the fight in Africa if not…what can we do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f T.B is curable, why are people still dying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 support groups ongoing but not active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igma associated with HIV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ver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od insecuri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/HIV  infection = on average 50% of TB patients now are co-infected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sts in relation to work-ups to TB treatment. e.g Antibiotics, lab tests, x-ray etc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 in seeking care by TB suspect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ill burden e.g Zimbabwe 14 pills for treatment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proach to D.C.T for TB patients.</a:t>
            </a:r>
            <a:r>
              <a:rPr b="0" lang="en-US" sz="4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1896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 cont.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Health System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drugs for MD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policy on the management of MDR in most health instituti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ed diagnosis e.g. Arthritis Vs TB of the kne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issed TB cases due to Doctors lack of knowledg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hortage of Human resource for health e.g affects TB control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en engaged and supported appropriately patients ca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34286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crease effectiveness of health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bilize the community in being the backbone of effective TB contro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vide input on effective policy and practi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Provide support and conduct community TB led interventions (VCT, Psychosocial, TB support groups etc)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Reduce stigma and improve access to TB control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6094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 cont…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3-D’s = Better Drugs,Diagnostics, Dign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tinuous patient involvement in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unding for TB support group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nsure private sector involv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B/HIV collaboration (address constraint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ustained political commit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ng term financing for TB programm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Quality assurance for diagnostic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bust patient tracking syste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OTS plus programm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velop M/E system to drugs adherence, especially smear-ves and extra pulmonary TB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treamline TB system to ensure follow up of patients at the TB clinic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re  resources for DOTS expansion e.g. use of  community health workers for drugs distribution and follow-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42640" y="5335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 cont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3:08:19Z</dcterms:created>
  <dc:creator>Kacy 1</dc:creator>
  <dc:description/>
  <dc:language>en-US</dc:language>
  <cp:lastModifiedBy>administrator</cp:lastModifiedBy>
  <dcterms:modified xsi:type="dcterms:W3CDTF">2005-05-01T15:02:01Z</dcterms:modified>
  <cp:revision>25</cp:revision>
  <dc:subject/>
  <dc:title>PATIENTS PERSPECTIVE IN THE IMPLICATIONS OF TB CONTROL IN AFRICA. </dc:title>
</cp:coreProperties>
</file>