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C44-F386-4FE6-B75A-860FA0F1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CC6-4B3C-4E0C-8E2F-BDEC0091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8E5-11FD-4219-B5EC-0CEE1C13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191-3660-4CA2-BCD3-18FE0548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43E1-F010-4FCF-99D8-9E50426F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48F7-EFE3-4302-B5AD-1658A0D7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E755-EC37-4A9D-A3FF-054FBBE2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14A7-29FF-461A-9AEB-335D80CD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5023-15F1-495E-A13A-426BFBEB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ACDE-FC02-4455-8F9C-C998918E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5C35-1667-4AD4-A57B-DDACE5FD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583-A70B-4687-99BD-3481092A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8E6F-409A-4711-8C17-C00C365C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F63A-6B98-4DB9-8451-5364485E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ADEB-D05F-49B8-948C-23474BD7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B492-C5A4-4C88-8809-0110D667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2414-24C5-4671-88C4-EE07ECA6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B39-1FA9-493A-964F-2A8954AA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0F0-8606-4D00-A9FF-874AE025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D7C-7FBA-42BF-8319-0281667E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557-E09F-4A13-AAE4-4C5D9ABB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6FD-828E-4C32-8C8B-F749C791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52C-AC41-4956-B4EF-35449E5E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D35-400C-46C8-A702-70C252E5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2DDC-B3E6-4AD5-B4B8-D4914C93C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B296-EF02-4160-B6D7-BFB078D9E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World L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A strategy for engagement with Heads of State and World Leaders was a recommendation of the Beijing Coordinating Board Meeting in October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o create TB champions among leading figures – but to go beyond Heads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ela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we can not fight HIV/AIDS without also                                    fighting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grou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burden countries - with special emphasis o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or/potential don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501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to strengthen TB control activities in target countries to enable TB to maintain momentum and achiev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TB control from the international development commu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ive political environ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ies see achieving TB control goals as part of their wider economic development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Identify and inform nodal leaders and opportunities to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ng for TB Control needs to be sustainable with sufficient funds available for Technical Ass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Health Assembly: Resolution on Sustainable Financing for TB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Awareness of Global Plan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nter-ministerial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6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friendly influential leaders (politicians, sports and entertainment stars etc) provide the framework to support our advocac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rect and indirect channels to reach influential leaders: WB, EU, Wise men (Sachs, Sen etc), social experts, celebrities (including Stop TB Ambassadors), UN family (WHO, UNDP e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core groups of countries and leaders we MUST r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opportunities to access key political and other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frican Commission, CHOGM, APEC, UNGASS, EU summit, G8, G77, WEF, World Socia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lanning to raise the profile of Global Plan 2006-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ctic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cham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message (full ne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johnsoneb</cp:lastModifiedBy>
  <dcterms:modified xsi:type="dcterms:W3CDTF">2005-05-03T09:24:50Z</dcterms:modified>
  <cp:revision>39</cp:revision>
  <dc:subject/>
  <dc:title>Slide 1</dc:title>
</cp:coreProperties>
</file>