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6B5-09AC-4476-80C8-869AC411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AB0-0725-43D9-B18D-58FF608A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6DC-4A9E-4A6F-8F53-AA0EFCCB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B1E-1756-416B-AC8B-48A8E3CA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15F-F01E-4919-9BBF-8D84B5F9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C6D7-D59F-4DA2-B6AA-3B0D23A1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877-5312-4704-AB92-6723A9DB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313-1C71-4B85-987E-3763163B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73A-5715-4F28-BA77-8FA2E299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846-0317-45AA-BB47-CE03D6DA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308-684F-4317-B35F-E7E3C1EB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D30-7B10-4C22-856B-2C16F9DD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55F7-93AA-44BD-A55B-6A7E0062D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-8 Recommended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ly develop more robust number for TB funding need/gap based on GP 2 to be referenced in G-8 Commu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for communique on “closing the funding gap for TB control” and “supporting convening of Emergency African TB Financing Summit and monitoring of implementation of the Road Map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B and NGO support for above to G-8 and other don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to Ethiopian PM to attend G-8 and  become champion for TB in Africa, make the case for intensified action for TB in Africa and financing the Road M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NGO efforts associated with ActionAid ef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ngagement of World L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Community—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r presentation of GP2 resource needs before June—for G-8, GFATM Repl. Mtgs. Fair shares? Country/regional foc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 plan for GP2????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 ID set of 7-8 RM priority donor countries (and multilaterals) with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 for CB efforts, regular support for NGO country efforts—ID targets, support adv. capacity, media, visits.  Coordinated effort on M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ies of focused advocacy docs from G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ID strategic TB champions and make specific requests—Mandela, Tutu, Sachs. Prioritize global leaders/for a—EU, WB, AU, Other Regional Summ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BC Country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 key HBCs—Africa, other priorities—ID core set of partners for each country, CB missions, NGO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plan for reaching 2-3 national leaders in target HB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for Eco Impact of TB (WB to under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E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 Sum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-8 (Ethiopian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. GFATM Replenishment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G Summit—ID some champions for 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F January 2006 release of GP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—op-ed HG/Mand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hs/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5:08:08Z</dcterms:created>
  <dc:creator>Geoff</dc:creator>
  <dc:description/>
  <dc:language>en-US</dc:language>
  <cp:lastModifiedBy>johnsoneb</cp:lastModifiedBy>
  <dcterms:modified xsi:type="dcterms:W3CDTF">2005-05-04T12:45:32Z</dcterms:modified>
  <cp:revision>4</cp:revision>
  <dc:subject/>
  <dc:title>G-8 Recommended Actions</dc:title>
</cp:coreProperties>
</file>