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A19-2CD1-4A75-9D94-EAD28335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C3D-3A83-4F91-B1A7-DFDE9463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07B-4F70-48C9-8168-05737ADA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DCA-0CD9-425A-8E59-ECA35D2A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1F2-4F15-43F4-96AB-DB68546F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405-D96E-49F9-8F1B-6006A6EF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1377-A969-4584-A2A5-BF7589DE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5594-C50E-4C6C-A7D1-EE4416E3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973-75E8-4D72-9063-98B52C2A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0F1A-4BEA-4533-980A-0C548A93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948-9AE2-410B-B253-B663ED43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73E2-4A77-404D-8F38-6E8E5B54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813B-8A81-4409-9F8A-F8598EC91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000" y="836280"/>
            <a:ext cx="8820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eeting of the Steering Committee for the Global Plan to Stop TB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(2006-2015)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2 May 2005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ddis Ababa</a:t>
            </a:r>
            <a:br>
              <a:rPr sz="4400"/>
            </a:br>
            <a:br>
              <a:rPr sz="44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1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ach WG strategic plan 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– the bottom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5896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o does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 what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what imp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to Stop TB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vision of what we can achiev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timulate research an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econd ad hoc committe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MDGs Working Group on TB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B 2004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(and WHA 2005)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op TB Partnership Coordinating Boa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onor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.g. GFATM replenishment meeting, Stockholm, 15-16 March 2005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"better articulation of resource needs to address diseases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8120" y="179244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: Coordinating Board requested each WG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 its work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a focal point for this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full engagement of all stakehold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contribution of all the WGs is crucial to the successful development and implementation of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Global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Global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enefits for each WG of development of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14130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gages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rifies activities in line with strategic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 priorit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ies resource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des a roadmap (activities, targets, timeli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ables monitoring of progress towards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s resource mobi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eatures of WG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22280"/>
            <a:ext cx="88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ning elements: objectives, targets, indicators, activities, timelines, milestones, budget, M &amp;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plan is informed by epidemiological and cost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tion of activities of different WGs to produce regional 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Likely format of Global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55736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ecutiv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s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ing the targets for 2015: global and regional scenarios, R&amp;D scenarios, key strategic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nership activities to achieve the goal: WG and secretariat strategic plans, with estimated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nitoring and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johnsoneb</cp:lastModifiedBy>
  <cp:lastPrinted>2003-06-23T18:01:16Z</cp:lastPrinted>
  <dcterms:modified xsi:type="dcterms:W3CDTF">2005-05-02T10:48:21Z</dcterms:modified>
  <cp:revision>119</cp:revision>
  <dc:subject/>
  <dc:title>Africa: HIV is driving the TB epidemic TB notification rates, 1980-1998</dc:title>
</cp:coreProperties>
</file>