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CC1EF-58C5-42C5-9992-B6A233D051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76240" y="738360"/>
            <a:ext cx="4913280" cy="3684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Partners share a Vision and a 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EBE4-1289-467C-A82F-034443643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2260-CE54-4DB7-A032-E0E2AD10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9A65-AF3C-453A-87B4-300C11180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332E-DF9E-4925-9E51-7F3682C4C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17CFF-54AD-4AC1-99FE-38376C428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3242E-90EB-4233-BCA2-4200BA363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2E2D5-1C7B-4C60-93A4-F40613370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26214-6784-4621-8C2A-246904EFE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786CB-0246-43A9-9621-88CCAF08F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F7044-0FBC-40D5-A027-A069B4CC6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7A468-8999-4FC6-B40D-FECA5DE5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6BB0-72C6-48B3-9B3B-96B8A09ED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48F2E-F293-48E0-8373-1FFB6C4F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AACE3-6118-421C-BE90-3D99A2BE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3D69B-6542-43C8-9CCF-BE42D5BC5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FE919-016B-4C20-8EB5-4A39EE181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1AF6F-7AC4-4F0A-80F8-FB9C2BCAA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6E43-F649-4BC5-B6E4-13408E871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E096-01FC-476C-A7C5-0439D89DD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B1BF-A8CC-48DE-AA12-302412448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B606-AFD2-4666-AAA1-C85EEB159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DC18-8E71-4D0D-8036-26FFF7DB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86F1-78E6-4CBA-94CF-34CF32C4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2BA8-E52F-45A6-990C-9FF32B30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6E410-4164-44FA-8103-C156F21FF8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2855F-F3B4-4483-BBCE-579CC5067E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Arial"/>
              </a:rPr>
              <a:t>A new MOU with WHO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Irene Koe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Stop TB Coordinating Bo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Addis Abab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3</a:t>
            </a:r>
            <a:r>
              <a:rPr b="1" lang="en-GB" sz="2400" spc="-1" strike="noStrike" baseline="30000">
                <a:solidFill>
                  <a:srgbClr val="ffffcc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 May 200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cisions Reques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Do we need a new MOU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Board is requested to discuss and decide whether a new MOU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 answer is N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tatus quo is understood to prevai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cisions Reques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f the answer is YES; the Board has 2 options to proceed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tablish a negotiating committee of Members to lead discussions with WH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mpower the Secretariat to undertake discussions based on the attached draf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ATIO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have an MOU with WH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ensure mutual understanding of the adaptations and flexibility the Secretariat needs to carry out the CB approved work pl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arity for all concerned on how to address practical issues such as staffing, external correspondence (use of logo and letterhead)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 M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7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igned 2001 by WHO (DG) and STBCB (Chair 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ddresses operational aspects of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GDF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Validity to 31</a:t>
            </a:r>
            <a:r>
              <a:rPr b="0" lang="en-GB" sz="3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July 2003 but applied until a new agreement is negotiate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CERNS WITH CURRENT M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ut of date - refers to "appointments as time-limited until mid 2003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y addresses GDF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not reflect the establishment of the Trust F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not fully address all relevant operational and management issues – staffing, use of logo and letterhead 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THEMES OF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MOU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gal and political aspe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gal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cretariat hosted/housed by WH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go &amp; Pub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THEMES OF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MOU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ucture of Secretariat within STB de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k-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ministrative burd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orting, monitoring and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st-tra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THEMES OF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MOU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ff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ruitment of Executive Secre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ract brea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rm limits and quo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ffing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THEMES OF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MOU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lobal Drugs Fac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sic operating princi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nagement of the G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orting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chnical Review Committe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nder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THEMES OF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MOU 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ancial aspects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Trust Fu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SC rates (6% for Trust Fund, 3% for dru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rect procurement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alidity of the new M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bakerl</cp:lastModifiedBy>
  <dcterms:modified xsi:type="dcterms:W3CDTF">2005-04-27T11:43:43Z</dcterms:modified>
  <cp:revision>35</cp:revision>
  <dc:subject/>
  <dc:title>Slide 1</dc:title>
</cp:coreProperties>
</file>