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DE9F-8CF9-4884-A30B-05ACE156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0DC-108E-4CB7-B7E8-B82E7574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5E2-B993-4101-93A8-3BC1A750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E116-0DB2-4E36-9276-4BF8C47C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B4CAD-446B-4FB8-94BA-8D7FB9BCEF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376F4-252A-4828-A7B3-740C7035FE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A8CA1-498B-4A85-BBE2-B7BC7AFD84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92411-C84E-4158-8ED2-E8CCEE4401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195B7-DF8E-46F4-83BD-9E3A5EC028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981A5-97E7-4B81-A7B9-18B1D78766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D60A3-3FA2-4A8F-8D10-141E525298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056-BDB4-4659-A24A-A4280108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782BB-D83E-429A-93A1-B67D537063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BCDB3-C840-4EB8-9140-921BD9AA82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E7DF8-CA93-4CBB-B0C6-567C8CD4C1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0ECDB-9C82-4607-9645-361E5566FD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07075-1F3A-47DD-BFE3-54C2F8851D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51C5-4693-4A8F-B9A7-3BD643B3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1F5-03C9-4349-A35B-EB4C1085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9A1F-45BD-4B8F-9A88-20F50E47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90F-CFFB-4298-BDD8-63FC3489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ED78-BFD0-4314-BD74-4689210A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84C-C2F6-485F-984F-05849ADA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D02-15E3-4EBC-89EF-0F9871AB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EC99-05F0-480A-A9E0-2520A0645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995640" y="623700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956720" y="6453000"/>
            <a:ext cx="730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D56D-1924-4D46-A262-0228BF90A67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6"/>
          </p:nvPr>
        </p:nvSpPr>
        <p:spPr>
          <a:xfrm>
            <a:off x="2700000" y="6165720"/>
            <a:ext cx="38163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Arial"/>
              </a:rPr>
              <a:t>High Level Missio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3885840"/>
            <a:ext cx="84247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Introducing procedures for high level 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508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Dr. Karam Sh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Deci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opt Guiding Principles for the conduct of High Level 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Review and decide on the HLM calendar of events for 2005 - 200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 of High Level Mission (H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ual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ing and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lenda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IGH LEVEL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Engaging prominent partners / (CB members) to represent Stop TB i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powerful political advocacy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Uses international reputation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fluences key politicians &amp;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Creates sustained leverage in support of Stop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Arial"/>
              </a:rPr>
              <a:t>Guideli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making HLM more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support of countries and internationa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most appropriate support to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ing the most appropriate STB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ing timely to importan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ing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frame work for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 is based on the actual purpose of the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 of mission (HoM) is selected by CB on basis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ituency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level partnership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B Partnership Secretariat senior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epa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and HoM draft 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dorsement 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review preferably prior to H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prepares form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prepares confidenti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makes logistics 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ctual vis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d of Mission (HoM) assures quality performance and best expo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ve attitude and diplomatic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uctive image of S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igned tasks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 is HLM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is HLM rappor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Reporting and follow-up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 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consensus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conclusions &amp;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ed-back to constit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mitted to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(s) can be invited to provide follow-u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4818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LM Calendar 2005 -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620640"/>
          <a:ext cx="7559640" cy="5981760"/>
        </p:xfrm>
        <a:graphic>
          <a:graphicData uri="http://schemas.openxmlformats.org/drawingml/2006/table">
            <a:tbl>
              <a:tblPr/>
              <a:tblGrid>
                <a:gridCol w="3816360"/>
                <a:gridCol w="1942920"/>
                <a:gridCol w="18003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/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op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 Summit Kharto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East Asi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lad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ern Pacific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ra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zah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dv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Com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s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(PEPFAR, Congress, USAI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3:59:03Z</dcterms:created>
  <dc:creator>steenbergeng</dc:creator>
  <dc:description/>
  <dc:language>en-US</dc:language>
  <cp:lastModifiedBy>bakerl</cp:lastModifiedBy>
  <dcterms:modified xsi:type="dcterms:W3CDTF">2005-04-27T11:03:42Z</dcterms:modified>
  <cp:revision>3</cp:revision>
  <dc:subject/>
  <dc:title>High Level Missions</dc:title>
</cp:coreProperties>
</file>