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9E04D-A2A3-48C8-BC28-CA3204026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F7AC8-1F35-49AC-B554-031DC8709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ADCA0-FCD1-4FB6-842D-515945C6B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35638-4156-4359-BB52-D25B60EBF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1849A-160F-4997-9AB5-7027D7468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85110-16C1-40FA-92F8-3184D9B3A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F18EA-18C6-4791-965D-55875BF52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F08ED-AA57-4A3E-903F-971F784F2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DDC26-4C14-4C31-822E-C0092C4C3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4402080" cy="62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24A4D-B0A5-4030-9E50-9E725D782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CB8A2-7CB5-41DB-BB83-3E75C0116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C1DD3-36C1-426B-AB82-4620B3384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E763B-2A32-445C-99F8-11B7EFEE3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E1883-5A39-4B8D-969E-521935D73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DDF00-863D-4C4D-9134-12E289ACB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6B8B2-B5FC-401C-9AFC-2FD31D840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38D42-3184-4A3E-88BC-5F5029742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07833-1865-4AA1-ACB4-2F89A9CAA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4DD94-D2AC-4DE3-B675-856178275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0D1F3-8560-4A25-A44F-46EF58FC6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4402080" cy="62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8F035-53EF-4057-81F6-F0F2F94A9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EED22-6C42-4474-98EA-281F57C4C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E172B-C4C3-43C9-A7FE-A71133F07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2BB10-F2D5-4E1B-BB51-34C2836EC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1440" y="144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1A29A-EDB2-4127-BB01-A73E0CB842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A7FCC-88FF-491F-A390-7149C61FBD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lang="en-GB" sz="3200" spc="-1" strike="noStrike">
                <a:solidFill>
                  <a:srgbClr val="ffffcc"/>
                </a:solidFill>
                <a:latin typeface="Arial"/>
              </a:rPr>
              <a:t>Engaging World Leader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1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Jaap Broekma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top TB Coordinating Boar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ddis Abab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3rd May 200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SimSun"/>
              </a:rPr>
              <a:t>A strategy for engagement with Heads of State and World Leaders was a recommendation of the Beijing Coordinating Board Meeting in October 200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he Approa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SimSun"/>
              </a:rPr>
              <a:t>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SimSun"/>
              </a:rPr>
              <a:t>o create TB champions among leading figures – but to go beyond Heads of St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ndela: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“we can not fight HIV/AIDS without also                                    fighting TB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wo core group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igh burden countries - with special emphasis on Afric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nor/potential donor count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7238880" y="2514600"/>
            <a:ext cx="1501920" cy="18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rategic 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need to strengthen TB control activities in target countries to enable TB to maintain momentum and achieve the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llennium Development Goal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need for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und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to support TB control from the international development community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need for a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upportive political environment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450072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Arial"/>
              </a:rPr>
              <a:t>MDG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untries see achieving TB control goals as part of their wider economic development agend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Identify and inform nodal leaders and opportunities to access th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u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inancing for TB Control needs to be sustainable with sufficient funds available for Technical Assistance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orld Health Assembly: Resolution on Sustainable Financing for TB control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igh Awareness of Global Plan 2006-20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ew inter-ministerial conferenc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23600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olitical Environ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B friendly influential leaders (politicians, sports and entertainment stars etc) provide the framework to support our advocacy wo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Direct and indirect channels to reach influential leaders: WB, EU, Wise men (Sachs, Sen etc), social experts, celebrities (including Stop TB Ambassadors), UN family (WHO, UNDP et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dentify core groups of countries and leaders we MUST reach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SimSun"/>
              </a:rPr>
              <a:t>Identify opportunities to access key political and other lead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African Commission, CHOGM, APEC, UNGASS, EU summit, G8, G77, WEF, World Social Foru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rategic Planning to raise the profile of Global Plan 2006-20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Tactical 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Princip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ny champ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Joined-up strate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lear message (full need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mpli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3T15:56:53Z</dcterms:created>
  <dc:creator>Robert Hernandez</dc:creator>
  <dc:description/>
  <dc:language>en-US</dc:language>
  <cp:lastModifiedBy>johnsoneb</cp:lastModifiedBy>
  <dcterms:modified xsi:type="dcterms:W3CDTF">2005-05-03T09:24:50Z</dcterms:modified>
  <cp:revision>39</cp:revision>
  <dc:subject/>
  <dc:title>Slide 1</dc:title>
</cp:coreProperties>
</file>