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9CD9-9DCD-4741-B69F-6BC475B48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1D8A-CFE2-4AEE-AEF8-EB129900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65E8-E1A8-4020-ACC0-009956672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C14A-1A64-49D2-A43E-2EF84E3C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F1AB-DD58-48D9-924D-568036FC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9C42-0C49-4949-A0CE-98B85E67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1F42-DD0D-4A22-805D-391A96EE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736F-D396-4417-9E74-D5F8C21D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383C-862C-4C26-A2E4-4ED05707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6221-5D89-41F2-9C44-7FCF669E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C334-FE31-4E4E-9AD1-4FEB3794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6586-C143-4592-A37D-A5EE5D39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4A19-9CD3-42DC-B07A-86F20883B7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ixed feelings about DOTS</a:t>
            </a:r>
            <a:br>
              <a:rPr sz="4400"/>
            </a:br>
            <a:br>
              <a:rPr sz="32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MS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Addis Aba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3/05/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Directly Observed Therapy</a:t>
            </a:r>
            <a:br>
              <a:rPr sz="4000"/>
            </a:b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Essential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DOT alone vs Self Administered Treatment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lack of evidence (Cochrane review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Feasibility?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6 month regi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ARV/AIDS experience-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ctive role of the pat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299880" y="2444760"/>
          <a:ext cx="8668080" cy="154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2444760"/>
                    <a:ext cx="866808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304920" y="5029200"/>
            <a:ext cx="708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Arial"/>
              </a:rPr>
              <a:t>No WHO pre-qualified drugs for 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Arial"/>
              </a:rPr>
              <a:t>No WHO pre-qualified 2nd line drugs</a:t>
            </a:r>
            <a:r>
              <a:rPr b="0" lang="fr-FR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457200"/>
            <a:ext cx="72392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ply of essential drug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Room for Impr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80880" y="3505320"/>
          <a:ext cx="8483760" cy="143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505320"/>
                    <a:ext cx="848376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228600" y="685800"/>
            <a:ext cx="868680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Monitoring/ Evalu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ata Collection has its own challe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2819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reatment outcomes in projects supported by MS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OTS has achieved a 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OTS has evol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B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rand ambigu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xcl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DR-T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ecognise difficul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ffff"/>
                </a:solidFill>
                <a:latin typeface="Arial"/>
              </a:rPr>
              <a:t>What we have is not enough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agnostic tools for smear -, extra-pulmonary and child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horter treatment, new me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versify adherence strateg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Vacc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chievements and Limita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chiev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ffff"/>
                </a:solidFill>
                <a:latin typeface="Arial"/>
              </a:rPr>
              <a:t>Ambiguities with brand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ffff"/>
                </a:solidFill>
                <a:latin typeface="Arial"/>
              </a:rPr>
              <a:t>Difficulties and limit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Observations and data from our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iscuss recent controversy over DO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chiev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Order to Cha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egimes, procurement, repor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ocussed attention from Governments and Don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Political W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DOTS 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® 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Ambiguit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ame br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fferent 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762120"/>
            <a:ext cx="8589960" cy="57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commi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tection by sputum microsco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ard short course chemotherap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der DOT by HC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“at least” all smear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nterrupted supply of essential dru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ording and reporting systems (smear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5 pillars (199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762120"/>
            <a:ext cx="85899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commi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tection by sputum microscopy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(QC)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X-ray, cultures and D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ard short course chemotherapy 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der DOT by HCW,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family, community,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all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cas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DRTB trea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nterrupted supply of </a:t>
            </a:r>
            <a:r>
              <a:rPr b="1" lang="en-GB" sz="2800" spc="-1" strike="noStrike">
                <a:solidFill>
                  <a:srgbClr val="00ffff"/>
                </a:solidFill>
                <a:latin typeface="Arial"/>
              </a:rPr>
              <a:t>drug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quality assured, FDC, 2</a:t>
            </a:r>
            <a:r>
              <a:rPr b="0" lang="en-GB" sz="2400" spc="-1" strike="noStrike" baseline="30000">
                <a:solidFill>
                  <a:srgbClr val="00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 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ording and reporting systems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nabling outcome assessment of each patients, incorporating culture and DST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5 pillars </a:t>
            </a:r>
            <a:r>
              <a:rPr b="1" lang="en-GB" sz="3600" spc="-1" strike="noStrike">
                <a:solidFill>
                  <a:srgbClr val="00ffff"/>
                </a:solidFill>
                <a:latin typeface="Arial"/>
              </a:rPr>
              <a:t>(2004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Some of our difficulties with TB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98440" y="3346560"/>
          <a:ext cx="8601120" cy="177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" y="3346560"/>
                    <a:ext cx="8601120" cy="17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533520" y="228600"/>
            <a:ext cx="8001000" cy="20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Case detectio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Exclus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(13,323 patients in 52 projects supported by MSF 200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26668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Proportions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80880" y="1828800"/>
          <a:ext cx="8382240" cy="44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8382240" cy="44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04920" y="22860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tandard SCC</a:t>
            </a:r>
            <a:br>
              <a:rPr sz="4400"/>
            </a:b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oes one size fit al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21:38:51Z</dcterms:created>
  <dc:creator>MSFuser</dc:creator>
  <dc:description/>
  <dc:language>en-US</dc:language>
  <cp:lastModifiedBy>MSFUser</cp:lastModifiedBy>
  <dcterms:modified xsi:type="dcterms:W3CDTF">2005-05-04T13:03:37Z</dcterms:modified>
  <cp:revision>25</cp:revision>
  <dc:subject/>
  <dc:title>DOTS: The 5 pillars (1995)</dc:title>
</cp:coreProperties>
</file>