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F346-9E8A-4948-8866-3E2EAD2AA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5C08-2C4D-4121-B166-3B5F075A9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415A-CDEE-4B6E-9F9F-75E9BA152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9603-908E-43D3-A22E-A63E8C1C0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3628-4ABE-44BE-9A93-088F77DCF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871C-CD51-433D-A409-2C0F84AA9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4B75-ED50-4743-A2BF-C5DF20AF8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F80D-A1AA-4D03-9B19-8D14339B9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DBA1-3D63-4F19-9517-3DAA1F391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F5DB-A82E-4AFE-8BFA-0EA4B5EE6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1D25-20BD-4917-B77E-273B19FC0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4158-EDA8-4D5D-A643-CA339958E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0" y="6381360"/>
            <a:ext cx="914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B565C-8C00-4B55-8BDC-1463B42636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743280" y="1268280"/>
            <a:ext cx="5400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Strategic Plan </a:t>
            </a: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Stop TB Working Group on DOTS-Plus for MDR-TB</a:t>
            </a:r>
            <a:br>
              <a:rPr sz="3200"/>
            </a:b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eting of the Steering Committee for the Global Plan to Stop TB (2006-2015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s Ababa, 2 May 2005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lma E. Tupasi, MD, Acting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268280"/>
            <a:ext cx="3483000" cy="46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0" y="1484280"/>
          <a:ext cx="9144000" cy="5067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84280"/>
                    <a:ext cx="9144000" cy="506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Total MDR-TB patients to be treated under DOTS-Plus (thousand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-39600" y="1300320"/>
          <a:ext cx="9080280" cy="514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9600" y="1300320"/>
                    <a:ext cx="908028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00"/>
                </a:solidFill>
                <a:latin typeface="Arial"/>
              </a:rPr>
              <a:t>Cost per MDR-TB patient trea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324000" y="1530360"/>
          <a:ext cx="8208720" cy="5138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530360"/>
                    <a:ext cx="8208720" cy="51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340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Resources needed</a:t>
            </a:r>
            <a:br>
              <a:rPr sz="4000"/>
            </a:b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DOTS-Plus country activity costs </a:t>
            </a:r>
            <a:br>
              <a:rPr sz="4000"/>
            </a:b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2006-20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280680" y="2371680"/>
            <a:ext cx="46720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otal: US$ 5,3 bill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9144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Resources needed</a:t>
            </a:r>
            <a:br>
              <a:rPr sz="4000"/>
            </a:b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DOTS-Plus global coordination costs, 2006-2015, 60 mill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900000" y="2022480"/>
          <a:ext cx="7201080" cy="4430880"/>
        </p:xfrm>
        <a:graphic>
          <a:graphicData uri="http://schemas.openxmlformats.org/drawingml/2006/table">
            <a:tbl>
              <a:tblPr/>
              <a:tblGrid>
                <a:gridCol w="6164280"/>
                <a:gridCol w="1036800"/>
              </a:tblGrid>
              <a:tr h="43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rdination and management of the Working 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ansion and strengthening of DRS and DOTS-Pl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 and Regional GLC operations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acity buil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icy development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rdination of the global supranational laboratory netwo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-line drug management and prequalif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ocacy, communication and social mobiliz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al resear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00"/>
                </a:solidFill>
                <a:latin typeface="Arial"/>
              </a:rPr>
              <a:t>Imp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DOTS-Plus impa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08080"/>
                </a:solidFill>
                <a:latin typeface="Arial"/>
              </a:rPr>
              <a:t>895,000 MDR-TB patients receiving adequate 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08080"/>
                </a:solidFill>
                <a:latin typeface="Arial"/>
              </a:rPr>
              <a:t>660,000 MDR-TB patient successfully tre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08080"/>
                </a:solidFill>
                <a:latin typeface="Arial"/>
              </a:rPr>
              <a:t>Half a million MDR-TB deaths ave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DOTS/DOTS-Plus impa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08080"/>
                </a:solidFill>
                <a:latin typeface="Arial"/>
              </a:rPr>
              <a:t>Reduction in previously treated patients from </a:t>
            </a:r>
            <a:br>
              <a:rPr sz="2800"/>
            </a:br>
            <a:r>
              <a:rPr b="0" i="1" lang="en-GB" sz="2800" spc="-1" strike="noStrike">
                <a:solidFill>
                  <a:srgbClr val="808080"/>
                </a:solidFill>
                <a:latin typeface="Arial"/>
              </a:rPr>
              <a:t>19% to 15% of all confirmed TB ca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08080"/>
                </a:solidFill>
                <a:latin typeface="Arial"/>
              </a:rPr>
              <a:t>Decrease in MDR-TB prevalence by 5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00"/>
                </a:solidFill>
                <a:latin typeface="Arial"/>
              </a:rPr>
              <a:t>Monito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5920" y="1495440"/>
            <a:ext cx="4257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Cur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Epidemiology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HO/IUATLD DRS pro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Laboratory performanc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SNRL and NR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DOTS-Plus performanc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GLC and WH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2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-line drug us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ventory of public and private sector drug use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e-qualification pro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Global coordination activities and costs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orking Group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0" y="1484280"/>
            <a:ext cx="42480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Epidemiology and </a:t>
            </a:r>
            <a:br>
              <a:rPr sz="2200"/>
            </a:b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DOTS-Plus perform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OTS-Plus recording and reporting included in DO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DR-TB notifications and DOTS-Plus outcomes part of Global Tuberculosis Control Re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A provided as one package (DOTS/DOTS-Plu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00"/>
                </a:solidFill>
                <a:latin typeface="Arial"/>
              </a:rPr>
              <a:t>Key risk f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ck of political w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suse and low quality of second-line drugs resulting in the creation of strains resistant to all known anti-TB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DR-TB and HIV/A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Qualified human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nancial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ublic health infrastructure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especially laboratory capac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ganization and management of health care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198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Process for developing the </a:t>
            </a:r>
            <a:br>
              <a:rPr sz="4000"/>
            </a:b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strategic pl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49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lanning workshop in Montreux, March 2005 discussions on epidemiological scenarios with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808080"/>
                </a:solidFill>
                <a:latin typeface="Arial"/>
              </a:rPr>
              <a:t>DOTS-Expansion Working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808080"/>
                </a:solidFill>
                <a:latin typeface="Arial"/>
              </a:rPr>
              <a:t>Laboratory strengthening sub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808080"/>
                </a:solidFill>
                <a:latin typeface="Arial"/>
              </a:rPr>
              <a:t>Diagnostic Working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elephone conferences with WHO Regional Offices on epidemiological scenari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iscussion on epidemiological scenarios, cost and impact at </a:t>
            </a:r>
            <a:r>
              <a:rPr b="0" i="1" lang="en-GB" sz="3000" spc="-1" strike="noStrike">
                <a:solidFill>
                  <a:srgbClr val="000000"/>
                </a:solidFill>
                <a:latin typeface="Arial"/>
              </a:rPr>
              <a:t>ad hoc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DOTS-Plus strategy meeting, 18-19 April 200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8000"/>
                </a:solidFill>
                <a:latin typeface="Arial"/>
              </a:rPr>
              <a:t>MDR-TB control – </a:t>
            </a:r>
            <a:br>
              <a:rPr sz="4000"/>
            </a:br>
            <a:r>
              <a:rPr b="1" lang="en-GB" sz="4000" spc="-1" strike="noStrike">
                <a:solidFill>
                  <a:srgbClr val="008000"/>
                </a:solidFill>
                <a:latin typeface="Arial"/>
              </a:rPr>
              <a:t>political and technical moment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9640" y="1639800"/>
            <a:ext cx="806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Expanded DOTS Framework 200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GFATM and GLC agreement 200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2nd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ad hoc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 Committee on the TB Epidemic 200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B 2004 and WHA 200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Revised WHO treatment guidelin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ew vision of TB contro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nternational Standards of TB 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ew DOTS-Plus guideli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Rapid expansion of DOTS-Plus as routine components of TB contr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98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00"/>
                </a:solidFill>
                <a:latin typeface="Arial"/>
              </a:rPr>
              <a:t>Vision 2006-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4978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Drug resistance surveillance and DOTS-Plus integrated as routine components of TB control providing access to diagnosis and treatment for all TB patients and by all health care providers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4978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pansion of DRSData on the global magnitude and trends of MDR-TB, and on the relationship between MDR-TB and HIV/A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ansion of D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equate treatment of all detected MDR-TB pati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ality-assured 2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line drug production in high MDR-TB burden countries and further reduction of prices of second-line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lobal coordination, collaboration and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00"/>
                </a:solidFill>
                <a:latin typeface="Arial"/>
              </a:rPr>
              <a:t>DST expan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686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y 201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Globally, all previously treated cas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astern Europe, also all new ca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Latin America, Southeast Asia and Western Pacific, also 20% of targeted new ca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1619280" y="3435480"/>
          <a:ext cx="5616720" cy="3313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19280" y="3435480"/>
                    <a:ext cx="5616720" cy="33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1908000" y="3573360"/>
            <a:ext cx="5040360" cy="307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xample of DST expansion - Western Pacific Reg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00"/>
                </a:solidFill>
                <a:latin typeface="Arial"/>
              </a:rPr>
              <a:t>DOTS-Plus expan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y 2015: Treatment with quality-assured 2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line drugs to all detected MDR-TB patients following WHO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timated number of culture-positive MDR-TB patients under DOTS-Pl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808080"/>
                </a:solidFill>
                <a:latin typeface="Arial"/>
              </a:rPr>
              <a:t>2005: 4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808080"/>
                </a:solidFill>
                <a:latin typeface="Arial"/>
              </a:rPr>
              <a:t>2010: 24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808080"/>
                </a:solidFill>
                <a:latin typeface="Arial"/>
              </a:rPr>
              <a:t>2015: 66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most 1 million MDR-TB patients treated under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TS-Plus, 2006-201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00"/>
                </a:solidFill>
                <a:latin typeface="Arial"/>
              </a:rPr>
              <a:t>DOTS-Plus expansion Eastern Eur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"/>
          <p:cNvGraphicFramePr/>
          <p:nvPr/>
        </p:nvGraphicFramePr>
        <p:xfrm>
          <a:off x="1177920" y="1768320"/>
          <a:ext cx="6462720" cy="4692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77920" y="1768320"/>
                    <a:ext cx="6462720" cy="469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95280" y="1386000"/>
            <a:ext cx="8353440" cy="535608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MDR-TB patients to be treated per year under DOTS-Pl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6T12:34:42Z</dcterms:created>
  <dc:creator>Eva Nathanson</dc:creator>
  <dc:description/>
  <dc:language>en-US</dc:language>
  <cp:lastModifiedBy>johnsoneb</cp:lastModifiedBy>
  <dcterms:modified xsi:type="dcterms:W3CDTF">2005-05-02T05:31:43Z</dcterms:modified>
  <cp:revision>75</cp:revision>
  <dc:subject/>
  <dc:title>Slide 1</dc:title>
</cp:coreProperties>
</file>