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206A-495D-4454-8280-92438F5EE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has been discussed earlier the prospect reaching for the MDG TB targets looks much more achievable in most parts of the world except for Af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roadmap complements the analytical document presented previ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B should take the following activities to enhance the importance and profile of TB as one of the leading health agenda in the 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B should launch a Stop TB Partnership for Africa to solicit unprecedented level of political commitment and multisectoral involvement at all levels to accelerate the implementation of TB control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igh level missions should initiate the discussion of mainstreaming TB into development strategies such as the PRS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TB causes an estimated  an economic loss of 4-7% of GDP annually in countries with a high burden of TB.  Likewise, the global cost of TB is estimated to be US$13 billion a year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Therefore, it needs to be mainstreamed in the development agenda of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04EC-C82A-478F-87E9-24A9869FF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1C4F-25DC-4484-BD75-A53E18FC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0B02-5662-4267-B27A-E607EFAC8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E43F-FC01-4A14-BAAD-772EBD707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B6F6-D907-46AC-BFD8-A8DB02C9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8F9A-1ACB-46D7-AC95-8B621B2D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2628-7674-4505-B586-6AE45BD1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EF7D-EE16-435B-A58B-3BC9F8F6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D20D-CD0C-4607-9311-413C8D50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FA7D-42AE-4CF6-84D3-940FF63C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670B-A8F1-4B62-8D04-7C39E8D1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D990-4492-4568-A081-BD0110D8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B073-6BFA-41D3-B574-78A5EF62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A97D-71A3-4195-B54E-16767CED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E4E8-7A16-4525-9609-1B13EDE2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32A8-441C-48B9-BFEF-67EA0C74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04B2-F9AA-4640-98AC-930A98649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4AE4-BDEA-4FF4-A61B-9F8C1728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5F96-C60C-4493-9545-2E47FB08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95A3-6323-4713-9696-58A7B4F0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87A6-EFD5-474A-B51E-97D30EC2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6675-BFDA-4755-B09C-2053BDB5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4695-CD75-494D-B232-FE198C66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6141-A8FA-4418-A463-EE3BA927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83D1-630E-4E5A-A6CC-6E8C995DD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8D95-85D4-453B-8564-5FED7EDDF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Berlin Sans FB Demi"/>
              </a:rPr>
              <a:t>Roadmap to intensify action to reach the TB MDGs in Africa.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Berlin Sans FB Demi"/>
              </a:rPr>
              <a:t>2005-2007</a:t>
            </a:r>
            <a:br>
              <a:rPr sz="4400"/>
            </a:br>
            <a:br>
              <a:rPr sz="44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Draft for Discu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Berlin Sans FB Demi"/>
              </a:rPr>
              <a:t> </a:t>
            </a:r>
            <a:r>
              <a:rPr b="1" lang="en-GB" sz="3600" spc="-1" strike="noStrike">
                <a:solidFill>
                  <a:srgbClr val="ffffff"/>
                </a:solidFill>
                <a:latin typeface="Berlin Sans FB Demi"/>
              </a:rPr>
              <a:t>Why the Roadma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Provide recommendations and the </a:t>
            </a:r>
            <a:r>
              <a:rPr b="0" lang="en-GB" sz="3200" spc="-1" strike="noStrike">
                <a:solidFill>
                  <a:srgbClr val="cc0000"/>
                </a:solidFill>
                <a:latin typeface="Berlin Sans FB Demi"/>
              </a:rPr>
              <a:t>provisional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 financial needs for TB control in Africa for 2005-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Calls for enhanced efforts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B of Stop TB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African leaders and polic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Donors, technical agencies and NG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2116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The Coordinating Board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Liaise with the AU and WHO/AFRO to make TB visible and to engage in NEPA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Advocate for an AU TB resolution in the context of MD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The Chair of the CB (or his/her delegate) to regularly attend the Regional Committee (RC) of AF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Assign a focal point of the CB to engage in NEPAD related consul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The Coordinating Board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Create a  task force to establish the Stop TB Partnership for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Organise high level missions to five high burden countries and meet with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Berlin Sans FB Demi"/>
              </a:rPr>
              <a:t>heads of state</a:t>
            </a:r>
            <a:r>
              <a:rPr b="0" lang="en-GB" sz="3200" spc="-1" strike="noStrike">
                <a:solidFill>
                  <a:srgbClr val="3333cc"/>
                </a:solidFill>
                <a:latin typeface="Berlin Sans FB Dem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and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Berlin Sans FB Demi"/>
              </a:rPr>
              <a:t>ministers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Organise the next Stop TB Partners Forum in Africa in 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Berlin Sans FB Demi"/>
              </a:rPr>
              <a:t>The Coordinating Board shou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Organise an African TB financing summit to mobilise new and sustainable  financial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Reach out major institutions and bilateral agencies by meeting </a:t>
            </a:r>
            <a:r>
              <a:rPr b="0" lang="en-GB" sz="2800" spc="-1" strike="noStrike" u="sng">
                <a:solidFill>
                  <a:srgbClr val="3333cc"/>
                </a:solidFill>
                <a:uFillTx/>
                <a:latin typeface="Berlin Sans FB Demi"/>
              </a:rPr>
              <a:t>heads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of  the instit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ntinue supporting the Global Drug Fac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African governments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Mainstream TB in their development agen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PR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SW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HIP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Strengthen TB control through DOTS and address health system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increase access to quality diagnosis and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Strengthen community involvement in TB and TB/H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Enhance engagement of NGOs and private s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Enhance local drug manufacturing and procur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Implement collaborative TB/HIV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Interim Policy on Collaborative TB/HIV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Establish National Stop TB Partner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 Demi"/>
              </a:rPr>
              <a:t>Major donors, technical agencies and NGOs  shou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Support the proposed African TB financing summ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ntinue and increase support for Stop TB Partners working in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ordinate their national level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HIV/AIDS NGOs should embrace TB as one of their main work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Berlin Sans FB Demi"/>
              </a:rPr>
              <a:t>Estimated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erlin Sans FB Demi"/>
              </a:rPr>
              <a:t>For the Coordinating Board= 1.5 mill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erlin Sans FB Demi"/>
              </a:rPr>
              <a:t>For African countries=  1, 140 mill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0000"/>
                </a:solidFill>
                <a:latin typeface="Berlin Sans FB Demi"/>
              </a:rPr>
              <a:t>Provisional  figures built on the global plan II (2006-201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600" spc="-1" strike="noStrike">
                <a:solidFill>
                  <a:srgbClr val="000000"/>
                </a:solidFill>
                <a:latin typeface="Berlin Sans FB Demi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1:13:30Z</dcterms:created>
  <dc:creator>getahunh</dc:creator>
  <dc:description/>
  <dc:language>en-US</dc:language>
  <cp:lastModifiedBy>johnsoneb</cp:lastModifiedBy>
  <dcterms:modified xsi:type="dcterms:W3CDTF">2005-05-11T07:59:49Z</dcterms:modified>
  <cp:revision>37</cp:revision>
  <dc:subject/>
  <dc:title>Roadmap to intensify action to reach the TB MDGs in Africa.  2005-2007 </dc:title>
</cp:coreProperties>
</file>