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EC552F-B2C8-4F50-B0F2-DF4C339DC0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61240" y="5386320"/>
          <a:ext cx="113508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5386320"/>
                    <a:ext cx="1135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5510160"/>
            <a:ext cx="82080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6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 propos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"Global Strategy to Stop TB"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9080" y="276696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214720"/>
            <a:ext cx="5454720" cy="4090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launch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720" y="2332080"/>
            <a:ext cx="730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Preparation of peer-review publication (late 2005/early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Official launch date and approach – for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7120" y="1225440"/>
          <a:ext cx="7740720" cy="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225440"/>
                    <a:ext cx="774072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"/>
              </a:rPr>
              <a:t>Requests to the Stop TB CB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the objectives and cont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commend improvements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plan for stakeholder engagem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sider options for launch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t October CB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5600" y="1271520"/>
          <a:ext cx="7738920" cy="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0" y="1271520"/>
                    <a:ext cx="7738920" cy="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Objective: to introduce a proposed "Global Strategy to Stop TB" which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541520"/>
            <a:ext cx="845172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ims to ensure care for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 TB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ursues expansion of quality DOTS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ccelerates progress and impact of TB control to meet the MD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sponds to needs expressed by a range of constit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flects innovation 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consistent with the Global Plan, 2006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Links with the growing focus on health's role in poverty alleviation and in advancing human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7240" y="57240"/>
            <a:ext cx="9239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c3300"/>
                </a:solidFill>
                <a:latin typeface="Arial"/>
              </a:rPr>
              <a:t>The DOTS Strategy (1995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1880" y="1854360"/>
            <a:ext cx="78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Government commitment to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Case detection primarily by smear microscopy mostly on self-reporting symptomatic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tandardised short-course chemotherapy under proper case management conditions, including 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ystem of regular drug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Efficient monitoring system for programme supervision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3880" y="6324480"/>
            <a:ext cx="85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9160" y="13701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701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Evolution of the WHO-recommended DOTS Strate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650600"/>
            <a:ext cx="79279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Effective TB Control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DOTS launched in 1995 and expanded over the last decade. 182 countries adopted it; 17 million treated in 1995-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Near target for treatment success (82%) and proven acceleration of case detection, but still only 45% in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While DOTS is the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onditio sine qua n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for TB control, it does not explicitly address the new challenges: TB/HIV in Africa; MDRTB; serving the "hard-to-reach"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ince 2000, TB control adaptations have begun to address such special challenges and support to R&amp;D has expanded. These should be captured in the strate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40652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0652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361440"/>
            <a:ext cx="7621560" cy="10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Policy and strategy documents since 2001 show evolution…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831680"/>
            <a:ext cx="758052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Global Plan to Stop TB, 2001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xpanded Framework to Control TB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port of the 2nd Ad-hoc Committee on TB Control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illennium Project TB Control Report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B resolution, 2004 and World Health Assembly Resolution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the Global Plan to Stop TB, 2005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1400" y="154944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54944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3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8600" y="2109600"/>
            <a:ext cx="82645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br>
              <a:rPr sz="3600"/>
            </a:br>
            <a:br>
              <a:rPr sz="3600"/>
            </a:br>
            <a:r>
              <a:rPr b="1" lang="en-GB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ddressing TB/HIV and M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3. 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4. Engaging all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5. Empowering patients and communities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6. Enabling and promoting R&amp;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7320" y="158112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112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and improve case detection and cure through effective patient-centered care for 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ll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especially the p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2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Addressing TB-HIV, MDR-TB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other special 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3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Contributing to health system strengthening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by building capacity and mobilizing additional human and financial resources for implementation and impact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4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gaging all care provider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- public, non-governmental and private - to provide the International Standard of TB Care, focusing on the poor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5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mpowering patients and communitie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to demand, and contribute to, effective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abling and promoting R&amp;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for new drugs, diagnostics and vacc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7320" y="11955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955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2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Pursuing Quality DOTS Expansion, 2005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6560" y="1244520"/>
            <a:ext cx="8601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with long-term planning, adequate human resources and sustainable financing to reach WHA and MDG targe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 (microscopy first, and culture/DST) and establishment of an effective laboratory network to facilitate detection of SS+, SS- and DR-  TB case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 TB patien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 effective and regular drug supply system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20000"/>
              </a:lnSpc>
              <a:spcBef>
                <a:spcPts val="624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Efficient monitoring system for programme supervision and evaluation including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measurement of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engaging stakeholders in strategy develop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formal dialogue and review with NTPs, staff and partners (ongo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put from StopTB CB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formal feedback at WHA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endorsement of WHO STAG (June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Obtain engagement of national and global stakeholders via DFID-financed survey &amp; interview process (summer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final endorsement of StopTB Working Groups (Oct 05) and StopTB CB (Nov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960" y="1604880"/>
          <a:ext cx="7799400" cy="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" y="1604880"/>
                    <a:ext cx="77994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35:34Z</dcterms:modified>
  <cp:revision>460</cp:revision>
  <dc:subject/>
  <dc:title>Progress in Global Tuberculosis Control 1995-97</dc:title>
</cp:coreProperties>
</file>