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CF03-6D56-4839-9041-1A9DC9700C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rit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Group is to be drawn from the Committee, plus Dermot Maher and Karen 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base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ing the possibilities of web-based technologies to provide the Global Plan, full Working Group plans, and associated material in different formats for different audiences. Need consult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table for Plan is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0315D-3B96-4B2E-A465-C692773DC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18520-549C-401E-AFFB-FF7C5DF37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82966-C76E-40C5-9C39-6800DB2A3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ECCB9-ABA6-48CF-B633-F833671C1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E5220-09CB-406F-94F9-9573A81D90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A7C08-671A-430F-8EF5-5105154EB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C60E2-1357-44A1-8E21-EA9752AEB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2CA16-0C37-4D31-B402-E352022BE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AB1A7-EFA9-4C17-B0CD-87EDB66D8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20E6B-D23C-4358-9157-D5AEA0804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CD9A3-5797-4FE7-990D-7DB4DCCF5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AF7D8-9AE6-4EC5-B895-B03233773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DDDE5-D5A5-44CD-8DC7-353473A74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8260D-51BF-4742-B086-403B2A14B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B8AA4-4D16-40A4-88E3-53CB19483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96BB75-2783-440F-89B1-5E92A5C49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19FF3-CA6A-41F4-9A24-4C35F8BFC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3E1C1-8E30-42C3-855C-9D5E34630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87D23-9A97-4268-8424-5690687A4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E0AD9-A641-4ED0-B4E9-D44574C3C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39E33-A1EC-49AD-B6AB-63B154D8E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04872-6A40-42FD-86A2-FA4911003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2D1A2-B3F4-4C68-899D-DDFFFFADE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137F1-A6EA-428A-B223-7A95C0CFC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7864-B8A8-47EB-AF7C-B1FB289648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786B-B37A-4034-8153-A9D13A289B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Steering Committee for the Global Plan to Stop TB (2006-2015)</a:t>
            </a:r>
            <a:endParaRPr b="1" lang="en-US" sz="3600" spc="-1" strike="noStrike">
              <a:solidFill>
                <a:srgbClr val="000000"/>
              </a:solidFill>
              <a:latin typeface="Arial"/>
            </a:endParaRPr>
          </a:p>
        </p:txBody>
      </p:sp>
      <p:sp>
        <p:nvSpPr>
          <p:cNvPr id="92" name="PlaceHolder 2"/>
          <p:cNvSpPr>
            <a:spLocks noGrp="1"/>
          </p:cNvSpPr>
          <p:nvPr>
            <p:ph type="subTitle"/>
          </p:nvPr>
        </p:nvSpPr>
        <p:spPr>
          <a:xfrm>
            <a:off x="899640" y="3885840"/>
            <a:ext cx="7272360" cy="1198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back on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ering Committee meeting,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May 2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oard to endorse Steering Committee recommendations: </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Plan to reflect proposals for the Global Strategy to Stop TB, approved in principle by the Board subject to revision</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Launch of Global Plan at Davos, January 2005</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STB Partnership to work with other global health partnerships/agencies on harmonisation and alignmen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Immediate Partnership engagement with health system strengthening community</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Board to commission from the World Bank an analysis of the macroeconomic return on TB control</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Board to engage with the AU, IMF and World Bank, WHO, the GFATM, the AIDS and malaria worlds, and other actors to tackle wider macroeconomic barriers to progress in Afric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 Plan structure</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ECUTIVE SUMMARY</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artnership's Vision for 2015 and beyond</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1: Progress and challen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challenge now, 2015 and beyond to 2050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brief overview of Partnership; links with other initiatives, e.g. GFATM</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pproaches, current tools &amp; new tools (R&amp;D/implementation synergi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rogress against Global Plan (2001-2005)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artnership goal, mission, objectives and targets for 2006-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2: Achieving the targets for 20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Global and regional scenarios/plans, with estimated costs; R&amp;D scenarios; key strategic messa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3: Partnership action to achieve the goal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Working Group and Secretariat strategic plans, with estimated cost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4: Monitoring and evaluation</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5: Conclusion</a:t>
            </a:r>
            <a:endParaRPr b="0" lang="en-US" sz="1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main messages: impact and wider benefits, costs and funding, key risk factors. The role of partners/working together</a:t>
            </a:r>
            <a:r>
              <a:rPr b="0" lang="en-US" sz="1600" spc="-1" strike="noStrike">
                <a:solidFill>
                  <a:srgbClr val="cc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ackground</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1100"/>
              </a:spcBef>
              <a:spcAft>
                <a:spcPts val="964"/>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Developing the Global Plan is one of the most important activities of the Partnership.</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he Global Plan </a:t>
            </a:r>
            <a:r>
              <a:rPr b="0" lang="en-US" sz="2200" spc="-1" strike="noStrike">
                <a:solidFill>
                  <a:srgbClr val="cc0000"/>
                </a:solidFill>
                <a:latin typeface="Arial"/>
              </a:rPr>
              <a:t>will provide a roadmap for TB control over the decade 2006-2015, on the way towards the goal to eliminate TB as a global public health problem by 2050.</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sound plan based on rigorous epidemiological analysis and robust budget justifications will provide a powerful argument for resource mobilisation.</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t its October 2004 meeting, the Board asked each Working Group to develop its strategic plan (2006-2015) in contribution to the development of the Global Plan.</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ering Committee</a:t>
            </a:r>
            <a:br>
              <a:rPr sz="3200"/>
            </a:br>
            <a:r>
              <a:rPr b="1" lang="en-GB" sz="3200" spc="-1" strike="noStrike">
                <a:solidFill>
                  <a:srgbClr val="ffffff"/>
                </a:solidFill>
                <a:latin typeface="Arial"/>
              </a:rPr>
              <a:t>role</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role of the Steering Committee is crucial to ensuring successful finalization of the Plan over the next few months.</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a:t>
            </a:r>
            <a:r>
              <a:rPr b="0" lang="en-US" sz="2200" spc="-1" strike="noStrike">
                <a:solidFill>
                  <a:srgbClr val="cc0000"/>
                </a:solidFill>
                <a:latin typeface="Arial"/>
              </a:rPr>
              <a:t>he Steering Committee at its meeting on 2 May:</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reviewed the development of each Working Group's strategic plan and the regional scenarios</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considered the broader strategic framework and other issues concerning the overall Plan</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a:t>
            </a:r>
            <a:r>
              <a:rPr b="0" lang="en-US" sz="2200" spc="-1" strike="noStrike">
                <a:solidFill>
                  <a:srgbClr val="cc0000"/>
                </a:solidFill>
                <a:latin typeface="Arial"/>
              </a:rPr>
              <a:t>- made key decisions  </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identified specific issues for the Board's endorsement. </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Steering Committee will continue to provide oversight by email and teleconferences.</a:t>
            </a:r>
            <a:endParaRPr b="0" lang="en-US" sz="22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It has established a small Writing Group drawn from the Committee.</a:t>
            </a:r>
            <a:r>
              <a:rPr b="0" lang="en-US" sz="2800" spc="-1" strike="noStrike">
                <a:solidFill>
                  <a:srgbClr val="cc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Key Committee decision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p:nvPr>
        </p:nvSpPr>
        <p:spPr>
          <a:xfrm>
            <a:off x="380520" y="1600200"/>
            <a:ext cx="8458200" cy="44496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wo planning dimensions :</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i) Partnership activities to achieve the goal: WG and secretariat strategic plans, with estimated costs</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ii) i</a:t>
            </a:r>
            <a:r>
              <a:rPr b="0" lang="en-GB" sz="2000" spc="-1" strike="noStrike">
                <a:solidFill>
                  <a:srgbClr val="cc0000"/>
                </a:solidFill>
                <a:latin typeface="Arial"/>
                <a:ea typeface="Times New Roman"/>
              </a:rPr>
              <a:t>ntegration of activities of all WGs to produce regional scenarios.</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T</a:t>
            </a:r>
            <a:r>
              <a:rPr b="0" lang="en-GB" sz="2000" spc="-1" strike="noStrike">
                <a:solidFill>
                  <a:srgbClr val="cc0000"/>
                </a:solidFill>
                <a:latin typeface="Arial"/>
              </a:rPr>
              <a:t>he impact of new tools will be evaluated in selected regional scenarios.</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Global Plan products: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mprehensive Plan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and-alone Executive Summary </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 </a:t>
            </a:r>
            <a:r>
              <a:rPr b="0" lang="en-GB" sz="2000" spc="-1" strike="noStrike">
                <a:solidFill>
                  <a:srgbClr val="cc0000"/>
                </a:solidFill>
                <a:latin typeface="Arial"/>
              </a:rPr>
              <a:t>	</a:t>
            </a:r>
            <a:r>
              <a:rPr b="0" lang="en-GB" sz="2000" spc="-1" strike="noStrike">
                <a:solidFill>
                  <a:srgbClr val="cc0000"/>
                </a:solidFill>
                <a:latin typeface="Arial"/>
              </a:rPr>
              <a:t>advocacy products derived from Plan for specific target audience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eb-based presentation</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ructure of Global Plan 2006-2015</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onsultation and review proces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imetable for the Plan.</a:t>
            </a: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 plan timetable</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4592520"/>
        </p:xfrm>
        <a:graphic>
          <a:graphicData uri="http://schemas.openxmlformats.org/drawingml/2006/table">
            <a:tbl>
              <a:tblPr/>
              <a:tblGrid>
                <a:gridCol w="2778120"/>
                <a:gridCol w="5451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Milest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eering Group meet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 Ma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ordinating Board conside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WG plans and regional scenari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June-Ju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Drafting of 1</a:t>
                      </a:r>
                      <a:r>
                        <a:rPr b="0" lang="en-GB" sz="2000" spc="-1" strike="noStrike" baseline="30000">
                          <a:solidFill>
                            <a:srgbClr val="cc0000"/>
                          </a:solidFill>
                          <a:latin typeface="Arial"/>
                        </a:rPr>
                        <a:t>st</a:t>
                      </a:r>
                      <a:r>
                        <a:rPr b="0" lang="en-GB" sz="2000" spc="-1" strike="noStrike">
                          <a:solidFill>
                            <a:srgbClr val="cc0000"/>
                          </a:solidFill>
                          <a:latin typeface="Arial"/>
                        </a:rPr>
                        <a:t> full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Aug-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ide consultation and revie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Oct-Dec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Production of Global Plan (editing, design, translation, printing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January 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Launch, Davos (to be confirmed by Bo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big pic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teering Committee reviewed the draft regional scenarios and WG strategic plans, based on assumptions of feasibility unconstrained by financ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cenarios indicate that the 2015 targets would be met globally but not in Africa or Eastern Europ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epidemiological challenge is the huge increase in caseload and deaths since 1990.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hallenges in responding ar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inadequacy of current tools </a:t>
            </a:r>
            <a:r>
              <a:rPr b="0" lang="en-GB" sz="2000" spc="-1" strike="noStrike">
                <a:solidFill>
                  <a:srgbClr val="cc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lack of human resources and infrastructure.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HR problem is to a large extent driven by macroeconomic factors, eg emigration of trained health workers to market economies, salary incentive structures. Does the Board wish to engage with the IMF and World Bank, WHO, the AIDS and malaria worlds, and other actors on these issu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pidemiological</a:t>
            </a:r>
            <a:br>
              <a:rPr sz="3200"/>
            </a:br>
            <a:r>
              <a:rPr b="1" lang="en-GB" sz="3200" spc="-1" strike="noStrike">
                <a:solidFill>
                  <a:srgbClr val="ffffff"/>
                </a:solidFill>
                <a:latin typeface="Arial"/>
              </a:rPr>
              <a:t>reg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762120" y="1295280"/>
          <a:ext cx="7391160" cy="5181840"/>
        </p:xfrm>
        <a:graphic>
          <a:graphicData uri="http://schemas.openxmlformats.org/presentationml/2006/ole">
            <p:oleObj progId="PowerPoint.Show.12" r:id="rId1" spid="">
              <p:embed/>
              <p:pic>
                <p:nvPicPr>
                  <p:cNvPr id="106" name="" descr=""/>
                  <p:cNvPicPr/>
                  <p:nvPr/>
                </p:nvPicPr>
                <p:blipFill>
                  <a:blip r:embed="rId2"/>
                  <a:stretch/>
                </p:blipFill>
                <p:spPr>
                  <a:xfrm>
                    <a:off x="762120" y="12952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eting the MDGs</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0" y="1295280"/>
          <a:ext cx="9144000" cy="5181840"/>
        </p:xfrm>
        <a:graphic>
          <a:graphicData uri="http://schemas.openxmlformats.org/presentationml/2006/ole">
            <p:oleObj progId="PowerPoint.Show.12" r:id="rId1" spid="">
              <p:embed/>
              <p:pic>
                <p:nvPicPr>
                  <p:cNvPr id="110" name="" descr=""/>
                  <p:cNvPicPr/>
                  <p:nvPr/>
                </p:nvPicPr>
                <p:blipFill>
                  <a:blip r:embed="rId2"/>
                  <a:stretch/>
                </p:blipFill>
                <p:spPr>
                  <a:xfrm>
                    <a:off x="0" y="1295280"/>
                    <a:ext cx="91440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oard to provide guidance on reaching the 2015 targets in Africa and Eastern Europe</a:t>
            </a:r>
            <a:endParaRPr b="0" lang="en-US" sz="2400" spc="-1" strike="noStrike">
              <a:solidFill>
                <a:srgbClr val="000000"/>
              </a:solidFill>
              <a:latin typeface="Arial"/>
            </a:endParaRPr>
          </a:p>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While sustaining progress in other regions, how to prioritis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frica?</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HBC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Eastern Europ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The outcome will have implications for the Partnership operation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2:02:30Z</dcterms:created>
  <dc:creator>maherd</dc:creator>
  <dc:description/>
  <dc:language>en-US</dc:language>
  <cp:lastModifiedBy>Karen Caines</cp:lastModifiedBy>
  <dcterms:modified xsi:type="dcterms:W3CDTF">2005-05-04T11:05:09Z</dcterms:modified>
  <cp:revision>60</cp:revision>
  <dc:subject/>
  <dc:title>Steering Committee for the Global Plan to Stop TB (2006-2015)</dc:title>
</cp:coreProperties>
</file>