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874800" y="738000"/>
            <a:ext cx="4914720" cy="368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D1E20-2F56-426A-8D15-83005B9434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876240" y="738360"/>
            <a:ext cx="4913280" cy="368424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2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Partners share a Vision and a 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B44D-E618-4389-9AC4-42535ECC9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2D1B-DB0D-4CE1-8F6D-B0341A105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1D12-AE43-43EF-AE43-D53BAFF4D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7195-DA78-4F10-BEDD-DCEB15D26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63B45-FAA8-443B-ABB2-B8B14BDBC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869B1-AEA8-4F5F-9C6D-B60B75573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3D45E-F06C-464D-935B-203BD4696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F3F3C-1DD6-4928-A805-616523452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3E01E-C78C-424A-BAF5-17603AF62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440208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20809-4EEE-4E9B-85F0-98683F138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06307-E0BB-471D-9878-7544218CF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BF56-E718-4D51-950F-582C90CBD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24370-1A8C-4324-9987-DF27B2EB5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F8D4E-B9C4-4355-9347-E2E7709A8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42BB1-2441-4D0B-BD1D-378986C15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53C9C-4625-495D-9C87-2D57FEF6A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2F5B4-A5B8-4C7E-BDA5-25989DAEC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1663-C1EE-46D2-96E7-F620555A4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9C26-FF84-4E45-9C90-39204D4D3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B2FD-BE44-4ED6-96CD-BE47F7A3E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440208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0D7A-861C-4C6E-BE6C-CCB898ACC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5A82-DAE5-4EA8-A7FA-1F4C212C9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0BB6-11A0-49A8-99D9-1A946C7D5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7DC6-D7F0-4B7E-BD04-EA5127092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440" y="144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CFD8D-399C-4430-AAEF-6F38AAF104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5AE91-A2FE-4266-87E3-11A9A801A1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Arial"/>
              </a:rPr>
              <a:t>A new MOU with WHO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1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</a:rPr>
              <a:t>Irene Koe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</a:rPr>
              <a:t>Stop TB Coordinating Boar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</a:rPr>
              <a:t>Addis Abab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</a:rPr>
              <a:t>3</a:t>
            </a:r>
            <a:r>
              <a:rPr b="1" lang="en-GB" sz="2400" spc="-1" strike="noStrike" baseline="30000">
                <a:solidFill>
                  <a:srgbClr val="ffffcc"/>
                </a:solidFill>
                <a:latin typeface="Arial"/>
              </a:rPr>
              <a:t>rd</a:t>
            </a:r>
            <a:r>
              <a:rPr b="1" lang="en-GB" sz="2400" spc="-1" strike="noStrike">
                <a:solidFill>
                  <a:srgbClr val="ffffcc"/>
                </a:solidFill>
                <a:latin typeface="Arial"/>
              </a:rPr>
              <a:t> May 200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ecisions Reques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Do we need a new MOU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Board is requested to discuss and decide whether a new MOU is necessa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the answer is NO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status quo is understood to prevai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ecisions Reques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If the answer is YES; the Board has 2 options to proceed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stablish a negotiating committee of Members to lead discussions with WH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mpower the Secretariat to undertake discussions based on the attached draf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ATION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y have an MOU with WH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ensure mutual understanding of the adaptations and flexibility the Secretariat needs to carry out the CB approved work pla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larity for all concerned on how to address practical issues such as staffing, external correspondence (use of logo and letterhead)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URRENT M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7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Signed 2001 by WHO (DG) and STBCB (Chair 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Addresses operational aspects of 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GDF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Validity to 31</a:t>
            </a:r>
            <a:r>
              <a:rPr b="0" lang="en-GB" sz="36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July 2003 but applied until a new agreement is negotiated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CERNS WITH CURRENT M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ut of date - refers to "appointments as time-limited until mid 2003"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ly addresses GDF issu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es not reflect the establishment of the Trust Fu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es not fully address all relevant operational and management issues – staffing, use of logo and letterhead etc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JOR THEMES OF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EW MOU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gal and political aspec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gal 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cretariat hosted/housed by WH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ogo &amp; Pub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b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JOR THEMES OF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EW MOU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dminis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ructure of Secretariat within STB dep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ork-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dministrative burd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porting, monitoring and 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ast-trac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JOR THEMES OF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EW MOU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ff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cruitment of Executive Secret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tract break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rm limits and quo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affing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JOR THEMES OF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EW MOU (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lobal Drugs Fac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asic operating princi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nagement of the G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porting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chnical Review Committe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ndering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JOR THEMES OF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EW MOU (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nancial aspects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Trust Fu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SC rates (6% for Trust Fund, 3% for drug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rect procurement of dr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alidity of the new M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15:56:53Z</dcterms:created>
  <dc:creator>Robert Hernandez</dc:creator>
  <dc:description/>
  <dc:language>en-US</dc:language>
  <cp:lastModifiedBy>bakerl</cp:lastModifiedBy>
  <dcterms:modified xsi:type="dcterms:W3CDTF">2005-04-27T11:43:43Z</dcterms:modified>
  <cp:revision>35</cp:revision>
  <dc:subject/>
  <dc:title>Slide 1</dc:title>
</cp:coreProperties>
</file>