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6ACE7-128D-4895-8F27-51FF6A3635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DF324-98C7-47B5-A02F-4874C5D6F0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643F-391B-4E9B-8BC6-D2258729B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0F4C-64C7-4308-BA5B-F74F60277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D3DE-FA25-47D1-B2D3-6B5323669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0D38-CCE5-4FAA-878E-72272C46E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8140B-CA3D-4526-AD9C-73133BC78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2924B-9329-4BC3-96D4-7D043711B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38529-15AD-480A-AAD9-CF2CDB046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9C8E3-6EC4-40BA-999E-829D25F95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35F3A-6E8D-4191-AB75-0EDF94584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4AF7C-DD69-4B55-B1F8-E4DACD89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064E2-C518-4B52-8B72-9F379E99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D114-C51F-4F55-8EF9-EB2BCF12C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E36AC-2B8B-4850-8AF7-E61EA26E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3D255-8F5D-4BBB-A104-09FF8237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7174D-B6BC-4445-A275-E4B518799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F5D92-6985-45F2-BBCF-8D2155341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DB91C-C3B0-4DB3-8257-8448C528E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09C8-005E-44F2-A151-10D065082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5ECC-08D7-4BE2-AAD5-13DDCA3D7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4A6B-B359-43A9-94F1-F55C76585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C7DB-B0AC-4F25-A696-8A7D68846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FC4F-F7A3-42B4-A94E-973A97BE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969B-9172-4AC0-A368-59651752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EDE1-2D82-41DA-8287-4FB2CC5A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45D8A-F377-4BC2-A150-04F5CE07A6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87FAD-A167-4BAA-948C-E6EF335E1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ublic-Private Mix</a:t>
            </a:r>
            <a:br>
              <a:rPr sz="44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(Engaging all care providers to Stop TB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4365360"/>
            <a:ext cx="6400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ecretariat, Subgroup on PPM for DOTS Expan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708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idence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24000" y="1460520"/>
            <a:ext cx="8640720" cy="4726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07" name=""/>
          <p:cNvSpPr/>
          <p:nvPr/>
        </p:nvSpPr>
        <p:spPr>
          <a:xfrm>
            <a:off x="1116000" y="184464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 20 countries with PPM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16000" y="220500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 20,000 patients evalua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16000" y="256536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atment success around 80-9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116000" y="292428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case detection in all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16000" y="371628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hes the p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3480" y="3357720"/>
            <a:ext cx="17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-eff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16000" y="407664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burden for pat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PM Task M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457200" y="1628640"/>
          <a:ext cx="8229600" cy="4645080"/>
        </p:xfrm>
        <a:graphic>
          <a:graphicData uri="http://schemas.openxmlformats.org/drawingml/2006/table">
            <a:tbl>
              <a:tblPr/>
              <a:tblGrid>
                <a:gridCol w="1522440"/>
                <a:gridCol w="1152360"/>
                <a:gridCol w="1152720"/>
                <a:gridCol w="1079280"/>
                <a:gridCol w="1079640"/>
                <a:gridCol w="1066680"/>
                <a:gridCol w="11764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p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doc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scop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o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at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1187280" y="213372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95280" y="1484280"/>
            <a:ext cx="84614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ribution by different care providers in 12 cities (Q2-4; 2004)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0" y="1920960"/>
          <a:ext cx="9169560" cy="401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20960"/>
                    <a:ext cx="9169560" cy="40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233280" y="179280"/>
            <a:ext cx="106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349680" y="6189840"/>
            <a:ext cx="267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Courtesy: Dr L S Chauhan, NTP, In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324000" y="1098720"/>
          <a:ext cx="7848360" cy="5067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098720"/>
                    <a:ext cx="7848360" cy="50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1476360" y="2421000"/>
            <a:ext cx="6408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6560" y="1341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ncrease in TB case-detection rate following DOTS expansion (2003) and PPM-DOTS (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3280" y="179280"/>
            <a:ext cx="124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h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72240" y="6165720"/>
            <a:ext cx="157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tesy: CDC 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88612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921440" cy="4464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32560" y="250920"/>
            <a:ext cx="194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done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062040" y="6189840"/>
            <a:ext cx="30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tesy: Dr Jan Voskens, KNCV, Indon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1258920" y="1916280"/>
          <a:ext cx="748980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916280"/>
                    <a:ext cx="748980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533520" y="14130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ffect on case detection trend in PPMD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696080" y="2209680"/>
            <a:ext cx="1295640" cy="161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6600"/>
                </a:solidFill>
                <a:latin typeface="Verdana"/>
                <a:ea typeface="Times New Roman"/>
              </a:rPr>
              <a:t>Publ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6600"/>
                </a:solidFill>
                <a:latin typeface="Verdana"/>
                <a:ea typeface="Times New Roman"/>
              </a:rPr>
              <a:t>+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6600"/>
                </a:solidFill>
                <a:latin typeface="Verdana"/>
                <a:ea typeface="Times New Roman"/>
              </a:rPr>
              <a:t>PP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Pub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4648320" y="2362320"/>
            <a:ext cx="1066680" cy="914400"/>
          </a:xfrm>
          <a:prstGeom prst="line">
            <a:avLst/>
          </a:prstGeom>
          <a:ln w="41400">
            <a:solidFill>
              <a:srgbClr val="0066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050920" y="335772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53.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2767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52.7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427640" y="342900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53.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10080" y="2971800"/>
            <a:ext cx="106704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63.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943600" y="2057400"/>
            <a:ext cx="106668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  <a:ea typeface="Times New Roman"/>
              </a:rPr>
              <a:t>71.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05280" y="250920"/>
            <a:ext cx="21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hilipp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84720" y="6165720"/>
            <a:ext cx="28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tesy: Dr R Vianzon, NTP, 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900000" y="1557360"/>
          <a:ext cx="7993080" cy="446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557360"/>
                    <a:ext cx="799308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232920" y="250920"/>
            <a:ext cx="232488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anglade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ural P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217840" y="6165720"/>
            <a:ext cx="362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tesy: Dr Salim, Damien Foundation, Banglades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2767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PM in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6868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ha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GFATM) – PPM in place in Accra and Kumasi cities. 26% of TB cases being notified are diagnosed by the private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ny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(WHO-AFRO) – Scaling up an ongoing project which has treated over 4000 patients with satisfactory outcomes. Treatment success in 2003 cohorts 7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iger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GLRA, FIDELIS) – One ongoing pilot supported by GLR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 pilots in one state each supported by FIDE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gand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HO-AFRO) – Assessment under w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ublic of South Afric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HO-AFRO) – Pilot in progress in Sow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thiop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HO-AFRO) – Preparation under w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372360" y="6093000"/>
            <a:ext cx="255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Courtesy: D. Kibuga, WHO/AFR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4360" y="148428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o bears the co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276200" y="1778040"/>
          <a:ext cx="7207560" cy="441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6200" y="1778040"/>
                    <a:ext cx="7207560" cy="44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6335640" y="609300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urtesy: Katherine Floyd, WHO/S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03120" y="179280"/>
            <a:ext cx="216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cono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950160" y="2349360"/>
            <a:ext cx="44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1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510160" y="314172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1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68720" y="328464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1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57440" y="335772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cio-economic Profile of Patients LSU PPMD Center,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ippines, May 2002-September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1547640" y="2205000"/>
          <a:ext cx="6264360" cy="327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205000"/>
                    <a:ext cx="6264360" cy="32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6781680" y="3962520"/>
            <a:ext cx="115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= 3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26920" y="5300640"/>
            <a:ext cx="7788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gt;30, 000/ mo        15,000-30,000/m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,000-15,000/mo    &lt;5,000/mo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40$/mo                270-540$/mo                  90-270$/mo           &lt;90$/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nthly Family Inc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24000" y="6165720"/>
            <a:ext cx="849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*Based on 2002 Poverty threshold per capita per year 11,906/12 x 5  (average family siz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624720" y="6021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Courtesy: Charles Yu, Phil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04560" y="250920"/>
            <a:ext cx="13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qu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ublic-Private Mix</a:t>
            </a:r>
            <a:br>
              <a:rPr sz="44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(Building local partnerships to ensure quality TB care for all who need it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365360"/>
            <a:ext cx="6400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ecretariat, Subgroup on PPM for DOTS Expan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erabad: since 19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B Bangladesh: since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pal: since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ya: since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al projects in India and Philippines running for 2-5 yea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ustain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286000" y="1523880"/>
            <a:ext cx="3886200" cy="892800"/>
          </a:xfrm>
          <a:prstGeom prst="rect">
            <a:avLst/>
          </a:prstGeom>
          <a:solidFill>
            <a:srgbClr val="cc3300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Century Gothic"/>
              </a:rPr>
              <a:t>NT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 u="sng">
                <a:solidFill>
                  <a:srgbClr val="ffccff"/>
                </a:solidFill>
                <a:uFillTx/>
                <a:latin typeface="Century Gothic"/>
              </a:rPr>
              <a:t>Ste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66880" y="3352680"/>
            <a:ext cx="3048120" cy="716760"/>
          </a:xfrm>
          <a:prstGeom prst="rect">
            <a:avLst/>
          </a:prstGeom>
          <a:solidFill>
            <a:srgbClr val="ffffcc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entury Gothic"/>
              </a:rPr>
              <a:t>PPM DOTS Agency</a:t>
            </a:r>
            <a:r>
              <a:rPr b="0" lang="sv-SE" sz="2400" spc="-1" strike="noStrike">
                <a:solidFill>
                  <a:srgbClr val="333399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90033"/>
                </a:solidFill>
                <a:latin typeface="Century Gothic"/>
              </a:rPr>
              <a:t>Public, Private, N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685800" cy="39888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entury Gothic"/>
              </a:rPr>
              <a:t>P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362320" y="5181480"/>
            <a:ext cx="685800" cy="30708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Century Gothic"/>
              </a:rPr>
              <a:t>P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581280" y="5181480"/>
            <a:ext cx="762120" cy="5205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entury Gothic"/>
              </a:rPr>
              <a:t>P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876920" y="5181480"/>
            <a:ext cx="685800" cy="39888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entury Gothic"/>
              </a:rPr>
              <a:t>P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019920" y="5181480"/>
            <a:ext cx="914400" cy="5205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entury Gothic"/>
              </a:rPr>
              <a:t>P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315200" y="5181480"/>
            <a:ext cx="685800" cy="39888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entury Gothic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1523880" y="4419720"/>
            <a:ext cx="152424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2819160" y="4419720"/>
            <a:ext cx="68580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441972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724280" y="4419720"/>
            <a:ext cx="38124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334120" y="4495680"/>
            <a:ext cx="761760" cy="5335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867280" y="4419720"/>
            <a:ext cx="137160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33520" y="434340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entury Gothic"/>
              </a:rPr>
              <a:t>Agre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284720" y="2492280"/>
            <a:ext cx="0" cy="865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940360" y="2924280"/>
            <a:ext cx="2438640" cy="337680"/>
          </a:xfrm>
          <a:prstGeom prst="rect">
            <a:avLst/>
          </a:prstGeom>
          <a:solidFill>
            <a:srgbClr val="ffcc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333399"/>
                </a:solidFill>
                <a:latin typeface="Century Gothic"/>
              </a:rPr>
              <a:t>Co-ord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00360" y="2852640"/>
            <a:ext cx="8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M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28600" y="2819520"/>
            <a:ext cx="1447920" cy="337680"/>
          </a:xfrm>
          <a:prstGeom prst="rect">
            <a:avLst/>
          </a:prstGeom>
          <a:solidFill>
            <a:srgbClr val="ff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QC, S&amp;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752480" y="3048120"/>
            <a:ext cx="8384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219320" y="327672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914400" y="6019920"/>
            <a:ext cx="701028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41240" y="6056280"/>
            <a:ext cx="73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Century Gothic"/>
              </a:rPr>
              <a:t>Equity in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484360" y="4581360"/>
            <a:ext cx="3382920" cy="580680"/>
          </a:xfrm>
          <a:prstGeom prst="rect">
            <a:avLst/>
          </a:prstGeom>
          <a:solidFill>
            <a:srgbClr val="fee4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 Unicode MS"/>
                <a:ea typeface="Arial Unicode MS"/>
              </a:rPr>
              <a:t>Drugs / Incentives for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484360" y="2852640"/>
            <a:ext cx="3384720" cy="580680"/>
          </a:xfrm>
          <a:prstGeom prst="rect">
            <a:avLst/>
          </a:prstGeom>
          <a:solidFill>
            <a:srgbClr val="fee4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 Unicode MS"/>
                <a:ea typeface="Arial Unicode MS"/>
              </a:rPr>
              <a:t>Contracts with financial incen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443640" y="22050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443640" y="3357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5724360" y="3716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6156360" y="2205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31480" y="179280"/>
            <a:ext cx="282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ow it work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dence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al tools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ing willingness among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bal guidelines: synthe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tional Standard of TB C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nablers to scale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scale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490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local capacity for development, coordination, supervision and monitor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k government and NTP commit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ufficient Global Push and P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global and regional resources for technical assistance and advoca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1619280" y="4653000"/>
            <a:ext cx="0" cy="43344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1619280" y="3644640"/>
            <a:ext cx="0" cy="43164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1619280" y="2565360"/>
            <a:ext cx="0" cy="43200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5 PPM Subgroup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 the profile of the Subgroup within the Stop TB Partnership and strengthen support for its activitie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PPM DOTS -- linking all care providers to National TB Programmes -- a prominent part of the Second Global Plan to Stop TB, especially to improve access to quality TB care for the poor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PPM DOTS progress regularly during STB-CB meeting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ote PPM DOTS during missions to countries and important events such as the World TB Da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ize resources to strengthen capacity for PPM at global, regional and national levels to be able assist in initiating, evaluating and scaling up PPM DO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10920" y="1773000"/>
            <a:ext cx="8281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cope and objectives of PPM D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volution and evidence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gress in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sts and equ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ablers and barriers to scaling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ommendations of the PPM Subgroup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64000" y="1341360"/>
            <a:ext cx="2232000" cy="398880"/>
          </a:xfrm>
          <a:prstGeom prst="rect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nistry of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635280" y="2349360"/>
            <a:ext cx="2232000" cy="36828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artment of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64000" y="3213000"/>
            <a:ext cx="2305080" cy="36828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P Central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08360" y="3933720"/>
            <a:ext cx="2016000" cy="368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vincial TB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51280" y="4653000"/>
            <a:ext cx="1728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rict TB Un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5640" y="5373720"/>
            <a:ext cx="151128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lth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32000" y="6165720"/>
            <a:ext cx="302436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unity Health Wo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43280" y="5734080"/>
            <a:ext cx="162000" cy="414360"/>
          </a:xfrm>
          <a:custGeom>
            <a:avLst/>
            <a:gdLst/>
            <a:ahLst/>
            <a:rect l="l" t="t" r="r" b="b"/>
            <a:pathLst>
              <a:path w="102" h="261">
                <a:moveTo>
                  <a:pt x="40" y="261"/>
                </a:moveTo>
                <a:cubicBezTo>
                  <a:pt x="37" y="253"/>
                  <a:pt x="36" y="245"/>
                  <a:pt x="32" y="237"/>
                </a:cubicBezTo>
                <a:cubicBezTo>
                  <a:pt x="28" y="229"/>
                  <a:pt x="20" y="223"/>
                  <a:pt x="16" y="214"/>
                </a:cubicBezTo>
                <a:cubicBezTo>
                  <a:pt x="9" y="199"/>
                  <a:pt x="0" y="166"/>
                  <a:pt x="0" y="166"/>
                </a:cubicBezTo>
                <a:cubicBezTo>
                  <a:pt x="11" y="135"/>
                  <a:pt x="16" y="122"/>
                  <a:pt x="48" y="111"/>
                </a:cubicBezTo>
                <a:cubicBezTo>
                  <a:pt x="64" y="114"/>
                  <a:pt x="84" y="108"/>
                  <a:pt x="95" y="119"/>
                </a:cubicBezTo>
                <a:cubicBezTo>
                  <a:pt x="102" y="126"/>
                  <a:pt x="76" y="143"/>
                  <a:pt x="71" y="135"/>
                </a:cubicBezTo>
                <a:cubicBezTo>
                  <a:pt x="59" y="114"/>
                  <a:pt x="67" y="88"/>
                  <a:pt x="63" y="64"/>
                </a:cubicBezTo>
                <a:cubicBezTo>
                  <a:pt x="60" y="42"/>
                  <a:pt x="50" y="20"/>
                  <a:pt x="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71636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716360" y="2708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16360" y="1773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23840" y="28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7840" y="476280"/>
            <a:ext cx="180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N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5013360"/>
            <a:ext cx="263520" cy="371520"/>
          </a:xfrm>
          <a:custGeom>
            <a:avLst/>
            <a:gdLst/>
            <a:ahLst/>
            <a:rect l="l" t="t" r="r" b="b"/>
            <a:pathLst>
              <a:path w="166" h="234">
                <a:moveTo>
                  <a:pt x="106" y="234"/>
                </a:moveTo>
                <a:cubicBezTo>
                  <a:pt x="136" y="196"/>
                  <a:pt x="166" y="158"/>
                  <a:pt x="151" y="143"/>
                </a:cubicBezTo>
                <a:cubicBezTo>
                  <a:pt x="136" y="128"/>
                  <a:pt x="30" y="150"/>
                  <a:pt x="15" y="143"/>
                </a:cubicBezTo>
                <a:cubicBezTo>
                  <a:pt x="0" y="136"/>
                  <a:pt x="53" y="121"/>
                  <a:pt x="61" y="98"/>
                </a:cubicBezTo>
                <a:cubicBezTo>
                  <a:pt x="69" y="75"/>
                  <a:pt x="61" y="14"/>
                  <a:pt x="61" y="7"/>
                </a:cubicBezTo>
                <a:cubicBezTo>
                  <a:pt x="61" y="0"/>
                  <a:pt x="54" y="53"/>
                  <a:pt x="61" y="5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564000" y="1341360"/>
            <a:ext cx="2232000" cy="398880"/>
          </a:xfrm>
          <a:prstGeom prst="rect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nistry of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35280" y="2349360"/>
            <a:ext cx="2232000" cy="36828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artment of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64000" y="3213000"/>
            <a:ext cx="2305080" cy="36828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P Central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708360" y="3933720"/>
            <a:ext cx="2016000" cy="368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vincial TB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35280" y="4653000"/>
            <a:ext cx="208764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rict Health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51280" y="5373720"/>
            <a:ext cx="158436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lth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32000" y="6165720"/>
            <a:ext cx="302436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unity Health Wo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786000">
            <a:off x="6085440" y="3213000"/>
            <a:ext cx="2448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chest physici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3496200">
            <a:off x="6383520" y="3894120"/>
            <a:ext cx="1297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G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20619600">
            <a:off x="5362920" y="4941720"/>
            <a:ext cx="3456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authorised medical practitio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360600">
            <a:off x="7201080" y="6308280"/>
            <a:ext cx="1942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ditional hea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80000" y="4365720"/>
            <a:ext cx="1440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Local N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0247400">
            <a:off x="5725440" y="2133000"/>
            <a:ext cx="172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Hos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1226200">
            <a:off x="6226920" y="2492280"/>
            <a:ext cx="2519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porate health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792000">
            <a:off x="6733440" y="1700280"/>
            <a:ext cx="1800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tional N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451640" y="5373720"/>
            <a:ext cx="1295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Pharma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20805000">
            <a:off x="6010920" y="5949720"/>
            <a:ext cx="1942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ps and vend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43280" y="5734080"/>
            <a:ext cx="162000" cy="414360"/>
          </a:xfrm>
          <a:custGeom>
            <a:avLst/>
            <a:gdLst/>
            <a:ahLst/>
            <a:rect l="l" t="t" r="r" b="b"/>
            <a:pathLst>
              <a:path w="102" h="261">
                <a:moveTo>
                  <a:pt x="40" y="261"/>
                </a:moveTo>
                <a:cubicBezTo>
                  <a:pt x="37" y="253"/>
                  <a:pt x="36" y="245"/>
                  <a:pt x="32" y="237"/>
                </a:cubicBezTo>
                <a:cubicBezTo>
                  <a:pt x="28" y="229"/>
                  <a:pt x="20" y="223"/>
                  <a:pt x="16" y="214"/>
                </a:cubicBezTo>
                <a:cubicBezTo>
                  <a:pt x="9" y="199"/>
                  <a:pt x="0" y="166"/>
                  <a:pt x="0" y="166"/>
                </a:cubicBezTo>
                <a:cubicBezTo>
                  <a:pt x="11" y="135"/>
                  <a:pt x="16" y="122"/>
                  <a:pt x="48" y="111"/>
                </a:cubicBezTo>
                <a:cubicBezTo>
                  <a:pt x="64" y="114"/>
                  <a:pt x="84" y="108"/>
                  <a:pt x="95" y="119"/>
                </a:cubicBezTo>
                <a:cubicBezTo>
                  <a:pt x="102" y="126"/>
                  <a:pt x="76" y="143"/>
                  <a:pt x="71" y="135"/>
                </a:cubicBezTo>
                <a:cubicBezTo>
                  <a:pt x="59" y="114"/>
                  <a:pt x="67" y="88"/>
                  <a:pt x="63" y="64"/>
                </a:cubicBezTo>
                <a:cubicBezTo>
                  <a:pt x="60" y="42"/>
                  <a:pt x="50" y="20"/>
                  <a:pt x="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5013360"/>
            <a:ext cx="263520" cy="371520"/>
          </a:xfrm>
          <a:custGeom>
            <a:avLst/>
            <a:gdLst/>
            <a:ahLst/>
            <a:rect l="l" t="t" r="r" b="b"/>
            <a:pathLst>
              <a:path w="166" h="234">
                <a:moveTo>
                  <a:pt x="106" y="234"/>
                </a:moveTo>
                <a:cubicBezTo>
                  <a:pt x="136" y="196"/>
                  <a:pt x="166" y="158"/>
                  <a:pt x="151" y="143"/>
                </a:cubicBezTo>
                <a:cubicBezTo>
                  <a:pt x="136" y="128"/>
                  <a:pt x="30" y="150"/>
                  <a:pt x="15" y="143"/>
                </a:cubicBezTo>
                <a:cubicBezTo>
                  <a:pt x="0" y="136"/>
                  <a:pt x="53" y="121"/>
                  <a:pt x="61" y="98"/>
                </a:cubicBezTo>
                <a:cubicBezTo>
                  <a:pt x="69" y="75"/>
                  <a:pt x="61" y="14"/>
                  <a:pt x="61" y="7"/>
                </a:cubicBezTo>
                <a:cubicBezTo>
                  <a:pt x="61" y="0"/>
                  <a:pt x="54" y="53"/>
                  <a:pt x="61" y="5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71636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716360" y="2708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4716360" y="1773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23840" y="28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7840" y="404640"/>
            <a:ext cx="39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"Private" of P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16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564000" y="1341360"/>
            <a:ext cx="2232000" cy="398880"/>
          </a:xfrm>
          <a:prstGeom prst="rect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nistry of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635280" y="2349360"/>
            <a:ext cx="2232000" cy="36828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artment of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564000" y="3213000"/>
            <a:ext cx="2305080" cy="36828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P Central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708360" y="3933720"/>
            <a:ext cx="2016000" cy="368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vincial TB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51280" y="4653000"/>
            <a:ext cx="172872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rict TB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24360" y="5373720"/>
            <a:ext cx="151272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lth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59280" y="6165720"/>
            <a:ext cx="302400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unity Health Wo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786000">
            <a:off x="6085440" y="3213000"/>
            <a:ext cx="2448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chest physici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3496200">
            <a:off x="6383520" y="3894120"/>
            <a:ext cx="1297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G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20619600">
            <a:off x="5147280" y="5084640"/>
            <a:ext cx="3456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authorised Medical Practitio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360600">
            <a:off x="6877440" y="6165360"/>
            <a:ext cx="2122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ditional Hea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80000" y="4365720"/>
            <a:ext cx="1440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Local N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10247400">
            <a:off x="5726880" y="2140920"/>
            <a:ext cx="172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Hos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21226200">
            <a:off x="6226920" y="2492280"/>
            <a:ext cx="2519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porate health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792000">
            <a:off x="6733440" y="1700280"/>
            <a:ext cx="1800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tional N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451640" y="5229360"/>
            <a:ext cx="1295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Pharma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20805000">
            <a:off x="5939280" y="5733720"/>
            <a:ext cx="2059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ps and Vend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43280" y="5734080"/>
            <a:ext cx="162000" cy="414360"/>
          </a:xfrm>
          <a:custGeom>
            <a:avLst/>
            <a:gdLst/>
            <a:ahLst/>
            <a:rect l="l" t="t" r="r" b="b"/>
            <a:pathLst>
              <a:path w="102" h="261">
                <a:moveTo>
                  <a:pt x="40" y="261"/>
                </a:moveTo>
                <a:cubicBezTo>
                  <a:pt x="37" y="253"/>
                  <a:pt x="36" y="245"/>
                  <a:pt x="32" y="237"/>
                </a:cubicBezTo>
                <a:cubicBezTo>
                  <a:pt x="28" y="229"/>
                  <a:pt x="20" y="223"/>
                  <a:pt x="16" y="214"/>
                </a:cubicBezTo>
                <a:cubicBezTo>
                  <a:pt x="9" y="199"/>
                  <a:pt x="0" y="166"/>
                  <a:pt x="0" y="166"/>
                </a:cubicBezTo>
                <a:cubicBezTo>
                  <a:pt x="11" y="135"/>
                  <a:pt x="16" y="122"/>
                  <a:pt x="48" y="111"/>
                </a:cubicBezTo>
                <a:cubicBezTo>
                  <a:pt x="64" y="114"/>
                  <a:pt x="84" y="108"/>
                  <a:pt x="95" y="119"/>
                </a:cubicBezTo>
                <a:cubicBezTo>
                  <a:pt x="102" y="126"/>
                  <a:pt x="76" y="143"/>
                  <a:pt x="71" y="135"/>
                </a:cubicBezTo>
                <a:cubicBezTo>
                  <a:pt x="59" y="114"/>
                  <a:pt x="67" y="88"/>
                  <a:pt x="63" y="64"/>
                </a:cubicBezTo>
                <a:cubicBezTo>
                  <a:pt x="60" y="42"/>
                  <a:pt x="50" y="20"/>
                  <a:pt x="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5013360"/>
            <a:ext cx="263520" cy="371520"/>
          </a:xfrm>
          <a:custGeom>
            <a:avLst/>
            <a:gdLst/>
            <a:ahLst/>
            <a:rect l="l" t="t" r="r" b="b"/>
            <a:pathLst>
              <a:path w="166" h="234">
                <a:moveTo>
                  <a:pt x="106" y="234"/>
                </a:moveTo>
                <a:cubicBezTo>
                  <a:pt x="136" y="196"/>
                  <a:pt x="166" y="158"/>
                  <a:pt x="151" y="143"/>
                </a:cubicBezTo>
                <a:cubicBezTo>
                  <a:pt x="136" y="128"/>
                  <a:pt x="30" y="150"/>
                  <a:pt x="15" y="143"/>
                </a:cubicBezTo>
                <a:cubicBezTo>
                  <a:pt x="0" y="136"/>
                  <a:pt x="53" y="121"/>
                  <a:pt x="61" y="98"/>
                </a:cubicBezTo>
                <a:cubicBezTo>
                  <a:pt x="69" y="75"/>
                  <a:pt x="61" y="14"/>
                  <a:pt x="61" y="7"/>
                </a:cubicBezTo>
                <a:cubicBezTo>
                  <a:pt x="61" y="0"/>
                  <a:pt x="54" y="53"/>
                  <a:pt x="61" y="5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71636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4716360" y="2708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4716360" y="1773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23840" y="28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9444200">
            <a:off x="176400" y="3069360"/>
            <a:ext cx="1944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rkers' Health Insurance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59120" y="1506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637400">
            <a:off x="1698480" y="177372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16200" y="4170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2688000">
            <a:off x="1621800" y="5014440"/>
            <a:ext cx="172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ice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3120" y="51786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8008200">
            <a:off x="874080" y="6056640"/>
            <a:ext cx="172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my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3120" y="4170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20393400">
            <a:off x="574920" y="4070520"/>
            <a:ext cx="1944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ilway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7480" y="2154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1815600">
            <a:off x="463680" y="1940400"/>
            <a:ext cx="2656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cal College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-92160" y="53229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3840" y="55389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3120" y="53229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20393400">
            <a:off x="-1080" y="5157720"/>
            <a:ext cx="1944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son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9120" y="404640"/>
            <a:ext cx="383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"Public" of P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716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564000" y="1341360"/>
            <a:ext cx="2232000" cy="398880"/>
          </a:xfrm>
          <a:prstGeom prst="rect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nistry of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35280" y="2349360"/>
            <a:ext cx="2232000" cy="36828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artment of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64000" y="3213000"/>
            <a:ext cx="2305080" cy="36828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P Central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08360" y="3933720"/>
            <a:ext cx="2016000" cy="368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vincial TB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51280" y="4653000"/>
            <a:ext cx="1728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rict TB Un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24360" y="5373720"/>
            <a:ext cx="151128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lth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132000" y="6165720"/>
            <a:ext cx="302436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unity Health Wo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71636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4716360" y="2708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4716360" y="1773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023840" y="28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47840" y="476280"/>
            <a:ext cx="180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227640" y="4800960"/>
            <a:ext cx="1944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All Private Provid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16000" y="4894560"/>
            <a:ext cx="18716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All Public Provid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43280" y="450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16360" y="4365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16360" y="5084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16360" y="5734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1979640" y="4149720"/>
            <a:ext cx="10080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79640" y="522936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987640" y="5084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5795640" y="5013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6084360" y="4149360"/>
            <a:ext cx="1079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6084720" y="5084640"/>
            <a:ext cx="115128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48974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ives of PPM D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50752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case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 treatment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 access and eq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financial burden on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250560" y="1989000"/>
            <a:ext cx="88930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9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Global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0:  Learning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1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Global consul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2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Regional and National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3:  Economic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4:  Multiple initiatives; Analysis of succes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5:  Early scale up</a:t>
            </a: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7640" y="250920"/>
            <a:ext cx="185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30T14:57:48Z</dcterms:created>
  <dc:creator>Uplekar</dc:creator>
  <dc:description/>
  <dc:language>en-US</dc:language>
  <cp:lastModifiedBy>Uplekar</cp:lastModifiedBy>
  <dcterms:modified xsi:type="dcterms:W3CDTF">2005-05-03T04:24:46Z</dcterms:modified>
  <cp:revision>2</cp:revision>
  <dc:subject/>
  <dc:title>Public-Private Mix (Engaging all care providers to Stop TB) </dc:title>
</cp:coreProperties>
</file>