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1454DA-2CEB-46BB-BDEB-5993166F45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68920" y="351936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Philip Hope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58896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62532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International Standards for Tuberculosis Care for All 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3040" y="888840"/>
            <a:ext cx="4635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Meaning of Endorseme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Full support of document by the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articipate in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ut society’s logo on the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?? Willing to provide assistance in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influential inter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inter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members o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tion by donor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Country-leve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/dissemination by NT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/dissemination by 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by professional sch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Gener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eneric formats and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520" y="1495440"/>
            <a:ext cx="8488440" cy="52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4000" spc="-1" strike="noStrike">
                <a:solidFill>
                  <a:srgbClr val="001950"/>
                </a:solidFill>
                <a:latin typeface="Arial"/>
                <a:ea typeface="Arial Unicode MS"/>
              </a:rPr>
              <a:t>Time line for Endors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Jun-Nov 2005: TBCTA Organizations, Stop TB C.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ec- Mar 06: Int’l professional societies, Int’l NGOs, pati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ar 24, World TB Day: Official la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Apr- and beyond: Country level endo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8240" y="1231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231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9840" y="1514160"/>
            <a:ext cx="8088120" cy="52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patients of all ages, smear positive and negative, extra-pulmonary, MDR, TB/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20880" y="12891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2891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(including children extra-pulmonary, and persons with radiographic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5520" y="196200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680" y="2021040"/>
          <a:ext cx="4294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021040"/>
                    <a:ext cx="4294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73000" y="1461960"/>
          <a:ext cx="7747200" cy="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146196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2600" y="1371240"/>
            <a:ext cx="790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x ray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7800" y="2633760"/>
            <a:ext cx="4361040" cy="380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21120" y="2619360"/>
            <a:ext cx="3997440" cy="385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39960" y="1212840"/>
          <a:ext cx="7746840" cy="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212840"/>
                    <a:ext cx="774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051520" y="6561000"/>
            <a:ext cx="38606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0760" y="145728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- RIF in initial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this includes measures to assess compliance and address poor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39960" y="134604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34604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Tuberculosis Consortium for Technical Assistance (TBCT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1200" y="1657080"/>
            <a:ext cx="76197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Tuberculosis Foundation (KNC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Union Against Tuberculosis and Lung Disease (IUAT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ters for Disease Control and Prevention (C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Thoracic Society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52520" y="1584360"/>
          <a:ext cx="6362640" cy="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584360"/>
                    <a:ext cx="6362640" cy="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Treat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638360"/>
            <a:ext cx="3809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individualized  approach to treatment should be developed for all patients. A central element is the use of measures to assess adherence and to address poor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1770120"/>
            <a:ext cx="3924360" cy="427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844560" y="12477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247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520" y="361800"/>
            <a:ext cx="867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29160" y="1981080"/>
            <a:ext cx="34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816200"/>
            <a:ext cx="4552920" cy="44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88840" y="14241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8840" y="14241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are intended to describe a widely accepted level of care, that all practitioners, public and private, should follow in dealing with patients who have or are suspected of having tubercul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se standards provide a platform on which tuberculosis care can be b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will serve as a companion to the Patient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87320" y="115236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5236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520" y="217440"/>
            <a:ext cx="8593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Purpose of the IS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ISTC: Development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981080"/>
            <a:ext cx="7810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Funded (Oct 1, 2004) by USAID / TB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chairs: Mario Raviglione (WHO) and Phil Hopewell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Evidence-based with commissioned systematic revie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98400" y="182232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82232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Steering Committ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Selected to provide perspectives, not repres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rspective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ursing                             Technic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diatrics                          MDR 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                            TB/H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edical Students              Labora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TPs                                  Academic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GOs                                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rofessional Societies   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 Development Proces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7431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Strategic and Technical Advisory Group in June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regional and country advisors meeting in Ju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“Megameeting” (3 implementation WGs) in Versailles in October and to special session of the Union at the annual con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ndorsed by KNCV, ATS, WHO, the Union and CDC (all TBCTA organizatio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Next Ste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November 1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Seek endors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Broad dissemination, implementation,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Questions to be addresse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Format (or country-specific forma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Exact (country specific) uses of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ublication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ilot study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Monitoring and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: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Objectives of the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9840" y="1418760"/>
            <a:ext cx="808812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endorsement by the Coordinating 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process for endorsement and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ways to implement and evaluate the ISTC at country le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92280" y="11937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193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phopewell</cp:lastModifiedBy>
  <cp:lastPrinted>2003-04-10T14:23:01Z</cp:lastPrinted>
  <dcterms:modified xsi:type="dcterms:W3CDTF">2005-11-02T21:25:44Z</dcterms:modified>
  <cp:revision>458</cp:revision>
  <dc:subject/>
  <dc:title>Progress in Global Tuberculosis Control 1995-97</dc:title>
</cp:coreProperties>
</file>