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1CE4B-2EFE-44BE-BBB8-74A6A973A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224E5-D946-4257-9E4F-8698493B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68B84-71D4-46C1-9C7F-8AAE02193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7B73D-D03E-4E84-AB54-72A7EF660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7764-C2D2-4D89-AB00-CB39D790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EAB6-5D97-4412-95F6-1F2F7EBF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59CF-B529-442B-A968-DA3EA7A3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3FB7-EB13-4F66-A1FF-BEE35752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06FE-E66F-4B58-A0C3-A4A3F0CE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7D75-7DDC-439A-A1A0-51380D97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9CE7-6B78-4932-8340-3C27139B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ECCE1-F8DB-44B5-A35D-A780636F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8A1C-E7EB-419B-9955-FB58DE76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A4B3-A142-4439-81DB-0090EB33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61BB-C852-4D5D-A0A2-483CB2C1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0BDC-73F3-48BC-9A1E-A9B78BFC9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A623-F07A-4765-A29C-83F230A0B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5DFFA-A676-4428-A1EB-D0B3664E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B9CCE-C149-469E-BB4B-A0EE5C27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FC12D-286E-42FE-B146-96A0B95D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BB3EF-4D04-4FA9-940D-C086F774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885FF-AD39-487E-8CC8-A86106E2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62D8A-5B21-44FC-A5B1-96DC3BF6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149FB-153B-430E-868A-11E206F1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AF4D-FA8E-4550-9436-D00B8CFA37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CEF2-BB18-480B-8DD5-3424C8F3FE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640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UNFUNDED NEEDS 2006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Garamond"/>
              </a:rPr>
              <a:t>NPT-DR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Garamond"/>
              </a:rPr>
              <a:t>ASSISI ITALY 10-11 Nov 0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Garamond"/>
              </a:rPr>
              <a:t>Ministère de la santé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DEFICITS PAR ACTIVITES EN DETAILS (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9640" y="1700280"/>
          <a:ext cx="8229600" cy="4824000"/>
        </p:xfrm>
        <a:graphic>
          <a:graphicData uri="http://schemas.openxmlformats.org/drawingml/2006/table">
            <a:tbl>
              <a:tblPr/>
              <a:tblGrid>
                <a:gridCol w="6264360"/>
                <a:gridCol w="196524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timents, équipements (véhicules, labo/bureau, et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Équipement des bureaux (cplt et unité central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28 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réhabilitations dépôt médicament cplt (22 CPL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2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Réhabilitation CDV de quelques Csdt (100 CSD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00 000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Transport  médicaments à l’intérieur du pays, et carbura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62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rm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40 000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Supports d'inform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48 6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DEFICITS COMPLEMETAIRES AU BUDGET 2006 en $us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68360" y="1989000"/>
          <a:ext cx="8218080" cy="3670920"/>
        </p:xfrm>
        <a:graphic>
          <a:graphicData uri="http://schemas.openxmlformats.org/drawingml/2006/table">
            <a:tbl>
              <a:tblPr/>
              <a:tblGrid>
                <a:gridCol w="6313680"/>
                <a:gridCol w="1904400"/>
              </a:tblGrid>
              <a:tr h="16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ûts des ARV pour 2006</a:t>
                      </a: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(soumis dans la composante </a:t>
                      </a: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"</a:t>
                      </a:r>
                      <a:r>
                        <a:rPr b="1" lang="fr-FR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Vih-Sida ;</a:t>
                      </a: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n'a pas été acceptée par le </a:t>
                      </a:r>
                      <a:r>
                        <a:rPr b="1" lang="fr-FR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nd mondia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319 1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pplémen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laire du personnel de la périphéri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pour 2006 (soumis dans la composante 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"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appui aux structures des soins",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n'a pas été acceptée par le Fond mondial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Garamond"/>
              </a:rPr>
              <a:t>RDC: GENERALITES / DRC: 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314360"/>
            <a:ext cx="449568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SUPERFICIE/SIZE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2.345.000 km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POPULATION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: 58.000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&lt; 20 ans: 57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PIB/GDP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en $ 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358 (’58), 100 (’85), 74 (‘0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IDH/HDI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: 0,3655 (‘04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EMPLOI/EMPLOYMENT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26 % (‘98)  7 % (‘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REVENUS/INCOME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0,30 $ us/J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MALNUTR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10 % (‘95)  16 % (’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18000" y="1295280"/>
            <a:ext cx="462600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77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ORGANIZATION DE LA SANTE / HEALTH SYSTEM ORGANIZ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1600200"/>
            <a:ext cx="4773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Budget annuel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/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Annual health budget: </a:t>
            </a:r>
            <a:r>
              <a:rPr b="1" lang="fr-FR" sz="2400" spc="-1" strike="noStrike">
                <a:solidFill>
                  <a:srgbClr val="ffffff"/>
                </a:solidFill>
                <a:latin typeface="Garamond"/>
              </a:rPr>
              <a:t>&lt; de 2% de 1000.000.000 $ U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Politique de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 soins de santé primaires/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Health policy: primary health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515 zones de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 1/2 non fonctionnel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515 health zones: 1/2 non-func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11 provinces, 20 CPLT, 991 CSDT (75% po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11 provinces, 20 CPLT, 991 TTC (75% po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788000" y="1700280"/>
          <a:ext cx="435600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700280"/>
                    <a:ext cx="4356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e5e5ff"/>
                </a:solidFill>
                <a:latin typeface="Garamond"/>
              </a:rPr>
              <a:t>Five years plan budget 2006-20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TOTAL: 112.565.788 U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Received from GF: 36 M out of 43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Year 1 needs: 25 M and 5 M unfundeed pl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3.319.123 USD for 41.000 coinfected patients ARV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1.000.000 USD for the support of basic health care system (personnel motivation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8000" y="122400"/>
            <a:ext cx="8856720" cy="654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216000" y="216000"/>
          <a:ext cx="9144000" cy="6807240"/>
        </p:xfrm>
        <a:graphic>
          <a:graphicData uri="http://schemas.openxmlformats.org/drawingml/2006/table">
            <a:tbl>
              <a:tblPr/>
              <a:tblGrid>
                <a:gridCol w="2916000"/>
                <a:gridCol w="62280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ffff00"/>
                          </a:solidFill>
                          <a:latin typeface="Century Gothic"/>
                        </a:rPr>
                        <a:t>PARTENAIRES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ffff00"/>
                          </a:solidFill>
                          <a:latin typeface="Century Gothic"/>
                        </a:rPr>
                        <a:t>TYPE DE PARTENARIAT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(list institution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. GLOBAL FUN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ailleur du PNT (Uni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Centrale et CPLT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. USAI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ailleur Uni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Centrale &amp; CPL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: KOC, KOR, EQN, POE, MANIEMA, SANKUR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. GDF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rovisionnement en m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icaments (2/3 des besoins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4. CDC-ATLA. (UNC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RECHERCHE OPERATIONNEL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. UICTM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. OM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7. LNAC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 (MOSO) et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2 CPL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: KOC, KO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8. Fondation Damie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10 CPL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9. TLMI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7 CPL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0. ALM, FOPERDA, UB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3 CPLT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95400" y="6464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903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UDGET ANNONCE PAR PARTENAIRES POUR 2006 en $USA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50920" y="1197000"/>
          <a:ext cx="8640720" cy="5322960"/>
        </p:xfrm>
        <a:graphic>
          <a:graphicData uri="http://schemas.openxmlformats.org/drawingml/2006/table">
            <a:tbl>
              <a:tblPr/>
              <a:tblGrid>
                <a:gridCol w="2808360"/>
                <a:gridCol w="1023840"/>
                <a:gridCol w="1000080"/>
                <a:gridCol w="330480"/>
                <a:gridCol w="669960"/>
                <a:gridCol w="922320"/>
                <a:gridCol w="877680"/>
                <a:gridCol w="1008000"/>
              </a:tblGrid>
              <a:tr h="11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ES OU RUBRIQUES DE DEPEN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dget 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uverne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ê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tenai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mobiliser (c+d+e+f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ter à mobiliser pour 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1ère lig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777 3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708 0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9 3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777 3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2ème lig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5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0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5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54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69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94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 667 4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4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8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 2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123 7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29 0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859 0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âtiments, équipements (véhicules, labo/bureau, etc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996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01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796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047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758 6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5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835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8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 325 6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3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 206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 899 8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 135 9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189 7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EFICIT BUDGETAIRE PAR RUBRIQUES DE DEPENSE 2006 en $Us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8435880" cy="4987800"/>
        </p:xfrm>
        <a:graphic>
          <a:graphicData uri="http://schemas.openxmlformats.org/drawingml/2006/table">
            <a:tbl>
              <a:tblPr/>
              <a:tblGrid>
                <a:gridCol w="6059520"/>
                <a:gridCol w="237636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1ère lig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2ème lig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timents, équipements (véhicules, labo/bureau, etc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189 7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96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DEFICITS PAR ACTIVITES EN DETAILS (1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50920" y="1413000"/>
          <a:ext cx="8893080" cy="5360760"/>
        </p:xfrm>
        <a:graphic>
          <a:graphicData uri="http://schemas.openxmlformats.org/drawingml/2006/table">
            <a:tbl>
              <a:tblPr/>
              <a:tblGrid>
                <a:gridCol w="6708600"/>
                <a:gridCol w="21844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Niveau nati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Niveau intermédiaire CPL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4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Incitatives et motivations pour fournisseurs des soins membres de la communaut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80 9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du personnel supplémentaires aux csd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986 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partiels médecins cpl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4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Infirmiers cplt des grands  CSDT avec CDV (&gt; de 200 nc tb /an)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rmer et recycler les prestataires des soins (médecins, laborantins, infirmiers) pour la prise e charge de la coinfec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47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2:53:50Z</dcterms:created>
  <dc:creator>Etienne Bahati </dc:creator>
  <dc:description/>
  <dc:language>en-US</dc:language>
  <cp:lastModifiedBy>SG</cp:lastModifiedBy>
  <dcterms:modified xsi:type="dcterms:W3CDTF">2005-11-10T06:27:56Z</dcterms:modified>
  <cp:revision>13</cp:revision>
  <dc:subject/>
  <dc:title>DEFICIT BUDGETAIRE 2006</dc:title>
</cp:coreProperties>
</file>