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1047-3448-4D3D-99AA-CEB38130B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818F-2B90-46F7-9BCA-C12F150E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C05A-AB98-4F1E-B2C3-EA9498F0E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A51B-5FD6-4ED4-A134-C4A02D588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4EF99-2641-4210-A8EE-E7A24543C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3436-04B4-4F5E-B518-2DA8824E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A30A-C6ED-4E05-A8D5-8385D427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4425-4824-42AB-84AC-6AED00C0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BA78-7FBD-497C-A890-B30A0495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9E9A-6A91-45BC-8DDD-F8706EDA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755D-CB96-4F34-9D04-429B2D2B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122D-D6F8-43D1-8AEE-EC298EE5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C20A-171E-4DF8-B1E2-BFE182A6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A303-6BAA-497E-9244-0D078D52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7018-FB51-41B6-AC70-522D3ED7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2E29-C949-4BD1-B5A3-81CEE44F0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BE4D-A568-4B32-85BB-7A159C3DD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CC5C-4663-46A6-A3C8-47233827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F0A2-5C9C-4E73-8A66-C010FF5D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347D-3147-4405-9431-095217B6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64A8-0D66-4D72-909F-B54639AB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B881-8513-42ED-AEBD-128F9E3A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62CF-7EFD-42C0-A443-36FF6E15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F3DB-EE80-4595-BEF0-D79C2EC6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B5FC-5A70-49A6-8228-8258734E50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651F-8068-4F54-A2A5-9F0FECF95E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Stop TB Partnership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KOCHON AWA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005 Establishment of an Annual Stop TB Partnership/Kochon Foundation Pr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$ 100 000 to cover the prize and associated costs (travel et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Kochon Found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roduction to the Foundation by representatives of Koch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gree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stablish Selection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lace Call for Nom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noun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ward Ceremo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RITE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mitment to fighting 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riginality of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mpact on TB Control or commun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ffect of a Partnership/Kochon Award on the work of the recipi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NOMINATING COMMITT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 Board Member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ochon Foun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vember 2005: Establish Selection Committee (3 Board Members + WHO + Koch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cember 2005: Call for Nom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ebruary 2006: Deadline for no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rch 2006: Prize Awar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te 2006: Award Ceremo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5:26:09Z</dcterms:created>
  <dc:creator>bakerl</dc:creator>
  <dc:description/>
  <dc:language>en-US</dc:language>
  <cp:lastModifiedBy>bakerl</cp:lastModifiedBy>
  <dcterms:modified xsi:type="dcterms:W3CDTF">2005-11-09T16:35:54Z</dcterms:modified>
  <cp:revision>2</cp:revision>
  <dc:subject/>
  <dc:title>Stop TB Partnership </dc:title>
</cp:coreProperties>
</file>