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CDD-3434-492A-BFB4-F48254A6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05CD-D6F0-436C-B3E5-E387FA7F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092-CF3F-41C2-8758-0CBAF1BE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B7B0-1C93-4145-A08A-63EEC17F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03DC-6B7B-4D23-9BA9-48C338FB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70EF-F420-4ABE-B01E-5E566C34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97DD-3138-4D3E-8135-8DF6AE88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4885-E256-47FA-8C3C-31AEDDA3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7E14-7301-47D2-B62A-074AA1C2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3817-730A-465C-A4D2-21752495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CF10-8EAC-4B02-B263-9E160EA7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2253-7A87-4F82-AF64-62F00DB8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4004-19EF-4276-B5C6-8C15E9E8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0BD4-ABBB-4C0E-B021-1BC3AF31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5D8C-F302-40E1-A332-B66EDE3B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1910-AEC7-4104-A46F-01A2C6D9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7194-725A-49D1-A417-AE4ABA44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E79-68F0-43E4-8A3F-7C1518FA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06A-E886-4CE0-801F-407ED5A2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D1C0-2987-4611-8517-6EFEB453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932-A645-4257-8211-10397EAD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B0E4-B005-425E-9B23-12042295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25A-8518-448B-ACDE-2405B569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C79-4640-498A-9226-3B445D79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F72D-B69B-43B4-9311-0340C3AA577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0113-9BF7-41C3-AC50-4F5422E19CF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1280" y="1628640"/>
            <a:ext cx="896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GLOBAL PLAN: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COST OF GLOBAL TB CONTRO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ordinating Board Meeting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 November,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Financing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implica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Plan to be used for resource mobilis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national govern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65280" y="905040"/>
            <a:ext cx="422460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sentation o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obal Plan to Stop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080" y="1413000"/>
            <a:ext cx="86756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Outline of presentation o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ackground: the planned 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os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messag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Financing implic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en years' planned achievements: highligh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50 million people treated for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Stop TB Partnership targets for 2015 achieved global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remendous progress in all reg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First new TB drug for 40 years in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Diagnostics at point of care – rapid, sensitive and inexpensive TB diagnosis by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New, safe, effective and affordable vaccine by 201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Global Plan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Country needs, R &amp;D, external agenc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nvestment according to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Available funding and g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569080" cy="512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7138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96472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Key messag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A global plan for a global campaig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$56 billion investment yields large rewards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50 million TB patients trea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Need to collaborate with others to succe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The ultimate goal depends on continued innovation (in vaccines, drugs and diagnostic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We can get there! PLAN X RESOURCES = RESULT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maherd</cp:lastModifiedBy>
  <dcterms:modified xsi:type="dcterms:W3CDTF">2005-11-08T16:48:53Z</dcterms:modified>
  <cp:revision>146</cp:revision>
  <dc:subject/>
  <dc:title>Slide 1</dc:title>
</cp:coreProperties>
</file>