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582C-01F3-404C-AC00-1E84ECE11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64C5-5AB8-4006-B1F2-24C00BA08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FDA4-B177-416D-8418-FECCD452D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FDEA-471E-4F6E-81DC-3CF78127F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4FF8-FB37-4EC9-9796-E7732BDA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3FB7-8201-4F61-8CBC-757E24649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E2EC-CA68-4DB7-8D44-8D27AA5E1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2127-9009-4809-8A11-2DE50699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D5F2-F5F7-4990-AA62-29D2A1EC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DB68-DD24-4588-BDCB-BE3FC102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7DAB-27DC-460F-94AF-218AA5F7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AF77-E700-4718-98E0-AA2709DA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75CC-DF0C-4525-8997-60D58566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FC4A-7AE5-4573-B1C5-CA4A8630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E1B8-BD79-4C4D-AD54-A712EEA0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F31B-C42D-4BB5-BB44-ABFC03FA1B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66680" y="762120"/>
            <a:ext cx="7086600" cy="29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TB Control in Georg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Achievements and Challeng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Levan Juge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ff"/>
                </a:solidFill>
                <a:latin typeface="Times New Roman"/>
              </a:rPr>
              <a:t>Deputy Minister of Labour, Health and Social Affairs of Georg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9880" y="4038480"/>
            <a:ext cx="1676520" cy="1138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058480" y="5670720"/>
            <a:ext cx="51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Stop TB Coordinating Board Me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10-11 November 2005, Assisi, Ita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62120" y="2286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Case detection and diagnos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676520"/>
            <a:ext cx="822960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ioritization of Sputum Smear Microscopy for Case Dete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stablishment of the National Reference Laborato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Quality control by Supranational Reference Laborato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ptimization and equipment of the laboratory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untrywide regular supervision and quality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0" y="914400"/>
          <a:ext cx="9169560" cy="549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69560" cy="54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457200" y="1522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ulmonary TB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320" y="533520"/>
            <a:ext cx="9067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Case detection and diagnos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2057400"/>
            <a:ext cx="76201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ulture based TB diagnosis is not performed routine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involvement of PHC in the case det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53352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2057400"/>
            <a:ext cx="784836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lementation of treatment protocols based on WHO recommenda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ccessful pilot project of PHC involvement in TB service in Shida Kartl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stablishment of “DOTS spots” in Tbili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320" y="457200"/>
            <a:ext cx="9067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2438280"/>
            <a:ext cx="85345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rtial DOT all over the count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w quality of case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 treatment for MDR-TB in Georg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22860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52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Treatment outcomes (Georgia, 1999-200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068480"/>
          <a:ext cx="8067600" cy="533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8480"/>
                    <a:ext cx="8067600" cy="53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457200"/>
            <a:ext cx="883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Drug Suppl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interrupted and regular first line anti-TB drugs sup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roduction of 4 FDC anti-TB drug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34290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4956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nti-TB drugs are available on free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85800"/>
            <a:ext cx="8763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Reporting and Reco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743200"/>
            <a:ext cx="7391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ational TB database on the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lementation of individualized TB reporting 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 &amp; R control is a part of supervision countryw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09480"/>
            <a:ext cx="868680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Reporting and Reco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666880"/>
            <a:ext cx="8610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quality of reporting needs further improv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2280" y="5335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Opportunities for improving DO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143000"/>
            <a:ext cx="8001000" cy="47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crease political sup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aise Public awareness about TB through Information, Education, Communication (IEC) campa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rain PHC providers in DOTS strategy; implement DOTS services into PHC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vide food incentives for TB patients to ensure treatment adherenc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velop capacity of Program managers from central and regional lev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velop the strategy addressing TB/HIV co-infec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pportunities for getting support from  the local author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24000" y="990720"/>
          <a:ext cx="84960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90720"/>
                    <a:ext cx="8496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79280" y="40464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Arial"/>
                <a:ea typeface="Arial"/>
              </a:rPr>
              <a:t>Case notification rates, per 100 000 population, 1980–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6400800"/>
            <a:ext cx="601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Source: Global TB Control, WHO report 2005, WHO/HTM/TB/2005.34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lan for establishing DOTS+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 conduct DRS survey  in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 elaborate proposal to GLC and in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re is negotiation with MSF to initiate pilot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ney for second line drugs is available from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novation of the inpatient facility of the NCTBLD will be finished in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Donors Assistance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GOPA, KfW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first line TB drugs supply + technical assi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WHO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– Technical assistance (DOTS coordin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USAID/MSCI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: (improved case management, community involvement, follow-up from prisons, surveillance)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MERLIN/DFID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: TB in general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ICRC: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DOTS in pris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GFATM</a:t>
            </a:r>
            <a:br>
              <a:rPr sz="2800"/>
            </a:b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Funding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tal funding requested – 6,962,998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roved Maximum – 5,536,965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roved 2-year funding – 1,829, 218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OBJECTIVES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improve case detection and treatment success by DOTS expansion and involvement of the primary health care services in tuberculosis control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assure continuity of DOTS in prisons by taking over from the ICRC DOTS and DOTS-Plus activities in prisons by the year 2008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reduce the pool of MDR TB cases by introduction of DOTS-Plus strategy, starting as a pilot project from 2007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develop and partly implement a strategy to deal with the dual infection of TB and HIV/AIDS, in close collaboration with the AIDS center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2362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ff"/>
                </a:solidFill>
                <a:latin typeface="Verdana"/>
              </a:rPr>
              <a:t>Thank you very muc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ff"/>
                </a:solidFill>
                <a:latin typeface="Verdana"/>
              </a:rPr>
              <a:t>for your atten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543800" cy="5540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25040" y="304920"/>
            <a:ext cx="61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Tuberculosis incidence in FSU count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04920" y="1555920"/>
          <a:ext cx="8610480" cy="477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55920"/>
                    <a:ext cx="8610480" cy="47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91440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Registered cases of  Tuberculo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2120" y="0"/>
            <a:ext cx="682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3520" y="1020600"/>
          <a:ext cx="8229600" cy="538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20600"/>
                    <a:ext cx="822960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Notification Rates , per 100 000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Georgia 1999-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1350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Case Notification According to Sex and Age Groups in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938160" y="1085760"/>
          <a:ext cx="7900920" cy="516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085760"/>
                    <a:ext cx="790092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905120"/>
            <a:ext cx="784872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H identified TB as one of the major public health thr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mplementation of the National TB Program (NTP) based on WHO recommendations (DOTS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ational Guidelines and protocols of NTP have been develop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state financing of TB program has been improv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onstruction of  a new building for the National TB Cen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CM is very active for coordinating TB control activ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380880"/>
            <a:ext cx="6400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olitical commitment</a:t>
            </a: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-1132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t is primordial in the fight against TB to realize that this is a curable disease and it is a matter of systemized detection, consequent implementation of DOTS and prevention to minimize the prevalence of TB in the countr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andra Elisabeth Roelofs, Ambassador of Stop TB Partner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66680" y="457200"/>
            <a:ext cx="7467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olitical commi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2133720"/>
            <a:ext cx="7848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integration of TB services in general health services (Low involvement of PH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eak links between TB and HIV/AIDS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condition of  TB facility buildings and lack of equi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7:50:33Z</dcterms:created>
  <dc:creator>User</dc:creator>
  <dc:description/>
  <dc:language>en-US</dc:language>
  <cp:lastModifiedBy>PV002</cp:lastModifiedBy>
  <dcterms:modified xsi:type="dcterms:W3CDTF">2005-11-11T14:57:37Z</dcterms:modified>
  <cp:revision>85</cp:revision>
  <dc:subject/>
  <dc:title>PowerPoint Presentation</dc:title>
</cp:coreProperties>
</file>