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83933-7A02-4126-B871-0656A685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39E5-5EC2-4805-8BBE-D5DA30DE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10117-7E02-4A12-A7E4-8236E5DD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9D48C-81C2-4D32-81AA-33168BC6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3517-3F67-4D56-9543-D30C2B08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B971-D581-4414-B258-B3E3DEBD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F682-B694-4BFE-92C9-B664DB12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571C-3C08-48BF-8AC7-49BA5B3C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5DD6-E965-4D4D-81B1-14DA10ED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E544-65F3-41D9-9DBC-94CAB778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FF07-BE92-4930-9AB4-C203A474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A6B19-6763-4A4A-BA7A-0FC1AF3A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6CF4-FF68-4F24-9457-382363A0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3673-5B15-4BD1-929D-9E3C48F2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83AD-A022-4072-B262-AB13CBC7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4E9D-C6B8-486F-9E27-353054D0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21C0-4C53-426E-8E57-AFA95887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6DC1-4ECE-44AB-9DEE-D2AD2A94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EAFD4-F894-4CDF-9AB0-D6401FF9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396BF-DA67-482C-9A16-17C7EE72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AED4F-EF32-46C9-94A9-88F5CEE5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BD6D-B568-46FA-9F56-2A22006D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9010-F413-4BE0-8908-3C1343F9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64C25-C272-4DD1-A1E5-504E1F9B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A906-B0E5-4D30-AE89-F9C84DA6BD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E97C-C172-4C26-AB71-3C23916ABF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UNFUNDED NEEDS 2006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NPT-D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ASSISI ITALY 10-11 Nov 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</a:rPr>
              <a:t>Ministère de la sant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700280"/>
          <a:ext cx="8229600" cy="4824000"/>
        </p:xfrm>
        <a:graphic>
          <a:graphicData uri="http://schemas.openxmlformats.org/drawingml/2006/table">
            <a:tbl>
              <a:tblPr/>
              <a:tblGrid>
                <a:gridCol w="6264360"/>
                <a:gridCol w="19652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Équipement des bureaux (cplt et unité cent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s dépôt médicament cplt (22 CPL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 CDV de quelques Csdt (100 CS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Transport  médicaments à l’intérieur du pays, et carbu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4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Supports d'in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DEFICITS COMPLEMETAIRES AU BUDGET 2006 en $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89000"/>
          <a:ext cx="8218080" cy="3670920"/>
        </p:xfrm>
        <a:graphic>
          <a:graphicData uri="http://schemas.openxmlformats.org/drawingml/2006/table">
            <a:tbl>
              <a:tblPr/>
              <a:tblGrid>
                <a:gridCol w="6313680"/>
                <a:gridCol w="1904400"/>
              </a:tblGrid>
              <a:tr h="16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ûts des ARV pour 2006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(soumis dans la composante 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ih-Sida ;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nd mondi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319 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plémen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aire du personnel de la périphéri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pour 2006 (soumis dans la composant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ppui aux structures des soins"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Fond mondi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Garamond"/>
              </a:rPr>
              <a:t>RDC: GENERALITES / DRC: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4360"/>
            <a:ext cx="44956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SUPERFICIE/SIZ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.345.000 k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58.000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&lt; 20 ans: 5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IB/GDP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en $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358 (’58), 100 (’85), 74 (‘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IDH/HDI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0,3655 (‘04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EMPLOI/EMPLOYMENT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6 % (‘98)  7 % (‘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REVENUS/INCOM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0,30 $ us/J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10 % (‘95)  16 % (’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18000" y="1295280"/>
            <a:ext cx="46260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DE LA SANTE / HEALTH SYSTEM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00200"/>
            <a:ext cx="4773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udget annuel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nual health budget: </a:t>
            </a:r>
            <a:r>
              <a:rPr b="1" lang="fr-FR" sz="2400" spc="-1" strike="noStrike">
                <a:solidFill>
                  <a:srgbClr val="ffffff"/>
                </a:solidFill>
                <a:latin typeface="Garamond"/>
              </a:rPr>
              <a:t>&lt; de 2% de 1000.000.000 $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olitique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soins de santé primaires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Health policy: primary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515 zones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/2 non fonction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515 health zones: 1/2 non-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11 provinces, 20 CPLT, 991 CSDT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11 provinces, 20 CPLT, 991 TTC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8000" y="1700280"/>
          <a:ext cx="4356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435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5e5ff"/>
                </a:solidFill>
                <a:latin typeface="Garamond"/>
              </a:rPr>
              <a:t>Five years plan budget 2006-20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TOTAL: 112.565.788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Received from GF: 36 M out of 4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Year 1 needs: 25 M and 5 M unfundeed 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3.319.123 USD for 41.000 coinfected patients ARV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1.000.000 USD for the support of basic health care system (personnel motivation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856720" cy="65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6000" y="216000"/>
          <a:ext cx="9144000" cy="6807240"/>
        </p:xfrm>
        <a:graphic>
          <a:graphicData uri="http://schemas.openxmlformats.org/drawingml/2006/table">
            <a:tbl>
              <a:tblPr/>
              <a:tblGrid>
                <a:gridCol w="2916000"/>
                <a:gridCol w="6228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PARTENAIR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TYPE DE PARTENARIAT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list institution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 GLOBAL FUN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du PNT (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et CPLT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 USA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&amp;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, EQN, POE, MANIEMA, SANKUR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 GD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rovisionnement en m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caments (2/3 des besoin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. CDC-ATLA. (U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CHERCHE OPERATIONN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. UICTM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. OM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. LNA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 (MOSO) et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2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. Fondation Dami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10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. TL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7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. ALM, FOPERDA, UB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3 CPL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540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DGET ANNONCE PAR PARTENAIRES POUR 2006 en $U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197000"/>
          <a:ext cx="8640720" cy="5322960"/>
        </p:xfrm>
        <a:graphic>
          <a:graphicData uri="http://schemas.openxmlformats.org/drawingml/2006/table">
            <a:tbl>
              <a:tblPr/>
              <a:tblGrid>
                <a:gridCol w="2808360"/>
                <a:gridCol w="1023840"/>
                <a:gridCol w="1000080"/>
                <a:gridCol w="330480"/>
                <a:gridCol w="669960"/>
                <a:gridCol w="922320"/>
                <a:gridCol w="877680"/>
                <a:gridCol w="1008000"/>
              </a:tblGrid>
              <a:tr h="11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ES OU RUBRIQUES DE DEPEN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dget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uvern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ê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enai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obiliser (c+d+e+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ter à mobiliser pou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08 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 3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5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69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6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4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8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2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123 7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5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âtiments, équipements (véhicules, labo/bureau, et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01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047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75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3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8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325 6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206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899 8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 135 9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FICIT BUDGETAIRE PAR RUBRIQUES DE DEPENSE 2006 en $Us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435880" cy="4987800"/>
        </p:xfrm>
        <a:graphic>
          <a:graphicData uri="http://schemas.openxmlformats.org/drawingml/2006/table">
            <a:tbl>
              <a:tblPr/>
              <a:tblGrid>
                <a:gridCol w="6059520"/>
                <a:gridCol w="23763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1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413000"/>
          <a:ext cx="8893080" cy="5360760"/>
        </p:xfrm>
        <a:graphic>
          <a:graphicData uri="http://schemas.openxmlformats.org/drawingml/2006/table">
            <a:tbl>
              <a:tblPr/>
              <a:tblGrid>
                <a:gridCol w="6708600"/>
                <a:gridCol w="2184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intermédiaire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ncitatives et motivations pour fournisseurs des soins membres de la communaut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0 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du personnel supplémentaires aux csd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86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partiels médecins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4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Infirmiers cplt des grands  CSDT avec CDV (&gt; de 200 nc tb /an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er et recycler les prestataires des soins (médecins, laborantins, infirmiers) pour la prise e charge de la coinf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4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53:50Z</dcterms:created>
  <dc:creator>Etienne Bahati </dc:creator>
  <dc:description/>
  <dc:language>en-US</dc:language>
  <cp:lastModifiedBy>SG</cp:lastModifiedBy>
  <dcterms:modified xsi:type="dcterms:W3CDTF">2005-11-10T06:27:56Z</dcterms:modified>
  <cp:revision>13</cp:revision>
  <dc:subject/>
  <dc:title>DEFICIT BUDGETAIRE 2006</dc:title>
</cp:coreProperties>
</file>