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D9EA8-4C32-43DE-B1C8-199B611D22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D1934-4F61-4F1E-80CC-9C68CD4123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C7629-1216-4694-8EC6-2452B1700E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57D6-81F2-4ED1-8B81-E018DF164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EC0B-116F-49FE-BD92-050BEA37E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74E6-5821-41BD-96A6-00B045CB8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3D5E-CF84-4471-A389-9922CCA22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B703-32D3-472C-8EFA-933EE708D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F1C7-47A4-416B-A825-B5B26B5A9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C359-3E76-45D2-AEA8-0765F3696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1453-8BD9-4C6B-81EB-2FBC0BA5C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DBFC-963D-49CF-8211-BB4EF6683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FC78-BD2D-4B2C-8F89-DD9CF806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9E60-9812-4571-96CB-1A00D59C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9540-54BD-48E6-B35B-0945521B2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F7057-030D-4D16-B4C8-132006AA7B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066680" y="762120"/>
            <a:ext cx="7086600" cy="29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Times New Roman"/>
              </a:rPr>
              <a:t>TB Control in Georgi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Times New Roman"/>
              </a:rPr>
              <a:t>Achievements and Challeng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Times New Roman"/>
              </a:rPr>
              <a:t>Levan Jugel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ff"/>
                </a:solidFill>
                <a:latin typeface="Times New Roman"/>
              </a:rPr>
              <a:t>Deputy Minister of Labour, Health and Social Affairs of Georg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809880" y="4038480"/>
            <a:ext cx="1676520" cy="1138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058480" y="5670720"/>
            <a:ext cx="510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Times New Roman"/>
              </a:rPr>
              <a:t>Stop TB Coordinating Board Mee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Times New Roman"/>
              </a:rPr>
              <a:t>10-11 November 2005, Assisi, Ita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62120" y="2286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Case detection and diagnosi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Achievement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1676520"/>
            <a:ext cx="822960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rioritization of Sputum Smear Microscopy for Case Detec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stablishment of the National Reference Laborator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Quality control by Supranational Reference Laborator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Optimization and equipment of the laboratory net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untrywide regular supervision and quality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0" y="914400"/>
          <a:ext cx="9169560" cy="549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14400"/>
                    <a:ext cx="9169560" cy="549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457200" y="1522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Pulmonary TB c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76320" y="533520"/>
            <a:ext cx="9067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Case detection and diagnosi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Challe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4400" y="2057400"/>
            <a:ext cx="762012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ulture based TB diagnosis is not performed routine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oor involvement of PHC in the case det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533520"/>
            <a:ext cx="8077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Treatm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Achiev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2057400"/>
            <a:ext cx="784836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mplementation of treatment protocols based on WHO recommendation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uccessful pilot project of PHC involvement in TB service in Shida Kartl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stablishment of “DOTS spots” in Tbili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5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0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6320" y="457200"/>
            <a:ext cx="9067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Treatm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Challe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2438280"/>
            <a:ext cx="85345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artial DOT all over the countr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ow quality of case mana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o treatment for MDR-TB in Georgi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228600"/>
            <a:ext cx="62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522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Verdana"/>
                <a:ea typeface="Arial"/>
              </a:rPr>
              <a:t>Treatment outcomes (Georgia, 1999-200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" y="1068480"/>
          <a:ext cx="8067600" cy="5330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68480"/>
                    <a:ext cx="8067600" cy="533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457200"/>
            <a:ext cx="883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Drug Suppl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Achiev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ninterrupted and regular first line anti-TB drugs supp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troduction of 4 FDC anti-TB drugs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14600" y="342900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Challe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44956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nti-TB drugs are available on free mark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685800"/>
            <a:ext cx="8763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Reporting and Recor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Achiev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2743200"/>
            <a:ext cx="73911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ational TB database on the central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mplementation of individualized TB reporting 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 &amp; R control is a part of supervision countryw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609480"/>
            <a:ext cx="8686800" cy="10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Reporting and Recor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Challenges</a:t>
            </a:r>
            <a:r>
              <a:rPr b="1" lang="en-US" sz="2800" spc="-1" strike="noStrike">
                <a:solidFill>
                  <a:srgbClr val="ffcc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2666880"/>
            <a:ext cx="8610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he quality of reporting needs further improv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52280" y="53352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Opportunities for improving DO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1143000"/>
            <a:ext cx="8001000" cy="47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ncrease political suppo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aise Public awareness about TB through Information, Education, Communication (IEC) campaig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rain PHC providers in DOTS strategy; implement DOTS services into PHC system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ovide food incentives for TB patients to ensure treatment adherence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Develop capacity of Program managers from central and regional level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Develop the strategy addressing TB/HIV co-infec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Opportunities for getting support from  the local authori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324000" y="990720"/>
          <a:ext cx="8496000" cy="502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990720"/>
                    <a:ext cx="8496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179280" y="404640"/>
            <a:ext cx="87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ff"/>
                </a:solidFill>
                <a:latin typeface="Arial"/>
                <a:ea typeface="Arial"/>
              </a:rPr>
              <a:t>Case notification rates, per 100 000 population, 1980–200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6400800"/>
            <a:ext cx="601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Source: Global TB Control, WHO report 2005, WHO/HTM/TB/2005.34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Plan for establishing DOTS+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20000"/>
              </a:lnSpc>
              <a:spcBef>
                <a:spcPts val="601"/>
              </a:spcBef>
              <a:spcAft>
                <a:spcPts val="75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o conduct DRS survey  in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601"/>
              </a:spcBef>
              <a:spcAft>
                <a:spcPts val="75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o elaborate proposal to GLC and in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601"/>
              </a:spcBef>
              <a:spcAft>
                <a:spcPts val="75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here is negotiation with MSF to initiate pilot pro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601"/>
              </a:spcBef>
              <a:spcAft>
                <a:spcPts val="75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oney for second line drugs is available from 200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601"/>
              </a:spcBef>
              <a:spcAft>
                <a:spcPts val="75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enovation of the inpatient facility of the NCTBLD will be finished in 200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120000"/>
              </a:lnSpc>
              <a:spcBef>
                <a:spcPts val="60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Donors Assistance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GOPA, KfW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: first line TB drugs supply + technical assist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WHO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– Technical assistance (DOTS coordina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USAID/MSCI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: (improved case management, community involvement, follow-up from prisons, surveillance)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MERLIN/DFID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: TB in general serv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ICRC: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DOTS in pris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GFATM</a:t>
            </a:r>
            <a:br>
              <a:rPr sz="2800"/>
            </a:b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Funding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otal funding requested – 6,962,998.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pproved Maximum – 5,536,965.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pproved 2-year funding – 1,829, 218.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OBJECTIVES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To improve case detection and treatment success by DOTS expansion and involvement of the primary health care services in tuberculosis control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To assure continuity of DOTS in prisons by taking over from the ICRC DOTS and DOTS-Plus activities in prisons by the year 2008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To reduce the pool of MDR TB cases by introduction of DOTS-Plus strategy, starting as a pilot project from 2007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To develop and partly implement a strategy to deal with the dual infection of TB and HIV/AIDS, in close collaboration with the AIDS center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33520" y="23623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ff"/>
                </a:solidFill>
                <a:latin typeface="Verdana"/>
              </a:rPr>
              <a:t>Thank you very much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ff"/>
                </a:solidFill>
                <a:latin typeface="Verdana"/>
              </a:rPr>
              <a:t>for your atten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543800" cy="55404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625040" y="304920"/>
            <a:ext cx="61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Verdana"/>
              </a:rPr>
              <a:t>Tuberculosis incidence in FSU countr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304920" y="1555920"/>
          <a:ext cx="8610480" cy="4776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555920"/>
                    <a:ext cx="8610480" cy="47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914400" y="3049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Verdana"/>
              </a:rPr>
              <a:t>Registered cases of  Tuberculo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62120" y="0"/>
            <a:ext cx="682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533520" y="1020600"/>
          <a:ext cx="8229600" cy="5380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020600"/>
                    <a:ext cx="8229600" cy="538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Verdana"/>
                <a:ea typeface="Arial"/>
              </a:rPr>
              <a:t>Notification Rates , per 100 000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Verdana"/>
                <a:ea typeface="Arial"/>
              </a:rPr>
              <a:t>Georgia 1999-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09480" y="1350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Verdana"/>
              </a:rPr>
              <a:t>Case Notification According to Sex and Age Groups in 20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938160" y="1085760"/>
          <a:ext cx="7900920" cy="5162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8160" y="1085760"/>
                    <a:ext cx="7900920" cy="516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905120"/>
            <a:ext cx="7848720" cy="51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H identified TB as one of the major public health thre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mplementation of the National TB Program (NTP) based on WHO recommendations (DOTS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National Guidelines and protocols of NTP have been develop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he state financing of TB program has been improve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onstruction of  a new building for the National TB Cen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CM is very active for coordinating TB control activi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19320" y="380880"/>
            <a:ext cx="6400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Political commitment</a:t>
            </a:r>
            <a:r>
              <a:rPr b="0" lang="en-US" sz="2800" spc="-1" strike="noStrike">
                <a:solidFill>
                  <a:srgbClr val="ffcc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Achiev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7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2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-11329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It is primordial in the fight against TB to realize that this is a curable disease and it is a matter of systemized detection, consequent implementation of DOTS and prevention to minimize the prevalence of TB in the country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andra Elisabeth Roelofs, Ambassador of Stop TB Partnersh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066680" y="457200"/>
            <a:ext cx="74678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Political commitm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Challenges</a:t>
            </a: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2133720"/>
            <a:ext cx="78483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oor integration of TB services in general health services (Low involvement of PH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eak links between TB and HIV/AIDS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oor condition of  TB facility buildings and lack of equip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9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1T17:50:33Z</dcterms:created>
  <dc:creator>User</dc:creator>
  <dc:description/>
  <dc:language>en-US</dc:language>
  <cp:lastModifiedBy>PV002</cp:lastModifiedBy>
  <dcterms:modified xsi:type="dcterms:W3CDTF">2005-11-11T14:57:37Z</dcterms:modified>
  <cp:revision>85</cp:revision>
  <dc:subject/>
  <dc:title>PowerPoint Presentation</dc:title>
</cp:coreProperties>
</file>