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19B8C86-6999-4524-B6F8-07EDCD91DDF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adecer a ban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  UF com os maiores percentuais de coinfecção TB/HIV – RS (18,9), SC (18,1), SP (13,3) e PR (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70E-90FB-4486-AAFC-87E1F7DA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9804-AB5E-4DC7-BFC9-7DBFDC7B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60CF-AF6B-4837-86AD-F50AD211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D822-4660-4B53-B71A-DBA30193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425D-82B4-407F-9F88-19ABF38F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D135-91EB-425F-AE85-772BF258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8505-D05A-4103-8E49-B6A39698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B0DA-4EDC-4506-B86D-C8C17B6A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E490-54B6-4F2D-AA99-1F5A2C2B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A4F3-891C-4940-9CDA-BC67A604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AA88-074F-4602-9CFA-AC0B6490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7C7A-7E92-4522-A29E-43DEBE86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2FBD-07A9-459A-9A57-759C53B18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8000" y="4653000"/>
            <a:ext cx="6985080" cy="19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rbas Barbosa da Silva Jú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tário de Vigilância em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stério da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052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Stop TB in Braz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81440" y="270000"/>
            <a:ext cx="6011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3300"/>
                </a:solidFill>
                <a:latin typeface="Arial"/>
              </a:rPr>
              <a:t>Stop Tb Nation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6400800"/>
            <a:ext cx="5410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360" y="1197000"/>
            <a:ext cx="849636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/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 members – NGOs, academic institutions, churches representatives, donor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ariat – 8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ship  - National Council of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052640"/>
            <a:ext cx="856908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Nº. de casos e taxa de incidência – Todas as formas e BK+,  Brasil 1994 a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828720" y="1774800"/>
          <a:ext cx="7630920" cy="4894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8720" y="1774800"/>
                    <a:ext cx="763092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38240"/>
            <a:ext cx="6913440" cy="4659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ubercul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197000"/>
            <a:ext cx="58338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cidência de TB todas as formas – Brasil por UF -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645336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Municípios prioritá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56000" y="5013360"/>
            <a:ext cx="1800360" cy="1546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4360" y="1628640"/>
            <a:ext cx="12970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2219400"/>
            <a:ext cx="295272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5 municípios são prioritários para o P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2004 foram registrados 80.557 casos novos de TB com incidência de 43,3/100 mil h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1484280"/>
            <a:ext cx="813744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Taxa de Mortalidade por Tuberculose segundo sexo. Brasil 1992 a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1360" y="2381400"/>
          <a:ext cx="8705880" cy="4095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1360" y="2381400"/>
                    <a:ext cx="87058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484280"/>
            <a:ext cx="813600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anual – Percentual de Co-infecção TB HIV – Brasil 2001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87280" y="2781360"/>
          <a:ext cx="6912000" cy="2950920"/>
        </p:xfrm>
        <a:graphic>
          <a:graphicData uri="http://schemas.openxmlformats.org/drawingml/2006/table">
            <a:tbl>
              <a:tblPr/>
              <a:tblGrid>
                <a:gridCol w="2376360"/>
                <a:gridCol w="2519640"/>
                <a:gridCol w="20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. de ca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04300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764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57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468360" y="1468440"/>
          <a:ext cx="7621560" cy="5129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468440"/>
                    <a:ext cx="762156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116000" y="1197000"/>
            <a:ext cx="7128000" cy="88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de casos de TBMR - Brasil  e distribuição percentual segundo UF  - ( 2000 - 2004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92720" y="2416320"/>
          <a:ext cx="3240000" cy="2452680"/>
        </p:xfrm>
        <a:graphic>
          <a:graphicData uri="http://schemas.openxmlformats.org/drawingml/2006/table">
            <a:tbl>
              <a:tblPr/>
              <a:tblGrid>
                <a:gridCol w="1099800"/>
                <a:gridCol w="214020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os TB M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6134040"/>
            <a:ext cx="457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INAN-TB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Dados até 05/10/2005, sujeitos à revisã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76280" y="1174680"/>
          <a:ext cx="8325000" cy="49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174680"/>
                    <a:ext cx="832500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68360" y="135900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tuação de Encerramento dos Casos com Início de Tratamento em 2004 (coorte 2005)  Brasil por UF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3512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539640" y="1152360"/>
          <a:ext cx="8516880" cy="508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52360"/>
                    <a:ext cx="8516880" cy="50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Tendência temporal da incidência de tuberculose em indígenas.</a:t>
            </a:r>
            <a:br>
              <a:rPr sz="2000"/>
            </a:b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 Brasil, 2000/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1905120"/>
            <a:ext cx="4108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Queda anual média - todas as forma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5,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bacilífero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7,3%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1960" y="6373800"/>
            <a:ext cx="29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E: DESAI/FUNASA – CGDEN/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83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81440" y="404640"/>
            <a:ext cx="6011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6165720"/>
            <a:ext cx="84978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de Municípios Prioritários - 3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95280" y="2754360"/>
          <a:ext cx="8424720" cy="1322280"/>
        </p:xfrm>
        <a:graphic>
          <a:graphicData uri="http://schemas.openxmlformats.org/drawingml/2006/table">
            <a:tbl>
              <a:tblPr/>
              <a:tblGrid>
                <a:gridCol w="4174920"/>
                <a:gridCol w="42498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Brasil – 2º Trimes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65 Un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/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16 Unidades – 73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50920" y="1484280"/>
            <a:ext cx="874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bertura Tratamento Supervisionado – Unidades de Saúde com Tratamento Supervisionado – Municípios prioritários – 1º semestr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3:45:16Z</dcterms:created>
  <dc:creator>Walter</dc:creator>
  <dc:description/>
  <dc:language>en-US</dc:language>
  <cp:lastModifiedBy>DATASUS</cp:lastModifiedBy>
  <dcterms:modified xsi:type="dcterms:W3CDTF">2005-11-10T16:07:44Z</dcterms:modified>
  <cp:revision>246</cp:revision>
  <dc:subject/>
  <dc:title>Slide 1</dc:title>
</cp:coreProperties>
</file>