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AA4F7-A260-4185-B334-D5955204258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detailed slide for 2005 shows that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de variation in funding streams, some countries very dependent on donor fu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as a continuous growth from 1999 to 2000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solute value shot up from 135 million in 1999 to 405 million in 200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increase in this funding came from the GF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EF08-EC66-4C3B-BF2B-4ABD620BD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C3EA-334F-4C2F-ABCE-CD63823B3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49C4-2227-45B2-8C48-F37D48796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8FC7-853D-419A-812F-6ACA52E44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628FC-1218-44C2-8B54-831233A67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68195-7B34-405B-A2E8-A02FE2950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C6E26-E3A7-4082-97B6-21F800BD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D32E3-3DDB-4023-B20E-59A9C7C52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797F2-BDBB-4A20-A25A-F8BEFBC8D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08760-AD07-41F2-8ACD-D1F10E1F5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12E6B-6498-4850-8E80-1BB9A615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9ECD-8318-4317-84B3-CF9CF0547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F73D9-7C8D-4C82-A624-CCB69253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60E71-7983-4DB9-B033-971414F1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9572C-3360-4D50-BB4E-4DCDA9B77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6561E-FDBF-4E25-A243-375C001A9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F0743-F214-46AD-8691-1810229CB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7FC6-DACB-4F77-A800-EB038D95D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0B82-122B-4A7F-B2E2-D1CF9B60A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6A60-CBE8-4847-A15A-A5C0FBEF2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2314-D54F-479A-B0DF-BA4FC6030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E351-B5D8-4399-A07E-3603D2FD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66FE-FBB8-4213-831B-9DD37CFA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FCA8-BEB9-4684-A9B5-922F2988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6CC9A-8F7B-436A-8438-352A6214D93D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4317A-39F8-4263-97A9-EB7F45DFF016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4920" y="1700280"/>
            <a:ext cx="828036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Findings from donor survey</a:t>
            </a:r>
            <a:br>
              <a:rPr sz="2400"/>
            </a:b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and the WHO Financial monitoring project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In the context of the Second Global Plan to Stop TB  </a:t>
            </a:r>
            <a:endParaRPr b="1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Irene Koek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Member Coordinating Board Stop TB Partnership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10 November 2005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Assisi, Italy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560" y="1155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ontribution from Foundations (US$ Millions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08000" y="1393920"/>
          <a:ext cx="8964360" cy="4987440"/>
        </p:xfrm>
        <a:graphic>
          <a:graphicData uri="http://schemas.openxmlformats.org/drawingml/2006/table">
            <a:tbl>
              <a:tblPr/>
              <a:tblGrid>
                <a:gridCol w="1175760"/>
                <a:gridCol w="1175760"/>
                <a:gridCol w="983520"/>
                <a:gridCol w="1177200"/>
                <a:gridCol w="1174680"/>
                <a:gridCol w="1177200"/>
                <a:gridCol w="1174320"/>
                <a:gridCol w="925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Inst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99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0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0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0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ot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Gates</a:t>
                      </a:r>
                      <a:r>
                        <a:rPr b="0" lang="en-GB" sz="2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5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1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3.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6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4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OS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3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.9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5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Ro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Sequ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otal</a:t>
                      </a: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51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4,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5.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6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71640" y="1916280"/>
            <a:ext cx="75610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Other findings from donor surv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erception that growth in funding to public health increasingly becoming part of  budget support and SWA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erception that substantial flows are becoming linked to PRSP with   support  for broader health pla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unding for TB linked to donor priority given to MDGs and poverty allev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478944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Global Plan to Stop TB: </a:t>
            </a:r>
            <a:br>
              <a:rPr sz="2400"/>
            </a:b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Ten year projection of needs</a:t>
            </a:r>
            <a:br>
              <a:rPr sz="2400"/>
            </a:b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and likely finances available </a:t>
            </a:r>
            <a:br>
              <a:rPr sz="2400"/>
            </a:b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(Ex. New Tools)</a:t>
            </a: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112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50920" y="4437000"/>
            <a:ext cx="259236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otal Global Plan need  is 47 bn+ New Tools cost 9bn. Total $56b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755280" y="1413000"/>
            <a:ext cx="806436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Countries will have to raise increasing amounts themselv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Donors need to increase their funding either directly or through GFATM for countries least able to mobilise resources themselv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As the gap is large all the Partners will need to collaborate actively in mobilising resources.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e task of filling the gap cannot be borne only by the Secretariat of the Partnership alon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0" y="189000"/>
            <a:ext cx="4859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mplications -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inancing the Global Plan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ction Proposed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I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9647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696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96960" indent="-6969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Launch  a massive Advocacy and Communication Campaign to raise resources needed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96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96960" indent="-6969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Revise the Long Range Resource Mobilisation Action Plan approved in 2004 by the CB in light of Global Plan 2006-2015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96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96960" indent="-6969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Include bilaterals, foundations, and the private sector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96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85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ction Proposed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407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etermine funds available through HIPIC initiative, Budget support, and SWAPS to public health and from there onwards to TB control effor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repare a toolkit for guiding civil society at grassroots level to actively engage in the PRSP and other process for local resource mobilisation efforts relating to TB contro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0" algn="ctr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10920" y="2133360"/>
            <a:ext cx="809460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OBJECTIV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Quantify funding needs and sources more accurately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Understand the key drivers of  donor contribu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arget efforts to mobilise resources to control TB more effectivel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89647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Methodology</a:t>
            </a: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7113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WHO- Standard questionnaires sent by WHO to all countries each year, including two pages of financial questions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Donor Survey-Use of questionnaires targeted to 30 major multilateral and Bilateral organisations that provided in–kind, logistical, or financial support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Use of other sources of data-(e. g. published information about GFATM, and other surveys)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755280" y="1413000"/>
            <a:ext cx="806436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Key Finding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HO Inform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Levels and channels of fund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Geographical Sprea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Donor Surve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Integrated fund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R &amp;D Fund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Implications for meeting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e financing requirements of the Global Pla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175680"/>
            <a:ext cx="4967280" cy="9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Total TB control costs by 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funding source  2002-2006 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in 22 high-burden countries</a:t>
            </a: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920" y="175680"/>
            <a:ext cx="4967280" cy="9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Sources of funding for 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total TB control costs, 22 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high-burden countries, 2005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8891640" cy="5040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954920" y="2492280"/>
            <a:ext cx="11890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Tahoma"/>
              </a:rPr>
              <a:t>Wide variation in sources of fund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Tahoma"/>
              </a:rPr>
              <a:t>Some countries rely on large donor financ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8964720" cy="5112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24000" y="189000"/>
            <a:ext cx="38163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Spending money 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gets 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122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896840" y="1916280"/>
            <a:ext cx="609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Spending grew in all regions, fastest growth in E/C A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189000"/>
            <a:ext cx="38163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Donor funding 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by reg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6360" y="1341360"/>
            <a:ext cx="9107640" cy="51674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5329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Donor Contributions for TB Control (with and w/out GFATM)  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848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4223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08000" y="5734080"/>
            <a:ext cx="2160360" cy="647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Professional Video</cp:lastModifiedBy>
  <cp:lastPrinted>2004-03-12T16:30:34Z</cp:lastPrinted>
  <dcterms:modified xsi:type="dcterms:W3CDTF">2005-11-10T13:18:27Z</dcterms:modified>
  <cp:revision>171</cp:revision>
  <dc:subject/>
  <dc:title>Secretariat, 2003 Progress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64089075</vt:r8>
  </property>
  <property fmtid="{D5CDD505-2E9C-101B-9397-08002B2CF9AE}" pid="3" name="_AuthorEmail">
    <vt:lpwstr>floydk@who.int</vt:lpwstr>
  </property>
  <property fmtid="{D5CDD505-2E9C-101B-9397-08002B2CF9AE}" pid="4" name="_AuthorEmailDisplayName">
    <vt:lpwstr>Floyd, Katherine</vt:lpwstr>
  </property>
  <property fmtid="{D5CDD505-2E9C-101B-9397-08002B2CF9AE}" pid="5" name="_EmailSubject">
    <vt:lpwstr>funding of TB control presentation for Irene Koek</vt:lpwstr>
  </property>
  <property fmtid="{D5CDD505-2E9C-101B-9397-08002B2CF9AE}" pid="6" name="_NewReviewCycle">
    <vt:lpwstr/>
  </property>
  <property fmtid="{D5CDD505-2E9C-101B-9397-08002B2CF9AE}" pid="7" name="_PreviousAdHocReviewCycleID">
    <vt:r8>1453036681</vt:r8>
  </property>
  <property fmtid="{D5CDD505-2E9C-101B-9397-08002B2CF9AE}" pid="8" name="_ReviewingToolsShownOnce">
    <vt:lpwstr/>
  </property>
</Properties>
</file>