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A339-5C58-4B1C-94A6-DE53A51A7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22 HBC, we have identified the main technical collaborator and the other key partn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7ACF-AF84-44AA-85F5-21F8D0303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A0A3-7B37-4C09-8A95-37CD9EC1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DC0E-0740-447E-B7BE-99784968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F70F-A84C-42D1-B271-932AA7D95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AEDF-3539-4045-BBB3-FA8458D7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838F-4A88-4145-948C-0FE1064A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6592-737C-4340-AF99-47BC9D0D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9792-CC86-4794-96C3-C31FB7CD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BBE5-6740-4952-814E-A342B3F9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EEB8-397D-4C3A-A026-816A80D6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323C-E28E-4BE9-94C7-03DDB990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F609-E5C9-4EA4-AF4A-2C96BB66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5967-6D28-4230-9D93-A64407B5D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Building a partners flagship mechanism to support countries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for the implementation of the GPS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How to translate money into increased capacity to control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remiah Chakay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éopold Blan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lgosia Grzem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: scope of the GPS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national staff: include expertise in different areas, DOTS, Lab, TB/HIV, MDR, ACSM, OR etc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PO: national programme officers include expertise in different areas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ve support is key in the process for planning, monitoring and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692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9280" y="755640"/>
          <a:ext cx="8785440" cy="555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755640"/>
                    <a:ext cx="8785440" cy="55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Country support estimates incl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ing for activities such as global/regional training to build countries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s to monitor progresses and exchange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external monitoring to discuss problems and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new approaches, operational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development, tool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ocacy and communication, social mobi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Estimated HR needs for country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national staff: support beyond 22 H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and regional M&amp;E, policy development, OR etc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150 to 350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50 at global/region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200 in countries/sub-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PO: support beyond 22 H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80 to 52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 or more in each 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0 to 50 in large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351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 a "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coordination body for country suppo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op TB coalition for Technical Assist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ests from countries/regions/partners are collected and tre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k by 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 within secretariat of "implementation" W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 more staff at country and reg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 a sharing system of reports (web li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k "strongly" with GFATM portefolio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shop for consultants in December 2005  (GFAT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annual plan for country support which includes all aspects (TB/HIV, LAB etc..) and builds on existing partners involvement (in January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meeting of key agencies (including regional level) to discuss the global plan to support countries for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 channelled directly to relevant organizations and through the trust fund of the Stop TB partnership secretari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in more detail the needs of countries to define better number of experts or consultants to suppor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urgently laborator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984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ajor challenges for labora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Human resources</a:t>
            </a:r>
            <a:r>
              <a:rPr b="0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availability of experts at international, regional and national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human resources at WHO Regional and Country Offi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Financia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financial resources at the international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Insufficient allocation of financial resources at country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Planning and implementation</a:t>
            </a: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Suboptimal planning, implementation and monitoring of laboratory improvement plans at Regional and country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Suboptimal coordination among partners to ensure effective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Raise awareness of the crucial role of laborator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Proposal from the SLCS 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ub-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30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Provide the subgroup the status of a Working Group on Laboratory Capacity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30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Provide sufficient financial resources to start implementing Glob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This undertaking will ensure continues leadership, coordina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and guidance to accelerate expansion of 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including access to culture and D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00"/>
                </a:solidFill>
                <a:latin typeface="Arial"/>
              </a:rPr>
              <a:t>Immediate needs to start scaling up laboratory capacity strengthe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49636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andardization of documents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Assessment of laboratory network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upport to countr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 Support to Regions and Countries in plan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Tra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Monitoring and eval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Meet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. Technical Assistance and Coordination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2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. Support to the Supranational Reference Laboratory Networ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570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Request to the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nts and guidance on the Stop TB coalition for 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nts and decision on the request fo the SL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 in the Global DOTS Expansion Plan 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5 year National strategic plan based on country needs and on National Health Development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1 year National operational plan based on the strategic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ICC convened by the NTP to support the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echnical agency supporting the country on strategic and technic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-360360" y="1484280"/>
          <a:ext cx="7229520" cy="48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0360" y="1484280"/>
                    <a:ext cx="72295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425160"/>
            <a:ext cx="878544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National Coordination (ICC): status in 22 HB coun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6720" y="1956960"/>
            <a:ext cx="8266320" cy="34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35000"/>
              </a:lnSpc>
              <a:spcBef>
                <a:spcPts val="5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16360" y="1666800"/>
            <a:ext cx="295092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uss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ID, GTZ, KNCV, OSI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H, USAID,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3657600"/>
            <a:ext cx="3780000" cy="100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ambodi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 JATA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JIC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RIT, USAID,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hin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DFB,  DFID, GFATM, Japan, KNCV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hilippine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CIDA,  JICA, USAID, WB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Vietnam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NL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1773360"/>
            <a:ext cx="3348000" cy="159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ngladesh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AC, CIDA , DFB, USAID, WB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d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      (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 DFID, DANIDA, GFATM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GLRA, USAID, 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dones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STB P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B, AUSAID, CIDA, GFATM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 NL, USAID,  WB,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Myanma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UNDP,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ailan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  CDC, GFATM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24000" y="4653000"/>
            <a:ext cx="4176720" cy="20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thiop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FATM, GLRA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L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R Congo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B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TLMI, USAID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eny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FHI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LR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Mozambiqu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LRA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KNCV, IUAT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iger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DFB, GLRA, KNCV, NLR, IUATLD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. Afric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ID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USAID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anzani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SWISS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Ugand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ID, GLRA, ICD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TLMI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Zimbabwe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ATLD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165560"/>
            <a:ext cx="2411280" cy="50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razil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STB 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B, GLRA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ATLD, USAID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73520" y="3124080"/>
            <a:ext cx="541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2819520"/>
            <a:ext cx="3097440" cy="79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fghanistan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;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ICD, MEDAIR, NOR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akistan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B 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ID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ICD, IUATLD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JICA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5000" y="1447920"/>
            <a:ext cx="2778120" cy="852840"/>
          </a:xfrm>
          <a:prstGeom prst="rect">
            <a:avLst/>
          </a:prstGeom>
          <a:solidFill>
            <a:srgbClr val="ffe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66cc"/>
                </a:solidFill>
                <a:latin typeface="Humanst521 Cn BT"/>
              </a:rPr>
              <a:t>- 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Government leads N-I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- ICC coordinates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- WHO facilitate Gvt and partners 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eff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0400" y="6346800"/>
            <a:ext cx="24116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 </a:t>
            </a: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WHO office in all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* : WHO TB sta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urrent coordination: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coordination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 of country missions every other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eas of TB work (TB/HIV, MDR-TB, GDF, etc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yond the 22 H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gions and key technical agencies (Union, KNCV, CDC, GLRA, DFB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a "coordinating agency" for each of the HBC and some othe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CTA/TB-CAP coordination linked with DEWG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gular information exchange from agencies and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FATM not sufficiently lin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ifferent missions in countries (it increases the demand at country lev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s of visits not fully exploited (weak system to share them, with the exception of the Un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ituation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demand from countries (73 countries have GFATM grants, new WB loans/gr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verall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nagement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roader scope: DOTS+, TB/HIV, Lab, PPM, CTBC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coordination and response in certain field (lab for example..) and countries other than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7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funds to increase capacity to respond (ISAC, TBCTA, Back-up initiative, CIDA), some new perspective: TB-CAP (country lev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GPSTB2: estimated needs average per year 2006-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826920" y="1830240"/>
          <a:ext cx="74170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30240"/>
                    <a:ext cx="74170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492360" y="378936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92360" y="429264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92360" y="3213000"/>
            <a:ext cx="1854360" cy="520200"/>
          </a:xfrm>
          <a:prstGeom prst="rect">
            <a:avLst/>
          </a:prstGeom>
          <a:noFill/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92360" y="5734080"/>
            <a:ext cx="1841760" cy="520200"/>
          </a:xfrm>
          <a:prstGeom prst="rect">
            <a:avLst/>
          </a:prstGeom>
          <a:noFill/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Support to countries additional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cc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ncreasing absorptive cap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9510800">
            <a:off x="5410440" y="3345840"/>
            <a:ext cx="41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213000"/>
            <a:ext cx="504720" cy="360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: scope of the GPS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and regional capac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ategic and technical direc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country capac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itoring and evaluation (include impa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ion (global, regional, coun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ocacy and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development and operational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6:42:27Z</dcterms:created>
  <dc:creator>Knut Lönnroth</dc:creator>
  <dc:description/>
  <dc:language>en-US</dc:language>
  <cp:lastModifiedBy>Leopold Blanc</cp:lastModifiedBy>
  <dcterms:modified xsi:type="dcterms:W3CDTF">2005-11-10T13:06:02Z</dcterms:modified>
  <cp:revision>84</cp:revision>
  <dc:subject/>
  <dc:title>Slide 1</dc:title>
</cp:coreProperties>
</file>