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A68A-BCA4-43B0-9D92-7E77C23A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6E58-2B9E-4295-A2E0-63040BD7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5B64-77CF-42F1-8876-9605A08C0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5AC0-5596-4355-9DE1-6929BE5F9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2202-D78A-4ACD-82A9-C84B0985E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92E3-4F6F-4C8F-8D4C-F28434C4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FB28-1B92-417D-AE34-A3146C88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ECF6-477A-410D-BEA9-3651D2DE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1493-1BB0-434E-8DD0-838634AE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0965-0E78-44F3-AE00-99C2184B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49B5-3A1F-44B8-A647-EEF70B42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7AB1-FB5E-46AC-9A9B-45FB91F7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B05B-8065-4F1F-B828-9FD0F49B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4D56-3EA1-4018-9BF8-68103BD4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4ADC-E2B0-4E08-9394-09E89733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40BE-5F32-472D-AAC0-A5B0C0195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F982-1A13-4E8A-A9A0-84905B35F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EEC7-FA14-45DE-955E-9639E42D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F1D3-2EAA-44CA-BCE4-48D63D60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D10E-5A42-4B42-A699-E90E4DFC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C8A9-BFD9-483E-809D-CDE6D205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BFCF-F293-4457-A4CC-B7CC0B81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8932-7BA7-406F-9AF3-EE99948E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499B-806E-4D53-9BDE-33E8E24E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7440-BA69-4F2B-81FB-EB068C9E91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F830-70C0-446A-87C4-2EF7F9AE15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4724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 </a:t>
            </a:r>
            <a:br>
              <a:rPr sz="3200"/>
            </a:b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National TB Control Programme </a:t>
            </a: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76320" y="76320"/>
            <a:ext cx="906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Stop TB Pakistan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Progresses and challeng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743280" y="2705040"/>
            <a:ext cx="1644840" cy="17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DF76-7779-4363-94A0-9E643608B36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STOP TB Pakistan: the partner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 officio: MOH represented by NTP Pakist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Pakistan being the host organ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-Agencies Coordination Committee memb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kistani partners of the Global Partnership willing to adh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ociations/institutions named by at least 2 part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resentation of CCM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B050-3909-4C43-BA04-7DAD6C127D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Progresses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U between WHO Pakistan  endors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ds for set up of secretariat for one year secur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s of Executive secretary and one secretary  adverti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 plan for next six months developed on the basis of the available funds including mass media campaign by Good will ambassador (Dec 05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380A-76CE-4150-A978-98064AA470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Challenge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hort Ter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aling with Earthquake v/s TB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ng Ter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TB control activities in Pakistan sustainable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468B-B183-4782-A36C-AB16BF7E51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Future Needs of the Partnership Secretariat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ources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ustain Stop TB secretariat beyond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Enhance the strength of the Secretariat (one Communication officer and one technical officer to be recruited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72FF-DA34-4610-8664-ABDC45307E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00"/>
                </a:solidFill>
                <a:latin typeface="Tahoma"/>
              </a:rPr>
              <a:t>Thank you!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505320" y="3733920"/>
            <a:ext cx="191268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4D59-FDE7-45C7-96F9-200C90F831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20600" y="0"/>
            <a:ext cx="736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Islamic Republic of Pakista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2880" y="159984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tion:140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/3rd below poverty 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th among the HBC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imated 250,000 new TB cases each ye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8AC1-A441-410E-8532-D17FFB2DA37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2819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Earth quake-8th October 2005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               4 million affected in AJK 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and NWFP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&gt;86000 Deaths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    2 million displaced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6E35-6957-433D-ACD3-48FBA77B4A4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066680" y="1398600"/>
            <a:ext cx="7010640" cy="461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64EB-EAF3-4230-99C1-0511EA512BA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85800" y="838080"/>
            <a:ext cx="7772400" cy="516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8AE7-67C4-44A5-8D69-53433404DC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480" y="1320840"/>
            <a:ext cx="7696440" cy="447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0D8A-1E09-4DD2-A146-B3D256D868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Mr Wasim Akram presenting the National Stop TB Partnership</a:t>
            </a:r>
            <a:br>
              <a:rPr sz="3200"/>
            </a:b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Lahore, 29th April 2004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38280" y="2700360"/>
            <a:ext cx="4496040" cy="309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5349-5D0D-49E4-88BD-160A1BBE2B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9800" y="536040"/>
            <a:ext cx="7770960" cy="8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cc00"/>
                </a:solidFill>
                <a:latin typeface="Tahoma"/>
              </a:rPr>
              <a:t>Stop TB Pakistan to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obilise additional sustainable social &amp; political sup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ordinate the implementation of the National strategy/plan developed by NTP for A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hance public and political perception of Stop TB Strate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gage non-traditional partners in the fight against TB and build alliances with other health and development initia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DB36-B74F-4364-98EA-7C9475FEB8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atalyzing approac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CC/ Social mobilization through GFA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aging private sector through GFATM/FIDELIS/ Go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aging IACC by revisiting its ro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0C54-D872-4A8D-A27D-F72DE65CBF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7T17:54:37Z</dcterms:created>
  <dc:creator/>
  <dc:description/>
  <dc:language>en-US</dc:language>
  <cp:lastModifiedBy>Waseem Abbas Qureshi</cp:lastModifiedBy>
  <cp:lastPrinted>1997-02-21T06:00:05Z</cp:lastPrinted>
  <dcterms:modified xsi:type="dcterms:W3CDTF">2005-11-10T13:33:34Z</dcterms:modified>
  <cp:revision>735</cp:revision>
  <dc:subject/>
  <dc:title>Tuberculosis Control and Prevention</dc:title>
</cp:coreProperties>
</file>