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91404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37E555F-22D8-43FD-B550-DFBBD6BF5D6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19840" y="6324480"/>
            <a:ext cx="181080" cy="39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848720" y="5867280"/>
            <a:ext cx="609480" cy="581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668920" y="3519360"/>
            <a:ext cx="3054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d4d4d"/>
                </a:solidFill>
                <a:latin typeface="Arial"/>
              </a:rPr>
              <a:t>Philip Hopewe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d4d4d"/>
                </a:solidFill>
                <a:latin typeface="Arial"/>
              </a:rPr>
              <a:t>Coordinating Board Mee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d4d4d"/>
                </a:solidFill>
                <a:latin typeface="Arial"/>
              </a:rPr>
              <a:t>Assis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d4d4d"/>
                </a:solidFill>
                <a:latin typeface="Arial"/>
              </a:rPr>
              <a:t>November 11,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947000" y="5889600"/>
            <a:ext cx="930240" cy="9684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361120" y="625320"/>
            <a:ext cx="3687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</a:rPr>
              <a:t>International Standards for Tuberculosis Care for All Pati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73040" y="888840"/>
            <a:ext cx="4635360" cy="51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Arial"/>
              </a:rPr>
              <a:t>Meaning of Endorsement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3600" spc="-1" strike="noStrike">
                <a:solidFill>
                  <a:srgbClr val="001950"/>
                </a:solidFill>
                <a:latin typeface="Arial"/>
                <a:ea typeface="Arial Unicode MS"/>
              </a:rPr>
              <a:t>Full support of document by the organiz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3600" spc="-1" strike="noStrike">
                <a:solidFill>
                  <a:srgbClr val="001950"/>
                </a:solidFill>
                <a:latin typeface="Arial"/>
                <a:ea typeface="Arial Unicode MS"/>
              </a:rPr>
              <a:t>Willing to participate in dissemin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3600" spc="-1" strike="noStrike">
                <a:solidFill>
                  <a:srgbClr val="001950"/>
                </a:solidFill>
                <a:latin typeface="Arial"/>
                <a:ea typeface="Arial Unicode MS"/>
              </a:rPr>
              <a:t>Willing to put society’s logo on the docu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3600" spc="-1" strike="noStrike">
                <a:solidFill>
                  <a:srgbClr val="001950"/>
                </a:solidFill>
                <a:latin typeface="Arial"/>
                <a:ea typeface="Arial Unicode MS"/>
              </a:rPr>
              <a:t>?? Willing to provide assistance in implement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i="1" lang="en-GB" sz="3200" spc="-1" strike="noStrike">
                <a:solidFill>
                  <a:srgbClr val="001950"/>
                </a:solidFill>
                <a:latin typeface="Arial"/>
                <a:ea typeface="Arial Unicode MS"/>
              </a:rPr>
              <a:t>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939960" y="167004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167004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239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ISTC: Implementation Plan:</a:t>
            </a:r>
            <a:br>
              <a:rPr sz="4400"/>
            </a:b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Activiti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00280" y="2019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lot studies in four count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sements by influential international professional socie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sement by international NG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sements by patient organiz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sements by members of Partnersh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ilization by donor agenc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711360" y="178452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1784520"/>
                    <a:ext cx="7746840" cy="58680"/>
                  </a:xfrm>
                  <a:prstGeom prst="rect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39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ISTC: Implementation Plan:</a:t>
            </a:r>
            <a:br>
              <a:rPr sz="4400"/>
            </a:b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Country-level Activiti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00280" y="2019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lot studies in four count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sements/dissemination by NTP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sement/dissemination by national professional socie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sement by national NG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sements by patient organiz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option by professional scho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711360" y="178452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1784520"/>
                    <a:ext cx="7746840" cy="58680"/>
                  </a:xfrm>
                  <a:prstGeom prst="rect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239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ISTC: Implementation Plan:</a:t>
            </a:r>
            <a:br>
              <a:rPr sz="4400"/>
            </a:b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General Activiti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00280" y="2019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generic formats and training materi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web si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711360" y="178452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1784520"/>
                    <a:ext cx="7746840" cy="58680"/>
                  </a:xfrm>
                  <a:prstGeom prst="rect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ISTC: Implementation Pla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99520" y="1495440"/>
            <a:ext cx="8488440" cy="5253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4000" spc="-1" strike="noStrike">
                <a:solidFill>
                  <a:srgbClr val="001950"/>
                </a:solidFill>
                <a:latin typeface="Arial"/>
                <a:ea typeface="Arial Unicode MS"/>
              </a:rPr>
              <a:t>Time line for Endorsem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Jun-Nov 2005: TBCTA Organizations, Stop TB C.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Dec- Mar 06: Int’l professional societies, Int’l NGOs, patient organiz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Mar 24, World TB Day: Official laun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Apr- and beyond: Country level endors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768240" y="123192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8240" y="123192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ISTC: Highligh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99840" y="1514160"/>
            <a:ext cx="8088120" cy="5234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Introdu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Standards apply to all providers in all sectors regardless of circumsta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Standards apply to patients of all ages, smear positive and negative, extra-pulmonary, MDR, TB/HI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All providers must recognize that they are assuming a public health function with a high degree of responsibility to the community and to the pat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Consistent with existing international guideli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920880" y="128916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0880" y="128916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ISTC: Highligh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Diagno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Who should be evalu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Microbiological evaluation (smear </a:t>
            </a:r>
            <a:r>
              <a:rPr b="1" lang="en-GB" sz="2400" spc="-1" strike="noStrike" u="sng">
                <a:solidFill>
                  <a:srgbClr val="001950"/>
                </a:solidFill>
                <a:uFillTx/>
                <a:latin typeface="Arial"/>
                <a:ea typeface="Arial Unicode MS"/>
              </a:rPr>
              <a:t>+</a:t>
            </a: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  culture) is essential (including children extra-pulmonary, and persons with radiographic abnormaliti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Specific criteria for smear-negative c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Assessment for HIV infection in persons at ris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939960" y="167004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167004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ISTC: Diagnosi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5520" y="1962000"/>
            <a:ext cx="457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 persons with otherwise  unexplained cough lasting for 2-3 weeks or more should be evaluated for tuberculosi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20680" y="2021040"/>
          <a:ext cx="4294080" cy="365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680" y="2021040"/>
                    <a:ext cx="4294080" cy="36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873000" y="1461960"/>
          <a:ext cx="7747200" cy="5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73000" y="1461960"/>
                    <a:ext cx="7747200" cy="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34440"/>
            <a:ext cx="7772400" cy="15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ISTC: Diagnosi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52600" y="1371240"/>
            <a:ext cx="7905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     </a:t>
            </a: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Microbiological evaluation (smear </a:t>
            </a:r>
            <a:r>
              <a:rPr b="1" lang="en-GB" sz="2400" spc="-1" strike="noStrike" u="sng">
                <a:solidFill>
                  <a:srgbClr val="001950"/>
                </a:solidFill>
                <a:uFillTx/>
                <a:latin typeface="Arial"/>
                <a:ea typeface="Arial Unicode MS"/>
              </a:rPr>
              <a:t>+</a:t>
            </a: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  culture) is essential for all patients (including children, extra-pulmonary, and persons with x ray abnormaliti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07800" y="2633760"/>
            <a:ext cx="4361040" cy="38034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821120" y="2619360"/>
            <a:ext cx="3997440" cy="3857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6" name=""/>
          <p:cNvGraphicFramePr/>
          <p:nvPr/>
        </p:nvGraphicFramePr>
        <p:xfrm>
          <a:off x="939960" y="1212840"/>
          <a:ext cx="7746840" cy="9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39960" y="1212840"/>
                    <a:ext cx="7746840" cy="9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5051520" y="6561000"/>
            <a:ext cx="3860640" cy="1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ISTC</a:t>
            </a: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 </a:t>
            </a: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: Highligh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0760" y="145728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Treatm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Provider is responsible for prescribing an adequate regimen and ensuring adher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Preferred regimen: 6 months with RIF througho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Alternative regimen: 8 months - RIF in initial ph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A patient-centered approach should be developed for all patients:this includes measures to assess compliance and address poor compli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Patients to be monitored for response to therap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HIV testing for all patients and ARVs if indic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Assessment of likelihood of drug resistance/consultation for patients  at risk of having disease caused by resistant </a:t>
            </a:r>
            <a:r>
              <a:rPr b="1" i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M TB</a:t>
            </a: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939960" y="1346040"/>
          <a:ext cx="7746840" cy="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1346040"/>
                    <a:ext cx="7746840" cy="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Tuberculosis Consortium for Technical Assistance (TBCTA)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81200" y="1657080"/>
            <a:ext cx="761976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tch Tuberculosis Foundation (KNCV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tional Union Against Tuberculosis and Lung Disease (IUATL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.S. Centers for Disease Control and Prevention (CD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ld Health Organization (WH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n Thoracic Society (A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352520" y="1584360"/>
          <a:ext cx="6362640" cy="7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2520" y="1584360"/>
                    <a:ext cx="6362640" cy="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ISTC: Treatmen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47960" y="1638360"/>
            <a:ext cx="3809880" cy="44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    </a:t>
            </a: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A patient-centered, individualized  approach to treatment should be developed for all patients. A central element is the use of measures to assess adherence and to address poor adher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>
            <a:lum bright="12000"/>
          </a:blip>
          <a:srcRect l="0" t="13812" r="0" b="0"/>
          <a:stretch/>
        </p:blipFill>
        <p:spPr>
          <a:xfrm>
            <a:off x="685800" y="1770120"/>
            <a:ext cx="3924360" cy="4270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7" name=""/>
          <p:cNvGraphicFramePr/>
          <p:nvPr/>
        </p:nvGraphicFramePr>
        <p:xfrm>
          <a:off x="844560" y="1247760"/>
          <a:ext cx="7746840" cy="58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4560" y="124776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ISTC</a:t>
            </a: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 </a:t>
            </a: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: Highligh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3600" spc="-1" strike="noStrike">
                <a:solidFill>
                  <a:srgbClr val="001950"/>
                </a:solidFill>
                <a:latin typeface="Arial"/>
                <a:ea typeface="Arial Unicode MS"/>
              </a:rPr>
              <a:t>Public Health Responsibilit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3200" spc="-1" strike="noStrike">
                <a:solidFill>
                  <a:srgbClr val="001950"/>
                </a:solidFill>
                <a:latin typeface="Arial"/>
                <a:ea typeface="Arial Unicode MS"/>
              </a:rPr>
              <a:t>Requirement to see that high-risk contacts are evalua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3200" spc="-1" strike="noStrike">
                <a:solidFill>
                  <a:srgbClr val="001950"/>
                </a:solidFill>
                <a:latin typeface="Arial"/>
                <a:ea typeface="Arial Unicode MS"/>
              </a:rPr>
              <a:t>Requirement for reporting c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939960" y="167004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167004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36520" y="361800"/>
            <a:ext cx="8678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93300"/>
                </a:solidFill>
                <a:latin typeface="Arial"/>
                <a:ea typeface="Arial Unicode MS"/>
              </a:rPr>
              <a:t>ISTC: Public Health Responsibilities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429160" y="1981080"/>
            <a:ext cx="3486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    </a:t>
            </a: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Requirement to see that high-risk contacts are evalu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    </a:t>
            </a: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Requirement for reporting ca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85800" y="1816200"/>
            <a:ext cx="4552920" cy="4448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7" name=""/>
          <p:cNvGraphicFramePr/>
          <p:nvPr/>
        </p:nvGraphicFramePr>
        <p:xfrm>
          <a:off x="888840" y="1424160"/>
          <a:ext cx="7747200" cy="58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8840" y="142416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536040" y="1176120"/>
            <a:ext cx="8114040" cy="532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The ISTC are intended to describe a widely accepted level of care, that all practitioners, public and private, should follow in dealing with patients who have or are suspected of having tuberculos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These standards provide a platform on which tuberculosis care can be bas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The ISTC will serve as a companion to the Patient Char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787320" y="1152360"/>
          <a:ext cx="7747200" cy="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52360"/>
                    <a:ext cx="7747200" cy="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1187280" y="6453360"/>
            <a:ext cx="460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Draft April 8,200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90520" y="217440"/>
            <a:ext cx="859320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Purpose of the ISTC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60240" y="59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38088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"/>
              </a:rPr>
              <a:t>ISTC: Development Proces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73200" y="1981080"/>
            <a:ext cx="78105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</a:rPr>
              <a:t>Funded (Oct 1, 2004) by USAID / TBC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</a:rPr>
              <a:t>Cochairs: Mario Raviglione (WHO) and Phil Hopewell (A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</a:rPr>
              <a:t>Coordinated by A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</a:rPr>
              <a:t>Steering Committee of 28 members from 14 different countr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</a:rPr>
              <a:t>Evidence-based with commissioned systematic review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98400" y="1822320"/>
          <a:ext cx="7747200" cy="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1822320"/>
                    <a:ext cx="7747200" cy="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ISTC: Steering Committ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Selected to provide perspectives, not represent organiz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Perspectives include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Nursing                             Technical agenc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Pediatrics                          MDR T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Patients                             TB/HI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Medical Students              Laborator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NTPs                                  Academic medic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NGOs                                 WH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Professional Societies    Private sec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787320" y="155592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5592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3300"/>
                </a:solidFill>
                <a:latin typeface="Arial"/>
                <a:ea typeface="Arial Unicode MS"/>
              </a:rPr>
              <a:t>ISTC Development Proces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1743120"/>
            <a:ext cx="914400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Presented to WHO Strategic and Technical Advisory Group in June 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Presented to WHO regional and country advisors meeting in Jun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Presented to “Megameeting” (3 implementation WGs) in Versailles in October and to special session of the Union at the annual confere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ndorsed by KNCV, ATS, WHO, the Union and CDC (all TBCTA organizations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787320" y="155592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5592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ISTC: Next Step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  <a:ea typeface="Courier New"/>
              </a:rPr>
              <a:t>Present to Stop TB Coordinating Board November 11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  <a:ea typeface="Courier New"/>
              </a:rPr>
              <a:t>Final document by Decemb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  <a:ea typeface="Courier New"/>
              </a:rPr>
              <a:t>Seek endors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  <a:ea typeface="Courier New"/>
              </a:rPr>
              <a:t>Broad dissemination, implementation, evaluat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787320" y="155592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5592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3300"/>
                </a:solidFill>
                <a:latin typeface="Arial"/>
                <a:ea typeface="Arial Unicode MS"/>
              </a:rPr>
              <a:t>ISTC: Questions to be addressed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600" spc="-1" strike="noStrike">
                <a:solidFill>
                  <a:srgbClr val="001950"/>
                </a:solidFill>
                <a:latin typeface="Arial"/>
                <a:ea typeface="Courier New"/>
              </a:rPr>
              <a:t>Format (or country-specific formats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600" spc="-1" strike="noStrike">
                <a:solidFill>
                  <a:srgbClr val="001950"/>
                </a:solidFill>
                <a:latin typeface="Arial"/>
                <a:ea typeface="Courier New"/>
              </a:rPr>
              <a:t>Exact (country specific) uses of docu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600" spc="-1" strike="noStrike">
                <a:solidFill>
                  <a:srgbClr val="001950"/>
                </a:solidFill>
                <a:latin typeface="Arial"/>
                <a:ea typeface="Courier New"/>
              </a:rPr>
              <a:t>Publication strateg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600" spc="-1" strike="noStrike">
                <a:solidFill>
                  <a:srgbClr val="001950"/>
                </a:solidFill>
                <a:latin typeface="Arial"/>
                <a:ea typeface="Courier New"/>
              </a:rPr>
              <a:t>Pilot study si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600" spc="-1" strike="noStrike">
                <a:solidFill>
                  <a:srgbClr val="001950"/>
                </a:solidFill>
                <a:latin typeface="Arial"/>
                <a:ea typeface="Courier New"/>
              </a:rPr>
              <a:t>Monitoring and evalu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787320" y="155592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5592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255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93300"/>
                </a:solidFill>
                <a:latin typeface="Arial"/>
                <a:ea typeface="Arial Unicode MS"/>
              </a:rPr>
              <a:t>ISTC</a:t>
            </a: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:  </a:t>
            </a:r>
            <a:r>
              <a:rPr b="1" lang="en-US" sz="3600" spc="-1" strike="noStrike">
                <a:solidFill>
                  <a:srgbClr val="993300"/>
                </a:solidFill>
                <a:latin typeface="Arial"/>
              </a:rPr>
              <a:t>Objectives of the Presentation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99840" y="1418760"/>
            <a:ext cx="8088120" cy="41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600" spc="-1" strike="noStrike">
                <a:solidFill>
                  <a:srgbClr val="001950"/>
                </a:solidFill>
                <a:latin typeface="Arial"/>
              </a:rPr>
              <a:t>To seek endorsement by the Coordinating Boar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600" spc="-1" strike="noStrike">
                <a:solidFill>
                  <a:srgbClr val="001950"/>
                </a:solidFill>
                <a:latin typeface="Arial"/>
              </a:rPr>
              <a:t>To seek advice on process for endorsement and dissemin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600" spc="-1" strike="noStrike">
                <a:solidFill>
                  <a:srgbClr val="001950"/>
                </a:solidFill>
                <a:latin typeface="Arial"/>
              </a:rPr>
              <a:t>To seek advice on ways to implement and evaluate the ISTC at country level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692280" y="119376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119376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0T15:03:20Z</dcterms:created>
  <dc:creator>LamyQuiqueS</dc:creator>
  <dc:description/>
  <dc:language>en-US</dc:language>
  <cp:lastModifiedBy>phopewell</cp:lastModifiedBy>
  <cp:lastPrinted>2003-04-10T14:23:01Z</cp:lastPrinted>
  <dcterms:modified xsi:type="dcterms:W3CDTF">2005-11-02T21:25:44Z</dcterms:modified>
  <cp:revision>458</cp:revision>
  <dc:subject/>
  <dc:title>Progress in Global Tuberculosis Control 1995-97</dc:title>
</cp:coreProperties>
</file>