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2E86-7C0C-4724-B9B8-714B52607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2C13-00A4-4F7D-B31C-DFF1E5F9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E47B-C0BF-442A-B8B6-817694699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7E76-79EF-4312-A0E7-7D4175073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72E9-AFF0-4B26-BDD1-72265947B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5A1A-5DD5-4CB4-B6B8-B6F76854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266B-DBBD-4821-9840-B4E4E6B3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AC8D-12BD-48EE-AE80-114AFD52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6738A-5D99-431B-B8A0-94887426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2359-FFE6-4D87-93BF-BCBB8239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86AC-E1AC-455F-994E-7D03DA41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6429-7EAD-4FAF-8C34-F59D0E67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66F39-C998-4493-8596-1296F54A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EF5E-683E-4498-9911-896BB0FA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79D2-0D07-4B48-95E5-DFDCD561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4084-0CF3-42C0-945D-B42EF7E72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4C17-C7AF-4276-91A1-E895EA156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31C2-A7C9-4AFF-9202-B9E11673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D312-C389-4CD0-9F14-F68290D2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844A-7F3D-4123-9B89-C515BFCF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6263-4E33-4792-9F98-5B462FAB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6496-777C-4CE4-A686-DE445B69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1EA7-BE74-45B1-8F77-1C7D5692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3734-6CD8-489F-A8E5-90CDB904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3F48-7581-4751-A24B-FF5BF6A4FF7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F36C-4FFE-4257-A999-A5CCA55D4BC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1280" y="1628640"/>
            <a:ext cx="8964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Tahoma"/>
              </a:rPr>
              <a:t>THE GLOBAL PLAN: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Tahoma"/>
              </a:rPr>
              <a:t>THE COST OF GLOBAL TB CONTRO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Giorgio Roscigno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Coordinating Board Meeting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0 November, 2005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ssisi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Financing </a:t>
            </a:r>
            <a:br>
              <a:rPr sz="3600"/>
            </a:b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implication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Plan to be used for resource mobilis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Implications for national governmen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Implications for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465280" y="905040"/>
            <a:ext cx="4224600" cy="597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resentation o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lobal Plan to Stop TB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7080" y="1413000"/>
            <a:ext cx="867564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Outline of presentation on the Global Pla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Background: the planned achievemen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Cos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messag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Financing implication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Background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Ten years' planned achievements: highlights of the Global 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50 million people treated for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14 million lives save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Stop TB Partnership targets for 2015 achieved global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Tremendous progress in all reg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First new TB drug for 40 years in 2010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Diagnostics at point of care – rapid, sensitive and inexpensive TB diagnosis by 2010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New, safe, effective and affordable vaccine by 201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Global Plan </a:t>
            </a:r>
            <a:br>
              <a:rPr sz="3600"/>
            </a:b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cos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Country needs, R &amp;D, external agenc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Investment according to Working 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Available funding and ga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8569080" cy="512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8713800" cy="494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896472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Key messag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640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A global plan for a global campaig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$56 billion investment yields large rewards: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50 million TB patients treat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14 million lives sav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Need to collaborate with others to succe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The ultimate goal depends on continued innovation (in vaccines, drugs and diagnostic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We can get there! PLAN X RESOURCES = RESULT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maherd</cp:lastModifiedBy>
  <dcterms:modified xsi:type="dcterms:W3CDTF">2005-11-08T16:48:53Z</dcterms:modified>
  <cp:revision>146</cp:revision>
  <dc:subject/>
  <dc:title>Slide 1</dc:title>
</cp:coreProperties>
</file>