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FB2B-51DF-4B8A-83B3-31FCB49D5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80F6-30F1-4FB2-BB04-B9BC24312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5A08-9A2E-4C25-B3E8-D01867EA6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8EBD-CDF6-451D-A436-D1587C02C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5DA5-E57D-44F8-B5D4-F4D216DD1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AA9D-F158-41C6-85A3-497837A79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56EA-1B01-462A-B368-CACD1D68D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17DF-9592-4F8E-8940-D1B25D3F1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9A42-994D-4CF5-B034-E7CDD5EB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76B1-E745-4D47-A247-5F37DD77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8549-E560-4B08-A325-269A768E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DED4-0FE3-4543-BD45-637DE1D1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A896E-D7A6-43B4-9087-EF5F82F0DF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24360" y="228600"/>
            <a:ext cx="5067360" cy="66294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5410080" y="21337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228600"/>
            <a:ext cx="33526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stimated 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3, 0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ll cases of TB not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 2004: 105, 7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+ PTB:  41,467( 39% of all cas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ase notification rate: All 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20/100,000 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ase notification rate S+ P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25/1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stimated HIV prevalence in TB Patients  -over 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DRTB – Less than 1% of smear + PT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20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utum sme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icroscopy centres (1/54, 000 popul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849640" y="3952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Expected Donor Support to NLTP -2006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066680"/>
          <a:ext cx="8229600" cy="5708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FATM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0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PFAR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6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AID ( non PEPF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alian Gra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O( Biennium)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DF*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DA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GAC/WHO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,7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Funding Needs - 200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295280"/>
          <a:ext cx="8229600" cy="53294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ateg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Estimated Need (US$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Available Funds (US$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Gap (US$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S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 6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00,000*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1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B/H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, 8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2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 6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TS-Expansion and Qual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,094,2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0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0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TS-PL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 96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960,000*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,454,2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,66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794,2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carious funding status for the TB          (TB/HIV) control effort in Keny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ignificant funding g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itional financial resources should be coupled with strengthened capacity to utilize the resources ( responsive in country fund disbursement system and additional HR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8T19:49:39Z</dcterms:created>
  <dc:creator>Dr Chakaya</dc:creator>
  <dc:description/>
  <dc:language>en-US</dc:language>
  <cp:lastModifiedBy>user</cp:lastModifiedBy>
  <dcterms:modified xsi:type="dcterms:W3CDTF">2005-11-10T13:54:18Z</dcterms:modified>
  <cp:revision>4</cp:revision>
  <dc:subject/>
  <dc:title>Slide 1</dc:title>
</cp:coreProperties>
</file>