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942D-8DBD-4B43-BE12-642EABFB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A67-3398-46A4-8DA3-D984776F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102-8A6E-45BD-B8C2-C8D647A7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9870-8650-4415-8574-4302F9F3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B9DE-5959-4D1B-889C-781F28C7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A96B-8B81-4603-A4B6-C3462F2A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BC81-A55E-4221-AC2D-CAFBBE51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9D61-9621-4DD6-B6E9-857AC1CC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8B72-FC63-4BAA-A200-186562FD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7421-02B5-444C-94AB-D3018542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D501-DB39-4CA0-9A66-99D1EAA2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4623-1AE5-4CBE-BAB9-5AAB00D0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322A-005C-45A4-8960-6FD8DDD6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88F4-240C-4189-B288-9DDFD25B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D8A7-3028-42D3-B38E-0153D9C5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D15C-9EEE-46C6-B496-26CA2058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940F-5F55-4046-B5FB-A8622BB4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655-03C0-4916-BAAE-599B81FF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8E5-1D6E-4637-9619-867BC14A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957-5F90-4FDC-9076-D00F85F8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F7A-399C-475F-B394-B05941DB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4A68-6C7C-484A-8292-76F8026C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DE4-E0F6-4876-8B9F-9906AED2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121-5695-4B7D-9D5C-47D4C439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E0C3-7F3E-4127-B2D6-3EB64A9A6413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4EEC-4D3B-4D16-8DD1-46519C7E85DC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Patient Ch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quest to the CB is to endorse the draft of the Patient Charter and encourage the Secretariat to support the launch the final version of the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403280" y="6524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2nd draft of the Patients´ Charter of the Tuberculosis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utline both the Rights and Responsibilities of those infected by TB and to empower people with the disease and their communities through thi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 tandem with the International Standards for Tuberculosis Care – focus on a “patient-centred approa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right aspect: “Right to heal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principles for more accountability and mutual interaction among all stakeholders within TB control – from patients to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 righ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free and equitable access to TB-care, from diagnosis to treatment and cure according to patients nee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Dign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be treated with respect and a quality health care in a dignifi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know what health care services are available  for T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clear and understandable information about the dis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information about diagnosis, treatment, drugs, side-eff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share experiences with peers and voluntary counseling at any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Cho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accept or refuse any medication, investigation or treatment and be informed about the consequen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whether or not take part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Privac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ersonal privacy, dignity and religious and cultural beliefs respect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have medical conditions kept confid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ompla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Right to complain through channels provided for this purpose and dealt with promptly and fair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appeal to a higher authority if not res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organiz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in/establish organisation and groups of people with or affected by T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articipate as “stakeholders” in all levels of TB contr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secur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b security after diagnosis and appropriate rehabilit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nutritional security or food supplements if needed to meet treat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s´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share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vide health care provider with necessary information about their health and possible close conta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follow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ollow prescribed and agreed treatment and protect oth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form the health care provider of treatment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defend the commun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ncourage others to seek medical advice when showing TB symptom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consideration for the rights of other patients and health care provid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be empowe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solidarity with other pati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are knowledge gained during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Join in efforts to make the community TB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09:59:51Z</dcterms:modified>
  <cp:revision>16</cp:revision>
  <dc:subject/>
  <dc:title>COMMUNITY EMPOWERMENT</dc:title>
</cp:coreProperties>
</file>