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51000" y="640404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WHO - Stop TB 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3960" y="6556320"/>
            <a:ext cx="6164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Overview of WHO Stop TB Department Financing Challeng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33600"/>
            <a:ext cx="64008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r. Mario Raviglione, Director, STB/W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Stop TB Coordinating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Assisi, 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10 Nov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00080" y="1249200"/>
            <a:ext cx="7081920" cy="274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nspecified funding </a:t>
            </a:r>
            <a:br>
              <a:rPr sz="36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004-2005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in US$ Million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933560" y="2185920"/>
          <a:ext cx="5322960" cy="3351240"/>
        </p:xfrm>
        <a:graphic>
          <a:graphicData uri="http://schemas.openxmlformats.org/drawingml/2006/table">
            <a:tbl>
              <a:tblPr/>
              <a:tblGrid>
                <a:gridCol w="2782800"/>
                <a:gridCol w="2540160"/>
              </a:tblGrid>
              <a:tr h="339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unding 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AID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XEMBOURG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TZERLAND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LY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ontribution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br>
                        <a:rPr sz="2000"/>
                      </a:b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.3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5.7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328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nspecified funding provided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y WHO to the Department </a:t>
            </a:r>
            <a:br>
              <a:rPr sz="36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004-2005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in US$ Million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31960" y="1981080"/>
          <a:ext cx="5322960" cy="4376880"/>
        </p:xfrm>
        <a:graphic>
          <a:graphicData uri="http://schemas.openxmlformats.org/drawingml/2006/table">
            <a:tbl>
              <a:tblPr/>
              <a:tblGrid>
                <a:gridCol w="2782800"/>
                <a:gridCol w="2540160"/>
              </a:tblGrid>
              <a:tr h="437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unding 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HERLANDS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WA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ELAND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M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MARK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with a soft-earmark  to 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ontribution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br>
                        <a:rPr sz="2000"/>
                      </a:b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2.4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unding Gap</a:t>
            </a:r>
            <a:br>
              <a:rPr sz="36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006-2007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1422360" y="5071680"/>
            <a:ext cx="921384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cluding R and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pected commitment of unspecified $:  4% decrease from 2004-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90520" y="2184480"/>
          <a:ext cx="8607240" cy="3539520"/>
        </p:xfrm>
        <a:graphic>
          <a:graphicData uri="http://schemas.openxmlformats.org/drawingml/2006/table">
            <a:tbl>
              <a:tblPr/>
              <a:tblGrid>
                <a:gridCol w="2568600"/>
                <a:gridCol w="1509840"/>
                <a:gridCol w="1842840"/>
                <a:gridCol w="1162080"/>
                <a:gridCol w="1523880"/>
              </a:tblGrid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Estim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ee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Expected Commi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AP as  % of Nee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 Plan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5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0 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.15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O – TUB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RB, unsp, spec. Partnershi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5.2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9.8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specified funding f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top TB 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7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3 M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.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op TB Partnership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including GDF drug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.9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.8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064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urrent and new sources of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echnical assistance fin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6480" y="1633320"/>
            <a:ext cx="8483400" cy="44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BCAP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(USAID-supported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–large potential for TA expansion across key areas, but not for funding of international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EPFAR 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A support quite limited now via WHO (3-4 countries over 2 years) and CDC – limiting capacity to harness large source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IDA and Italian Cooperation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cellent for front-line support in targeted countries, but limited funding for international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orld Bank –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ly very limited TA financing so far to enable planning and implementation of TB/HIV actions via the "MAPs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lobal Fund –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ill exploring how to fund even mandated roles of G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astern Europe – USAI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nancing for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A will decline, but no major new partners yet ident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igher transaction cost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created by different approaches for each channel of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re unspecified funding to WHO, and via the Stop TB Partnership to other partners, is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isks if no increase in support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o WH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low or no scale-up of technical assistance especially for HBCs and high-rate countries in Africa and Eastern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expanded capacity fo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boratory assist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ttle, and poorly-coordinated, measurement of TB control impact and progress to MD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in-kind support to the Stop TB Partnership, and no further transfers of 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mited documentation and sharing of lessons learned in scaling up new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 gap in unspecified f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ed funding growing but heavily dependent on 1 to 2 don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$5-10m more additional unspecified funds critical to maintain status q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begin accelerating the initial phase of Global Plan 2, we need at least US$10-15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bjec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8080" y="1719000"/>
            <a:ext cx="8935920" cy="43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 to CB request for overview of WHO budget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 challenges of increased demands and decreasing size and flexibility of funding for TA and other cor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is as partially reflective of situation faced by other technical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CB efforts to fill gaps for range of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46512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panding functions for the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O Stop TB Networ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5480" y="1677960"/>
            <a:ext cx="8237520" cy="46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 for emergency responses in Africa and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 for regional/national long-term planning and acceleration proposed in th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Glob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wing demand for TA associated with Global Fund, TBCAP, PEPFAR, &amp; World Bank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date to measure progress towards the MDGs and TB control imp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cretariat functions for Partnership working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and for further policy and TA to strengthen labora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and to build on our collaboration in health system strengthe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and for operational research across the elements of  the Stop TB Strategy, including prep. for roll-out of new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828720"/>
            <a:ext cx="55609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op TB Director’s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Director: Dr M. Ravigl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eadership, policy, planning, finance and communications coord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5920" y="1927080"/>
            <a:ext cx="1771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ordinator: Dr L. Bla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40200" y="1890720"/>
            <a:ext cx="1650960" cy="6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ordinator: Dr C. D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5840" y="2792520"/>
            <a:ext cx="2271600" cy="18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Bef>
                <a:spcPts val="1063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 Narrow"/>
              </a:rPr>
              <a:t>DOTS Expans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63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en-US" sz="1700" spc="-1" strike="noStrike">
                <a:solidFill>
                  <a:srgbClr val="000066"/>
                </a:solidFill>
                <a:latin typeface="Arial Narrow"/>
              </a:rPr>
              <a:t>Innovative approaches and health systems strengthen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938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 Narrow"/>
              </a:rPr>
              <a:t>GFATM and Monitor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92840" y="2278080"/>
            <a:ext cx="2232000" cy="30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 Narrow"/>
              </a:rPr>
              <a:t>Administration, Finance, Human Resources &amp; Information Technolo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 Narrow"/>
              </a:rPr>
              <a:t>Global Drug Fac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 Narrow"/>
              </a:rPr>
              <a:t>Communication, Advocacy,</a:t>
            </a:r>
            <a:br>
              <a:rPr sz="1600"/>
            </a:br>
            <a:r>
              <a:rPr b="1" lang="en-GB" sz="1600" spc="-1" strike="noStrike">
                <a:solidFill>
                  <a:srgbClr val="000066"/>
                </a:solidFill>
                <a:latin typeface="Arial Narrow"/>
              </a:rPr>
              <a:t>Partnership, WGs, External Relations and Resources </a:t>
            </a:r>
            <a:br>
              <a:rPr sz="1600"/>
            </a:br>
            <a:r>
              <a:rPr b="1" lang="en-GB" sz="16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080" y="2462040"/>
            <a:ext cx="1935000" cy="144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346200" y="1465200"/>
            <a:ext cx="12600" cy="3603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03120" y="1836360"/>
            <a:ext cx="5931000" cy="190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48320" y="1324080"/>
            <a:ext cx="269568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p TB Partnership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Exec. Sec.: Dr M. Esp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38760" y="2755800"/>
            <a:ext cx="18032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Surveillance &amp;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Epidemiology &amp; foreca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Economics &amp; finan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9600" y="2193840"/>
            <a:ext cx="2354400" cy="144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818240" y="2417760"/>
            <a:ext cx="1690560" cy="144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63920" y="1897200"/>
            <a:ext cx="1755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ordinator: Dr P. Nu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571840"/>
            <a:ext cx="253368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24040" y="2790720"/>
            <a:ext cx="1981440" cy="22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Bef>
                <a:spcPts val="1063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 Narrow"/>
              </a:rPr>
              <a:t>Support to DOTS Expansion for Afric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63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 Narrow"/>
              </a:rPr>
              <a:t>TB/HIV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63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 Narrow"/>
              </a:rPr>
              <a:t>Drug resistance respon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938"/>
              </a:spcBef>
              <a:buClr>
                <a:srgbClr val="0000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41600" y="2431800"/>
            <a:ext cx="1836720" cy="140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4200" y="774720"/>
            <a:ext cx="5734080" cy="71424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45280" y="1101600"/>
            <a:ext cx="1758960" cy="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02440" y="1098720"/>
            <a:ext cx="14400" cy="272880"/>
          </a:xfrm>
          <a:prstGeom prst="line">
            <a:avLst/>
          </a:prstGeom>
          <a:ln w="19080">
            <a:solidFill>
              <a:srgbClr val="cc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30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WHO Stop TB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3360" y="5032440"/>
            <a:ext cx="2203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66"/>
                </a:solidFill>
                <a:latin typeface="Arial"/>
              </a:rPr>
              <a:t>6 </a:t>
            </a:r>
            <a:r>
              <a:rPr b="1" lang="en-GB" sz="1700" spc="-1" strike="noStrike">
                <a:solidFill>
                  <a:srgbClr val="000066"/>
                </a:solidFill>
                <a:latin typeface="Arial Narrow"/>
              </a:rPr>
              <a:t>Regional</a:t>
            </a:r>
            <a:r>
              <a:rPr b="1" lang="en-GB" sz="1700" spc="-1" strike="noStrike">
                <a:solidFill>
                  <a:srgbClr val="000066"/>
                </a:solidFill>
                <a:latin typeface="Arial"/>
              </a:rPr>
              <a:t> TB Tea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6680" y="5796000"/>
            <a:ext cx="2388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66"/>
                </a:solidFill>
                <a:latin typeface="Arial Narrow"/>
              </a:rPr>
              <a:t>33 Countries with TB Staf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76040" y="941400"/>
            <a:ext cx="43200" cy="431496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2880" y="5275440"/>
            <a:ext cx="2514600" cy="1404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0560" y="5270400"/>
            <a:ext cx="273240" cy="14400"/>
          </a:xfrm>
          <a:prstGeom prst="line">
            <a:avLst/>
          </a:prstGeom>
          <a:ln w="19080">
            <a:solidFill>
              <a:srgbClr val="cc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95800" y="5437080"/>
            <a:ext cx="1440" cy="34632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47840" y="5018040"/>
            <a:ext cx="2178360" cy="39708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95640" y="5776920"/>
            <a:ext cx="2324160" cy="3967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4200" y="949320"/>
            <a:ext cx="279360" cy="1440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20160" cy="98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verall challenges in meeting WHO's budget across areas of wor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31680"/>
            <a:ext cx="8229600" cy="46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limited regular budget, and increased share to regional and country offices (4% RB increase for RO/CO on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Extrabudgetary" sources – growing aid flows, but much going to global health initiatives, e.g. GF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emergencies (natural disasters, bioterrorism, avian influenza) demand major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 devaluation (over 20% increase in staff costs for 2006-200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4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O 2006-2007 Programme Budget</a:t>
            </a:r>
            <a:br>
              <a:rPr sz="28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S$134.5M for Tuberculosis Area of Work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cluding Stop TB Partnershi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06440" y="1566720"/>
          <a:ext cx="8404200" cy="474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66720"/>
                    <a:ext cx="840420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47760" y="6037200"/>
            <a:ext cx="5718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– Other sourc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B – Regular bud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002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B Funding Trend</a:t>
            </a:r>
            <a:br>
              <a:rPr sz="36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000 - 200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93840" y="1401840"/>
            <a:ext cx="8494560" cy="4957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44720" y="6270480"/>
            <a:ext cx="55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3% decrease in unspecified funding, 2004 to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3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onor Funding by Type  2004-2005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O Stop TB Depart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34880" y="1465200"/>
          <a:ext cx="8709120" cy="47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465200"/>
                    <a:ext cx="87091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ully TB project-specified funding </a:t>
            </a:r>
            <a:br>
              <a:rPr sz="36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004-2005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in US$ Million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425600" y="1444680"/>
          <a:ext cx="6454800" cy="4919760"/>
        </p:xfrm>
        <a:graphic>
          <a:graphicData uri="http://schemas.openxmlformats.org/drawingml/2006/table">
            <a:tbl>
              <a:tblPr/>
              <a:tblGrid>
                <a:gridCol w="3346560"/>
                <a:gridCol w="3108240"/>
              </a:tblGrid>
              <a:tr h="493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unding 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I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A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CV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L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ARVARD&amp; JOHN HOPKINS UNIVERSITY-GA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ID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EDEN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ontribu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6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br>
                        <a:rPr sz="1800"/>
                      </a:br>
                      <a:r>
                        <a:rPr b="1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50.2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22:17:28Z</dcterms:created>
  <dc:creator>mr</dc:creator>
  <dc:description>OER activities</dc:description>
  <dc:language>en-US</dc:language>
  <cp:lastModifiedBy>Professional Video</cp:lastModifiedBy>
  <cp:lastPrinted>2003-04-09T13:32:20Z</cp:lastPrinted>
  <dcterms:modified xsi:type="dcterms:W3CDTF">2005-11-10T10:14:02Z</dcterms:modified>
  <cp:revision>321</cp:revision>
  <dc:subject/>
  <dc:title>OER s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36133258</vt:r8>
  </property>
  <property fmtid="{D5CDD505-2E9C-101B-9397-08002B2CF9AE}" pid="3" name="_AuthorEmail">
    <vt:lpwstr>weild@who.int</vt:lpwstr>
  </property>
  <property fmtid="{D5CDD505-2E9C-101B-9397-08002B2CF9AE}" pid="4" name="_AuthorEmailDisplayName">
    <vt:lpwstr>Weil, Diana</vt:lpwstr>
  </property>
  <property fmtid="{D5CDD505-2E9C-101B-9397-08002B2CF9AE}" pid="5" name="_EmailSubject">
    <vt:lpwstr>STB Dept -Mario-Assisi Nov05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