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BDF1-3546-4119-B2D9-16FF430F3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5261-6DE8-4DEF-B863-3E53DB0F7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22604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4408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3096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94408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43096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000" y="274320"/>
            <a:ext cx="734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2604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424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66"/>
                </a:solidFill>
                <a:latin typeface="Berlin Sans FB Demi"/>
                <a:ea typeface="Gungsuh"/>
              </a:rPr>
              <a:t>Africa Blueprint :  Progress since Addis and proposed next steps 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573408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Haileyesus Getah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STOP TB Depar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8900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89000"/>
            <a:ext cx="871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Stop TB Partnership Coordinating Board Meeting, November 10-11, Assisi, Ita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Why the Blueprint?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lin Sans FB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TB incidence fell or was stable in all WHO regions except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TB incidence is rising more quickly in HIV prevalent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Reaching the TB MDGs and Stop TB targets globally will depend on  expanding and consolidating DOTS and tackling  the effects of HIV in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i="1" lang="en-GB" sz="3200" spc="-1" strike="noStrike">
                <a:solidFill>
                  <a:srgbClr val="ffff66"/>
                </a:solidFill>
                <a:latin typeface="Berlin Sans FB"/>
              </a:rPr>
              <a:t>Therefor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66"/>
                </a:solidFill>
                <a:latin typeface="Berlin Sans FB"/>
              </a:rPr>
              <a:t>unprecedented collective action is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The Blueprin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Linked to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the Second Global Plan to Stop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Provides guidance on activities and  financial needs for 2006-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Provides key recommendation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The Stop TB Partnership 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African governments and health polic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NGOs, Donor and Technical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Needs 2.2 Billion U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Achievements (May 05- Oct 05)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90792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Declaration of regional TB emerg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WHO Regional Committee meeting-August 200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Countries should develop emergency strategies and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erlin Sans FB"/>
              </a:rPr>
              <a:t>Noted in global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NTP managers meeting in Harare this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Official endorsement by the African U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WHA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Berlin Sans FB"/>
              </a:rPr>
              <a:t>Gaborone Declaration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endorsed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G8 Gleneagles Communiqué - call for action in Afric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based on Stop TB's statement of need; endorsed call for Ministerial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Informal meeting of technical staff of G8 in follow-up and proposed steps for 9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Berlin Sans FB Demi"/>
              </a:rPr>
              <a:t>Achievements (May 05- Oct 05)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Support for Regional Stop TB Part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Secretariat allocated fund for AF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Technical assistance for need assessment for 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Engagement with World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B&amp;M Gates Foundation-funded analysis of economic impact of TB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Discussion on ways to increase financing via WB mechanisms (eg MA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22 Global Fund TB proposals appro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More than half (USD 106 million) was for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GDF provided drugs to 15 count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TBCAP project (USAID) for 8 African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Berlin Sans FB Demi"/>
              </a:rPr>
              <a:t>Proposed next steps (6 months)</a:t>
            </a: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Continue working with African U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TB as an agenda in Heads of State sum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Expedite Africa Stop TB Part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Political commitment, multisectoral involvement and coordination among technical agencies and do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Guidance to increase priority to TB into national development agendas (eg PRSPs, SWAp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Assist in emergency medium and long term plan dev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Select first wave of countries and coordinate the 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High level missions to donors and high burden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Berlin Sans FB"/>
              </a:rPr>
              <a:t>WB, ADB, OGAC/PEPFAR,  EU and bilateral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Proposed next steps (6 months)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Work with partners to address human resources 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Training of middle level health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Country specific retention and remuneration strate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Work with the government of Nigeria to link the ministerial meeting with the planned Heads of state meeting on HIV, TB and Mal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Start planning for the next Stop TB forum in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Commit and generate finance and coordinate 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9:30:15Z</dcterms:created>
  <dc:creator>getahunh</dc:creator>
  <dc:description/>
  <dc:language>en-US</dc:language>
  <cp:lastModifiedBy>getahunh</cp:lastModifiedBy>
  <dcterms:modified xsi:type="dcterms:W3CDTF">2005-11-10T06:41:50Z</dcterms:modified>
  <cp:revision>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72503382</vt:r8>
  </property>
  <property fmtid="{D5CDD505-2E9C-101B-9397-08002B2CF9AE}" pid="3" name="_AuthorEmail">
    <vt:lpwstr>weild@who.int</vt:lpwstr>
  </property>
  <property fmtid="{D5CDD505-2E9C-101B-9397-08002B2CF9AE}" pid="4" name="_AuthorEmailDisplayName">
    <vt:lpwstr>Weil, Diana</vt:lpwstr>
  </property>
  <property fmtid="{D5CDD505-2E9C-101B-9397-08002B2CF9AE}" pid="5" name="_EmailSubject">
    <vt:lpwstr>Presentation at Assisi for commen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