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C5F-161E-4D51-AAA2-A41EB5C9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957-1E95-490C-8F46-13F6F5D8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AB98-9F70-41ED-AAC4-AE7B799C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17D-1875-4D4F-8A1B-0BA73BE5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25BE-D6FC-4411-8784-2FC74A05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F3B4-6803-4E56-991A-726AE3D9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AFE2-8038-40E0-A4BE-7D130E8B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3985-3C68-4173-BD5F-05496850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EE52-0BFD-4C6B-8C32-5E83940A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9387-73C0-4F85-A1F7-15CAFC6E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5112-FB99-402F-A125-5FA57FB0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5092-2A34-4AD4-A320-16101DF1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3068-7C29-4231-B3C8-C2A8128D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F6D6-8B20-4A31-9A9E-481A91F7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EDA3-4ACA-469E-A483-B9EA1FE9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E400-BED3-4C4F-A91A-3D0ABDB0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A90D-7A83-403F-AF87-91DC95A1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EDD1-35B7-4DB4-A625-41293348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1A7-0FA3-4016-A021-85084ECC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ED7-B00E-48AF-BC4B-17847B4B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266-E841-406A-AA8A-21D053F4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32A7-95C6-4A37-B920-917CA4D7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767-6765-4947-8955-028D1161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84C-8487-44F6-84C2-A97E30DE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9734-0E08-44D8-9937-AD660A4551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B7CC-2E06-4AFA-B590-DF7B124F01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top TB Partnershi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OCHON A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5 Establishment of an Annual Stop TB Partnership/Kochon Foundation P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$ 100 000 to cover the prize and associated costs (travel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 to the Foundation by representatives of Koch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re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ablish Selection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ce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tment to fighting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iginality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n TB Control or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ect of a Partnership/Kochon Award on the work of the recip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Board Member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vember 2005: Establish Selection Committee (3 Board Members + WHO + Koch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ember 2005: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bruary 2006: Deadline for no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ch 2006: Prize Aw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te 2006: 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26:09Z</dcterms:created>
  <dc:creator>bakerl</dc:creator>
  <dc:description/>
  <dc:language>en-US</dc:language>
  <cp:lastModifiedBy>bakerl</cp:lastModifiedBy>
  <dcterms:modified xsi:type="dcterms:W3CDTF">2005-11-09T16:35:54Z</dcterms:modified>
  <cp:revision>2</cp:revision>
  <dc:subject/>
  <dc:title>Stop TB Partnership </dc:title>
</cp:coreProperties>
</file>