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CBC5-5065-4CC2-9F41-B583FA8B8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the figures are cumulative, and that they exclude the number of consul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2, which is based on the assumption of a higher number of applications than scenario 1, will require hiring even more staff over the course of the expansion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8AF-E35D-4496-8196-005C9899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F97-4272-47FB-A5BD-6B15E642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C684-C06C-4FBC-BF93-E93CB1D3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20FA-4AB7-49BF-8C4D-A7EAAF16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094-8FD2-4C73-B48D-B26B6207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8FC7-880E-44D7-8563-1B65161C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A6E-A3AC-4DD5-915D-69901D52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FA1-9844-4E15-9FE8-8E5DDA03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1437-CE2D-47AB-B3A3-48DD9038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16EF-7451-4165-8957-1EE8D327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781-4E79-4E5B-9B9E-1D1DBC86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950-CE3A-4320-9EA8-E70C58B9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F88C-4E55-46BE-B567-BD6899866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32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 for operationalizing the Strategic Plan of the Working Group on DOTS-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4859280" y="1197000"/>
            <a:ext cx="3376800" cy="446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39640" y="2166840"/>
            <a:ext cx="338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ment of MDR-TB integrated into routine activities of TB control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800,000 MDR-TB patients to be treated over the next 10 years at estimated cost of US$6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760" y="123840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Strategic Plan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13400" y="5735520"/>
            <a:ext cx="39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 Thelma Tupasi, Chair of W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ng Board meet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ja, Nigeria,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 1: Increased and sustained  commitment to scale-up sound TB control programme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rowth projections for scaling up MDR-TB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297080"/>
            <a:ext cx="8137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03280" y="1766880"/>
          <a:ext cx="6840720" cy="1733400"/>
        </p:xfrm>
        <a:graphic>
          <a:graphicData uri="http://schemas.openxmlformats.org/drawingml/2006/table">
            <a:tbl>
              <a:tblPr/>
              <a:tblGrid>
                <a:gridCol w="2200320"/>
                <a:gridCol w="1108080"/>
                <a:gridCol w="1211400"/>
                <a:gridCol w="1109520"/>
                <a:gridCol w="1211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22408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3334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90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2: Human resourc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7720" y="3933720"/>
            <a:ext cx="459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 of properly tr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 for scaling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country level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es of GLC staff needs at WHO HQ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onal and countr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592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 3: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st of the MDR-TB burden estimated is not being been diagn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052640"/>
            <a:ext cx="799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976320"/>
          <a:ext cx="875664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87566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51280" y="3141720"/>
            <a:ext cx="259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4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dete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869000"/>
            <a:ext cx="22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T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468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WHO/STB/T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4: Drug supp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quantity of quality-assured manufacturers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35772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 procures 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ven drugs from six manufacturers, all of them meeting at least GMP standards of WHO or a stringent drug regula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date on WHO Prequalific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 seven manufacturer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dossiers submit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anufacturer WHO GMP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roduct yet WHO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87640" y="1411200"/>
            <a:ext cx="3754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dressing the challenges for operationalizing the Strategic Plan of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ed commitment to scal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siness plan for the GLC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est to the GFATM to contribute funding GL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ry level plans for MDR-TB scale up in key countries (China, India, Russ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 for training trainers on MDR-TB management through WHO and part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termine the gap in human resources at 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Global Plan for Strengthening laboratory capacity, including culture and drug 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WHO Prequalif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ngthen the GLC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ing the size of the market of second-line anti-TB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9:37:35Z</dcterms:created>
  <dc:creator>jaramilloe</dc:creator>
  <dc:description/>
  <dc:language>en-US</dc:language>
  <cp:lastModifiedBy>bakerl</cp:lastModifiedBy>
  <dcterms:modified xsi:type="dcterms:W3CDTF">2006-05-02T15:00:24Z</dcterms:modified>
  <cp:revision>41</cp:revision>
  <dc:subject/>
  <dc:title>WHO's role in addressing drug-resistant tuberculosis: opportunities and challeng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