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12.jpeg" ContentType="image/jpeg"/>
  <Override PartName="/ppt/media/image7.jpeg" ContentType="image/jpeg"/>
  <Override PartName="/ppt/media/image13.jpeg" ContentType="image/jpeg"/>
  <Override PartName="/ppt/media/image8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27.wmf" ContentType="image/x-wmf"/>
  <Override PartName="/ppt/media/image26.png" ContentType="image/png"/>
  <Override PartName="/ppt/media/image14.png" ContentType="image/png"/>
  <Override PartName="/ppt/media/image25.jpeg" ContentType="image/jpeg"/>
  <Override PartName="/ppt/media/image24.jpeg" ContentType="image/jpeg"/>
  <Override PartName="/ppt/media/image21.jpeg" ContentType="image/jpeg"/>
  <Override PartName="/ppt/media/image22.jpeg" ContentType="image/jpeg"/>
  <Override PartName="/ppt/media/image1.jpeg" ContentType="image/jpeg"/>
  <Override PartName="/ppt/media/image15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2F2-A254-47BB-89C9-4D876DFB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1C7-6D7A-4421-90DD-D97D3C54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A9D-897C-480F-AE65-AFEFD474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122-B184-4CC0-A9F1-5321A54D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B3D-90E7-47A7-830E-738AC483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860-B005-430E-A433-9E5A3A00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FCCD-ECEF-4348-B838-92A3CA7F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F35-3D6C-445F-A075-C35EA19D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6C6-2F18-48CC-AA56-2917C700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F7D-3CD7-439E-91FB-C89EEF69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E8D6-5602-49E7-9138-A24DFF8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8814-9C94-4DD2-BE16-86F6F43B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D60D-62D0-4812-8515-BA3D65BC2B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toptb.org/events/partners_forum/2004/default.as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h/imgres?imgurl=http://www.imakinaria.com/archives/mh-bullseye.jpg&amp;imgrefurl=http://www.imakinaria.com/archives/2004_10.html&amp;h=600&amp;w=800&amp;sz=80&amp;tbnid=UUbWhQZIJ2yl5M:&amp;tbnh=106&amp;tbnw=142&amp;hl=en&amp;start=8&amp;prev=/images%3Fq%3Dbullseye%26svnum%3D10%26hl%3Den%26lr%3D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wetogospelchor.de/show/index.htm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" descr="Keeping the Ple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5378400"/>
            <a:ext cx="5470560" cy="1479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76400" cy="3324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84360" y="2205000"/>
            <a:ext cx="3724200" cy="2714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3995640" y="1197000"/>
            <a:ext cx="5000760" cy="332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084720" y="3533760"/>
            <a:ext cx="2876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AT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pportunity!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989000"/>
            <a:ext cx="86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s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ible platfor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ling 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ing of successes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nouring TB hero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light key constituenci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igh level advocac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ster compet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higher profile for TB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tellite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far NOT an inclusive ev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413000"/>
            <a:ext cx="78483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ndated in Partnership structure and procedures as the body to which all other elements of the Partnership are answer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ved by the Board and WHO in the 2006-7 workplan and already earmarked by donors for funding through the trust fund ($366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oard committed to Forum in Africa in the Bluepri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ed to fully implement and fund the Global Pl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       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bjective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1773360"/>
            <a:ext cx="73436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oice for constituencies o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ng summ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place for connecting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luence policy in host country and through bilateral CB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lebrate countries that have reached 2005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trends in implementing 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port on external review of Partnership and call for endorsement of recommend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36440"/>
            <a:ext cx="2087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7991640" cy="499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 flipV="1">
            <a:off x="5076360" y="508464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203280" y="486864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7019640" y="314136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5292360" y="4508280"/>
            <a:ext cx="647640" cy="71892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92360" y="57340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87640" y="5373720"/>
            <a:ext cx="647640" cy="71928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623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apet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6000" y="57340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494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Nairob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12000" y="371628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ij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77336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844640"/>
            <a:ext cx="7128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mi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ing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olicy Chang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ase of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st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348680" y="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97640" y="4508640"/>
            <a:ext cx="174636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724360" y="3284640"/>
            <a:ext cx="1798920" cy="170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7236000" y="2421000"/>
            <a:ext cx="2122200" cy="181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651640" y="5383080"/>
            <a:ext cx="18302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br>
              <a:rPr sz="4800"/>
            </a:br>
            <a:r>
              <a:rPr b="0" lang="en-GB" sz="4800" spc="-1" strike="noStrike">
                <a:solidFill>
                  <a:srgbClr val="0000ff"/>
                </a:solidFill>
                <a:latin typeface="Arial Rounded MT Bold"/>
              </a:rPr>
              <a:t>Johannesburg</a:t>
            </a:r>
            <a:br>
              <a:rPr sz="4800"/>
            </a:br>
            <a:endParaRPr b="0" lang="en-US" sz="48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773360"/>
            <a:ext cx="8820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um in Africa answers to the CB commitment make in the Blueprint for Afr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 willingness to host Forum is being explo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for positive policy change is substantial given positive signals from Deputy President and Presid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st savings are potentially large if linked to the Capetown IUATLD meeting.  Media attention can be managed strategically to benefit both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rastructure, transport and media access are very g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Let's make something to celebrate in South Africa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7840"/>
            <a:ext cx="82440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r>
              <a:rPr b="0" lang="en-GB" sz="5400" spc="-1" strike="noStrike">
                <a:solidFill>
                  <a:srgbClr val="0000ff"/>
                </a:solidFill>
                <a:latin typeface="Arial Rounded MT Bold"/>
              </a:rPr>
              <a:t>October 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484280"/>
            <a:ext cx="820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stantial cost savings if the Forum is held immediately before the IUATLD Congress in Capetown, end of October, 2007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a messages can be managed with IUATLD to ensure a WIN-WIN scenario: a media crescendo throughout the forum and congress peri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timing will allow us – starting now – to build momentum,  secure very high level involvement, prepare background papers and communication products,  secure venue, ensure consul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543040" cy="1704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99160" y="3597120"/>
            <a:ext cx="4344840" cy="326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Participants in the First Technical Advisory Group Meeting to Stop TB in the Western Pacific Region"/>
          <p:cNvPicPr/>
          <p:nvPr/>
        </p:nvPicPr>
        <p:blipFill>
          <a:blip r:embed="rId3"/>
          <a:stretch/>
        </p:blipFill>
        <p:spPr>
          <a:xfrm>
            <a:off x="1619280" y="2133720"/>
            <a:ext cx="4562280" cy="2438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651640" y="1332000"/>
            <a:ext cx="3492360" cy="202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250920" y="4000680"/>
            <a:ext cx="367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cut Africa High prevalence rate in half from 2006 baseline by 2015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8200"/>
            <a:ext cx="914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13000"/>
            <a:ext cx="76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ship Secretariat l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ittees for major areas of work and overs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fessional project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cal advocacy part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usiness community as KEY local and global part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ssibility of a secondment to the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 South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95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e3ebf1"/>
                </a:solidFill>
                <a:latin typeface="Arial Rounded MT Bold"/>
              </a:rPr>
              <a:t>Discussion Points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tellite events: research meet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ckground docum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bi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lusive or inclusi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udget limi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litical advocacy strate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ccess criter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49920" y="3789360"/>
            <a:ext cx="24940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WHAT IF?</a:t>
            </a:r>
            <a:br>
              <a:rPr sz="15000"/>
            </a:b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reach fair financing goals for all HBCs and major donors?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534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knew exactly what new research programmes to ask for from EU and NIH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64000" y="2852640"/>
            <a:ext cx="2233440" cy="3506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2106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659640" y="2781360"/>
            <a:ext cx="219528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2852640"/>
            <a:ext cx="17240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ALL Stop TB Partners could connect and collaborate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866960"/>
            <a:ext cx="83516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3ebf1"/>
                </a:solidFill>
                <a:latin typeface="Arial"/>
              </a:rPr>
              <a:t>What if we could attract MORE very high level champions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1593720"/>
            <a:ext cx="74883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ffffff"/>
                </a:solidFill>
                <a:latin typeface="Arial Rounded MT Bold"/>
              </a:rPr>
              <a:t>FORUM</a:t>
            </a:r>
            <a:br>
              <a:rPr sz="15000"/>
            </a:br>
            <a:r>
              <a:rPr b="1" lang="en-GB" sz="150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15000" spc="-1" strike="noStrike">
              <a:solidFill>
                <a:srgbClr val="e3ebf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Board Decisio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Whe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Can the Secretariat start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Arial Rounded MT Bold"/>
              </a:rPr>
              <a:t>Forum </a:t>
            </a:r>
            <a:r>
              <a:rPr b="1" lang="en-GB" sz="5400" spc="-1" strike="noStrike">
                <a:solidFill>
                  <a:srgbClr val="0000ff"/>
                </a:solidFill>
                <a:latin typeface="Arial Rounded MT Bold"/>
              </a:rPr>
              <a:t>2007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re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W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Rounded MT Bold"/>
              </a:rPr>
              <a:t>How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7:43:55Z</dcterms:created>
  <dc:creator>England</dc:creator>
  <dc:description/>
  <dc:language>en-US</dc:language>
  <cp:lastModifiedBy>bakerl</cp:lastModifiedBy>
  <dcterms:modified xsi:type="dcterms:W3CDTF">2006-05-02T15:16:21Z</dcterms:modified>
  <cp:revision>30</cp:revision>
  <dc:subject/>
  <dc:title>Slide 1</dc:title>
</cp:coreProperties>
</file>