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42C1-949A-4300-A6CF-4909EF43A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at the figures are cumulative, and that they exclude the number of consul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ario 2, which is based on the assumption of a higher number of applications than scenario 1, will require hiring even more staff over the course of the expansion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1379-2AFA-4BAD-98BF-B0484175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28A-3A34-4484-96BD-44A16301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2DDF-FB5D-42E0-8789-58F7A666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AF0-63E7-4BE2-B8C7-8E24B64E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3C3-BADB-4AFB-B0C6-DD2C8A31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91C-9E15-403A-B42C-62BDA0B9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277-A907-4C82-BD53-C8B0E968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210-94B8-4DF5-8300-D95CF2C7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54B-322E-4AE6-BDC9-0797C6BFD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BE3-6A99-4BD9-85E4-939E3FAD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8B5-D8DC-48CE-9D8F-2854EBB0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3FD-CC62-4937-B853-E73939E7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B8F5-A042-4FA2-B984-819CB8AE1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9325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s for operationalizing the Strategic Plan of the Working Group on DOTS-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4859280" y="1197000"/>
            <a:ext cx="3376800" cy="446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39640" y="2166840"/>
            <a:ext cx="33829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agement of MDR-TB integrated into routine activities of TB control program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800,000 MDR-TB patients to be treated over the next 10 years at estimated cost of US$6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760" y="1238400"/>
            <a:ext cx="46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implementatio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f the Strategic Plan of the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13400" y="5735520"/>
            <a:ext cx="39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 Thelma Tupasi, Chair of W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ordinating Board meeting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uja, Nigeria, April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 1: Increased and sustained  commitment to scale-up sound TB control programme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growth projections for scaling up MDR-TB manage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1297080"/>
            <a:ext cx="813744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403280" y="1766880"/>
          <a:ext cx="6840720" cy="1733400"/>
        </p:xfrm>
        <a:graphic>
          <a:graphicData uri="http://schemas.openxmlformats.org/drawingml/2006/table">
            <a:tbl>
              <a:tblPr/>
              <a:tblGrid>
                <a:gridCol w="2200320"/>
                <a:gridCol w="1108080"/>
                <a:gridCol w="1211400"/>
                <a:gridCol w="1109520"/>
                <a:gridCol w="1211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enario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3789360"/>
            <a:ext cx="2224080" cy="2808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4360" y="133344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89000"/>
            <a:ext cx="813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2: Human resources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57720" y="3933720"/>
            <a:ext cx="4599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 of properly t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ed for scaling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R-TB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country level is 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timates of GLC staff needs at WHO HQ,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onal and countr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592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llenge 3: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st of the MDR-TB burden estimated is not being been diagn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1052640"/>
            <a:ext cx="79912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0" y="976320"/>
          <a:ext cx="8756640" cy="581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875664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51280" y="3141720"/>
            <a:ext cx="2592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4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detection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869000"/>
            <a:ext cx="2266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estimated 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ST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468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WHO/STB/T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llenge 4: Drug supp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quantity of quality-assured manufacturers an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35772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C mechanism procures onl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ven drugs from six manufacturers, all of them meeting at least GMP standards of WHO or a stringent drug regulatory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date on WHO Prequalificatio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 seven manufacturers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dossiers submit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anufacturer WHO GMP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roduct yet WHO ap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87640" y="1411200"/>
            <a:ext cx="375444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ddressing the challenges for operationalizing the Strategic Plan of the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ed commitment to scal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siness plan for the GLC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quest to the GFATM to contribute funding GLC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untry level plans for MDR-TB scale up in key countries (China, India, Russia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 for training trainers on MDR-TB management through WHO and partn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termine the gap in human resources at countr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oratory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Global Plan for Strengthening laboratory capacity, including culture and drug 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ug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lerate the WHO Prequalification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ngthen the GLC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ing the size of the market of second-line anti-TB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9:37:35Z</dcterms:created>
  <dc:creator>jaramilloe</dc:creator>
  <dc:description/>
  <dc:language>en-US</dc:language>
  <cp:lastModifiedBy>bakerl</cp:lastModifiedBy>
  <dcterms:modified xsi:type="dcterms:W3CDTF">2006-05-02T15:00:24Z</dcterms:modified>
  <cp:revision>41</cp:revision>
  <dc:subject/>
  <dc:title>WHO's role in addressing drug-resistant tuberculosis: opportunities and challeng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