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F936-2DE9-4317-959D-BED8735CC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FF1A-6175-4CDC-872A-334C84D34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9682-C91D-4C42-836B-102D6DC58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A50C-D761-4BF8-B71C-6AE1764E5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DA872-2C8C-47BF-A406-E7C30368B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23BF1-9A32-4EB6-8678-B78769BEE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A2754-F746-487C-8470-75F5AEDC2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38B93-EC28-4439-8FB9-848359E9E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C699D-C306-4CF8-9518-75A8B347F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E538C-0852-4E36-BDF3-F9CB9E3B1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BEF8C-B2EA-469A-A9AB-EACF842F3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BDF6-6CE5-4671-908E-2E779819D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94F61-41EE-4012-889C-1FD3A51D4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E28FC-AE8A-4C9F-BB25-8DC710C5E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6A0AE-DF54-43E1-B764-45D60A639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4F187-66EA-44E6-9CC9-2DC7881D9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C6C1B-8CDF-412E-8DFE-4CAF98295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0D48-6C8C-484D-9827-3BB4DA3A5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1595-E263-4783-99C9-FF0220764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E01C-A531-4E5C-97F9-6B32FB40C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131C-F4F3-43D3-9867-D747E65B1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83A1-1D17-40E7-94F6-F293AA5A6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727C-4BF8-4655-8D65-C6F08E5A0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BD17-391C-429D-83F5-D1E12FC12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803C7-E172-437B-B81A-B9F9DFA734BA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25530-92F2-407F-9E25-3CAB57E7BFEA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66"/>
                </a:solidFill>
                <a:latin typeface="Arial"/>
              </a:rPr>
              <a:t>Overcoming Challenges to Implementing the Global Plan 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ne Cunningh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retariat, STOP TB Working Group on New Diagnostic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1" name=""/>
          <p:cNvGraphicFramePr/>
          <p:nvPr/>
        </p:nvGraphicFramePr>
        <p:xfrm>
          <a:off x="0" y="792000"/>
          <a:ext cx="9144000" cy="6066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92000"/>
                    <a:ext cx="9144000" cy="606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0" y="304920"/>
            <a:ext cx="9036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argets for Test Introduction Leading to Sustainable Adoptio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669999"/>
                </a:solidFill>
                <a:latin typeface="Arial"/>
              </a:rPr>
              <a:t>Engaging Industry   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      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w level awarenes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&amp;D cos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rket 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gulatory hurdl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duct distrib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or infra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nowledge into policy chang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nking TB to HIV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ublic sector funding for basic and use-inspired research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rket analysis repor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tailed study in 7 HB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lobal Drug Facility Mode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alth and lab systems strengthening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rong international convening power and influenc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449000" y="114624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stac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95880" y="1066680"/>
            <a:ext cx="165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669999"/>
                </a:solidFill>
                <a:latin typeface="Arial"/>
              </a:rPr>
              <a:t>Technical &amp; Financial Challenges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         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crobiological challen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chnologies fai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velopment cost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ublic sector funding for basic research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velopment portfolio must be risk-balanced comprising multiple options at each level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nancial commitments covering the entire planning phase of the projec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449000" y="114624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stac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096240" y="1066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669999"/>
                </a:solidFill>
                <a:latin typeface="Arial"/>
              </a:rPr>
              <a:t>Organizational issu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ransition from an "interest group" that promotes network building…..to a "working group" will require dedicated staff tied to milestones and deliverab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Proposed subgroups – latent TB infection, diagnostic trials, market entry, advocacy, use-inspired research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669999"/>
                </a:solidFill>
                <a:latin typeface="Arial"/>
              </a:rPr>
              <a:t>STOP TB Coordinating Board Respons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Endorse and advocate for research for new diagnostic tool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Develop and operationalize 're-tooling' concep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Financial investment that spans broad areas of research and  spans the full development pathwa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Responsive to new knowledge====changes in policy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1T11:54:49Z</dcterms:created>
  <dc:creator>cunninghamj</dc:creator>
  <dc:description/>
  <dc:language>en-US</dc:language>
  <cp:lastModifiedBy>bakerl</cp:lastModifiedBy>
  <dcterms:modified xsi:type="dcterms:W3CDTF">2006-05-02T15:02:36Z</dcterms:modified>
  <cp:revision>20</cp:revision>
  <dc:subject/>
  <dc:title>Overcoming Challenges to Implementing the Global Plan </dc:title>
</cp:coreProperties>
</file>