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6F0F-CD33-451B-AFFB-31C86F35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EC1-8647-4150-80CB-25F631E9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CC5-42CA-4855-BECF-D4981562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692-EA5B-42AA-8E41-347F02F9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DAA-264D-44D7-97E2-E21B7995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0F7-BF13-4FEE-867E-EEA518E5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5F7-6F62-4D62-BA99-F1E48322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0FA1-766F-445B-AA93-1799A1E3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78B-4C6D-43E9-B149-FF6E13BB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9E6-0F0A-478B-9708-6230113F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C871-0DCE-46F3-876F-D4FD6B71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C83B-6D76-4C4C-B2CA-BF66C93A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B963-2ECE-4DBA-8C1B-3F7459932D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High Lev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berculosis – a regional emerg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enhagen, 16-17 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presentation to Coordinating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on lates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e comments and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high level mission to participate in Ministerial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Development Goal for TB and Stop-TB targets may not be met in Africa and Eastern Europe/Central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stern Europe major problems with high MDR-TB rates and increasing TB-HIV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clared tuberculosis regional emergency in Europe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versies on techn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xternal support from Western Europe (health concerns versus development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 and objectiv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 progress towards achieving MDGs and targets for TB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political and financial support to TB control in line with Global Plan 2006-2015 in priorit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awareness and commitments of European and other international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European Stop-TB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Committee (chair Zaleskis) and Steering Committee (chair Borgdorff) established in Jan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and place set: 16-17 October 2006 in Copenh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 letter ready, to be signed by Regional Director and Minister of Health of Finland (EU Presidenc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f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es: Ministers of Health, Finance (East), Justice (East), Foreign Affairs/Development Cooperation (West), as well as selecte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al programme draf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el discussions on the TB threat (incl MDR-TB and TB-HIV), collaboration between European countries, and bridging the financial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and adoption of Copenhagen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ing the Stop TB Partnership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declaration being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cy plan being finalised, including pre-events in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documents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‘ next steps’ in preparation (from regional to national emergency; development of country p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budget $ 300,000 – 35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: number of participants, location, air f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s so f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29,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-TB Partnership/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 5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gap: in the order of $  1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ntributions expected or applied for: TB societies (Netherlands, Russia, Finland), USAID, Gate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yet directly from Western European Governments, except reception by Govt of Finland (EU presidency), and support from Italy through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6:27:26Z</dcterms:created>
  <dc:creator>kncv</dc:creator>
  <dc:description/>
  <dc:language>en-US</dc:language>
  <cp:lastModifiedBy>bakerl</cp:lastModifiedBy>
  <dcterms:modified xsi:type="dcterms:W3CDTF">2006-05-02T15:11:46Z</dcterms:modified>
  <cp:revision>5</cp:revision>
  <dc:subject/>
  <dc:title>European High Level Ministerial Forum  Tuberculosis – a regional emergency</dc:title>
</cp:coreProperties>
</file>