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99F-2183-4CC2-B2D6-1C64554C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1B7-7072-4829-A8B9-9E206154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DA67-DC7F-42E3-9495-B888A533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CCE9-9608-4E60-99A4-25DDE495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620B-0959-418C-A65C-D21D0935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28BC-FE66-49AC-B74B-5F7C6AA1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AF91-531D-4CEE-8ABE-D64A13A8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96E2-6C92-4E97-A758-B54CC5CF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B813-DC32-4C28-BEA5-BE26BF76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5237-3FE4-4AA2-ABFE-130685A2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2B76-37EB-4AED-83FF-03AEB15D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0AED-B996-4FDD-9FE9-E9B04EDA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FF1F-61F3-4614-887B-700BF4BE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BABA-B88B-4AB6-942E-B469906C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B5B1-4A29-4CDF-BE1F-86B831AB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BBC3-0074-4223-AC18-96103EC1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46FB-02DB-4588-931F-F0CA417D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9F35-3B6D-4B45-B864-34AEB11A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28B1-D59D-4214-8662-75B57257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DF9E-E1D0-45FA-AC6A-8BB634A6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CA2-14AB-4468-846E-7350806E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9ED7-3633-48F2-9366-35DE2750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BBC8-1C28-42BC-B90A-08DD0807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6698-1DF6-448B-8BD4-07377EBE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FDD0-66EC-4DE0-A1C0-CFA52475857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D41A-1B90-4FF5-B987-9A537D37582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buja 24-25 April, 2006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gress on commitments made by the WHO Regional Office for Africa during the 8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2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resource mobilization for scaling up TB control activities at country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nd implement TB Strategic Information systems for Programme monitoring and evaluation at all leve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rican leadership for TB Control has been re-affi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special urgent need to strengthen the human resource and financial capacity of Programmes at country and WHO Regional office levels to intensify and scale up TB Control interven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ry ownership, partnerships and coordination of TB control interventions under the leadership of national authorities are key for su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thank you for your atten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pres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mitments made by the WHO Regional Office for Africa during the 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Coordinating Board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s undertake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allen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ay forwar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mitments made during the 8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Coordinating Board meet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ocate with African leadership for increased action against TB in the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pt a Regional Roadmap for intensifying TB Control action towards the MD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aborate with Stop TB Partnership secretariat to organize an African TB Financing Summit during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vocating with African leadership for increased action against TB in the Region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A Resolution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declaring TB an Emergency in the African Region was adopted by the 55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session of the Regional Committee for Africa in August 2005 in Mapu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RD has formally called upon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echnical and financial partners [Stop TB Partnership, IUATLD, KNCV, USAID, CDC, CIDA, etc), regional economic and technical bodies (AU, SADC, ECSA,ECOWAS, OCEAC, etc] and Ministers of Health of the African Region to support implementation of the Resoluti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ritten commitments to support operationalisation of the Resolution has been obtained from Regional economic communities including the AU, OCEAC and SAD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th technical support from WHO (AFRO &amp; HQ), the Conference of East, Central and Southern African Ministers of Health (ECSA) adopted a Resolution ratifying the Maputo declaration and committing to operationalize it at country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egional Medium term Strategic Plan for TB Control 2006-2010 is being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Regional guideline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for operationalizing the Maputo Resolution at country level are being develop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A Regional Plan of Action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r implementing the Maputo Resolution has been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ional TB Advocacy, Communication and Social Mobilization Strategy (ACSM) is being developed in collaboration with Stop TB Partnership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cess to recruit Regional TB ACSM focal point is underway with funding from the Stop TB Part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B focal points have been placed in each of AFRO’s 3 inter-country team location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priority diseases (Ouagadougou, Libreville and Hara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Costed Inter country support team (ICST) Programmes of 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2006-2007 have been elaborated with respective WRs and ICST sta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echnical support is being provided to countries and Regional Economic Communities to develop frameworks and plans of action for responding to the Res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TB declared as an emergency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in some countries and process to declare an emergency underway in oth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Emergency plans developed and launched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some countries and under development in ot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Actions undertaken: Collaborate with Stop TB Partnership secretariat to organize an African TB Financing Summit during 2006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FRO is committed to work with Stop TB Partnership to organize the financing summit within 2006 on a date and venue to be agr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lleng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ak Programme management capacity for strategic planning, monitoring and evaluation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decentralization of TB services for increased access and better coverage for maximum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human resources for implementation and scale up TB control interventions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adequate financial resources at all levels for intensified TB control activities in the Reg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1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 scale up of intensified TB control interventions in high burden countries (prevalence &gt;300 per 100,000 popul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 / build and sustain national capacity for implementation, monitoring and evaluation of intensified TB control interven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e coordination of partner interventions by national authorities through implementation of a common action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/ build partnerships for TB control at all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08:23:02Z</dcterms:created>
  <dc:creator>nkhomaw</dc:creator>
  <dc:description/>
  <dc:language>en-US</dc:language>
  <cp:lastModifiedBy>bakerl</cp:lastModifiedBy>
  <dcterms:modified xsi:type="dcterms:W3CDTF">2006-05-02T15:06:27Z</dcterms:modified>
  <cp:revision>38</cp:revision>
  <dc:subject/>
  <dc:title>TB CONTROL IN THE AFRICAN REGION</dc:title>
</cp:coreProperties>
</file>