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3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8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3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3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8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8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3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3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3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8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8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8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38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38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38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38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9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3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38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8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38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3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8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3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3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8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38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651000" y="638964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"/>
              </a:rPr>
              <a:t>WHO - Stop TB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440" y="6527880"/>
            <a:ext cx="5351400" cy="2844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62080" y="5992920"/>
            <a:ext cx="87624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HO Task Force on Health System Strengthening and TB Contro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. Rifat Atun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erial College, London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sk Force Chair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p TB Coordinating Board Meeting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buja, Nigeria     25 April, 2006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eds and areas for collaboration within next 6 months and 2 year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4160" y="1720440"/>
            <a:ext cx="8219880" cy="463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12880" indent="-8128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  <a:ea typeface="Times New Roman"/>
              </a:rPr>
              <a:t>Enhance normative, country assistance and analytic work within the frame of WHO's own work programme and efforts with partners</a:t>
            </a:r>
            <a:endParaRPr b="0" lang="en-US" sz="2600" spc="-1" strike="noStrike">
              <a:solidFill>
                <a:srgbClr val="6666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  <a:ea typeface="Times New Roman"/>
              </a:rPr>
              <a:t>Expand active collaboration with health system strengthening and financing initiatives </a:t>
            </a:r>
            <a:endParaRPr b="0" lang="en-US" sz="2600" spc="-1" strike="noStrike">
              <a:solidFill>
                <a:srgbClr val="6666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  <a:ea typeface="Times New Roman"/>
              </a:rPr>
              <a:t>Develop and share analytic tool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—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  <a:ea typeface="Times New Roman"/>
              </a:rPr>
              <a:t>pursue operational research opportunities to develop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  <a:ea typeface="Times New Roman"/>
              </a:rPr>
              <a:t>case studies as examples of good practice and lessons to inform decisions on HSS efforts and retooling</a:t>
            </a:r>
            <a:endParaRPr b="0" lang="en-US" sz="26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ving forward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6280" y="193824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Collaboration moving forward in all 3 areas: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Further canvassing of priorities at country level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ctively coordinate and seek financing to pursue priorities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Report to STAG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Engage more Stop TB partner agencies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oard contribution to H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38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. Promote Guidance to NTP’s 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cknowledge progress made by the HSS Task Force and suggest to develop a ‘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HSS Guideline for TB program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’.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. Advocate for HSS 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ablish a mechanism to identify messages and opportunities for  ongoing advocacy for HSS by the STB CB.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509400"/>
            <a:ext cx="777240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sk Force Objecti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44160"/>
            <a:ext cx="7772400" cy="42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stablished by WHO Stop TB Department at request of WHO Strategic and Technical Advisory Group (STAG—TB)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January – June 2006, with expected ongoing collaborations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he objectives of the Task Force are to: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nd challenges in building synergies between TB control advancement and broader HSS efforts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66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dentify and prioritize STB/WHO work during 2006-2007 and 2008-2013 to contribute to HSS.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6666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lan with partners (within and beyond the TB community) to take collaborative work forward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960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o are we?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5720"/>
            <a:ext cx="7772400" cy="421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NTP managers 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Health planning officials, 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Development agencies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cademics 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Practitioners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NGOs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echnical assistance partners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WHO staff (Stop TB Dept, Partnership and HSS-related Departments)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First meeting: January 2006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5160" y="1535040"/>
            <a:ext cx="7772400" cy="433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Background discussion paper focused on: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B control and health system strengthenin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identifying many precedents such as: 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B and primary care in 1980s, </a:t>
            </a:r>
            <a:endParaRPr b="0" lang="en-US" sz="2000" spc="-1" strike="noStrike">
              <a:solidFill>
                <a:srgbClr val="6666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id-90s research on TB and health reform, </a:t>
            </a:r>
            <a:endParaRPr b="0" lang="en-US" sz="2000" spc="-1" strike="noStrike">
              <a:solidFill>
                <a:srgbClr val="6666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d Hoc Committees on TB control 1998 and 2004, </a:t>
            </a:r>
            <a:endParaRPr b="0" lang="en-US" sz="2000" spc="-1" strike="noStrike">
              <a:solidFill>
                <a:srgbClr val="6666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WHO Guide 2003, </a:t>
            </a:r>
            <a:endParaRPr b="0" lang="en-US" sz="2000" spc="-1" strike="noStrike">
              <a:solidFill>
                <a:srgbClr val="6666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s in FSU</a:t>
            </a:r>
            <a:endParaRPr b="0" lang="en-US" sz="2000" spc="-1" strike="noStrike">
              <a:solidFill>
                <a:srgbClr val="6666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xplicit health system strengthening aims within th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top TB Strategy and Global Plan to Stop TB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otential to enhance synergies with larger HSS aims, and reduce adverse consequences of health reforms and/or disease-specific initiatives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me key conclusions of the meeting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44120"/>
            <a:ext cx="8077320" cy="440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宋体"/>
              </a:rPr>
              <a:t>Disease control—essential element of health systems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宋体"/>
              </a:rPr>
              <a:t>Deterioration of health systems and some reforms have negatively impacted public health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宋体"/>
              </a:rPr>
              <a:t>New financing streams can be beneficial, but need to avoid parallel systems and diversion of scarce HR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宋体"/>
              </a:rPr>
              <a:t>Further service integration is possible, but only if core functions preserved and enhanced and management structures supported (“non-negotiable” elements)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宋体"/>
              </a:rPr>
              <a:t>DOTS and the Stop TB Strategy offer lessons for other fields and provide platforms for more collaborative systems solutions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30924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eed to engage in health system strengthening efforts which impact on NTP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7640" y="1719000"/>
            <a:ext cx="8096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宋体"/>
              </a:rPr>
              <a:t>Stewardship and Organization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宋体"/>
              </a:rPr>
              <a:t>Decentralization: separation of purchaser- provider functions</a:t>
            </a:r>
            <a:endParaRPr b="0" lang="en-US" sz="20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宋体"/>
              </a:rPr>
              <a:t>Financing 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宋体"/>
              </a:rPr>
              <a:t>Social/Health Insurance; SWAps; Budget support; GFATM; Global Financing Initiative</a:t>
            </a:r>
            <a:endParaRPr b="0" lang="en-US" sz="20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宋体"/>
              </a:rPr>
              <a:t>Service Delivery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宋体"/>
              </a:rPr>
              <a:t>Outsourcing; Public Private Partnerships; Guidelines</a:t>
            </a:r>
            <a:endParaRPr b="0" lang="en-US" sz="20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宋体"/>
              </a:rPr>
              <a:t>Resource Generation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宋体"/>
              </a:rPr>
              <a:t>Global Health Workforce Alliance </a:t>
            </a:r>
            <a:endParaRPr b="0" lang="en-US" sz="20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宋体"/>
              </a:rPr>
              <a:t>Monitoring and Evaluation</a:t>
            </a:r>
            <a:endParaRPr b="0" lang="en-US" sz="2400" spc="-1" strike="noStrike">
              <a:solidFill>
                <a:srgbClr val="6666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宋体"/>
              </a:rPr>
              <a:t>Health Metrics Network</a:t>
            </a:r>
            <a:endParaRPr b="0" lang="en-US" sz="20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71360"/>
            <a:ext cx="743580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0000"/>
                </a:solidFill>
                <a:latin typeface="Arial"/>
              </a:rPr>
              <a:t>Need to look ahead</a:t>
            </a:r>
            <a:endParaRPr b="0" lang="en-US" sz="3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977080" cy="4983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0120" y="2685960"/>
            <a:ext cx="1276200" cy="609840"/>
          </a:xfrm>
          <a:prstGeom prst="wedgeRoundRectCallout">
            <a:avLst>
              <a:gd name="adj1" fmla="val 94777"/>
              <a:gd name="adj2" fmla="val 143490"/>
              <a:gd name="adj3" fmla="val 16667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gramme is doing just f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nsequences of not engaging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643040"/>
            <a:ext cx="8344080" cy="44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Russia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‘asymmetry of incentives’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—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f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ancing systems barrier to adoption of DOTS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oldova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‘astrategic medium’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—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TP, health system and MOH links fractured by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d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entralization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urkey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‘hollowing out’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—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provider payment systems has led to migration of HR to more lucrative posts in hospitals</a:t>
            </a:r>
            <a:endParaRPr b="0" lang="en-US" sz="28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1200" y="18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lign NTP with HSS efforts and vice versa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1287360"/>
            <a:ext cx="51134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2:17:28Z</dcterms:created>
  <dc:creator>mr</dc:creator>
  <dc:description>OER activities</dc:description>
  <cp:keywords/>
  <dc:language>en-US</dc:language>
  <cp:lastModifiedBy>bakerl</cp:lastModifiedBy>
  <cp:lastPrinted>2003-04-09T13:32:20Z</cp:lastPrinted>
  <dcterms:modified xsi:type="dcterms:W3CDTF">2006-05-02T15:37:55Z</dcterms:modified>
  <cp:revision>337</cp:revision>
  <dc:subject/>
  <dc:title>OER s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07132491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draft slides on HSS and TB TF and meeting conclusions/outcomes</vt:lpwstr>
  </property>
  <property fmtid="{D5CDD505-2E9C-101B-9397-08002B2CF9AE}" pid="6" name="_NewReviewCycle">
    <vt:lpwstr/>
  </property>
  <property fmtid="{D5CDD505-2E9C-101B-9397-08002B2CF9AE}" pid="7" name="_PreviousAdHocReviewCycleID">
    <vt:r8>1269144592</vt:r8>
  </property>
  <property fmtid="{D5CDD505-2E9C-101B-9397-08002B2CF9AE}" pid="8" name="_ReviewingToolsShownOnce">
    <vt:lpwstr/>
  </property>
</Properties>
</file>