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4305-3912-4D9D-BB1D-2F6564896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the figures are cumulative, and that they exclude the number of consul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2, which is based on the assumption of a higher number of applications than scenario 1, will require hiring even more staff over the course of the expansion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ECD-2DF8-4144-AC78-5222537C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00F0-8FA4-448C-97EE-79EB5047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7922-7712-497E-99C4-21CF80F8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5C2F-924D-40A5-8351-FEDFF6D9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30F-0381-464E-9317-B3D87C3A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AEE-360B-470F-B1B8-15D7C135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C680-2191-489C-9291-23DCD04D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398-0953-450B-A863-B148F9DE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EA8F-0B99-47C5-A8B5-6A2686C4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5C7-28BA-4B80-BF87-739FB316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7603-A087-41D1-9D87-632C70FB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7BC-8A6A-448A-93C8-1D4AD5D7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39BD-28B2-4D71-8B7A-3364A0D08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32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 for operationalizing the Strategic Plan of the Working Group on DOTS-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4859280" y="1197000"/>
            <a:ext cx="3376800" cy="446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39640" y="2166840"/>
            <a:ext cx="338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ment of MDR-TB integrated into routine activities of TB control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800,000 MDR-TB patients to be treated over the next 10 years at estimated cost of US$6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760" y="123840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mplement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Strategic Plan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13400" y="5735520"/>
            <a:ext cx="39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 Thelma Tupasi, Chair of W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ng Board meet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ja, Nigeria, Apri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 1: Increased and sustained  commitment to scale-up sound TB control programme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growth projections for scaling up MDR-TB 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297080"/>
            <a:ext cx="8137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03280" y="1766880"/>
          <a:ext cx="6840720" cy="1733400"/>
        </p:xfrm>
        <a:graphic>
          <a:graphicData uri="http://schemas.openxmlformats.org/drawingml/2006/table">
            <a:tbl>
              <a:tblPr/>
              <a:tblGrid>
                <a:gridCol w="2200320"/>
                <a:gridCol w="1108080"/>
                <a:gridCol w="1211400"/>
                <a:gridCol w="1109520"/>
                <a:gridCol w="1211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222408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3334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890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2: Human resourc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7720" y="3933720"/>
            <a:ext cx="459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 of properly tr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ed for scaling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country level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es of GLC staff needs at WHO HQ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onal and countr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592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 3: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st of the MDR-TB burden estimated is not being been diagn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052640"/>
            <a:ext cx="799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976320"/>
          <a:ext cx="8756640" cy="58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87566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51280" y="3141720"/>
            <a:ext cx="259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4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dete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869000"/>
            <a:ext cx="22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T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468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WHO/STB/T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4: Drug supp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quantity of quality-assured manufacturers an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35772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 procures 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ven drugs from six manufacturers, all of them meeting at least GMP standards of WHO or a stringent drug regula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pdate on WHO Prequalific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 seven manufacturers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dossiers submit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anufacturer WHO GMP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roduct yet WHO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87640" y="1411200"/>
            <a:ext cx="3754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dressing the challenges for operationalizing the Strategic Plan of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ed commitment to scal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siness plan for the GLC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est to the GFATM to contribute funding GL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ry level plans for MDR-TB scale up in key countries (China, India, Russ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 for training trainers on MDR-TB management through WHO and part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termine the gap in human resources at 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Global Plan for Strengthening laboratory capacity, including culture and drug 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WHO Prequalif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ngthen the GLC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ing the size of the market of second-line anti-TB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9:37:35Z</dcterms:created>
  <dc:creator>jaramilloe</dc:creator>
  <dc:description/>
  <dc:language>en-US</dc:language>
  <cp:lastModifiedBy>bakerl</cp:lastModifiedBy>
  <dcterms:modified xsi:type="dcterms:W3CDTF">2006-05-02T15:00:24Z</dcterms:modified>
  <cp:revision>41</cp:revision>
  <dc:subject/>
  <dc:title>WHO's role in addressing drug-resistant tuberculosis: opportunities and challeng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