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8AAC-DDB9-4CDB-B72B-84C751882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current assesment of what product delivery d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2F8-81BF-4046-A4C6-8FF5CCA2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486A-3395-482F-9258-7C289EF1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BEB1-D835-46B1-991D-0CFB36F3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8427-EDE6-4AA7-8EAD-A61B9E11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027-EC07-4E03-801A-5DB2586C7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B302-34D4-4832-B0EB-9258B2F0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A817-87B2-449B-A85C-6431AC5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DF0-0370-4C1E-A50A-0A635E1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71EA-9801-48BC-B3F2-C972A9CD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066A-95FA-4A99-BEC8-345F85CA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26FB-F33E-4203-90CC-8FA1903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CB5D-BC30-4075-8845-E7DD7B90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E2E5-17C4-43F2-9549-2C6993EB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2B09-6FD6-461C-97AF-200FACC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50E7-9F07-475C-B3D1-9743B5B2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0D8F-B22C-4DB1-9DCF-33DCFB08A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7AD0-C989-4ABA-805A-5E2A3EF2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8FA-9407-4312-8489-982C1103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C0C-2FD9-44FD-9502-61BC585E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238-C193-4BA1-98B4-D3C25662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9C0-9CC1-4B0C-960B-C4A1B5BE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A3B-7A12-49B0-A8AF-B6D4B18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DFE-11C0-4E89-B895-674CDABB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DD02-1206-4B3D-B4B4-CB75EC43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30BC-0DC0-4610-8E1C-7243A360567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43A-0125-4951-A503-B6401DB460BF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Building Momentum for </a:t>
            </a:r>
            <a:r>
              <a:rPr b="1" i="1" lang="en-US" sz="3600" spc="-1" strike="noStrike">
                <a:solidFill>
                  <a:srgbClr val="ffffcc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op TB Partnership CB Mee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buja, Nigeri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ril 24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200" y="12492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Miss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924280"/>
            <a:ext cx="76662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Facilitate adoption and introduction of new tools as they become avail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Activit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Develop work plan and tim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WGs’ information pipelin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gage stakeholders from HBCs (MOH, NGOs, affected communiti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Help mobilize financial and human resourc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Consolidate lessons learned from other areas (GAVI, malaria, etc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cilitate operations research on introduction of new too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Generate evidence to support adoption of new too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Fast track incorporation into WHO and national guidelin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5000"/>
              </a:lnSpc>
              <a:spcBef>
                <a:spcPts val="11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Tahoma"/>
              </a:rPr>
              <a:t>Enhance communication among WGs on retool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8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oposed Composition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Chair(s)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xperience with new tools and country-level implementation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ing Groups (including key sub-group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mmunity and donor represent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etooling experts from other disease communit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opic-specific experts (periodic input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ackground paper/inventory of key issues faced by: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NTPs and country-level partn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AVI, malaria, othe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ace to face meeting to develop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Robust TOR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ork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65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imelin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ving Forw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active support from each of the 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Need financial and secretariat support for meetings of task for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cknowledgemen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176560" y="3881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284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Special thanks go to the RTF for providing the supporting material for this presentation.</a:t>
            </a:r>
            <a:r>
              <a:rPr b="0" lang="en-US" sz="28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urrent Membership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Membershi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Christy Hanson, USAID (dono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arbara Laughon, NIAID (TB/HIV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Aziz Mohamed, StopTB/WHO (lab sub group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Vinand Nantulya, FIND (diagnostic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kushi Onozaki, RTI/JATA (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Nina Schwalbe, TB Alliance (drugs)*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Brite Holm Sorenson, World Bank (poverty, DOTS expansion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Javid Syed, TAG (communit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Karin Weyer, SA-MRC (MD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atrick Zuber, EPI/WHO (vaccine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retariat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achel Bauquerez, Stop TB Partnership</a:t>
            </a: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hilip Onyebujoh, IRM/TD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630560" y="6165720"/>
            <a:ext cx="151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20000"/>
                </a:solidFill>
                <a:latin typeface="Arial"/>
              </a:rPr>
              <a:t>* Interim co-ch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0968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68560"/>
            <a:ext cx="0" cy="510552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0000" y="476280"/>
            <a:ext cx="887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Estimate of Tool Delive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924360" y="2030400"/>
            <a:ext cx="3816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87640" y="2030400"/>
            <a:ext cx="126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003400"/>
            <a:ext cx="8991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7478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&lt; 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5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17352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4328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7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17478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09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64000" y="174780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0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062080"/>
            <a:ext cx="0" cy="508500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51640" y="2016000"/>
            <a:ext cx="0" cy="51580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1747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1747800"/>
            <a:ext cx="60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1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18600" y="1747800"/>
            <a:ext cx="76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2014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030400"/>
            <a:ext cx="4284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236000" y="2030400"/>
            <a:ext cx="288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2030400"/>
            <a:ext cx="27000" cy="514368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34960" y="2131920"/>
            <a:ext cx="7781760" cy="735120"/>
            <a:chOff x="534960" y="2131920"/>
            <a:chExt cx="7781760" cy="735120"/>
          </a:xfrm>
        </p:grpSpPr>
        <p:sp>
          <p:nvSpPr>
            <p:cNvPr id="114" name=""/>
            <p:cNvSpPr/>
            <p:nvPr/>
          </p:nvSpPr>
          <p:spPr>
            <a:xfrm>
              <a:off x="534960" y="2251080"/>
              <a:ext cx="66672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be7960"/>
                  </a:solidFill>
                  <a:latin typeface="Arial"/>
                </a:rPr>
                <a:t>Vaccine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5968800" y="2131920"/>
              <a:ext cx="2347920" cy="735120"/>
              <a:chOff x="5968800" y="2131920"/>
              <a:chExt cx="2347920" cy="735120"/>
            </a:xfrm>
          </p:grpSpPr>
          <p:sp>
            <p:nvSpPr>
              <p:cNvPr id="116" name=""/>
              <p:cNvSpPr/>
              <p:nvPr/>
            </p:nvSpPr>
            <p:spPr>
              <a:xfrm>
                <a:off x="5968800" y="2131920"/>
                <a:ext cx="2347920" cy="73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be7960"/>
                    </a:solidFill>
                    <a:latin typeface="Arial"/>
                  </a:rPr>
                  <a:t>New TB Vaccine </a:t>
                </a:r>
                <a:br>
                  <a:rPr sz="1800"/>
                </a:b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24480" y="2533680"/>
                <a:ext cx="201600" cy="182520"/>
              </a:xfrm>
              <a:prstGeom prst="diamond">
                <a:avLst/>
              </a:prstGeom>
              <a:solidFill>
                <a:srgbClr val="be7960"/>
              </a:solidFill>
              <a:ln w="19080">
                <a:solidFill>
                  <a:srgbClr val="be79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1828800" y="30924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fer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4800" y="3214800"/>
            <a:ext cx="6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9900"/>
                </a:solidFill>
                <a:latin typeface="Arial"/>
              </a:rPr>
              <a:t>Diagnos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52920" y="3106800"/>
            <a:ext cx="1817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eripheral L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365112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34040" y="3121200"/>
            <a:ext cx="1817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oint of 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748720" y="2065320"/>
            <a:ext cx="14400" cy="5081760"/>
          </a:xfrm>
          <a:prstGeom prst="line">
            <a:avLst/>
          </a:prstGeom>
          <a:ln w="5400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24000" y="4081320"/>
            <a:ext cx="8700840" cy="734760"/>
            <a:chOff x="324000" y="4081320"/>
            <a:chExt cx="8700840" cy="734760"/>
          </a:xfrm>
        </p:grpSpPr>
        <p:sp>
          <p:nvSpPr>
            <p:cNvPr id="125" name=""/>
            <p:cNvSpPr/>
            <p:nvPr/>
          </p:nvSpPr>
          <p:spPr>
            <a:xfrm>
              <a:off x="324000" y="429552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ff3300"/>
                  </a:solidFill>
                  <a:latin typeface="Arial"/>
                </a:rPr>
                <a:t>Drugs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075280" y="4081320"/>
              <a:ext cx="1287360" cy="734760"/>
              <a:chOff x="5075280" y="4081320"/>
              <a:chExt cx="1287360" cy="734760"/>
            </a:xfrm>
          </p:grpSpPr>
          <p:sp>
            <p:nvSpPr>
              <p:cNvPr id="127" name=""/>
              <p:cNvSpPr/>
              <p:nvPr/>
            </p:nvSpPr>
            <p:spPr>
              <a:xfrm>
                <a:off x="5075280" y="4081320"/>
                <a:ext cx="128736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Single New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745240" y="4497120"/>
                <a:ext cx="20160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207200" y="4081320"/>
              <a:ext cx="1817640" cy="734760"/>
              <a:chOff x="7207200" y="4081320"/>
              <a:chExt cx="1817640" cy="734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207200" y="4081320"/>
                <a:ext cx="1817640" cy="7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New Multi-Drug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3300"/>
                    </a:solidFill>
                    <a:latin typeface="Arial"/>
                  </a:rPr>
                  <a:t>Regimen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634240" y="4497120"/>
                <a:ext cx="201960" cy="182520"/>
              </a:xfrm>
              <a:prstGeom prst="diamond">
                <a:avLst/>
              </a:prstGeom>
              <a:solidFill>
                <a:srgbClr val="ff3300"/>
              </a:solidFill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3059280" y="2062080"/>
            <a:ext cx="31680" cy="5148360"/>
          </a:xfrm>
          <a:prstGeom prst="line">
            <a:avLst/>
          </a:prstGeom>
          <a:ln w="19080">
            <a:solidFill>
              <a:srgbClr val="8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6068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16360" y="3646440"/>
            <a:ext cx="201600" cy="182520"/>
          </a:xfrm>
          <a:prstGeom prst="diamond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10160" y="6553080"/>
            <a:ext cx="454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dapted from a presentation by Dr. Peter Small, BMG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etting the Stage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Better diagnostics, drugs and vaccines are coming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ools are only effective if us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2640" indent="-332640">
              <a:spcBef>
                <a:spcPts val="2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option must be planned and supported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372280"/>
            <a:ext cx="82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720000"/>
                </a:solidFill>
                <a:latin typeface="Tahoma"/>
              </a:rPr>
              <a:t>Adoption, implementation and use of new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92400" y="492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0560" y="4797360"/>
            <a:ext cx="22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20000"/>
                </a:solidFill>
                <a:latin typeface="Tahoma"/>
              </a:rPr>
              <a:t>Ret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eedback Loop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DRUGS)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448240" cy="5572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56000" y="1916280"/>
            <a:ext cx="4248000" cy="3889080"/>
          </a:xfrm>
          <a:prstGeom prst="ellipse">
            <a:avLst/>
          </a:prstGeom>
          <a:solidFill>
            <a:srgbClr val="ff9900">
              <a:alpha val="23000"/>
            </a:srgbClr>
          </a:solidFill>
          <a:ln w="9360">
            <a:solidFill>
              <a:srgbClr val="be79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Arial"/>
              </a:rPr>
              <a:t>ADVOCACY &amp; POLI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llustrative Engagement Matrix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11280" y="1844640"/>
          <a:ext cx="8076960" cy="4287960"/>
        </p:xfrm>
        <a:graphic>
          <a:graphicData uri="http://schemas.openxmlformats.org/drawingml/2006/table">
            <a:tbl>
              <a:tblPr/>
              <a:tblGrid>
                <a:gridCol w="1615680"/>
                <a:gridCol w="1616400"/>
                <a:gridCol w="1612800"/>
                <a:gridCol w="1616040"/>
                <a:gridCol w="161604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artners in new tools introdu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volv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im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ema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upp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or to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Upon availability of new too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NTP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gulatory agenc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echnical agencies providing technical as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esearch partn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Private sector (associations, provider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Commun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Dono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etooling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Directly links R&amp;D, implementation and advocacy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any stakeholders must be involved for succes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-308520">
              <a:lnSpc>
                <a:spcPct val="95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top TB Partnership uniquely positioned to serve as a model for retooling in public health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42920" y="5229360"/>
            <a:ext cx="7029360" cy="581400"/>
            <a:chOff x="1042920" y="5229360"/>
            <a:chExt cx="7029360" cy="581400"/>
          </a:xfrm>
        </p:grpSpPr>
        <p:sp>
          <p:nvSpPr>
            <p:cNvPr id="149" name=""/>
            <p:cNvSpPr/>
            <p:nvPr/>
          </p:nvSpPr>
          <p:spPr>
            <a:xfrm>
              <a:off x="2030400" y="5229360"/>
              <a:ext cx="604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ahoma"/>
                </a:rPr>
                <a:t>GP II did not address retooling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2920" y="5302080"/>
              <a:ext cx="976320" cy="485280"/>
            </a:xfrm>
            <a:prstGeom prst="rightArrow">
              <a:avLst>
                <a:gd name="adj1" fmla="val 50000"/>
                <a:gd name="adj2" fmla="val 5029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reating the Link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Board recognized the gap and created the Retooling Task Force (RTF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RTF: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WG chairs and Secretariat recommended memb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cretariat supports activit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27920" indent="-280080">
              <a:lnSpc>
                <a:spcPct val="65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Proposed Terms of Reference (TOR) developed by RTF Member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spcBef>
                <a:spcPts val="24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resentation to the BOD for input and feedback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RTF Request to Boar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Is the task force the appropriate mechanism to deal with re-tooling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re the content and the TOR on target?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50920" y="299700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20000"/>
                </a:solidFill>
                <a:latin typeface="Tahoma"/>
              </a:rPr>
              <a:t>PROPOSED 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4:34:56Z</dcterms:created>
  <dc:creator>bauquerezr</dc:creator>
  <dc:description/>
  <dc:language>en-US</dc:language>
  <cp:lastModifiedBy>mfreire</cp:lastModifiedBy>
  <dcterms:modified xsi:type="dcterms:W3CDTF">2006-04-22T19:15:29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