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8480" y="471456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3762-D9A7-417D-847B-BD413EE1A9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D07A-4610-4D63-846C-19FD0AEB016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9AB1-B7B5-4792-BE62-22AB53F8552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E805-87AC-4151-A2B1-EEC7A1B083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779640" y="942984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2715-A46F-463C-AB34-6D44DDE273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9640" y="0"/>
            <a:ext cx="2889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7800" y="4711320"/>
            <a:ext cx="5332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78DA-613A-44B5-97EB-8DF6D4B0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8C0-9DC9-49D4-BD18-8FC52F1C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E5A-0B1B-42AF-A22B-6F1804B27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2AF-900F-4103-95ED-F10C8C0C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2E8-C6A4-4BA8-9292-465ABA4F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619F-4190-4F35-A9F6-2BCAC9EC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71A2-7D1E-406D-B238-39615A8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720-9A5B-49C9-94E7-0733C58AD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76C-822D-496A-88FE-54523F8F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6459-656E-4021-8989-840917F6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A246-7510-4BD2-8467-A8DA2020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25C-F3C3-4D48-A8F4-701EFC56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3EE3-010A-4C9E-AA64-FC1AA80A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A023-3565-4D4C-BA88-72C33D1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D0A4-4AE4-4809-B4D5-B44CA3ED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7639-98C6-4394-813B-258C73A6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4579-D77A-439B-B044-A2C39ACB8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B55C-2DBB-4966-ADE7-CAF19C2F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F8BD-84EB-44F7-9A4D-AC8FEEBD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EF5-6819-4E27-B768-BC3E88A1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775C-C1D2-46ED-90FD-7591FA8B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FBD-4C0B-4D09-84A5-DF27A4B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31D-0F83-4696-BD85-8EF4B2F8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F598-2033-4978-A5B4-EA31847B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DE9E-1B72-411D-9A8C-8D00C0AC7731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0974-5035-4A73-8470-BBB488D186AD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38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G on New TB Vaccines – </a:t>
            </a:r>
            <a:br>
              <a:rPr sz="3200"/>
            </a:b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where do we go from here?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essons from GP1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5 vaccine candidates in phase I clinical trials by the end of 200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Lesson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Sense of ownership / buy-in by partners does not com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utomaticall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must position itself more prominently as a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" 1st  stop shop " on vaccine R&amp;D matters, both inside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community and to the outsid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 must become more professiona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Mechanisms for a more rapid response by the WG to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pcoming challenges need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A strategic "scaffold" ("roadmap"/"blueprint") for th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1116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</a:t>
            </a:r>
            <a:r>
              <a:rPr b="1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ide range of diverse activities is need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52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hallenges for GP2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Overall objective: a safe, effective licensed vaccine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    </a:t>
            </a:r>
            <a:r>
              <a:rPr b="0" lang="en-GB" sz="2800" spc="-1" strike="noStrike">
                <a:solidFill>
                  <a:srgbClr val="990000"/>
                </a:solidFill>
                <a:latin typeface="Tahoma"/>
                <a:ea typeface="宋体"/>
              </a:rPr>
              <a:t>available at affordable cost by 2015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	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</a:t>
            </a: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Challenge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Technical:      lacking immune surrogate of protection, diagnosis of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clinical trial endpoints, in particular in childre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Economic:     estimated cost to bring existing candidates to licensure: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US$ 600million, estimated availability : US$ 60 million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Normative:    no regulatory capacity fro vaccine trial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in endemic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Participatory: few industry,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no endemic country participation i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宋体"/>
              </a:rPr>
              <a:t>formulation of research goal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10440">
              <a:lnSpc>
                <a:spcPct val="80000"/>
              </a:lnSpc>
              <a:spcBef>
                <a:spcPts val="499"/>
              </a:spcBef>
              <a:buClr>
                <a:srgbClr val="72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</a:t>
            </a: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WG function: Need to increase response time &amp; visibility for the W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496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609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56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How can the Board help?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Resource Mobilization, Advocacy, Link with the TB control community for epidemiology, laboratory, trial site selection…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Use Board links with highest levels of government as well as grassroots to create a momentum &amp; pressure &amp; ownership in endemic countries for TB vaccine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</a:t>
            </a: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National Plans for TB Vaccine Development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</a:t>
            </a:r>
            <a:r>
              <a:rPr b="0" lang="en-GB" sz="32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</a:t>
            </a:r>
            <a:r>
              <a:rPr b="0" lang="en-GB" sz="3200" spc="-1" strike="noStrike">
                <a:solidFill>
                  <a:srgbClr val="990000"/>
                </a:solidFill>
                <a:latin typeface="Mistral"/>
                <a:ea typeface="宋体"/>
              </a:rPr>
              <a:t>tool (?) developmen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ahoma"/>
                <a:ea typeface="宋体"/>
              </a:rPr>
              <a:t>                                                         </a:t>
            </a:r>
            <a:r>
              <a:rPr b="0" lang="en-GB" sz="4000" spc="-1" strike="noStrike">
                <a:solidFill>
                  <a:srgbClr val="990000"/>
                </a:solidFill>
                <a:latin typeface="Lucida Handwriting"/>
                <a:ea typeface="宋体"/>
              </a:rPr>
              <a:t>research </a:t>
            </a:r>
            <a:r>
              <a:rPr b="0" lang="en-GB" sz="4000" spc="-1" strike="noStrike">
                <a:solidFill>
                  <a:srgbClr val="990000"/>
                </a:solidFill>
                <a:latin typeface="Mistral"/>
                <a:ea typeface="宋体"/>
              </a:rPr>
              <a:t>(?) </a:t>
            </a: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20000"/>
              </a:solidFill>
              <a:latin typeface="Tahom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508720" y="4508640"/>
            <a:ext cx="3490560" cy="1150560"/>
            <a:chOff x="5508720" y="4508640"/>
            <a:chExt cx="3490560" cy="1150560"/>
          </a:xfrm>
        </p:grpSpPr>
        <p:sp>
          <p:nvSpPr>
            <p:cNvPr id="98" name=""/>
            <p:cNvSpPr/>
            <p:nvPr/>
          </p:nvSpPr>
          <p:spPr>
            <a:xfrm flipV="1">
              <a:off x="5572440" y="4508640"/>
              <a:ext cx="129276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08720" y="4584960"/>
              <a:ext cx="1358280" cy="614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6480" y="4660920"/>
              <a:ext cx="3232800" cy="84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54200" y="4738680"/>
              <a:ext cx="2781360" cy="920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828720" y="4437000"/>
            <a:ext cx="1582560" cy="649440"/>
          </a:xfrm>
          <a:prstGeom prst="rightArrow">
            <a:avLst>
              <a:gd name="adj1" fmla="val 50000"/>
              <a:gd name="adj2" fmla="val 6092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661000"/>
            <a:ext cx="3241440" cy="647640"/>
          </a:xfrm>
          <a:prstGeom prst="wedgeRoundRectCallout">
            <a:avLst>
              <a:gd name="adj1" fmla="val 291"/>
              <a:gd name="adj2" fmla="val -148282"/>
              <a:gd name="adj3" fmla="val 16667"/>
            </a:avLst>
          </a:prstGeom>
          <a:solidFill>
            <a:srgbClr val="ffffff"/>
          </a:solidFill>
          <a:ln w="64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720000"/>
                </a:solidFill>
                <a:latin typeface="Tahoma"/>
              </a:rPr>
              <a:t>Inspired by the National (African) AIDS Vaccine Development Plans (AAVI)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The new WG Chai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ahoma"/>
                <a:ea typeface="宋体"/>
              </a:rPr>
              <a:t>Mr Michel GRECO, former CEO of Aventis (now Sanofi) Pasteu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MG is looking forward to strong interaction with the Board and counts on its suppor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TB vaccine landscape has strongly improved over the last couple of years, the TB vaccine community is more ready to act in a coordinated fashion, to optimize resources and to develop standards that should ease the prioritization process down the road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a continued need to open new research avenues as it is too early to assume that existing products will make it to marke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need for and the opportunities offered must be attacked more aggressively, more research, more advocacy, more fund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 secretariat will need more resources to keep up with the with the growing task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00"/>
                </a:solidFill>
                <a:latin typeface="Tahoma"/>
                <a:ea typeface="宋体"/>
              </a:rPr>
              <a:t>There is going to be abn increased newsflow on TB vacines over the coming years and MG is looking forward to becoming a bearer of hopefully good news to the board in the futur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7T17:37:17Z</cp:lastPrinted>
  <dcterms:modified xsi:type="dcterms:W3CDTF">2006-05-02T15:03:14Z</dcterms:modified>
  <cp:revision>213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