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C1F9-1780-4119-A799-F81AAA9F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Strategic objectives and targ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framework is designed to implement intensive, sustai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detailed communication strategies in all high-burden countr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s well as support strategies in medium-burden count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 the next 10 years. Such work will be phased to ens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ximum strategic intensity. In the first five years of this workpla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tensive process of capacity building and strate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lanning will take place in all high-burden countries. This will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phased process, focused on five countries per yea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following strategic objective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08, at least 10 endemic countries will have develop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will be implementing multisectoral, participatory AC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itiatives and generating qualitative and quantitative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CSM's contribution to TB contro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0, at least 20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ultisectoral, participatory-based ACSM initiatives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nitoring and evaluating their outco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multisectoral, participatory ACSM methodolog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be a fully developed component of the Stop T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2015, all priority countries will be implemen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and participatory ACSM initiativ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addition, a series of process targets have been identified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middle of 2006, a detailed ACSM capacity buil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plementation plan will have been developed aimed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suring the appointment/recruitment of senior-level 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rategists focused explicitly on tackling TB in a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gh-burden countries. Such a plan will draw heavily o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perience, expertise and insight of NTPs and partn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end of 2006, a strategy will have been develop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edium-burden countries detailing the communication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ecessary (including technical advice, resource mate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other mechanisms) to meet TB targets in those countr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y the beginning of 2006, a process will have started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m strategic agreements with international techn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ort organizations able to offer technical support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untries. By the middle of 2006 at least five of these 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ave been agreed and implementation begu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se objectives and targets will be achieved through a mi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five key strategic compone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ll have developed and implemen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1A7-1A59-4656-AC8C-540229DA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54D-CDC4-48C8-AED4-D9EA5382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C3C2-0A70-4E5E-BE01-A5239A21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2D9-8701-44BB-B115-2BA0AF37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0F9F-1F20-4E24-8C63-723C3E41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E91-6DFC-41DE-8854-C67650EB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300-1354-481C-AC3C-F7CE129A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A781-B208-44EB-9379-FB77D6C3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8E7C-4FE6-4E21-83FB-ED0E4AC2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A710-0CB1-49B7-820C-3F6B6B7E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58F0-2B17-484A-ADA5-BB7EEFD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C4A-A430-4DA7-A191-7AC29719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F64F-A776-4F38-B407-44E01AA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3BC6-5CDD-4343-8B0C-7DE1F6B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AC3B-8113-43A6-8680-460BA13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E63-2680-4655-A04D-EE621565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8CC4-644C-4FFB-8CD5-79884147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9AC-502E-41A6-88AD-32F69127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413-176E-4B3F-8E9D-7FE3715A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F33-472D-4594-89C3-D58BA562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49B4-B6A4-4931-A3C5-1762D228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C91-1190-4820-8446-BB13CEF9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B30-4FF1-4D52-957B-4694FEE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3CA-883E-44C2-950B-B2CA1617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A0F3-D727-4C05-BEE7-F3382AEA8D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4139-5208-4496-8E48-FE463490B7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Advocacy, Communication and Social Mobilization Sub Group at Country Level: 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Building a Technical Assistance Networ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esentation to the Stop TB Coordinating Bo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buja 200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Funding for ACSM Technical Assistance Lagg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68360" y="2060640"/>
          <a:ext cx="822960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060640"/>
                    <a:ext cx="822960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940360" y="4292640"/>
            <a:ext cx="201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9 million gap in ASCM projected TA needs at count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84464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:  USAID is the largest single donor for ACSM technical sup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5661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1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 the wake of solving the funding question, how to coordinate effectively among partners to maximise gains, reduce duplication, measure outcomes and advance ACSM pedagogy for TB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hallenge #2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How to access necessary financial resources to maximise the impact of available funding from GFATM and other sources to satisfy the resources needs detailed in the Global Plan/ACSM Strategic Framework for technical cooperation among partners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evious discussions on 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4—CB meeting Beijing:  Endorsement of ISAC to respond to shortage funding for 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/HIV:  Requested funds for operational research and policy monito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ddis Ababa: Agreement to support countries with technical assistance to prepare 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GFATM Propos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5—CB meeting Assisi:  Discussion of a Coalition for Technical Assistance  for Laborato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006—Partners TA meeting Geneva: discussed the growing need for TA for all of technical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BCTA, ISAC and other channels provide needed TA but ACSM access to those funds is limit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ecis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A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comprehensive range TA mechanism or facility to support all technical elements of the Stop TB Strateg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Tahoma"/>
              </a:rPr>
              <a:t>Option B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Would the CB endorse the creation of a specific mechanism for responding to the growing demand for sound TA for ACSM?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B endorse the strengthening the capacity of the secretariat to respond to the growing demand for ACSM from countrie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CSM 10-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tilization of AC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iscussion and dec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trategic Overview of AC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76640" y="2017800"/>
            <a:ext cx="1628640" cy="198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92480" y="4145040"/>
            <a:ext cx="1592280" cy="19875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4188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SM is a new high priority technical component of the WHO Stop TB Strateg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oth the Global Plan and the ACSM 10 Year Strategic Framework call for the rapid scale-up of ACSM activities at country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$3.2 billion over the life of both plans.  $2.9 billion for countries and $133 million for international agency nee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ACSM Strategic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0 year strategic framework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ive poin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pacity buil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lusion of patients and comm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litical commitment and accoun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und practices and knowledge exch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62560" y="2017800"/>
            <a:ext cx="3370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The Framework for Action will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Objectives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mprove country and partner access to timely and quality-assured technical assistance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able a collaborative approach to the delivery of technical assistance in support of country and partner-owned ACSM plan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Assist in the professional development of national institutions as well as national and regional ACSM professionals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616572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he targets 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08 – 10 countr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0 – 20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CSM methodologies will be fully a developed component of the Stop TB Strateg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015 – all priority countries implementing effective ACSM Initiatives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6237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nly if the Framework is fully fun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tilization:  Rapid growth in ACS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8640"/>
          <a:ext cx="82170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2170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00000" y="5877000"/>
            <a:ext cx="7885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Plann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nding:  HBCs with GFATM funding via rounds 1-5 for ACSM activ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90520" y="2017800"/>
          <a:ext cx="7755120" cy="41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017800"/>
                    <a:ext cx="7755120" cy="41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187280" y="6093000"/>
            <a:ext cx="756144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2 data as gathered from ACSM  Needs Assessment Survey of HBC'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06-2007 data gathered from HBC DOTS Expansion surve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pproved grants from 5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ound GFAT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Funds at Country Level via GFAT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16000" y="1915920"/>
            <a:ext cx="40388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uccessful 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round for ACSM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35 million over two yea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$63 million over five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(Some TA budgeted for in some 5th gran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8360" y="1989000"/>
          <a:ext cx="4038480" cy="42577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SM 2 year budge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 milli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imbab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raz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9T15:00:47Z</dcterms:created>
  <dc:creator>Thaddeus Pennas</dc:creator>
  <dc:description/>
  <dc:language>en-US</dc:language>
  <cp:lastModifiedBy>bakerl</cp:lastModifiedBy>
  <dcterms:modified xsi:type="dcterms:W3CDTF">2006-05-02T15:10:3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6874898</vt:r8>
  </property>
  <property fmtid="{D5CDD505-2E9C-101B-9397-08002B2CF9AE}" pid="3" name="_AuthorEmail">
    <vt:lpwstr>francisc@who.int</vt:lpwstr>
  </property>
  <property fmtid="{D5CDD505-2E9C-101B-9397-08002B2CF9AE}" pid="4" name="_AuthorEmailDisplayName">
    <vt:lpwstr>Francis, Carole Louise</vt:lpwstr>
  </property>
  <property fmtid="{D5CDD505-2E9C-101B-9397-08002B2CF9AE}" pid="5" name="_EmailSubject">
    <vt:lpwstr>CB Presentation--Sub Group....Need your input</vt:lpwstr>
  </property>
  <property fmtid="{D5CDD505-2E9C-101B-9397-08002B2CF9AE}" pid="6" name="_NewReviewCycle">
    <vt:lpwstr/>
  </property>
  <property fmtid="{D5CDD505-2E9C-101B-9397-08002B2CF9AE}" pid="7" name="_PreviousAdHocReviewCycleID">
    <vt:r8>-1321205299</vt:r8>
  </property>
  <property fmtid="{D5CDD505-2E9C-101B-9397-08002B2CF9AE}" pid="8" name="_ReviewingToolsShownOnce">
    <vt:lpwstr/>
  </property>
</Properties>
</file>