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8F6B-6636-4C16-A1D0-4CD69803D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8AFB-B0B3-4EBE-B9F4-F4C67059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501-ACDE-475A-9BC2-DADAF2FAB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B472-A5EC-4A5F-9D95-BB753E1E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D8E9-B9FF-4717-8432-3FB20C38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ABB5-12F3-4BFE-B81B-D145DDC2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C663-9561-485B-B5E4-C78382ED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6CBF-171A-4F49-A24D-5FD25854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8061-E06B-42E0-8757-4C23AD5D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C3B2-0444-4A1B-BA08-4821D994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3C23-62B3-49AB-B4EA-0B28D678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D03-E2BD-4EC7-B1FA-39769BD8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69F3-9160-4F1A-8019-CED08F1F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1A63-4B01-412B-B51C-EDE35DD2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425E-9CAF-46E6-A1E7-52554642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E4D4-07A6-4B87-BFFA-EAAFD8A0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8066-C04F-4030-93D4-80C51194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757-3300-4394-8797-89516DC3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EA87-130E-4225-94C4-2551401A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040-1C53-433D-BDA6-89632ADE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92A3-0384-4933-9E21-64A36361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B90-817F-4DCB-A210-D23E0EB7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5615-E5BE-44B6-8E01-0D219663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134-FD9B-4015-BEC0-D10B05B3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86DD-F226-41F5-93C1-A0636716C02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4401-4C9F-41EE-8E8C-A78A0EE16ABE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nnual Report 2005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429000"/>
            <a:ext cx="6400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r Marcos Espial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buja Coordinating Board Meeting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24 25 April 2006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Meetings in Ethiopia and Ita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oordinating Board teleconference to discuss G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our Executive Committee Teleconferen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biennial Secretariat work plan 2006-2007 was prepared and approved by both the CB and WHO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alf of the staff are in secured job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Financial Position (US$ Millions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2004          2005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Total Income         23.8             34.4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Expenditure           14.7             36.6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Surplus/Deficit        9.1            (2,2)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Note: Deficit covered by brought forward balance from 2004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81952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Engaging Partners including NGOs and the communities affected by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Mobilising the GP resourc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Securing deeper, sustained,  donor support from current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Establishing a broader base of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ecuring the other half of the staff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artners Forum, External Evaluation, Global Plan follow-up,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GDF and GLC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vocacy, Communication and S. Mobilis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Governance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nancial Posi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72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Administratio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640" y="-360"/>
            <a:ext cx="52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15004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Partnership Building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Partnership continued to expand during 200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By end 2005 it had 463 members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294 NGOs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0 Donor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4  Government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13 Intergovernment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48 Academic institu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30 Commercial Organis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Two new partnerships: Peru and in the Islamic Republic of Iran were forme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Partnership Building and ACSM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8976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Engagement with Partner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CTION project let by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RESULTS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parliamentary outreach and stakeholder mobilisation in some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TB Media Fellowships project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Panos Institute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enhance quality coverage of TB issue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Stop TB e-forum with </a:t>
            </a: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HDNet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to stimulate global dialogue on TB issues and mobilize stakeholders in countr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89760" indent="-68976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WEF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engagement to launch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Building Commitment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Through High level Mission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Botswan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endorsement of WHO AFRO Emergency Declaration by the African Un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Ethiop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Prime Minister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and Minister of Health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donesia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Minister of Health, MPs, and Partners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taly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meeting with Undersecretary of Foreign Affairs – Stop TB Italy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lnSpc>
                <a:spcPct val="75000"/>
              </a:lnSpc>
              <a:spcBef>
                <a:spcPts val="901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Mozambique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(WHO RC – Emergency Declaration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Global Media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High-profile media events for WTBD in Paris, London and Ottawa (Mar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Media story for TB African Emergency declaration by WHO-RC (Aug05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11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Events planned to launch Global Plan in several cities around the world (Jan06)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nual Report  2005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61320" indent="0" algn="ctr">
              <a:lnSpc>
                <a:spcPct val="11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ACSM: Country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Helping countries to develop robust ACSM components for GFATM/R5 ($35 million for 12 countries – 2 year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Regional and sub-regional ACSM training workshops in AFRO, AMRO, EMRO, EURO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661320" indent="-661320">
              <a:lnSpc>
                <a:spcPct val="110000"/>
              </a:lnSpc>
              <a:spcBef>
                <a:spcPts val="1137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Information materials for countries: GFATM planning framework, introductory ACSM primer, needs assessment tool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574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136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3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Working Group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Global Plan to Stop TB 2006-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unding available to the seven Working Groups for activiti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Focal point within the Secretariat to facilitate process and coordin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Active participation in the WGs annual meeting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Detailed WGs activitie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nnual Report 2005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2560" y="1341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20000"/>
                </a:solidFill>
                <a:latin typeface="Tahoma"/>
              </a:rPr>
              <a:t>Global Drug Facility</a:t>
            </a:r>
            <a:endParaRPr b="0" lang="en-US" sz="36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emand for GDF continued to grow strongly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nnual GDF procurement for grants stood at a record $28.5m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Orders placed through Direct Procurement Service grew to $13.4 million ($6.6 million in 2004)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number of countries using GDF Direct Procurement Service went up to 25 (19 countries through 2004)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main beneficiaries were low income countries that fulfilled the GDF “Conditions of Suppor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GLC/GDF procurement function converged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35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bakerl</cp:lastModifiedBy>
  <cp:lastPrinted>2004-03-15T15:50:36Z</cp:lastPrinted>
  <dcterms:modified xsi:type="dcterms:W3CDTF">2006-05-02T15:30:47Z</dcterms:modified>
  <cp:revision>14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