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50C5-2481-4E90-9869-6A28A58FF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446B-6702-4EC5-BDB5-1C98367A8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C70E-C22D-4DC4-9173-BF6701133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BF18-3853-44AD-8038-74AAA1755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6CBD3-5817-44FE-86EB-3DDACC272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9A81F-D5B5-4484-9419-0CC71749F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75058-9386-4444-B2A7-C517DA469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FE3DA-58C4-4797-9834-65C01441F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FA053-1968-4359-B255-3F4D23A7F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5DC03-F734-450D-8088-0AE9FAA48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DB6C9-13F1-4591-86B0-3782F9E0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486C-BA5C-4113-93C5-BACBECD8D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2B27B-DA53-40F0-8E3C-2CB3072D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6ABB2-FDF1-462D-85CD-CB5CF1FA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E181B-7883-45AD-B9EE-B23FB98F0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A2632-2D42-4B1D-BBA4-E45222F55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6C5F1-DADF-41B6-B82D-26233C57A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28DE-1B26-43DF-B652-C8A3AC906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484D-B0F6-461A-B30E-5472A310B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0A80-37B0-4909-A0CC-8518931AC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B339-AFFB-4E09-8D4B-24EB8DA1E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AA84-2156-4609-B189-2EBF13E1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EBA8-E81C-48DA-8DC6-080F6DB2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A2F6-3B99-433E-A426-530D28D0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F8789-062D-4D27-93BE-06377F652FD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F9025-43D5-40AB-ADB0-D69A1B30713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80769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1" lang="en-US" sz="30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 Stop TB Coordinating Board meeting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Abuja 24-25 April, 2006</a:t>
            </a:r>
            <a:endParaRPr b="0" lang="en-US" sz="3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6840" y="2590560"/>
            <a:ext cx="8381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ogress on commitments made by the WHO Regional Office for Africa during the 8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Stop TB Coordinating Board mee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ay forward (2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mote resource mobilization for scaling up TB control activities at country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elop and implement TB Strategic Information systems for Programme monitoring and evaluation at all level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Conclusio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frican leadership for TB Control has been re-affirm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is special urgent need to strengthen the human resource and financial capacity of Programmes at country and WHO Regional office levels to intensify and scale up TB Control interven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untry ownership, partnerships and coordination of TB control interventions under the leadership of national authorities are key for succes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 thank you for your atten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utline of present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mmitments made by the WHO Regional Office for Africa during the 8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Coordinating Board me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ctions undertaken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halleng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ay forwar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nclus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ommitments made during the 8</a:t>
            </a:r>
            <a:r>
              <a:rPr b="0" lang="en-US" sz="40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Coordinating Board meeting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vocate with African leadership for increased action against TB in the Reg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opt a Regional Roadmap for intensifying TB Control action towards the MD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llaborate with Stop TB Partnership secretariat to organize an African TB Financing Summit during 200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Actions undertaken: Advocating with African leadership for increased action against TB in the Region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Tahoma"/>
              </a:rPr>
              <a:t>A Resolution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declaring TB an Emergency in the African Region was adopted by the 55</a:t>
            </a:r>
            <a:r>
              <a:rPr b="1" lang="en-US" sz="16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session of the Regional Committee for Africa in August 2005 in Maput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Tahoma"/>
              </a:rPr>
              <a:t>RD has formally called upon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technical and financial partners [Stop TB Partnership, IUATLD, KNCV, USAID, CDC, CIDA, etc), regional economic and technical bodies (AU, SADC, ECSA,ECOWAS, OCEAC, etc] and Ministers of Health of the African Region to support implementation of the Resolution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Written commitments to support operationalisation of the Resolution has been obtained from Regional economic communities including the AU, OCEAC and SADC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With technical support from WHO (AFRO &amp; HQ), the Conference of East, Central and Southern African Ministers of Health (ECSA) adopted a Resolution ratifying the Maputo declaration and committing to operationalize it at country leve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Actions undertaken: Adopt a Regional Roadmap for intensifying TB Control action towards the MDGs (1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Regional Medium term Strategic Plan for TB Control 2006-2010 is being develop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ahoma"/>
              </a:rPr>
              <a:t>Regional guidelines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for operationalizing the Maputo Resolution at country level are being developed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ahoma"/>
              </a:rPr>
              <a:t>A Regional Plan of Action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or implementing the Maputo Resolution has been develop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egional TB Advocacy, Communication and Social Mobilization Strategy (ACSM) is being developed in collaboration with Stop TB Partnership</a:t>
            </a: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rocess to recruit Regional TB ACSM focal point is underway with funding from the Stop TB Partnershi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Actions undertaken: Adopt a Regional Roadmap for intensifying TB Control action towards the MDGs (2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TB focal points have been placed in each of AFRO’s 3 inter-country team locations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 priority diseases (Ouagadougou, Libreville and Harar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Costed Inter country support team (ICST) Programmes of work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for 2006-2007 have been elaborated with respective WRs and ICST staf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Technical support is being provided to countries and Regional Economic Communities to develop frameworks and plans of action for responding to the Resolu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ahoma"/>
              </a:rPr>
              <a:t>TB declared as an emergency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in some countries and process to declare an emergency underway in other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ahoma"/>
              </a:rPr>
              <a:t>Emergency plans developed and launched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n some countries and under development in oth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Actions undertaken: Collaborate with Stop TB Partnership secretariat to organize an African TB Financing Summit during 2006</a:t>
            </a: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FRO is committed to work with Stop TB Partnership to organize the financing summit within 2006 on a date and venue to be agre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hallenge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ak Programme management capacity for strategic planning, monitoring and evaluation at country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ufficient decentralization of TB services for increased access and better coverage for maximum impa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ufficient human resources for implementation and scale up TB control interventions at country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adequate financial resources at all levels for intensified TB control activities in the Reg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ay forward (1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pport scale up of intensified TB control interventions in high burden countries (prevalence &gt;300 per 100,000 populatio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rengthen  / build and sustain national capacity for implementation, monitoring and evaluation of intensified TB control intervention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mote coordination of partner interventions by national authorities through implementation of a common action pl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rengthen / build partnerships for TB control at all leve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08:23:02Z</dcterms:created>
  <dc:creator>nkhomaw</dc:creator>
  <dc:description/>
  <dc:language>en-US</dc:language>
  <cp:lastModifiedBy>bakerl</cp:lastModifiedBy>
  <dcterms:modified xsi:type="dcterms:W3CDTF">2006-05-02T15:06:27Z</dcterms:modified>
  <cp:revision>38</cp:revision>
  <dc:subject/>
  <dc:title>TB CONTROL IN THE AFRICAN REGION</dc:title>
</cp:coreProperties>
</file>