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0EE4-1B48-4355-BC65-D98315208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that the figures are cumulative, and that they exclude the number of consul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enario 2, which is based on the assumption of a higher number of applications than scenario 1, will require hiring even more staff over the course of the expansion ph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3659-F343-4CA8-8C76-9A6B300E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B6B4-35E4-4068-A028-2EC50019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42D2-A573-4282-B769-6D4BF0164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E04C-11E4-4B49-B687-89A05ADE6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F47B-A9D5-488F-877C-B77E4360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A03B-C398-40F7-AF4B-19E1796D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3E83-C16F-4FDA-A77F-0E521DBB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0D21-F550-4770-B29F-E4FA97B1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D997-6C9C-4CFF-AD5A-D8651B3C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8F68-BE60-4F6C-B02A-4300EE04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331B-2765-45BB-8EEB-2E013E51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B281-290F-4659-9FA0-49E5C85D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A995-6F83-43DD-86AB-3B8D1E537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9325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s for operationalizing the Strategic Plan of the Working Group on DOTS-P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0952" t="1134" r="3247" b="0"/>
          <a:stretch/>
        </p:blipFill>
        <p:spPr>
          <a:xfrm>
            <a:off x="4859280" y="1197000"/>
            <a:ext cx="3376800" cy="4464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539640" y="2166840"/>
            <a:ext cx="33829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agement of MDR-TB integrated into routine activities of TB control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800,000 MDR-TB patients to be treated over the next 10 years at estimated cost of US$6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760" y="1238400"/>
            <a:ext cx="465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implementatio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 the Strategic Plan of the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13400" y="5735520"/>
            <a:ext cx="3919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 Thelma Tupasi, Chair of W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inating Board meeting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uja, Nigeria, April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 1: Increased and sustained  commitment to scale-up sound TB control programmes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growth projections for scaling up MDR-TB manage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1297080"/>
            <a:ext cx="813744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403280" y="1766880"/>
          <a:ext cx="6840720" cy="1733400"/>
        </p:xfrm>
        <a:graphic>
          <a:graphicData uri="http://schemas.openxmlformats.org/drawingml/2006/table">
            <a:tbl>
              <a:tblPr/>
              <a:tblGrid>
                <a:gridCol w="2200320"/>
                <a:gridCol w="1108080"/>
                <a:gridCol w="1211400"/>
                <a:gridCol w="1109520"/>
                <a:gridCol w="12114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3789360"/>
            <a:ext cx="2224080" cy="2808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133344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8900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2: Human resources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7720" y="3933720"/>
            <a:ext cx="4599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 of properly tra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ed for scaling 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country level is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timates of GLC staff needs at WHO HQ,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onal and country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1592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llenge 3: 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st of the MDR-TB burden estimated is not being been diagn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1052640"/>
            <a:ext cx="7991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976320"/>
          <a:ext cx="8756640" cy="581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76320"/>
                    <a:ext cx="875664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851280" y="3141720"/>
            <a:ext cx="2592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stimated 4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detect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4869000"/>
            <a:ext cx="226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stimated 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ST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644688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WHO/STB/T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4: Drug suppl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ed quantity of quality-assured manufacturers an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335772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C mechanism procures onl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ven drugs from six manufacturers, all of them meeting at least GMP standards of WHO or a stringent drug regulatory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pdate on WHO Prequalification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 seven manufacturers appl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 dossiers submit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manufacturer WHO GMP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product yet WHO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87640" y="1411200"/>
            <a:ext cx="37544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ddressing the challenges for operationalizing the Strategic Plan of the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496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ed commitment to scal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siness plan for the GLC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quest to the GFATM to contribute funding GLC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untry level plans for MDR-TB scale up in key countries (China, India, Russia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lan for training trainers on MDR-TB management through WHO and partn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termine the gap in human resources at countr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ratory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lerate the Global Plan for Strengthening laboratory capacity, including culture and drug suscepti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ug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lerate the WHO Prequalification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engthen the GLC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reasing the size of the market of second-line anti-TB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9:37:35Z</dcterms:created>
  <dc:creator>jaramilloe</dc:creator>
  <dc:description/>
  <dc:language>en-US</dc:language>
  <cp:lastModifiedBy>bakerl</cp:lastModifiedBy>
  <dcterms:modified xsi:type="dcterms:W3CDTF">2006-05-02T15:00:24Z</dcterms:modified>
  <cp:revision>41</cp:revision>
  <dc:subject/>
  <dc:title>WHO's role in addressing drug-resistant tuberculosis: opportunities and challeng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