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924-E46D-4B6F-A45E-78EF716C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241-DF8F-4C8C-8FA7-26F2E62C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0DEE-E22E-4763-9CCE-ECCBFFB4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A2E-32A5-44C9-BCB3-9E47F9AA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C5AD-5816-40AC-9D8C-F1159F8C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C51A-6BC2-430E-9406-20E6FBCF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B93D4-336D-4240-9E30-CDF124C7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1D58-C02E-4DF6-8210-776E95BA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E4B6-8887-49F4-AA1E-B554358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41D7-F08C-4A7E-96CC-100FD56D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DB24-7F78-46C2-A35C-8A6A6DC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90E0-074D-49BA-933D-BC61ABB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078-B35D-496A-85E1-3615F87A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D539-D965-4C02-B4C6-09D2A349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8BBF-5513-4847-9AA7-7F9EE7FF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2C449-581C-4DC2-B0E5-69B9A2CD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E67B-13A3-465E-9396-00005DAF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C575-E493-4554-A3CB-7189D81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D987-DF83-4BC8-8045-D50AE67D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061-8730-4B90-B4ED-DC06BEA4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1BFA-AAE5-4FB8-8039-D6E36FF0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3A0-5D59-4AE2-98D1-E27642A2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AC5E-F03F-4E75-BEC0-93C891AB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F7A-2E6B-43D2-9656-CBDC33D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535-CDC1-4381-80EF-7E800E2ABC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B2F7-8227-409E-807D-BD9DF779804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WG – 3 challenges and possible actio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Jeremiah Chakay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Chair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Léopold Blanc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66"/>
                </a:solidFill>
                <a:latin typeface="Arial"/>
              </a:rPr>
              <a:t>Secretar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regional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our out of 6 ROs – incorporated Stop TB Strategy into Regional Strategic Plans and used the frame of the global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RO, EMRO, SEARO, WPRO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URO – in preparation (previous plan up to 2006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RO – focus on the emergency plan outlined in the blue pr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sub-groups plans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B-Poverty plan ready and discussed in teleconference of DEWG core grou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ab plan ready and discussed among sub-group me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PM plan in prepar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hood TB: no plan prepa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Status of country planning 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following the launch of the GPSTB2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MRO – Brazil – preparing 5 year plan, other priority countries to follow in the 2</a:t>
            </a:r>
            <a:r>
              <a:rPr b="0" lang="en-GB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half of year (workshop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MRO – 9 countries (including AFG) preparing 10 year pl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ARO – 4 HBCs (IND, INO, MYA, BAN) – 5 year plans prepared; NEP – 10 year plan made in 20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PRO – 3 HBCs (CHN, PHL, VTN) – 5 year plans ready. Other countries will finalise before second semes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URO – September 2006 – NTP meeting – will discuss planning in 18 priority countries (high burden or high rat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FRO – countries develop emergency plans following the TB emergency declared by the Regional Committee in 2005 (KEN, SAF, MOZ – plans read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1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untry plans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plans not sufficiently ambitious and comprehensive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onsistencies between budget required by NTP and the estimates in the G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y do not address in a systematic way the role of the all health care providers and of patients and communiti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Review existing plans and provide adequate support in adjusting the budgets, in line with the GP method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appropriate ensure that plans include the role of all health care providers and of patients and commun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 better country and sub-group plans: TB-Poverty, Lab, PPM, Childhood TB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trengthen laboratory capac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mprove smear microscopy and implement culture and 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investment to build countries' capacity and to provide in country support to assess lab network capacity, plan laboratory activities, implement EQA for microscopy and culture and monitor lab performanc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hallenges (3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Human resource development as part of health systems strengthe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ddress shortages in external consultants and country staff (quantity and quality) to implement Stop TB Strateg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ggested a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ollow example of Indonesia in carrying out the comprehensive analysis of HR needs and producing HRD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tensify training of consultants (theoretical workshops and field-experienc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6:00:51Z</dcterms:created>
  <dc:creator>Malgorzata Grzemska</dc:creator>
  <dc:description/>
  <dc:language>en-US</dc:language>
  <cp:lastModifiedBy>johnsoneb</cp:lastModifiedBy>
  <dcterms:modified xsi:type="dcterms:W3CDTF">2006-04-24T17:28:58Z</dcterms:modified>
  <cp:revision>15</cp:revision>
  <dc:subject/>
  <dc:title>DEWG – input to the joint Implementation WG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