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1FEC-36DE-437A-B8E2-46FFBAA53A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ly H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AA01-9E38-442B-BBCF-C8692124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537-4BA0-4FA0-B025-8628D0D5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493A-E81B-4916-894D-85C433E4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B73A-5CE1-48F7-9043-B1A5DF65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530C-3D5F-40D2-80F1-7811C21A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ADCD-CDF6-491C-88F4-D5B7A76E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DCE4-B8CF-4886-A825-417C344D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258D-C2A4-493F-8AB7-AA5AD9B5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34C7-F7C1-4AC7-856D-BBCF66B1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93F3-B792-47BE-9D18-B5A7E616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6185-A294-4067-B96F-5676A329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8557-929E-4DF2-9764-45098529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9A89-C040-454B-89A5-6E94E616F4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hyperlink" Target="http://www.panosaids.org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s for working with the media on TB: The Panos Stop TB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2920" y="3141360"/>
            <a:ext cx="6513480" cy="17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ation to Stop TB Governing Board Meeting in Abuja, Nigeria, 22 to 25 April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ald D. Kayanja, Director Panos Global AIDS Program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373720"/>
            <a:ext cx="73454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Dickson, an African village"/>
          <p:cNvPicPr/>
          <p:nvPr/>
        </p:nvPicPr>
        <p:blipFill>
          <a:blip r:embed="rId5"/>
          <a:stretch/>
        </p:blipFill>
        <p:spPr>
          <a:xfrm>
            <a:off x="6372360" y="479736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Sven Torfinn"/>
          <p:cNvPicPr/>
          <p:nvPr/>
        </p:nvPicPr>
        <p:blipFill>
          <a:blip r:embed="rId6"/>
          <a:stretch/>
        </p:blipFill>
        <p:spPr>
          <a:xfrm>
            <a:off x="4500720" y="5084640"/>
            <a:ext cx="1714320" cy="112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Pep Bonet"/>
          <p:cNvPicPr/>
          <p:nvPr/>
        </p:nvPicPr>
        <p:blipFill>
          <a:blip r:embed="rId7"/>
          <a:stretch/>
        </p:blipFill>
        <p:spPr>
          <a:xfrm>
            <a:off x="2700360" y="4724280"/>
            <a:ext cx="1704960" cy="1714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Pep Bonet"/>
          <p:cNvPicPr/>
          <p:nvPr/>
        </p:nvPicPr>
        <p:blipFill>
          <a:blip r:embed="rId8"/>
          <a:stretch/>
        </p:blipFill>
        <p:spPr>
          <a:xfrm>
            <a:off x="900000" y="4724280"/>
            <a:ext cx="170496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aspects of Pha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focus countries to 16 (we had 8 in Phase 1). Will exponentially increase the number of journalists 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print, we will now have broadcast journalists i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hase 2 we hope to engage more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TB Manag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mprove their media relations and communications skill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inkage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fected commun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trengthen their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 collaboration with the ACSM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907640" y="981000"/>
            <a:ext cx="568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estion for the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orse phase 2 of th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isit our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panosaids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ank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-17136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Panos project do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31640" y="1052280"/>
            <a:ext cx="65134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journalists and offering them fellowships to increase interest in and accurate reporting of TB issues in high burde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 in-depth reporting that covers socio-economic aspects, affected communities and promotes accoun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ing a global network of journalists continuously reporting on TB issu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NTP managers to work more closely with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a project with the Stop TB Partnership which is moving into 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enable journalists in selected high burden countries understand the linkages between TB, HIV/AIDS, poverty, urbanization and other socio-economic vulnerabilit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uild skills and capacities of journalists to produce stories/features on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journalists with regular access to expertise and information on TB 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provide greater media coverage on current situations, experiences and perspectives on TB, based on investigative reporting - includes the voices of those most marginal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33"/>
                </a:solidFill>
                <a:latin typeface="Arial"/>
              </a:rPr>
              <a:t>To enhance the coverage of TB in priority countries with a view to promoting informed public debate, national resource mobilization,  community mobilization and accountability in national efforts to fight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TDI00418BAN"/>
          <p:cNvPicPr/>
          <p:nvPr/>
        </p:nvPicPr>
        <p:blipFill>
          <a:blip r:embed="rId5"/>
          <a:stretch/>
        </p:blipFill>
        <p:spPr>
          <a:xfrm>
            <a:off x="5516640" y="2492280"/>
            <a:ext cx="3627360" cy="24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1 (2005/2006)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Zambia, Malaw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Ethiop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Ethiop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Hai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nos Caribb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cus Countr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2 (2006/2007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6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India, Bangladesh, Indones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SEAR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akist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EM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hilippi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WP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 As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Botswana, Malawi, Namibia, South Africa, Zambia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South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DR Congo, Kenya, Uganda, Tanzania, Ethiop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AF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nos Easter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igeria, AFRO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os Wester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 / award fellow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dvisory panel—to include a senior journalist, WHO/Stop TB technical person and a member of the patient community/activist. Panel for each Panos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training workshops for journalists (training manual being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llows start working—preparing reports/articl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the Panos Stop TB journalists network supported by Panos core regional sta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ournalists awar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75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rst phase, fellowships were awarded to 17 print journalists (2 from each country and 3 from Indi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photojournalists were selected (3 from Asia and 1 from Afric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7667640" y="1916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7667640" y="2924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7020000" y="400536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5508720" y="2205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9"/>
          <a:stretch/>
        </p:blipFill>
        <p:spPr>
          <a:xfrm>
            <a:off x="5219640" y="42210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achievements- Phase 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 Journalists from around the world received the fellowships—forming a nucleus of the TB journalists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year, there was marked increased in-depth coverage of TB issu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 than 150 stories produc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ellows now working with NTP on local level media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gional training workshop was held by Panos for Eastern Africa—included 25 journalists from Kenya, Uganda, Tanzania, Ethiopia, and Sudan. Held in January prior to launch of Globa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04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" y="6248520"/>
            <a:ext cx="1625760" cy="44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7677000" y="0"/>
          <a:ext cx="146700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77000" y="0"/>
                    <a:ext cx="14670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 is incorporated within the Panos Global AIDS 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nnual budget is US$1.5m funded by DANIDA and DF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elected activities for the Media TB Fellowships project, WHO/Stop TB Partnership contributed US$59,930 for the first ph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cond phase, within the broad framework of the US$ 1.5m Panos programme, WHO/Stop TB partnership is expected to provide US$ 124,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1:51:15Z</dcterms:created>
  <dc:creator>Authorised User</dc:creator>
  <dc:description/>
  <dc:language>en-US</dc:language>
  <cp:lastModifiedBy>bakerl</cp:lastModifiedBy>
  <dcterms:modified xsi:type="dcterms:W3CDTF">2006-05-02T15:13:12Z</dcterms:modified>
  <cp:revision>122</cp:revision>
  <dc:subject/>
  <dc:title>Slide 1</dc:title>
</cp:coreProperties>
</file>