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0FB7-E741-41A5-8DC0-602E5820B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E1BC-E1C0-4C69-8A5C-F05045786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2A0F-6D9D-47D0-9B7B-5676E13EF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CC82-39CD-4847-8AF4-12A63A9FE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EB3B-620F-4C27-A585-E143AF31D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217C-9799-4D13-94AF-844EC14E0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DE44-7709-41CD-8C1C-4B004C041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275F-9D04-47EE-BDD4-B8DD5701B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7469-0DF8-4961-81AC-CFFFFBC03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0FBE-D397-4AFD-ADB6-74841339B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05D2-2276-401A-8263-E33E58783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9A7A-500C-42E4-A384-EA8A03443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819CE-82C5-4B9C-81A3-07A59BEAD4F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4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uropean High Level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isterial Forum: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uberculosis – a regional emergency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penhagen, 16-17 Octob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rpose of presentation to Coordinating Bo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 on latest develop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ite comments and sugg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 high level mission to participate in Ministerial Fo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ennium Development Goal for TB and Stop-TB targets may not be met in Africa and Eastern Europe/Central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Eastern Europe major problems with high MDR-TB rates and increasing TB-HIV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declared tuberculosis regional emergency in Europe in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 political commi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versies on technical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external support from Western Europe (health concerns versus development agen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im and objectives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isterial For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lerate progress towards achieving MDGs and targets for TB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se political and financial support to TB control in line with Global Plan 2006-2015 in priority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awareness and commitments of European and other international don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unch European Stop-TB part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paratory step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Committee (chair Zaleskis) and Steering Committee (chair Borgdorff) established in January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e and place set: 16-17 October 2006 in Copenh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itation letter ready, to be signed by Regional Director and Minister of Health of Finland (EU Presidency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lf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itees: Ministers of Health, Finance (East), Justice (East), Foreign Affairs/Development Cooperation (West), as well as selected technical ag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paratory step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sional programme drafte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ing s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nel discussions on the TB threat (incl MDR-TB and TB-HIV), collaboration between European countries, and bridging the financial div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ion and adoption of Copenhagen decl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ing the Stop TB Partnership for Europ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 declaration being prep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ocacy plan being finalised, including pre-events in key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ground documents in pre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for ‘ next steps’ in preparation (from regional to national emergency; development of country pla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 budget $ 300,000 – 350,0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certainties: number of participants, location, air f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itments so f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AI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 129,2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-TB Partnership/Ita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   53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dget gap: in the order of $  17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rther contributions expected or applied for: TB societies (Netherlands, Russia, Finland), USAID, Gates Foun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e yet directly from Western European Governments, except reception by Govt of Finland (EU presidency), and support from Italy through Stop TB 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0T16:27:26Z</dcterms:created>
  <dc:creator>kncv</dc:creator>
  <dc:description/>
  <dc:language>en-US</dc:language>
  <cp:lastModifiedBy>bakerl</cp:lastModifiedBy>
  <dcterms:modified xsi:type="dcterms:W3CDTF">2006-05-02T15:11:46Z</dcterms:modified>
  <cp:revision>5</cp:revision>
  <dc:subject/>
  <dc:title>European High Level Ministerial Forum  Tuberculosis – a regional emergency</dc:title>
</cp:coreProperties>
</file>