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A95-3DDD-41FF-A292-1BCE7036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8FC2-AA18-41F1-AE8F-44EBF7E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CA20-281F-4908-A16F-246B506F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8B6-9BAA-4FF0-8090-FC12E7E9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C34-C388-47B4-85D8-D23EB0A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6D0-6278-43E5-9CE7-C0B9E85E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FDB-DD43-4EF4-8442-5FFDD52A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E3F-AF24-40BC-8370-46B815FE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086-F718-4D44-8CDC-DEAD1A41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CD8-18D4-4965-8A8C-A055B153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A9C3-44E7-4AB2-B46F-499DFD83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570-5BAE-4730-B5EC-FC95145A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8AC-93F8-4A2B-B3C7-CC8BC8EB52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olicie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Framework, Guideli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im Policy, M&amp;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illance, “Protest” less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testing policy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services       2000 . . . 2004         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HA screened for T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. . .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~100,000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/HIV patients on 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. . . .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,000         0.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Monitoring &amp; evaluation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g about 2-3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activities grow very fast percentage 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96360" y="3500280"/>
            <a:ext cx="144360" cy="1224000"/>
          </a:xfrm>
          <a:custGeom>
            <a:avLst/>
            <a:gdLst>
              <a:gd name="textAreaLeft" fmla="*/ 42480 w 144360"/>
              <a:gd name="textAreaRight" fmla="*/ 1443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748720" y="3500280"/>
            <a:ext cx="144360" cy="1224000"/>
          </a:xfrm>
          <a:custGeom>
            <a:avLst/>
            <a:gdLst>
              <a:gd name="textAreaLeft" fmla="*/ 0 w 144360"/>
              <a:gd name="textAreaRight" fmla="*/ 101160 w 144360"/>
              <a:gd name="textAreaTop" fmla="*/ 50760 h 1224000"/>
              <a:gd name="textAreaBottom" fmla="*/ 11732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563200">
            <a:off x="5508720" y="1268280"/>
            <a:ext cx="1314360" cy="1749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20558400">
            <a:off x="6156360" y="1341360"/>
            <a:ext cx="1290600" cy="1689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0595000">
            <a:off x="6803640" y="1341360"/>
            <a:ext cx="1236600" cy="166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0613600">
            <a:off x="7308360" y="1557360"/>
            <a:ext cx="1089000" cy="1512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0583000">
            <a:off x="7740360" y="1557360"/>
            <a:ext cx="1098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0 . . . 2006: progress in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ntera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4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B/HIV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 200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B/HIV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jointly written TB/HIV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National policy for TB/HIV testing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er routine HIV testing for TB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oordinating body for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TB/HIV coordination body/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. . 2006: estimates substantially 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6 . . . 2015 Key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mited engagement between key part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&lt;&gt; HIV/AI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/HIV &lt;&gt; Health System,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alth System shortcom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ional weakness, e.g. referra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now how’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s for SS-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scale up Community invol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22035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26352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57192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4005360"/>
            <a:ext cx="649080" cy="288720"/>
          </a:xfrm>
          <a:prstGeom prst="rightArrow">
            <a:avLst>
              <a:gd name="adj1" fmla="val 50000"/>
              <a:gd name="adj2" fmla="val 5620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5445000"/>
            <a:ext cx="649080" cy="289080"/>
          </a:xfrm>
          <a:prstGeom prst="rightArrow">
            <a:avLst>
              <a:gd name="adj1" fmla="val 50000"/>
              <a:gd name="adj2" fmla="val 5613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76640"/>
            <a:ext cx="287280" cy="3960720"/>
          </a:xfrm>
          <a:prstGeom prst="downArrow">
            <a:avLst>
              <a:gd name="adj1" fmla="val 50000"/>
              <a:gd name="adj2" fmla="val 34467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92000" y="5999040"/>
            <a:ext cx="8101080" cy="398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HEALTH SYSTEM STRENGTHENING IS COMMON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4941720"/>
            <a:ext cx="863640" cy="289080"/>
          </a:xfrm>
          <a:prstGeom prst="leftArrow">
            <a:avLst>
              <a:gd name="adj1" fmla="val 50000"/>
              <a:gd name="adj2" fmla="val 746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36600" y="4341960"/>
            <a:ext cx="2166480" cy="10087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cc"/>
              </a:gs>
              <a:gs pos="100000">
                <a:srgbClr val="ffcc00"/>
              </a:gs>
            </a:gsLst>
            <a:lin ang="5400000"/>
          </a:gra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ACCEL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OF NEW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97800" cy="180036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. reduce TB/HIV through effective collaboration between TB  and HIV programs and communities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84280" y="4797000"/>
            <a:ext cx="6400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&amp;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0 . . . . . 2006 . . . . . . . .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59280" y="5372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537372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75080" y="785880"/>
            <a:ext cx="239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 rot="19624200">
            <a:off x="-96840" y="2687760"/>
            <a:ext cx="919800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06:58:29Z</dcterms:created>
  <dc:creator>elzingag</dc:creator>
  <dc:description/>
  <dc:language>en-US</dc:language>
  <cp:lastModifiedBy>bakerl</cp:lastModifiedBy>
  <dcterms:modified xsi:type="dcterms:W3CDTF">2006-05-02T14:59:32Z</dcterms:modified>
  <cp:revision>20</cp:revision>
  <dc:subject/>
  <dc:title>TB/HIV Challenges, Abuja </dc:title>
</cp:coreProperties>
</file>