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13.jpeg" ContentType="image/jpeg"/>
  <Override PartName="/ppt/media/image8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27.wmf" ContentType="image/x-wmf"/>
  <Override PartName="/ppt/media/image26.png" ContentType="image/png"/>
  <Override PartName="/ppt/media/image1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5C0-3FB4-41C8-BFF5-CBF22955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F953-CE37-4BEE-A3B8-6967E110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FF6C-0B58-48A7-B83C-7B24BC9E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D29-3A45-40BE-B1B7-C151A715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E3A-4981-48B7-800A-F62F0944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250-5F3C-4E32-BBAD-92A01984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3208-C351-4407-801A-1E6098F0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1A6-F715-4BD2-90C8-F3D71C9F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26D-D064-4BAF-A37B-55FDED45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94E-33C2-423D-B1EC-F5498705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A08-EFAF-40C6-8305-76402F8F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9E0D-B7DD-43C5-AF90-4472F06D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2CC4-8BBA-4A37-AD2F-305DF1D9AB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optb.org/events/partners_forum/2004/default.as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h/imgres?imgurl=http://www.imakinaria.com/archives/mh-bullseye.jpg&amp;imgrefurl=http://www.imakinaria.com/archives/2004_10.html&amp;h=600&amp;w=800&amp;sz=80&amp;tbnid=UUbWhQZIJ2yl5M:&amp;tbnh=106&amp;tbnw=142&amp;hl=en&amp;start=8&amp;prev=/images%3Fq%3Dbullseye%26svnum%3D10%26hl%3Den%26lr%3D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wetogospelchor.de/show/index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" descr="Keeping the Ple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8400"/>
            <a:ext cx="547056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6400" cy="33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50007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084720" y="3533760"/>
            <a:ext cx="2876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pportunity!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98900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ible platfor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ing 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ing of successes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ouring TB her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 key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advocac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ster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igher profile for T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tellit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far NOT an inclusiv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8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dated in Partnership structure and procedures as the body to which all other elements of the Partnership are answe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ed by the Board and WHO in the 2006-7 workplan and already earmarked by donors for funding through the trust fund ($366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ard committed to Forum in Africa in the Bluepr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ed to fully implement and fund the Glob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bjective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773360"/>
            <a:ext cx="73436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o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su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place for connecting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uence policy in host country and through bilateral CB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e countries that have reached 2005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trends i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external review of Partnership and call for endorsement of recommend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6440"/>
            <a:ext cx="208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076360" y="508464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03280" y="486864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019640" y="314136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92360" y="450828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734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87640" y="537372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pet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airo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37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73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4640"/>
            <a:ext cx="712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licy Chang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e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97640" y="4508640"/>
            <a:ext cx="17463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1798920" cy="17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236000" y="2421000"/>
            <a:ext cx="2122200" cy="181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651640" y="53830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r>
              <a:rPr b="0" lang="en-GB" sz="4800" spc="-1" strike="noStrike">
                <a:solidFill>
                  <a:srgbClr val="0000ff"/>
                </a:solidFill>
                <a:latin typeface="Arial Rounded MT Bold"/>
              </a:rPr>
              <a:t>Johannesburg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73360"/>
            <a:ext cx="8820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 in Africa answers to the CB commitment make in the Blueprint for Af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 willingness to host Forum is being explo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for positive policy change is substantial given positive signals from Deputy President and Presi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are potentially large if linked to the Capetown IUATLD meeting.  Media attention can be managed strategically to benefit both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rastructure, transport and media access are very g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t's make something to celebrate in South Africa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7840"/>
            <a:ext cx="82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ctober 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stantial cost savings if the Forum is held immediately before the IUATLD Congress in Capetown, end of October, 2007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a messages can be managed with IUATLD to ensure a WIN-WIN scenario: a media crescendo throughout the forum and congress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timing will allow us – starting now – to build momentum,  secure very high level involvement, prepare background papers and communication products,  secure venue, ensure consul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9160" y="3597120"/>
            <a:ext cx="434484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Participants in the First Technical Advisory Group Meeting to Stop TB in the Western Pacific Region"/>
          <p:cNvPicPr/>
          <p:nvPr/>
        </p:nvPicPr>
        <p:blipFill>
          <a:blip r:embed="rId3"/>
          <a:stretch/>
        </p:blipFill>
        <p:spPr>
          <a:xfrm>
            <a:off x="1619280" y="2133720"/>
            <a:ext cx="45622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651640" y="1332000"/>
            <a:ext cx="3492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000680"/>
            <a:ext cx="367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cut Africa High prevalence rate in half from 2006 baseline by 2015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13000"/>
            <a:ext cx="76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hip Secretariat l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ttees for major areas of work and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ional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l advocacy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community as KEY local and global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ility of a secondment to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 South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3ebf1"/>
                </a:solidFill>
                <a:latin typeface="Arial Rounded MT Bold"/>
              </a:rPr>
              <a:t>Discussion Point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tellite events: research mee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lusive or inclus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 lim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l advocacy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 crite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9920" y="3789360"/>
            <a:ext cx="2494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reach fair financing goals for all HBCs and major donors?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knew exactly what new research programmes to ask for from EU and NIH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23344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06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781360"/>
            <a:ext cx="2195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2852640"/>
            <a:ext cx="1724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ALL Stop TB Partners could connect and collaborat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86696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attract MORE very high level champion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488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FORUM</a:t>
            </a:r>
            <a:br>
              <a:rPr sz="15000"/>
            </a:br>
            <a:r>
              <a:rPr b="1" lang="en-GB" sz="150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Can the Secretariat start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Forum </a:t>
            </a:r>
            <a:r>
              <a:rPr b="1" lang="en-GB" sz="54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3:55Z</dcterms:created>
  <dc:creator>England</dc:creator>
  <dc:description/>
  <dc:language>en-US</dc:language>
  <cp:lastModifiedBy>bakerl</cp:lastModifiedBy>
  <dcterms:modified xsi:type="dcterms:W3CDTF">2006-05-02T15:16:21Z</dcterms:modified>
  <cp:revision>30</cp:revision>
  <dc:subject/>
  <dc:title>Slide 1</dc:title>
</cp:coreProperties>
</file>