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D8F-A584-4126-B66E-04C43121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A9F-1FEA-4A65-8A97-13090E1E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D50-0967-4934-9CBE-90598B3D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BA4E-6A27-4193-B0D9-BD8713BE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86F2-0DE4-4669-BB16-6103D317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5537-5B5D-489A-9881-3FC6D846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91B7-38CA-4BF8-A316-439EA291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4DBD-A707-494B-A5E9-67550C26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5C68-4C66-48D9-B892-116AD80C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2E55-80BA-4948-808C-ED184F58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21BE-A1C9-425A-9259-15FC7A7B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0FF1-ECAF-4106-9191-1959561F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1C09-55D5-4BE5-A56D-9FA533B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BF7F-99B0-4AAC-9C41-B11B60A8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C198-A81A-4F4D-8A3A-FCFE1A59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27E4-0F1E-475E-A696-166B112C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CDE9-140B-4FF8-AEF1-7522DBCF8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427-F658-4D13-97C8-8388FD34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CD77-B898-4E17-9922-F2855D1E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1F93-42FA-48A4-B98B-8B0FF3F1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328D-738D-45C5-80DF-F525CD44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06A2-C275-4202-9C0D-621F4CB6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5BA5-8DDE-4E55-86D9-583A43A2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D6D-2D7B-413F-BD6C-75ABBF45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E66B-B989-4DFF-BDDE-236E44A8268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24C8-202C-4A06-A188-037A045442A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Overcoming Challenges to Implementing the Global Plan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e Cunnin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retariat, STOP TB Working Group on New Diagno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792000"/>
          <a:ext cx="9144000" cy="6066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00"/>
                    <a:ext cx="914400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0" y="304920"/>
            <a:ext cx="9036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rgets for Test Introduction Leading to Sustainable Adop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Engaging Industry  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 level awarenes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&amp;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hurd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 distrib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r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into policy chang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ing TB to HI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sector funding for basic and use-inspired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et analysis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ailed study in 7 H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lobal Drug Facility Mode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lth and lab systems strengthen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ng international convening power and influ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10666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9999"/>
                </a:solidFill>
                <a:latin typeface="Arial"/>
              </a:rPr>
              <a:t>Technical &amp; Financial Challenges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       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crobiological challe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ies fai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cos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ublic sector funding for basic resear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ment portfolio must be risk-balanced comprising multiple options at each leve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ancial commitments covering the entire planning phase of the projec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49000" y="11462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ta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6240" y="106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Organizational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nsition from an "interest group" that promotes network building…..to a "working group" will require dedicated staff tied to milestones and deliver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roposed subgroups – latent TB infection, diagnostic trials, market entry, advocacy, use-inspired resear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669999"/>
                </a:solidFill>
                <a:latin typeface="Arial"/>
              </a:rPr>
              <a:t>STOP TB Coordinating Board Respons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orse and advocate for research for new diagnostic tool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velop and operationalize 're-tooling' concep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inancial investment that spans broad areas of research and  spans the full development pathw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sponsive to new knowledge====changes in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1:54:49Z</dcterms:created>
  <dc:creator>cunninghamj</dc:creator>
  <dc:description/>
  <dc:language>en-US</dc:language>
  <cp:lastModifiedBy>bakerl</cp:lastModifiedBy>
  <dcterms:modified xsi:type="dcterms:W3CDTF">2006-05-02T15:02:36Z</dcterms:modified>
  <cp:revision>20</cp:revision>
  <dc:subject/>
  <dc:title>Overcoming Challenges to Implementing the Global Plan </dc:title>
</cp:coreProperties>
</file>