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B66D-4801-49EE-A5EF-1607616AD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7400-3C44-4424-BB6F-96F6976E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0CB2-3256-4B9A-B5B5-D7F53E17C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E220-8FDF-4700-9C69-9457F3DBA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0F4D3-042A-4800-9F13-AC0AB2526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23EF7-FD98-4E1D-9CC7-3089A338B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1647D-E031-43F2-9FE6-D339E4DD7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A7B42-55A5-486A-830E-7DAC81877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BE8F7-12F0-42E5-A3D9-6FDCEC9E6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31BC3-7B13-4416-8F52-825D83D4D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70943-DEDF-44E6-B67D-048AF323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3E9F-1913-4405-901E-F4E7FF131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79BC1-5F8A-4847-8E5A-4D25C700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367A6-8299-4AC1-B321-2D7B36D5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181FB-AA25-4BB2-AC1C-1A4680A54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2C520-D54B-486B-802A-825E6E369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0DD7D-A3E7-4E58-9424-E8C76E9E6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1771-8F86-4022-8FFE-5D1D7E4CF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096B-72F9-434F-AD73-BC715784A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1161-B721-4859-9C36-E8CF736ED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C58E-9B26-4015-BAB7-9EDA73E54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E301-85CB-4216-A172-60D7806A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03A0-D270-48A0-A813-92C4CD39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0DD1-0D64-4ED7-A275-879E53A6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BF633-90D8-4D67-BD5F-5DA2E600F7A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A7533-1527-49D0-AD08-4EA3BA2C605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"/>
              </a:rPr>
              <a:t>DEWG – 3 challenges and possible action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Jeremiah Chakaya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Chair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66"/>
                </a:solidFill>
                <a:latin typeface="Arial"/>
              </a:rPr>
              <a:t>Léopold Blanc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66"/>
                </a:solidFill>
                <a:latin typeface="Arial"/>
              </a:rPr>
              <a:t>Secretar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Status of regional planning </a:t>
            </a:r>
            <a:br>
              <a:rPr sz="2800"/>
            </a:b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following the launch of the GPSTB2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00000" y="256500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Four out of 6 ROs – incorporated Stop TB Strategy into Regional Strategic Plans and used the frame of the global pla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MRO, EMRO, SEARO, WPRO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URO – in preparation (previous plan up to 2006)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FRO – focus on the emergency plan outlined in the blue pri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Status of sub-groups plans </a:t>
            </a:r>
            <a:br>
              <a:rPr sz="2800"/>
            </a:b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following the launch of the GPSTB2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00000" y="256500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B-Poverty plan ready and discussed in teleconference of DEWG core grou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Lab plan ready and discussed among sub-group memb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PPM plan in preparatio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ildhood TB: no plan prepar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7617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Status of country planning </a:t>
            </a:r>
            <a:br>
              <a:rPr sz="2800"/>
            </a:b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following the launch of the GPSTB2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AMRO – Brazil – preparing 5 year plan, other priority countries to follow in the 2</a:t>
            </a:r>
            <a:r>
              <a:rPr b="0" lang="en-GB" sz="2000" spc="-1" strike="noStrike" baseline="30000">
                <a:solidFill>
                  <a:srgbClr val="003366"/>
                </a:solidFill>
                <a:latin typeface="Arial"/>
              </a:rPr>
              <a:t>nd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 half of year (workshop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EMRO – 9 countries (including AFG) preparing 10 year pla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SEARO – 4 HBCs (IND, INO, MYA, BAN) – 5 year plans prepared; NEP – 10 year plan made in 200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WPRO – 3 HBCs (CHN, PHL, VTN) – 5 year plans ready. Other countries will finalise before second semester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EURO – September 2006 – NTP meeting – will discuss planning in 18 priority countries (high burden or high rate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AFRO – countries develop emergency plans following the TB emergency declared by the Regional Committee in 2005 (KEN, SAF, MOZ – plans ready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hallenges (1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550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untry plans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many plans not sufficiently ambitious and comprehensive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inconsistencies between budget required by NTP and the estimates in the GP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many do not address in a systematic way the role of the all health care providers and of patients and communiti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Suggested a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Review existing plans and provide adequate support in adjusting the budgets, in line with the GP methodolog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Where appropriate ensure that plans include the role of all health care providers and of patients and communiti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Link better country and sub-group plans: TB-Poverty, Lab, PPM, Childhood TB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hallenges (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9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Strengthen laboratory capac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Improve smear microscopy and implement culture and D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Suggested a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jor investment to build countries' capacity and to provide in country support to assess lab network capacity, plan laboratory activities, implement EQA for microscopy and culture and monitor lab performanc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hallenges (3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Human resource development as part of health systems strengthe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Address shortages in external consultants and country staff (quantity and quality) to implement Stop TB Strateg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Suggested a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Follow example of Indonesia in carrying out the comprehensive analysis of HR needs and producing HRD pla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Intensify training of consultants (theoretical workshops and field-experience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16:00:51Z</dcterms:created>
  <dc:creator>Malgorzata Grzemska</dc:creator>
  <dc:description/>
  <dc:language>en-US</dc:language>
  <cp:lastModifiedBy>johnsoneb</cp:lastModifiedBy>
  <dcterms:modified xsi:type="dcterms:W3CDTF">2006-04-24T17:28:58Z</dcterms:modified>
  <cp:revision>15</cp:revision>
  <dc:subject/>
  <dc:title>DEWG – input to the joint Implementation WG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