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4735-EAE7-4884-BD9D-B4A92D3D495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9107-AC08-4BEE-B4E3-17D64FDF534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A7F1-8FC6-4464-BC41-93D490C1E66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295E-5E33-4794-82D8-E3A855AF710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2B92-6272-4CA7-BA02-B02321D45ED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1193-01E3-462E-A603-10F601722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32BA-14E0-4643-972A-55FAB672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26C5-F274-4BC6-89D8-EDE20AE63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F547-7403-47BE-8F7F-DD4F01433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8901-738D-4FBF-88FC-1330EAEA6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FD4A-A55B-40C1-BD8F-C4BB5CB0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558C-0843-4A03-9A08-A20137E5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EA80-37D9-4A92-B496-E81BC16D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9DA4-68FF-46F6-BD93-B024159A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115E-A281-4C90-B26B-80022D66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641C-18EC-45B9-8329-2B6744E5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07BF-9907-4979-BEE0-5D05D445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4357-4F96-4289-8A6F-C0540A8D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BEE9-15DB-47C0-AA71-5C45830F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C26D-5184-43BE-B434-3F77BB46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D92F-8ECA-45D8-8036-55F9F4B64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F4F9-48D8-4E7E-9EC0-D8C423C9E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0A47-661C-41D5-A7C7-5EC6D294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741A-55C9-4A7E-885B-23105A4C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4B76-2147-4657-9DE6-10576ED1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9C8A-A808-4083-8801-6C0813E5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4F19-A504-4751-978C-6F1D74D2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39AA-AA32-491B-921B-B06FC6AE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F5C8-058F-418E-8282-697085BC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1E1B-53F1-4C7C-8F2E-5B7DB7EABC2D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C795-F26B-4115-A2DB-F498740AD0A7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77738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WG on New TB Vaccines – 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where do we go from here?</a:t>
            </a:r>
            <a:br>
              <a:rPr sz="3200"/>
            </a:br>
            <a:endParaRPr b="1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Lessons from GP1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Overall objective: 5 vaccine candidates in phase I clinical trials by the end of 2005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Lesson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Sense of ownership / buy-in by partners does not com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automaticall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G must position itself more prominently as a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" 1st  stop shop " on vaccine R&amp;D matters, both inside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the TB vaccine community and to the outsid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Resource mobilization must become more professiona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Mechanisms for a more rapid response by the WG to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upcoming challenges need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A strategic "scaffold" ("roadmap"/"blueprint") for th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ide range of diverse activities is need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Challenges for GP2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Overall objective: a safe, effective licensed vaccine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available at affordable cost by 2015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	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</a:t>
            </a: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Challeng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Technical:      lacking immune surrogate of protection, diagnosis of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clinical trial endpoints, in particular in childre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Economic:     estimated cost to bring existing candidates to licensure: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US$ 600million, estimated availability : US$ 60 million 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Normative:    no regulatory capacity fro vaccine trial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in endemic countr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Participatory: few industry,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no endemic country participation i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                          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formulation of research goa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G function: Need to increase response time &amp; visibility for the W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6732720" y="609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How can the Board help?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Resource Mobilization, Advocacy, Link with the TB control community for epidemiology, laboratory, trial site selection…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Use Board links with highest levels of government as well as grassroots to create a momentum &amp; pressure &amp; ownership in endemic countries for TB vaccine develop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</a:t>
            </a: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National Plans for TB Vaccine Development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         </a:t>
            </a:r>
            <a:r>
              <a:rPr b="0" lang="en-GB" sz="32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</a:t>
            </a:r>
            <a:r>
              <a:rPr b="0" lang="en-GB" sz="3200" spc="-1" strike="noStrike">
                <a:solidFill>
                  <a:srgbClr val="990000"/>
                </a:solidFill>
                <a:latin typeface="Mistral"/>
                <a:ea typeface="宋体"/>
              </a:rPr>
              <a:t>tool (?) developmen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                                </a:t>
            </a:r>
            <a:r>
              <a:rPr b="0" lang="en-GB" sz="4000" spc="-1" strike="noStrike">
                <a:solidFill>
                  <a:srgbClr val="990000"/>
                </a:solidFill>
                <a:latin typeface="Lucida Handwriting"/>
                <a:ea typeface="宋体"/>
              </a:rPr>
              <a:t>research </a:t>
            </a:r>
            <a:r>
              <a:rPr b="0" lang="en-GB" sz="4000" spc="-1" strike="noStrike">
                <a:solidFill>
                  <a:srgbClr val="990000"/>
                </a:solidFill>
                <a:latin typeface="Mistral"/>
                <a:ea typeface="宋体"/>
              </a:rPr>
              <a:t>(?) </a:t>
            </a:r>
            <a:endParaRPr b="0" lang="en-US" sz="40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508720" y="4508640"/>
            <a:ext cx="3490560" cy="1150560"/>
            <a:chOff x="5508720" y="4508640"/>
            <a:chExt cx="3490560" cy="1150560"/>
          </a:xfrm>
        </p:grpSpPr>
        <p:sp>
          <p:nvSpPr>
            <p:cNvPr id="98" name=""/>
            <p:cNvSpPr/>
            <p:nvPr/>
          </p:nvSpPr>
          <p:spPr>
            <a:xfrm flipV="1">
              <a:off x="5572440" y="4508640"/>
              <a:ext cx="1292760" cy="61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08720" y="4584960"/>
              <a:ext cx="1358280" cy="61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766480" y="4660920"/>
              <a:ext cx="3232800" cy="84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54200" y="4738680"/>
              <a:ext cx="2781360" cy="920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828720" y="4437000"/>
            <a:ext cx="1582560" cy="649440"/>
          </a:xfrm>
          <a:prstGeom prst="rightArrow">
            <a:avLst>
              <a:gd name="adj1" fmla="val 50000"/>
              <a:gd name="adj2" fmla="val 6092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5640" y="5661000"/>
            <a:ext cx="3241440" cy="647640"/>
          </a:xfrm>
          <a:prstGeom prst="wedgeRoundRectCallout">
            <a:avLst>
              <a:gd name="adj1" fmla="val 291"/>
              <a:gd name="adj2" fmla="val -148282"/>
              <a:gd name="adj3" fmla="val 16667"/>
            </a:avLst>
          </a:prstGeom>
          <a:solidFill>
            <a:srgbClr val="ffffff"/>
          </a:solidFill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720000"/>
                </a:solidFill>
                <a:latin typeface="Tahoma"/>
              </a:rPr>
              <a:t>Inspired by the National (African) AIDS Vaccine Development Plans (AAVI)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57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The new WG Chai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  <a:ea typeface="宋体"/>
              </a:rPr>
              <a:t>Mr Michel GRECO, former CEO of Aventis (now Sanofi) Pasteu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MG is looking forward to strong interaction with the Board and counts on its suppor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TB vaccine landscape has strongly improved over the last couple of years, the TB vaccine community is more ready to act in a coordinated fashion, to optimize resources and to develop standards that should ease the prioritization process down the roa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re is a continued need to open new research avenues as it is too early to assume that existing products will make it to marke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need for and the opportunities offered must be attacked more aggressively, more research, more advocacy, more fund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secretariat will need more resources to keep up with the with the growing task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re is going to be abn increased newsflow on TB vacines over the coming years and MG is looking forward to becoming a bearer of hopefully good news to the board in the futur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bakerl</cp:lastModifiedBy>
  <cp:lastPrinted>2004-03-17T17:37:17Z</cp:lastPrinted>
  <dcterms:modified xsi:type="dcterms:W3CDTF">2006-05-02T15:03:14Z</dcterms:modified>
  <cp:revision>213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