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0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1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0364-437D-421B-8BCC-154D46605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ufficient clinical trial sites that meet GCP/GMP standards with trained personnel, sound infrastructure and appropriate procedures for patient recruitment, compliance and retention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armonized regulatory guidelines, including fast-track approv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robust and sustained pipeline of new drug candidates and back-up progra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nimal models and validated surrogate markers broadly adopted by TB drug developers to aid in early identification of promising versus unpromising candidate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Biomarkers and surrogate endpoints to aid translational research and speed clinical developmen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esting programs that enable more rapid and precise dose selection and optimization of complementary drug combina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F4F5C-0247-4C2E-83C2-50FDB0022D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11354-2CD7-4C6C-8ACD-FB8B1C948B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0C2FA-EA11-41A3-87E4-6CEE4CE240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E1A3D-F1CF-4A69-81C6-D9E431F21A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C2C8D-98C0-44B9-A734-BDC2429279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BD43C-7FBF-4857-A0C3-459DB0F40F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B1884-8609-489D-B7B1-09AEB72F50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467BA-6FD0-4AF4-9207-2FB871477B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8911D-0D44-4932-A334-93773EEBD9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3E12C-4F1D-425C-8825-8908C67BF7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7F64F-5CBE-42E9-B059-D64C90DF56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D8A1B-32A0-4375-8A39-79F7EB992F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1EC0C-A8A0-4114-9505-5ABB56AD0E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D7991-DD8A-41ED-AB4D-F92B27E041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73124-AC98-49B1-9B31-8DCD8E4CA7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B0808-68BF-4175-A0B8-87E76A2956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214BD-B85D-49BF-A8CB-F196509960A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223F4-36C8-4727-9752-F2BAFE7DE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374DE-C063-44B3-B398-22B3C747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2E691-1B64-4E64-8E4F-8ADD80ED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5D258-7099-4AC4-AFE9-F4E732C6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FBFEE-400B-4EBE-8498-D63AB5C8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CD661-5CC8-471D-AC73-DF772FA3F82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CEB3F-F193-4CF4-9933-C8EF9464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D872C-6D16-4D43-B580-03B17AF9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9A588-877B-475D-B697-7575BE2F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3C0FF-9D53-48A0-9C89-05F95E02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1F49D-0916-4864-BA5E-43725A60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1BD2D-68BB-4E88-A2C5-ECAB062F4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C4DFA-6921-4C9D-9FC1-8DDF1573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AD02F5-E469-4967-8BFE-7D81E2B32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4FCF72-5F18-426F-8D29-BDA741E1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4143D9-94EC-41EF-8067-85949536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B3D60-045A-44C0-8D42-7471F80C46B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8CA141-321B-40F3-B324-B18AF5CF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25F18F-745D-4264-90CE-BF4C5330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EB7D49-1F72-4E08-877F-C72163A5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41D3BE-503F-4515-98E2-E912BF73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EE0330-C038-4029-9018-DB3AB444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3B05B1-0716-4779-962B-7377B832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ABC4D5-FCDE-4315-B94C-9F21050C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7AED1C-5145-4073-9888-A7480A6F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EC4378-114F-4CDE-8CB4-6FAF0BAB9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50CEC-9160-42BD-BC78-A8027DEDA7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E4D34-0261-428D-A5FF-A9EE156684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84FB0-1B7A-4948-8377-D12E03BF5B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C2E91-A20F-489F-83E1-B8FC6D96FC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F431D-EF27-4799-BB04-04C31E6222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720" y="6854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251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cc251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33720" y="152388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25D7-506D-44E7-95EA-C0E27F42D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251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cc251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6758-2B40-4E3A-BAEB-8EDB0542B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9F14-8340-4890-84A5-A5DFA7839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3845-64C0-46FC-BC42-FB9A4F22B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Group on New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62120" y="3580920"/>
            <a:ext cx="7619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perationalizing” the Strategic Pl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71440" y="4832280"/>
            <a:ext cx="680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 TB Partnership Coordinating Board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uja, Nig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4-25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orking Group Needs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rom the Strategic Pla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731520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obust and sustained new drug pipe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trial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monized regulatory guidelines, fast-track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 models and validated surrogat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arkers and surrogate end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32240" y="2438280"/>
            <a:ext cx="28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2006 – 2007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160"/>
                            </p:stCondLst>
                            <p:childTnLst>
                              <p:par>
                                <p:cTn id="13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59"/>
                            </p:stCondLst>
                            <p:childTnLst>
                              <p:par>
                                <p:cTn id="18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3520" y="233208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lete landscape of TB compounds in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detailed inventory of clinical trial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logue with regulatory authorities on guidances nas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gent need for funding - $3.6B gap for drugs alone (2006 - 201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14600" y="3200400"/>
            <a:ext cx="6324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990720"/>
            <a:ext cx="6782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04920" y="1981080"/>
          <a:ext cx="8762760" cy="4647960"/>
        </p:xfrm>
        <a:graphic>
          <a:graphicData uri="http://schemas.openxmlformats.org/drawingml/2006/table">
            <a:tbl>
              <a:tblPr/>
              <a:tblGrid>
                <a:gridCol w="2666880"/>
                <a:gridCol w="3352680"/>
                <a:gridCol w="274320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G Role/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ust and sustained pipeline of new drug candidates and back-up progr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 comprehensive mapping of the global TB drug portfolio via a web-based survey and make results available to WG member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launch: summer 2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 finalization and presentation: fall 2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monized regulatory guidelines; fast-track appro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e and sponsor open forums on key regulatory issues in TB drug development with regulatory authorities, industry and WG memb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conference: Washington, DC, December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conference: Europe, September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cient clinical trial sites meeting GCP/GMP stand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te and disseminate results of clinical trial site assessments by WG partn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go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2365560" y="1069920"/>
            <a:ext cx="53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 Plan and Time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4T01:10:34Z</dcterms:created>
  <dc:creator>Beth Oldham</dc:creator>
  <dc:description/>
  <dc:language>en-US</dc:language>
  <cp:lastModifiedBy>bakerl</cp:lastModifiedBy>
  <dcterms:modified xsi:type="dcterms:W3CDTF">2006-05-02T15:02:01Z</dcterms:modified>
  <cp:revision>2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F5BE291CF156FA40B2C348AEB191C4DD449A2C00</vt:lpwstr>
  </property>
  <property fmtid="{D5CDD505-2E9C-101B-9397-08002B2CF9AE}" pid="3" name="_ReviewCycleID">
    <vt:r8>984594159</vt:r8>
  </property>
  <property fmtid="{D5CDD505-2E9C-101B-9397-08002B2CF9AE}" pid="4" name="_ReviewingToolsShownOnce">
    <vt:lpwstr/>
  </property>
</Properties>
</file>