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9D0-3B4C-4F51-835D-3E101CB0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946-A251-4608-906F-7BD7AD82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068-7D3A-4DBE-83BD-14E3CA95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FF0-4152-48BC-B730-43F48491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B0A4-5A12-474A-A842-C7325BB8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E28-BDEE-49A2-8689-039F3537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5CB-68A0-4AA5-A385-4E0D829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C3A-DB8E-4A23-AAC2-F2AA7CDB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4BF-9042-431A-AF4E-363314D3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D508-8F33-48FF-834D-D066BD02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8B-1F6D-4B4B-A478-80F8879E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79D8-D3DE-4A42-A654-9E968D58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F8F-94B1-4168-8C7C-76210E3DFD6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an High Level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uberculosis – a regional emergency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enhagen, 16-17 Octo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presentation to Coordinating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on lates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e comments and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high level mission to participate in Ministerial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nnium Development Goal for TB and Stop-TB targets may not be met in Africa and Eastern Europe/Central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stern Europe major problems with high MDR-TB rates and increasing TB-HIV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declared tuberculosis regional emergency in Europe in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political comm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versies on technic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xternal support from Western Europe (health concerns versus development agen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im and objectiv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sterial For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 progress towards achieving MDGs and targets for TB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 political and financial support to TB control in line with Global Plan 2006-2015 in priority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awareness and commitments of European and other international don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European Stop-TB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Committee (chair Zaleskis) and Steering Committee (chair Borgdorff) established in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 and place set: 16-17 October 2006 in Copenh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 letter ready, to be signed by Regional Director and Minister of Health of Finland (EU Presidency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lf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ees: Ministers of Health, Finance (East), Justice (East), Foreign Affairs/Development Cooperation (West), as well as selecte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aratory step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al programme draf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ing 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el discussions on the TB threat (incl MDR-TB and TB-HIV), collaboration between European countries, and bridging the financial di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and adoption of Copenhagen decl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ing the Stop TB Partnership for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declaration being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ocacy plan being finalised, including pre-events in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documents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‘ next steps’ in preparation (from regional to national emergency; development of country p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udget $ 300,000 – 350,0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: number of participants, location, air f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ments so f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129,2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-TB Partnership/Ita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 5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gap: in the order of $  17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ntributions expected or applied for: TB societies (Netherlands, Russia, Finland), USAID, Gates Fou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yet directly from Western European Governments, except reception by Govt of Finland (EU presidency), and support from Italy through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6:27:26Z</dcterms:created>
  <dc:creator>kncv</dc:creator>
  <dc:description/>
  <dc:language>en-US</dc:language>
  <cp:lastModifiedBy>bakerl</cp:lastModifiedBy>
  <dcterms:modified xsi:type="dcterms:W3CDTF">2006-05-02T15:11:46Z</dcterms:modified>
  <cp:revision>5</cp:revision>
  <dc:subject/>
  <dc:title>European High Level Ministerial Forum  Tuberculosis – a regional emergency</dc:title>
</cp:coreProperties>
</file>