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9069B-1052-479A-857A-9ECEC849A5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Strategic objectives and targe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is framework is designed to implement intensive, sustainab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d detailed communication strategies in all high-burden countries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s well as support strategies in medium-burden countr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over the next 10 years. Such work will be phased to ensu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aximum strategic intensity. In the first five years of this workplan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 intensive process of capacity building and strateg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lanning will take place in all high-burden countries. This will b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 phased process, focused on five countries per year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following strategic objectives have been identified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y 2008, at least 10 endemic countries will have develop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d will be implementing multisectoral, participatory ACS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itiatives and generating qualitative and quantitative dat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on ACSM's contribution to TB control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y 2010, at least 20 priority countries will be implemen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ultisectoral, participatory-based ACSM initiatives, 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onitoring and evaluating their outcom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y 2015, multisectoral, participatory ACSM methodolog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will be a fully developed component of the Stop T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trategy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y 2015, all priority countries will be implemen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ffective and participatory ACSM initiativ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 addition, a series of process targets have been identified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y the middle of 2006, a detailed ACSM capacity build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mplementation plan will have been developed aimed 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nsuring the appointment/recruitment of senior-level communic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trategists focused explicitly on tackling TB in al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high-burden countries. Such a plan will draw heavily on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xperience, expertise and insight of NTPs and partner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y the end of 2006, a strategy will have been developed wit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edium-burden countries detailing the communication suppor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necessary (including technical advice, resource materia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d other mechanisms) to meet TB targets in those countri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y the beginning of 2006, a process will have started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orm strategic agreements with international technic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upport organizations able to offer technical support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ountries. By the middle of 2006 at least five of these wil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have been agreed and implementation begu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se objectives and targets will be achieved through a mix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of five key strategic component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will have developed and implemented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DA7DC-D0E4-4409-8FF6-46772E6FC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22992-A9C4-4E9C-B367-1A26F7829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56E29-2948-41CD-842F-AB65923F7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1FBB8-06E0-4AAC-A438-475B3AA6C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942EE-EEFF-49FF-8BF5-44E36A4C0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A5993-2627-415A-89ED-B213960E2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9302F-A2B5-4014-8A40-DA8A7016A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BB120-60D6-44B6-8B1E-075294DDF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0D170-E728-4AD2-93D8-FE25CBF34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9F98B-7CDF-41E9-BD26-34A4A7E8C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92924-A365-4EF5-A4E8-903E534E5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CD36A-D360-4036-A4A5-40E33E2ED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91A67-DFDF-4003-BD13-CF2E9D40B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638B7-9DF8-4622-B219-E45063172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1E76D-3BFD-425F-8601-F11B85440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51F21-FA58-4110-B6A7-037F2A0AC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B9A2E-ECDE-4439-A0E9-C74CBEE6E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55C60-B78A-4558-8ABE-E878D5700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32356-78E3-4B92-B499-495923673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CBE77-DF61-43E4-B516-57AC7757E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EED3D-A391-47B8-8E24-1B4019A8E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508DC-263D-445A-A6D6-08502DC81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8799F-B01D-414D-98B3-F1F75C32F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38279-EEFD-4A63-A082-23CE149A5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A963D-BD48-4B5D-A747-E2B8DE39B74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50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1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4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18E13-D803-4A0F-AC93-D93A97D9A21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Advocacy, Communication and Social Mobilization Sub Group at Country Level: </a:t>
            </a:r>
            <a:br>
              <a:rPr sz="4000"/>
            </a:b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Building a Technical Assistance Network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332000" y="4436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Presentation to the Stop TB Coordinating Boar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Abuja 200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117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Funding for ACSM Technical Assistance Lagg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468360" y="2060640"/>
          <a:ext cx="822960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2060640"/>
                    <a:ext cx="822960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8" name=""/>
          <p:cNvSpPr/>
          <p:nvPr/>
        </p:nvSpPr>
        <p:spPr>
          <a:xfrm>
            <a:off x="5940360" y="4292640"/>
            <a:ext cx="2016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US$9 million gap in ASCM projected TA needs at country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867280" y="1844640"/>
            <a:ext cx="266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te:  USAID is the largest single donor for ACSM technical suppor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50920" y="566100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 mill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Rec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Challenge #1: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In the wake of solving the funding question, how to coordinate effectively among partners to maximise gains, reduce duplication, measure outcomes and advance ACSM pedagogy for TB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Challenge #2: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How to access necessary financial resources to maximise the impact of available funding from GFATM and other sources to satisfy the resources needs detailed in the Global Plan/ACSM Strategic Framework for technical cooperation among partners?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Previous discussions on T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2004—CB meeting Beijing:  Endorsement of ISAC to respond to shortage funding for 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B/HIV:  Requested funds for operational research and policy monitoring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2005—CB meeting Addis Ababa: Agreement to support countries with technical assistance to prepare 5</a:t>
            </a:r>
            <a:r>
              <a:rPr b="0" lang="en-GB" sz="2000" spc="-1" strike="noStrike" baseline="30000">
                <a:solidFill>
                  <a:srgbClr val="000000"/>
                </a:solidFill>
                <a:latin typeface="Tahoma"/>
              </a:rPr>
              <a:t>th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GFATM Proposa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2005—CB meeting Assisi:  Discussion of a Coalition for Technical Assistance  for Laborato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2006—Partners TA meeting Geneva: discussed the growing need for TA for all of technical iss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BCTA, ISAC and other channels provide needed TA but ACSM access to those funds is limite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Decision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Tahoma"/>
              </a:rPr>
              <a:t>Option A: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Would the CB endorse the creation of a comprehensive range TA mechanism or facility to support all technical elements of the Stop TB Strategy?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Tahoma"/>
              </a:rPr>
              <a:t>Option B: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Would the CB endorse the creation of a specific mechanism for responding to the growing demand for sound TA for ACSM?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B endorse the strengthening the capacity of the secretariat to respond to the growing demand for ACSM from countries.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CSM 10-year Strategic Framework for 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Utilization of AC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pos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Discussion and deci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Strategic Overview of ACS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2276640" y="2017800"/>
            <a:ext cx="1628640" cy="19857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2292480" y="4145040"/>
            <a:ext cx="1592280" cy="198756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141880" y="2017800"/>
            <a:ext cx="381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CSM is a new high priority technical component of the WHO Stop TB Strateg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oth the Global Plan and the ACSM 10 Year Strategic Framework call for the rapid scale-up of ACSM activities at country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$3.2 billion over the life of both plans.  $2.9 billion for countries and $133 million for international agency nee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The ACSM Strategic Framework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10 year strategic framework for 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Five point frame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apacity buil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Inclusion of patients and commun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Political commitment and account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National Partnershi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Sound practices and knowledge exch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5362560" y="2017800"/>
            <a:ext cx="33703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The Framework for Action will: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 u="sng">
                <a:solidFill>
                  <a:srgbClr val="000000"/>
                </a:solidFill>
                <a:uFillTx/>
                <a:latin typeface="Tahoma"/>
              </a:rPr>
              <a:t>Objectives</a:t>
            </a:r>
            <a:r>
              <a:rPr b="0" lang="en-GB" sz="2600" spc="-1" strike="noStrike" u="sng">
                <a:solidFill>
                  <a:srgbClr val="000000"/>
                </a:solidFill>
                <a:uFillTx/>
                <a:latin typeface="Tahom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Improve country and partner access to timely and quality-assured technical assistance.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Enable a collaborative approach to the delivery of technical assistance in support of country and partner-owned ACSM plans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Assist in the professional development of national institutions as well as national and regional ACSM professionals.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"/>
          <p:cNvSpPr/>
          <p:nvPr/>
        </p:nvSpPr>
        <p:spPr>
          <a:xfrm>
            <a:off x="2195640" y="6165720"/>
            <a:ext cx="511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Only if the Framework is fully funded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The targets a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2008 – 10 countrie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2010 – 20 count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2015 – ACSM methodologies will be fully a developed component of the Stop TB Strategy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2015 – all priority countries implementing effective ACSM Initiatives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"/>
          <p:cNvSpPr/>
          <p:nvPr/>
        </p:nvSpPr>
        <p:spPr>
          <a:xfrm>
            <a:off x="2268360" y="6237360"/>
            <a:ext cx="511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Only if the Framework is fully funded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Utilization:  Rapid growth in ACSM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468360" y="1628640"/>
          <a:ext cx="8217000" cy="451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628640"/>
                    <a:ext cx="8217000" cy="451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" name=""/>
          <p:cNvSpPr/>
          <p:nvPr/>
        </p:nvSpPr>
        <p:spPr>
          <a:xfrm>
            <a:off x="900000" y="5877000"/>
            <a:ext cx="7885080" cy="7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2002 data as gathered from ACSM  Needs Assessment Survey of HBC'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2006-2007 data gathered from HBC DOTS Expansion survey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*Planned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nding:  HBCs with GFATM funding via rounds 1-5 for ACSM activiti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1190520" y="2017800"/>
          <a:ext cx="7755120" cy="411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90520" y="2017800"/>
                    <a:ext cx="7755120" cy="411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"/>
          <p:cNvSpPr/>
          <p:nvPr/>
        </p:nvSpPr>
        <p:spPr>
          <a:xfrm>
            <a:off x="1187280" y="6093000"/>
            <a:ext cx="7561440" cy="9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002 data as gathered from ACSM  Needs Assessment Survey of HBC'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006-2007 data gathered from HBC DOTS Expansion survey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*Approved grants from 5</a:t>
            </a:r>
            <a:r>
              <a:rPr b="0" lang="en-GB" sz="1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round GFATM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Funds at Country Level via GFATM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716000" y="1915920"/>
            <a:ext cx="403884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Successful 5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ahoma"/>
              </a:rPr>
              <a:t>th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round for ACSM: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$35 million over two year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$63 million over five yea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(Some TA budgeted for in some 5th grant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468360" y="1989000"/>
          <a:ext cx="4038480" cy="4257720"/>
        </p:xfrm>
        <a:graphic>
          <a:graphicData uri="http://schemas.openxmlformats.org/drawingml/2006/table">
            <a:tbl>
              <a:tblPr/>
              <a:tblGrid>
                <a:gridCol w="2019240"/>
                <a:gridCol w="2019240"/>
              </a:tblGrid>
              <a:tr h="97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untry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CSM 2 year budgets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in million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anglades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8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R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dones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iger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Zimbabw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amb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razi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29T15:00:47Z</dcterms:created>
  <dc:creator>Thaddeus Pennas</dc:creator>
  <dc:description/>
  <dc:language>en-US</dc:language>
  <cp:lastModifiedBy>bakerl</cp:lastModifiedBy>
  <dcterms:modified xsi:type="dcterms:W3CDTF">2006-05-02T15:10:35Z</dcterms:modified>
  <cp:revision>19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216874898</vt:r8>
  </property>
  <property fmtid="{D5CDD505-2E9C-101B-9397-08002B2CF9AE}" pid="3" name="_AuthorEmail">
    <vt:lpwstr>francisc@who.int</vt:lpwstr>
  </property>
  <property fmtid="{D5CDD505-2E9C-101B-9397-08002B2CF9AE}" pid="4" name="_AuthorEmailDisplayName">
    <vt:lpwstr>Francis, Carole Louise</vt:lpwstr>
  </property>
  <property fmtid="{D5CDD505-2E9C-101B-9397-08002B2CF9AE}" pid="5" name="_EmailSubject">
    <vt:lpwstr>CB Presentation--Sub Group....Need your input</vt:lpwstr>
  </property>
  <property fmtid="{D5CDD505-2E9C-101B-9397-08002B2CF9AE}" pid="6" name="_NewReviewCycle">
    <vt:lpwstr/>
  </property>
  <property fmtid="{D5CDD505-2E9C-101B-9397-08002B2CF9AE}" pid="7" name="_PreviousAdHocReviewCycleID">
    <vt:r8>-1321205299</vt:r8>
  </property>
  <property fmtid="{D5CDD505-2E9C-101B-9397-08002B2CF9AE}" pid="8" name="_ReviewingToolsShownOnce">
    <vt:lpwstr/>
  </property>
</Properties>
</file>