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655-08F9-49F0-9512-074AB633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D5DE-893E-47C2-9ADE-0C65FA6D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C34A-DCCE-4A6F-A335-29468402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FF9-7697-4CD7-BCA9-F57C05BE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410D-D01C-4C18-88A0-FBF879C0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18D1-55F9-4EB6-A8FB-90AF0068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5A65-E663-4F36-9C2F-6EAA17C3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F828-B56E-4A64-BFFD-5D3FCFD5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43E8-7EFA-4372-B4CF-56AD1EA0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8DAB-2851-4B28-A6CE-22760361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DF39-9D2D-4506-BA7B-8CBEB3E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8F71-92A1-43CC-9608-94A0B8E3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FB96-2E01-4128-BAD4-568E5041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C065-8F47-41F3-8CA5-312DDFE2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5622-E148-45F4-AF3F-63D16599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8757-0FA0-493A-9545-B5389421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87B9-EBC3-4424-AD4A-95B22C489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5FF2-D80E-40DA-B6E7-25A0463D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295-374D-47BE-94B3-88BB4A39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6345-B2BC-4B77-B30C-470E7DE6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676160" y="274680"/>
            <a:ext cx="6629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BF0-902B-4E14-8A98-2F5D775C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4F63-BF3D-4AE6-9645-E2467730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B2C-EB1E-473A-9A60-6FF5AD9A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1CC-73C4-4FA6-BE8E-F32DF156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85480"/>
            <a:ext cx="9156600" cy="911520"/>
            <a:chOff x="0" y="285480"/>
            <a:chExt cx="9156600" cy="911520"/>
          </a:xfrm>
        </p:grpSpPr>
        <p:sp>
          <p:nvSpPr>
            <p:cNvPr id="1" name=""/>
            <p:cNvSpPr/>
            <p:nvPr/>
          </p:nvSpPr>
          <p:spPr>
            <a:xfrm>
              <a:off x="2880" y="285840"/>
              <a:ext cx="9153720" cy="911160"/>
            </a:xfrm>
            <a:prstGeom prst="rect">
              <a:avLst/>
            </a:prstGeom>
            <a:gradFill rotWithShape="0">
              <a:gsLst>
                <a:gs pos="0">
                  <a:srgbClr val="1d528d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flipV="1">
              <a:off x="3596400" y="285120"/>
              <a:ext cx="5551560" cy="32436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d2540"/>
                </a:gs>
                <a:gs pos="100000">
                  <a:srgbClr val="1d528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40520"/>
              <a:ext cx="5876640" cy="446400"/>
            </a:xfrm>
            <a:custGeom>
              <a:avLst/>
              <a:gdLst/>
              <a:ahLst/>
              <a:rect l="l" t="t" r="r" b="b"/>
              <a:pathLst>
                <a:path w="1497" h="590">
                  <a:moveTo>
                    <a:pt x="45" y="590"/>
                  </a:moveTo>
                  <a:lnTo>
                    <a:pt x="1497" y="590"/>
                  </a:lnTo>
                  <a:lnTo>
                    <a:pt x="0" y="0"/>
                  </a:lnTo>
                  <a:lnTo>
                    <a:pt x="0" y="590"/>
                  </a:lnTo>
                </a:path>
              </a:pathLst>
            </a:custGeom>
            <a:gradFill rotWithShape="0">
              <a:gsLst>
                <a:gs pos="0">
                  <a:srgbClr val="00465e"/>
                </a:gs>
                <a:gs pos="100000">
                  <a:srgbClr val="0099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44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0d2540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600" y="1235160"/>
            <a:ext cx="9132840" cy="15876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52360" y="3826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973080" y="765000"/>
            <a:ext cx="358920" cy="35892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BF67-6524-4E7A-9A82-87DB65068016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4280" y="2394000"/>
          <a:ext cx="9077400" cy="18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2394000"/>
                    <a:ext cx="907740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" name=""/>
          <p:cNvGrpSpPr/>
          <p:nvPr/>
        </p:nvGrpSpPr>
        <p:grpSpPr>
          <a:xfrm>
            <a:off x="34920" y="4292640"/>
            <a:ext cx="9074160" cy="2521080"/>
            <a:chOff x="34920" y="4292640"/>
            <a:chExt cx="9074160" cy="2521080"/>
          </a:xfrm>
        </p:grpSpPr>
        <p:sp>
          <p:nvSpPr>
            <p:cNvPr id="52" name=""/>
            <p:cNvSpPr/>
            <p:nvPr/>
          </p:nvSpPr>
          <p:spPr>
            <a:xfrm>
              <a:off x="34920" y="4292640"/>
              <a:ext cx="9074160" cy="2521080"/>
            </a:xfrm>
            <a:prstGeom prst="rect">
              <a:avLst/>
            </a:prstGeom>
            <a:solidFill>
              <a:srgbClr val="ca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920" y="4292640"/>
              <a:ext cx="9074160" cy="143640"/>
            </a:xfrm>
            <a:prstGeom prst="rect">
              <a:avLst/>
            </a:prstGeom>
            <a:gradFill rotWithShape="0">
              <a:gsLst>
                <a:gs pos="0">
                  <a:srgbClr val="5d5d5d"/>
                </a:gs>
                <a:gs pos="100000">
                  <a:srgbClr val="caca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4920" y="44280"/>
            <a:ext cx="9074160" cy="228312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0d254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5400" y="0"/>
            <a:ext cx="9149400" cy="6856920"/>
            <a:chOff x="-5400" y="0"/>
            <a:chExt cx="9149400" cy="6856920"/>
          </a:xfrm>
        </p:grpSpPr>
        <p:sp>
          <p:nvSpPr>
            <p:cNvPr id="56" name=""/>
            <p:cNvSpPr/>
            <p:nvPr/>
          </p:nvSpPr>
          <p:spPr>
            <a:xfrm>
              <a:off x="38160" y="38160"/>
              <a:ext cx="906768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191000">
              <a:off x="-7920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0768800">
              <a:off x="8760960" y="6398640"/>
              <a:ext cx="368280" cy="4554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d528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A83-DA08-4713-B5EE-82A8C5462A1D}" type="slidenum">
              <a:rPr b="0" lang="en-US" sz="1400" spc="-1" strike="noStrike">
                <a:solidFill>
                  <a:srgbClr val="1d528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482920" y="2895480"/>
            <a:ext cx="2698560" cy="1041480"/>
            <a:chOff x="2482920" y="2895480"/>
            <a:chExt cx="2698560" cy="1041480"/>
          </a:xfrm>
        </p:grpSpPr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778200" y="2895480"/>
              <a:ext cx="936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tretch/>
          </p:blipFill>
          <p:spPr>
            <a:xfrm>
              <a:off x="4786200" y="354168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6"/>
            <a:stretch/>
          </p:blipFill>
          <p:spPr>
            <a:xfrm>
              <a:off x="2482920" y="3327480"/>
              <a:ext cx="576000" cy="57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group on Laboratory Capacity Strengthening (SL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7080" y="4653000"/>
            <a:ext cx="770760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of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</a:rPr>
              <a:t>DOTS Expansion Working Group (DEWG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549360"/>
            <a:ext cx="6629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olicy review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pert consultation meeting on optimization of AFB microscopy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(Geneva, 1-2 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nnual Laboratory Subgroup and SRLN meeting (4 meetings organized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 of training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Laboratory Management Training  in collaboration with EMRO (Septem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xternal quality assurance (EQA) workshop in AFRO (October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595080"/>
            <a:ext cx="66294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ajor activities for 2006-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8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Rapid implementation of the Strategic Approach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To address the needs of DOTS Expansion, MDR-TB and TB/HIV 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5 trainings for lab management, culture and DST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Support selected countries for evaluation, planning and capacity strengthening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20 assessment and monitoring missions in priority HBC (global and regional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the pool of lab experts at international, regional and national levels: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3 workshops for consultants and national workshops in selected countries.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Finalization of standardization and development of training materials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Raise financial resources at the international level to support countries: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15 million $US gap for critical needs 2006-2009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0640" indent="-5281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3053"/>
                </a:solidFill>
                <a:latin typeface="Arial"/>
                <a:ea typeface="굴림"/>
              </a:rPr>
              <a:t>Increase allocation of financial resources for laboratory at country levels (GFATM…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3360" indent="-60336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Improve coordination among partners to optimize use of resour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est from the Stop TB Coordinating Bo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4756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Re-profiling the Sub-group into a Working Group for Laboratory Capacity Strengthening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The Chair of the newly established Working Group to be granted membership of the Stop TB Coordinating Board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Provide technical support to develop resource mobilization plan to raise funds (15 million $ US) for the implementation of the Laboratory Strengthening Strategic Approach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B diagnostic services form the foundation for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has been traditionally a neglected component of TB contro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Laboratory activities are crosscutting issues for the three implementation working groups (DEWG, DOTS-Plus, TB/HIV)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Prior to the establishment of SLCS, efforts to improve laboratory work were neither streamlined nor coordinated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63640" y="185724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DOTS Expansion Working Group</a:t>
            </a:r>
            <a:br>
              <a:rPr sz="1800"/>
            </a:b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DEW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4508640"/>
            <a:ext cx="5761080" cy="146556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hair: at present- Prof. F. Portael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ecretariat: WHO-HQ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Members: SRL Network &amp; Partners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(The Union/CDC/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KNCV/GLRA/… others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3141720"/>
            <a:ext cx="5761080" cy="1038600"/>
          </a:xfrm>
          <a:prstGeom prst="rect">
            <a:avLst/>
          </a:prstGeom>
          <a:solidFill>
            <a:srgbClr val="eaeaea"/>
          </a:solidFill>
          <a:ln w="25560">
            <a:solidFill>
              <a:srgbClr val="bfa9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Sub-Group on Laboratory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Tahoma"/>
              </a:rPr>
              <a:t>Capacity Strengthening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260280"/>
            <a:ext cx="781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  <a:ea typeface="바탕체"/>
              </a:rPr>
              <a:t>Establishment of the Subgroup on Laboratory Capacity Strengthening in 2002</a:t>
            </a:r>
            <a:endParaRPr b="0" lang="en-US" sz="25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924280"/>
            <a:ext cx="0" cy="21744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221000"/>
            <a:ext cx="0" cy="289080"/>
          </a:xfrm>
          <a:prstGeom prst="line">
            <a:avLst/>
          </a:prstGeom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6629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ituation analysis (22 HBC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Most of HBCs have an established TB laboratory network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countries report to have National Reference Laboratory to oversee the organization and performance of the network; however some of them are weak and not fully functional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8 HBCs report to have EQA scheme for smear microscopy; however, majority report it's limited coverage and suboptimal quality of implementation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14 countries perform culture at the national/regional level according to nationally-defined specifications, which are not always consistent with international recommendations. In addition, there is no quality control of culture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fa9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In general, major impediments to perform diagnostic tests (especially culture and DST) are inadequate equipment and infrastructure, lack of technical knowledge, shortage of human and financial resource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740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Strategic Approach to Strengthen Laboratory Services for Tuberculosis Control  (2006-2009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47560"/>
            <a:ext cx="843588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13053"/>
                </a:solidFill>
                <a:latin typeface="Arial"/>
                <a:ea typeface="굴림"/>
              </a:rPr>
              <a:t>Objectives of the Strategic Approach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support countries to improve the performance of TB laboratories</a:t>
            </a:r>
            <a:r>
              <a:rPr b="1" lang="en-GB" sz="2000" spc="-1" strike="noStrike">
                <a:solidFill>
                  <a:srgbClr val="bfa907"/>
                </a:solidFill>
                <a:latin typeface="Arial"/>
                <a:ea typeface="굴림"/>
              </a:rPr>
              <a:t> </a:t>
            </a: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achieve the following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Implement a well-functioning QA programme for AFB smear microscopy in 100% of microscopy centres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113053"/>
                </a:solidFill>
                <a:latin typeface="Arial"/>
                <a:ea typeface="굴림"/>
              </a:rPr>
              <a:t>Ensure access to culture and DST services for at least 40% of the eligible population (this will be determined according to national policy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To promote a fully functional laboratory network with common objectives, programming, supervision and evaluation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2920" y="274680"/>
            <a:ext cx="7489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GB" sz="27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tandardization of laboratory document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Assessment too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raining material 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Technical guidelines and manual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Assessment of laboratory servic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B smear microscopy network (structure, HR and performance)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Evaluation of the reference laboratory capacity and performance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dentify key elements to improve lab performance and increase capacity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3" marL="17524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  <a:ea typeface="굴림"/>
              </a:rPr>
              <a:t>Supporting countries in planning, training and identification of funding to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lement QA system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Strengthen the capacity of laboratory network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Organize the TB laboratory network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  <a:p>
            <a:pPr lvl="1" marL="990720" indent="-533520">
              <a:spcBef>
                <a:spcPts val="374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113053"/>
                </a:solidFill>
                <a:latin typeface="Arial"/>
                <a:ea typeface="굴림"/>
              </a:rPr>
              <a:t>Improve quality and increase quantity of human resources</a:t>
            </a:r>
            <a:endParaRPr b="0" lang="en-US" sz="15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274680"/>
            <a:ext cx="7143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nents of the Strategic Approa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Monitoring and evaluation of progres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Upgrade laboratories capacity by technology transfer and introduction of new tool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number of international consultant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Increase and sustain financial resources to support countries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bfa907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113053"/>
                </a:solidFill>
                <a:latin typeface="Arial"/>
                <a:ea typeface="굴림"/>
              </a:rPr>
              <a:t>Strengthen partnership and advocacy </a:t>
            </a: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167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Development of technical documents and guidelin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inalization of the Laboratory Strategic Approach to improve performance of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TB diagnostic servic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hecklist to evaluate culture and DST technique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an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Revision of TB Laboratory Management Training curriculum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ugust 2005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QA system for culture and DST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Februar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Framework for revision of the TB laboratory guidelines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April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Uniform training curricula for AFB smear microscopy (workshop in the box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Ma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tandard operating procedures guidelines (SOP)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July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Compendium of performance indicators for TB laboratory - 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September 2006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7596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 Unicode MS"/>
              </a:rPr>
              <a:t>Achievements as of today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474920"/>
            <a:ext cx="8642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Organization/participation in assessment missions and programmes review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Approximately 40 assessment missions since 2002</a:t>
            </a:r>
            <a:r>
              <a:rPr b="1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However, not all partner organizations have coordinated their missions with secretariat of sub-group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3" marL="168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bfa907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13053"/>
                </a:solidFill>
                <a:latin typeface="Arial"/>
              </a:rPr>
              <a:t>Establishment of regional task force for laboratory improvement and development of regional strategies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URO (January 2005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WPRO (Januar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EMRO (March 2006) 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13053"/>
                </a:solidFill>
                <a:latin typeface="Arial"/>
              </a:rPr>
              <a:t>SEARO (July 2006)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  <a:p>
            <a:pPr lvl="1" marL="982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20:15:23Z</dcterms:created>
  <dc:creator>test</dc:creator>
  <dc:description/>
  <cp:keywords/>
  <dc:language>en-US</dc:language>
  <cp:lastModifiedBy>BlancL</cp:lastModifiedBy>
  <dcterms:modified xsi:type="dcterms:W3CDTF">2006-04-24T11:38:42Z</dcterms:modified>
  <cp:revision>164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  <property fmtid="{D5CDD505-2E9C-101B-9397-08002B2CF9AE}" pid="3" name="_TemplateID">
    <vt:lpwstr>TC011812271033</vt:lpwstr>
  </property>
</Properties>
</file>