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853560" y="74412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77964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3ACF4-9335-40A0-826F-6B039D4EE0C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377964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5000E-9F85-4C73-8950-3D8C26E3BE1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67800" y="4711320"/>
            <a:ext cx="53326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377964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8E691-AE7C-4A74-82D1-6096AFF568E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67800" y="4711320"/>
            <a:ext cx="53326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377964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87DBB-DD4F-493A-A9A3-194FA262C3E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67800" y="4711320"/>
            <a:ext cx="53326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377964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96DD7-6847-47F5-8652-363D1D60B52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67800" y="4711320"/>
            <a:ext cx="53326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7A51-EC14-44BE-8C0C-5D2FD979D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26C8-DEFE-462F-A68C-B9C186116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9B62-8100-4A4B-90AF-AF4C1CB69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FD85-6581-41DB-83F1-E5A912F44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A2D60-AEC3-45F3-980C-81D71AAFA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B1ABA-B57B-4CEC-91D4-B2E38E6C5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1CDC0-A386-407D-A8B0-0A5606A46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F66E6-EE37-4437-AA58-272523CFE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E6D25-6888-486E-8A00-98D5B7A09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06EE0-0061-4167-8FBC-DCE453B70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9D9C0-577F-401D-B15B-2C8F4E352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0806-4923-4C7C-9D24-2C3B62E6F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42060-CCDD-4654-AF66-D85F41948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DAFDF-356A-4354-9260-2A225253C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88C8B-3416-4585-A23C-C80BBADF2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3F531-67DF-4BD8-8188-B04BD34E6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CF809-B46A-4F0F-8764-6E5F6ECB5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A650-46CD-466C-B064-1B4C6D9DE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B020-99E4-4389-9BF6-2FB46D2EF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96EC-8620-4343-89F0-38D1D2314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29C5-EF77-4883-BBF1-D39CC2261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E62E-2516-4BF7-8570-979D82100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9D19-43A0-460B-9EE7-C72266DCB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66E2-3591-49D9-80CD-1F234D067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2C247-EDF7-4F8C-BF62-21421B283615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D4B82-E8E4-4D0E-BAF0-AC55844D2496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360" y="1844280"/>
            <a:ext cx="77738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WG on New TB Vaccines – </a:t>
            </a:r>
            <a:br>
              <a:rPr sz="3200"/>
            </a:b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where do we go from here?</a:t>
            </a:r>
            <a:br>
              <a:rPr sz="3200"/>
            </a:br>
            <a:endParaRPr b="1" lang="en-US" sz="3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565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Lessons from GP1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713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00"/>
                </a:solidFill>
                <a:latin typeface="Tahoma"/>
                <a:ea typeface="宋体"/>
              </a:rPr>
              <a:t>Overall objective: 5 vaccine candidates in phase I clinical trials by the end of 2005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52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Tahoma"/>
                <a:ea typeface="宋体"/>
              </a:rPr>
              <a:t> </a:t>
            </a:r>
            <a:r>
              <a:rPr b="1" lang="en-GB" sz="2400" spc="-1" strike="noStrike">
                <a:solidFill>
                  <a:srgbClr val="990000"/>
                </a:solidFill>
                <a:latin typeface="Tahoma"/>
                <a:ea typeface="宋体"/>
              </a:rPr>
              <a:t>Lessons: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522360" indent="11160">
              <a:lnSpc>
                <a:spcPct val="80000"/>
              </a:lnSpc>
              <a:spcBef>
                <a:spcPts val="499"/>
              </a:spcBef>
              <a:buClr>
                <a:srgbClr val="72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ahoma"/>
                <a:ea typeface="宋体"/>
              </a:rPr>
              <a:t> </a:t>
            </a: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</a:t>
            </a: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</a:t>
            </a: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Sense of ownership / buy-in by partners does not come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52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        </a:t>
            </a: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automatically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522360" indent="11160">
              <a:lnSpc>
                <a:spcPct val="80000"/>
              </a:lnSpc>
              <a:spcBef>
                <a:spcPts val="499"/>
              </a:spcBef>
              <a:buClr>
                <a:srgbClr val="72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 </a:t>
            </a: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WG must position itself more prominently as a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52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        </a:t>
            </a: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" 1st  stop shop " on vaccine R&amp;D matters, both inside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52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        </a:t>
            </a: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the TB vaccine community and to the outside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522360" indent="11160">
              <a:lnSpc>
                <a:spcPct val="80000"/>
              </a:lnSpc>
              <a:spcBef>
                <a:spcPts val="499"/>
              </a:spcBef>
              <a:buClr>
                <a:srgbClr val="72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 </a:t>
            </a: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Resource mobilization must become more professiona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522360" indent="11160">
              <a:lnSpc>
                <a:spcPct val="80000"/>
              </a:lnSpc>
              <a:spcBef>
                <a:spcPts val="499"/>
              </a:spcBef>
              <a:buClr>
                <a:srgbClr val="72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 </a:t>
            </a: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Mechanisms for a more rapid response by the WG to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52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        </a:t>
            </a: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upcoming challenges needed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522360" indent="11160">
              <a:lnSpc>
                <a:spcPct val="80000"/>
              </a:lnSpc>
              <a:spcBef>
                <a:spcPts val="499"/>
              </a:spcBef>
              <a:buClr>
                <a:srgbClr val="72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 </a:t>
            </a: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A strategic "scaffold" ("roadmap"/"blueprint") for the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522360" indent="11160">
              <a:lnSpc>
                <a:spcPct val="80000"/>
              </a:lnSpc>
              <a:spcBef>
                <a:spcPts val="499"/>
              </a:spcBef>
              <a:buClr>
                <a:srgbClr val="72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     </a:t>
            </a: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wide range of diverse activities is needed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52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565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Challenges for GP2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8930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Tahoma"/>
                <a:ea typeface="宋体"/>
              </a:rPr>
              <a:t> </a:t>
            </a:r>
            <a:r>
              <a:rPr b="0" lang="en-GB" sz="2800" spc="-1" strike="noStrike">
                <a:solidFill>
                  <a:srgbClr val="990000"/>
                </a:solidFill>
                <a:latin typeface="Tahoma"/>
                <a:ea typeface="宋体"/>
              </a:rPr>
              <a:t>Overall objective: a safe, effective licensed vaccine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00"/>
                </a:solidFill>
                <a:latin typeface="Tahoma"/>
                <a:ea typeface="宋体"/>
              </a:rPr>
              <a:t>    </a:t>
            </a:r>
            <a:r>
              <a:rPr b="0" lang="en-GB" sz="2800" spc="-1" strike="noStrike">
                <a:solidFill>
                  <a:srgbClr val="990000"/>
                </a:solidFill>
                <a:latin typeface="Tahoma"/>
                <a:ea typeface="宋体"/>
              </a:rPr>
              <a:t>available at affordable cost by 2015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Tahoma"/>
                <a:ea typeface="宋体"/>
              </a:rPr>
              <a:t>	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Tahoma"/>
                <a:ea typeface="宋体"/>
              </a:rPr>
              <a:t>     </a:t>
            </a:r>
            <a:r>
              <a:rPr b="1" lang="en-GB" sz="2400" spc="-1" strike="noStrike">
                <a:solidFill>
                  <a:srgbClr val="990000"/>
                </a:solidFill>
                <a:latin typeface="Tahoma"/>
                <a:ea typeface="宋体"/>
              </a:rPr>
              <a:t>Challenges: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496080" indent="10440">
              <a:lnSpc>
                <a:spcPct val="80000"/>
              </a:lnSpc>
              <a:spcBef>
                <a:spcPts val="499"/>
              </a:spcBef>
              <a:buClr>
                <a:srgbClr val="72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ahoma"/>
                <a:ea typeface="宋体"/>
              </a:rPr>
              <a:t> </a:t>
            </a: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</a:t>
            </a: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Technical:      lacking immune surrogate of protection, diagnosis of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496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                      </a:t>
            </a: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clinical trial endpoints, in particular in childre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496080" indent="10440">
              <a:lnSpc>
                <a:spcPct val="80000"/>
              </a:lnSpc>
              <a:spcBef>
                <a:spcPts val="499"/>
              </a:spcBef>
              <a:buClr>
                <a:srgbClr val="72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</a:t>
            </a: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Economic:     estimated cost to bring existing candidates to licensure: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496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                      </a:t>
            </a: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US$ 600million, estimated availability : US$ 60 million   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496080" indent="10440">
              <a:lnSpc>
                <a:spcPct val="80000"/>
              </a:lnSpc>
              <a:spcBef>
                <a:spcPts val="499"/>
              </a:spcBef>
              <a:buClr>
                <a:srgbClr val="72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</a:t>
            </a: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Normative:    no regulatory capacity fro vaccine trials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496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                      </a:t>
            </a: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in endemic countrie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496080" indent="10440">
              <a:lnSpc>
                <a:spcPct val="80000"/>
              </a:lnSpc>
              <a:spcBef>
                <a:spcPts val="499"/>
              </a:spcBef>
              <a:buClr>
                <a:srgbClr val="72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</a:t>
            </a: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Participatory: few industry, </a:t>
            </a:r>
            <a:r>
              <a:rPr b="1" lang="en-GB" sz="2000" spc="-1" strike="noStrike">
                <a:solidFill>
                  <a:srgbClr val="ff0000"/>
                </a:solidFill>
                <a:latin typeface="Tahoma"/>
                <a:ea typeface="宋体"/>
              </a:rPr>
              <a:t>no endemic country participation i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496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ahoma"/>
                <a:ea typeface="宋体"/>
              </a:rPr>
              <a:t>                           </a:t>
            </a:r>
            <a:r>
              <a:rPr b="1" lang="en-GB" sz="2000" spc="-1" strike="noStrike">
                <a:solidFill>
                  <a:srgbClr val="ff0000"/>
                </a:solidFill>
                <a:latin typeface="Tahoma"/>
                <a:ea typeface="宋体"/>
              </a:rPr>
              <a:t>formulation of research goal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496080" indent="10440">
              <a:lnSpc>
                <a:spcPct val="80000"/>
              </a:lnSpc>
              <a:spcBef>
                <a:spcPts val="499"/>
              </a:spcBef>
              <a:buClr>
                <a:srgbClr val="72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</a:t>
            </a: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WG function: Need to increase response time &amp; visibility for the WG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496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               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6732720" y="6093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565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How can the Board help?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713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Tahoma"/>
                <a:ea typeface="宋体"/>
              </a:rPr>
              <a:t>Resource Mobilization, Advocacy, Link with the TB control community for epidemiology, laboratory, trial site selection…  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0000"/>
                </a:solidFill>
                <a:latin typeface="Tahoma"/>
                <a:ea typeface="宋体"/>
              </a:rPr>
              <a:t>Use Board links with highest levels of government as well as grassroots to create a momentum &amp; pressure &amp; ownership in endemic countries for TB vaccine developmen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Tahoma"/>
                <a:ea typeface="宋体"/>
              </a:rPr>
              <a:t>              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Tahoma"/>
                <a:ea typeface="宋体"/>
              </a:rPr>
              <a:t>                       </a:t>
            </a:r>
            <a:r>
              <a:rPr b="0" lang="en-GB" sz="2400" spc="-1" strike="noStrike">
                <a:solidFill>
                  <a:srgbClr val="990000"/>
                </a:solidFill>
                <a:latin typeface="Tahoma"/>
                <a:ea typeface="宋体"/>
              </a:rPr>
              <a:t>National Plans for TB Vaccine Development?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Tahoma"/>
                <a:ea typeface="宋体"/>
              </a:rPr>
              <a:t>                                  </a:t>
            </a:r>
            <a:r>
              <a:rPr b="0" lang="en-GB" sz="3200" spc="-1" strike="noStrike">
                <a:solidFill>
                  <a:srgbClr val="990000"/>
                </a:solidFill>
                <a:latin typeface="Tahoma"/>
                <a:ea typeface="宋体"/>
              </a:rPr>
              <a:t>                </a:t>
            </a:r>
            <a:r>
              <a:rPr b="0" lang="en-GB" sz="3200" spc="-1" strike="noStrike">
                <a:solidFill>
                  <a:srgbClr val="990000"/>
                </a:solidFill>
                <a:latin typeface="Mistral"/>
                <a:ea typeface="宋体"/>
              </a:rPr>
              <a:t>tool (?) developmen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Tahoma"/>
                <a:ea typeface="宋体"/>
              </a:rPr>
              <a:t>                                                         </a:t>
            </a:r>
            <a:r>
              <a:rPr b="0" lang="en-GB" sz="4000" spc="-1" strike="noStrike">
                <a:solidFill>
                  <a:srgbClr val="990000"/>
                </a:solidFill>
                <a:latin typeface="Lucida Handwriting"/>
                <a:ea typeface="宋体"/>
              </a:rPr>
              <a:t>research </a:t>
            </a:r>
            <a:r>
              <a:rPr b="0" lang="en-GB" sz="4000" spc="-1" strike="noStrike">
                <a:solidFill>
                  <a:srgbClr val="990000"/>
                </a:solidFill>
                <a:latin typeface="Mistral"/>
                <a:ea typeface="宋体"/>
              </a:rPr>
              <a:t>(?) </a:t>
            </a:r>
            <a:endParaRPr b="0" lang="en-US" sz="4000" spc="-1" strike="noStrike">
              <a:solidFill>
                <a:srgbClr val="72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20000"/>
              </a:solidFill>
              <a:latin typeface="Tahoma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5508720" y="4508640"/>
            <a:ext cx="3490560" cy="1150560"/>
            <a:chOff x="5508720" y="4508640"/>
            <a:chExt cx="3490560" cy="1150560"/>
          </a:xfrm>
        </p:grpSpPr>
        <p:sp>
          <p:nvSpPr>
            <p:cNvPr id="98" name=""/>
            <p:cNvSpPr/>
            <p:nvPr/>
          </p:nvSpPr>
          <p:spPr>
            <a:xfrm flipV="1">
              <a:off x="5572440" y="4508640"/>
              <a:ext cx="1292760" cy="614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08720" y="4584960"/>
              <a:ext cx="1358280" cy="614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5766480" y="4660920"/>
              <a:ext cx="3232800" cy="8460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154200" y="4738680"/>
              <a:ext cx="2781360" cy="9205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828720" y="4437000"/>
            <a:ext cx="1582560" cy="649440"/>
          </a:xfrm>
          <a:prstGeom prst="rightArrow">
            <a:avLst>
              <a:gd name="adj1" fmla="val 50000"/>
              <a:gd name="adj2" fmla="val 6092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195640" y="5661000"/>
            <a:ext cx="3241440" cy="647640"/>
          </a:xfrm>
          <a:prstGeom prst="wedgeRoundRectCallout">
            <a:avLst>
              <a:gd name="adj1" fmla="val 291"/>
              <a:gd name="adj2" fmla="val -148282"/>
              <a:gd name="adj3" fmla="val 16667"/>
            </a:avLst>
          </a:prstGeom>
          <a:solidFill>
            <a:srgbClr val="ffffff"/>
          </a:solidFill>
          <a:ln w="64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720000"/>
                </a:solidFill>
                <a:latin typeface="Tahoma"/>
              </a:rPr>
              <a:t>Inspired by the National (African) AIDS Vaccine Development Plans (AAVI)</a:t>
            </a: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57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The new WG Chair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713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0000"/>
                </a:solidFill>
                <a:latin typeface="Tahoma"/>
                <a:ea typeface="宋体"/>
              </a:rPr>
              <a:t>Mr Michel GRECO, former CEO of Aventis (now Sanofi) Pasteur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ahoma"/>
                <a:ea typeface="宋体"/>
              </a:rPr>
              <a:t>MG is looking forward to strong interaction with the Board and counts on its support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ahoma"/>
                <a:ea typeface="宋体"/>
              </a:rPr>
              <a:t>The TB vaccine landscape has strongly improved over the last couple of years, the TB vaccine community is more ready to act in a coordinated fashion, to optimize resources and to develop standards that should ease the prioritization process down the road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ahoma"/>
                <a:ea typeface="宋体"/>
              </a:rPr>
              <a:t>There is a continued need to open new research avenues as it is too early to assume that existing products will make it to market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ahoma"/>
                <a:ea typeface="宋体"/>
              </a:rPr>
              <a:t>The need for and the opportunities offered must be attacked more aggressively, more research, more advocacy, more funding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ahoma"/>
                <a:ea typeface="宋体"/>
              </a:rPr>
              <a:t>The secretariat will need more resources to keep up with the with the growing task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ahoma"/>
                <a:ea typeface="宋体"/>
              </a:rPr>
              <a:t>There is going to be abn increased newsflow on TB vacines over the coming years and MG is looking forward to becoming a bearer of hopefully good news to the board in the future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09:46:41Z</dcterms:created>
  <dc:creator>MudasiaE</dc:creator>
  <dc:description/>
  <dc:language>en-US</dc:language>
  <cp:lastModifiedBy>bakerl</cp:lastModifiedBy>
  <cp:lastPrinted>2004-03-17T17:37:17Z</cp:lastPrinted>
  <dcterms:modified xsi:type="dcterms:W3CDTF">2006-05-02T15:03:14Z</dcterms:modified>
  <cp:revision>213</cp:revision>
  <dc:subject/>
  <dc:title>Secretariat, 2003 Progress Repor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