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0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1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3319-8521-452D-81E7-E69E9395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fficient clinical trial sites that meet GCP/GMP standards with trained personnel, sound infrastructure and appropriate procedures for patient recruitment, compliance and retention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Harmonized regulatory guidelines, including fast-track approv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 robust and sustained pipeline of new drug candidates and back-up progra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nimal models and validated surrogate markers broadly adopted by TB drug developers to aid in early identification of promising versus unpromising candidat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Biomarkers and surrogate endpoints to aid translational research and speed clinical developme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esting programs that enable more rapid and precise dose selection and optimization of complementary drug combin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E154-5466-46BA-9219-9BC6EBF5AD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1516-E1A9-43E8-8575-9FC6853A9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A2BD1-9F0C-470A-86AA-CCF2E046C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5AC84-9827-4683-A1F0-003CD6AF6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795E0-92CC-46A2-B11D-A9A5E659F6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84602-1781-4A02-A911-18D78222E2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97B77-3CD5-4498-A6A7-85CE518E99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2678-0110-4452-8122-F8D411F37B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F595-DAB5-4492-9BF1-F11B70691C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B7E4-C035-4393-B8DC-8ECF2CDE88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C492-D0AD-460E-8184-F2EE9034D0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6F48-D36E-47C4-ADB9-943F567F6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337E7-1E98-4C8A-8F8E-C2B2769B7F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CD826-40CC-4D02-8ABA-45316E3F63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484A-F3D0-4B61-BA66-AA9D540C97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1CA5-22FB-44D1-92BA-31CE1B14FF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57E4-7EF4-4C9E-873F-6D62AA9161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65FB7-D052-4896-B939-9103C11D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BAB79-2CB8-4411-ADEF-0E8DC135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06E9F-18DD-42BE-8F5F-DCA3792D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196E5-3AFE-41CB-9151-9153CFA1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B964F-824E-4835-972B-EF18B05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8268-8A65-446E-94C7-16B6560D22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640619-8D1B-465F-B03B-71C2536EA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160C5-1C9C-4015-98C0-1F2D97D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CF97F-CBF9-42FD-8610-7F194959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9D061-D1F4-46B7-AFE4-8627008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E0EF3-24C3-41C9-AF62-915E22EC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229E3-AADA-40FA-A894-9018ECFB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C2952A-B23D-4280-9C3C-15C0DC19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8BF3E3-FED0-4211-A461-1F8FECBA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21CEC-D9C0-4D1B-BBC5-535A3A52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78484-996D-48E4-89B1-E93B6BD9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6B09-CD0C-4FC2-870F-C9DC1391D9F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6E724-0549-4C66-9B3E-CF3ED0F3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BFD4C-3A53-4158-8242-B937A281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7778E-C547-45AB-8D05-473E5EF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4B66B-7737-4676-AD7C-B1E7319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D51CA-5EDE-4ADD-95AD-CD6F105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B2AFF1-7288-47ED-B5A5-C0782A1C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0AE3A-B69B-430F-9296-42CE64FC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5DDF7-3339-48DD-AE61-1B5E1142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41798-43BC-44B5-85DD-138F319A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3FAC-DE63-4772-B097-07E6D7EB5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FF6B-54FD-4791-AA86-060AF918D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EEB00-2EAD-4C13-881F-751193A96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659E-648B-494C-A79A-735E89234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1B7A-70E6-4877-A5B4-6D488EF7A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33720" y="152388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DCB8-90E7-40E6-8BB9-922814149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2516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cc251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158F-F3E2-4BA5-8E5A-791684E9B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5831-E6D9-425C-8E39-C1725437D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9A5F-1EB1-4E32-B6B8-C4CB2EE92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Group on New Dr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rationalizing” the Strategic P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71440" y="4832280"/>
            <a:ext cx="680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 TB Partnership Coordinating Board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ja, Nig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4-25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king Group Needs</a:t>
            </a: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rom the Strategic Pla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73152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obust and sustained new dru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trial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monized regulatory guidelines, fast-track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models and validated surrogat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rkers and surrogate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32240" y="2438280"/>
            <a:ext cx="28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2006 – 2007 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160"/>
                            </p:stCondLst>
                            <p:childTnLst>
                              <p:par>
                                <p:cTn id="13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59"/>
                            </p:stCondLst>
                            <p:childTnLst>
                              <p:par>
                                <p:cTn id="18" nodeType="after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52)"/>
                                      </p:to>
                                    </p:set>
                                    <p:set>
                                      <p:cBhvr>
                                        <p:cTn id="21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landscape of TB compounds in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detailed inventory of clinical trial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with regulatory authorities on guidances na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t need for funding - $3.6B gap for drugs alone (2006 - 201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14600" y="3200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990720"/>
            <a:ext cx="6782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04920" y="1981080"/>
          <a:ext cx="8762760" cy="4647960"/>
        </p:xfrm>
        <a:graphic>
          <a:graphicData uri="http://schemas.openxmlformats.org/drawingml/2006/table">
            <a:tbl>
              <a:tblPr/>
              <a:tblGrid>
                <a:gridCol w="2666880"/>
                <a:gridCol w="3352680"/>
                <a:gridCol w="274320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 Role/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ust and sustained pipeline of new drug candidates and back-up progra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t comprehensive mapping of the global TB drug portfolio via a web-based survey and make results available to WG membe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launch: summer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finalization and presentation: fall 200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zed regulatory guidelines; fast-track appro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e and sponsor open forums on key regulatory issues in TB drug development with regulatory authorities, industry and WG me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conference: Washington, DC, December 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conference: Europe, September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cient clinical trial sites meeting GCP/GMP stand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ate and disseminate results of clinical trial site assessments by WG part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365560" y="1069920"/>
            <a:ext cx="53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 Plan and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1:10:34Z</dcterms:created>
  <dc:creator>Beth Oldham</dc:creator>
  <dc:description/>
  <dc:language>en-US</dc:language>
  <cp:lastModifiedBy>bakerl</cp:lastModifiedBy>
  <dcterms:modified xsi:type="dcterms:W3CDTF">2006-05-02T15:02:01Z</dcterms:modified>
  <cp:revision>2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F5BE291CF156FA40B2C348AEB191C4DD449A2C00</vt:lpwstr>
  </property>
  <property fmtid="{D5CDD505-2E9C-101B-9397-08002B2CF9AE}" pid="3" name="_ReviewCycleID">
    <vt:r8>984594159</vt:r8>
  </property>
  <property fmtid="{D5CDD505-2E9C-101B-9397-08002B2CF9AE}" pid="4" name="_ReviewingToolsShownOnce">
    <vt:lpwstr/>
  </property>
</Properties>
</file>