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E4DC-CE08-4ACE-904F-B5E0A202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11BF-C9B4-4B8E-8E25-4675D7EE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9D5E-14F8-429E-936F-D5FA0B06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E04-26E7-418F-BF40-DB3BEAC8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A25E-C5F4-4D93-B333-EAAFFF86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7B6F-8399-4249-AFF8-45BC4827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4CD8-FE50-4D9A-8F14-50FA3E65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2DDF-DA3D-44A2-B8D6-E9B8202D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91E5-B702-43D6-91CA-0063FB4E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0DE9-7660-4BD8-A6B1-D3966F3F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7478-2303-48EA-9B3E-C1AFD26A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1AEE-8F0F-4411-AEA8-C2EB83BF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31DA-8275-489D-8B27-2864BCB6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2842-4B64-46E2-97F7-9A23B89A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28AE-7705-4C9B-8536-D3005B72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9395-574D-43BA-BC0F-B3BF93B1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3E11-683E-4852-9261-8E3F4710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57B9-2907-4D19-B30A-FBA5B874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1118-6CA8-448F-B275-E0121AE4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2467-8F60-43C7-85A6-6271D757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1439-7371-40A1-9A74-F8C3EA29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6016-DCD8-4372-BF0E-3DD52536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00A1-F068-48C4-A46E-3A5AC414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DB7A-F563-45AA-8AD4-97C82823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6CD3-D9EA-4A60-9BB0-AAAEA2E3BFE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003D-D7A5-476B-A659-109382D84F7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nnual Report 2005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r Marcos Espial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buja Coordinating Board Meeting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24 25 April 2006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Meetings in Ethiopia and Ita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teleconference to discuss G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our Executive Committee Teleconferen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biennial Secretariat work plan 2006-2007 was prepared and approved by both the CB and WHO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alf of the staff are in secured job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Financial Position (US$ Millions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2004          2005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tal Income         23.8             34.4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xpenditure           14.7             36.6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rplus/Deficit        9.1            (2,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Note: Deficit covered by brought forward balance from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81952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gaging Partners including NGOs and the communities affected by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bilising the GP resour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uring deeper, sustained,  donor support from curr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stablishing a broader base of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curing the other half of the staff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rtners Forum, External Evaluation, Global Plan follow-up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DF and GLC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vocacy, Communication and S. Mobilis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nancial Posi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52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1500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artnership continued to expand during 200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y end 2005 it had 463 memb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294 NGO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0 Donor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4  Govern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3 Intergovernment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48 Academic institu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0 Commerci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Two new partnerships: Peru and in the Islamic Republic of Iran were forme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Partnership Building and ACSM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89760" indent="0" algn="ctr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Engagement with Partn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CTION project let by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SULT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parliamentary outreach and stakeholder mobilisation in some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B Media Fellowships project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anos Institute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quality coverage of TB issue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op TB e-forum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HDNet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stimulate global dialogue on TB issues and mobilize stakeholder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WEF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engagement to launch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Building Commitment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Through High level Miss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Botswan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endorsement of WHO AFRO Emergency Declaration by the African Un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Ethiop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ime Minister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and Minister of Health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dones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Minister of Health, MPs, and Partner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taly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Undersecretary of Foreign Affairs – Stop TB Italy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ozambique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WHO RC – Emergency Declarat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Global Media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High-profile media events for WTBD in Paris, London and Ottawa (Mar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dia story for TB African Emergency declaration by WHO-RC (Aug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Events planned to launch Global Plan in several cities around the world (Jan06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61320" indent="0" algn="ctr">
              <a:lnSpc>
                <a:spcPct val="11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Country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Helping countries to develop robust ACSM components for GFATM/R5 ($35 million for 12 countries – 2 year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Regional and sub-regional ACSM training workshops in AFRO, AMRO, EMRO, EURO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Information materials for countries: GFATM planning framework, introductory ACSM primer, needs assessment tool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457200" y="-360"/>
            <a:ext cx="574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136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Global Plan to Stop TB 2006-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unding available to the seven Working Groups for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ocal point within the Secretariat to facilitate process and coordin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ctive participation in the WGs annual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Detailed WGs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2560" y="134100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mand for GDF continued to grow strongly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nnual GDF procurement for grants stood at a record $28.5m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ders placed through Direct Procurement Service grew to $13.4 million ($6.6 million in 2004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number of countries using GDF Direct Procurement Service went up to 25 (19 countries through 2004)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main beneficiaries were low income countries that fulfilled the GDF “Conditions of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LC/GDF procurement function converg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5T15:50:36Z</cp:lastPrinted>
  <dcterms:modified xsi:type="dcterms:W3CDTF">2006-05-02T15:30:47Z</dcterms:modified>
  <cp:revision>14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