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548E-F433-4486-8D03-1535FE31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08AB-E044-47F6-9052-D0179A27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7D8-0CFA-420D-BC69-00CAFA1D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3DB-CEAE-4D88-AB97-1E703FFB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3D0E-611A-48C0-9E46-09F39478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5B2-36B7-4926-9E6D-2F42B945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AF67-3F30-4234-B2C9-2FBDB3E8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74F2-70CE-4D6D-A96B-C4A7EBA7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BF1C-E487-482E-B322-4A5EC952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A372-5B1B-42B1-9CD0-0CA2381D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814F-D213-4D61-8CB9-1E95C1A6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4231-82E3-4A5F-A292-B911677A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EA46-B239-4871-8861-B923CCFB60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an High Leve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berculosis – a regional emerg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enhagen, 16-17 Octo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presentation to Coordinating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on lates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te comments and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high level mission to participate in Ministerial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nnium Development Goal for TB and Stop-TB targets may not be met in Africa and Eastern Europe/Central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stern Europe major problems with high MDR-TB rates and increasing TB-HIV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clared tuberculosis regional emergency in Europe i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olitical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versies on technic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external support from Western Europe (health concerns versus development age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 and objectiv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e progress towards achieving MDGs and targets for TB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political and financial support to TB control in line with Global Plan 2006-2015 in priority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awareness and commitments of European and other international d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European Stop-TB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Committee (chair Zaleskis) and Steering Committee (chair Borgdorff) established in Januar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and place set: 16-17 October 2006 in Copenh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ation letter ready, to be signed by Regional Director and Minister of Health of Finland (EU Presidenc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lf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ees: Ministers of Health, Finance (East), Justice (East), Foreign Affairs/Development Cooperation (West), as well as selecte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sional programme draft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el discussions on the TB threat (incl MDR-TB and TB-HIV), collaboration between European countries, and bridging the financial 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and adoption of Copenhagen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ing the Stop TB Partnership for Eu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declaration being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cy plan being finalised, including pre-events in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documents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‘ next steps’ in preparation (from regional to national emergency; development of country p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budget $ 300,000 – 35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: number of participants, location, air f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s so f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29,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-TB Partnership/It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  5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gap: in the order of $  17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contributions expected or applied for: TB societies (Netherlands, Russia, Finland), USAID, Gates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yet directly from Western European Governments, except reception by Govt of Finland (EU presidency), and support from Italy through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6:27:26Z</dcterms:created>
  <dc:creator>kncv</dc:creator>
  <dc:description/>
  <dc:language>en-US</dc:language>
  <cp:lastModifiedBy>bakerl</cp:lastModifiedBy>
  <dcterms:modified xsi:type="dcterms:W3CDTF">2006-05-02T15:11:46Z</dcterms:modified>
  <cp:revision>5</cp:revision>
  <dc:subject/>
  <dc:title>European High Level Ministerial Forum  Tuberculosis – a regional emergency</dc:title>
</cp:coreProperties>
</file>