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05A6-9408-4146-8CBF-68F3EFE600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256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2960" y="4341600"/>
            <a:ext cx="50320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cent MMWR report on emergence of Extensively drug resistant tuberculosis further emphasizes and alerts us to the need for  working collboratively to investigate and controlling TB outbrea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0348-A286-4B5B-AB23-6CA4A061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AA30-0267-48CF-8632-47F1CC27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6B64-FA6F-45E5-B4E4-D007A7ED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7B58-0161-4430-9037-E297D586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0EC6-48FD-41EF-9DE5-9D197B01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92D6-5645-447E-99F8-D414C3DA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93A3-AC39-4A45-94AF-60EC43EA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AD24-6746-416A-BE92-1DD5ADBB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DBAA-A24D-4DD5-BE0C-48350AF7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D8E9-612A-4A41-BAD0-B2F9E888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0EB5-0A82-47CC-963B-807A8C34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24BE-0DD1-4FB5-9CA0-C0BEF993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FA67-68F6-4BB5-9A1E-CAF1006F7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i-volume.com/stoptb/details.asp?id=618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951280"/>
            <a:ext cx="911052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xtensively Drug-Resistant TB (XDR TB)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ackground, Progress, and Plan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569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Stop TB Partne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oordinating Board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29 Nov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300640"/>
            <a:ext cx="6697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enneth Castro, M.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rio Raviglione, M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8960" y="1052640"/>
            <a:ext cx="162540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0360" y="1052640"/>
            <a:ext cx="1403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68360" y="1125360"/>
            <a:ext cx="40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39 isolates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13372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44 (35%) Cx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2133720"/>
            <a:ext cx="47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95 (65%) Cx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16280"/>
            <a:ext cx="36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1(41%) M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84720" y="371628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3 (59%) Susce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4720" y="4954680"/>
            <a:ext cx="34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53 (10%) X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4% of MDRT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120" y="289080"/>
            <a:ext cx="781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Drug Resistant TB Survey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133360" y="1700280"/>
            <a:ext cx="2438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700280"/>
            <a:ext cx="1693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389240" y="3141720"/>
            <a:ext cx="744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314172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4292640"/>
            <a:ext cx="2303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840" y="6021360"/>
            <a:ext cx="761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1160" y="115560"/>
            <a:ext cx="890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XDRTB Survey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Patient Characteristics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2760" y="1341360"/>
            <a:ext cx="8221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racteristic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.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prior TB Treat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 (5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or TB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ure or Completed treatmen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(28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eatment Default or Failur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7 (14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V-infected (44 tested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 (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d (Includes 34% on ARV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2 (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c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. t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poligotyp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/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1240" y="5772240"/>
            <a:ext cx="861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lobal 7-point Action Plan to Combat XDR TB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mphasizes Essentials of Proper TB Control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640" y="1574280"/>
            <a:ext cx="890748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duct rapid surveys of XDR TB (determine bur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hance laboratory capacity (emphasis on rapid D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 technical capacity of clinical and public health practitioners to effectively respond to XDR TB outbreaks and manage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ement infection control precautions (PLHA focu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anti-TB drug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rapid diagnostic test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mote universal access to ARVs under joint TB/HIV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616572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RC Consultation, Johannesburg, South Africa. Sept 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4360" y="199836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Progress to Date and the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80" y="18864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First Global XDR TB Task Force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8-9 October 2006 Meeting Objectiv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key issues, make recommendations and identify urgent action steps required in next 3-6 month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-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nagement of XDR TB suspects in high and low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grammatic management of XDR TB treatment and Rx desig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aboratory XDR TB definition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fection control and protection of health care workers, with emphasis on high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mediate XDR TB surveillance activities and need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dvocacy, communication, social mobilization strategi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 plans for appropriate global response, and within countries, including designation of roles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strengthening of TB control in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creased international and national TB sta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ining courses for MDR &amp;XDR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istance available from international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71280" y="907920"/>
          <a:ext cx="8964720" cy="6145200"/>
        </p:xfrm>
        <a:graphic>
          <a:graphicData uri="http://schemas.openxmlformats.org/drawingml/2006/table">
            <a:tbl>
              <a:tblPr/>
              <a:tblGrid>
                <a:gridCol w="1092240"/>
                <a:gridCol w="685800"/>
                <a:gridCol w="955800"/>
                <a:gridCol w="822240"/>
                <a:gridCol w="184320"/>
                <a:gridCol w="796680"/>
                <a:gridCol w="1008360"/>
                <a:gridCol w="863280"/>
                <a:gridCol w="863640"/>
                <a:gridCol w="728640"/>
                <a:gridCol w="9637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background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respo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3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MDR Combined  *=estim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umber of MDR C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C 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 to regional training cour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emergency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estimated number of isol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starting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ass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oth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yet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1 mission Nov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p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zambi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y to 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i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ission Sept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MDR isolates + provincial surve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N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zi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mbab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79280" y="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 Progress in 7 SADC countries attending SA Dept of Health/WHO meeting, Pretoria, Octo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on of the Global Plan to Stop TB, 2006-2015 re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Management of MDR-TB &amp;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gorithm for identification and management of suspects publishe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ess to rapid tests for rifampicin and INH resistance – FIND and SAMRC organized meeting November 16,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largement of Green Light Committee 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mmitment to re-programme from GFATM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NITAID – 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line drugs and support to accelerate prequalification of manufacturers of 2L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Capacity Strength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group of the Laboratory Capacity Strengthening Sub-Group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response plan in preparation – meeting January 2007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to quantitative analysis of laboratory needs and costing (TBS – with USAID sup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L ready to accept specimens for 2LDST from rapid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ection contr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Update of WHO infection control guidelines – nearing 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ublication of addendum, "Tuberculosis infection control in the era of expanding HIV care and treatment" – on WHO and CDC web-s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ub-working group on infec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itial meeting held in Paris - coordinated by WHO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rategic planning meeting - December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ere should the sub group be placed in Partnership?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 of S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ZN Investig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 Moll, NR Gandhi, R Pawinski, U Lalloo, AW Sturm, K Zeller, J Andrews, G  Friedlan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DC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 M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Stop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st Global XDR Task Force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ttp://www.who.int/mediacentre/news/notes/2006/np29/en/index.html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Alliance for 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Rapid surv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generic protocol ready to determine rapidly the geographical distribution and size of XDR-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2nd line drug susceptibility testing organised with SRL network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Advocacy, communication and social mobiliz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 ACSM Task Forc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evelopment and dissemination of messages on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and Stop TB websites, monthly update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XDR-TB messages into World AIDS Day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lanning of media events globally and n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 and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-SA MRC meeting November 16, Pretoria, to establish demonstration sites for rapid rifampicin and isoniazid susceptibility te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of MGIT for rapid culture and DST, eg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bruary/March, 2007, Meeting on Implications of XDR-TB for R&amp;D, Cape T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Resource Mobi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lan and $95 million budget for SADC countries prepared to address XDR-TB urg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DFID, Italian Cooperation, OSI, PEPFAR, USAI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sted plans for countries' immediate needs, technical assistance, surveillance and global policy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apid briefing of development partners and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ed plans urgently need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st of sub-Saharan Afric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ussia and former Soviet Un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79280" y="981000"/>
          <a:ext cx="8569080" cy="4463640"/>
        </p:xfrm>
        <a:graphic>
          <a:graphicData uri="http://schemas.openxmlformats.org/drawingml/2006/table">
            <a:tbl>
              <a:tblPr/>
              <a:tblGrid>
                <a:gridCol w="6571800"/>
                <a:gridCol w="199728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eeds for global XDR-TB response 2006- 2007 with focus on Southern African 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African country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trengthening XDR-TB response in Southern Africa countries 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human resources, infection control, surveillance, laboratory strengthening, monitoring and supervision, recording and reporting, community health, cross border collaboration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econd-line anti-TB drugs to 6,000 M(X)DR-TB patien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apid diagnostic tests to 154,000 M(X)DR-TB suspec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support costs - WHO and Part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79280" y="587700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short-term costs for Southern Afri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5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onclusions and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DR-TB is a serious threat to TB care and control, and must be addressed swiftly by TB community and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PSTB 2 revis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untry level plans and TA response by partner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know size and ex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pid survey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arm bell to underperforming TB control programmes to expediti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basics, eg. Supervision, laboratory capacity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roduce infection control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management of MDR TB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cator of serious underinvestment in TB control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ise resourc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gent need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Questions to the Boar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 infection control sub-group be positioned under the TB/HIV Working Gr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mments does the Board have, and will it endorse, the approach to XDR-T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the Board do to help raise the necessary $95 million urgent request for SADC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evised WHO Case Definition for XDR TB (10 Oct 2006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istance to at least INH and RIF (MD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US resistance to fluoroquinolone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ne of the second-line injectabl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amikacin, kanamycin, or capreomyci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360" y="151920"/>
            <a:ext cx="9144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TB Treatment Outcomes, by Selected Drug Resistance Patterns, Latvia, 2000-2003*</a:t>
            </a:r>
            <a:endParaRPr b="0" lang="en-US" sz="34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69920" y="1413000"/>
          <a:ext cx="8669160" cy="47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1413000"/>
                    <a:ext cx="8669160" cy="47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70036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560" y="5950080"/>
            <a:ext cx="79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* Leimane V, et al. First Global XDR TB Task Force Meeting. Oct 9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from N = 820 evalu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56840" y="55897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6080" y="3716280"/>
            <a:ext cx="1015920" cy="5335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1520" y="2852640"/>
            <a:ext cx="1219320" cy="6098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3480" y="531720"/>
            <a:ext cx="9144000" cy="3735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03040" y="4762440"/>
            <a:ext cx="877104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9440" y="304920"/>
            <a:ext cx="827892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pted by anecdotal descriptions of virtually untreatable 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ycobacterium tuberculos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olates with multidrug resistance (MDR) and more extensive drug resistance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2600" y="1412640"/>
            <a:ext cx="8331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nience sample (17,690 isolates) submitted to participating international SRL network, 2000-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520 (20%) of isolates MDR 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47 (  2%) of isolates XDR TB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DRTB in all regions, more common FSU and Asia (Republic of Kor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ominator information unavai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Hospital Background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104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9 patients in TB/ARV integration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death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0 (71%) of 14 with MDR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6/10 MDRTB resistant to all tested first and second line drugs (SLD) for 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, RIF, EMB, STR, KANA, CI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gestive of probable extensive drug resistant TB in this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pted survey Jan 2005-Ma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734080"/>
            <a:ext cx="834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* Moll A, Gandhi NR, Pawinski R, Lalloo U, Sturm AW, Zeller K, Andrews J,  Friedland G. HIV associated Extensively Drug-Resistant TB (XDR-TB) in Rural KwaZulu-Natal 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5:14:34Z</dcterms:created>
  <dc:creator>zignolm</dc:creator>
  <dc:description/>
  <dc:language>en-US</dc:language>
  <cp:lastModifiedBy>Desiree Kogevinas</cp:lastModifiedBy>
  <dcterms:modified xsi:type="dcterms:W3CDTF">2006-11-29T03:28:26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