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A68DE-622B-4EC3-89A0-1BA3D744E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A2B6B-5262-4D93-AA67-6E11C0EDA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6D9AC-4CDA-45AE-ACBF-1995745EE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44C4C-C8DC-4B6E-B65C-C67BECED3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8612E-8F46-4F6F-ADDA-29F812DD5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FD69B-EFB6-4A7D-AEE8-B09660D9F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6781F-C102-46E7-9CC8-3B5E6BC27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79A91-BFF7-4227-9575-88C49AE74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43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78BB6-DDDF-4126-9F5B-85F148AF9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E737A-6B4A-405C-BF4C-121ACFDD3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266E6-3526-4546-A173-90C81ACAB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F8D88-B70B-4D93-B14D-A2B1A5CBF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D0733-1E4E-4E3F-AD50-19B676B356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Stop TB Partnership Symposium at the 37</a:t>
            </a:r>
            <a:r>
              <a:rPr b="1" lang="en-GB" sz="2400" spc="-1" strike="noStrike" baseline="30000">
                <a:solidFill>
                  <a:srgbClr val="000000"/>
                </a:solidFill>
                <a:latin typeface="Tahoma"/>
              </a:rPr>
              <a:t>th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 UNION World Conference on TB and Lung Disease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31</a:t>
            </a:r>
            <a:r>
              <a:rPr b="1" lang="en-GB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 October 2006, Par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review </a:t>
            </a:r>
            <a:r>
              <a:rPr b="1" lang="en-US" sz="2800" spc="-1" strike="noStrike">
                <a:solidFill>
                  <a:srgbClr val="bf0601"/>
                </a:solidFill>
                <a:latin typeface="Arial"/>
              </a:rPr>
              <a:t>progres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 scaling up TB control according to the Stop TB Strategy and the Global Plan to Stop TB, 2006-15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discuss </a:t>
            </a:r>
            <a:r>
              <a:rPr b="1" lang="en-US" sz="2800" spc="-1" strike="noStrike">
                <a:solidFill>
                  <a:srgbClr val="bf0601"/>
                </a:solidFill>
                <a:latin typeface="Arial"/>
              </a:rPr>
              <a:t>major challenges and potential solution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to scaling up TB control according to the Stop TB Strategy and the Global 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determine </a:t>
            </a:r>
            <a:r>
              <a:rPr b="1" lang="en-US" sz="2800" spc="-1" strike="noStrike">
                <a:solidFill>
                  <a:srgbClr val="bf0601"/>
                </a:solidFill>
                <a:latin typeface="Arial"/>
              </a:rPr>
              <a:t>how Working Groups can work together bett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to support country planning and implementation of the Stop TB Strateg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179280" y="1124640"/>
            <a:ext cx="8964720" cy="71640"/>
          </a:xfrm>
          <a:prstGeom prst="rect">
            <a:avLst/>
          </a:prstGeom>
          <a:gradFill rotWithShape="0">
            <a:gsLst>
              <a:gs pos="0">
                <a:srgbClr val="8a0400"/>
              </a:gs>
              <a:gs pos="100000">
                <a:srgbClr val="bf0601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765000"/>
            <a:ext cx="0" cy="1798920"/>
          </a:xfrm>
          <a:prstGeom prst="line">
            <a:avLst/>
          </a:prstGeom>
          <a:ln w="57240">
            <a:solidFill>
              <a:srgbClr val="bf06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0920" y="43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ahoma"/>
              </a:rPr>
              <a:t>Achievements 1 On Quality DOT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84% Treatment Success 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± 60% Case Detection 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ncrease in DOTS coverage and DOTS infrastructure: Over 26 million patients treated under DO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evelopment of Country Strategic Plans 2006-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Laboratory strengthening initiatives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(introduction or expansion of EQ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trengthening: planning capacity, M&amp;E and supervision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(regular M&amp;E meetings; sharing examples of good practic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ncrease in available financial resources: GFA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179280" y="1124640"/>
            <a:ext cx="8964720" cy="71640"/>
          </a:xfrm>
          <a:prstGeom prst="rect">
            <a:avLst/>
          </a:prstGeom>
          <a:gradFill rotWithShape="0">
            <a:gsLst>
              <a:gs pos="0">
                <a:srgbClr val="8a0400"/>
              </a:gs>
              <a:gs pos="100000">
                <a:srgbClr val="bf0601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765000"/>
            <a:ext cx="0" cy="1798920"/>
          </a:xfrm>
          <a:prstGeom prst="line">
            <a:avLst/>
          </a:prstGeom>
          <a:ln w="57240">
            <a:solidFill>
              <a:srgbClr val="bf06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ahoma"/>
              </a:rPr>
              <a:t>Achievements 2 &amp; 3: Addressing challenges and contributing to HS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30592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B/HIV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olicy for collaborative TB/HIV interventions and initiated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B/HIV training materials developed and training beg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&amp;E Systems for TB/HIV develop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DR-T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olitical commitment for MDR-TB management at country level and resource mobi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ncreased funding for second-line drugs (GFAT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cale up of MDR-TB treatment in many countries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(40 countries </a:t>
            </a:r>
            <a:r>
              <a:rPr b="1" lang="en-GB" sz="1800" spc="-1" strike="noStrike">
                <a:solidFill>
                  <a:srgbClr val="bf0601"/>
                </a:solidFill>
                <a:latin typeface="Arial"/>
              </a:rPr>
              <a:t>GLC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approved, more than 23,000 patients on treatment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Human resources for MDR-T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evelopment of guidelines and training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raining of NTP managers and consult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79280" y="1124640"/>
            <a:ext cx="8964720" cy="71640"/>
          </a:xfrm>
          <a:prstGeom prst="rect">
            <a:avLst/>
          </a:prstGeom>
          <a:gradFill rotWithShape="0">
            <a:gsLst>
              <a:gs pos="0">
                <a:srgbClr val="8a0400"/>
              </a:gs>
              <a:gs pos="100000">
                <a:srgbClr val="bf0601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765000"/>
            <a:ext cx="0" cy="1798920"/>
          </a:xfrm>
          <a:prstGeom prst="line">
            <a:avLst/>
          </a:prstGeom>
          <a:ln w="57240">
            <a:solidFill>
              <a:srgbClr val="bf06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9080" y="43920"/>
            <a:ext cx="88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ahoma"/>
              </a:rPr>
              <a:t>Achievements 4,5,6: Engaging all care providers, empowering communities, R&amp;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evelopment of guidelines, IS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raining of NTPs, private sector and consultan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cale up of successful pilots contributing to increase in case det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C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ngage cured patients (patient charter), affected communities and civil socie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GFATM support  for ACSM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Use of the media to increase TB aware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&amp;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B research movement and TB Research financing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rot="10800000">
            <a:off x="179280" y="1124640"/>
            <a:ext cx="8964720" cy="71640"/>
          </a:xfrm>
          <a:prstGeom prst="rect">
            <a:avLst/>
          </a:prstGeom>
          <a:gradFill rotWithShape="0">
            <a:gsLst>
              <a:gs pos="0">
                <a:srgbClr val="8a0400"/>
              </a:gs>
              <a:gs pos="100000">
                <a:srgbClr val="bf0601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765000"/>
            <a:ext cx="0" cy="1798920"/>
          </a:xfrm>
          <a:prstGeom prst="line">
            <a:avLst/>
          </a:prstGeom>
          <a:ln w="57240">
            <a:solidFill>
              <a:srgbClr val="bf06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ahoma"/>
              </a:rPr>
              <a:t>Key Overarching Challenges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lignment of  national plans with the Global Plan to Stop TB 2006-20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olitical commitment with sustained and/or increased resources to reach MDGs and beyo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aising and maintaining political commitment in large federal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Build advocacy at Global, National and Sub-national Level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nsuring sustainability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ustainable health financ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79280" y="981000"/>
            <a:ext cx="8964720" cy="71640"/>
          </a:xfrm>
          <a:prstGeom prst="rect">
            <a:avLst/>
          </a:prstGeom>
          <a:gradFill rotWithShape="0">
            <a:gsLst>
              <a:gs pos="0">
                <a:srgbClr val="1b1b53"/>
              </a:gs>
              <a:gs pos="100000">
                <a:srgbClr val="333399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8820000" y="620640"/>
            <a:ext cx="0" cy="179856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68360" y="119700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Health system strengthening (quality, coverage, infrastructure, measurement and indicators, way of contributing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Human  Resources (management, planning, quality, quantity, distribution, recruitment and reten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Laboratory strengthening (infrastructure, staffing and capacit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New strategy and multiple partners require better Coordination (internally and extern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79280" y="981000"/>
            <a:ext cx="8964720" cy="71640"/>
          </a:xfrm>
          <a:prstGeom prst="rect">
            <a:avLst/>
          </a:prstGeom>
          <a:gradFill rotWithShape="0">
            <a:gsLst>
              <a:gs pos="0">
                <a:srgbClr val="1b1b53"/>
              </a:gs>
              <a:gs pos="100000">
                <a:srgbClr val="333399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8820000" y="620640"/>
            <a:ext cx="0" cy="179856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44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ahoma"/>
                <a:ea typeface="Tahoma"/>
              </a:rPr>
              <a:t>Key Overarching Challeng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iagnosis of smear-negative, in HIV settings and childhood TB, and EP-T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Biosafety and infection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Need for TA in different areas and cross-cut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mportance of continuity and ongoing sup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Links with HR development to ensure sustain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ranslating guidelines into programmatic acti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vising GP2 &amp; MDR-TB Guidelines in light of emerging XDR-T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ccelerating introduction of new rapid tests for diagnosis of  MDR/XDR TB and new drug development in response to XDR-T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79280" y="981000"/>
            <a:ext cx="8964720" cy="71640"/>
          </a:xfrm>
          <a:prstGeom prst="rect">
            <a:avLst/>
          </a:prstGeom>
          <a:gradFill rotWithShape="0">
            <a:gsLst>
              <a:gs pos="0">
                <a:srgbClr val="1b1b53"/>
              </a:gs>
              <a:gs pos="100000">
                <a:srgbClr val="333399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8820000" y="620640"/>
            <a:ext cx="0" cy="179856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ahoma"/>
              </a:rPr>
              <a:t>Other Key Overarching Challeng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79280" y="1197000"/>
            <a:ext cx="8964720" cy="71280"/>
          </a:xfrm>
          <a:prstGeom prst="rect">
            <a:avLst/>
          </a:prstGeom>
          <a:gradFill rotWithShape="0">
            <a:gsLst>
              <a:gs pos="0">
                <a:srgbClr val="1b1b53"/>
              </a:gs>
              <a:gs pos="100000">
                <a:srgbClr val="333399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8820000" y="837720"/>
            <a:ext cx="0" cy="179892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How can the working groups and partners ensure adequate coordinated response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1484280"/>
            <a:ext cx="8427960" cy="53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The highest priority is basic DOTS quality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ere DOTS has been scaled up very fas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ere health systems, HRH and labs are very wea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ere HIV epidemic and MDR-TB problems are the most sev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e need to work in a new way – piloting, assessing &amp; sharing results, documenting evidence while preparing for scale up 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30T10:30:36Z</dcterms:created>
  <dc:creator>figueroamunozj</dc:creator>
  <dc:description/>
  <dc:language>en-US</dc:language>
  <cp:lastModifiedBy>Desiree Kogevinas</cp:lastModifiedBy>
  <dcterms:modified xsi:type="dcterms:W3CDTF">2006-11-30T09:32:08Z</dcterms:modified>
  <cp:revision>20</cp:revision>
  <dc:subject/>
  <dc:title>From DOTS to the Stop TB Strategy </dc:title>
</cp:coreProperties>
</file>