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1C0C-0ED4-4AB9-ADBC-13189CF51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4025-7C3C-42B1-A55F-D1B5A981D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A40D-1F4A-4D5C-A208-A2F14585B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EC3C-22A5-46E4-BD2D-7031BA052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2DE08-173C-464F-A63E-FECB03400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50629-E0B7-41B0-B12B-AD4B75324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6E0B2-8E11-4735-9378-252B8B979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9F590-6972-42F2-96FE-05AC1D41C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2B353-60C9-4B7B-ABD4-1BEBDA32C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599E9-2DA3-4B23-854B-4C8099720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FF982-4764-4106-8C9F-3F9B7841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5AA1-3C7D-4408-B3F7-DAFF0CD10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61930-B08E-4892-AA7B-4332D949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EB9DA-3774-4664-871B-D870A967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0CAEC-CFC8-4C69-BD27-BD20F7373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E4581-6E98-4D5E-AF0E-15A243A64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2A85C-6B3A-41EE-8B27-92BC41437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1CF9-CC93-4916-B2AF-675FFE26C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F1D3-2515-41D9-A59A-000319551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C8C6-79F8-4E8F-B293-394A1F26F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743F-0C74-43E1-9444-AC190EC15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0D17-8096-46F8-9620-4747B1C0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A05C-DFF1-4BAD-9FD9-A99B04E0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8BB9-8126-4A86-8DFD-B3A62FD1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F427E-4BF5-4190-A647-76F60B81FE7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464E4-C7C7-4A08-9507-C77D133F364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hyperlink" Target="mailto:yansu@worldbank.org" TargetMode="External"/><Relationship Id="rId4" Type="http://schemas.openxmlformats.org/officeDocument/2006/relationships/hyperlink" Target="mailto:opannenborg@worldbank.org" TargetMode="External"/><Relationship Id="rId5" Type="http://schemas.openxmlformats.org/officeDocument/2006/relationships/hyperlink" Target="mailto:elule@worldbank.org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5345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he World Bank and Tuberculosis in Afric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8067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25080" y="2922480"/>
            <a:ext cx="68698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n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top TB Partnership Board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karta, Indone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93400" y="5711760"/>
            <a:ext cx="290268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. Jacques Baudouy, Dir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ealth, Nutrition and Pop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uman Development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World Ba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Arial"/>
              </a:rPr>
              <a:t>jbaudouy@worldbank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1000" y="6423120"/>
            <a:ext cx="17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vember 29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27080" y="5823000"/>
            <a:ext cx="914400" cy="90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A95BD-70B6-42A4-AF39-CBC35B8E1CEB}" type="slidenum">
              <a:t>1</a:t>
            </a:fld>
          </a:p>
        </p:txBody>
      </p:sp>
    </p:spTree>
  </p:cSld>
  <p:transition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0102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Relevance to the Bank’s work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Instrument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Framework for action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Addressing challenge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E288-7188-42CF-809F-4E5F010AD9E9}" type="slidenum">
              <a:t>2</a:t>
            </a:fld>
          </a:p>
        </p:txBody>
      </p:sp>
    </p:spTree>
  </p:cSld>
  <p:transition>
    <p:wheel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650"/>
                            </p:stCondLst>
                            <p:childTnLst>
                              <p:par>
                                <p:cTn id="3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650"/>
                            </p:stCondLst>
                            <p:childTnLst>
                              <p:par>
                                <p:cTn id="4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levance to the Bank’s work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 Africa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Worsening TB disease burden and impact on mortality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Catastrophic health costs contributing to already-existing inequities in poverty and health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Bank is currently revising its HNP strategy, which emphasizes strengthening health systems to better align disease-specific programs with efforts to improve health system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Global HIV/AIDS Program is currently reviewing its programs in Africa to improve projects based on lessons learned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C746-06F4-40FB-895F-CC8B55E328DE}" type="slidenum">
              <a:t>3</a:t>
            </a:fld>
          </a:p>
        </p:txBody>
      </p:sp>
    </p:spTree>
  </p:cSld>
  <p:transition>
    <p:wheel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500" autoRev="1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500" autoRev="1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500" autoRev="1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500" autoRev="1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struments for Bank support for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B control in Africa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Bank financing for TB in Africa is provided directly and indirectly through: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dget support (policy-base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tor-Wide Approaches (SWAp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V/AIDS Multi-Country Program (MAP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bined malaria, HIV/AIDS, TB progra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veraging other donor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6B3C-B6C1-4409-8F8B-9ED09456DD84}" type="slidenum">
              <a:t>4</a:t>
            </a:fld>
          </a:p>
        </p:txBody>
      </p:sp>
    </p:spTree>
  </p:cSld>
  <p:transition>
    <p:wheel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0" dur="indefinite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1" dur="indefinite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5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6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0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1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5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6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0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1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5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6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ramework for Action (1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Better alignment with the overall framework of the Stop-TB Partnership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Focus on the Bank’s comparative advantage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Enhanced collaboration with WHO and financing partner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cale-up through ongoing and planned operations in high burden countrie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125E-F385-4433-8D2B-34AAEEC91F16}" type="slidenum">
              <a:t>5</a:t>
            </a:fld>
          </a:p>
        </p:txBody>
      </p:sp>
    </p:spTree>
  </p:cSld>
  <p:transition>
    <p:wheel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2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5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8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1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914040" y="1447560"/>
            <a:ext cx="7467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reas of Bank focus: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engthen advocacy and policy dialog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acilitate coordinating mechanisms between TB and HIV/AIDS progra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upport the strengthening of health 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ster results foc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apacity for monitoring and evalu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mprove coordination with partners and technical agenc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ramework for Action (2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1392-5427-46E3-B6F0-5B609D1A373D}" type="slidenum">
              <a:t>6</a:t>
            </a:fld>
          </a:p>
        </p:txBody>
      </p:sp>
    </p:spTree>
  </p:cSld>
  <p:transition>
    <p:wheel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5" dur="500" autoRev="1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500" autoRev="1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" dur="500" autoRev="1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7" dur="500" autoRev="1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" dur="500" autoRev="1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7000"/>
                            </p:stCondLst>
                            <p:childTnLst>
                              <p:par>
                                <p:cTn id="16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" dur="500" autoRev="1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ddressing challeng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Enhance lessons learned from experiences in countries and other regions 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Improve collaboration with Stop TB Partnership and WHO, as well as other partner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trengthen internal capacity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greement (brokered by WHO) to hire a Technical Specialist, funded by the Gates Foundation, to join the World Bank with emphasis on Afr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97B7-C5BF-4C50-8C49-D71E3581815A}" type="slidenum">
              <a:t>7</a:t>
            </a:fld>
          </a:p>
        </p:txBody>
      </p:sp>
    </p:spTree>
  </p:cSld>
  <p:transition>
    <p:wheel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6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3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tact informa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238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Africa regional contacts: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aw Ans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or, Human Development, Africa Reg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yansu@worldbank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k Pannenb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nior Health Advisor, Africa Reg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opannenborg@worldbank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izabeth L. Lu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r, AIDS Campaign Team for Afric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elule@worldbank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1A71-4E5F-4CBB-9A10-2CB0C71C7631}" type="slidenum">
              <a:t>8</a:t>
            </a:fld>
          </a:p>
        </p:txBody>
      </p:sp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icole R.</cp:lastModifiedBy>
  <dcterms:modified xsi:type="dcterms:W3CDTF">2006-11-22T19:46:29Z</dcterms:modified>
  <cp:revision>443</cp:revision>
  <dc:subject/>
  <dc:title>Non-Financial Constraints  on the Response to HIV/AIDS and TB in ECA</dc:title>
</cp:coreProperties>
</file>