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DD87-F52C-410F-A2CB-69CDB384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156E-7D29-40AF-928F-7229FD98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51BA-48B0-4EFA-940D-1910015D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53CA-DE09-4FD5-9614-7F25C8E8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A00EB-52B8-4A66-95A9-71A0F04D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67CC5-6184-46DE-987F-72D13515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7E31A-8717-4D18-8522-5515A1F5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06781-63C8-455D-8F0D-787CA819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62301-D47F-4E41-A62F-C6634337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AD916-846D-42FF-83E7-7B488CA9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3D307-6268-4917-9404-9395FCD5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EEE3-AE03-49CB-A48F-0E2D3142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3B91B-B218-4B31-A20E-2B255BFE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2AC99-2467-43BF-A0D3-EB59B647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9070B-3BC7-421B-AC57-AE33CD31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D569F-8383-4228-875A-7704D04D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63EFA-E624-4D1E-AB26-BC762942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8B7F6-662C-43FC-9C0D-76C624D1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50F31-B10E-4A55-BA96-2F9ABEDC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29530-7DC1-42B4-A539-64000DC9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5EDB2-36AF-4144-B3D9-B42ED6B0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28D7F-67E9-4AA2-A4F9-E2DC7BC7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EA0A-FC4C-44F5-BD0E-F2A00547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9F9D9-E981-41AB-82AC-1768B50C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E68B2-DC88-4DAF-9F00-650673BB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EBA49-C344-48E0-B880-864394E1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B55FF-B417-4289-8DFF-3C2A8F9A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FADC6-F540-44BD-9CEB-C90411B3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0AC03-256E-423B-8F9C-A899E9EF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78515-2052-46C3-8C8D-8057C9FC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0550-4B44-41C4-8A12-43473A5C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D6F5-F3C3-4FC4-872D-E6C0A47B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604-6587-4ED2-BEAE-210DC684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DFB6-24D8-499F-96B6-B5609B22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45A7-9A43-4058-999D-87DB35AF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A8AF-36FE-4DE8-836A-B98B33A9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CAB8-A3A3-429F-8D0B-906B88331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12E1-981A-4EEF-ACE5-1E28B46A03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DFA4-4D84-4189-9619-1DB64F0047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B Research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d Syed, Joanne Carter, Barbara Laughon, Peter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33280" y="463680"/>
          <a:ext cx="8675640" cy="59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63680"/>
                    <a:ext cx="867564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7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9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564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457200" y="46836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836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380880"/>
          <a:ext cx="8229600" cy="562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56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569880" y="539640"/>
          <a:ext cx="7975800" cy="545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539640"/>
                    <a:ext cx="7975800" cy="54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2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been accomplished si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pecific deliver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Why are the GP2 numbers insuffici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include basic science or fully account for operational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account for research trial capacity building to address the R&amp;D needs for new tools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umptions of the funding available for TB new tools going into the first year of GP2 (2006) is less than what TAG tracked for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s available in 2005 needs to be increased by nearly 5 fold in order for the GP2 resource needs to be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440" y="5722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34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Y05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 2006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e 5-fold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AG 10 yr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y new t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iagnos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5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ru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vaccin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tools sub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6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ed/Infrastru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tot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4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TB R&amp;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TB R&amp;D Funding is Really Needed (Dollars in Million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8120" y="5572080"/>
            <a:ext cx="12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8120" y="5400720"/>
            <a:ext cx="1355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4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320" y="0"/>
            <a:ext cx="49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y are the Global Plan Numbers Insuffic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572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3429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50292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a comprehensive global movement for TB R&amp;D to reach Global Plan 2 go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R&amp;D expenditures and activities need to be systematized and tracked ann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should increase reporting transpar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recommends 5-fold increase, to 2 B/y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)  $1.05B/year is needed for new tools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i) $950M/year is needed for basic science, infrastructure development, and operational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8120" y="5842080"/>
            <a:ext cx="1051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7320" y="567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52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ssessment every 1-2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is data to identify new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ting for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Fair sha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alculating Country Fair Shares of R&amp;D Need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anne Car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/RESULTS Educational F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asic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% of annual R&amp;D needs to be contributed by wealthy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 calculated as country’s percentage of global wealth (Country GNI 2005* as % of total World GNI 200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s estimated for 22 OECD DAC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*GNI source: World Development Indicators database, World Bank, 1 July 2006. Online. http://siteresources.worldbank.org/DATASTATISTICS/Resources/GNI.pd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3998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he GPSTB 2006-201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900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59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AG expanded R&amp;D estima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 b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577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Outstanding Issues/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ision on overall annual R&amp;D ne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ing and expanding current donor financing database building on TAG repor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odolog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ECD/DAC countries only? Include other Higher-Income Countries (e.g. Middle East – Bahrain, Brunei, Kuwait, Qatar, Saudi Arabia, UAE; Asia – Hong Kong, South Korea, Singapore)? Separate “share” for the EC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or countries providing 100% of R&amp;D? What about private sector and foundations? What about some endemic countrie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urning Fair Shares into an Advocacy Tool: 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Example of the GFATM Donor Report Card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ding Sc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% of each country’s fair share pledge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+  =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≥ 11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    =  100-10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B    = 81-9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C    = 61-8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D    = 51-6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F    = 0-5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N   = Incompl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that R&amp;D is critical to GP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is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date that the Partnership should advocate for increase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are current re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Does Report Card Look Lik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35440" cy="4976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830760" cy="4952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572000" y="1371600"/>
            <a:ext cx="0" cy="495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research activities in TB and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Federal TB Task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lobal funders of basic and clinical science (NIH, Gates Foundation, USAID, TB Alliance, FIND, Aeras, CDC, MRC, Wellcome Trust, EC, companies) to meet, compare portfolios and clinical activities/sites/resources, identify gaps and potential syner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utilization – coordinate lab, human resources, and clinic strengthening to benefit care and expand research opportunities and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future cooperative initiatives to fill research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s for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of New Tools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connections for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inish concern re: duplication of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mobilization of new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dvocacy positions based on scientific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tender for resource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rant will cover some of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ate fair shar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CSM can best use TA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d hoc group to map research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se activities fit within W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Deliverables (6 month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 awarded for tracking (Partner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top donors (RESULTS/TA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cy plan (AC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f research activities (ad hoc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accomplished si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“research” - S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y and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zing impact of curr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&amp; D for new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res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current resources -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5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funds TB R&amp;D; What do they fund; What are the gaps, What i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Cindra Feuer, Javid Sy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b Huff, &amp; Mark Harr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th 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9-30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B R&amp;D spending fo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2005 actually compare to GP’s assumptions for 2006 and goals for 201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compare to what is really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s theory of change is borne out of 25 years of experience in HIV research activism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searchers+Policy Makers+Community Activists= Increased Political Will+ Resources+ Efficient and Effectiv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development of a comprehensive research agenda that is implemented in a coordinated fashion can greatly improve research effectiveness and effici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8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57200" y="496800"/>
          <a:ext cx="8217000" cy="589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96800"/>
                    <a:ext cx="82170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20:26:52Z</dcterms:created>
  <dc:creator>Peter Small</dc:creator>
  <dc:description/>
  <dc:language>en-US</dc:language>
  <cp:lastModifiedBy>Peter Small</cp:lastModifiedBy>
  <dcterms:modified xsi:type="dcterms:W3CDTF">2006-11-30T01:47:02Z</dcterms:modified>
  <cp:revision>22</cp:revision>
  <dc:subject/>
  <dc:title>Global TB Research Movement</dc:title>
</cp:coreProperties>
</file>