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8494-ADF4-4075-8CD0-A334E3C46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FA39-AE03-48FF-922A-73683133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66E8-D00B-4B9E-AAAA-115A0315F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58BD-0C70-4AE8-B2A2-F45DE668B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6EEC6-0A69-4DDF-BC80-1BDA9EBE3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30B0D-8928-4594-A241-D9CF77ED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9B420-89FA-4342-B366-FEEE11FA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2CCB6-B142-4A9E-8A32-DE642BA7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67E58-43D9-4CB1-9A0D-51F06411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1E188-1216-4FC5-B0F3-A1A2D2E8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77B51-BC94-4ECC-A326-3018EBB3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365C-1D5A-4DDE-90D0-E3AA8249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44D52-9E13-430E-B061-5B728504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CB224-26A8-4D2A-B051-0D122BD3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61157-3E8A-49AE-8A24-D189EF94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34CAB-1A8B-4E7C-B469-14C6845A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7BE8C-C759-4FB1-9D0C-82D99BF36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D2182-533F-493C-BDC6-276B8A018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5C677-CE61-4B07-9A3B-848CEF09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23B18-470D-48EC-BCB8-3905110E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177E5-F570-4BB2-A0B7-072663AC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04D89-E2D6-482C-9970-E3C000F1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4B8B-D08E-42C5-80C5-712594FB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32A4E-E6F0-4B82-BFFA-98888C6E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B74E8-D721-4768-A443-187C91B9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BEE0B-669B-405E-91F9-51B52908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DBEAA-213D-47C7-88BE-988046C7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C2BC6-D090-4C71-9C28-ED8F3FC9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0B037-2782-4D05-BB26-7CC8C7986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BEE09-13C7-4758-86B1-A8255A0A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A3F3-1E0D-40BD-B6B5-BBF4EBBD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D6C8-9B2E-4DD7-B5E5-98706B66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8125-1B5C-42E0-9622-71827BB9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A762-334F-432C-9E0A-8288297A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DF9B-AEF2-4333-ACBA-7C83A2AF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DBAB-E84A-418E-BD94-4E10EC6C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01D2-1C56-41FD-84DD-062B0469B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564E-6FD0-4417-A4AA-10EE5AB087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C5C5-27FC-47B2-B6CF-960ED08D53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13012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TB Research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id Syed, Joanne Carter, Barbara Laughon, Peter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33280" y="463680"/>
          <a:ext cx="8675640" cy="593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463680"/>
                    <a:ext cx="8675640" cy="59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6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77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83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89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4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95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01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6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07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564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457200" y="46836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6836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13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457200" y="380880"/>
          <a:ext cx="8229600" cy="562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229600" cy="56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8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19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569880" y="539640"/>
          <a:ext cx="7975800" cy="545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880" y="539640"/>
                    <a:ext cx="7975800" cy="54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4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25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discussed in Abu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been accomplished si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uture dire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pecific deliver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049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Why are the GP2 numbers insuffici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P2 doesn’t include basic science or fully account for operational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P2 doesn’t account for research trial capacity building to address the R&amp;D needs for new tools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umptions of the funding available for TB new tools going into the first year of GP2 (2006) is less than what TAG tracked for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s available in 2005 needs to be increased by nearly 5 fold in order for the GP2 resource needs to be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440" y="5722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34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Y05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P 2006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ase 5-fold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P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AG 10 yr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tual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stimat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creas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y new to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diagnos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51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drug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1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vaccin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4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tools sub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6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8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3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957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c re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ed/Infrastructu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al re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tot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4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TB R&amp;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9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95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uch TB R&amp;D Funding is Really Needed (Dollars in Million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8120" y="5572080"/>
            <a:ext cx="120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8120" y="5400720"/>
            <a:ext cx="13557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41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320" y="0"/>
            <a:ext cx="49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y are the Global Plan Numbers Insuffic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45720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34290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50292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 a comprehensive global movement for TB R&amp;D to reach Global Plan 2 go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R&amp;D expenditures and activities need to be systematized and tracked annu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 should increase reporting transpar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 recommends 5-fold increase, to 2 B/y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)  $1.05B/year is needed for new tools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i) $950M/year is needed for basic science, infrastructure development, and operational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8120" y="5842080"/>
            <a:ext cx="1051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7320" y="567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52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future direc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tr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ssessment every 1-2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this data to identify new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ocating for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Fair shar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Calculating Country Fair Shares of R&amp;D Need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oanne Car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ULTS/RESULTS Educational Fu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asic Assump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% of annual R&amp;D needs to be contributed by wealthy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ir share calculated as country’s percentage of global wealth (Country GNI 2005* as % of total World GNI 200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ir shares estimated for 22 OECD DAC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*GNI source: World Development Indicators database, World Bank, 1 July 2006. Online. http://siteresources.worldbank.org/DATASTATISTICS/Resources/GNI.pdf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39988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ased on the GPSTB 2006-2015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nual R&amp;D need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900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US Fair Share (28.83%)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259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ased on TAG expanded R&amp;D estimat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nual R&amp;D need =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2 b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US Fair Share (28.83%)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577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Outstanding Issues/Ques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cision on overall annual R&amp;D ne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ining and expanding current donor financing database building on TAG repor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thodolog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ECD/DAC countries only? Include other Higher-Income Countries (e.g. Middle East – Bahrain, Brunei, Kuwait, Qatar, Saudi Arabia, UAE; Asia – Hong Kong, South Korea, Singapore)? Separate “share” for the EC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nor countries providing 100% of R&amp;D? What about private sector and foundations? What about some endemic countries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Turning Fair Shares into an Advocacy Tool: </a:t>
            </a:r>
            <a:br>
              <a:rPr sz="48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Example of the GFATM Donor Report Card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ading Sca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sed on % of each country’s fair share pledged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+  =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≥ 11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A    =  100-109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B    = 81-99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C    = 61-8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D    = 51-6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F    = 0-5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N   = Incomple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discussed in Abuj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ment that R&amp;D is critical to GP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at is Resear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date that the Partnership should advocate for increase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at are current resour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Does Report Card Look Like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835440" cy="4976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3830760" cy="49528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572000" y="1371600"/>
            <a:ext cx="0" cy="495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research activities in TB and TB/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 Federal TB Task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global funders of basic and clinical science (NIH, Gates Foundation, USAID, TB Alliance, FIND, Aeras, CDC, MRC, Wellcome Trust, EC, companies) to meet, compare portfolios and clinical activities/sites/resources, identify gaps and potential syner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utilization – coordinate lab, human resources, and clinic strengthening to benefit care and expand research opportunities and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future cooperative initiatives to fill research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tions for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of New Tools 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connections for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inish concern re: duplication of 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mobilization of new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of advocacy positions based on scientific landsc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 tender for resource 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Grant will cover some of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ate fair shar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CSM can best use TAG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d hoc group to map research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se activities fit within WG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 Deliverables (6 month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 awarded for tracking (Partnersh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of top donors (RESULTS/TA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ocacy plan (ACS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of research activities (ad hoc gro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accomplished si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tion of “research” - S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demiology and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zing impact of curr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&amp; D for new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res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tion of current resources -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50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funds TB R&amp;D; What do they fund; What are the gaps, What is nee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y Cindra Feuer, Javid Sy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b Huff, &amp; Mark Harr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Action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th Stop TB Partnership Coordinating Board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 29-30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karta, 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TB R&amp;D spending for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2005 actually compare to GP’s assumptions for 2006 and goals for 201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is compare to what is really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3120" y="5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4720" y="601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60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Gs theory of change is borne out of 25 years of experience in HIV research activism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esearchers+Policy Makers+Community Activists= Increased Political Will+ Resources+ Efficient and Effective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development of a comprehensive research agenda that is implemented in a coordinated fashion can greatly improve research effectiveness and effici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3120" y="5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4720" y="601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68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57200" y="496800"/>
          <a:ext cx="8217000" cy="589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96800"/>
                    <a:ext cx="8217000" cy="58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20:26:52Z</dcterms:created>
  <dc:creator>Peter Small</dc:creator>
  <dc:description/>
  <dc:language>en-US</dc:language>
  <cp:lastModifiedBy>Peter Small</cp:lastModifiedBy>
  <dcterms:modified xsi:type="dcterms:W3CDTF">2006-11-30T01:47:02Z</dcterms:modified>
  <cp:revision>22</cp:revision>
  <dc:subject/>
  <dc:title>Global TB Research Movement</dc:title>
</cp:coreProperties>
</file>