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06BC-CEDA-416F-9472-6999F303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FB5C-3D3B-409A-A0FE-172DA605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088D-8FD9-4178-A09D-B98B94E3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60A-C3AE-4380-8998-A4AC008A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D8C5-C4E5-42E1-ABA7-E262DDDF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6CC2-114B-4DDB-9982-6ABA1B02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4C72-D55D-49E9-BAB0-0045EE5F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F928-4F77-4C27-81D3-6E8D09A5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576F-ADD4-4FD3-9D6A-36061825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2EEC-2274-4488-85F7-4CBF3FE9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5E05-BB8D-46D2-9B00-C57D84C8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16B3-CA1B-4886-AD23-80E41963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14FE-4B12-400E-AA62-2D4C06F7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9749-B0B2-4E26-91AA-F84E0C99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5AA9-A919-4B76-ABF4-F367FCAB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769D-F8F8-4AF2-BD88-A1BAF7D7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7EB2-42E5-4455-B264-20879EF8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12B9-B7B1-41FA-9A81-95793F9C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5801-D2DC-4ACB-8138-E83C7390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D8F-45A9-4DF0-BF27-456E5B94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3361-5155-4EF1-9C4E-1F325757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8165-A3B5-44F2-973A-BE8ECE17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CD4D-6A16-46E7-8356-2B2A58F7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D72-3A7A-42AB-AE74-66E810E7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193B-CDD3-42FE-956D-E55A22A3AD1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1000-C08B-4C1E-A1F8-05AA264E521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mailto:yansu@worldbank.org" TargetMode="External"/><Relationship Id="rId4" Type="http://schemas.openxmlformats.org/officeDocument/2006/relationships/hyperlink" Target="mailto:opannenborg@worldbank.org" TargetMode="External"/><Relationship Id="rId5" Type="http://schemas.openxmlformats.org/officeDocument/2006/relationships/hyperlink" Target="mailto:elule@worldbank.org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World Bank and Tuberculosis in Afr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5080" y="2922480"/>
            <a:ext cx="6869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op TB Partnership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3400" y="5711760"/>
            <a:ext cx="29026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. Jacques Baudouy, Dir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, Nutrition and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uman Development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jbaudouy@worldbank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1000" y="642312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ember 29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7080" y="5823000"/>
            <a:ext cx="914400" cy="90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2493-6DF8-4ED6-BA42-7B6AA24B2889}" type="slidenum">
              <a:t>1</a:t>
            </a:fld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levance to the Bank’s 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strume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ramework for a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ddressing challeng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F34-33F9-461A-9487-1C30E02427DB}" type="slidenum">
              <a:t>2</a:t>
            </a:fld>
          </a:p>
        </p:txBody>
      </p:sp>
    </p:spTree>
  </p:cSld>
  <p:transition>
    <p:wheel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50"/>
                            </p:stCondLst>
                            <p:childTnLst>
                              <p:par>
                                <p:cTn id="3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650"/>
                            </p:stCondLst>
                            <p:childTnLst>
                              <p:par>
                                <p:cTn id="4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evance to the Bank’s work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orsening TB disease burden and impact on mortali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atastrophic health costs contributing to already-existing inequities in poverty and healt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ank is currently revising its HNP strategy, which emphasizes strengthening health systems to better align disease-specific programs with efforts to improve health syst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Global HIV/AIDS Program is currently reviewing its programs in Africa to improve projects based on lessons learne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0DF8-676B-4487-8E72-8475D7BCC45B}" type="slidenum">
              <a:t>3</a:t>
            </a:fld>
          </a:p>
        </p:txBody>
      </p:sp>
    </p:spTree>
  </p:cSld>
  <p:transition>
    <p:wheel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500" autoRev="1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500" autoRev="1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truments for Bank support for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B control 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ank financing for TB in Africa is provided directly and indirectly through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dget support (policy-bas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or-Wide Approaches (SW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V/AIDS Multi-Country Program (M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d malaria, HIV/AIDS, TB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ing other dono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4C12-BAFA-412C-B2D0-2F30659F21AE}" type="slidenum">
              <a:t>4</a:t>
            </a:fld>
          </a:p>
        </p:txBody>
      </p:sp>
    </p:spTree>
  </p:cSld>
  <p:transition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1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etter alignment with the overall framework of the Stop-TB Partnership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cus on the Bank’s comparative advantag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d collaboration with WHO and financing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cale-up through ongoing and planned operations in high burden countri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6C28-B1A6-4804-B350-73958F00B58E}" type="slidenum">
              <a:t>5</a:t>
            </a:fld>
          </a:p>
        </p:txBody>
      </p:sp>
    </p:spTree>
  </p:cSld>
  <p:transition>
    <p:wheel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040" y="14475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reas of Bank focu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engthen advocacy and policy di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ilitate coordinating mechanisms between TB and HIV/AIDS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ort the strengthening of health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ster results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apacity for monitoring and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rove coordination with partners and technical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B4F2-6EFD-4B25-83EE-97C59914D5DB}" type="slidenum">
              <a:t>6</a:t>
            </a:fld>
          </a:p>
        </p:txBody>
      </p:sp>
    </p:spTree>
  </p:cSld>
  <p:transition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500" autoRev="1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500" autoRev="1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500" autoRev="1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500" autoRev="1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dressing challen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 lessons learned from experiences in countries and other regions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mprove collaboration with Stop TB Partnership and WHO, as well as other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trengthen internal capacity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ment (brokered by WHO) to hire a Technical Specialist, funded by the Gates Foundation, to join the World Bank with emphasis on Af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323A-7385-47A3-ADB2-75EA0050DA6E}" type="slidenum">
              <a:t>7</a:t>
            </a:fld>
          </a:p>
        </p:txBody>
      </p:sp>
    </p:spTree>
  </p:cSld>
  <p:transition>
    <p:wheel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Africa regional contacts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aw Ans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, Human Development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yansu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 Pannenb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ior Health Advisor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opannenborg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L. L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, AIDS Campaign Team for Afr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elule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3911-0E98-48CE-90A2-65C05FE83D38}" type="slidenum">
              <a:t>8</a:t>
            </a:fld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le R.</cp:lastModifiedBy>
  <dcterms:modified xsi:type="dcterms:W3CDTF">2006-11-22T19:46:29Z</dcterms:modified>
  <cp:revision>443</cp:revision>
  <dc:subject/>
  <dc:title>Non-Financial Constraints  on the Response to HIV/AIDS and TB in ECA</dc:title>
</cp:coreProperties>
</file>