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A0C1-45D7-43A3-A3E4-662FE670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3B5-E3EB-4A5F-BE9B-0ABA3A02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D3F-F2A2-4903-BC57-0ECBCD46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FC5-51A3-4284-AB78-B335D205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102C-A8FD-4E14-88C4-7B7EFC63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8B26-D929-45EF-9ADA-759648AF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10C1-B2ED-4938-AE85-04F261F1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7882-1F89-44FE-8790-793A80F3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7978-719D-4063-8F1A-FA4E1CE9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D0CD-F70A-42FB-83E8-6B881E7C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BB92-E0C5-4B38-A30F-69E89011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BA8-4F85-40E2-ACA4-AD16B0F6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7F94-710B-400E-8E58-21DEC98A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6CFD-09AF-4EEE-A910-A0CE67B6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33BB-CC4C-4E86-8143-23FF5DC1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0C06-5AB0-46B8-8507-B92A696D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D63E-7821-4BF7-8B4D-0ACC1BFF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055-75FC-4ECF-B4D5-A127AD53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35C-C39F-40BC-80C6-CCBF113D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868-7A4D-40C9-8C05-FB0FC2D1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D66-6E5A-42C5-B466-350F6843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2807-70DE-48C5-995B-6F73E023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4B4C-F831-4335-8859-E0E3EAC5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7550-5062-4A92-8CBA-C5C74354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F7D8-85B2-4E05-B5A9-C6FB5B3A686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81E9-6E2D-44C4-9360-1B7AD58810A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conomic Benefits of Tuberculosis Contro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Africa &amp; 22 High Burden Countr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45200" y="2513160"/>
            <a:ext cx="602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Stop TB Partnership Board Meeting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Jakarta, 29-30 November 2006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cques Baudou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or, Health Nutrition &amp; Popul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World Ban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D03E-40DC-4FD1-B5C2-6318764B35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 results for 22 HBCs globally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164 billion/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81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51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3372-7340-4FDD-9E56-E6F91F003D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ults: 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urden of deaths associated with TB in 22 HBC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4400" y="1905120"/>
          <a:ext cx="8001000" cy="45655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9.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84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1.2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8F4-BE9D-4854-87FF-0A23BB38FB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burden of TB is signific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ikely benefits of Global Plan 2006-2015 exceed cost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10 in Afric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50 in the 22 HBC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impact of TB deaths is greatest in China and Ind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owing incomes and large avertable TB burd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te high levels of TB coinfection with HIV in Afr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933F-072E-4245-82B9-DD6C2AA4E0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tential policy implica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w will the Partnership disseminate and use this repor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perational implic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licy and program desig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D718-B679-4F62-B262-F5767614B2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FCE-57E2-4C97-A869-CBB2FC1C63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or: Ramanan Laxminaray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exercise of several Stop TB partn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nanced by the Bill &amp; Melinda Gates Foundation (US$95,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aged by the World Ban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sight group from World Bank, WHO, BMGF &amp; Stop TB Partnership Secretari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B7C-BD5B-479A-942A-BA1609CB88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ighligh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finding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tential implications for policymak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203-39A0-4E93-B020-489D5D045E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xt of heavy health burd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bout 8.8 million new cases per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7 million TB-related deaths in 2003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Corbett, Watt, et al., 2003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reatest burden of TB falls on working-age adult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mature death accounts for over 80% of DALYs lost  to TB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Dye, 2006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and poverty dimensions important: mean household spending on TB can account for 8 – 20% of annual household income (Russell, 2004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y adds to knowledge base of economic costs and benefi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539-E615-45B1-80D8-861F092734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osts of TB in Africa - - and in the 22 High Burden Countries (HBCs)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benefits of controlling TB in Africa - - and in the 22 HBCs under specified scenario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policy implications of the finding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1DC-50A6-4D55-9D57-3C3803FE6A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 income 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corporates both annual income &amp; number of years over which the income is enjo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utes value of increased life expectancy on economic well-be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ue of a statistical lif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dely used in economics and reg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ces a value not on a particular life, but on public health measures that can reduce the statistically expected number of deaths by 1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ses revealed preference approaches to assess willingness to pay to lower probability of dy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BBB-DA22-497B-88F7-A69E7BAEF6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imates of costs and benefits in this study refer to economic costs, not to financial/accounting cos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stained DOTS: Maintain 2005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hanced DOTS: Global Plan 2006-201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frica: Epidemiological region as defined in Global Plan 2006-2015, Annex 2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996-11EA-4277-A9A3-48B800A916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mmary results for Africa</a:t>
            </a:r>
            <a:br>
              <a:rPr sz="3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66 billion/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6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4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D61-0D14-44D6-A7AC-C06BDDE8E2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enefits &amp; costs of deaths associated with TB in Africa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14400" y="2362320"/>
          <a:ext cx="8001000" cy="40129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.18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4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7.26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6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C2A-3691-4921-AA7D-4F4FCF4BE6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b89350</cp:lastModifiedBy>
  <dcterms:modified xsi:type="dcterms:W3CDTF">2006-11-22T22:42:14Z</dcterms:modified>
  <cp:revision>442</cp:revision>
  <dc:subject/>
  <dc:title>Non-Financial Constraints  on the Response to HIV/AIDS and TB in ECA</dc:title>
</cp:coreProperties>
</file>