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AB2-4606-48C0-A23A-0B6374BB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A3A-8235-487D-A715-CCF25A2C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5D7-9649-4AE9-996F-88C1FA25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6E73-DD42-438F-B38D-8E893322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175FB-9FA5-4FB0-83EF-6A6A5DC0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4AD7F-65F3-4105-9047-2E955E4A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691CC-A2E1-4317-A67B-5510BD14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5F3CA-B045-4656-AA1B-1745BD17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DD0EF-6DBA-4F60-89B7-3CAD70F6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35768-B5AC-4477-AC49-0EF7D4D7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2218C-1849-461D-85EF-D003D17A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29B-3B1E-409E-B31F-7A7CED38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34EC8-3BF6-413C-8C3F-F0AF23BC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C7649-E450-454C-8E3F-403C465D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60A47-C4E0-49F8-BFBA-907EE397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532DF-0057-41A0-A2CC-C84F5FBB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4C4ED-E98A-41EB-AAA7-03807309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D3534-4479-4255-859A-72705F5A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69E55-FD2F-45AF-A638-1EAC6E61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A8344-EA02-488C-AE5F-ED28ABE8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EFE81-1329-4805-83E8-A18AE936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8D939-52C5-4D63-A619-B302C01A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2D1-D08E-4A86-8B52-DFCEDDED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E76B1-680F-454B-B7C0-383724F9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FCE58-0C0A-4D1F-A17F-07472C62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F304C-E8B6-4604-A1BB-41CEC193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15551-7BB7-4EFB-8B5A-0E2F528E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C450C-09F4-4266-B7DF-116C8166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7F045-5C85-4AB0-830E-26066726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67FFB-4691-4759-B689-BEF59B31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54EF-C494-4393-8F0B-3DF1E8E3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BF2E-6F7A-4445-A1FB-8AB09E7A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33A-D2C7-4B21-B3C0-C076B7DB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431D-7158-4320-9F37-92A36C58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D962-F184-420F-AD39-46D9531C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B2D-702F-44A3-9307-FB4C059C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CBB3-ED92-454B-84B7-F1EF5EFF0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483E-CD72-4241-8F88-58104CE664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3120-713C-427C-A09B-067EBD67A5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B Research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d Syed, Joanne Carter, Barbara Laughon, Peter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33280" y="463680"/>
          <a:ext cx="867564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3680"/>
                    <a:ext cx="867564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7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9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64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7200" y="46836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836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3808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569880" y="539640"/>
          <a:ext cx="7975800" cy="545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539640"/>
                    <a:ext cx="7975800" cy="54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2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been accomplished s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pecific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Why are the GP2 numbers insuffic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include basic science or fully account for operation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account for research trial capacity building to address the R&amp;D needs for new tools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s of the funding available for TB new tools going into the first year of GP2 (2006) is less than what TAG tracked for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s available in 2005 needs to be increased by nearly 5 fold in order for the GP2 resource needs to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440" y="572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34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Y05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 2006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e 5-fol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AG 10 y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y new t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iagnos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5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vaccin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tools sub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d/Infrastru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4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TB R&amp;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TB R&amp;D Funding is Really Needed (Dollars in Milli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120" y="5572080"/>
            <a:ext cx="12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" y="5400720"/>
            <a:ext cx="1355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4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20" y="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 are the Global Plan Numbers Insuffic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572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3429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50292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 comprehensive global movement for TB R&amp;D to reach Global Plan 2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R&amp;D expenditures and activities need to be systematized and tracked ann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hould increase reporting transpa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recommends 5-fold increase, to 2 B/y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 $1.05B/year is needed for new tools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$950M/year is needed for basic science, infrastructure development, and operational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120" y="5842080"/>
            <a:ext cx="105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52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ssessment every 1-2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is data to identify new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ting for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Fair sha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alculating Country Fair Shares of R&amp;D Need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anne C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/RESULTS Educational F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sic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% of annual R&amp;D needs to be contributed by wealthy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 calculated as country’s percentage of global wealth (Country GNI 2005* as % of total World GNI 200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s estimated for 22 OECD DAC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*GNI source: World Development Indicators database, World Bank, 1 July 2006. Online. http://siteresources.worldbank.org/DATASTATISTICS/Resources/GNI.pd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998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he GPSTB 2006-20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900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59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AG expanded R&amp;D estima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577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utstanding Issues/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sion on overall annual R&amp;D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ing and expanding current donor financing database building on TAG repo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odolo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ECD/DAC countries only? Include other Higher-Income Countries (e.g. Middle East – Bahrain, Brunei, Kuwait, Qatar, Saudi Arabia, UAE; Asia – Hong Kong, South Korea, Singapore)? Separate “share” for the EC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or countries providing 100% of R&amp;D? What about private sector and foundations? What about some endemic countrie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urning Fair Shares into an Advocacy Tool: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xample of the GFATM Donor Report Card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ding Sc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% of each country’s fair share pledg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+  =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≥ 11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   =  100-10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B    = 81-9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    = 61-8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D    = 51-6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F    = 0-5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N   = In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that R&amp;D is critical to GP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is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e that the Partnership should advocate for increas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are current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Does Report Card Look Lik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35440" cy="4976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30760" cy="4952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0" y="1371600"/>
            <a:ext cx="0" cy="495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research activities in TB and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Federal TB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lobal funders of basic and clinical science (NIH, Gates Foundation, USAID, TB Alliance, FIND, Aeras, CDC, MRC, Wellcome Trust, EC, companies) to meet, compare portfolios and clinical activities/sites/resources, identify gaps and potential sy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utilization – coordinate lab, human resources, and clinic strengthening to benefit care and expand research opportunities and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uture cooperative initiatives to fill research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f New Tools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connections fo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 concern re: duplication of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mobilization of new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dvocacy positions based on scientific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tender for resource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rant will cover som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ate fair sha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SM can best use TA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d hoc group to map research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se activities fit within W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Deliverables (6 mont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awarded for tracking (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top donors (RESULTS/T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plan (AC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research activities (ad hoc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accomplished si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“research” - S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and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zing impact of curr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&amp; D for new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es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current resources -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5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funds TB R&amp;D; What do they fund; What are the gaps, 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indra Feuer, Javid Sy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Huff, &amp; Mark Harr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th 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9-3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B R&amp;D spending fo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2005 actually compare to GP’s assumptions for 2006 and goals for 20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compare to what is really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 theory of change is borne out of 25 years of experience in HIV research activis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searchers+Policy Makers+Community Activists= Increased Political Will+ Resources+ Efficient and Effectiv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development of a comprehensive research agenda that is implemented in a coordinated fashion can greatly improve research effectiveness and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8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496800"/>
          <a:ext cx="8217000" cy="589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6800"/>
                    <a:ext cx="82170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0:26:52Z</dcterms:created>
  <dc:creator>Peter Small</dc:creator>
  <dc:description/>
  <dc:language>en-US</dc:language>
  <cp:lastModifiedBy>Peter Small</cp:lastModifiedBy>
  <dcterms:modified xsi:type="dcterms:W3CDTF">2006-11-30T01:47:02Z</dcterms:modified>
  <cp:revision>22</cp:revision>
  <dc:subject/>
  <dc:title>Global TB Research Movement</dc:title>
</cp:coreProperties>
</file>