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4C01-D7A5-42E5-B1F9-970E4EDC8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70D1-701C-4BB1-AC8A-3E244FF1E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2023-4061-4860-8DDF-F30FD200E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D105-02AD-40E9-895D-599BC0A3E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6F3E-3C23-49B1-96D7-AF589576C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CA8B-ABE7-40F1-9F55-D7EF86811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EF31-808A-40CE-8934-4E730EABA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ACA1-CA28-4D21-B8B7-0E9B79A52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8426-C9D1-4D1C-A9FA-631999876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23D6-137B-4412-9183-5012FACDB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ECB-8A68-4EFA-90AF-1D7C86D9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9E31-7E33-43F8-BFC4-8184ACEE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4B68-A730-4F04-8758-0A280BE2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65E9-50FA-4577-B409-0A13AEFA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6CBE-073C-4594-B627-DF6606EA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594-D6F5-4695-8C3B-15BFE7AE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F4F5-CA37-4428-A6BA-024CD3B0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A5B6-5000-4203-8B41-87F92ACB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D17-6203-47FE-B15C-0280AB9C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543-44AC-4249-8B00-6909F2FC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8E29-97DF-4A32-95C8-D46A33DA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3D73-D759-4056-904A-445BBE94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E5CF-1299-4387-AB5D-E4039A5AC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balliance.org/why/tb-threat.ph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2" descr="Headline Slide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09480" y="4114800"/>
            <a:ext cx="6705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ordinating Board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09480" y="53341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gamayo, Tanza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-29 October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7"/>
          <p:cNvSpPr/>
          <p:nvPr/>
        </p:nvSpPr>
        <p:spPr>
          <a:xfrm>
            <a:off x="609480" y="5257800"/>
            <a:ext cx="5715000" cy="14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04920" y="1371600"/>
            <a:ext cx="777240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Business Coalition on HIV/AIDS, Tuberculosis and Malari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private sector fight against TB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ends &amp;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7" name="Picture 34" descr="Normal Slide copy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2: Xstrata Coal South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33520" y="228600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workplace TB screening drive is integrated with the district TB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ntervention capitalizes on a strong public-private mix (PPM) between Xstrata, the Mpumalanga District Department of Health and Social Services and PEPF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TB efforts are fully integrated with the company’s extensive HIV/AIDS initiative, using outreach workers to spread the, 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know! the way to l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campa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ealth Systems Strengthe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Xstrata’s employs a strategy of capacity-building to underpin treatment access and community respon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2"/>
          <a:stretch/>
        </p:blipFill>
        <p:spPr>
          <a:xfrm>
            <a:off x="7315200" y="1371600"/>
            <a:ext cx="12574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2895480" y="457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457200" y="1295280"/>
            <a:ext cx="2133720" cy="1600200"/>
            <a:chOff x="457200" y="1295280"/>
            <a:chExt cx="2133720" cy="1600200"/>
          </a:xfrm>
        </p:grpSpPr>
        <p:sp>
          <p:nvSpPr>
            <p:cNvPr id="136" name="Rounded Rectangle 11"/>
            <p:cNvSpPr/>
            <p:nvPr/>
          </p:nvSpPr>
          <p:spPr>
            <a:xfrm>
              <a:off x="457200" y="1295280"/>
              <a:ext cx="2082960" cy="1507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ounded Rectangle 4"/>
            <p:cNvSpPr/>
            <p:nvPr/>
          </p:nvSpPr>
          <p:spPr>
            <a:xfrm>
              <a:off x="530640" y="1368720"/>
              <a:ext cx="2060280" cy="15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 1: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TB Advisory Servic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Box 16"/>
          <p:cNvSpPr/>
          <p:nvPr/>
        </p:nvSpPr>
        <p:spPr>
          <a:xfrm>
            <a:off x="6400800" y="1377720"/>
            <a:ext cx="1981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ective workplace and community based TB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6324480" y="914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ected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20"/>
          <p:cNvGrpSpPr/>
          <p:nvPr/>
        </p:nvGrpSpPr>
        <p:grpSpPr>
          <a:xfrm>
            <a:off x="457200" y="2971800"/>
            <a:ext cx="2082960" cy="1463760"/>
            <a:chOff x="457200" y="2971800"/>
            <a:chExt cx="2082960" cy="1463760"/>
          </a:xfrm>
        </p:grpSpPr>
        <p:sp>
          <p:nvSpPr>
            <p:cNvPr id="141" name="Rounded Rectangle 21"/>
            <p:cNvSpPr/>
            <p:nvPr/>
          </p:nvSpPr>
          <p:spPr>
            <a:xfrm>
              <a:off x="457200" y="2971800"/>
              <a:ext cx="2082960" cy="1463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ounded Rectangle 4"/>
            <p:cNvSpPr/>
            <p:nvPr/>
          </p:nvSpPr>
          <p:spPr>
            <a:xfrm>
              <a:off x="528480" y="3043080"/>
              <a:ext cx="194004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2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Mobilize Core Competenci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Box 26"/>
          <p:cNvSpPr/>
          <p:nvPr/>
        </p:nvSpPr>
        <p:spPr>
          <a:xfrm>
            <a:off x="6400800" y="2918520"/>
            <a:ext cx="19810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e competencies of private sector used to strengthen national TB programs and health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27"/>
          <p:cNvGrpSpPr/>
          <p:nvPr/>
        </p:nvGrpSpPr>
        <p:grpSpPr>
          <a:xfrm>
            <a:off x="457200" y="4572000"/>
            <a:ext cx="2133720" cy="1676520"/>
            <a:chOff x="457200" y="4572000"/>
            <a:chExt cx="2133720" cy="1676520"/>
          </a:xfrm>
        </p:grpSpPr>
        <p:sp>
          <p:nvSpPr>
            <p:cNvPr id="145" name="Rounded Rectangle 28"/>
            <p:cNvSpPr/>
            <p:nvPr/>
          </p:nvSpPr>
          <p:spPr>
            <a:xfrm>
              <a:off x="457200" y="4572000"/>
              <a:ext cx="2133720" cy="1676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ounded Rectangle 4"/>
            <p:cNvSpPr/>
            <p:nvPr/>
          </p:nvSpPr>
          <p:spPr>
            <a:xfrm>
              <a:off x="524880" y="4653720"/>
              <a:ext cx="199836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3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leadership to structure and expand corporate eng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30"/>
          <p:cNvGrpSpPr/>
          <p:nvPr/>
        </p:nvGrpSpPr>
        <p:grpSpPr>
          <a:xfrm>
            <a:off x="2971800" y="1219320"/>
            <a:ext cx="3352680" cy="1752480"/>
            <a:chOff x="2971800" y="1219320"/>
            <a:chExt cx="3352680" cy="1752480"/>
          </a:xfrm>
        </p:grpSpPr>
        <p:sp>
          <p:nvSpPr>
            <p:cNvPr id="148" name="Right Arrow 31"/>
            <p:cNvSpPr/>
            <p:nvPr/>
          </p:nvSpPr>
          <p:spPr>
            <a:xfrm>
              <a:off x="2971800" y="1219320"/>
              <a:ext cx="3352680" cy="1752480"/>
            </a:xfrm>
            <a:prstGeom prst="rightArrow">
              <a:avLst>
                <a:gd name="adj1" fmla="val 75000"/>
                <a:gd name="adj2" fmla="val 31070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ight Arrow 4"/>
            <p:cNvSpPr/>
            <p:nvPr/>
          </p:nvSpPr>
          <p:spPr>
            <a:xfrm>
              <a:off x="2971800" y="1438200"/>
              <a:ext cx="294444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ide technical and programmatic support to GBC members to develop and/or strengthen work place and community based TB program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TextBox 33"/>
          <p:cNvSpPr/>
          <p:nvPr/>
        </p:nvSpPr>
        <p:spPr>
          <a:xfrm>
            <a:off x="6400800" y="4652640"/>
            <a:ext cx="1981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private sector engagement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34"/>
          <p:cNvGrpSpPr/>
          <p:nvPr/>
        </p:nvGrpSpPr>
        <p:grpSpPr>
          <a:xfrm>
            <a:off x="2895480" y="4648320"/>
            <a:ext cx="3200400" cy="1447560"/>
            <a:chOff x="2895480" y="4648320"/>
            <a:chExt cx="3200400" cy="1447560"/>
          </a:xfrm>
        </p:grpSpPr>
        <p:sp>
          <p:nvSpPr>
            <p:cNvPr id="152" name="Right Arrow 35"/>
            <p:cNvSpPr/>
            <p:nvPr/>
          </p:nvSpPr>
          <p:spPr>
            <a:xfrm>
              <a:off x="2895480" y="46483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ight Arrow 4"/>
            <p:cNvSpPr/>
            <p:nvPr/>
          </p:nvSpPr>
          <p:spPr>
            <a:xfrm>
              <a:off x="2895480" y="48290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erve as Global Fund Private Sector Delegation Focal Poi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37"/>
          <p:cNvGrpSpPr/>
          <p:nvPr/>
        </p:nvGrpSpPr>
        <p:grpSpPr>
          <a:xfrm>
            <a:off x="2895480" y="3048120"/>
            <a:ext cx="3200400" cy="1447560"/>
            <a:chOff x="2895480" y="3048120"/>
            <a:chExt cx="3200400" cy="1447560"/>
          </a:xfrm>
        </p:grpSpPr>
        <p:sp>
          <p:nvSpPr>
            <p:cNvPr id="155" name="Right Arrow 38"/>
            <p:cNvSpPr/>
            <p:nvPr/>
          </p:nvSpPr>
          <p:spPr>
            <a:xfrm>
              <a:off x="2895480" y="30481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ight Arrow 4"/>
            <p:cNvSpPr/>
            <p:nvPr/>
          </p:nvSpPr>
          <p:spPr>
            <a:xfrm>
              <a:off x="2895480" y="32288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ducate and  assist GBC  members to identify core competencies within the private secto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7"/>
          <p:cNvGrpSpPr/>
          <p:nvPr/>
        </p:nvGrpSpPr>
        <p:grpSpPr>
          <a:xfrm>
            <a:off x="380880" y="1676520"/>
            <a:ext cx="2362320" cy="1600200"/>
            <a:chOff x="380880" y="1676520"/>
            <a:chExt cx="2362320" cy="1600200"/>
          </a:xfrm>
        </p:grpSpPr>
        <p:sp>
          <p:nvSpPr>
            <p:cNvPr id="161" name="Rounded Rectangle 8"/>
            <p:cNvSpPr/>
            <p:nvPr/>
          </p:nvSpPr>
          <p:spPr>
            <a:xfrm>
              <a:off x="380880" y="1676520"/>
              <a:ext cx="2362320" cy="160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ounded Rectangle 4"/>
            <p:cNvSpPr/>
            <p:nvPr/>
          </p:nvSpPr>
          <p:spPr>
            <a:xfrm>
              <a:off x="440640" y="1754640"/>
              <a:ext cx="2242800" cy="14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fic Objective 4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acilitate Networking Opportunities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TextBox 23"/>
          <p:cNvSpPr/>
          <p:nvPr/>
        </p:nvSpPr>
        <p:spPr>
          <a:xfrm>
            <a:off x="6248520" y="1909440"/>
            <a:ext cx="2514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ed networks and visibility to private sector efforts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25"/>
          <p:cNvGrpSpPr/>
          <p:nvPr/>
        </p:nvGrpSpPr>
        <p:grpSpPr>
          <a:xfrm>
            <a:off x="3124080" y="1371600"/>
            <a:ext cx="3124440" cy="2666880"/>
            <a:chOff x="3124080" y="1371600"/>
            <a:chExt cx="3124440" cy="2666880"/>
          </a:xfrm>
        </p:grpSpPr>
        <p:sp>
          <p:nvSpPr>
            <p:cNvPr id="165" name="Right Arrow 26"/>
            <p:cNvSpPr/>
            <p:nvPr/>
          </p:nvSpPr>
          <p:spPr>
            <a:xfrm>
              <a:off x="3124080" y="1371600"/>
              <a:ext cx="3124440" cy="2666880"/>
            </a:xfrm>
            <a:prstGeom prst="rightArrow">
              <a:avLst>
                <a:gd name="adj1" fmla="val 75000"/>
                <a:gd name="adj2" fmla="val 2281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ight Arrow 4"/>
            <p:cNvSpPr/>
            <p:nvPr/>
          </p:nvSpPr>
          <p:spPr>
            <a:xfrm>
              <a:off x="3124080" y="1704960"/>
              <a:ext cx="26683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vene meetings of GBC members and key stakeholders to address efforts on T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dentify external meetings for GBC members to showcase private sector involvement and share best practi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1447920" y="609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: GBC in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457200" y="12952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Advoc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-specific Focus (Russia, South Afr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Advisory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to the Stop TB Part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533520" y="1752480"/>
            <a:ext cx="784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gether we c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OP T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609480" y="3505320"/>
            <a:ext cx="777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 comprehensive approach to engage the private sector in the fight against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7"/>
          <p:cNvSpPr/>
          <p:nvPr/>
        </p:nvSpPr>
        <p:spPr>
          <a:xfrm>
            <a:off x="838080" y="3124080"/>
            <a:ext cx="731520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1523880" y="457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33520" y="137160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ing business engagement on TB: GBC’s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HIV/AIDS, TB and Mala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que strengths of th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ies: BD and Xstr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09480" y="533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762120" y="1828800"/>
            <a:ext cx="75438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% of those who become ill with TB are between the ages of 15 and 54, resulting in employee absenteeism during prime working year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wide, TB results in a decline in worker productivity totaling US$12 billion yearly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out of 5 countries with an HIV prevalence above 20% expect TB to have a negative impact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28600" y="5638680"/>
            <a:ext cx="891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ackling Tuberculosis: The Business Respons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WEF, February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he Threat of T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TB Alliance: Global Alliance for TB Drug Development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balliance.org/why/tb-threat.php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2008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34" descr="Normal Slide copy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685800" y="106668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gagement around the tuberculosis epidemic has been an organizational priority at GBC since 200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year, we conducted a survey of member companies to identify trends in corporate action on the three dis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ey findings of the resulting report, 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AIDS, Tuberculosis and Malaria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were launched in New York  on September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Sampaio presented opportunities for business engagement on TB at laun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676520" y="2286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 and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2253960" y="1460520"/>
            <a:ext cx="439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panies Response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ubercul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85840" y="1819440"/>
            <a:ext cx="433368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formation and education on T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rategies to address and prevent transmission of active disease in the workplace and/or community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laborative activities to integrate TB and HIV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ministration of appropriate treatment regimen in line with NTP guidelines and Int'l Standards of TB 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rly identification of suspected TB cases, followed by prompt diagno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6243480" y="1695600"/>
            <a:ext cx="0" cy="464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hart 7" descr=""/>
          <p:cNvPicPr/>
          <p:nvPr/>
        </p:nvPicPr>
        <p:blipFill>
          <a:blip r:embed="rId2"/>
          <a:stretch/>
        </p:blipFill>
        <p:spPr>
          <a:xfrm>
            <a:off x="4754520" y="1560600"/>
            <a:ext cx="2975040" cy="47480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6"/>
          <p:cNvSpPr/>
          <p:nvPr/>
        </p:nvSpPr>
        <p:spPr>
          <a:xfrm>
            <a:off x="1523880" y="304920"/>
            <a:ext cx="716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0% of the 83 surveyed companies offer TB information and education in the work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Object 3" descr=""/>
          <p:cNvPicPr/>
          <p:nvPr/>
        </p:nvPicPr>
        <p:blipFill>
          <a:blip r:embed="rId2"/>
          <a:stretch/>
        </p:blipFill>
        <p:spPr>
          <a:xfrm>
            <a:off x="2724120" y="1654200"/>
            <a:ext cx="4262400" cy="4322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2835360" y="55911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344600" y="5591160"/>
            <a:ext cx="137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 / Entertai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986520" y="1838160"/>
            <a:ext cx="35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222200" y="1838160"/>
            <a:ext cx="149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strial Manufact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986520" y="2214720"/>
            <a:ext cx="357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774800" y="2214720"/>
            <a:ext cx="942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tals / M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6238800" y="259092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609560" y="2590920"/>
            <a:ext cx="11080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 / Bever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6099120" y="29624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819760" y="33386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1093680" y="3338640"/>
            <a:ext cx="1623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ergy (Oil, Gas, Electr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5553000" y="371484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2016000" y="2962440"/>
            <a:ext cx="70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utomo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3654360" y="483876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222120" y="4467240"/>
            <a:ext cx="2495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ancial Services / Banking / Insu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3927600" y="44672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1440000" y="4091040"/>
            <a:ext cx="1277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care / Med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4586400" y="4091040"/>
            <a:ext cx="280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684360" y="3714840"/>
            <a:ext cx="2033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iotechnology / Pharmaceut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1477800" y="4838760"/>
            <a:ext cx="1239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mer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2835360" y="52149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17680" y="5214960"/>
            <a:ext cx="2199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3411360" y="1460520"/>
            <a:ext cx="268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1676520" y="30492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00% of manufacturers and mining companies have TB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304920" y="594360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Note: The above analysis includes industries where 3 or more companies responded to the surv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371600" y="380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iews with member companies have revealed tha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85800" y="160020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programs tend to fall under the occupational health umbrel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nies feel that there needs to be more advocacy around T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ents indicated that HIV/AIDS programs are a successful template and can be a starting point for TB engag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1523880" y="3808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ivate sector brings unique strengths to the fight against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7200" y="1066680"/>
            <a:ext cx="815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armaceutical and medical technology 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panies c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velop new drugs and diagnostic syste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ddress TB, as well as enhance TB control programs in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implement comprehensi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orkplace progr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can leverage companies in their supply chain to do the sa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have a unique opportunity to perfor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utreach in the communit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y oper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 their core competenc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enhance the reach of public sector TB progra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serve a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werful advoca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B issues by mobilizing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oice of busin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1447920" y="304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umber of GBC member companies have deepened their involvement in addressing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1: B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57200" y="2133720"/>
            <a:ext cx="830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D joined with the Foundation for Innovative Diagnostics (FIND) to demonstrate the effectiveness of the BD-designed liquid culture technology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ion studies paved the way for the WHO endorsement of the liquid culture method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iring of unique core competencies: BD’s excellence in TB diagnostic development, and FIND’s ability to initiate and coordinate the stud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D/FIND Pricing Agreement benefits 39 high-burden, low-income countries (as defined by the WHO and the World Bank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16142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27:38Z</dcterms:created>
  <dc:creator>Jacob Nettleton</dc:creator>
  <dc:description/>
  <dc:language>en-US</dc:language>
  <cp:lastModifiedBy>Lakshmi Sundaram</cp:lastModifiedBy>
  <dcterms:modified xsi:type="dcterms:W3CDTF">2008-10-27T14:36:27Z</dcterms:modified>
  <cp:revision>139</cp:revision>
  <dc:subject/>
  <dc:title>Slide 1</dc:title>
</cp:coreProperties>
</file>