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media/image10.png" ContentType="image/png"/>
  <Override PartName="/ppt/media/image1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1DF0-CE4D-4016-8B40-43EAFC8A1C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8092-87C5-4587-A79F-714F86377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49BA56-A430-40A2-862B-FA2B8CAAE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331FAB-0192-40DC-8D73-9F2495652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F05CD0-B430-4A63-A1C3-EF616A347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5D1AA-68C8-4E5C-9FF7-AF3D9D92C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4A0564-861D-49AB-B783-B4DB40E0B7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4EA2673-F8F0-401C-98E6-3B723CED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FDE81-EDB0-4E0C-B9FF-532A9F40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1FD43B-E515-4D76-9C65-BC0109469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E51F4D-69D3-430A-B164-9FCCD9041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EB2C98-23EA-482E-94E8-080D4ED3C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1A72-7399-480A-88B2-5C5DFB6E63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40C0AA-86F5-44F6-B73F-3298C6E82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07CEC-009A-4F15-8C03-1BC797E5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68C1E-42CA-4681-870C-655C2CD4B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880170-D560-4D00-95D7-CA0EBD6DA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592FBD-A5AB-4B79-A56E-81116D2BA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9F081C5-231C-4C89-9E38-4F959F80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F4F74F-8AB2-4A88-8D9F-8B289A2ED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AD0B8-A2D2-4334-AB78-ABC67AD42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6898EF-225A-4DD4-B453-22423A509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8E92B4-45E6-4F65-883E-8FED8BFF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D5F6-1BFB-4AF4-8382-E7DE39F09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07E275-3AFB-420D-9836-7D49BB37E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3DCDAB-F0F0-4C82-B8E5-73BF25F415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1A0E60-1093-40FA-A9A2-8A2A95594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E82407-522F-4A6A-9B31-9537573D8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E100D7-9F08-4FF7-B9D0-2A7C75C38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B3CE1A-7086-462E-ACEF-C83036F9E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09E8851-6170-46B0-99BD-D0D547AE9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941D27-5E8D-4F4A-A9BF-ABD79C076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AD8A09-1BBA-4336-B3DF-CC2415A10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BC8490-71CF-41D8-BE0E-BEE2312C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D291D-EE87-4018-B931-B1F6A08464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F4082E-7C54-4C9A-80BB-7B0EAA849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11829-EDD5-4A00-B255-DC06EB378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DECE4-478A-42C2-8F2D-2711E9618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3906C4D-B037-49C7-801B-DD3C7C949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860105E-6934-49FE-9C13-3AF75BF73D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05DF40-B7FA-46ED-90B6-019320441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49075B-4C8B-44EC-AEE5-8D4B61DBC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1CF8D9-2AB9-4289-8993-7186720A1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E8F815-BEF2-48B1-A26E-563B234DF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5996B9-E052-4F10-9C67-9FC2AE6A4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3ECC-ACF2-49A4-B3E1-0E9F8AF9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BEA5D-575F-4673-9AA8-CB4CB005F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71A0B14-DCD8-4FE4-80B8-D2398D48E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A1D5B3-856A-416E-A143-9F1C1EA8E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0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EC278D-0F4B-48BE-852E-E0D5E19FE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5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6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57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447F0D-0F09-4495-8CB9-A8A640D9F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CA20F-1DEE-4FB0-9161-DA1F6CCA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1F53E-6D74-4531-A8AC-3838A13F1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8C930-B2B6-4115-BB7D-9430EAE90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10402-9A8B-4F4F-9C5C-B9BC01C4D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FBA8E-B95F-4B17-89E1-10BF22B8E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2E30-F8D8-41EC-873A-16827B794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4B42F-6469-4C70-9EB2-90728E6DC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1640E-7E75-4B36-B206-9FC3AE85E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700B9-4E8B-45F5-AD27-58F32924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201A3-4B55-4795-9BF6-792352A0C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2F67F-08E0-4E1B-9220-48FC5549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CF4BF9-976C-4EC6-9396-8E9BBAE08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1EEBE-30FD-4DBC-A455-88D00BA61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0D7CE-5BBA-41C9-A8E0-F6CE69B81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85500A-E498-48ED-A57A-D1248A90A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152151-8584-4E22-BBDF-1E01C9D8B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6456E-FF76-4387-857A-F97B7D2B6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5DAB7D-8776-4211-B137-8F8459FD33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05EE75-BDAD-444D-92CA-9404AE0D8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05438-7660-462A-B6AC-761FB18F4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AFA475-B074-43F2-90D8-81A19B585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607B80-5BE8-4923-8A5F-55FBBD7BDE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C32D39-7CFD-4CAB-920F-5F2F9BDFB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86F244-D8EB-42E4-A766-3C99BCC76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56FE3D-6B50-4A58-9C74-C11F31575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0A41AA-86AE-475E-9567-8B2B5E68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C5052E-9B81-4AEC-9451-A1B13C796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5FFB-69CC-45A6-A34D-40585B3CF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F12096-A20F-4A1C-9FD2-3D69F17B5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A4A779-AC99-46AA-8867-831AA9914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79BD6-538E-4A98-9DE2-D87CB9356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6CFC45-AC05-447D-BA48-E4E8208F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D2573E-AD10-4E30-B87E-A536CB6DF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072BD-1952-49E4-A1F1-EE28D3DB3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3308D4-031F-42C0-88C1-A61879799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B875F8-B2BD-48F1-A46B-EE8985E1B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B360C1-DD16-4EFC-AF51-CC8629F97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EC0491-676B-4F2E-B478-A66D0044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927CB-D8F4-4619-AB7B-61D40DE94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8EE901-01BD-4D06-9EE7-3D582F80E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5AEBB9-F242-41F5-86C1-1E34E17CF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6CD020-1081-4217-98CE-4C440B6BE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A6B52C-6C7C-46B5-8B36-E7304460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9C1EB5-0A73-47F8-9924-CB30CCE28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1841E5-3A12-4CD7-A550-917675DAC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DF6B0D-52D8-4A8C-B231-3EF0943D5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BE8D3A-5D61-4C25-BB39-982371561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6FF5F-3999-4625-A645-E37BC64B1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1C03C0-708E-4CE2-8559-8CB092DF7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40DC2-1BF5-4399-8500-46873020C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C822CE-1468-49D7-85A7-3027468E6D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20DEEB-8FA2-40C7-A8BB-86A3DD915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8DF79-BA0E-4B30-A76B-14D5F064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848332-65AC-4C1D-BA42-D33CEDB2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0472B-591A-41E5-BB88-4B7913369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34943-52D9-411C-8CB9-0ADA82542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7AA05C-4EC5-4EFF-A5CF-C0269D925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C29E29-C4A4-4CE0-B64B-485042976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567725-96A5-445A-926D-01D22AB02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C653B6-42AF-4032-AC95-5F4B71239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1756-A6E8-4456-9B5D-2D098DD7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6661C-8C8C-472B-B95F-527936D8E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2D623B-41C1-4029-A0B8-5A3148DF2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EAD3F-31B3-40FC-9A2C-03911F8A3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974437-7B1C-41CE-93F6-20BB5F62A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2CEE31-58C4-4007-8C01-6B9278B34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E056B4-4C9A-48C0-9F94-70F2FD8B7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6069F3-E221-4197-823B-535D7E9AA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D5D8AA-B0F1-43A1-A367-69232E878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05565A-0400-4D4E-85B1-BFF0A3CC1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EFD0E8-82AF-42CC-887B-64EEC208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685F-2B3F-4710-9ABB-603EE98DF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DCEF18-1E5B-4462-82D6-7EFBAB64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F56359-D80B-41C1-99B3-28E6C8531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4036417-0B9D-4FAC-9F66-196357D163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9EFC4B-E9B0-44A6-BC7F-B182B91E8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1CE9FA-EB76-4DA9-A63C-019D7342C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157F5B-2850-4B49-9A90-3DB2560D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AC85A53-1FF1-4D2D-8D58-188F9CEE2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BF870B-C384-46CD-8763-134B260D0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01B7B5-94B5-4BE4-BA59-C36B0340F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7B80A7-DC5A-4B3E-82E6-846B3B9CF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0E12-3157-4848-B73F-2A86B6750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B7EC0E-7570-464D-BAB1-1BB64E9A0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A0730F-CCB5-4A1E-BEA0-9FFC558D1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C59EAC-6E1C-478B-8FE9-75CE2839C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842451-7738-430E-A477-69DA1EBD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8451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140BE0-FD6B-4721-BC51-D28105265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4810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8451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3EC0EF-3128-4A66-9766-AADDF28D9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4810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8451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CB82E6-3836-4FA2-87D6-E150718B30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BCB9D0-625F-4081-BF77-A757D6740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9BF705-6BB9-45BE-8F4B-31FF56394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52A122-3D24-450E-8081-A56C34CBE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24F60-CA02-4092-ADEC-D0F38E940FD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Freeform 10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16" name="Freeform 15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17" name="Right Triangle 16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18" name="Right Triangle 16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9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20" name="Straight Connector 18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21" name="Chevron 19"/>
          <p:cNvSpPr/>
          <p:nvPr/>
        </p:nvSpPr>
        <p:spPr>
          <a:xfrm>
            <a:off x="86644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2" name="Chevron 20"/>
          <p:cNvSpPr/>
          <p:nvPr/>
        </p:nvSpPr>
        <p:spPr>
          <a:xfrm>
            <a:off x="8477280" y="498780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 type="dt" idx="28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 type="ftr" idx="29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5"/>
          <p:cNvSpPr>
            <a:spLocks noGrp="1"/>
          </p:cNvSpPr>
          <p:nvPr>
            <p:ph type="sldNum" idx="30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A06DB-B34B-4C79-8A29-DE3F5B1AFAD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65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66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467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8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469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 type="dt" idx="31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 type="ftr" idx="32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 type="sldNum" idx="33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3CA24-1BDB-46B1-92E3-C7803F060BC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2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513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514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5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516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 type="dt" idx="3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 type="ftr" idx="3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 type="sldNum" idx="3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C7EFF-F2B0-479D-9923-678714357AF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ight Triangle 10"/>
          <p:cNvSpPr/>
          <p:nvPr/>
        </p:nvSpPr>
        <p:spPr>
          <a:xfrm>
            <a:off x="0" y="4664160"/>
            <a:ext cx="9150480" cy="360"/>
          </a:xfrm>
          <a:prstGeom prst="rtTriangle">
            <a:avLst/>
          </a:prstGeom>
          <a:gradFill rotWithShape="0">
            <a:gsLst>
              <a:gs pos="0">
                <a:srgbClr val="007897"/>
              </a:gs>
              <a:gs pos="50000">
                <a:srgbClr val="4abbe0"/>
              </a:gs>
              <a:gs pos="100000">
                <a:srgbClr val="007897"/>
              </a:gs>
            </a:gsLst>
            <a:lin ang="3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48" name="Group 15"/>
          <p:cNvGrpSpPr/>
          <p:nvPr/>
        </p:nvGrpSpPr>
        <p:grpSpPr>
          <a:xfrm>
            <a:off x="-3240" y="4952880"/>
            <a:ext cx="9147240" cy="1911600"/>
            <a:chOff x="-3240" y="4952880"/>
            <a:chExt cx="9147240" cy="1911600"/>
          </a:xfrm>
        </p:grpSpPr>
        <p:sp>
          <p:nvSpPr>
            <p:cNvPr id="49" name="Freeform 16"/>
            <p:cNvSpPr/>
            <p:nvPr/>
          </p:nvSpPr>
          <p:spPr>
            <a:xfrm>
              <a:off x="1693440" y="4952880"/>
              <a:ext cx="7444440" cy="486720"/>
            </a:xfrm>
            <a:prstGeom prst="pie">
              <a:avLst/>
            </a:prstGeom>
            <a:solidFill>
              <a:srgbClr val="9fcbd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sp>
          <p:nvSpPr>
            <p:cNvPr id="50" name="Freeform 18"/>
            <p:cNvSpPr/>
            <p:nvPr/>
          </p:nvSpPr>
          <p:spPr>
            <a:xfrm>
              <a:off x="44280" y="5236560"/>
              <a:ext cx="9093600" cy="786240"/>
            </a:xfrm>
            <a:prstGeom prst="pi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  <p:grpSp>
          <p:nvGrpSpPr>
            <p:cNvPr id="51" name="Freeform 19"/>
            <p:cNvGrpSpPr/>
            <p:nvPr/>
          </p:nvGrpSpPr>
          <p:grpSpPr>
            <a:xfrm>
              <a:off x="2520" y="4992120"/>
              <a:ext cx="9141480" cy="1872360"/>
              <a:chOff x="2520" y="4992120"/>
              <a:chExt cx="9141480" cy="1872360"/>
            </a:xfrm>
          </p:grpSpPr>
          <p:pic>
            <p:nvPicPr>
              <p:cNvPr id="52" name="Freeform 19" descr=""/>
              <p:cNvPicPr/>
              <p:nvPr/>
            </p:nvPicPr>
            <p:blipFill>
              <a:blip r:embed="rId2"/>
              <a:stretch/>
            </p:blipFill>
            <p:spPr>
              <a:xfrm>
                <a:off x="2520" y="4992120"/>
                <a:ext cx="9141480" cy="1872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" name=""/>
              <p:cNvSpPr/>
              <p:nvPr/>
            </p:nvSpPr>
            <p:spPr>
              <a:xfrm>
                <a:off x="8280" y="50004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 Unicode"/>
                </a:endParaRPr>
              </a:p>
            </p:txBody>
          </p:sp>
        </p:grpSp>
        <p:pic>
          <p:nvPicPr>
            <p:cNvPr id="54" name="Straight Connector 20" descr=""/>
            <p:cNvPicPr/>
            <p:nvPr/>
          </p:nvPicPr>
          <p:blipFill>
            <a:blip r:embed="rId3"/>
            <a:stretch/>
          </p:blipFill>
          <p:spPr>
            <a:xfrm>
              <a:off x="-3240" y="4986000"/>
              <a:ext cx="9147240" cy="814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8f0f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8f0f4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3F8A7-8AB9-4428-9C01-4505DD945DB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97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98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99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01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7FCD2-935F-4F13-B970-FE8441AD2E64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44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45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46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48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49" name="Chevron 10"/>
          <p:cNvSpPr/>
          <p:nvPr/>
        </p:nvSpPr>
        <p:spPr>
          <a:xfrm>
            <a:off x="3637080" y="3005280"/>
            <a:ext cx="182520" cy="228600"/>
          </a:xfrm>
          <a:custGeom>
            <a:avLst/>
            <a:gdLst>
              <a:gd name="textAreaLeft" fmla="*/ 0 w 182520"/>
              <a:gd name="textAreaRight" fmla="*/ 182880 w 1825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0" name="Chevron 15"/>
          <p:cNvSpPr/>
          <p:nvPr/>
        </p:nvSpPr>
        <p:spPr>
          <a:xfrm>
            <a:off x="3449520" y="3005280"/>
            <a:ext cx="184320" cy="228600"/>
          </a:xfrm>
          <a:custGeom>
            <a:avLst/>
            <a:gdLst>
              <a:gd name="textAreaLeft" fmla="*/ 0 w 184320"/>
              <a:gd name="textAreaRight" fmla="*/ 184680 w 184320"/>
              <a:gd name="textAreaTop" fmla="*/ 0 h 228600"/>
              <a:gd name="textAreaBottom" fmla="*/ 2289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800" y="0"/>
                </a:lnTo>
                <a:lnTo>
                  <a:pt x="21600" y="10800"/>
                </a:lnTo>
                <a:lnTo>
                  <a:pt x="10800" y="21600"/>
                </a:lnTo>
                <a:lnTo>
                  <a:pt x="0" y="21600"/>
                </a:lnTo>
                <a:lnTo>
                  <a:pt x="10800" y="10800"/>
                </a:lnTo>
                <a:close/>
              </a:path>
            </a:pathLst>
          </a:custGeom>
          <a:gradFill rotWithShape="0">
            <a:gsLst>
              <a:gs pos="0">
                <a:srgbClr val="1389a6"/>
              </a:gs>
              <a:gs pos="100000">
                <a:srgbClr val="7fc4dd"/>
              </a:gs>
            </a:gsLst>
            <a:lin ang="16200000"/>
          </a:gradFill>
          <a:ln cap="rnd" w="3240">
            <a:solidFill>
              <a:srgbClr val="1e768c"/>
            </a:solidFill>
            <a:miter/>
          </a:ln>
          <a:effectLst>
            <a:outerShdw dist="12600" dir="5400000" blurRad="0" rotWithShape="0">
              <a:srgbClr val="000000">
                <a:alpha val="46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dt" idx="10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ftr" idx="11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sldNum" idx="12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C547-1141-4611-B7BC-44870AF8AEA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193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194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195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6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197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2A09-7068-49EA-AB3C-CC6FDDF4462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 type="dt" idx="16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 type="ftr" idx="17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 type="sldNum" idx="18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BC689-8549-4CD5-8593-BE55510A5867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281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282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283" name="Right Triangle 13" descr=""/>
            <p:cNvPicPr/>
            <p:nvPr/>
          </p:nvPicPr>
          <p:blipFill>
            <a:blip r:embed="rId3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4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285" name="Straight Connector 14" descr=""/>
          <p:cNvPicPr/>
          <p:nvPr/>
        </p:nvPicPr>
        <p:blipFill>
          <a:blip r:embed="rId4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def5fa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def5fa"/>
              </a:solidFill>
              <a:latin typeface="Lucida Sans Unicode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ffffff"/>
              </a:solidFill>
              <a:latin typeface="Lucida Sans Unicod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9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20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1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1423A-0FC6-475E-9316-6519BD8526F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Freeform 12"/>
          <p:cNvSpPr/>
          <p:nvPr/>
        </p:nvSpPr>
        <p:spPr>
          <a:xfrm>
            <a:off x="500040" y="5945040"/>
            <a:ext cx="4940280" cy="920880"/>
          </a:xfrm>
          <a:prstGeom prst="pie">
            <a:avLst/>
          </a:prstGeom>
          <a:solidFill>
            <a:srgbClr val="9fcbd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28" name="Freeform 11"/>
          <p:cNvSpPr/>
          <p:nvPr/>
        </p:nvSpPr>
        <p:spPr>
          <a:xfrm>
            <a:off x="485640" y="5938920"/>
            <a:ext cx="3691080" cy="933480"/>
          </a:xfrm>
          <a:prstGeom prst="pi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Lucida Sans Unicode"/>
            </a:endParaRPr>
          </a:p>
        </p:txBody>
      </p:sp>
      <p:grpSp>
        <p:nvGrpSpPr>
          <p:cNvPr id="329" name="Right Triangle 13"/>
          <p:cNvGrpSpPr/>
          <p:nvPr/>
        </p:nvGrpSpPr>
        <p:grpSpPr>
          <a:xfrm>
            <a:off x="-12600" y="5784840"/>
            <a:ext cx="3414600" cy="1092240"/>
            <a:chOff x="-12600" y="5784840"/>
            <a:chExt cx="3414600" cy="1092240"/>
          </a:xfrm>
        </p:grpSpPr>
        <p:pic>
          <p:nvPicPr>
            <p:cNvPr id="330" name="Right Triangle 13" descr=""/>
            <p:cNvPicPr/>
            <p:nvPr/>
          </p:nvPicPr>
          <p:blipFill>
            <a:blip r:embed="rId2"/>
            <a:stretch/>
          </p:blipFill>
          <p:spPr>
            <a:xfrm>
              <a:off x="-12600" y="5784840"/>
              <a:ext cx="3414600" cy="109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"/>
            <p:cNvSpPr/>
            <p:nvPr/>
          </p:nvSpPr>
          <p:spPr>
            <a:xfrm>
              <a:off x="277920" y="6421320"/>
              <a:ext cx="170028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 Unicode"/>
              </a:endParaRPr>
            </a:p>
          </p:txBody>
        </p:sp>
      </p:grpSp>
      <p:pic>
        <p:nvPicPr>
          <p:cNvPr id="332" name="Straight Connector 14" descr=""/>
          <p:cNvPicPr/>
          <p:nvPr/>
        </p:nvPicPr>
        <p:blipFill>
          <a:blip r:embed="rId3"/>
          <a:stretch/>
        </p:blipFill>
        <p:spPr>
          <a:xfrm>
            <a:off x="-19080" y="5772240"/>
            <a:ext cx="3421080" cy="1109520"/>
          </a:xfrm>
          <a:prstGeom prst="rect">
            <a:avLst/>
          </a:prstGeom>
          <a:ln w="0">
            <a:noFill/>
          </a:ln>
        </p:spPr>
      </p:pic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2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3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4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AB39-6362-4D0F-BED6-5F6910FD52B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464646"/>
                </a:solidFill>
                <a:latin typeface="Lucida Sans Unicode"/>
              </a:rPr>
              <a:t>Click to edit the title text format</a:t>
            </a:r>
            <a:endParaRPr b="1" lang="en-US" sz="4100" spc="-1" strike="noStrike">
              <a:solidFill>
                <a:srgbClr val="464646"/>
              </a:solidFill>
              <a:latin typeface="Lucida Sans Unicode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400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4" marL="1371600" indent="-228600">
              <a:spcBef>
                <a:spcPts val="400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5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6" marL="1371600" indent="-228600">
              <a:spcBef>
                <a:spcPts val="4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5"/>
          </p:nvPr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6"/>
          </p:nvPr>
        </p:nvSpPr>
        <p:spPr>
          <a:xfrm>
            <a:off x="437940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27"/>
          </p:nvPr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F850F-769B-4FAD-98D2-D11173202F7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Title 1" descr=""/>
          <p:cNvPicPr/>
          <p:nvPr/>
        </p:nvPicPr>
        <p:blipFill>
          <a:blip r:embed="rId1"/>
          <a:stretch/>
        </p:blipFill>
        <p:spPr>
          <a:xfrm>
            <a:off x="682560" y="1596960"/>
            <a:ext cx="8053560" cy="1994040"/>
          </a:xfrm>
          <a:prstGeom prst="rect">
            <a:avLst/>
          </a:prstGeom>
          <a:ln w="0">
            <a:noFill/>
          </a:ln>
        </p:spPr>
      </p:pic>
      <p:sp>
        <p:nvSpPr>
          <p:cNvPr id="559" name="PlaceHolder 1"/>
          <p:cNvSpPr>
            <a:spLocks noGrp="1"/>
          </p:cNvSpPr>
          <p:nvPr>
            <p:ph type="subTitle"/>
          </p:nvPr>
        </p:nvSpPr>
        <p:spPr>
          <a:xfrm>
            <a:off x="1371600" y="3331800"/>
            <a:ext cx="6400800" cy="2668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Update and comments on the agend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Ezio Távora dos Santos Fil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15</a:t>
            </a:r>
            <a:r>
              <a:rPr b="0" lang="en-US" sz="2700" spc="-1" strike="noStrike" baseline="30000">
                <a:solidFill>
                  <a:srgbClr val="464646"/>
                </a:solidFill>
                <a:latin typeface="Lucida Sans Unicode"/>
              </a:rPr>
              <a:t>th</a:t>
            </a: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 STOP TB PARTNERSHIP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464646"/>
                </a:solidFill>
                <a:latin typeface="Lucida Sans Unicode"/>
              </a:rPr>
              <a:t>Coordinating Board Meeting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reation of the National Committee for the Partners’ Forum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1st meeting on Sept.4th, 2008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Confirming commitments, sharing responsibilitie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Municipality Gov: Convention center negotiations, Municipal HCC site visits (TBC)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State Gov: Security, transportation, Welcome Reception, site visits State HCC Greater Rio; emergency support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Sans Unicode"/>
              </a:rPr>
              <a:t>Federal Gov: hiring convention center’s equipment and furnishing, process of visas and reception authorities.</a:t>
            </a: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lnSpc>
                <a:spcPct val="90000"/>
              </a:lnSpc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2nd meeting Sept.18th, 2008; Sept.30</a:t>
            </a:r>
            <a:r>
              <a:rPr b="0" lang="en-US" sz="2300" spc="-1" strike="noStrike" baseline="30000">
                <a:solidFill>
                  <a:srgbClr val="000000"/>
                </a:solidFill>
                <a:latin typeface="Lucida Sans Unicode"/>
              </a:rPr>
              <a:t>th</a:t>
            </a: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 virtual meets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lvl="2" marL="85896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Lucida Sans Unicode"/>
              </a:rPr>
              <a:t>Following up in organizing aspects</a:t>
            </a:r>
            <a:endParaRPr b="0" lang="en-US" sz="2100" spc="-1" strike="noStrike">
              <a:solidFill>
                <a:srgbClr val="000000"/>
              </a:solidFill>
              <a:latin typeface="Lucida Sans Unicode"/>
            </a:endParaRPr>
          </a:p>
          <a:p>
            <a:pPr lvl="3" marL="1143000" indent="-228600">
              <a:lnSpc>
                <a:spcPct val="90000"/>
              </a:lnSpc>
              <a:spcBef>
                <a:spcPts val="349"/>
              </a:spcBef>
              <a:buClr>
                <a:srgbClr val="da1f28"/>
              </a:buClr>
              <a:buFont typeface="Wingdings 2" charset="2"/>
              <a:buChar char="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BCC29-706B-4B72-B982-4DC5D97DFDE1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Brazilian Partnership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AHO-WHO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inistry of Foreign Affair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Governor’s Cabine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Securit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State Secretary of Welfare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Municipal Secretary of Healt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cademia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lnSpc>
                <a:spcPct val="90000"/>
              </a:lnSpc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6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687CC-DFC1-444C-B67F-D151E5FAEE33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6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arnival initiative as from December Schools of Samba rehearsals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Distribution of information along Summer and during the Carnival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Info in train stations, subway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1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2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3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E0EFB-8650-4B11-824A-699F4DC03535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4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 txBox="1"/>
          <p:nvPr/>
        </p:nvSpPr>
        <p:spPr>
          <a:xfrm>
            <a:off x="457200" y="1481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Art exposition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lvl="1" marL="620640" indent="-228600">
              <a:spcBef>
                <a:spcPts val="326"/>
              </a:spcBef>
              <a:buClr>
                <a:srgbClr val="2da2bf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Lucida Sans Unicode"/>
              </a:rPr>
              <a:t>Art curator to organize expo; photography expo</a:t>
            </a:r>
            <a:endParaRPr b="0" lang="en-US" sz="23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Popular art in subway station 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TB Parade on Sunday 22</a:t>
            </a:r>
            <a:r>
              <a:rPr b="0" lang="en-US" sz="2700" spc="-1" strike="noStrike" baseline="30000">
                <a:solidFill>
                  <a:srgbClr val="000000"/>
                </a:solidFill>
                <a:latin typeface="Lucida Sans Unicode"/>
              </a:rPr>
              <a:t>nd</a:t>
            </a: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, Copacabana Beach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  <a:p>
            <a:pPr marL="365040" indent="-255600">
              <a:spcBef>
                <a:spcPts val="400"/>
              </a:spcBef>
              <a:buClr>
                <a:srgbClr val="2da2bf"/>
              </a:buClr>
              <a:buSzPct val="68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Lucida Sans Unicode"/>
              </a:rPr>
              <a:t>Concert</a:t>
            </a:r>
            <a:endParaRPr b="0" lang="en-US" sz="27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6" name="Date Placeholder 3"/>
          <p:cNvSpPr/>
          <p:nvPr/>
        </p:nvSpPr>
        <p:spPr>
          <a:xfrm>
            <a:off x="6727680" y="6408720"/>
            <a:ext cx="19195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10/28/2008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7" name="Footer Placeholder 4"/>
          <p:cNvSpPr/>
          <p:nvPr/>
        </p:nvSpPr>
        <p:spPr>
          <a:xfrm>
            <a:off x="4379760" y="6408720"/>
            <a:ext cx="23511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Ezio T. Santos-Filho 15th STP CB - Bagamoyo, Tanzania</a:t>
            </a:r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sp>
        <p:nvSpPr>
          <p:cNvPr id="578" name="Slide Number Placeholder 5"/>
          <p:cNvSpPr/>
          <p:nvPr/>
        </p:nvSpPr>
        <p:spPr>
          <a:xfrm>
            <a:off x="8647200" y="6408720"/>
            <a:ext cx="366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45B14-3B2B-4C40-9CE8-3AA2FE61C112}" type="slidenum">
              <a:rPr b="0" lang="en-US" sz="1000" spc="-1" strike="noStrike">
                <a:solidFill>
                  <a:srgbClr val="000000"/>
                </a:solidFill>
                <a:latin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Lucida Sans Unicode"/>
            </a:endParaRPr>
          </a:p>
        </p:txBody>
      </p:sp>
      <p:pic>
        <p:nvPicPr>
          <p:cNvPr id="579" name="Title 1" descr=""/>
          <p:cNvPicPr/>
          <p:nvPr/>
        </p:nvPicPr>
        <p:blipFill>
          <a:blip r:embed="rId1"/>
          <a:stretch/>
        </p:blipFill>
        <p:spPr>
          <a:xfrm>
            <a:off x="195120" y="268200"/>
            <a:ext cx="849816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8T03:23:50Z</dcterms:created>
  <dc:creator>Ezio T. Santos Filho</dc:creator>
  <dc:description/>
  <dc:language>en-US</dc:language>
  <cp:lastModifiedBy>Ezio T. Santos Filho</cp:lastModifiedBy>
  <dcterms:modified xsi:type="dcterms:W3CDTF">2008-10-28T06:06:53Z</dcterms:modified>
  <cp:revision>15</cp:revision>
  <dc:subject/>
  <dc:title>Partners’ forum 2009</dc:title>
</cp:coreProperties>
</file>