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997D-95E5-4DB0-ACAA-36F3F4DE2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9E36-43A4-42C3-B110-19A9D53911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B5C6-882F-4E1A-99F7-59DE8FD9D4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8287-EE59-4EC8-BF84-9762F11665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1F54-8BE7-45D7-A5FA-4801EB7681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4914-FC87-4383-AD05-09B1057D68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detection Rate-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Success rate-T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E888-0462-473A-808D-82807D734F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d through FIND, PIH and WHO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F642-E028-4D87-99A4-F0848C28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C6F-A878-4E1C-B603-C7478C85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5F3-74D5-4C5F-8280-9E5CBF1E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11B-0E66-4506-86AC-FB58FB90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F7AE-57B7-4695-8E52-CA2C6A7B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823-09A5-4C02-8949-C730F3EA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68AD-F0F4-4618-BE0C-F8AAC486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2FC-E575-4D4B-B9F4-D79BBEEB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13B-EEE9-4BCF-BE89-05DE796B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BC08-6264-43EA-81ED-E773E997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77B1-D0CE-49A3-9844-A02667AF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0434-8B4D-4226-8D49-88D9BB60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2F42-158F-4A9B-AE4A-E823E0F92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es_flag"/>
          <p:cNvPicPr/>
          <p:nvPr/>
        </p:nvPicPr>
        <p:blipFill>
          <a:blip r:embed="rId2"/>
          <a:stretch/>
        </p:blipFill>
        <p:spPr>
          <a:xfrm>
            <a:off x="7596360" y="260280"/>
            <a:ext cx="1161720" cy="86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gov Logo"/>
          <p:cNvPicPr/>
          <p:nvPr/>
        </p:nvPicPr>
        <p:blipFill>
          <a:blip r:embed="rId3"/>
          <a:stretch/>
        </p:blipFill>
        <p:spPr>
          <a:xfrm>
            <a:off x="250920" y="0"/>
            <a:ext cx="1127160" cy="107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47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640" y="2276280"/>
            <a:ext cx="7488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top TB Partnership Board Meeting   28-29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agamoyo-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nourable Minister of Health and Social Welfare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D178-F6DB-4CD6-9357-0BF28BF13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R-TB Situation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80% HIV co-infection in all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the art TB lab with liquid culture &amp;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ine D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art MDR-TB hospital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ar test facilities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283E-1535-4C85-AAA0-0A0CEAC29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561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 to HIV/MDR-TB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,586 on ARVs (35,629 Adults &amp;2,957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Urban and rural health facilities provide AR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co-infected MDR-TB patients on ARVs regardless of CD4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Home based care provided for stable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1093-122F-497D-8128-28FE21BC3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/HIV collaboration: Achievements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TB/HIV Coordinating Committee established at nation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technical working group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collaboration policy and strategic plan 2008-2014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 building for Health Care Workers on TB/HIV collaborati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ntralized TB/HIV services nation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52E5-8BBF-48FF-825A-B8D9DDF27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570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TC of TB patients by distr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800" y="16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68360" y="1646280"/>
            <a:ext cx="7632720" cy="4230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A786-11AE-4DB0-BB8D-88621F421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vision of CPT to TB patients 2007 by distr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800" y="18151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68360" y="1467000"/>
            <a:ext cx="7848720" cy="441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511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E33E-3352-4D9E-BE2B-87DE3D23D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vision of ART to TB patients i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24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F9F8-E74F-47CD-9593-41E5D3CFE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for TB/HIV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900000" y="1317600"/>
          <a:ext cx="698508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17600"/>
                    <a:ext cx="698508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03F0-99B6-4842-B5F3-915A1C614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entralization of TB/HIV services to the community leve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TB/HIV collaborative interventions for all dually infected Basot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Human  Resources to provide TB/HIV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Cross boarder issues relating to implementation of TB &amp; TB/HIV control activities among migrant wor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54EC-3A0B-4C29-9981-AE130D0A2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decentralization of TB/HIV services to the community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-up TB/HIV collaborative interventions through expansion of public-private partnership; involvement &amp; full participation of civil society &amp; PL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OHSW, in collaboration with development partners working on ways to improve the Human  Resource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armonization of protocols with all neighbouring countries especiall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30C3-9CCE-4B78-8740-36127A43E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H Collaborating Partners in the fight against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TON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13C5-75CD-43E6-89C9-0E5F7F2A8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/HIV Collabor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314A-A77B-49F0-B7A9-C96DD341B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is land –locked b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population 1,880,6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% aged 0-1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% aged 15-6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% aged 65 and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% active males work in the RSA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% live below poverty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027F-D1F8-44E4-8644-3821C2939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ealth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CHWs 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Health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hospitals (3 private hospi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ferral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R-TB refer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CC62-5EE1-4193-AA17-98CD11476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6048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ational TB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established in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es under the Disease Control Unit (D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-course chemotherapy (SCC) introduced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control activities are integrated within the Primary Health Care (PHC) system, and are decentralized to the country’s 10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is aligned with strategic plan for 2008 – 2012  in line with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drugs are provided free of charge to patients, irrespective of where they are diagnosed or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% DOTS co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FDF7-D97A-4AC2-9D39-46EFC8BB6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NTP co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DF supports Lesotho with grant of anti-TB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LC approval obtained in 2007 for second line drugs for MDR-TB-  300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OL has established partnership with the NGOs and private sector for DOTS implementation (CHAL and G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9BAE-1253-44BF-8D8A-597F1DB0F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337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 situation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300 cases of all forms of TB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: 635 per 100,000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278 (30%) New smea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se Detection Rat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1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success rate is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3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 Mortality – 107 per 100,000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prevalence among TB patients –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10BA-1B71-4014-AE89-347B69130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nd TB case detection &amp;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success rates 2002-200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042920" y="1647720"/>
          <a:ext cx="70581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47720"/>
                    <a:ext cx="70581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142B-A35B-42CD-BCEB-97ED18766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Arial"/>
              </a:rPr>
              <a:t>MDR-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06 emergency plan to address MDR-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9 MDR-TB patients registered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30% of the  MDR-TB patients are migrant workers- the rest can be traced to the same migrant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1:08:02Z</dcterms:created>
  <dc:creator>User</dc:creator>
  <dc:description/>
  <dc:language>en-US</dc:language>
  <cp:lastModifiedBy>cafeinternet</cp:lastModifiedBy>
  <dcterms:modified xsi:type="dcterms:W3CDTF">2008-10-29T10:02:19Z</dcterms:modified>
  <cp:revision>59</cp:revision>
  <dc:subject/>
  <dc:title>TB/HIV SITUATION IN LESOTHO</dc:title>
</cp:coreProperties>
</file>