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691813" cy="7559675"/>
  <p:notesSz cx="9223375" cy="7005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13496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66648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60344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13496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66648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13496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666480" y="154620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60344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13496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666480" y="1893960"/>
            <a:ext cx="2410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748656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534600" y="301320"/>
            <a:ext cx="9622440" cy="58518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66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439600" y="189396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0344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39600" y="1546200"/>
            <a:ext cx="365328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03440" y="1893960"/>
            <a:ext cx="7486560" cy="31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BE34030-1E55-453E-BF3A-7BC0C8CDD588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26028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3840" indent="2174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85840" indent="17316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24040" y="873000"/>
            <a:ext cx="8721720" cy="46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nzania, 28 October 2008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Jean-François de Lavison,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érieux All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atti Ojanen, AstraZenec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Lakshmi Sundaram, World Economic Fo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784160" y="1523880"/>
            <a:ext cx="8908920" cy="53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Approaches to addressing ga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50000"/>
              </a:lnSpc>
              <a:spcBef>
                <a:spcPts val="524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ivate Sector Constituency could be more effective if it works more closely its activities with other Stop TB partne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gage professional and business associations on T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everage regional and industry specific meetings with targeted advocacy messag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ap private sector activities with gaps in Global Pla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519200" y="1282680"/>
            <a:ext cx="9174240" cy="59850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307360" y="3238560"/>
            <a:ext cx="2046240" cy="13651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861080" y="5870520"/>
            <a:ext cx="2207880" cy="961920"/>
          </a:xfrm>
          <a:prstGeom prst="roundRect">
            <a:avLst>
              <a:gd name="adj" fmla="val 16667"/>
            </a:avLst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168800" y="2571840"/>
            <a:ext cx="3657600" cy="32223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176800" y="3300480"/>
            <a:ext cx="1611360" cy="1287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800000" y="263160"/>
            <a:ext cx="8893080" cy="117468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New partners are needed to scale up ongoing activities and secure geographic expansion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1754280" y="3267000"/>
            <a:ext cx="2133360" cy="916920"/>
            <a:chOff x="1754280" y="3267000"/>
            <a:chExt cx="2133360" cy="916920"/>
          </a:xfrm>
        </p:grpSpPr>
        <p:sp>
          <p:nvSpPr>
            <p:cNvPr id="119" name=""/>
            <p:cNvSpPr/>
            <p:nvPr/>
          </p:nvSpPr>
          <p:spPr>
            <a:xfrm>
              <a:off x="1754280" y="3268800"/>
              <a:ext cx="2133360" cy="91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1968120" y="3267000"/>
              <a:ext cx="17305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Business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Associations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GBC…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4896000" y="6046920"/>
            <a:ext cx="20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rofessional 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433480" y="3652920"/>
            <a:ext cx="118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lec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Me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8450640" y="3276720"/>
            <a:ext cx="167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v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FC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792680" y="1415880"/>
            <a:ext cx="2286000" cy="854280"/>
          </a:xfrm>
          <a:prstGeom prst="ellipse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505840" y="161280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762360" y="3662280"/>
            <a:ext cx="1424160" cy="486000"/>
          </a:xfrm>
          <a:prstGeom prst="leftArrow">
            <a:avLst>
              <a:gd name="adj1" fmla="val 50000"/>
              <a:gd name="adj2" fmla="val 73259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03840" y="4572000"/>
            <a:ext cx="486000" cy="1208160"/>
          </a:xfrm>
          <a:prstGeom prst="downArrow">
            <a:avLst>
              <a:gd name="adj1" fmla="val 50000"/>
              <a:gd name="adj2" fmla="val 62148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88160" y="3681360"/>
            <a:ext cx="1517760" cy="501840"/>
          </a:xfrm>
          <a:prstGeom prst="rightArrow">
            <a:avLst>
              <a:gd name="adj1" fmla="val 50000"/>
              <a:gd name="adj2" fmla="val 7561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686560" y="2138400"/>
            <a:ext cx="485640" cy="1177920"/>
          </a:xfrm>
          <a:prstGeom prst="upArrow">
            <a:avLst>
              <a:gd name="adj1" fmla="val 50000"/>
              <a:gd name="adj2" fmla="val 60638"/>
            </a:avLst>
          </a:prstGeom>
          <a:solidFill>
            <a:srgbClr val="ffff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32400" y="2513160"/>
            <a:ext cx="3111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World Economic Fo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Secretari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469240" y="530856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558160" y="244008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595280" y="543240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858800" y="2517840"/>
            <a:ext cx="1779480" cy="6426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Private Secto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Arial"/>
              </a:rPr>
              <a:t>Constituenc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724040" y="873000"/>
            <a:ext cx="8721720" cy="37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anzania, 28 October 2008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66"/>
                </a:solidFill>
                <a:latin typeface="Arial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4160" y="1141560"/>
            <a:ext cx="8383320" cy="61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9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Corporate Sector Board seat since Oct 200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Two board seats on European Partnership since 2006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Secretariat role played by World Economic Forum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Olivier Raynaud : Senior Director for Healt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Lakshmi Sundaram : Associate Director, Global Health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Steering committee of Partners Foru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Steering committee for Global Plan Progress Repor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haloo Puri  : Head, India Business Alliance, Global Health Initiativ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Chair of the Business Engagement Task For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PPM subgroup of DOTS expansion work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core group of ACS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TB and poverty sub-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drug resistance mobilisation subgroup of MDR-TB W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00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Member of the TB/HIV working grou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476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Arial"/>
              </a:rPr>
              <a:t>Elections of board representatives every 2 yea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lection held in October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oard member : Jean-Francois de Lavi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nternational Affairs and Global Health Corporate Vice Presiden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érieux Alli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Diagnostic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Vaccine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Retooling Task 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Business Advisory Committee GD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TB &amp; Poverty sub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ternate  : Matti Ojanen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irector, International Affairs and Public Policy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straZene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Core Group of AC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New Drugs Working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business engagement taskfo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spcBef>
                <a:spcPts val="34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- Member of the steering committee for the Partners For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Private Sector Interest in TB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0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0104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The Business Response to TB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, David Bloom (Harvard School of Public Health), 200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nalysis of data from Forum’s 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Executive Opinion Surv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atest survey completed by over 11,000 business leaders worldwi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4: nearly one-quarter reported TB was affecting their busin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2007: nearly one-third expect TB to affect business in next five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cern over future impact of TB has increased, but reached plate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mpanies in countries hard hit by AIDS are particularly worried about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01040" indent="-40104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crease in concern driven by companies in upper-middle and higher income settings – growing awareness of globalisation of health proble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773000" y="317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How Can and Does the Private Sector Contribute to TB Control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ew and improved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orking in partnership to develop drugs, vaccines and diagnostics for 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evention and treatment programm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for own employees, communities and employees of related companies (e.g. companies in their supply chai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ice provid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rivate clinics, practitioners, hospitals and health insurance provid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dvocacy; communication; social mobil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Business mindset and skil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e.g. procurement, delivery, marketing, performance-driven, results-orien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ing best practices between compan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everaging communities of busine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pecific examples to follow from GBC present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Miss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ring business perspectives, input, expertise, resources to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uild a community of companies with a commitment to TB contr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hare information within Partnership to stimulate collabor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28440" y="29016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ole of the World Economic Forum: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ecent TB specific examples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high-level networking/advocacy opportunitie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dia Business Alliance (current focus on TB; 35 companies; reaching &gt; 4 milli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Report </a:t>
            </a:r>
            <a:r>
              <a:rPr b="0" i="1" lang="en-GB" sz="2300" spc="-1" strike="noStrike">
                <a:solidFill>
                  <a:srgbClr val="000000"/>
                </a:solidFill>
                <a:latin typeface="Arial"/>
              </a:rPr>
              <a:t>The Business Response to TB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edia Advisory Board (sensitising media leaders on TB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oolkits for companies in South Africa and China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aunch in Forum’s regional summits; media attention e.g. 30 min TV interview on SABC new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Interest from Ministry of Labour in South Africa to use toolkit for all government employe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utreach (e.g. ICMM panel in London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784160" y="1292040"/>
            <a:ext cx="8908920" cy="56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y activities of Private Sector board memb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viding a platform for private sector dialogue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va, April 2007 (30 ppl), Berlin, October 2007 (15 ppl), Cairo, June 2008 (45 pp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couraging and supporting high-level discussions on TB with private secto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Meeting between Ban Ki-Moon and 18 CEOs (October 200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LF, EDMA (June 2009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orting business participation in Pacific Health Summit (June 200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reating links with Business School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ject with E.M. Ly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rest from Harvard Business School and INS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784160" y="1523880"/>
            <a:ext cx="8908920" cy="539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6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Gaps</a:t>
            </a:r>
            <a:r>
              <a:rPr b="1" lang="en-GB" sz="25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eed to continue building up the constituency, to bring in new companies and encourage greater engagement from existing member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5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networking/advocacy opportunities with Stop TB and business constitu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Need to find new ways to ‘sell’ TB to busines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Marie-France Roger</dc:creator>
  <dc:description/>
  <cp:keywords/>
  <dc:language>en-US</dc:language>
  <cp:lastModifiedBy>bakerl</cp:lastModifiedBy>
  <dcterms:modified xsi:type="dcterms:W3CDTF">2008-11-04T12:17:29Z</dcterms:modified>
  <cp:revision>124</cp:revision>
  <dc:subject/>
  <dc:title>Slide 1</dc:title>
</cp:coreProperties>
</file>