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86B5-2E6D-4EC0-BF27-076FA1027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0BDD5-36FA-45EE-9750-45485B5F7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0CAA-8610-4724-BD06-C49F45157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2B52-CFF2-4857-A3F1-AE9B876B4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9AFD-6A56-4F84-A95F-807FC220D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018D-D45A-4484-9F2B-F22EEB65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154F0-933E-41FA-B3EA-A48443F44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EBFF-6F4D-4904-B862-1C013A18E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5FC46-B165-4F6F-AE8B-629CC32B6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020A7-DA18-48D4-ACFE-1DC75568B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6B12-C965-48B2-822E-CF36C683A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29FE-70D1-4D19-ACA5-EF587594B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2ACC8-FDF4-401F-AA96-1C518CA66A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jpeg"/><Relationship Id="rId8" Type="http://schemas.openxmlformats.org/officeDocument/2006/relationships/image" Target="../media/image4.jpeg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6.wmf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2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2.jpeg"/><Relationship Id="rId5" Type="http://schemas.openxmlformats.org/officeDocument/2006/relationships/image" Target="../media/image7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2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2.jpeg"/><Relationship Id="rId1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0" y="1383840"/>
            <a:ext cx="9144000" cy="47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Ministerial Meeting to Reach the </a:t>
            </a:r>
            <a:br>
              <a:rPr sz="3600"/>
            </a:b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Millennium Development Goals for T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Confronting MDR-TB and XDR-T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-3 April 2009, Beijing,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  <a:ea typeface="宋体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 Stop TB Partnership Coordinating Board Meetin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8-29 October 2008, Bagamoyo,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tion ahead: post-Beij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79280" y="1700280"/>
            <a:ext cx="8640720" cy="47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acific Health Summit on MDR-TB, June 2009, Seattle, USA, with focus on privat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nion Asia Pacific Region Conference on MDR-TB, September 2009, Beijing, Chin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ld Conference on Lung Health, October 2009, Cancun, Mexic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ld Health Assembly 2010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untry 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Stop TB Coordinating Board is asked to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orse the aims and the proces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ain all Partners' support to WHO and ensure highest level participation in Beij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date high-level missions to selected priority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ain support from Partners to mobilize political commitment and support technical plann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btain support from technical Partners to address policies towards bottlenec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date contribution of Partners' Forum to support development of a Call for Action from Civil Socie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ssist in development of "asks" to all key agenc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Probl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5640" y="1628640"/>
            <a:ext cx="5003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00,000 new MDR-TB cases annu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DR-TB in 50 countri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5% of MDR-TB cases detected in 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% of MDR-TB cases projected to be treated in 2008 and 3% only under GLC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bout 85% of the global MDR-TB burden in 27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5327640" y="2060640"/>
            <a:ext cx="3565440" cy="41050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95040" y="6524640"/>
            <a:ext cx="469800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urces: Global TB Report, 2008 and IV Global DRS Report,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572000" y="2992320"/>
          <a:ext cx="4500720" cy="317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2992320"/>
                    <a:ext cx="4500720" cy="317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-2700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Arial"/>
              </a:rPr>
              <a:t>Global 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4920" y="1523880"/>
          <a:ext cx="5761080" cy="4065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4920" y="1523880"/>
                    <a:ext cx="5761080" cy="406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6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27 high MDR-TB burden count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20800" y="191628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hi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ssian Fede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glade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uth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kra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done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ilipp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ge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zbe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mocratic Republic of Con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azakhsta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et N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32360" y="1844640"/>
            <a:ext cx="3384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thiop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yanm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jiki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zerbaij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public of Mold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yrgyzst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lar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org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lgar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thua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rme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tv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 startAt="1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ton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 Brasil , Thail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Ration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50920" y="1701360"/>
            <a:ext cx="864216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 2008: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XDR-TB Task Force recommended WH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o convene a meeting with the 27 high priority MDR-TB countries to increase political commitment and tackle bottlenecks hampe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May 2008: Stop TB CB supported th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June 2008: STA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 urged WHO to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raise political commitment and action in the 27 priority MDR-TB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June 2008: the Global Leaders Forum on HIV/TB defined MDR-TB and XDR-TB as threats to global health security and to HIV/AIDS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Past experiences on DOTS Expansion globally (Amsterdam &amp; Cairo 2000) and in China (Xi'an 2004) show effectiveness of political ca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7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ims of the ministerial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95280" y="1915920"/>
            <a:ext cx="453708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strengthen political commitment and build engagement by governments and international community to control M/XDR-TB through better TB control and M/XDR-TB c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use catalytically the event to (i) support countries to develop M/XDR-TB control plans and (ii) address the bottlenecks hampering prog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5"/>
          <a:stretch/>
        </p:blipFill>
        <p:spPr>
          <a:xfrm>
            <a:off x="611280" y="1916280"/>
            <a:ext cx="320976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Bottlenec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4920" y="1844640"/>
            <a:ext cx="4619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rive towards solutions to bottlenecks in areas such 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ti-TB SLD drug market, quality, procurement, and rational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boratory capacity and rapid diagnostic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fection contro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uman resources and models of care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ment of private pract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tient and community rights and responsib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4716360" y="1928880"/>
            <a:ext cx="4356360" cy="434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ction ahead: pre-Beij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8353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49"/>
              </a:spcBef>
              <a:buSzPct val="10282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verarching strategy finaliz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ttlenecks consultations and pap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Modelling to predict evolution of epidemi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ner engagement and "asks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untry level advocacy and technical assistance for plann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ement of civil society and PF call for a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ion strateg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SzPct val="10282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claration to be develop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0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5336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Beijing Meet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524720" y="6308640"/>
            <a:ext cx="1476360" cy="4539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rganized by WHO with the Ministry of Health of the People's Republic of China and Bill &amp; Melinda Gates Found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宋体"/>
              </a:rPr>
              <a:t>About 180 participants invited: 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inisterial delegations, multilateral agencies, bilateral donors, technical agencies and NGOs, civil society, research community and corporate sect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eeting agenda outline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Day 1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: High-level political meeting involving high-profile leaders and Ministers from the 27 countries+. Beijing declaration endor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Day 2 &amp; 3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: Technical meeting between Ministry of Health officials, NTP managers, and partners addressing planning and country-specific bottlenec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12:21:39Z</dcterms:created>
  <dc:creator>bailliep</dc:creator>
  <dc:description/>
  <dc:language>en-US</dc:language>
  <cp:lastModifiedBy>raviglionem</cp:lastModifiedBy>
  <dcterms:modified xsi:type="dcterms:W3CDTF">2008-10-23T19:48:57Z</dcterms:modified>
  <cp:revision>5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