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wmf" ContentType="image/x-wmf"/>
  <Override PartName="/ppt/media/image4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6.wmf" ContentType="image/x-wmf"/>
  <Override PartName="/ppt/media/image1.jpeg" ContentType="image/jpeg"/>
  <Override PartName="/ppt/media/image7.png" ContentType="image/png"/>
  <Override PartName="/ppt/media/image11.wmf" ContentType="image/x-wmf"/>
  <Override PartName="/ppt/media/image3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move the slide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EE0D-9B67-49C1-B99F-8BDB9212E9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2320" y="744480"/>
            <a:ext cx="4960800" cy="372132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Global TBTEAM Secretariat is being housed in the Stop TB department (TB strategies and health systems) at WHO/HQ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In a similar way as the secretariats of the Stop TB Partnership working groups  (DEWG, TB/HIV, and MDR-TB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regional TBTEAM secretariat is housed within WHO Regional office as part of the regional STBP/Interagency coordinating committee  (WPRO, SEARO, EURO) + AFRO, AMR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national TBTEAM secretariat is housed within the NTP or National ICC or main partner organization based in the country (WHO, Union, CDC, GLRA, KNCV, Damien Foundation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979640" y="240840"/>
            <a:ext cx="665640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wmf"/><Relationship Id="rId11" Type="http://schemas.openxmlformats.org/officeDocument/2006/relationships/image" Target="../media/image7.png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79640" y="240840"/>
            <a:ext cx="665640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549720" indent="-21132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8456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1840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1522440" indent="-16884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" name="" descr=""/>
          <p:cNvPicPr/>
          <p:nvPr/>
        </p:nvPicPr>
        <p:blipFill>
          <a:blip r:embed="rId10"/>
          <a:stretch/>
        </p:blipFill>
        <p:spPr>
          <a:xfrm>
            <a:off x="254160" y="6381720"/>
            <a:ext cx="1149120" cy="352440"/>
          </a:xfrm>
          <a:prstGeom prst="rect">
            <a:avLst/>
          </a:prstGeom>
          <a:ln w="0">
            <a:noFill/>
          </a:ln>
        </p:spPr>
      </p:pic>
      <p:pic>
        <p:nvPicPr>
          <p:cNvPr id="3" name="" descr=""/>
          <p:cNvPicPr/>
          <p:nvPr/>
        </p:nvPicPr>
        <p:blipFill>
          <a:blip r:embed="rId11"/>
          <a:stretch/>
        </p:blipFill>
        <p:spPr>
          <a:xfrm>
            <a:off x="7451640" y="6453360"/>
            <a:ext cx="1368360" cy="285480"/>
          </a:xfrm>
          <a:prstGeom prst="rect">
            <a:avLst/>
          </a:prstGeom>
          <a:ln w="0">
            <a:noFill/>
          </a:ln>
        </p:spPr>
      </p:pic>
      <p:sp>
        <p:nvSpPr>
          <p:cNvPr id="4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825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2fa3dd"/>
                </a:solidFill>
                <a:latin typeface="Franklin Gothic Demi"/>
              </a:rPr>
              <a:t>Click to edit the title text format</a:t>
            </a:r>
            <a:endParaRPr b="1" lang="en-US" sz="44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2978280" y="2349360"/>
            <a:ext cx="3160440" cy="3049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lnSpc>
                <a:spcPct val="90000"/>
              </a:lnSpc>
              <a:spcBef>
                <a:spcPts val="499"/>
              </a:spcBef>
              <a:spcAft>
                <a:spcPts val="1500"/>
              </a:spcAft>
              <a:buClr>
                <a:srgbClr val="2fa3dd"/>
              </a:buClr>
              <a:buSzPct val="50000"/>
              <a:buFont typeface="Tahoma"/>
              <a:buChar char="o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Tahom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-181080" y="259920"/>
            <a:ext cx="9506160" cy="1685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and Global Fund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15th Stop TB Partnership Coordinating Board </a:t>
            </a:r>
            <a:br>
              <a:rPr sz="3200"/>
            </a:b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28-29 October 2008, Bagamoyo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39640" y="556416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spcAft>
                <a:spcPts val="21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Dr Leopold Blanc, Coordinator, TB Strategy and Health Systems, Stop TB Department, WH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979640" y="223920"/>
            <a:ext cx="665640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Linking countries with technical assistance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699920"/>
            <a:ext cx="8178840" cy="4824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Echnical Assistance Mechanism of the Stop TB Partnership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TBTEAM ensures that sufficient access to rational, high quality technical assistance allows countries to implement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international standards for TB control and care in line with the Stop TB Strategy and to achieve global targets for TB contro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vides platform for coordination of TB technical assistance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70000"/>
              </a:lnSpc>
              <a:spcBef>
                <a:spcPts val="451"/>
              </a:spcBef>
              <a:spcAft>
                <a:spcPts val="1349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TBTEAM tools: missions/events, TB experts, partner mapp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Based national coordination, facilitated by regional coordination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  <a:ea typeface="SimSun"/>
              </a:rPr>
              <a:t>Network of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Stop TB partners (National TB Programmes, Local and international NGOs, Financial partners, WHO at country, regional and global level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atch needs to existing fu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spcAft>
                <a:spcPts val="1500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  <a:ea typeface="SimSun"/>
              </a:rPr>
              <a:t>Mobilize funds where there are ga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752480"/>
            <a:ext cx="1981440" cy="144792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1676520"/>
            <a:ext cx="1981080" cy="1447560"/>
          </a:xfrm>
          <a:prstGeom prst="ellipse">
            <a:avLst/>
          </a:prstGeom>
          <a:solidFill>
            <a:srgbClr val="6699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39640" y="0"/>
            <a:ext cx="6181560" cy="954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1007c1"/>
                </a:solidFill>
                <a:latin typeface="Arial"/>
                <a:ea typeface="Arial"/>
              </a:rPr>
              <a:t>TBTEAM structure at country, regional and global level</a:t>
            </a:r>
            <a:endParaRPr b="1" lang="en-US" sz="3200" spc="-1" strike="noStrike">
              <a:solidFill>
                <a:srgbClr val="2fa3dd"/>
              </a:solidFill>
              <a:latin typeface="Franklin Gothic Demi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52280" y="228600"/>
            <a:ext cx="990720" cy="9572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523880" y="1523880"/>
            <a:ext cx="72392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5373720"/>
            <a:ext cx="2819520" cy="1167480"/>
          </a:xfrm>
          <a:prstGeom prst="rect">
            <a:avLst/>
          </a:prstGeom>
          <a:solidFill>
            <a:srgbClr val="000066"/>
          </a:solidFill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COUNTRY TB TEA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entury Gothic"/>
              </a:rPr>
              <a:t>(National ICC; Stop TB Partnershi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360" y="4508640"/>
            <a:ext cx="2514600" cy="862560"/>
          </a:xfrm>
          <a:prstGeom prst="rect">
            <a:avLst/>
          </a:prstGeom>
          <a:noFill/>
          <a:ln w="2844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entury Gothic"/>
              </a:rPr>
              <a:t>(NTP, partn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629400" y="175248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REG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Regional IC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352680"/>
            <a:ext cx="221004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WPR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7696080" y="312372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1828800"/>
            <a:ext cx="2057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Glob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TB T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entury Gothic"/>
              </a:rPr>
              <a:t>(DEWG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" y="3429000"/>
            <a:ext cx="2209680" cy="785520"/>
          </a:xfrm>
          <a:prstGeom prst="rect">
            <a:avLst/>
          </a:prstGeom>
          <a:noFill/>
          <a:ln w="2844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entury Gothic"/>
              </a:rPr>
              <a:t>( WHO/HQ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1600200" y="3200040"/>
            <a:ext cx="0" cy="228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743200" y="3581280"/>
            <a:ext cx="3733920" cy="0"/>
          </a:xfrm>
          <a:prstGeom prst="line">
            <a:avLst/>
          </a:prstGeom>
          <a:ln w="28440">
            <a:solidFill>
              <a:srgbClr val="000066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610360" y="172080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826360" y="1936800"/>
            <a:ext cx="966960" cy="368280"/>
          </a:xfrm>
          <a:prstGeom prst="rect">
            <a:avLst/>
          </a:prstGeom>
          <a:solidFill>
            <a:srgbClr val="99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042360" y="2152800"/>
            <a:ext cx="9669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58000" y="2368440"/>
            <a:ext cx="96696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474000" y="258444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510880" y="1700280"/>
            <a:ext cx="96696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1916280"/>
            <a:ext cx="1038240" cy="3682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790160" y="2637000"/>
            <a:ext cx="966960" cy="368280"/>
          </a:xfrm>
          <a:prstGeom prst="rect">
            <a:avLst/>
          </a:prstGeom>
          <a:solidFill>
            <a:srgbClr val="ff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005800" y="2421000"/>
            <a:ext cx="966960" cy="36828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21800" y="2133720"/>
            <a:ext cx="9669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2626920" y="2637000"/>
            <a:ext cx="289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227640" y="2637000"/>
            <a:ext cx="4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836720" y="4653000"/>
            <a:ext cx="1501920" cy="368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t.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6021360"/>
            <a:ext cx="914400" cy="627120"/>
          </a:xfrm>
          <a:prstGeom prst="ellipse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G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99240" y="5013360"/>
            <a:ext cx="1384560" cy="368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cadem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588000" y="4581360"/>
            <a:ext cx="914400" cy="914400"/>
          </a:xfrm>
          <a:prstGeom prst="ellipse">
            <a:avLst/>
          </a:prstGeom>
          <a:solidFill>
            <a:srgbClr val="1007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Hos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2771280" y="2997360"/>
            <a:ext cx="1008360" cy="431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3068640"/>
            <a:ext cx="1008000" cy="3603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284360" y="2205000"/>
            <a:ext cx="71892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43640" y="595008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426000" y="5681520"/>
            <a:ext cx="2149560" cy="368280"/>
          </a:xfrm>
          <a:prstGeom prst="rect">
            <a:avLst/>
          </a:pr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Prof. associ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45440" y="6237360"/>
            <a:ext cx="637920" cy="368280"/>
          </a:xfrm>
          <a:prstGeom prst="rect">
            <a:avLst/>
          </a:prstGeom>
          <a:solidFill>
            <a:srgbClr val="cc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P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0" y="3645000"/>
            <a:ext cx="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28720" y="5516640"/>
            <a:ext cx="1514160" cy="368280"/>
          </a:xfrm>
          <a:prstGeom prst="rect">
            <a:avLst/>
          </a:prstGeom>
          <a:solidFill>
            <a:srgbClr val="1007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</a:rPr>
              <a:t>Civil socie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0920" y="4437000"/>
            <a:ext cx="1255680" cy="82548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CM   G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547280" y="4941360"/>
            <a:ext cx="1729080" cy="863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Object 7"/>
          <p:cNvGraphicFramePr/>
          <p:nvPr/>
        </p:nvGraphicFramePr>
        <p:xfrm>
          <a:off x="0" y="0"/>
          <a:ext cx="5148360" cy="3863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3" name="Object 7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5148360" cy="386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Object 17"/>
          <p:cNvGraphicFramePr/>
          <p:nvPr/>
        </p:nvGraphicFramePr>
        <p:xfrm>
          <a:off x="2916360" y="1916280"/>
          <a:ext cx="6227640" cy="46083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5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916360" y="1916280"/>
                    <a:ext cx="6227640" cy="46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700000" y="-360"/>
            <a:ext cx="5545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Proposal Preparation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Fund to Fight AIDS, TB and Malaria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the most important source of external funding for TB control representing up to 7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Stop TB Strategy provides the framework to plan activities within Global Fund TB proposals that fit within the overall framework of the Global Plan to Stop TB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Global Plan to Stop TB, 2006-2015, provides costed target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HO/Stop TB Strategy Planning Matrix/Frameworks, Budgeting Tool and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ed technical assistance are designed to help TB proposals align planning for all components of the Stop TB Strategy with the Global Plan to Stop TB 2006-2015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82760" y="1197000"/>
            <a:ext cx="4017960" cy="56610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11640" y="4076640"/>
            <a:ext cx="289080" cy="0"/>
          </a:xfrm>
          <a:prstGeom prst="line">
            <a:avLst/>
          </a:prstGeom>
          <a:ln w="414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3"/>
          <a:stretch/>
        </p:blipFill>
        <p:spPr>
          <a:xfrm>
            <a:off x="4518000" y="1197000"/>
            <a:ext cx="4270320" cy="5661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411280" y="0"/>
            <a:ext cx="6435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</a:rPr>
              <a:t>Stop TB Strategy planning/budgeting too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4"/>
          <a:srcRect l="0" t="14268" r="44547" b="8688"/>
          <a:stretch/>
        </p:blipFill>
        <p:spPr>
          <a:xfrm>
            <a:off x="2627280" y="3409920"/>
            <a:ext cx="453708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-360"/>
            <a:ext cx="7308720" cy="113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Global Fund financing and proposal approval rate by round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755640" y="1341360"/>
          <a:ext cx="7201080" cy="554364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341360"/>
                    <a:ext cx="720108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1374840" y="6164280"/>
            <a:ext cx="299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(number of TB proposals approv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79280" y="189000"/>
            <a:ext cx="6048360" cy="712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1007c1"/>
                </a:solidFill>
                <a:latin typeface="Arial"/>
                <a:ea typeface="Arial"/>
              </a:rPr>
              <a:t>Ambitious Round 9 for TB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57880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Round 9 TB re-submission workshop, 17-21 November 20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Re-reading workshop for new submissions (Mock TRP)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, January 2009, 1 workshop per 6 reg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Country visits: 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t least for new submissions     (~ 10 globall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70000"/>
              </a:lnSpc>
              <a:spcBef>
                <a:spcPts val="700"/>
              </a:spcBef>
              <a:spcAft>
                <a:spcPts val="2100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Global and country political commitment for ambitious Round</a:t>
            </a: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Tahoma"/>
              </a:rPr>
              <a:t>9 TB propos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410920" y="-360"/>
            <a:ext cx="3961080" cy="90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1007c1"/>
                </a:solidFill>
                <a:latin typeface="Arial"/>
                <a:ea typeface="Arial"/>
              </a:rPr>
              <a:t>Conclusions</a:t>
            </a:r>
            <a:endParaRPr b="1" lang="en-US" sz="3600" spc="-1" strike="noStrike">
              <a:solidFill>
                <a:srgbClr val="2fa3dd"/>
              </a:solidFill>
              <a:latin typeface="Franklin Gothic Dem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spcAft>
                <a:spcPts val="24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"/>
          <p:cNvSpPr/>
          <p:nvPr/>
        </p:nvSpPr>
        <p:spPr>
          <a:xfrm>
            <a:off x="179280" y="1701720"/>
            <a:ext cx="878544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o prepare Global Fund TB proposals that are successful and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aligned with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SimSun"/>
              </a:rPr>
              <a:t>the Stop TB Strategy and Global Plan to Stop TB, use the WHO Stop TB Planning Matrix &amp; Frameworks and Budgeting Tool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 with technical assistance facilitated through TBTE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More civil society engagement in planning and budgeting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1800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SimSun"/>
              </a:rPr>
              <a:t>TB proposals can be more ambitious in asking for larger budgets especially on laboratory/diagnosis, MDR, Infection control and social aspects of T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7T16:07:29Z</dcterms:created>
  <dc:creator>godfreya</dc:creator>
  <dc:description/>
  <dc:language>en-US</dc:language>
  <cp:lastModifiedBy>BlancL</cp:lastModifiedBy>
  <dcterms:modified xsi:type="dcterms:W3CDTF">2008-10-28T04:26:48Z</dcterms:modified>
  <cp:revision>32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346726774</vt:r8>
  </property>
  <property fmtid="{D5CDD505-2E9C-101B-9397-08002B2CF9AE}" pid="3" name="_AuthorEmail">
    <vt:lpwstr>godfreya@who.int</vt:lpwstr>
  </property>
  <property fmtid="{D5CDD505-2E9C-101B-9397-08002B2CF9AE}" pid="4" name="_AuthorEmailDisplayName">
    <vt:lpwstr>Godfrey, Andrea</vt:lpwstr>
  </property>
  <property fmtid="{D5CDD505-2E9C-101B-9397-08002B2CF9AE}" pid="5" name="_EmailSubject">
    <vt:lpwstr>DRAFT ppt for Coordinating Board meeting 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