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BEA3-A827-4C8C-9079-2F5BC06967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0441-D1F4-4626-A18F-A10AB4BE114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CE526-B8DA-44C5-ADFF-277F04CA2A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FE023-EDD1-43AC-9FB8-5249F5149A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C8FB2-FD2D-460E-A6F1-562424D85D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F5C55-6992-4842-BA56-2D79CF9E2F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28EAE-E14B-4BDA-865F-D7F4521A450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812F1-0C93-4F2C-A3FD-70210AB47E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10250-623F-4346-BC76-D496B56531D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Slide Number Placeholder 3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AD06D-3C63-408A-A518-E1D7962FB61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0A98-00A7-437B-8D95-75C3C5B90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5AFAD-AE78-4D75-B287-FDD7F5E32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BD2F-C291-44BD-A102-08637BBF70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24F3-C71B-4279-A0C9-333D107B8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A7CE-9BA3-4A88-80EA-800941D2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2444D-FDD4-4646-AC93-221CFCADE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D30D-8DFA-4E70-A556-834D1247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F73EB-71C1-4FBF-AA97-5006209DF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5203-04C8-4B2A-84BD-5776B7E32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9CFA-2206-473E-A140-17605E7F1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B8A5-7C61-4E28-A143-9572D85C2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24861-DD3B-4B5C-892A-5E7D82F32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75897-2C6F-45D6-BF78-D64A7968B8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tballiance.org/why/tb-threat.php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2" descr="Headline Slide copy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609480" y="4114800"/>
            <a:ext cx="6705720" cy="14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  <a:ea typeface="Arial"/>
              </a:rPr>
              <a:t>Stop TB Partnership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Arial"/>
              </a:rPr>
              <a:t>Coordinating Board Meet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609480" y="5334120"/>
            <a:ext cx="7010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agamayo, Tanzan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8-29 October, 200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traight Connector 7"/>
          <p:cNvSpPr/>
          <p:nvPr/>
        </p:nvSpPr>
        <p:spPr>
          <a:xfrm>
            <a:off x="609480" y="5257800"/>
            <a:ext cx="5715000" cy="144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304920" y="1371600"/>
            <a:ext cx="7772400" cy="236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Global Business Coalition on HIV/AIDS, Tuberculosis and Malaria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he private sector fight against TB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Trends &amp; Opportun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7" name="Picture 34" descr="Normal Slide copy"/>
          <p:cNvPicPr/>
          <p:nvPr/>
        </p:nvPicPr>
        <p:blipFill>
          <a:blip r:embed="rId1"/>
          <a:stretch/>
        </p:blipFill>
        <p:spPr>
          <a:xfrm>
            <a:off x="0" y="763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2: Xstrata Coal South Afric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TextBox 5"/>
          <p:cNvSpPr/>
          <p:nvPr/>
        </p:nvSpPr>
        <p:spPr>
          <a:xfrm>
            <a:off x="533520" y="2286000"/>
            <a:ext cx="83055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workplace TB screening drive is integrated with the district TB progr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intervention capitalizes on a strong public-private mix (PPM) between Xstrata, the Mpumalanga District Department of Health and Social Services and PEPFA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Xstrata’s TB efforts are fully integrated with the company’s extensive HIV/AIDS initiative, using outreach workers to spread the, 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I know! the way to li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” campaig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Health Systems Strengthening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. Xstrata’s employs a strategy of capacity-building to underpin treatment access and community respons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Picture 8" descr=""/>
          <p:cNvPicPr/>
          <p:nvPr/>
        </p:nvPicPr>
        <p:blipFill>
          <a:blip r:embed="rId2"/>
          <a:stretch/>
        </p:blipFill>
        <p:spPr>
          <a:xfrm>
            <a:off x="7315200" y="1371600"/>
            <a:ext cx="1257480" cy="88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3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TextBox 9"/>
          <p:cNvSpPr/>
          <p:nvPr/>
        </p:nvSpPr>
        <p:spPr>
          <a:xfrm>
            <a:off x="2895480" y="4572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5" name="Group 10"/>
          <p:cNvGrpSpPr/>
          <p:nvPr/>
        </p:nvGrpSpPr>
        <p:grpSpPr>
          <a:xfrm>
            <a:off x="457200" y="1295280"/>
            <a:ext cx="2133720" cy="1600200"/>
            <a:chOff x="457200" y="1295280"/>
            <a:chExt cx="2133720" cy="1600200"/>
          </a:xfrm>
        </p:grpSpPr>
        <p:sp>
          <p:nvSpPr>
            <p:cNvPr id="136" name="Rounded Rectangle 11"/>
            <p:cNvSpPr/>
            <p:nvPr/>
          </p:nvSpPr>
          <p:spPr>
            <a:xfrm>
              <a:off x="457200" y="1295280"/>
              <a:ext cx="2082960" cy="150768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ounded Rectangle 4"/>
            <p:cNvSpPr/>
            <p:nvPr/>
          </p:nvSpPr>
          <p:spPr>
            <a:xfrm>
              <a:off x="530640" y="1368720"/>
              <a:ext cx="2060280" cy="152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 1: 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TB Advisory Servic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38" name="TextBox 16"/>
          <p:cNvSpPr/>
          <p:nvPr/>
        </p:nvSpPr>
        <p:spPr>
          <a:xfrm>
            <a:off x="6400800" y="1377720"/>
            <a:ext cx="198108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ffective workplace and community based TB progra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17"/>
          <p:cNvSpPr/>
          <p:nvPr/>
        </p:nvSpPr>
        <p:spPr>
          <a:xfrm>
            <a:off x="6324480" y="9144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xpected Outco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0" name="Group 20"/>
          <p:cNvGrpSpPr/>
          <p:nvPr/>
        </p:nvGrpSpPr>
        <p:grpSpPr>
          <a:xfrm>
            <a:off x="457200" y="2971800"/>
            <a:ext cx="2082960" cy="1463760"/>
            <a:chOff x="457200" y="2971800"/>
            <a:chExt cx="2082960" cy="1463760"/>
          </a:xfrm>
        </p:grpSpPr>
        <p:sp>
          <p:nvSpPr>
            <p:cNvPr id="141" name="Rounded Rectangle 21"/>
            <p:cNvSpPr/>
            <p:nvPr/>
          </p:nvSpPr>
          <p:spPr>
            <a:xfrm>
              <a:off x="457200" y="2971800"/>
              <a:ext cx="2082960" cy="146376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ounded Rectangle 4"/>
            <p:cNvSpPr/>
            <p:nvPr/>
          </p:nvSpPr>
          <p:spPr>
            <a:xfrm>
              <a:off x="528480" y="3043080"/>
              <a:ext cx="1940040" cy="132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2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Mobilize Core Competencies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3" name="TextBox 26"/>
          <p:cNvSpPr/>
          <p:nvPr/>
        </p:nvSpPr>
        <p:spPr>
          <a:xfrm>
            <a:off x="6400800" y="2918520"/>
            <a:ext cx="1981080" cy="1554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ore competencies of private sector used to strengthen national TB programs and health system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Group 27"/>
          <p:cNvGrpSpPr/>
          <p:nvPr/>
        </p:nvGrpSpPr>
        <p:grpSpPr>
          <a:xfrm>
            <a:off x="457200" y="4572000"/>
            <a:ext cx="2133720" cy="1676520"/>
            <a:chOff x="457200" y="4572000"/>
            <a:chExt cx="2133720" cy="1676520"/>
          </a:xfrm>
        </p:grpSpPr>
        <p:sp>
          <p:nvSpPr>
            <p:cNvPr id="145" name="Rounded Rectangle 28"/>
            <p:cNvSpPr/>
            <p:nvPr/>
          </p:nvSpPr>
          <p:spPr>
            <a:xfrm>
              <a:off x="457200" y="4572000"/>
              <a:ext cx="2133720" cy="167652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ounded Rectangle 4"/>
            <p:cNvSpPr/>
            <p:nvPr/>
          </p:nvSpPr>
          <p:spPr>
            <a:xfrm>
              <a:off x="524880" y="4653720"/>
              <a:ext cx="1998360" cy="1513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Specific Objective 3: 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Calibri"/>
                </a:rPr>
                <a:t>Provide leadership to structure and expand corporate engageme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30"/>
          <p:cNvGrpSpPr/>
          <p:nvPr/>
        </p:nvGrpSpPr>
        <p:grpSpPr>
          <a:xfrm>
            <a:off x="2971800" y="1219320"/>
            <a:ext cx="3352680" cy="1752480"/>
            <a:chOff x="2971800" y="1219320"/>
            <a:chExt cx="3352680" cy="1752480"/>
          </a:xfrm>
        </p:grpSpPr>
        <p:sp>
          <p:nvSpPr>
            <p:cNvPr id="148" name="Right Arrow 31"/>
            <p:cNvSpPr/>
            <p:nvPr/>
          </p:nvSpPr>
          <p:spPr>
            <a:xfrm>
              <a:off x="2971800" y="1219320"/>
              <a:ext cx="3352680" cy="1752480"/>
            </a:xfrm>
            <a:prstGeom prst="rightArrow">
              <a:avLst>
                <a:gd name="adj1" fmla="val 75000"/>
                <a:gd name="adj2" fmla="val 31070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Right Arrow 4"/>
            <p:cNvSpPr/>
            <p:nvPr/>
          </p:nvSpPr>
          <p:spPr>
            <a:xfrm>
              <a:off x="2971800" y="1438200"/>
              <a:ext cx="294444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Provide technical and programmatic support to GBC members to develop and/or strengthen work place and community based TB program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0" name="TextBox 33"/>
          <p:cNvSpPr/>
          <p:nvPr/>
        </p:nvSpPr>
        <p:spPr>
          <a:xfrm>
            <a:off x="6400800" y="4652640"/>
            <a:ext cx="198108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creased private sector engagement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51" name="Group 34"/>
          <p:cNvGrpSpPr/>
          <p:nvPr/>
        </p:nvGrpSpPr>
        <p:grpSpPr>
          <a:xfrm>
            <a:off x="2895480" y="4648320"/>
            <a:ext cx="3200400" cy="1447560"/>
            <a:chOff x="2895480" y="4648320"/>
            <a:chExt cx="3200400" cy="1447560"/>
          </a:xfrm>
        </p:grpSpPr>
        <p:sp>
          <p:nvSpPr>
            <p:cNvPr id="152" name="Right Arrow 35"/>
            <p:cNvSpPr/>
            <p:nvPr/>
          </p:nvSpPr>
          <p:spPr>
            <a:xfrm>
              <a:off x="2895480" y="46483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Right Arrow 4"/>
            <p:cNvSpPr/>
            <p:nvPr/>
          </p:nvSpPr>
          <p:spPr>
            <a:xfrm>
              <a:off x="2895480" y="48290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Serve as Global Fund Private Sector Delegation Focal Point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	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4" name="Group 37"/>
          <p:cNvGrpSpPr/>
          <p:nvPr/>
        </p:nvGrpSpPr>
        <p:grpSpPr>
          <a:xfrm>
            <a:off x="2895480" y="3048120"/>
            <a:ext cx="3200400" cy="1447560"/>
            <a:chOff x="2895480" y="3048120"/>
            <a:chExt cx="3200400" cy="1447560"/>
          </a:xfrm>
        </p:grpSpPr>
        <p:sp>
          <p:nvSpPr>
            <p:cNvPr id="155" name="Right Arrow 38"/>
            <p:cNvSpPr/>
            <p:nvPr/>
          </p:nvSpPr>
          <p:spPr>
            <a:xfrm>
              <a:off x="2895480" y="3048120"/>
              <a:ext cx="3200400" cy="1447560"/>
            </a:xfrm>
            <a:prstGeom prst="rightArrow">
              <a:avLst>
                <a:gd name="adj1" fmla="val 75000"/>
                <a:gd name="adj2" fmla="val 3814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Right Arrow 4"/>
            <p:cNvSpPr/>
            <p:nvPr/>
          </p:nvSpPr>
          <p:spPr>
            <a:xfrm>
              <a:off x="2895480" y="3228840"/>
              <a:ext cx="2786400" cy="108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Educate and  assist GBC  members to identify core competencies within the private sector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5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60" name="Group 7"/>
          <p:cNvGrpSpPr/>
          <p:nvPr/>
        </p:nvGrpSpPr>
        <p:grpSpPr>
          <a:xfrm>
            <a:off x="380880" y="1676520"/>
            <a:ext cx="2362320" cy="1600200"/>
            <a:chOff x="380880" y="1676520"/>
            <a:chExt cx="2362320" cy="1600200"/>
          </a:xfrm>
        </p:grpSpPr>
        <p:sp>
          <p:nvSpPr>
            <p:cNvPr id="161" name="Rounded Rectangle 8"/>
            <p:cNvSpPr/>
            <p:nvPr/>
          </p:nvSpPr>
          <p:spPr>
            <a:xfrm>
              <a:off x="380880" y="1676520"/>
              <a:ext cx="2362320" cy="1600200"/>
            </a:xfrm>
            <a:prstGeom prst="roundRect">
              <a:avLst>
                <a:gd name="adj" fmla="val 16667"/>
              </a:avLst>
            </a:prstGeom>
            <a:solidFill>
              <a:srgbClr val="4f81bd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Rounded Rectangle 4"/>
            <p:cNvSpPr/>
            <p:nvPr/>
          </p:nvSpPr>
          <p:spPr>
            <a:xfrm>
              <a:off x="440640" y="1754640"/>
              <a:ext cx="2242800" cy="144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19080" bIns="19080" anchor="ctr">
              <a:noAutofit/>
            </a:bodyPr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Specific Objective 4: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90000"/>
                </a:lnSpc>
                <a:spcAft>
                  <a:spcPts val="788"/>
                </a:spcAft>
                <a:tabLst>
                  <a:tab algn="l" pos="0"/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Facilitate Networking Opportunities  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3" name="TextBox 23"/>
          <p:cNvSpPr/>
          <p:nvPr/>
        </p:nvSpPr>
        <p:spPr>
          <a:xfrm>
            <a:off x="6248520" y="1909440"/>
            <a:ext cx="251460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nhanced networks and visibility to private sector efforts on T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4" name="Group 25"/>
          <p:cNvGrpSpPr/>
          <p:nvPr/>
        </p:nvGrpSpPr>
        <p:grpSpPr>
          <a:xfrm>
            <a:off x="3124080" y="1371600"/>
            <a:ext cx="3124440" cy="2666880"/>
            <a:chOff x="3124080" y="1371600"/>
            <a:chExt cx="3124440" cy="2666880"/>
          </a:xfrm>
        </p:grpSpPr>
        <p:sp>
          <p:nvSpPr>
            <p:cNvPr id="165" name="Right Arrow 26"/>
            <p:cNvSpPr/>
            <p:nvPr/>
          </p:nvSpPr>
          <p:spPr>
            <a:xfrm>
              <a:off x="3124080" y="1371600"/>
              <a:ext cx="3124440" cy="2666880"/>
            </a:xfrm>
            <a:prstGeom prst="rightArrow">
              <a:avLst>
                <a:gd name="adj1" fmla="val 75000"/>
                <a:gd name="adj2" fmla="val 22818"/>
              </a:avLst>
            </a:prstGeom>
            <a:solidFill>
              <a:srgbClr val="d0d8e8">
                <a:alpha val="90000"/>
              </a:srgbClr>
            </a:solidFill>
            <a:ln w="25560">
              <a:solidFill>
                <a:srgbClr val="d0d8e8">
                  <a:alpha val="90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Right Arrow 4"/>
            <p:cNvSpPr/>
            <p:nvPr/>
          </p:nvSpPr>
          <p:spPr>
            <a:xfrm>
              <a:off x="3124080" y="1704960"/>
              <a:ext cx="2668320" cy="2000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480" rIns="6480" tIns="6480" bIns="6480" anchor="ctr">
              <a:noAutofit/>
            </a:bodyPr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Convene meetings of GBC members and key stakeholders to address efforts on TB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  <a:p>
              <a:pPr lvl="1" marL="57240" indent="-57240">
                <a:lnSpc>
                  <a:spcPct val="90000"/>
                </a:lnSpc>
                <a:spcAft>
                  <a:spcPts val="300"/>
                </a:spcAft>
                <a:buClr>
                  <a:srgbClr val="000000"/>
                </a:buClr>
                <a:buFont typeface="Calibri"/>
                <a:buChar char="•"/>
                <a:tabLst>
                  <a:tab algn="l" pos="444600"/>
                  <a:tab algn="l" pos="888840"/>
                  <a:tab algn="l" pos="1333440"/>
                  <a:tab algn="l" pos="1778040"/>
                  <a:tab algn="l" pos="2222640"/>
                  <a:tab algn="l" pos="2666880"/>
                  <a:tab algn="l" pos="3111480"/>
                  <a:tab algn="l" pos="3556080"/>
                  <a:tab algn="l" pos="4000680"/>
                  <a:tab algn="l" pos="4444920"/>
                  <a:tab algn="l" pos="4889520"/>
                  <a:tab algn="l" pos="5334120"/>
                  <a:tab algn="l" pos="5778360"/>
                  <a:tab algn="l" pos="6222960"/>
                  <a:tab algn="l" pos="6667560"/>
                  <a:tab algn="l" pos="7112160"/>
                  <a:tab algn="l" pos="7556400"/>
                  <a:tab algn="l" pos="8001000"/>
                  <a:tab algn="l" pos="8445600"/>
                  <a:tab algn="l" pos="888984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alibri"/>
                </a:rPr>
                <a:t>Identify external meetings for GBC members to showcase private sector involvement and share best practice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69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0" name="TextBox 7"/>
          <p:cNvSpPr/>
          <p:nvPr/>
        </p:nvSpPr>
        <p:spPr>
          <a:xfrm>
            <a:off x="1447920" y="60948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: GBC in 200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8"/>
          <p:cNvSpPr/>
          <p:nvPr/>
        </p:nvSpPr>
        <p:spPr>
          <a:xfrm>
            <a:off x="457200" y="1295280"/>
            <a:ext cx="80773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lobal Advocac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untry-specific Focus (Russia, South Africa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Advisory Servic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pport to the Stop TB Partnershi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74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TextBox 4"/>
          <p:cNvSpPr/>
          <p:nvPr/>
        </p:nvSpPr>
        <p:spPr>
          <a:xfrm>
            <a:off x="533520" y="1752480"/>
            <a:ext cx="784836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ogether we ca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TOP TB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Box 5"/>
          <p:cNvSpPr/>
          <p:nvPr/>
        </p:nvSpPr>
        <p:spPr>
          <a:xfrm>
            <a:off x="609480" y="3505320"/>
            <a:ext cx="7772400" cy="137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uilding a comprehensive approach to engage the private sector in the fight against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traight Connector 7"/>
          <p:cNvSpPr/>
          <p:nvPr/>
        </p:nvSpPr>
        <p:spPr>
          <a:xfrm>
            <a:off x="838080" y="3124080"/>
            <a:ext cx="7315200" cy="1800"/>
          </a:xfrm>
          <a:prstGeom prst="line">
            <a:avLst/>
          </a:prstGeom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7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6"/>
          <p:cNvSpPr/>
          <p:nvPr/>
        </p:nvSpPr>
        <p:spPr>
          <a:xfrm>
            <a:off x="1523880" y="4572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533520" y="1371600"/>
            <a:ext cx="80769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ssessing business engagement on TB: GBC’s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HIV/AIDS, TB and Malaria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Unique strengths of the private secto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ase studies: BD and Xstrat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GBC’s TB strateg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Way Forwar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2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Box 5"/>
          <p:cNvSpPr/>
          <p:nvPr/>
        </p:nvSpPr>
        <p:spPr>
          <a:xfrm>
            <a:off x="609480" y="533520"/>
            <a:ext cx="815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e Economic Impact of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6"/>
          <p:cNvSpPr/>
          <p:nvPr/>
        </p:nvSpPr>
        <p:spPr>
          <a:xfrm>
            <a:off x="762120" y="1828800"/>
            <a:ext cx="7543800" cy="36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75% of those who become ill with TB are between the ages of 15 and 54, resulting in employee absenteeism during prime working years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orldwide, TB results in a decline in worker productivity totaling US$12 billion yearly.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 out of 5 countries with an HIV prevalence above 20% expect TB to have a negative impact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7"/>
          <p:cNvSpPr/>
          <p:nvPr/>
        </p:nvSpPr>
        <p:spPr>
          <a:xfrm>
            <a:off x="228600" y="5638680"/>
            <a:ext cx="8915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 baseline="30000">
                <a:solidFill>
                  <a:srgbClr val="000000"/>
                </a:solidFill>
                <a:latin typeface="Calibri"/>
              </a:rPr>
              <a:t>1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ackling Tuberculosis: The Business Response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WEF, February 2008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baseline="30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The Threat of TB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, TB Alliance: Global Alliance for TB Drug Development,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tballiance.org/why/tb-threat.php</a:t>
            </a:r>
            <a:r>
              <a:rPr b="0" i="1" lang="en-US" sz="1400" spc="-1" strike="noStrike">
                <a:solidFill>
                  <a:srgbClr val="000000"/>
                </a:solidFill>
                <a:latin typeface="Calibri"/>
              </a:rPr>
              <a:t>,2008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, wit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68" name="Picture 34" descr="Normal Slide copy"/>
          <p:cNvPicPr/>
          <p:nvPr/>
        </p:nvPicPr>
        <p:blipFill>
          <a:blip r:embed="rId1"/>
          <a:stretch/>
        </p:blipFill>
        <p:spPr>
          <a:xfrm>
            <a:off x="0" y="-3808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4"/>
          <p:cNvSpPr/>
          <p:nvPr/>
        </p:nvSpPr>
        <p:spPr>
          <a:xfrm>
            <a:off x="685800" y="1066680"/>
            <a:ext cx="76201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Engagement around the tuberculosis epidemic has been an organizational priority at GBC since 200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year, we conducted a survey of member companies to identify trends in corporate action on the three diseas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key findings of the resulting report, “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he State of Business and AIDS, Tuberculosis and Malaria,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” were launched in New York  on September 2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Calibri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esident Sampaio presented opportunities for business engagement on TB at launch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extBox 5"/>
          <p:cNvSpPr/>
          <p:nvPr/>
        </p:nvSpPr>
        <p:spPr>
          <a:xfrm>
            <a:off x="1676520" y="228600"/>
            <a:ext cx="601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GBC and T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73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Text Box 2"/>
          <p:cNvSpPr/>
          <p:nvPr/>
        </p:nvSpPr>
        <p:spPr>
          <a:xfrm>
            <a:off x="2253960" y="1460520"/>
            <a:ext cx="4395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Companies Response to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uberculosi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6"/>
          <p:cNvSpPr/>
          <p:nvPr/>
        </p:nvSpPr>
        <p:spPr>
          <a:xfrm>
            <a:off x="285840" y="1819440"/>
            <a:ext cx="4333680" cy="44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formation and education on TB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Strategies to address and prevent transmission of active disease in the workplace and/or community set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llaborative activities to integrate TB and HIV respon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dministration of appropriate treatment regimen in line with NTP guidelines and Int'l Standards of TB Ca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arly identification of suspected TB cases, followed by prompt diagnosi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Line 22"/>
          <p:cNvSpPr/>
          <p:nvPr/>
        </p:nvSpPr>
        <p:spPr>
          <a:xfrm>
            <a:off x="6243480" y="1695600"/>
            <a:ext cx="0" cy="4640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Chart 7" descr=""/>
          <p:cNvPicPr/>
          <p:nvPr/>
        </p:nvPicPr>
        <p:blipFill>
          <a:blip r:embed="rId2"/>
          <a:stretch/>
        </p:blipFill>
        <p:spPr>
          <a:xfrm>
            <a:off x="4754520" y="1560600"/>
            <a:ext cx="2975040" cy="474804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16"/>
          <p:cNvSpPr/>
          <p:nvPr/>
        </p:nvSpPr>
        <p:spPr>
          <a:xfrm>
            <a:off x="1523880" y="304920"/>
            <a:ext cx="716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40% of the 83 surveyed companies offer TB information and education in the workplac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81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Object 3" descr=""/>
          <p:cNvPicPr/>
          <p:nvPr/>
        </p:nvPicPr>
        <p:blipFill>
          <a:blip r:embed="rId2"/>
          <a:stretch/>
        </p:blipFill>
        <p:spPr>
          <a:xfrm>
            <a:off x="2724120" y="1654200"/>
            <a:ext cx="4262400" cy="43228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4"/>
          <p:cNvSpPr/>
          <p:nvPr/>
        </p:nvSpPr>
        <p:spPr>
          <a:xfrm>
            <a:off x="2835360" y="55911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344600" y="5591160"/>
            <a:ext cx="137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a / Entertain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986520" y="1838160"/>
            <a:ext cx="357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1222200" y="1838160"/>
            <a:ext cx="149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ndustrial Manufactu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6986520" y="2214720"/>
            <a:ext cx="3571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9"/>
          <p:cNvSpPr/>
          <p:nvPr/>
        </p:nvSpPr>
        <p:spPr>
          <a:xfrm>
            <a:off x="1774800" y="2214720"/>
            <a:ext cx="942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Metals / M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Rectangle 10"/>
          <p:cNvSpPr/>
          <p:nvPr/>
        </p:nvSpPr>
        <p:spPr>
          <a:xfrm>
            <a:off x="6238800" y="259092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Rectangle 11"/>
          <p:cNvSpPr/>
          <p:nvPr/>
        </p:nvSpPr>
        <p:spPr>
          <a:xfrm>
            <a:off x="1609560" y="2590920"/>
            <a:ext cx="11080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ood / Beverag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12"/>
          <p:cNvSpPr/>
          <p:nvPr/>
        </p:nvSpPr>
        <p:spPr>
          <a:xfrm>
            <a:off x="6099120" y="29624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Rectangle 13"/>
          <p:cNvSpPr/>
          <p:nvPr/>
        </p:nvSpPr>
        <p:spPr>
          <a:xfrm>
            <a:off x="5819760" y="33386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71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ectangle 14"/>
          <p:cNvSpPr/>
          <p:nvPr/>
        </p:nvSpPr>
        <p:spPr>
          <a:xfrm>
            <a:off x="1093680" y="3338640"/>
            <a:ext cx="1623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Energy (Oil, Gas, Electr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ctangle 15"/>
          <p:cNvSpPr/>
          <p:nvPr/>
        </p:nvSpPr>
        <p:spPr>
          <a:xfrm>
            <a:off x="5553000" y="3714840"/>
            <a:ext cx="2811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6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16"/>
          <p:cNvSpPr/>
          <p:nvPr/>
        </p:nvSpPr>
        <p:spPr>
          <a:xfrm>
            <a:off x="2016000" y="2962440"/>
            <a:ext cx="701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Automotiv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tangle 17"/>
          <p:cNvSpPr/>
          <p:nvPr/>
        </p:nvSpPr>
        <p:spPr>
          <a:xfrm>
            <a:off x="3654360" y="483876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Rectangle 18"/>
          <p:cNvSpPr/>
          <p:nvPr/>
        </p:nvSpPr>
        <p:spPr>
          <a:xfrm>
            <a:off x="222120" y="4467240"/>
            <a:ext cx="249552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Financial Services / Banking / Insu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ctangle 19"/>
          <p:cNvSpPr/>
          <p:nvPr/>
        </p:nvSpPr>
        <p:spPr>
          <a:xfrm>
            <a:off x="3927600" y="4467240"/>
            <a:ext cx="2793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27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20"/>
          <p:cNvSpPr/>
          <p:nvPr/>
        </p:nvSpPr>
        <p:spPr>
          <a:xfrm>
            <a:off x="1440000" y="4091040"/>
            <a:ext cx="12776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Healthcare / Medic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ctangle 21"/>
          <p:cNvSpPr/>
          <p:nvPr/>
        </p:nvSpPr>
        <p:spPr>
          <a:xfrm>
            <a:off x="4586400" y="4091040"/>
            <a:ext cx="28080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ctangle 22"/>
          <p:cNvSpPr/>
          <p:nvPr/>
        </p:nvSpPr>
        <p:spPr>
          <a:xfrm>
            <a:off x="684360" y="3714840"/>
            <a:ext cx="203328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Biotechnology / Pharmaceutic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ctangle 23"/>
          <p:cNvSpPr/>
          <p:nvPr/>
        </p:nvSpPr>
        <p:spPr>
          <a:xfrm>
            <a:off x="1477800" y="4838760"/>
            <a:ext cx="12398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mer Produ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24"/>
          <p:cNvSpPr/>
          <p:nvPr/>
        </p:nvSpPr>
        <p:spPr>
          <a:xfrm>
            <a:off x="2835360" y="5214960"/>
            <a:ext cx="20304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17680" y="5214960"/>
            <a:ext cx="2199960" cy="1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Consu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Text Box 26"/>
          <p:cNvSpPr/>
          <p:nvPr/>
        </p:nvSpPr>
        <p:spPr>
          <a:xfrm>
            <a:off x="3411360" y="1460520"/>
            <a:ext cx="2687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Engagement in activities around T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Rectangle 28"/>
          <p:cNvSpPr/>
          <p:nvPr/>
        </p:nvSpPr>
        <p:spPr>
          <a:xfrm>
            <a:off x="1676520" y="304920"/>
            <a:ext cx="7086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100% of manufacturers and mining companies have TB progra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29"/>
          <p:cNvSpPr/>
          <p:nvPr/>
        </p:nvSpPr>
        <p:spPr>
          <a:xfrm>
            <a:off x="304920" y="59436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Calibri"/>
              </a:rPr>
              <a:t>Note: The above analysis includes industries where 3 or more companies responded to the survey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4"/>
          <p:cNvSpPr/>
          <p:nvPr/>
        </p:nvSpPr>
        <p:spPr>
          <a:xfrm>
            <a:off x="1371600" y="380880"/>
            <a:ext cx="716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Interviews with member companies have revealed that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685800" y="1600200"/>
            <a:ext cx="77724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B programs tend to fall under the occupational health umbrell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mpanies feel that there needs to be more advocacy around TB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Respondents indicated that HIV/AIDS programs are a successful template and can be a starting point for TB engagemen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15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6" name="TextBox 6"/>
          <p:cNvSpPr/>
          <p:nvPr/>
        </p:nvSpPr>
        <p:spPr>
          <a:xfrm>
            <a:off x="1523880" y="380880"/>
            <a:ext cx="7162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vate sector brings unique strengths to the fight against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7"/>
          <p:cNvSpPr/>
          <p:nvPr/>
        </p:nvSpPr>
        <p:spPr>
          <a:xfrm>
            <a:off x="457200" y="1066680"/>
            <a:ext cx="81532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harmaceutical and medical technology 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mpanies can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develop new drugs and diagnostic syste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address TB, as well as enhance TB control programs in country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implement comprehensiv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workplace program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d can leverage companies in their supply chain to do the sam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have a unique opportunity to perform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outreach in the communit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where they operat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</a:t>
            </a:r>
            <a:r>
              <a:rPr b="1" i="1" lang="en-US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se their core competenci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o enhance the reach of public sector TB program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Across all industries,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ies can serve as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owerful advocates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n TB issues by mobilizing th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voice of busines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0" name="Picture 34" descr="Normal Slide cop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TextBox 4"/>
          <p:cNvSpPr/>
          <p:nvPr/>
        </p:nvSpPr>
        <p:spPr>
          <a:xfrm>
            <a:off x="1447920" y="304920"/>
            <a:ext cx="868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A number of GBC member companies have deepened their involvement in addressing T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762120" y="14479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ase Study #1: B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6"/>
          <p:cNvSpPr/>
          <p:nvPr/>
        </p:nvSpPr>
        <p:spPr>
          <a:xfrm>
            <a:off x="457200" y="2133720"/>
            <a:ext cx="83059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D joined with the Foundation for Innovative Diagnostics (FIND) to demonstrate the effectiveness of the BD-designed liquid culture technology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emonstration studies paved the way for the WHO endorsement of the liquid culture method for TB diagnosi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pairing of unique core competencies: BD’s excellence in TB diagnostic development, and FIND’s ability to initiate and coordinate the studi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e BD/FIND Pricing Agreement benefits 39 high-burden, low-income countries (as defined by the WHO and the World Bank)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" name="Picture 8" descr=""/>
          <p:cNvPicPr/>
          <p:nvPr/>
        </p:nvPicPr>
        <p:blipFill>
          <a:blip r:embed="rId2"/>
          <a:stretch/>
        </p:blipFill>
        <p:spPr>
          <a:xfrm>
            <a:off x="6934320" y="1447920"/>
            <a:ext cx="16142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3T15:27:38Z</dcterms:created>
  <dc:creator>Jacob Nettleton</dc:creator>
  <dc:description/>
  <dc:language>en-US</dc:language>
  <cp:lastModifiedBy>Lakshmi Sundaram</cp:lastModifiedBy>
  <dcterms:modified xsi:type="dcterms:W3CDTF">2008-10-27T14:36:27Z</dcterms:modified>
  <cp:revision>139</cp:revision>
  <dc:subject/>
  <dc:title>Slide 1</dc:title>
</cp:coreProperties>
</file>