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3E08-5C4A-4E70-BB17-8299AF739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A881-1C96-435D-8086-0B53527AD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E12-D55F-481D-858F-E756B001C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7714-8675-44DB-8411-5A81709A5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1BD3B0-0197-4C88-9EF0-EA9D513C5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C41D8-57A8-403A-823C-D5AC6B54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C156F-FEC3-4FD1-937F-DC9590874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1B0E9-FF73-442F-8FFB-CF560DABA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F2B76-6D40-4EC6-A16A-6453852D4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B1819-D9AC-4116-BB86-BED8BFDC6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35CCA-4560-4DB3-BDA2-9C394519E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F4AC7-BC80-478B-8FD4-813D49A5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493B4-DAB1-4DBC-BD07-745B1607B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3BA15-0156-4780-BAAF-FD76CFB64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4ACAF-18CF-4BCB-8B31-3A733CF30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3500C-9884-4F96-A9CC-A8986DDB1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98D86-7FE6-4644-9FD5-C6AA46552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9506-75F6-442B-BE27-0C63AB533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86F36-837C-4C1D-96D1-73CD51A73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609F-D12C-4B81-879B-9CEEC6B6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ED85-5C4C-4164-97EF-67D9E3257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6BEB1-2663-4032-B6B7-B9C6A6A33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1C3C-2E33-4A9C-88A3-4A5A46D13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FEFA-E84C-45D9-A36D-5D63C2EA1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5639A-4739-4B1A-9F75-361B592A6BE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7688-7A94-4C22-9499-46A84C5E28DB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stoptb.org/figo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cc"/>
                </a:solidFill>
                <a:latin typeface="Tahoma"/>
              </a:rPr>
              <a:t>WORKPLAN UPDATES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403280" y="37162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ordinating Board Meeting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anzania, 28-29 October 2008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700280"/>
            <a:ext cx="87854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r>
              <a:rPr b="1" lang="en-GB" sz="3200" spc="-1" strike="noStrike">
                <a:solidFill>
                  <a:srgbClr val="72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capacity in countries and commitment to scale-up strategic activities remain low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est Practice document needed to get evidence of effectiveness of ACSM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eds for countries to conduct KAP Survey or other operational research to better target ACSM activities and measure impact linked to TB control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 World TB Day –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I am Stopping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tners Forum site launched, including innovative e-discussion to build the Forum agenda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media coverage of the HV/TB Global Leaders Forum, and placement of opinion pieces in ten targeted high-burden countri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y broad media coverage of joint announcement between the Stop TB Partnership GDF, WHO, UNITAID and FIND about scaling up MDR-TB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ining workshops for journalists organized in Paris and Dar es Salaam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One communication officer in the Secretaria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PARTNERS ENGAGEMENT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78544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Partnership welcomed 171 new partners, expanding its partner base from 589  to 760 partners as of October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astern Mediterranean Stop TB Regional Partnership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ational Stop TB Partnerships were established in Afghanistan, Japan and Vietnam.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ond Round of the Challenge Facility for Civil Society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Forum preparation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GB" sz="34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1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track to reach 13M patient treatments delivered by end 20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successful Technical Review and Business Advisory Committees meeting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rget of increasing by 25%  Global Fund Direct Procurement clients i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ment of effective stockpiles of first and second-line anti-TB drugs on trac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is on track to double the Number of Diagnostic Kit orders from '07 baseline &amp; together with GLI/FIND secured $26.1M UNITAID approval for supply of new diagnostic tools from 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bjective of securing additional UNITAID funds for paediatric &amp; second-line anti-TB drugs realized: US$ 56.4M approv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ahoma"/>
              </a:rPr>
              <a:t>CHALLENGES </a:t>
            </a:r>
            <a:r>
              <a:rPr b="0" lang="en-GB" sz="3600" spc="-1" strike="noStrike">
                <a:solidFill>
                  <a:srgbClr val="ffffff"/>
                </a:solidFill>
                <a:latin typeface="Tahoma"/>
              </a:rPr>
              <a:t>(cont.)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9280" y="1773360"/>
            <a:ext cx="878544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reased all out effort will have to be made to procure drugs and carry out the required activities to use the money that has become availabl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orking with WHO/EDM to increase the number of prequalified TB products particularly: 2nd line and pediatric drug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vercoming barriers to effective access: importation restrictions, registration, market protecti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keting and strengthening of GDF's Direct Procurement Service; making it more self-sustaining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•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new business model based on close links with the business partners of GDF will have to be developed and implemen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611280" y="1557360"/>
          <a:ext cx="7848360" cy="1982880"/>
        </p:xfrm>
        <a:graphic>
          <a:graphicData uri="http://schemas.openxmlformats.org/drawingml/2006/table">
            <a:tbl>
              <a:tblPr/>
              <a:tblGrid>
                <a:gridCol w="2319120"/>
                <a:gridCol w="1733760"/>
                <a:gridCol w="1949400"/>
                <a:gridCol w="1846080"/>
              </a:tblGrid>
              <a:tr h="9169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3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685800" y="3933720"/>
          <a:ext cx="7846920" cy="2016360"/>
        </p:xfrm>
        <a:graphic>
          <a:graphicData uri="http://schemas.openxmlformats.org/drawingml/2006/table">
            <a:tbl>
              <a:tblPr/>
              <a:tblGrid>
                <a:gridCol w="2317680"/>
                <a:gridCol w="1733760"/>
                <a:gridCol w="1950840"/>
                <a:gridCol w="1844640"/>
              </a:tblGrid>
              <a:tr h="922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DRUG FACILITY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ts, US$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tual Implementation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rget rat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94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oved plann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46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dgeted cost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%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9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 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79280" y="1413000"/>
          <a:ext cx="8785080" cy="4968360"/>
        </p:xfrm>
        <a:graphic>
          <a:graphicData uri="http://schemas.openxmlformats.org/drawingml/2006/table">
            <a:tbl>
              <a:tblPr/>
              <a:tblGrid>
                <a:gridCol w="415080"/>
                <a:gridCol w="2603880"/>
                <a:gridCol w="1279080"/>
                <a:gridCol w="1176840"/>
                <a:gridCol w="1324800"/>
                <a:gridCol w="960120"/>
                <a:gridCol w="1025280"/>
              </a:tblGrid>
              <a:tr h="668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artnership  Area of Work (AoW)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.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untry level ACSM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25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33,51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83,3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advocacy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006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38,24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56,659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8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49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Fund proposal preparation and implement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4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0,2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77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B Profile enhancement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9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02,783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8,124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lobal communic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5,872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7,86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2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5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overnance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63,76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9,91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1,045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1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nership building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125,84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9,976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1,93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2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dmin and financial mgt  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2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upport and innovation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8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6,997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28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9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Support to Working Group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,400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11,000 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1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6%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5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ND TOTAL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,294,60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764,3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888,910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32%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WP Implementation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as of 30 September 2008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250920" y="1773360"/>
          <a:ext cx="8713800" cy="3527280"/>
        </p:xfrm>
        <a:graphic>
          <a:graphicData uri="http://schemas.openxmlformats.org/drawingml/2006/table">
            <a:tbl>
              <a:tblPr/>
              <a:tblGrid>
                <a:gridCol w="453960"/>
                <a:gridCol w="2498760"/>
                <a:gridCol w="1487520"/>
                <a:gridCol w="1120680"/>
                <a:gridCol w="1189080"/>
                <a:gridCol w="961920"/>
                <a:gridCol w="1001880"/>
              </a:tblGrid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N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GDF Area of Work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Expenditure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budget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200" spc="-1" strike="noStrike">
                          <a:solidFill>
                            <a:srgbClr val="000099"/>
                          </a:solidFill>
                          <a:latin typeface="Arial"/>
                        </a:rPr>
                        <a:t>Impl. rate vs planned cost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lication review and monitoring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983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249,2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6,293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9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fficient supply of quality GDF product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2,007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529,198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,934,38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7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urement and supply activiti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62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68,31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6,705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4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DF General Management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017,0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23,989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4,941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0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ta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6,069,500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1,470,76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,102,324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8%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OVERNANC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79280" y="141264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dependent External Evaluation satisfactorily complet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ponses to recommendations agreed, and accepted recommendations being implement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ing Board meeting successfully held (Egypt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ree Executive Committee Teleconferences hel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d frequency of High Level Mission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use of the Boar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GLOBAL ADVOCACY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4360" y="1412640"/>
            <a:ext cx="896472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 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Progress in the US – PEPFAR etc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HIV-TB Global Leaders Forum held in June 2008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U &amp; German – Parliamentary events, budget discussions ongo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125"/>
              </a:spcBef>
              <a:buClr>
                <a:srgbClr val="000000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Establishment of the Centre for Resource Mobilization websit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Challenges/Way Forward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ing Strategic approach to advocacy in endemic "emerging economies" – India, China, Russia, Brazil, etc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i-lateral work with potential donors (Spain, Ireland etc)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st election advocacy – US (from January) and EU (from July)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ource Gap analysis - published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rriculum on Resource Mobilization for partner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search Movement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UN SG Special Envoy to Stop TB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71280" y="1483920"/>
            <a:ext cx="89647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WTBD 08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ess conference with Chan, Piot, Kazatchkine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Launch of Figo's campaign in London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HIV/TB Global Leaders Forum – UN, New York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an Ki-moon, Srgjan Kerim, Bill Clinton, Pres of Togo and Mozambique, First Ladies of Rwanda and Georgia, Chan, Piot, Kazatchkine, Dybul, Chesire, Zulu, and more than 60 ministerial delegation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Call for Action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  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ivil Society Forum on Health Issues for CPLP - Lisbon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33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  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linton Global Initiativ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4560" y="115560"/>
            <a:ext cx="532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Profiling TB: Ambassadors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50560" y="1413000"/>
            <a:ext cx="8713800" cy="482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Luis Figo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–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oster/postcard campaign to Stop TB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9 languages, launched in London APPG, distributed by Kempinski Hotels (53 locations) and Red Cross (189 countries),  </a:t>
            </a:r>
            <a:r>
              <a:rPr b="0" lang="en-GB" sz="1800" spc="-1" strike="noStrike" u="sng">
                <a:solidFill>
                  <a:srgbClr val="ffcc66"/>
                </a:solidFill>
                <a:uFillTx/>
                <a:latin typeface="Arial"/>
                <a:hlinkClick r:id="rId2"/>
              </a:rPr>
              <a:t>www.stoptb.org/figo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 , Burkina Faso: Ministry of Health through Total gas stations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   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Comic Book on tuberculosi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lated in 10 languages already and growing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  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edia Coverage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-511920">
              <a:lnSpc>
                <a:spcPct val="10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BC: Special feature on Figo, CNN: featured in report on HIV/TB</a:t>
            </a: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720000"/>
                </a:solidFill>
                <a:uFillTx/>
                <a:latin typeface="Arial"/>
              </a:rPr>
              <a:t>Anna Cataldi</a:t>
            </a: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Missions to Afghanistan, Pakistan, Jordan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Photo Book: "Tuberculosis: voices of the unheard"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5119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20000"/>
                </a:solidFill>
                <a:latin typeface="Arial"/>
              </a:rPr>
              <a:t>–  </a:t>
            </a:r>
            <a:r>
              <a:rPr b="1" i="1" lang="en-GB" sz="2000" spc="-1" strike="noStrike">
                <a:solidFill>
                  <a:srgbClr val="720000"/>
                </a:solidFill>
                <a:latin typeface="Arial"/>
              </a:rPr>
              <a:t>G8/2009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ACSM (Country Level)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720000"/>
                </a:solidFill>
                <a:latin typeface="Arial"/>
              </a:rPr>
              <a:t>Achievements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Building capacity for ACSM at Country Level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orkshops to help strategic implementation of Global Fund ACSM grants held in 4 WHO Regions. Specific country action plans developed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CSM technical assistance coordinated in more than 10 countries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sential ACSM tools for implementers developed: ACSM Handbook, KAP Survey Guide, Guiding Principles Community Involvemen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500"/>
              </a:spcBef>
              <a:buClr>
                <a:srgbClr val="000000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720000"/>
                </a:solidFill>
                <a:latin typeface="Arial"/>
              </a:rPr>
              <a:t>Supporting quality health journalism: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ordinated country-level journalist training planned in Paris during Union Conference 2008 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ffffff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gagement with the HDnet to engage their network of country-level journalists in covering key TB-related issues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6T13:19:11Z</dcterms:created>
  <dc:creator>bacligl</dc:creator>
  <dc:description/>
  <dc:language>en-US</dc:language>
  <cp:lastModifiedBy>bakerl</cp:lastModifiedBy>
  <dcterms:modified xsi:type="dcterms:W3CDTF">2008-11-04T14:30:42Z</dcterms:modified>
  <cp:revision>2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75345243</vt:r8>
  </property>
  <property fmtid="{D5CDD505-2E9C-101B-9397-08002B2CF9AE}" pid="3" name="_AuthorEmail">
    <vt:lpwstr>espinalm@who.int</vt:lpwstr>
  </property>
  <property fmtid="{D5CDD505-2E9C-101B-9397-08002B2CF9AE}" pid="4" name="_AuthorEmailDisplayName">
    <vt:lpwstr>Espinal Fuentes, Marcos Antonio</vt:lpwstr>
  </property>
  <property fmtid="{D5CDD505-2E9C-101B-9397-08002B2CF9AE}" pid="5" name="_EmailSubject">
    <vt:lpwstr>The Workpla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