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9FBF-033F-432D-B46D-5D7B5C77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F566-24E9-4B4F-BB0E-800247FD5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84A7-25B6-417D-B13C-9E3EAE86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456A-0E11-4389-A663-E2712038F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07B7-59E8-4A00-A188-4FEDB4398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B3B6-A9C2-4854-A1D1-1EEE1AF18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DFCAA-A59C-428D-8466-22D30A712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E775A-53BB-43DD-8DEF-02130B2A3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BEB8-43B1-49BE-8086-9B08183D1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5294-E112-4A7A-A7FF-E641D5B24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D53C0-FF0D-467C-8EFF-69E2FB6A5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2EB0-2B82-465C-B29C-9095B26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4954E-2C9E-429E-B31E-884CD7CA2D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stoptb_logo_sm"/>
          <p:cNvPicPr/>
          <p:nvPr/>
        </p:nvPicPr>
        <p:blipFill>
          <a:blip r:embed="rId2"/>
          <a:stretch/>
        </p:blipFill>
        <p:spPr>
          <a:xfrm>
            <a:off x="5962680" y="6005520"/>
            <a:ext cx="3181320" cy="852480"/>
          </a:xfrm>
          <a:prstGeom prst="rect">
            <a:avLst/>
          </a:prstGeom>
          <a:ln w="0">
            <a:noFill/>
          </a:ln>
        </p:spPr>
      </p:pic>
      <p:sp>
        <p:nvSpPr>
          <p:cNvPr id="6" name="Line 9"/>
          <p:cNvSpPr/>
          <p:nvPr/>
        </p:nvSpPr>
        <p:spPr>
          <a:xfrm>
            <a:off x="774720" y="1403280"/>
            <a:ext cx="7488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25320" y="179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Global Advocacy Prioriti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371600" y="1983960"/>
            <a:ext cx="6400800" cy="36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Paul Sommerfel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Arial"/>
              </a:rPr>
              <a:t>Chair, ACSM Working Gro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 Coordinating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Bagamoyo, Republic of Tanza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8-29, 200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62040" y="182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Global Advocacy Priorities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Purpose of the Theme and Calendar is to focus and better coordinate Partners' eff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Once these are endorsed by the Coordinating Board, Advocacy Partners will agree on taking leading roles in various ev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68200"/>
            <a:ext cx="7772400" cy="11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The overarching theme for 2009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566360"/>
            <a:ext cx="7772400" cy="452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We are finding the ‘missing’ TB cases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40% of estimated TB cases are not in contact with national TB program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ome will have no access to appropriate healthcare; others will be in the private sector or other parts of the public s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reflects success. Basic DOTS programmes are working. Now we can focus on that part of the task that previously was second priorit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he theme is relevant to virtually every side of the Partnership: DOTS expansion, ACSM, MDR, TB/HIV, New tools to detect and treat, Lab strengthening, Poverty…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967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9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71120" y="1663560"/>
            <a:ext cx="773604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vember 2008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amako Ministerial Forum on Research for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he Global Fund Partnership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ntl. Conference on AIDS and STI's in Africa,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CASA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Januar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Economic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bruary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North American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ch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Africa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' For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pril 2009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27 High-Burden MDR-TB Countrie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ring Meeting of World Bank and IM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12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World Congress on Public Heal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y 2009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World Health Assemb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onwealth Health Ministers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Health Council 36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Annual Con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UATLD Conference- Europe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08080"/>
            <a:ext cx="7772400" cy="96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CALENDAR 2008 (cont.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614600"/>
            <a:ext cx="7772400" cy="44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ne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Pacific Health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Union Parliamentary El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8 Summ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July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COS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Septem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European congress on Tropical Medicine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and Intl. Heal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October 2009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linton Global Initia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ordinating Board, Moscow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Bank/IM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Global Fund Board mee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Nov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December 2008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World AIDS 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Union World Conference on Lung 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Healt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523800"/>
            <a:ext cx="9144000" cy="559764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230880" y="6143760"/>
            <a:ext cx="2913120" cy="71424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93480" y="0"/>
            <a:ext cx="7699320" cy="4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otential Advocacy Calendar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17T12:13:56Z</dcterms:created>
  <dc:creator>LamyQuiqueS</dc:creator>
  <dc:description/>
  <dc:language>en-US</dc:language>
  <cp:lastModifiedBy>Paul</cp:lastModifiedBy>
  <cp:lastPrinted>2002-05-31T10:14:11Z</cp:lastPrinted>
  <dcterms:modified xsi:type="dcterms:W3CDTF">2008-10-25T14:31:03Z</dcterms:modified>
  <cp:revision>131</cp:revision>
  <dc:subject/>
  <dc:title>No Slide 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12811480</vt:r8>
  </property>
  <property fmtid="{D5CDD505-2E9C-101B-9397-08002B2CF9AE}" pid="3" name="_AuthorEmail">
    <vt:lpwstr>HernandezH@who.int</vt:lpwstr>
  </property>
  <property fmtid="{D5CDD505-2E9C-101B-9397-08002B2CF9AE}" pid="4" name="_AuthorEmailDisplayName">
    <vt:lpwstr>Hernandez, L. Homero</vt:lpwstr>
  </property>
  <property fmtid="{D5CDD505-2E9C-101B-9397-08002B2CF9AE}" pid="5" name="_EmailSubject">
    <vt:lpwstr>Advocacy Theme and Critical Events Presentation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