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png" ContentType="image/png"/>
  <Override PartName="/ppt/media/image10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11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81800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7824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3843360" y="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90936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3"/>
          </p:nvPr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43E03-90DC-4ADC-9D07-7FA4639FB4C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D5E5-4973-4AE8-ADCC-8C04F02686D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922320" y="77616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903240" y="4718160"/>
            <a:ext cx="4975200" cy="44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7"/>
          <p:cNvSpPr/>
          <p:nvPr/>
        </p:nvSpPr>
        <p:spPr>
          <a:xfrm>
            <a:off x="3843360" y="9429840"/>
            <a:ext cx="293832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A352-46C8-434D-8421-C964A28C79F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90972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04680" y="4714560"/>
            <a:ext cx="49719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7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0300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9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22" descr=""/>
          <p:cNvPicPr/>
          <p:nvPr/>
        </p:nvPicPr>
        <p:blipFill>
          <a:blip r:embed="rId2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mailto:draurio.barreira@saude.gov.br" TargetMode="External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-154944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dito Lu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6 de novembro de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5364000" y="6208560"/>
            <a:ext cx="295128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5f5f5"/>
                </a:solidFill>
                <a:latin typeface="Arial"/>
              </a:rPr>
              <a:t>Departamento de Vigilância Epidemiológ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253800" y="2679480"/>
            <a:ext cx="81342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TB-HIV ROUNDTABLE</a:t>
            </a:r>
            <a:br>
              <a:rPr sz="24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0" lang="pt-BR" sz="18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Stop TB Partnership</a:t>
            </a:r>
            <a:br>
              <a:rPr sz="1800"/>
            </a:br>
            <a:r>
              <a:rPr b="0" lang="pt-BR" sz="1800" spc="-1" strike="noStrike">
                <a:solidFill>
                  <a:srgbClr val="ffffff"/>
                </a:solidFill>
                <a:latin typeface="Times New Roman"/>
              </a:rPr>
              <a:t> Coordinating Board Meeting</a:t>
            </a:r>
            <a:br>
              <a:rPr sz="2400"/>
            </a:br>
            <a:r>
              <a:rPr b="0" lang="pt-BR" sz="1600" spc="-1" strike="noStrike">
                <a:solidFill>
                  <a:srgbClr val="ffffff"/>
                </a:solidFill>
                <a:latin typeface="Times New Roman"/>
              </a:rPr>
              <a:t>Bagamoyo, Tanzania, 28-29 October 2008</a:t>
            </a:r>
            <a:br>
              <a:rPr sz="1600"/>
            </a:b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Draurio Barreira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oordinator of Brazilian National TB Progr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1476360" y="189000"/>
            <a:ext cx="712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 Unicode MS"/>
              </a:rPr>
              <a:t>Municipalities with at least 1 AIDS case.    Brazil, 1990 –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52280" y="4437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0-199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173720" y="566100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2001-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389120" y="5157720"/>
            <a:ext cx="143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Arial Unicode MS"/>
              </a:rPr>
              <a:t>1996-2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31360" y="6364440"/>
            <a:ext cx="576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Source: MS/SVS/PN-DST/AIDS e MS/SVS/DASIS/ Sistema de Informações sobre Mortalidade - SI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Notified cases in Sinan, registred in Siscel until 06/30/2006 and SIM from 2000 to 2005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142920" y="1628640"/>
            <a:ext cx="3058920" cy="273708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3083040" y="2205000"/>
            <a:ext cx="3097080" cy="28796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6012000" y="2637000"/>
            <a:ext cx="3132000" cy="295272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5386320" y="1700280"/>
            <a:ext cx="28951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 Unicode MS"/>
              </a:rPr>
              <a:t>85% of all municip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7451640" y="1008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79280" y="6095880"/>
            <a:ext cx="457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371520" y="433440"/>
            <a:ext cx="8582040" cy="5502240"/>
            <a:chOff x="371520" y="433440"/>
            <a:chExt cx="8582040" cy="5502240"/>
          </a:xfrm>
        </p:grpSpPr>
        <p:sp>
          <p:nvSpPr>
            <p:cNvPr id="319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587600" y="1336680"/>
              <a:ext cx="7364160" cy="3862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587600" y="1336680"/>
              <a:ext cx="1440" cy="3862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50880" y="51991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550880" y="46450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550880" y="409248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550880" y="3538440"/>
              <a:ext cx="3672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550880" y="299736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1550880" y="244332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1550880" y="18892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550880" y="1336680"/>
              <a:ext cx="3672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116080" y="1986120"/>
              <a:ext cx="6305760" cy="1155600"/>
            </a:xfrm>
            <a:custGeom>
              <a:avLst/>
              <a:gdLst/>
              <a:ahLst/>
              <a:rect l="l" t="t" r="r" b="b"/>
              <a:pathLst>
                <a:path w="524" h="96">
                  <a:moveTo>
                    <a:pt x="0" y="96"/>
                  </a:moveTo>
                  <a:lnTo>
                    <a:pt x="87" y="79"/>
                  </a:lnTo>
                  <a:lnTo>
                    <a:pt x="175" y="60"/>
                  </a:lnTo>
                  <a:lnTo>
                    <a:pt x="262" y="47"/>
                  </a:lnTo>
                  <a:lnTo>
                    <a:pt x="349" y="28"/>
                  </a:lnTo>
                  <a:lnTo>
                    <a:pt x="437" y="0"/>
                  </a:lnTo>
                  <a:lnTo>
                    <a:pt x="524" y="5"/>
                  </a:lnTo>
                </a:path>
              </a:pathLst>
            </a:custGeom>
            <a:noFill/>
            <a:ln w="3636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116080" y="4068720"/>
              <a:ext cx="6305760" cy="360360"/>
            </a:xfrm>
            <a:custGeom>
              <a:avLst/>
              <a:gdLst/>
              <a:ahLst/>
              <a:rect l="l" t="t" r="r" b="b"/>
              <a:pathLst>
                <a:path w="524" h="30">
                  <a:moveTo>
                    <a:pt x="0" y="0"/>
                  </a:moveTo>
                  <a:lnTo>
                    <a:pt x="87" y="6"/>
                  </a:lnTo>
                  <a:lnTo>
                    <a:pt x="175" y="16"/>
                  </a:lnTo>
                  <a:lnTo>
                    <a:pt x="262" y="22"/>
                  </a:lnTo>
                  <a:lnTo>
                    <a:pt x="349" y="27"/>
                  </a:lnTo>
                  <a:lnTo>
                    <a:pt x="437" y="28"/>
                  </a:lnTo>
                  <a:lnTo>
                    <a:pt x="524" y="30"/>
                  </a:lnTo>
                </a:path>
              </a:pathLst>
            </a:custGeom>
            <a:noFill/>
            <a:ln w="363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81320" y="433440"/>
              <a:ext cx="677808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Perfomed HIV exam percentage and positivity in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444760" y="806400"/>
              <a:ext cx="4781520" cy="35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300" spc="-1" strike="noStrike">
                  <a:solidFill>
                    <a:srgbClr val="000000"/>
                  </a:solidFill>
                  <a:latin typeface="Arial"/>
                </a:rPr>
                <a:t>new TB cases. Brazil, 2001- 2007.  </a:t>
              </a:r>
              <a:endParaRPr b="0" lang="en-US" sz="2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1455840" y="511488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83480" y="45608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83480" y="40086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383480" y="345456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1383480" y="29131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383480" y="235908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1383480" y="180504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1383480" y="125100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71520" y="545148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71520" y="5934240"/>
              <a:ext cx="85802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587600" y="5199120"/>
              <a:ext cx="736416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71520" y="5451480"/>
              <a:ext cx="1440" cy="482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15876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6337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9252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474012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579924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540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7904160" y="5199120"/>
              <a:ext cx="144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51760" y="5199120"/>
              <a:ext cx="1800" cy="7351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07880" y="5584680"/>
              <a:ext cx="289080" cy="1800"/>
            </a:xfrm>
            <a:prstGeom prst="line">
              <a:avLst/>
            </a:prstGeom>
            <a:ln w="36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815760" y="5511960"/>
              <a:ext cx="773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Realizaçã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000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37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0477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0,9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10652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5,2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15268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47,8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62118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2,08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25940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8,19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8318160" y="550080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57,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4120" y="5705640"/>
              <a:ext cx="85550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7880" y="5824440"/>
              <a:ext cx="289080" cy="180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804960" y="57531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% Positiv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2000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,4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0477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9,1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0652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7,1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15268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5,6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62118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5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725940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3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8318160" y="574056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14,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0127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89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11768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16564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622440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27056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29320" y="523548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surveillance of HIV prevalence among tuberculosis 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arry out joint TB/HIV planning</a:t>
            </a:r>
            <a:r>
              <a:rPr b="0" lang="es-ES_tradnl" sz="2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Conduct monitoring and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stablish intensified tuberculosis case-find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640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isoniazid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tuberculosis infection control in health care and congregate setting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80808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80808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Provide HIV testing and counsel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2280" y="222120"/>
            <a:ext cx="4697640" cy="61023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859280" y="426960"/>
            <a:ext cx="4191120" cy="60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razi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89.000.000 inhabitant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80.000 TB cases per y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B incidence rate: 38,9 cases/ 100.000 inhabita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ss than 1.5% of TB-MD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most 5.000 deaths per year   (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cause of death among AIDS patient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ighest country in burden of TB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08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TB incidence rate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a donor and recipient of GFA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O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04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HIV prevention metho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60520" indent="680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co-trimoxazole preventive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Ensure HIV/AIDS care and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80808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Introduce antiretroviral thera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/>
          </p:nvPr>
        </p:nvSpPr>
        <p:spPr>
          <a:xfrm>
            <a:off x="324000" y="259920"/>
            <a:ext cx="8640720" cy="528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he Global Plan to Stop TB: 12 TB/HIV collaborative activiti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Establish mechanisms for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t up a coordinating body for TB/HIV activities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 all level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surveillance of HIV prevalence among tuberculosis  patients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arry out joint TB/HIV plann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r>
              <a:rPr b="0" lang="es-ES_tradnl" sz="2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duct monitoring and evaluation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tuberculosis in people living with HIV/A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stablish intensified tuberculosis case-find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isoniazid preventive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uberculosis infection control in health care and congregate setting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94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.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crease the burden of HIV in tuberculosis pati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e HIV testing and counselling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HIV prevention methods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co-trimoxazole preventive therapy </a:t>
            </a:r>
            <a:r>
              <a:rPr b="0" lang="en-GB" sz="2000" spc="-1" strike="noStrike">
                <a:solidFill>
                  <a:srgbClr val="ff0000"/>
                </a:solidFill>
                <a:latin typeface="Arial"/>
              </a:rPr>
              <a:t>(not y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HIV/AIDS care and support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32440" indent="6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roduce antiretroviral therapy </a:t>
            </a:r>
            <a:r>
              <a:rPr b="0" lang="es-ES_tradnl" sz="2000" spc="-1" strike="noStrike">
                <a:solidFill>
                  <a:srgbClr val="ff0000"/>
                </a:solidFill>
                <a:latin typeface="Wingdings"/>
                <a:ea typeface="Wingdings"/>
              </a:rPr>
              <a:t>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Rectangle 2"/>
          <p:cNvSpPr/>
          <p:nvPr/>
        </p:nvSpPr>
        <p:spPr>
          <a:xfrm>
            <a:off x="468360" y="-27000"/>
            <a:ext cx="7850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ain activities done in health care net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Rectangle 3"/>
          <p:cNvSpPr/>
          <p:nvPr/>
        </p:nvSpPr>
        <p:spPr>
          <a:xfrm>
            <a:off x="685800" y="1341360"/>
            <a:ext cx="777240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ong surveillance system (unique and national system, drugs distribution, data base crossing, TB-MDR surveillance system, MDR survey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entralization of TB control to Primary Health C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pport of GFATM to setting TB/HIV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itoring and expanding the HIV rapid test and the following up of TB pati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PD and isoniazid introduction in AIDS network: training and service re-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lifying co-infection management and structuring the referrals  network: support to outpatients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rollment of civil society in TB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4000" indent="-324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tilizing DOTS Strategy in co-infected pop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Rectangle 2"/>
          <p:cNvSpPr/>
          <p:nvPr/>
        </p:nvSpPr>
        <p:spPr>
          <a:xfrm>
            <a:off x="611280" y="54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ntiretroviral treatment and chemoprophylaxis impact during TB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8" name=""/>
          <p:cNvGraphicFramePr/>
          <p:nvPr/>
        </p:nvGraphicFramePr>
        <p:xfrm>
          <a:off x="539640" y="1341360"/>
          <a:ext cx="8137440" cy="5024520"/>
        </p:xfrm>
        <a:graphic>
          <a:graphicData uri="http://schemas.openxmlformats.org/drawingml/2006/table">
            <a:tbl>
              <a:tblPr/>
              <a:tblGrid>
                <a:gridCol w="3689280"/>
                <a:gridCol w="2784600"/>
                <a:gridCol w="166356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Adjuste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RH (95%CI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P-valu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aïv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 HAAR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nly</a:t>
                      </a:r>
                      <a:r>
                        <a:rPr b="0" lang="en-US" sz="20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HAART and C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1 (0.31-0.54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7 (0.18-1.8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4 (0.11-0.5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vious T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9 (0.88-1.6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CD4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&lt; 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 – 3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50 – 49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34 (0.25-0.4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9 (0.13-0.2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10 (0.07-0.15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&lt; 0.0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ge                &lt; 3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-3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-4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	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 ≥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98 (0.73-1.3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69 (0.49-0.9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3 (0.33-0.83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&lt; 0.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399" name="Group 7"/>
          <p:cNvGrpSpPr/>
          <p:nvPr/>
        </p:nvGrpSpPr>
        <p:grpSpPr>
          <a:xfrm>
            <a:off x="2519280" y="2278080"/>
            <a:ext cx="2000160" cy="520200"/>
            <a:chOff x="2519280" y="2278080"/>
            <a:chExt cx="2000160" cy="520200"/>
          </a:xfrm>
        </p:grpSpPr>
        <p:sp>
          <p:nvSpPr>
            <p:cNvPr id="400" name="TextBox 3"/>
            <p:cNvSpPr/>
            <p:nvPr/>
          </p:nvSpPr>
          <p:spPr>
            <a:xfrm>
              <a:off x="2519280" y="2278080"/>
              <a:ext cx="1571760" cy="52020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59% reduction in TB risk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Right Arrow 6"/>
            <p:cNvSpPr/>
            <p:nvPr/>
          </p:nvSpPr>
          <p:spPr>
            <a:xfrm>
              <a:off x="4091040" y="249228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Group 8"/>
          <p:cNvGrpSpPr/>
          <p:nvPr/>
        </p:nvGrpSpPr>
        <p:grpSpPr>
          <a:xfrm>
            <a:off x="2595600" y="2887560"/>
            <a:ext cx="2000160" cy="580680"/>
            <a:chOff x="2595600" y="2887560"/>
            <a:chExt cx="2000160" cy="580680"/>
          </a:xfrm>
        </p:grpSpPr>
        <p:sp>
          <p:nvSpPr>
            <p:cNvPr id="403" name="TextBox 9"/>
            <p:cNvSpPr/>
            <p:nvPr/>
          </p:nvSpPr>
          <p:spPr>
            <a:xfrm>
              <a:off x="2595600" y="2887560"/>
              <a:ext cx="1571760" cy="580680"/>
            </a:xfrm>
            <a:prstGeom prst="rect">
              <a:avLst/>
            </a:prstGeom>
            <a:gradFill rotWithShape="0">
              <a:gsLst>
                <a:gs pos="0">
                  <a:srgbClr val="9595ff"/>
                </a:gs>
                <a:gs pos="100000">
                  <a:srgbClr val="e1e1ff"/>
                </a:gs>
              </a:gsLst>
              <a:lin ang="16200000"/>
            </a:gradFill>
            <a:ln w="9360">
              <a:solidFill>
                <a:srgbClr val="2e2ec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76%</a:t>
              </a:r>
              <a:r>
                <a:rPr b="0" lang="pt-BR" sz="1600" spc="-1" strike="noStrike">
                  <a:solidFill>
                    <a:srgbClr val="ff0000"/>
                  </a:solidFill>
                  <a:latin typeface="Calisto MT"/>
                  <a:ea typeface="Arial Unicode MS"/>
                </a:rPr>
                <a:t> reduction in TB ris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Right Arrow 10"/>
            <p:cNvSpPr/>
            <p:nvPr/>
          </p:nvSpPr>
          <p:spPr>
            <a:xfrm>
              <a:off x="4167360" y="3101760"/>
              <a:ext cx="428400" cy="142920"/>
            </a:xfrm>
            <a:prstGeom prst="rightArrow">
              <a:avLst>
                <a:gd name="adj1" fmla="val 50000"/>
                <a:gd name="adj2" fmla="val 49889"/>
              </a:avLst>
            </a:prstGeom>
            <a:solidFill>
              <a:srgbClr val="bbe0e3"/>
            </a:solidFill>
            <a:ln w="25560">
              <a:solidFill>
                <a:srgbClr val="00956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5" name="TextBox 11"/>
          <p:cNvSpPr/>
          <p:nvPr/>
        </p:nvSpPr>
        <p:spPr>
          <a:xfrm>
            <a:off x="536040" y="6313320"/>
            <a:ext cx="232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cc"/>
                </a:solidFill>
                <a:latin typeface="Arial"/>
                <a:ea typeface="Arial Unicode MS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  <a:ea typeface="Arial Unicode MS"/>
              </a:rPr>
              <a:t>Golub et al. AIDS 200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3000" fill="hold"/>
                                        <p:tgtEl>
                                          <p:spTgt spid="402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179280" y="189000"/>
            <a:ext cx="41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lcome to Partners` Forum Rio 2009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" name="" descr=""/>
          <p:cNvPicPr/>
          <p:nvPr/>
        </p:nvPicPr>
        <p:blipFill>
          <a:blip r:embed="rId1"/>
          <a:stretch/>
        </p:blipFill>
        <p:spPr>
          <a:xfrm>
            <a:off x="-19080" y="-9360"/>
            <a:ext cx="9182160" cy="6876720"/>
          </a:xfrm>
          <a:prstGeom prst="rect">
            <a:avLst/>
          </a:prstGeom>
          <a:ln w="0">
            <a:noFill/>
          </a:ln>
        </p:spPr>
      </p:pic>
      <p:sp>
        <p:nvSpPr>
          <p:cNvPr id="409" name="Rectangle 5"/>
          <p:cNvSpPr/>
          <p:nvPr/>
        </p:nvSpPr>
        <p:spPr>
          <a:xfrm>
            <a:off x="3994200" y="404640"/>
            <a:ext cx="5041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Draurio Barrei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ffffff"/>
                </a:solidFill>
                <a:uFillTx/>
                <a:latin typeface="Arial"/>
              </a:rPr>
              <a:t>draurio.barreira@saude.gov.br</a:t>
            </a:r>
            <a:r>
              <a:rPr b="0" lang="pt-BR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Tel.: + 55 61 3213-82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olitical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468360" y="1341360"/>
            <a:ext cx="842472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momentu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conomic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overnment social programs (“Bolsa Famili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ore employments, medium income increased (bigger minimum wages), less people living below de poverty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litical commitment and financial support for NTP from the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ealth sector contex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9"/>
          <p:cNvSpPr/>
          <p:nvPr/>
        </p:nvSpPr>
        <p:spPr>
          <a:xfrm>
            <a:off x="468360" y="1341360"/>
            <a:ext cx="8424720" cy="33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B is one of the 5 top public health priorities for the Brazilian Mo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azilian Public Health Care System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fied and univer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eatment free of charge for all population (it is a constitutional right: “Health is a right of all and a duty of the State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mary, secondary, and tertiary health care provi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852480" y="260280"/>
            <a:ext cx="745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Brazilian NTP budget from 2000 t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(included the drugs for treatment, 1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and 2</a:t>
            </a:r>
            <a:r>
              <a:rPr b="1" lang="es-E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 li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073880" y="1700280"/>
            <a:ext cx="7027200" cy="4436280"/>
            <a:chOff x="1073880" y="1700280"/>
            <a:chExt cx="7027200" cy="4436280"/>
          </a:xfrm>
        </p:grpSpPr>
        <p:sp>
          <p:nvSpPr>
            <p:cNvPr id="65" name=""/>
            <p:cNvSpPr/>
            <p:nvPr/>
          </p:nvSpPr>
          <p:spPr>
            <a:xfrm>
              <a:off x="1547640" y="17002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US$ x 1.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" name=""/>
            <p:cNvGrpSpPr/>
            <p:nvPr/>
          </p:nvGrpSpPr>
          <p:grpSpPr>
            <a:xfrm>
              <a:off x="1073880" y="2097360"/>
              <a:ext cx="6993720" cy="3274560"/>
              <a:chOff x="1073880" y="2097360"/>
              <a:chExt cx="6993720" cy="3274560"/>
            </a:xfrm>
          </p:grpSpPr>
          <p:sp>
            <p:nvSpPr>
              <p:cNvPr id="67" name=""/>
              <p:cNvSpPr/>
              <p:nvPr/>
            </p:nvSpPr>
            <p:spPr>
              <a:xfrm>
                <a:off x="2195280" y="5265360"/>
                <a:ext cx="587232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2195280" y="476316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195280" y="425880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195280" y="377604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2195280" y="3271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2195280" y="2767680"/>
                <a:ext cx="5872320" cy="180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2195280" y="2265840"/>
                <a:ext cx="5872320" cy="1440"/>
              </a:xfrm>
              <a:prstGeom prst="line">
                <a:avLst/>
              </a:prstGeom>
              <a:ln w="0">
                <a:solidFill>
                  <a:srgbClr val="c0c0c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2367000" y="4803480"/>
                <a:ext cx="363600" cy="46188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095640" y="4950360"/>
                <a:ext cx="385560" cy="315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844800" y="5013360"/>
                <a:ext cx="365040" cy="25200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573440" y="4595040"/>
                <a:ext cx="365040" cy="670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5302080" y="3902040"/>
                <a:ext cx="365400" cy="1363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030720" y="3776040"/>
                <a:ext cx="385920" cy="148932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781680" y="3040920"/>
                <a:ext cx="363600" cy="222444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510320" y="2685600"/>
                <a:ext cx="363600" cy="2579760"/>
              </a:xfrm>
              <a:prstGeom prst="rect">
                <a:avLst/>
              </a:prstGeom>
              <a:solidFill>
                <a:srgbClr val="ffcc00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2195280" y="2265840"/>
                <a:ext cx="1800" cy="29995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2109600" y="526536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2109600" y="476316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2109600" y="425880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2109600" y="377604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109600" y="3271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2109600" y="2767680"/>
                <a:ext cx="8568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2109600" y="2265840"/>
                <a:ext cx="8568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895400" y="5097240"/>
                <a:ext cx="127080" cy="274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8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073880" y="4595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1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1073880" y="409104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2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073880" y="3607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3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073880" y="310392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4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073880" y="2601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5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1073880" y="2097360"/>
                <a:ext cx="54648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pt-BR" sz="1400" spc="-1" strike="noStrike">
                    <a:solidFill>
                      <a:srgbClr val="000000"/>
                    </a:solidFill>
                    <a:latin typeface="Arial"/>
                  </a:rPr>
                  <a:t>60.000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"/>
            <p:cNvSpPr/>
            <p:nvPr/>
          </p:nvSpPr>
          <p:spPr>
            <a:xfrm>
              <a:off x="284328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6220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43131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4648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7657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122560" y="5370480"/>
              <a:ext cx="865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51492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235640" y="5370480"/>
              <a:ext cx="865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200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4500360" y="5829480"/>
              <a:ext cx="1295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4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51280" y="2332080"/>
            <a:ext cx="33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Increase of 9.3 fold from 2002 t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26920" y="6308640"/>
            <a:ext cx="686124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39th Union World Conference on Lung Health, 16 to 20 Octob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371600"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4"/>
          <p:cNvSpPr/>
          <p:nvPr/>
        </p:nvSpPr>
        <p:spPr>
          <a:xfrm>
            <a:off x="671400" y="5475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Object 5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Rectangle 6"/>
          <p:cNvSpPr/>
          <p:nvPr/>
        </p:nvSpPr>
        <p:spPr>
          <a:xfrm>
            <a:off x="2286000" y="6095880"/>
            <a:ext cx="624852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0"/>
          <p:cNvGraphicFramePr/>
          <p:nvPr/>
        </p:nvGraphicFramePr>
        <p:xfrm>
          <a:off x="1752480" y="6411960"/>
          <a:ext cx="6096240" cy="222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752480" y="6411960"/>
                    <a:ext cx="6096240" cy="22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Rectangle 19"/>
          <p:cNvSpPr/>
          <p:nvPr/>
        </p:nvSpPr>
        <p:spPr>
          <a:xfrm>
            <a:off x="611280" y="504720"/>
            <a:ext cx="78199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azil, 1999 - 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21"/>
          <p:cNvSpPr/>
          <p:nvPr/>
        </p:nvSpPr>
        <p:spPr>
          <a:xfrm>
            <a:off x="250920" y="6323040"/>
            <a:ext cx="338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</a:rPr>
              <a:t>Source: SINAN 31/12/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213760" y="5049720"/>
            <a:ext cx="41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311960" y="5084640"/>
            <a:ext cx="347760" cy="144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88800" y="1433520"/>
            <a:ext cx="8534520" cy="35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88800" y="4991040"/>
            <a:ext cx="85345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38880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145728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52576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3594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236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571824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7867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7854840" y="4991040"/>
            <a:ext cx="180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8923320" y="4991040"/>
            <a:ext cx="1440" cy="28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46080" y="294480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85760" y="2973240"/>
            <a:ext cx="4788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10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25440" y="300348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365120" y="303228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492200" y="306216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631880" y="30924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71560" y="312120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11240" y="31510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14560" y="3165480"/>
            <a:ext cx="4752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54240" y="3195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293920" y="32241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33600" y="326880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71840" y="32986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11520" y="332748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85120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9088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8304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222720" y="338760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6240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502080" y="3357720"/>
            <a:ext cx="46080" cy="2988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639960" y="3327480"/>
            <a:ext cx="47880" cy="4428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10"/>
                </a:moveTo>
                <a:lnTo>
                  <a:pt x="30" y="0"/>
                </a:lnTo>
                <a:lnTo>
                  <a:pt x="30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780000" y="33130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919680" y="3298680"/>
            <a:ext cx="4572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9"/>
                </a:moveTo>
                <a:lnTo>
                  <a:pt x="29" y="0"/>
                </a:lnTo>
                <a:lnTo>
                  <a:pt x="29" y="18"/>
                </a:lnTo>
                <a:lnTo>
                  <a:pt x="0" y="28"/>
                </a:lnTo>
                <a:lnTo>
                  <a:pt x="0" y="9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059360" y="328284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10"/>
                </a:moveTo>
                <a:lnTo>
                  <a:pt x="29" y="0"/>
                </a:lnTo>
                <a:lnTo>
                  <a:pt x="29" y="19"/>
                </a:lnTo>
                <a:lnTo>
                  <a:pt x="0" y="28"/>
                </a:lnTo>
                <a:lnTo>
                  <a:pt x="0" y="1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5116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29084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430880" y="32828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68760" y="328284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708440" y="328284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848120" y="328284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98780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127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08480" y="3298680"/>
            <a:ext cx="4608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348160" y="331308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486400" y="3313080"/>
            <a:ext cx="47520" cy="44640"/>
          </a:xfrm>
          <a:custGeom>
            <a:avLst/>
            <a:gdLst/>
            <a:ahLst/>
            <a:rect l="l" t="t" r="r" b="b"/>
            <a:pathLst>
              <a:path w="30" h="28">
                <a:moveTo>
                  <a:pt x="0" y="0"/>
                </a:moveTo>
                <a:lnTo>
                  <a:pt x="30" y="9"/>
                </a:lnTo>
                <a:lnTo>
                  <a:pt x="30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626080" y="33433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765760" y="33577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905440" y="3371760"/>
            <a:ext cx="46080" cy="4464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10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043680" y="3387600"/>
            <a:ext cx="47520" cy="288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1833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2769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41520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55488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69456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342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7392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112160" y="3402000"/>
            <a:ext cx="475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7251840" y="3402000"/>
            <a:ext cx="4572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45440" y="340200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483320" y="341640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623000" y="34164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763040" y="3430440"/>
            <a:ext cx="457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902720" y="3446640"/>
            <a:ext cx="4572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8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040600" y="3475080"/>
            <a:ext cx="478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80280" y="3490920"/>
            <a:ext cx="46080" cy="284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319960" y="3505320"/>
            <a:ext cx="46080" cy="44280"/>
          </a:xfrm>
          <a:custGeom>
            <a:avLst/>
            <a:gdLst/>
            <a:ahLst/>
            <a:rect l="l" t="t" r="r" b="b"/>
            <a:pathLst>
              <a:path w="29" h="28">
                <a:moveTo>
                  <a:pt x="0" y="0"/>
                </a:moveTo>
                <a:lnTo>
                  <a:pt x="29" y="9"/>
                </a:lnTo>
                <a:lnTo>
                  <a:pt x="29" y="28"/>
                </a:lnTo>
                <a:lnTo>
                  <a:pt x="0" y="19"/>
                </a:lnTo>
                <a:lnTo>
                  <a:pt x="0" y="0"/>
                </a:lnTo>
                <a:close/>
              </a:path>
            </a:pathLst>
          </a:cu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88840" y="288432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957320" y="310680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025800" y="332748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094280" y="3224160"/>
            <a:ext cx="1029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149800" y="324000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21828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286760" y="3343320"/>
            <a:ext cx="104760" cy="1317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354880" y="3511440"/>
            <a:ext cx="104760" cy="13356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46080" y="2924280"/>
            <a:ext cx="7442280" cy="647640"/>
          </a:xfrm>
          <a:custGeom>
            <a:avLst/>
            <a:gdLst/>
            <a:ahLst/>
            <a:rect l="l" t="t" r="r" b="b"/>
            <a:pathLst>
              <a:path w="643" h="29">
                <a:moveTo>
                  <a:pt x="0" y="0"/>
                </a:moveTo>
                <a:lnTo>
                  <a:pt x="92" y="4"/>
                </a:lnTo>
                <a:lnTo>
                  <a:pt x="184" y="8"/>
                </a:lnTo>
                <a:lnTo>
                  <a:pt x="276" y="12"/>
                </a:lnTo>
                <a:lnTo>
                  <a:pt x="367" y="16"/>
                </a:lnTo>
                <a:lnTo>
                  <a:pt x="459" y="21"/>
                </a:lnTo>
                <a:lnTo>
                  <a:pt x="551" y="25"/>
                </a:lnTo>
                <a:lnTo>
                  <a:pt x="643" y="29"/>
                </a:lnTo>
              </a:path>
            </a:pathLst>
          </a:custGeom>
          <a:noFill/>
          <a:ln w="349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800" y="28414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51.4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04920" y="306216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7.8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173400" y="328284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241880" y="31798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7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99200" y="319572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5.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36732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9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4360" y="3298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3.7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8454960" y="3487680"/>
            <a:ext cx="508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8.8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620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72548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7986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862440" y="5094360"/>
            <a:ext cx="490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91796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98644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964200" y="5094360"/>
            <a:ext cx="4906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700360" y="5781600"/>
            <a:ext cx="4752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84004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7972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119400" y="5781600"/>
            <a:ext cx="46080" cy="3024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86120" y="5722920"/>
            <a:ext cx="104760" cy="133200"/>
          </a:xfrm>
          <a:prstGeom prst="rect">
            <a:avLst/>
          </a:prstGeom>
          <a:solidFill>
            <a:srgbClr val="ff00ff"/>
          </a:solidFill>
          <a:ln w="11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174840" y="5664240"/>
            <a:ext cx="1370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nual Incide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865760" y="5781600"/>
            <a:ext cx="498240" cy="18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480640" y="5664240"/>
            <a:ext cx="1379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near regre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794760" y="2708280"/>
            <a:ext cx="374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ecrease of annual incidence rate = 3.5%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101080" y="5056200"/>
            <a:ext cx="7189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395280" y="2133360"/>
            <a:ext cx="0" cy="287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762120"/>
            <a:ext cx="152280" cy="6095880"/>
          </a:xfrm>
          <a:prstGeom prst="rect">
            <a:avLst/>
          </a:prstGeom>
          <a:gradFill rotWithShape="0">
            <a:gsLst>
              <a:gs pos="0">
                <a:srgbClr val="9c0000"/>
              </a:gs>
              <a:gs pos="100000">
                <a:srgbClr val="ff0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467480" y="6477120"/>
            <a:ext cx="1600200" cy="32364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52280" y="6705720"/>
            <a:ext cx="731520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3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0" y="0"/>
            <a:ext cx="152280" cy="762120"/>
          </a:xfrm>
          <a:prstGeom prst="rect">
            <a:avLst/>
          </a:prstGeom>
          <a:solidFill>
            <a:srgbClr val="5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395280" y="1989000"/>
            <a:ext cx="7885080" cy="383076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39528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incidence rate (per 100,000 inhabitants),             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 diagnostic year. 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0920" y="6224760"/>
            <a:ext cx="457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MS / SVS / SINAN e IB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Estimative r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6083280" y="3524400"/>
            <a:ext cx="30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27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19640" y="1557360"/>
            <a:ext cx="3672000" cy="4316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25.8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873720" y="2565360"/>
            <a:ext cx="7370280" cy="3408120"/>
            <a:chOff x="873720" y="2565360"/>
            <a:chExt cx="7370280" cy="3408120"/>
          </a:xfrm>
        </p:grpSpPr>
        <p:sp>
          <p:nvSpPr>
            <p:cNvPr id="237" name=""/>
            <p:cNvSpPr/>
            <p:nvPr/>
          </p:nvSpPr>
          <p:spPr>
            <a:xfrm rot="18477000">
              <a:off x="858600" y="5473800"/>
              <a:ext cx="644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rot="18477000">
              <a:off x="11826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rot="18477000">
              <a:off x="13860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 rot="18477000">
              <a:off x="16876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rot="18477000">
              <a:off x="197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rot="18477000">
              <a:off x="7578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rot="18477000">
              <a:off x="22496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rot="18477000">
              <a:off x="7305480" y="5512320"/>
              <a:ext cx="571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rot="18477000">
              <a:off x="276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rot="18477000">
              <a:off x="3056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rot="18477000">
              <a:off x="327204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rot="18477000">
              <a:off x="35593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 rot="18477000">
              <a:off x="38340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 rot="18477000">
              <a:off x="2552040" y="5514120"/>
              <a:ext cx="569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199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 rot="18477000">
              <a:off x="412272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rot="18477000">
              <a:off x="442440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rot="18477000">
              <a:off x="469908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rot="18477000">
              <a:off x="4927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rot="18477000">
              <a:off x="621036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0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rot="18477000">
              <a:off x="651204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rot="18477000">
              <a:off x="679932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rot="18477000">
              <a:off x="7065000" y="5518080"/>
              <a:ext cx="588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1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rot="18477000">
              <a:off x="5214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rot="18477000">
              <a:off x="543240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rot="18477000">
              <a:off x="5719680" y="551340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8477000">
              <a:off x="6006960" y="5508720"/>
              <a:ext cx="571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2009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14560" y="256536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51.75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1186920" y="2924280"/>
              <a:ext cx="7164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8028000" y="3859200"/>
              <a:ext cx="216000" cy="4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6" name=""/>
          <p:cNvGraphicFramePr/>
          <p:nvPr/>
        </p:nvGraphicFramePr>
        <p:xfrm>
          <a:off x="539640" y="2603520"/>
          <a:ext cx="7839360" cy="346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2603520"/>
                    <a:ext cx="7839360" cy="346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"/>
          <p:cNvSpPr/>
          <p:nvPr/>
        </p:nvSpPr>
        <p:spPr>
          <a:xfrm>
            <a:off x="685800" y="33336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B mortality rate (per 100,000 inhab.), per occurrence year. Brazil, 1990 - 2015*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18477000">
            <a:off x="1089000" y="5629320"/>
            <a:ext cx="644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8477000">
            <a:off x="14126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8477000">
            <a:off x="161568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rot="18477000">
            <a:off x="19177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rot="18477000">
            <a:off x="220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8477000">
            <a:off x="780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18477000">
            <a:off x="24796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8477000">
            <a:off x="7535880" y="566748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18477000">
            <a:off x="299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8477000">
            <a:off x="3286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rot="18477000">
            <a:off x="350208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8477000">
            <a:off x="3789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 rot="18477000">
            <a:off x="40640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rot="18477000">
            <a:off x="2781720" y="5670000"/>
            <a:ext cx="57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199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18477000">
            <a:off x="4353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 rot="18477000">
            <a:off x="465444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rot="18477000">
            <a:off x="492912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8477000">
            <a:off x="515736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rot="18477000">
            <a:off x="64400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 rot="18477000">
            <a:off x="6741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8477000">
            <a:off x="702900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rot="18477000">
            <a:off x="7295040" y="5673600"/>
            <a:ext cx="58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rot="18477000">
            <a:off x="544500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rot="18477000">
            <a:off x="566244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8477000">
            <a:off x="5949720" y="5669640"/>
            <a:ext cx="57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rot="18477000">
            <a:off x="6237360" y="5664240"/>
            <a:ext cx="571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19640" y="1844640"/>
            <a:ext cx="3672000" cy="43200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Goal to 2015: 1.7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9280" y="6284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ource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MS / SVS / SIM e IB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*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 Estimative r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79280" y="1989000"/>
            <a:ext cx="23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rtality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619280" y="3355920"/>
            <a:ext cx="28872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8172000" y="436392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264360" y="4029120"/>
            <a:ext cx="32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Estimative rate to 2015: 1.4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835280" y="309240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3.5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2"/>
          <p:cNvSpPr/>
          <p:nvPr/>
        </p:nvSpPr>
        <p:spPr>
          <a:xfrm>
            <a:off x="46836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-infection TB/HIV in Brazil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3"/>
          <p:cNvSpPr/>
          <p:nvPr/>
        </p:nvSpPr>
        <p:spPr>
          <a:xfrm>
            <a:off x="3240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 is the country with most TB cases in Latin America, with 94,000 estimated new cases per year (WHO, 2007) and approximately 80,000 case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V test coverage in TB patients is of approximately 57% (2007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sitivity prevalence of 15% among tested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bout 190,000 PLWHA are in antiretroviral treat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year, 10,000 people start antiretroviral treatment (at the end of 2008, this number is expected to reach 200,000 peop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ath rate in co-infection: 20%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451640" y="1197000"/>
            <a:ext cx="159876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3:47:34Z</dcterms:created>
  <dc:creator>Fabiano Camilo e Silva</dc:creator>
  <dc:description/>
  <dc:language>en-US</dc:language>
  <cp:lastModifiedBy>bakerl</cp:lastModifiedBy>
  <cp:lastPrinted>2003-11-05T12:59:01Z</cp:lastPrinted>
  <dcterms:modified xsi:type="dcterms:W3CDTF">2008-10-29T12:57:43Z</dcterms:modified>
  <cp:revision>496</cp:revision>
  <dc:subject/>
  <dc:title>PowerPoint Presentation</dc:title>
</cp:coreProperties>
</file>