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292E-A3ED-4713-9841-52FF30D148D8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8E4D-A589-4E1C-A67A-D379B247C9A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D135A-0752-4CD6-8E0F-FF78CD8C810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42BEE-67C8-4955-8022-25F81244CF5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DEEFC-A051-4190-A12D-2268798C81E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0C6C2-46ED-445C-BE5B-729D68DCCAFF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se detection Rate-CD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tment Success rate-TS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96BD-2C40-4FD6-8839-1331F42D7115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hieved through FIND, PIH and WHO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C88A-16D7-43CA-A8DD-51D5B5EA6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43DC-390D-45CD-8B37-0C74D368B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42B2-E0AD-4F06-90C9-E41A227B6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8A7E-79E4-44B3-A7C5-1A21EDA07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B208-1D77-4A90-912E-A93AF72D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2895-78F7-4D2A-B94C-C1D2F1A40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04BC-5153-4552-AC9C-9FB8AA039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FD77A-347B-4E8A-8AFD-595862DCBC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45E0-7BF8-4C79-BC1E-4A0758C2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7BC5A-3494-47A4-BD26-D51EE55CD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ED20F-2F71-4FDE-A026-7193DA7A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93418-9D38-463A-B249-F69573CCC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59321-097B-484E-88DD-0D305A3935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les_flag"/>
          <p:cNvPicPr/>
          <p:nvPr/>
        </p:nvPicPr>
        <p:blipFill>
          <a:blip r:embed="rId2"/>
          <a:stretch/>
        </p:blipFill>
        <p:spPr>
          <a:xfrm>
            <a:off x="7596360" y="260280"/>
            <a:ext cx="1161720" cy="863640"/>
          </a:xfrm>
          <a:prstGeom prst="rect">
            <a:avLst/>
          </a:prstGeom>
          <a:ln w="0">
            <a:noFill/>
          </a:ln>
        </p:spPr>
      </p:pic>
      <p:pic>
        <p:nvPicPr>
          <p:cNvPr id="6" name="Picture 8" descr="gov Logo"/>
          <p:cNvPicPr/>
          <p:nvPr/>
        </p:nvPicPr>
        <p:blipFill>
          <a:blip r:embed="rId3"/>
          <a:stretch/>
        </p:blipFill>
        <p:spPr>
          <a:xfrm>
            <a:off x="250920" y="0"/>
            <a:ext cx="1127160" cy="107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32000" y="475920"/>
            <a:ext cx="5472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71640" y="2276280"/>
            <a:ext cx="7488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top TB Partnership Board Meeting   28-29 October 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agamoyo-Tanza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onourable Minister of Health and Social Welfare Lesot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706A-41FD-4DF7-81DC-7AEBF2215B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DR-TB Situation co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28760" y="1500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80% HIV co-infection in all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the art TB lab with liquid culture &amp; 1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line DS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ate of art MDR-TB hospital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olecular test facilities introduc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48ABF-4C02-49E1-A0A8-A2A88F736B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63640" y="549360"/>
            <a:ext cx="561672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cess to HIV/MDR-TB treat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8,586 on ARVs (35,629 Adults &amp;2,957 childr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Urban and rural health facilities provide ARV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co-infected MDR-TB patients on ARVs regardless of CD4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Home based care provided for stable MDR-TB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2249B-5CD1-4A14-A679-2F0215D8A9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/HIV collaboration: Achievements</a:t>
            </a:r>
            <a:r>
              <a:rPr b="0" lang="en-US" sz="4000" spc="-1" strike="noStrike">
                <a:solidFill>
                  <a:srgbClr val="ff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tional TB/HIV Coordinating Committee established at national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technical working group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/HIV collaboration policy and strategic plan 2008-2014 in pl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pacity building for Health Care Workers on TB/HIV collaborative 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entralized TB/HIV services nation-w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4DC28-2D45-4E32-B85A-03FA9FFBCD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570800" cy="11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HTC of TB patients by distric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800" y="16819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5" descr=""/>
          <p:cNvPicPr/>
          <p:nvPr/>
        </p:nvPicPr>
        <p:blipFill>
          <a:blip r:embed="rId1"/>
          <a:stretch/>
        </p:blipFill>
        <p:spPr>
          <a:xfrm>
            <a:off x="468360" y="1646280"/>
            <a:ext cx="7632720" cy="42307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6"/>
          <p:cNvSpPr/>
          <p:nvPr/>
        </p:nvSpPr>
        <p:spPr>
          <a:xfrm>
            <a:off x="0" y="5249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E8F52-3545-47AC-BCA2-A1213D6113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Provision of CPT to TB patients 2007 by distri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800" y="181512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468360" y="1467000"/>
            <a:ext cx="7848720" cy="44100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6"/>
          <p:cNvSpPr/>
          <p:nvPr/>
        </p:nvSpPr>
        <p:spPr>
          <a:xfrm>
            <a:off x="0" y="511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60DB1-12C2-451A-A3ED-D77608CC04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6121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Provision of ART to TB patients in 200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1600200" y="2362320"/>
            <a:ext cx="632448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D3B6D-16A8-46AE-A41E-0080F97FB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ndicators for TB/HIV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ve activ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Object 3"/>
          <p:cNvGraphicFramePr/>
          <p:nvPr/>
        </p:nvGraphicFramePr>
        <p:xfrm>
          <a:off x="900000" y="1317600"/>
          <a:ext cx="6985080" cy="4651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0000" y="1317600"/>
                    <a:ext cx="6985080" cy="465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94038-7E7F-4496-9774-54CCB56F6C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Key 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entralization of TB/HIV services to the community level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iversal TB/HIV collaborative interventions for all dually infected Basoth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Human  Resources to provide TB/HIV serv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000" spc="-1" strike="noStrike">
                <a:solidFill>
                  <a:srgbClr val="000000"/>
                </a:solidFill>
                <a:latin typeface="Arial"/>
              </a:rPr>
              <a:t>Cross boarder issues relating to implementation of TB &amp; TB/HIV control activities among migrant work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0A236-4C6C-4994-9907-90B8FB22B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engthen decentralization of TB/HIV services to the community lev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aling-up TB/HIV collaborative interventions through expansion of public-private partnership; involvement &amp; full participation of civil society &amp; PLHI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OHSW, in collaboration with development partners working on ways to improve the Human  Resources sit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Harmonization of protocols with all neighbouring countries especiall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8EA35-AAE1-4A8B-83DF-0F7F85E411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H Collaborating Partners in the fight against 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TAI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OBAL F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NTON FOUN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C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D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R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8238E-72A3-4ED6-8DC3-5F6F92364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 situ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B/HIV Collaboration in Lesot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hiev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ay forw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E29FC-D8EB-4747-9FE6-159714B54E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is land –locked by RS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sotho population 1,880,6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9% aged 0-1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6% aged 15-64 yea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7% aged 65 and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5% active males work in the RSA m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8% live below poverty l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82D5B-BCEE-4BBD-A920-DF5B865FC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Health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work of CHWs 5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0 Health cent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 hospitals (3 private hospital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e referral hospit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DR-TB referral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4BC32-5182-4755-B491-0AADA77198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604836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National TB Progr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established in 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Operates under the Disease Control Unit (DCU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hort-course chemotherapy (SCC) introduced in 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control activities are integrated within the Primary Health Care (PHC) system, and are decentralized to the country’s 10 distri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TP is aligned with strategic plan for 2008 – 2012  in line with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B drugs are provided free of charge to patients, irrespective of where they are diagnosed or treat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00% DOTS covera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463-518C-42E2-B7DA-963AF96A84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NTP cont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DF supports Lesotho with grant of anti-TB drug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LC approval obtained in 2007 for second line drugs for MDR-TB-  300 pat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GOL has established partnership with the NGOs and private sector for DOTS implementation (CHAL and GP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74B5E-8658-466B-A4C9-829EEECACF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58920" y="274320"/>
            <a:ext cx="6337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4000" spc="-1" strike="noStrike">
                <a:solidFill>
                  <a:srgbClr val="000000"/>
                </a:solidFill>
                <a:latin typeface="Arial"/>
              </a:rPr>
              <a:t>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B situation in 200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4,300 cases of all forms of TB repor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idence: 635 per 100,000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278 (30%) New smear positi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ase Detection Rate i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8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reatment success rate is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73%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B Mortality – 107 per 100,000 popu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V prevalence among TB patients – 8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0B09-06C4-4EBA-96D2-8F21529230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4716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nd TB case detection &amp;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reatment success rates 2002-2007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Object 4"/>
          <p:cNvGraphicFramePr/>
          <p:nvPr/>
        </p:nvGraphicFramePr>
        <p:xfrm>
          <a:off x="1042920" y="1647720"/>
          <a:ext cx="7058160" cy="442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42920" y="1647720"/>
                    <a:ext cx="7058160" cy="44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Footer Placeholder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OP TB Board Meeting Bagamoyo, Tanzania 28-29/10/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C77D2-14AF-419B-A4D7-6D93B1B1C7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000000"/>
                </a:solidFill>
                <a:latin typeface="Arial"/>
              </a:rPr>
              <a:t>MDR-TB Situation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06 emergency plan to address MDR-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209 MDR-TB patients registered to d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30% of the  MDR-TB patients are migrant workers- the rest can be traced to the same migrant work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11:08:02Z</dcterms:created>
  <dc:creator>User</dc:creator>
  <dc:description/>
  <dc:language>en-US</dc:language>
  <cp:lastModifiedBy>cafeinternet</cp:lastModifiedBy>
  <dcterms:modified xsi:type="dcterms:W3CDTF">2008-10-29T10:02:19Z</dcterms:modified>
  <cp:revision>59</cp:revision>
  <dc:subject/>
  <dc:title>TB/HIV SITUATION IN LESOTHO</dc:title>
</cp:coreProperties>
</file>