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C78B-5801-4D7C-B7D2-880016BC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DB6-EA86-449E-B1C8-8E80C558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FE518-9E6F-40EC-9DD8-74C2314C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83883-C343-4AE1-8804-018FCF2C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119D3-37F4-495A-89F6-EF096092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5B22E-DACA-4C42-B82D-7FBF79DD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48758-6D86-47C2-BA38-B1A8F7F9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F2968-DE5A-455D-9384-B08AA924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D55F0-1F9B-45EF-8ACB-0688366C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7079B-248B-40CE-96B5-4DC97129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EC8E0-B9E3-47DC-8AFE-835B5F45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27DF1-0383-4A1E-8A20-5F3EAB74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518-28A5-437C-A478-9F295DC3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C359B-D889-41B9-8031-8B59A924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3CC71-4819-4DBF-ACBD-2B04A4C3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9EA18-E3B7-4984-9A32-B04F35C8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0801F-1E28-449C-81F4-EC064C7E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5D8F5-DF6D-4460-AA47-8298FF75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015A5-5902-4ACB-8D37-9EA61E5A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256EE-BFCC-4B9D-B83E-652531CC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AD471-BDFE-4375-BB8F-12B98934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B8AAD-A9D9-4A48-BFDA-3424C9B5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6B65E-6A3A-42F6-89FB-27C93EF6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6C1-0B03-46FD-A3E0-C8955606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C2ABB-63BA-4770-82AB-52D79B9B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63D8F-736D-4F6B-AA63-53D3BD44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DACE8-751D-48C6-9E50-DB25F58D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B0CBC-5830-4D3A-B0B1-0ED7161A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854F5-C57B-4E1C-B2B8-C973C35D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2CA8F-D687-48F8-8ACF-378D5BF3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417FA-F447-41D2-8D88-3DC5B3BC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EFBE8-230C-4233-A850-14B49B6D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64303-7A18-4204-A308-6899A5A9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D3B49-E116-467A-97F3-B17E07DA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1FAF-B1CD-4597-8892-036E368D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BA6DE-ABCD-4C67-A011-D515B34C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A6D70-4705-4DD6-81C2-02E00A63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4D0CF-7039-4226-968F-DF9784E0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DC3FC-ACA8-401D-9DA0-6C3EBE34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C7469-011A-4BF5-9DE5-116DB2B8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A23E0-CF62-4279-8245-244A2881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467A6-5E08-450F-A3F5-D5E7EB4D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8E4D5-C017-4F9B-93FA-C90DF18B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FE4B2-E678-4DE4-A1B0-55169EE1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BB4F4-3159-4C58-9AA6-C71B59B6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C990-B4F3-4FFD-BF18-31F5E020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7C7CC-B33D-44C0-9C91-7E67EDA4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4B711-D25C-4B94-B466-A3384639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0689B-A61B-457D-A89F-02768BE0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CFDC9-7A02-43C8-BAC5-DB45AB30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C8601-639C-454E-A3F1-1435FE91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4E76-57F1-4FEA-842F-D605691D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E461-F751-4375-9EBF-F69F0262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0C2A-7F3D-4C67-AAC2-65A8452F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44E3-CBCC-49E8-BF35-E38FD5D2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0098-463E-480D-B986-433136EF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C1D-F83D-4BC1-A664-B0F612E5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095D-1B76-4856-B3EC-855F4DB7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6FC9-723E-4DA1-AFA8-2C6DB3A7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FB3A-79EA-4B9A-99B8-CE9F7C24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1C3B-B79D-4C90-8E2B-F60AD012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0A78-581B-428D-81E6-700C874D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06F85-7458-4FBF-9004-75B50741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33EDC-FED6-4C65-8E5B-724BD122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640BD-7E68-41DE-8DD7-4B869CEC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E81D7-5A96-4049-8872-AABBF219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3D77D-7B22-4A95-9819-3D42F333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933-9766-4589-92CA-8A6F94EF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D0709-2025-4EFF-87EB-46592418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A8D32-6FE7-44D4-8F2F-18532B99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2139-9EAA-4D10-A465-EEFEB9B2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ACD35-83EB-44F4-971A-9D61B6B9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438CD-11D6-4804-8B95-E76E7C72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26520-F0FC-4162-B8FC-959D1046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7CB2B-223F-4CED-9758-45D0A877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57C73-D1FB-4C25-B347-2BCC19F4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1A0D9-EA73-4BFF-9D41-39962EF4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F5B13-0845-41F6-8C9B-1E5B1E8E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632-52AA-4592-BFA2-1B24BF53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4A84C-6CDF-42AA-8A0C-CC57637C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1EC98-D0CC-432B-8D6E-ABC9390F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A0974-314E-4C16-90DB-4592A9CC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5E1BF-467B-4B1F-A9BD-C0EA89B3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A365F-5CDD-41D7-BC67-625C0384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AD25C-5DA0-4946-A77F-00DBA8F2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27EF7-4738-4263-A827-7348325A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DF49C-7641-4524-8366-DAEC16D3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3161C-32D5-4010-99E3-2116E751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631E5-FE90-42A0-95EE-3D62A376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B2E-FDF2-4A80-B505-EB618683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82A16-52C4-4330-962A-FD820B26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D4EB2-CF06-424F-B972-0118CF26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C4597-1B18-445E-9491-42365082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C490C-0884-4860-B432-83CD7B50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A5C38-6052-413E-8AEC-CD931A5D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9660F-1C75-43E5-A26D-45351433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94BDC-2560-4CCE-BC40-83F0D21A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A063C-7903-4357-97FC-1D083DEC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E0A78-035D-4DC1-BB9D-C60FE728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97B0F-ECAC-4A2A-8372-98392A6D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6243-72D0-45DC-9BB8-0EB6CB29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B199A-BF29-4BEA-8FE1-008C15AB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B7949-B6B3-4E53-B11E-6DBB9A14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B13D7-8D40-4597-83F5-9B490A8B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0942A-E982-4981-B203-6BA2644F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F22B4-CA9B-4523-A87E-3813D11D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9C3A1-0E31-4A0D-B78A-F6461AA7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84142-12D3-40BE-BBF2-81CE582F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C14C4-3CD2-4B05-A4B1-139F8468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7B081-51DF-466F-9F9E-D3FC9BD0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AA499-2775-40B7-9970-B8FDC574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244-7D7C-4DEA-B72F-717DC201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19C5E-FD54-4DA2-BEAB-7BDE7A16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07E3E-CF1F-4DF6-B885-332FBF6C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44B3E-B6D6-4334-B633-F2402475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890BE-56C0-4E1F-B759-0C4F3837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55152-160B-4699-848F-3370C631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84A05-1538-4070-9DD1-A9FA8200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38C8A-04D4-484F-864D-2010B273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7094B-F574-45A6-B43F-1D4E3C5E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ABB5E-EB12-4355-ABDF-68D88201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E59E1-25D0-4989-8FAB-BA188D9E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9B6-3379-4CEA-85CC-7133F73B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BB745-BE95-4B51-A8C7-37C2E42E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296DB-3C54-494C-B0B5-A77D341C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31185-5FD9-40D4-ABB6-E583A555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4303E-EA12-4F13-B8D5-282266D6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DC855-361C-4C26-BD00-E2675FB8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6CEE3-F1F9-4CE7-B1E9-C6DD2BB2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2739F-B340-40EF-A34A-09B18C5D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DA5A8-8B07-4538-9F8B-A0CD2722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2DBFF-F91E-4F61-9CCE-B7B4F42E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D26FC-9549-4CAD-893D-5071E3D1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3FF-70BF-448D-B843-41333B74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55AEF-B494-4DFD-9C9F-C35F0A04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C7151-B001-4E75-B188-7E9DA39C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DB2CA-1A59-4AC8-9517-DE97B412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297F3-CE25-49A9-A2F9-FF8B6C08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0062A-9201-43ED-8133-C47BD7C4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5FB5E-B080-41F2-803E-D2B09778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81356-257B-47FD-AEE8-6CD637AE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6E108-7214-46C4-A12E-C85D322C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5BDBE-5A3D-45D0-A5DC-D33F3D02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491EA-B121-4FF5-99ED-98D53F37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F40A-980C-4067-94EF-C4EEAF6EF5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EFD6-4ACD-4B11-92FC-2AFD312AAF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B7B5-B9E1-453F-B8F6-7EC9D1AA4B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FCB7-3D84-43B1-9B01-21059EECDF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FF48-E9EE-440E-B146-1B959E9429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51C3-5187-494A-8B96-3E1D1FFBB9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B300-9733-4651-9C73-B3AF1B3EE0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5FB2-6651-4267-86E9-9BED20084B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8082-E93E-4B6E-8AE8-6C4A153CAB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FAD3-3B7E-4C03-9034-630E7E769C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D20A-162E-4ED0-BFAF-592895FEDB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649B-F2DB-4E6D-AA3E-00E036EFA8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Title 1" descr=""/>
          <p:cNvPicPr/>
          <p:nvPr/>
        </p:nvPicPr>
        <p:blipFill>
          <a:blip r:embed="rId1"/>
          <a:stretch/>
        </p:blipFill>
        <p:spPr>
          <a:xfrm>
            <a:off x="682560" y="1596960"/>
            <a:ext cx="8053560" cy="1994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66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pdate and comments on the agen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Ezio Távora dos Santos Fil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5</a:t>
            </a:r>
            <a:r>
              <a:rPr b="0" lang="en-US" sz="2700" spc="-1" strike="noStrike" baseline="30000">
                <a:solidFill>
                  <a:srgbClr val="464646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STOP TB PARTNERSHIP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oordinating Board Mee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ion of the National Committee for the Partners’ For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st meeting on Sept.4th, 2008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firming commitments, sharing responsib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unicipality Gov: Convention center negotiations, Municipal HCC site visits (TBC)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tate Gov: Security, transportation, Welcome Reception, site visits State HCC Greater Rio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ederal Gov: hiring convention center’s equipment and furnishing, process of visas and reception authoriti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nd meeting Sept.18th, 2008; Sept.3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irtual me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llowing up in organizing aspec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D4FC-1EAC-4AA9-957E-4DD4B0C1408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zilian Partn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HO-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Foreign Affai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Governor’s Cabi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Secu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Welf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nicipal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adem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A88E-0F74-49EA-8FDE-7B4DD6BFAD1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nival initiative as from December Schools of Samba rehears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on of information along Summer and during the Carni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 in train stations, subw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8DDF-1191-4604-9B76-CEC93919D4D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t ex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rt curator to organize expo; photography exp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r art in subway st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B Parade on Sunday 2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Copacabana Be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e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48CA-22FE-441D-82E7-EFC1370BD45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3:23:50Z</dcterms:created>
  <dc:creator>Ezio T. Santos Filho</dc:creator>
  <dc:description/>
  <dc:language>en-US</dc:language>
  <cp:lastModifiedBy>Ezio T. Santos Filho</cp:lastModifiedBy>
  <dcterms:modified xsi:type="dcterms:W3CDTF">2008-10-28T06:06:53Z</dcterms:modified>
  <cp:revision>15</cp:revision>
  <dc:subject/>
  <dc:title>Partners’ forum 2009</dc:title>
</cp:coreProperties>
</file>