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1.wmf" ContentType="image/x-wmf"/>
  <Override PartName="/ppt/media/image1.png" ContentType="image/png"/>
  <Override PartName="/ppt/media/image3.jpeg" ContentType="image/jpeg"/>
  <Override PartName="/ppt/media/image2.wmf" ContentType="image/x-wmf"/>
  <Override PartName="/ppt/media/image4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5.png" ContentType="image/png"/>
  <Override PartName="/ppt/media/image1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E3250-B6A5-4694-88FD-2CABF4175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2CF0-4D42-461B-8C36-1CED1003D0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7E3D0-7C84-44AB-A4C4-DB7A941F0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627E-4AA5-46E7-8DE1-A5A0DB0BA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EEF1-04F7-45EB-BFF7-1ABAE2EC3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7E8-F9DD-443C-9690-66264F3CE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2DC7-D075-498A-8D20-391ED093B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4C1C7-378B-4C73-8EA6-B5A6371F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8F20-0E47-4548-828C-FDD389D37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C868-0F87-442D-A080-AB2F4EB67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4960-3F08-44DF-B9EA-8261D0365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2F5-B7CF-4057-A8D2-5769F9C33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1D10-87B8-4A41-A320-C4FEFF719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004F-5E1C-4F47-B96B-ACE446DB1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5983-73B5-4110-8AC1-C183823D5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CC8B9-4AFC-457F-87AC-3729381040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image" Target="../media/image3.jpe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668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"/>
              </a:rPr>
              <a:t>Access to Second-line drugs to treat MDR-TB: </a:t>
            </a:r>
            <a:br>
              <a:rPr sz="4000"/>
            </a:br>
            <a:r>
              <a:rPr b="0" i="1" lang="en-US" sz="4000" spc="-1" strike="noStrike">
                <a:solidFill>
                  <a:srgbClr val="333399"/>
                </a:solidFill>
                <a:latin typeface="Arial"/>
              </a:rPr>
              <a:t>the Players &amp; the Fie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47239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bert Mati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ager, Global Drug 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top TB Partnership Coordinating Board meet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 October 2008 – Bagamoyo, Tanzan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3733920" y="228600"/>
          <a:ext cx="1290600" cy="185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33920" y="228600"/>
                    <a:ext cx="1290600" cy="185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0" y="1757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228600" y="328680"/>
          <a:ext cx="8686800" cy="6529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328680"/>
                    <a:ext cx="8686800" cy="652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B9256-3599-4C09-801A-FCBFCC10FF7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19320" y="990720"/>
            <a:ext cx="76960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for a public long-term donor commitment to funding MDR-TB treatment (e.g. to 2015) with targets for future scale-up; clarity needed on GF and UNITAID ro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-actively identify potential suppliers of MDR-TB drugs and provide incentives to develop/prequalify drugs by agreeing to buy specific volumes at pre-agreed or tender determined prices once they achieve prequal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le-up as much as possible diagnostic capacity while planning and coordinating with other funding organizations (e.g. Global Fund) to ensure financing is available for non-drug/diagnostic co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ll for revision of eligibility criteria of GF and UNITAID to enable more countries to be sup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commitment from HB countries to stricter regulation of TB drugs in their markets and to QA dru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2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BFCC-AA2D-4662-ACC9-54CB78AAF1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Key consideration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142640" y="1066680"/>
            <a:ext cx="8001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Need to ensure all major financers and/or buyers subscribe to a common QA standard: e.g. WHO HTM &amp; EDM, GF, UNITAID, UNICEF, MSF are aligning on GF standards; currently 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orld Bank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is no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pport initiative to strengthen NDRAs in 1 or 2 targeted HB countries like India and Ch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p drug supplier landscape 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current/potential suppliers per drug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is volume/value of the market for each drug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 the markets for key APIs and possible intervention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answ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many suppliers are there per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How can suppliers be persuaded to improve quality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key drivers of price for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80000"/>
              </a:lnSpc>
              <a:spcBef>
                <a:spcPts val="476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333399"/>
                </a:solidFill>
                <a:latin typeface="Arial"/>
              </a:rPr>
              <a:t>What are the overall global volumes of each API?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6" name=""/>
          <p:cNvGraphicFramePr/>
          <p:nvPr/>
        </p:nvGraphicFramePr>
        <p:xfrm>
          <a:off x="152280" y="152280"/>
          <a:ext cx="871560" cy="1249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71560" cy="12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04D8-BCB7-4139-B866-A3CFB7C9A93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563904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reen Light Committee (GLC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reviewing, assisting, approving and monitoring and evaluating MDR-TB management programs; approval allows release of principally Global Fund and UNITAID monies for purchase of second-line dru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lobal Drug Facility (GDF)</a:t>
            </a:r>
            <a:r>
              <a:rPr b="0" lang="en-GB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oviding drug forecasts to procurement agents and suppliers; contracting procurement agents (IDA); ensuring, via contracted agents/suppliers, delivery of QA drugs to GLC-approved pr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66ff"/>
                </a:solidFill>
                <a:latin typeface="Arial"/>
              </a:rPr>
              <a:t>WHO Prequalification Programme (WHO PQ)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Responsible for prequalification of suppliers and products to ensure that products meet international standards of quality before they are procured. </a:t>
            </a:r>
            <a:r>
              <a:rPr b="0" i="1" lang="en-GB" sz="1800" spc="-1" strike="noStrike" u="sng">
                <a:solidFill>
                  <a:srgbClr val="000000"/>
                </a:solidFill>
                <a:uFillTx/>
                <a:latin typeface="Arial"/>
              </a:rPr>
              <a:t>Stringent NDRAs also have an importa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7315200" y="3048120"/>
            <a:ext cx="1608120" cy="94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" name=""/>
          <p:cNvGraphicFramePr/>
          <p:nvPr/>
        </p:nvGraphicFramePr>
        <p:xfrm>
          <a:off x="6095880" y="2819520"/>
          <a:ext cx="871560" cy="1249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5880" y="2819520"/>
                    <a:ext cx="871560" cy="12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6324480" y="47242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5"/>
          <a:stretch/>
        </p:blipFill>
        <p:spPr>
          <a:xfrm>
            <a:off x="6172200" y="1222200"/>
            <a:ext cx="1981080" cy="1063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3C94C-EBC5-44CB-BACB-4150FF5712B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Roles of Key Players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5943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LC approved programs and governments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Responsible for planning patient enrolment and treatment; forecasting drug needs; communicating forecasts and delivery schedules to IDA; coordinating with financing mechanisms to ensure payment in advance of supply; facilitating timely registration and importation of drugs; properly managing drugs receiv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onors and financing mechanism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governmental and non-governmental) – Responsible for approving and overseeing expenditures; releasing funds upon demand; advocating with other key actors to eliminate bottlenecks to ensure the greatest possible impact. Defining which QA standards apply to drugs procured with their fun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92929"/>
                </a:solidFill>
                <a:latin typeface="Arial"/>
              </a:rPr>
              <a:t>Manufacturers of finished products and APIs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 Product sourcing; receipt of orders for drugs; timely delivery at negotiated or competitively determined pric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6477120" y="3200400"/>
            <a:ext cx="2438280" cy="5922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rcRect l="0" t="0" r="1116" b="0"/>
          <a:stretch/>
        </p:blipFill>
        <p:spPr>
          <a:xfrm>
            <a:off x="6705720" y="3809880"/>
            <a:ext cx="1947600" cy="1109880"/>
          </a:xfrm>
          <a:prstGeom prst="rect">
            <a:avLst/>
          </a:prstGeom>
          <a:ln w="0">
            <a:noFill/>
          </a:ln>
        </p:spPr>
      </p:pic>
      <p:grpSp>
        <p:nvGrpSpPr>
          <p:cNvPr id="63" name=""/>
          <p:cNvGrpSpPr/>
          <p:nvPr/>
        </p:nvGrpSpPr>
        <p:grpSpPr>
          <a:xfrm>
            <a:off x="6477120" y="1295280"/>
            <a:ext cx="2028240" cy="1062000"/>
            <a:chOff x="6477120" y="1295280"/>
            <a:chExt cx="2028240" cy="1062000"/>
          </a:xfrm>
        </p:grpSpPr>
        <p:sp>
          <p:nvSpPr>
            <p:cNvPr id="64" name=""/>
            <p:cNvSpPr/>
            <p:nvPr/>
          </p:nvSpPr>
          <p:spPr>
            <a:xfrm>
              <a:off x="6848280" y="2323080"/>
              <a:ext cx="17280" cy="8280"/>
            </a:xfrm>
            <a:custGeom>
              <a:avLst/>
              <a:gdLst/>
              <a:ahLst/>
              <a:rect l="l" t="t" r="r" b="b"/>
              <a:pathLst>
                <a:path w="81" h="52">
                  <a:moveTo>
                    <a:pt x="29" y="0"/>
                  </a:moveTo>
                  <a:lnTo>
                    <a:pt x="0" y="29"/>
                  </a:lnTo>
                  <a:lnTo>
                    <a:pt x="29" y="52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81" y="29"/>
                  </a:lnTo>
                  <a:lnTo>
                    <a:pt x="5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6802200" y="2340360"/>
              <a:ext cx="34200" cy="16920"/>
            </a:xfrm>
            <a:custGeom>
              <a:avLst/>
              <a:gdLst/>
              <a:ahLst/>
              <a:rect l="l" t="t" r="r" b="b"/>
              <a:pathLst>
                <a:path w="156" h="103">
                  <a:moveTo>
                    <a:pt x="104" y="51"/>
                  </a:moveTo>
                  <a:lnTo>
                    <a:pt x="79" y="0"/>
                  </a:lnTo>
                  <a:lnTo>
                    <a:pt x="52" y="0"/>
                  </a:lnTo>
                  <a:lnTo>
                    <a:pt x="23" y="28"/>
                  </a:lnTo>
                  <a:lnTo>
                    <a:pt x="23" y="51"/>
                  </a:lnTo>
                  <a:lnTo>
                    <a:pt x="0" y="51"/>
                  </a:lnTo>
                  <a:lnTo>
                    <a:pt x="0" y="80"/>
                  </a:lnTo>
                  <a:lnTo>
                    <a:pt x="23" y="80"/>
                  </a:lnTo>
                  <a:lnTo>
                    <a:pt x="52" y="103"/>
                  </a:lnTo>
                  <a:lnTo>
                    <a:pt x="79" y="103"/>
                  </a:lnTo>
                  <a:lnTo>
                    <a:pt x="104" y="103"/>
                  </a:lnTo>
                  <a:lnTo>
                    <a:pt x="156" y="103"/>
                  </a:lnTo>
                  <a:lnTo>
                    <a:pt x="127" y="80"/>
                  </a:lnTo>
                  <a:lnTo>
                    <a:pt x="104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733080" y="1952280"/>
              <a:ext cx="372960" cy="387720"/>
            </a:xfrm>
            <a:custGeom>
              <a:avLst/>
              <a:gdLst/>
              <a:ahLst/>
              <a:rect l="l" t="t" r="r" b="b"/>
              <a:pathLst>
                <a:path w="1689" h="2362">
                  <a:moveTo>
                    <a:pt x="1662" y="779"/>
                  </a:moveTo>
                  <a:lnTo>
                    <a:pt x="1637" y="779"/>
                  </a:lnTo>
                  <a:lnTo>
                    <a:pt x="1611" y="779"/>
                  </a:lnTo>
                  <a:lnTo>
                    <a:pt x="1534" y="700"/>
                  </a:lnTo>
                  <a:lnTo>
                    <a:pt x="1507" y="675"/>
                  </a:lnTo>
                  <a:lnTo>
                    <a:pt x="1482" y="700"/>
                  </a:lnTo>
                  <a:lnTo>
                    <a:pt x="1430" y="675"/>
                  </a:lnTo>
                  <a:lnTo>
                    <a:pt x="1350" y="675"/>
                  </a:lnTo>
                  <a:lnTo>
                    <a:pt x="1378" y="648"/>
                  </a:lnTo>
                  <a:lnTo>
                    <a:pt x="1350" y="648"/>
                  </a:lnTo>
                  <a:lnTo>
                    <a:pt x="1350" y="623"/>
                  </a:lnTo>
                  <a:lnTo>
                    <a:pt x="1327" y="594"/>
                  </a:lnTo>
                  <a:lnTo>
                    <a:pt x="1246" y="594"/>
                  </a:lnTo>
                  <a:lnTo>
                    <a:pt x="1194" y="623"/>
                  </a:lnTo>
                  <a:lnTo>
                    <a:pt x="1171" y="594"/>
                  </a:lnTo>
                  <a:lnTo>
                    <a:pt x="1194" y="594"/>
                  </a:lnTo>
                  <a:lnTo>
                    <a:pt x="1223" y="571"/>
                  </a:lnTo>
                  <a:lnTo>
                    <a:pt x="1194" y="571"/>
                  </a:lnTo>
                  <a:lnTo>
                    <a:pt x="1143" y="594"/>
                  </a:lnTo>
                  <a:lnTo>
                    <a:pt x="1091" y="594"/>
                  </a:lnTo>
                  <a:lnTo>
                    <a:pt x="1143" y="543"/>
                  </a:lnTo>
                  <a:lnTo>
                    <a:pt x="1171" y="571"/>
                  </a:lnTo>
                  <a:lnTo>
                    <a:pt x="1171" y="543"/>
                  </a:lnTo>
                  <a:lnTo>
                    <a:pt x="1143" y="543"/>
                  </a:lnTo>
                  <a:lnTo>
                    <a:pt x="1194" y="491"/>
                  </a:lnTo>
                  <a:lnTo>
                    <a:pt x="1171" y="468"/>
                  </a:lnTo>
                  <a:lnTo>
                    <a:pt x="1143" y="416"/>
                  </a:lnTo>
                  <a:lnTo>
                    <a:pt x="1120" y="387"/>
                  </a:lnTo>
                  <a:lnTo>
                    <a:pt x="1091" y="364"/>
                  </a:lnTo>
                  <a:lnTo>
                    <a:pt x="1066" y="364"/>
                  </a:lnTo>
                  <a:lnTo>
                    <a:pt x="1039" y="335"/>
                  </a:lnTo>
                  <a:lnTo>
                    <a:pt x="987" y="312"/>
                  </a:lnTo>
                  <a:lnTo>
                    <a:pt x="962" y="312"/>
                  </a:lnTo>
                  <a:lnTo>
                    <a:pt x="911" y="312"/>
                  </a:lnTo>
                  <a:lnTo>
                    <a:pt x="859" y="232"/>
                  </a:lnTo>
                  <a:lnTo>
                    <a:pt x="778" y="180"/>
                  </a:lnTo>
                  <a:lnTo>
                    <a:pt x="778" y="155"/>
                  </a:lnTo>
                  <a:lnTo>
                    <a:pt x="726" y="103"/>
                  </a:lnTo>
                  <a:lnTo>
                    <a:pt x="519" y="76"/>
                  </a:lnTo>
                  <a:lnTo>
                    <a:pt x="496" y="51"/>
                  </a:lnTo>
                  <a:lnTo>
                    <a:pt x="439" y="25"/>
                  </a:lnTo>
                  <a:lnTo>
                    <a:pt x="416" y="51"/>
                  </a:lnTo>
                  <a:lnTo>
                    <a:pt x="391" y="76"/>
                  </a:lnTo>
                  <a:lnTo>
                    <a:pt x="416" y="103"/>
                  </a:lnTo>
                  <a:lnTo>
                    <a:pt x="391" y="128"/>
                  </a:lnTo>
                  <a:lnTo>
                    <a:pt x="391" y="103"/>
                  </a:lnTo>
                  <a:lnTo>
                    <a:pt x="364" y="51"/>
                  </a:lnTo>
                  <a:lnTo>
                    <a:pt x="391" y="0"/>
                  </a:lnTo>
                  <a:lnTo>
                    <a:pt x="364" y="0"/>
                  </a:lnTo>
                  <a:lnTo>
                    <a:pt x="236" y="51"/>
                  </a:lnTo>
                  <a:lnTo>
                    <a:pt x="236" y="76"/>
                  </a:lnTo>
                  <a:lnTo>
                    <a:pt x="209" y="128"/>
                  </a:lnTo>
                  <a:lnTo>
                    <a:pt x="180" y="128"/>
                  </a:lnTo>
                  <a:lnTo>
                    <a:pt x="155" y="180"/>
                  </a:lnTo>
                  <a:lnTo>
                    <a:pt x="180" y="259"/>
                  </a:lnTo>
                  <a:lnTo>
                    <a:pt x="155" y="259"/>
                  </a:lnTo>
                  <a:lnTo>
                    <a:pt x="155" y="312"/>
                  </a:lnTo>
                  <a:lnTo>
                    <a:pt x="76" y="364"/>
                  </a:lnTo>
                  <a:lnTo>
                    <a:pt x="51" y="387"/>
                  </a:lnTo>
                  <a:lnTo>
                    <a:pt x="25" y="468"/>
                  </a:lnTo>
                  <a:lnTo>
                    <a:pt x="25" y="520"/>
                  </a:lnTo>
                  <a:lnTo>
                    <a:pt x="51" y="491"/>
                  </a:lnTo>
                  <a:lnTo>
                    <a:pt x="51" y="543"/>
                  </a:lnTo>
                  <a:lnTo>
                    <a:pt x="0" y="571"/>
                  </a:lnTo>
                  <a:lnTo>
                    <a:pt x="0" y="648"/>
                  </a:lnTo>
                  <a:lnTo>
                    <a:pt x="51" y="675"/>
                  </a:lnTo>
                  <a:lnTo>
                    <a:pt x="51" y="727"/>
                  </a:lnTo>
                  <a:lnTo>
                    <a:pt x="76" y="727"/>
                  </a:lnTo>
                  <a:lnTo>
                    <a:pt x="76" y="804"/>
                  </a:lnTo>
                  <a:lnTo>
                    <a:pt x="155" y="882"/>
                  </a:lnTo>
                  <a:lnTo>
                    <a:pt x="155" y="936"/>
                  </a:lnTo>
                  <a:lnTo>
                    <a:pt x="209" y="1011"/>
                  </a:lnTo>
                  <a:lnTo>
                    <a:pt x="312" y="1063"/>
                  </a:lnTo>
                  <a:lnTo>
                    <a:pt x="335" y="1114"/>
                  </a:lnTo>
                  <a:lnTo>
                    <a:pt x="364" y="1091"/>
                  </a:lnTo>
                  <a:lnTo>
                    <a:pt x="391" y="1091"/>
                  </a:lnTo>
                  <a:lnTo>
                    <a:pt x="335" y="1114"/>
                  </a:lnTo>
                  <a:lnTo>
                    <a:pt x="364" y="1143"/>
                  </a:lnTo>
                  <a:lnTo>
                    <a:pt x="335" y="1375"/>
                  </a:lnTo>
                  <a:lnTo>
                    <a:pt x="364" y="1402"/>
                  </a:lnTo>
                  <a:lnTo>
                    <a:pt x="312" y="1427"/>
                  </a:lnTo>
                  <a:lnTo>
                    <a:pt x="283" y="1531"/>
                  </a:lnTo>
                  <a:lnTo>
                    <a:pt x="312" y="1583"/>
                  </a:lnTo>
                  <a:lnTo>
                    <a:pt x="283" y="1738"/>
                  </a:lnTo>
                  <a:lnTo>
                    <a:pt x="236" y="1790"/>
                  </a:lnTo>
                  <a:lnTo>
                    <a:pt x="260" y="1842"/>
                  </a:lnTo>
                  <a:lnTo>
                    <a:pt x="260" y="1922"/>
                  </a:lnTo>
                  <a:lnTo>
                    <a:pt x="283" y="1947"/>
                  </a:lnTo>
                  <a:lnTo>
                    <a:pt x="283" y="1974"/>
                  </a:lnTo>
                  <a:lnTo>
                    <a:pt x="260" y="1999"/>
                  </a:lnTo>
                  <a:lnTo>
                    <a:pt x="283" y="2051"/>
                  </a:lnTo>
                  <a:lnTo>
                    <a:pt x="260" y="2078"/>
                  </a:lnTo>
                  <a:lnTo>
                    <a:pt x="209" y="2103"/>
                  </a:lnTo>
                  <a:lnTo>
                    <a:pt x="236" y="2129"/>
                  </a:lnTo>
                  <a:lnTo>
                    <a:pt x="236" y="2154"/>
                  </a:lnTo>
                  <a:lnTo>
                    <a:pt x="260" y="2154"/>
                  </a:lnTo>
                  <a:lnTo>
                    <a:pt x="236" y="2183"/>
                  </a:lnTo>
                  <a:lnTo>
                    <a:pt x="236" y="2235"/>
                  </a:lnTo>
                  <a:lnTo>
                    <a:pt x="236" y="2287"/>
                  </a:lnTo>
                  <a:lnTo>
                    <a:pt x="260" y="2310"/>
                  </a:lnTo>
                  <a:lnTo>
                    <a:pt x="260" y="2339"/>
                  </a:lnTo>
                  <a:lnTo>
                    <a:pt x="283" y="2339"/>
                  </a:lnTo>
                  <a:lnTo>
                    <a:pt x="312" y="2339"/>
                  </a:lnTo>
                  <a:lnTo>
                    <a:pt x="283" y="2362"/>
                  </a:lnTo>
                  <a:lnTo>
                    <a:pt x="312" y="2362"/>
                  </a:lnTo>
                  <a:lnTo>
                    <a:pt x="335" y="2339"/>
                  </a:lnTo>
                  <a:lnTo>
                    <a:pt x="364" y="2339"/>
                  </a:lnTo>
                  <a:lnTo>
                    <a:pt x="364" y="2310"/>
                  </a:lnTo>
                  <a:lnTo>
                    <a:pt x="364" y="2287"/>
                  </a:lnTo>
                  <a:lnTo>
                    <a:pt x="439" y="2206"/>
                  </a:lnTo>
                  <a:lnTo>
                    <a:pt x="439" y="2154"/>
                  </a:lnTo>
                  <a:lnTo>
                    <a:pt x="416" y="2154"/>
                  </a:lnTo>
                  <a:lnTo>
                    <a:pt x="416" y="2103"/>
                  </a:lnTo>
                  <a:lnTo>
                    <a:pt x="468" y="2103"/>
                  </a:lnTo>
                  <a:lnTo>
                    <a:pt x="496" y="2026"/>
                  </a:lnTo>
                  <a:lnTo>
                    <a:pt x="519" y="2026"/>
                  </a:lnTo>
                  <a:lnTo>
                    <a:pt x="519" y="1999"/>
                  </a:lnTo>
                  <a:lnTo>
                    <a:pt x="496" y="1999"/>
                  </a:lnTo>
                  <a:lnTo>
                    <a:pt x="519" y="1974"/>
                  </a:lnTo>
                  <a:lnTo>
                    <a:pt x="571" y="1947"/>
                  </a:lnTo>
                  <a:lnTo>
                    <a:pt x="600" y="1922"/>
                  </a:lnTo>
                  <a:lnTo>
                    <a:pt x="571" y="1895"/>
                  </a:lnTo>
                  <a:lnTo>
                    <a:pt x="675" y="1895"/>
                  </a:lnTo>
                  <a:lnTo>
                    <a:pt x="726" y="1870"/>
                  </a:lnTo>
                  <a:lnTo>
                    <a:pt x="755" y="1790"/>
                  </a:lnTo>
                  <a:lnTo>
                    <a:pt x="703" y="1715"/>
                  </a:lnTo>
                  <a:lnTo>
                    <a:pt x="755" y="1738"/>
                  </a:lnTo>
                  <a:lnTo>
                    <a:pt x="832" y="1767"/>
                  </a:lnTo>
                  <a:lnTo>
                    <a:pt x="884" y="1715"/>
                  </a:lnTo>
                  <a:lnTo>
                    <a:pt x="947" y="1631"/>
                  </a:lnTo>
                  <a:lnTo>
                    <a:pt x="936" y="1663"/>
                  </a:lnTo>
                  <a:lnTo>
                    <a:pt x="962" y="1663"/>
                  </a:lnTo>
                  <a:lnTo>
                    <a:pt x="1066" y="1560"/>
                  </a:lnTo>
                  <a:lnTo>
                    <a:pt x="1091" y="1454"/>
                  </a:lnTo>
                  <a:lnTo>
                    <a:pt x="1194" y="1402"/>
                  </a:lnTo>
                  <a:lnTo>
                    <a:pt x="1223" y="1402"/>
                  </a:lnTo>
                  <a:lnTo>
                    <a:pt x="1275" y="1375"/>
                  </a:lnTo>
                  <a:lnTo>
                    <a:pt x="1327" y="1375"/>
                  </a:lnTo>
                  <a:lnTo>
                    <a:pt x="1350" y="1375"/>
                  </a:lnTo>
                  <a:lnTo>
                    <a:pt x="1455" y="1218"/>
                  </a:lnTo>
                  <a:lnTo>
                    <a:pt x="1482" y="1166"/>
                  </a:lnTo>
                  <a:lnTo>
                    <a:pt x="1507" y="1114"/>
                  </a:lnTo>
                  <a:lnTo>
                    <a:pt x="1507" y="1040"/>
                  </a:lnTo>
                  <a:lnTo>
                    <a:pt x="1534" y="1040"/>
                  </a:lnTo>
                  <a:lnTo>
                    <a:pt x="1637" y="936"/>
                  </a:lnTo>
                  <a:lnTo>
                    <a:pt x="1662" y="936"/>
                  </a:lnTo>
                  <a:lnTo>
                    <a:pt x="1689" y="882"/>
                  </a:lnTo>
                  <a:lnTo>
                    <a:pt x="1689" y="804"/>
                  </a:lnTo>
                  <a:lnTo>
                    <a:pt x="1662" y="77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02200" y="196920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3" y="25"/>
                  </a:moveTo>
                  <a:lnTo>
                    <a:pt x="0" y="52"/>
                  </a:lnTo>
                  <a:lnTo>
                    <a:pt x="52" y="0"/>
                  </a:lnTo>
                  <a:lnTo>
                    <a:pt x="31" y="37"/>
                  </a:lnTo>
                  <a:lnTo>
                    <a:pt x="23" y="2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7149240" y="1513440"/>
              <a:ext cx="62640" cy="29520"/>
            </a:xfrm>
            <a:custGeom>
              <a:avLst/>
              <a:gdLst/>
              <a:ahLst/>
              <a:rect l="l" t="t" r="r" b="b"/>
              <a:pathLst>
                <a:path w="142" h="90">
                  <a:moveTo>
                    <a:pt x="52" y="12"/>
                  </a:moveTo>
                  <a:lnTo>
                    <a:pt x="52" y="26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12" y="12"/>
                  </a:lnTo>
                  <a:lnTo>
                    <a:pt x="26" y="12"/>
                  </a:ln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38"/>
                  </a:lnTo>
                  <a:lnTo>
                    <a:pt x="38" y="38"/>
                  </a:lnTo>
                  <a:lnTo>
                    <a:pt x="38" y="52"/>
                  </a:lnTo>
                  <a:lnTo>
                    <a:pt x="26" y="52"/>
                  </a:lnTo>
                  <a:lnTo>
                    <a:pt x="12" y="52"/>
                  </a:lnTo>
                  <a:lnTo>
                    <a:pt x="26" y="64"/>
                  </a:lnTo>
                  <a:lnTo>
                    <a:pt x="38" y="64"/>
                  </a:lnTo>
                  <a:lnTo>
                    <a:pt x="26" y="64"/>
                  </a:lnTo>
                  <a:lnTo>
                    <a:pt x="26" y="78"/>
                  </a:lnTo>
                  <a:lnTo>
                    <a:pt x="38" y="90"/>
                  </a:lnTo>
                  <a:lnTo>
                    <a:pt x="52" y="90"/>
                  </a:lnTo>
                  <a:lnTo>
                    <a:pt x="64" y="90"/>
                  </a:lnTo>
                  <a:lnTo>
                    <a:pt x="78" y="78"/>
                  </a:lnTo>
                  <a:lnTo>
                    <a:pt x="104" y="90"/>
                  </a:lnTo>
                  <a:lnTo>
                    <a:pt x="116" y="78"/>
                  </a:lnTo>
                  <a:lnTo>
                    <a:pt x="116" y="64"/>
                  </a:lnTo>
                  <a:lnTo>
                    <a:pt x="130" y="64"/>
                  </a:lnTo>
                  <a:lnTo>
                    <a:pt x="142" y="52"/>
                  </a:lnTo>
                  <a:lnTo>
                    <a:pt x="142" y="38"/>
                  </a:lnTo>
                  <a:lnTo>
                    <a:pt x="142" y="26"/>
                  </a:lnTo>
                  <a:lnTo>
                    <a:pt x="130" y="26"/>
                  </a:lnTo>
                  <a:lnTo>
                    <a:pt x="130" y="12"/>
                  </a:lnTo>
                  <a:lnTo>
                    <a:pt x="116" y="12"/>
                  </a:lnTo>
                  <a:lnTo>
                    <a:pt x="104" y="12"/>
                  </a:lnTo>
                  <a:lnTo>
                    <a:pt x="90" y="12"/>
                  </a:lnTo>
                  <a:lnTo>
                    <a:pt x="78" y="26"/>
                  </a:lnTo>
                  <a:lnTo>
                    <a:pt x="78" y="12"/>
                  </a:lnTo>
                  <a:lnTo>
                    <a:pt x="64" y="12"/>
                  </a:lnTo>
                  <a:lnTo>
                    <a:pt x="52" y="12"/>
                  </a:lnTo>
                  <a:lnTo>
                    <a:pt x="52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994080" y="1312200"/>
              <a:ext cx="195120" cy="230400"/>
            </a:xfrm>
            <a:custGeom>
              <a:avLst/>
              <a:gdLst/>
              <a:ahLst/>
              <a:rect l="l" t="t" r="r" b="b"/>
              <a:pathLst>
                <a:path w="442" h="702">
                  <a:moveTo>
                    <a:pt x="196" y="78"/>
                  </a:moveTo>
                  <a:lnTo>
                    <a:pt x="156" y="66"/>
                  </a:lnTo>
                  <a:lnTo>
                    <a:pt x="130" y="78"/>
                  </a:lnTo>
                  <a:lnTo>
                    <a:pt x="118" y="92"/>
                  </a:lnTo>
                  <a:lnTo>
                    <a:pt x="104" y="104"/>
                  </a:lnTo>
                  <a:lnTo>
                    <a:pt x="92" y="118"/>
                  </a:lnTo>
                  <a:lnTo>
                    <a:pt x="92" y="144"/>
                  </a:lnTo>
                  <a:lnTo>
                    <a:pt x="66" y="144"/>
                  </a:lnTo>
                  <a:lnTo>
                    <a:pt x="52" y="170"/>
                  </a:lnTo>
                  <a:lnTo>
                    <a:pt x="66" y="196"/>
                  </a:lnTo>
                  <a:lnTo>
                    <a:pt x="40" y="222"/>
                  </a:lnTo>
                  <a:lnTo>
                    <a:pt x="0" y="234"/>
                  </a:lnTo>
                  <a:lnTo>
                    <a:pt x="0" y="248"/>
                  </a:lnTo>
                  <a:lnTo>
                    <a:pt x="40" y="274"/>
                  </a:lnTo>
                  <a:lnTo>
                    <a:pt x="14" y="286"/>
                  </a:lnTo>
                  <a:lnTo>
                    <a:pt x="14" y="300"/>
                  </a:lnTo>
                  <a:lnTo>
                    <a:pt x="26" y="326"/>
                  </a:lnTo>
                  <a:lnTo>
                    <a:pt x="66" y="312"/>
                  </a:lnTo>
                  <a:lnTo>
                    <a:pt x="78" y="312"/>
                  </a:lnTo>
                  <a:lnTo>
                    <a:pt x="104" y="326"/>
                  </a:lnTo>
                  <a:lnTo>
                    <a:pt x="104" y="338"/>
                  </a:lnTo>
                  <a:lnTo>
                    <a:pt x="130" y="378"/>
                  </a:lnTo>
                  <a:lnTo>
                    <a:pt x="144" y="390"/>
                  </a:lnTo>
                  <a:lnTo>
                    <a:pt x="144" y="416"/>
                  </a:lnTo>
                  <a:lnTo>
                    <a:pt x="144" y="442"/>
                  </a:lnTo>
                  <a:lnTo>
                    <a:pt x="156" y="456"/>
                  </a:lnTo>
                  <a:lnTo>
                    <a:pt x="156" y="468"/>
                  </a:lnTo>
                  <a:lnTo>
                    <a:pt x="130" y="482"/>
                  </a:lnTo>
                  <a:lnTo>
                    <a:pt x="130" y="494"/>
                  </a:lnTo>
                  <a:lnTo>
                    <a:pt x="130" y="520"/>
                  </a:lnTo>
                  <a:lnTo>
                    <a:pt x="118" y="534"/>
                  </a:lnTo>
                  <a:lnTo>
                    <a:pt x="130" y="546"/>
                  </a:lnTo>
                  <a:lnTo>
                    <a:pt x="130" y="560"/>
                  </a:lnTo>
                  <a:lnTo>
                    <a:pt x="130" y="586"/>
                  </a:lnTo>
                  <a:lnTo>
                    <a:pt x="130" y="612"/>
                  </a:lnTo>
                  <a:lnTo>
                    <a:pt x="144" y="638"/>
                  </a:lnTo>
                  <a:lnTo>
                    <a:pt x="156" y="650"/>
                  </a:lnTo>
                  <a:lnTo>
                    <a:pt x="144" y="676"/>
                  </a:lnTo>
                  <a:lnTo>
                    <a:pt x="156" y="690"/>
                  </a:lnTo>
                  <a:lnTo>
                    <a:pt x="182" y="690"/>
                  </a:lnTo>
                  <a:lnTo>
                    <a:pt x="182" y="702"/>
                  </a:lnTo>
                  <a:lnTo>
                    <a:pt x="196" y="702"/>
                  </a:lnTo>
                  <a:lnTo>
                    <a:pt x="222" y="690"/>
                  </a:lnTo>
                  <a:lnTo>
                    <a:pt x="234" y="664"/>
                  </a:lnTo>
                  <a:lnTo>
                    <a:pt x="234" y="624"/>
                  </a:lnTo>
                  <a:lnTo>
                    <a:pt x="248" y="598"/>
                  </a:lnTo>
                  <a:lnTo>
                    <a:pt x="260" y="560"/>
                  </a:lnTo>
                  <a:lnTo>
                    <a:pt x="274" y="546"/>
                  </a:lnTo>
                  <a:lnTo>
                    <a:pt x="300" y="534"/>
                  </a:lnTo>
                  <a:lnTo>
                    <a:pt x="326" y="520"/>
                  </a:lnTo>
                  <a:lnTo>
                    <a:pt x="338" y="508"/>
                  </a:lnTo>
                  <a:lnTo>
                    <a:pt x="338" y="482"/>
                  </a:lnTo>
                  <a:lnTo>
                    <a:pt x="364" y="468"/>
                  </a:lnTo>
                  <a:lnTo>
                    <a:pt x="390" y="442"/>
                  </a:lnTo>
                  <a:lnTo>
                    <a:pt x="404" y="442"/>
                  </a:lnTo>
                  <a:lnTo>
                    <a:pt x="430" y="416"/>
                  </a:lnTo>
                  <a:lnTo>
                    <a:pt x="416" y="404"/>
                  </a:lnTo>
                  <a:lnTo>
                    <a:pt x="390" y="404"/>
                  </a:lnTo>
                  <a:lnTo>
                    <a:pt x="390" y="390"/>
                  </a:lnTo>
                  <a:lnTo>
                    <a:pt x="390" y="378"/>
                  </a:lnTo>
                  <a:lnTo>
                    <a:pt x="390" y="364"/>
                  </a:lnTo>
                  <a:lnTo>
                    <a:pt x="416" y="378"/>
                  </a:lnTo>
                  <a:lnTo>
                    <a:pt x="430" y="378"/>
                  </a:lnTo>
                  <a:lnTo>
                    <a:pt x="442" y="378"/>
                  </a:lnTo>
                  <a:lnTo>
                    <a:pt x="430" y="352"/>
                  </a:lnTo>
                  <a:lnTo>
                    <a:pt x="404" y="352"/>
                  </a:lnTo>
                  <a:lnTo>
                    <a:pt x="390" y="338"/>
                  </a:lnTo>
                  <a:lnTo>
                    <a:pt x="390" y="326"/>
                  </a:lnTo>
                  <a:lnTo>
                    <a:pt x="416" y="312"/>
                  </a:lnTo>
                  <a:lnTo>
                    <a:pt x="404" y="300"/>
                  </a:lnTo>
                  <a:lnTo>
                    <a:pt x="416" y="286"/>
                  </a:lnTo>
                  <a:lnTo>
                    <a:pt x="416" y="274"/>
                  </a:lnTo>
                  <a:lnTo>
                    <a:pt x="416" y="248"/>
                  </a:lnTo>
                  <a:lnTo>
                    <a:pt x="404" y="222"/>
                  </a:lnTo>
                  <a:lnTo>
                    <a:pt x="378" y="208"/>
                  </a:lnTo>
                  <a:lnTo>
                    <a:pt x="390" y="182"/>
                  </a:lnTo>
                  <a:lnTo>
                    <a:pt x="390" y="170"/>
                  </a:lnTo>
                  <a:lnTo>
                    <a:pt x="378" y="170"/>
                  </a:lnTo>
                  <a:lnTo>
                    <a:pt x="390" y="144"/>
                  </a:lnTo>
                  <a:lnTo>
                    <a:pt x="404" y="130"/>
                  </a:lnTo>
                  <a:lnTo>
                    <a:pt x="416" y="118"/>
                  </a:lnTo>
                  <a:lnTo>
                    <a:pt x="404" y="118"/>
                  </a:lnTo>
                  <a:lnTo>
                    <a:pt x="404" y="92"/>
                  </a:lnTo>
                  <a:lnTo>
                    <a:pt x="390" y="92"/>
                  </a:lnTo>
                  <a:lnTo>
                    <a:pt x="378" y="104"/>
                  </a:lnTo>
                  <a:lnTo>
                    <a:pt x="338" y="118"/>
                  </a:lnTo>
                  <a:lnTo>
                    <a:pt x="326" y="118"/>
                  </a:lnTo>
                  <a:lnTo>
                    <a:pt x="326" y="104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26" y="92"/>
                  </a:lnTo>
                  <a:lnTo>
                    <a:pt x="312" y="92"/>
                  </a:lnTo>
                  <a:lnTo>
                    <a:pt x="312" y="78"/>
                  </a:lnTo>
                  <a:lnTo>
                    <a:pt x="312" y="66"/>
                  </a:lnTo>
                  <a:lnTo>
                    <a:pt x="300" y="66"/>
                  </a:lnTo>
                  <a:lnTo>
                    <a:pt x="326" y="52"/>
                  </a:lnTo>
                  <a:lnTo>
                    <a:pt x="352" y="52"/>
                  </a:lnTo>
                  <a:lnTo>
                    <a:pt x="378" y="40"/>
                  </a:lnTo>
                  <a:lnTo>
                    <a:pt x="378" y="26"/>
                  </a:lnTo>
                  <a:lnTo>
                    <a:pt x="352" y="26"/>
                  </a:lnTo>
                  <a:lnTo>
                    <a:pt x="326" y="0"/>
                  </a:lnTo>
                  <a:lnTo>
                    <a:pt x="300" y="0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60" y="26"/>
                  </a:lnTo>
                  <a:lnTo>
                    <a:pt x="234" y="26"/>
                  </a:lnTo>
                  <a:lnTo>
                    <a:pt x="222" y="26"/>
                  </a:lnTo>
                  <a:lnTo>
                    <a:pt x="222" y="40"/>
                  </a:lnTo>
                  <a:lnTo>
                    <a:pt x="208" y="52"/>
                  </a:lnTo>
                  <a:lnTo>
                    <a:pt x="208" y="66"/>
                  </a:lnTo>
                  <a:lnTo>
                    <a:pt x="196" y="52"/>
                  </a:lnTo>
                  <a:lnTo>
                    <a:pt x="196" y="66"/>
                  </a:lnTo>
                  <a:lnTo>
                    <a:pt x="196" y="78"/>
                  </a:lnTo>
                  <a:lnTo>
                    <a:pt x="196" y="7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6477120" y="1346400"/>
              <a:ext cx="527760" cy="610560"/>
            </a:xfrm>
            <a:custGeom>
              <a:avLst/>
              <a:gdLst/>
              <a:ahLst/>
              <a:rect l="l" t="t" r="r" b="b"/>
              <a:pathLst>
                <a:path w="2391" h="3718">
                  <a:moveTo>
                    <a:pt x="2184" y="1848"/>
                  </a:moveTo>
                  <a:lnTo>
                    <a:pt x="2159" y="1848"/>
                  </a:lnTo>
                  <a:lnTo>
                    <a:pt x="2184" y="1819"/>
                  </a:lnTo>
                  <a:lnTo>
                    <a:pt x="2159" y="1796"/>
                  </a:lnTo>
                  <a:lnTo>
                    <a:pt x="2130" y="1767"/>
                  </a:lnTo>
                  <a:lnTo>
                    <a:pt x="2027" y="1848"/>
                  </a:lnTo>
                  <a:lnTo>
                    <a:pt x="1975" y="1848"/>
                  </a:lnTo>
                  <a:lnTo>
                    <a:pt x="2004" y="1819"/>
                  </a:lnTo>
                  <a:lnTo>
                    <a:pt x="2055" y="1767"/>
                  </a:lnTo>
                  <a:lnTo>
                    <a:pt x="2130" y="1690"/>
                  </a:lnTo>
                  <a:lnTo>
                    <a:pt x="2236" y="1690"/>
                  </a:lnTo>
                  <a:lnTo>
                    <a:pt x="2314" y="1663"/>
                  </a:lnTo>
                  <a:lnTo>
                    <a:pt x="2366" y="1612"/>
                  </a:lnTo>
                  <a:lnTo>
                    <a:pt x="2391" y="1587"/>
                  </a:lnTo>
                  <a:lnTo>
                    <a:pt x="2391" y="1560"/>
                  </a:lnTo>
                  <a:lnTo>
                    <a:pt x="2339" y="1535"/>
                  </a:lnTo>
                  <a:lnTo>
                    <a:pt x="2339" y="1483"/>
                  </a:lnTo>
                  <a:lnTo>
                    <a:pt x="2314" y="1456"/>
                  </a:lnTo>
                  <a:lnTo>
                    <a:pt x="2211" y="1456"/>
                  </a:lnTo>
                  <a:lnTo>
                    <a:pt x="2159" y="1403"/>
                  </a:lnTo>
                  <a:lnTo>
                    <a:pt x="2184" y="1351"/>
                  </a:lnTo>
                  <a:lnTo>
                    <a:pt x="2130" y="1328"/>
                  </a:lnTo>
                  <a:lnTo>
                    <a:pt x="2078" y="1247"/>
                  </a:lnTo>
                  <a:lnTo>
                    <a:pt x="2027" y="1328"/>
                  </a:lnTo>
                  <a:lnTo>
                    <a:pt x="2004" y="1328"/>
                  </a:lnTo>
                  <a:lnTo>
                    <a:pt x="1975" y="1299"/>
                  </a:lnTo>
                  <a:lnTo>
                    <a:pt x="1975" y="1224"/>
                  </a:lnTo>
                  <a:lnTo>
                    <a:pt x="1923" y="1195"/>
                  </a:lnTo>
                  <a:lnTo>
                    <a:pt x="1900" y="1172"/>
                  </a:lnTo>
                  <a:lnTo>
                    <a:pt x="1871" y="1144"/>
                  </a:lnTo>
                  <a:lnTo>
                    <a:pt x="1819" y="1144"/>
                  </a:lnTo>
                  <a:lnTo>
                    <a:pt x="1739" y="1144"/>
                  </a:lnTo>
                  <a:lnTo>
                    <a:pt x="1739" y="1224"/>
                  </a:lnTo>
                  <a:lnTo>
                    <a:pt x="1768" y="1247"/>
                  </a:lnTo>
                  <a:lnTo>
                    <a:pt x="1739" y="1299"/>
                  </a:lnTo>
                  <a:lnTo>
                    <a:pt x="1716" y="1328"/>
                  </a:lnTo>
                  <a:lnTo>
                    <a:pt x="1739" y="1328"/>
                  </a:lnTo>
                  <a:lnTo>
                    <a:pt x="1768" y="1431"/>
                  </a:lnTo>
                  <a:lnTo>
                    <a:pt x="1716" y="1483"/>
                  </a:lnTo>
                  <a:lnTo>
                    <a:pt x="1687" y="1535"/>
                  </a:lnTo>
                  <a:lnTo>
                    <a:pt x="1739" y="1560"/>
                  </a:lnTo>
                  <a:lnTo>
                    <a:pt x="1739" y="1639"/>
                  </a:lnTo>
                  <a:lnTo>
                    <a:pt x="1687" y="1639"/>
                  </a:lnTo>
                  <a:lnTo>
                    <a:pt x="1635" y="1560"/>
                  </a:lnTo>
                  <a:lnTo>
                    <a:pt x="1664" y="1535"/>
                  </a:lnTo>
                  <a:lnTo>
                    <a:pt x="1635" y="1508"/>
                  </a:lnTo>
                  <a:lnTo>
                    <a:pt x="1635" y="1456"/>
                  </a:lnTo>
                  <a:lnTo>
                    <a:pt x="1560" y="1456"/>
                  </a:lnTo>
                  <a:lnTo>
                    <a:pt x="1480" y="1380"/>
                  </a:lnTo>
                  <a:lnTo>
                    <a:pt x="1376" y="1328"/>
                  </a:lnTo>
                  <a:lnTo>
                    <a:pt x="1376" y="1276"/>
                  </a:lnTo>
                  <a:lnTo>
                    <a:pt x="1324" y="1224"/>
                  </a:lnTo>
                  <a:lnTo>
                    <a:pt x="1376" y="1144"/>
                  </a:lnTo>
                  <a:lnTo>
                    <a:pt x="1480" y="1067"/>
                  </a:lnTo>
                  <a:lnTo>
                    <a:pt x="1455" y="1040"/>
                  </a:lnTo>
                  <a:lnTo>
                    <a:pt x="1507" y="1040"/>
                  </a:lnTo>
                  <a:lnTo>
                    <a:pt x="1507" y="1015"/>
                  </a:lnTo>
                  <a:lnTo>
                    <a:pt x="1532" y="1040"/>
                  </a:lnTo>
                  <a:lnTo>
                    <a:pt x="1560" y="988"/>
                  </a:lnTo>
                  <a:lnTo>
                    <a:pt x="1532" y="963"/>
                  </a:lnTo>
                  <a:lnTo>
                    <a:pt x="1583" y="963"/>
                  </a:lnTo>
                  <a:lnTo>
                    <a:pt x="1612" y="936"/>
                  </a:lnTo>
                  <a:lnTo>
                    <a:pt x="1664" y="936"/>
                  </a:lnTo>
                  <a:lnTo>
                    <a:pt x="1687" y="885"/>
                  </a:lnTo>
                  <a:lnTo>
                    <a:pt x="1687" y="808"/>
                  </a:lnTo>
                  <a:lnTo>
                    <a:pt x="1635" y="779"/>
                  </a:lnTo>
                  <a:lnTo>
                    <a:pt x="1635" y="833"/>
                  </a:lnTo>
                  <a:lnTo>
                    <a:pt x="1583" y="885"/>
                  </a:lnTo>
                  <a:lnTo>
                    <a:pt x="1560" y="833"/>
                  </a:lnTo>
                  <a:lnTo>
                    <a:pt x="1583" y="833"/>
                  </a:lnTo>
                  <a:lnTo>
                    <a:pt x="1560" y="808"/>
                  </a:lnTo>
                  <a:lnTo>
                    <a:pt x="1507" y="808"/>
                  </a:lnTo>
                  <a:lnTo>
                    <a:pt x="1507" y="756"/>
                  </a:lnTo>
                  <a:lnTo>
                    <a:pt x="1507" y="727"/>
                  </a:lnTo>
                  <a:lnTo>
                    <a:pt x="1480" y="675"/>
                  </a:lnTo>
                  <a:lnTo>
                    <a:pt x="1455" y="704"/>
                  </a:lnTo>
                  <a:lnTo>
                    <a:pt x="1480" y="779"/>
                  </a:lnTo>
                  <a:lnTo>
                    <a:pt x="1455" y="808"/>
                  </a:lnTo>
                  <a:lnTo>
                    <a:pt x="1455" y="833"/>
                  </a:lnTo>
                  <a:lnTo>
                    <a:pt x="1428" y="833"/>
                  </a:lnTo>
                  <a:lnTo>
                    <a:pt x="1403" y="833"/>
                  </a:lnTo>
                  <a:lnTo>
                    <a:pt x="1428" y="756"/>
                  </a:lnTo>
                  <a:lnTo>
                    <a:pt x="1376" y="756"/>
                  </a:lnTo>
                  <a:lnTo>
                    <a:pt x="1376" y="779"/>
                  </a:lnTo>
                  <a:lnTo>
                    <a:pt x="1351" y="808"/>
                  </a:lnTo>
                  <a:lnTo>
                    <a:pt x="1299" y="756"/>
                  </a:lnTo>
                  <a:lnTo>
                    <a:pt x="1248" y="727"/>
                  </a:lnTo>
                  <a:lnTo>
                    <a:pt x="1248" y="756"/>
                  </a:lnTo>
                  <a:lnTo>
                    <a:pt x="1196" y="756"/>
                  </a:lnTo>
                  <a:lnTo>
                    <a:pt x="1196" y="727"/>
                  </a:lnTo>
                  <a:lnTo>
                    <a:pt x="1115" y="675"/>
                  </a:lnTo>
                  <a:lnTo>
                    <a:pt x="1115" y="652"/>
                  </a:lnTo>
                  <a:lnTo>
                    <a:pt x="1063" y="624"/>
                  </a:lnTo>
                  <a:lnTo>
                    <a:pt x="1063" y="572"/>
                  </a:lnTo>
                  <a:lnTo>
                    <a:pt x="1012" y="520"/>
                  </a:lnTo>
                  <a:lnTo>
                    <a:pt x="988" y="497"/>
                  </a:lnTo>
                  <a:lnTo>
                    <a:pt x="988" y="468"/>
                  </a:lnTo>
                  <a:lnTo>
                    <a:pt x="937" y="468"/>
                  </a:lnTo>
                  <a:lnTo>
                    <a:pt x="937" y="443"/>
                  </a:lnTo>
                  <a:lnTo>
                    <a:pt x="831" y="416"/>
                  </a:lnTo>
                  <a:lnTo>
                    <a:pt x="804" y="340"/>
                  </a:lnTo>
                  <a:lnTo>
                    <a:pt x="804" y="313"/>
                  </a:lnTo>
                  <a:lnTo>
                    <a:pt x="779" y="261"/>
                  </a:lnTo>
                  <a:lnTo>
                    <a:pt x="779" y="236"/>
                  </a:lnTo>
                  <a:lnTo>
                    <a:pt x="728" y="184"/>
                  </a:lnTo>
                  <a:lnTo>
                    <a:pt x="752" y="133"/>
                  </a:lnTo>
                  <a:lnTo>
                    <a:pt x="701" y="81"/>
                  </a:lnTo>
                  <a:lnTo>
                    <a:pt x="624" y="52"/>
                  </a:lnTo>
                  <a:lnTo>
                    <a:pt x="543" y="0"/>
                  </a:lnTo>
                  <a:lnTo>
                    <a:pt x="491" y="81"/>
                  </a:lnTo>
                  <a:lnTo>
                    <a:pt x="491" y="104"/>
                  </a:lnTo>
                  <a:lnTo>
                    <a:pt x="468" y="133"/>
                  </a:lnTo>
                  <a:lnTo>
                    <a:pt x="440" y="104"/>
                  </a:lnTo>
                  <a:lnTo>
                    <a:pt x="440" y="81"/>
                  </a:lnTo>
                  <a:lnTo>
                    <a:pt x="417" y="29"/>
                  </a:lnTo>
                  <a:lnTo>
                    <a:pt x="365" y="29"/>
                  </a:lnTo>
                  <a:lnTo>
                    <a:pt x="365" y="104"/>
                  </a:lnTo>
                  <a:lnTo>
                    <a:pt x="365" y="156"/>
                  </a:lnTo>
                  <a:lnTo>
                    <a:pt x="336" y="156"/>
                  </a:lnTo>
                  <a:lnTo>
                    <a:pt x="259" y="104"/>
                  </a:lnTo>
                  <a:lnTo>
                    <a:pt x="129" y="156"/>
                  </a:lnTo>
                  <a:lnTo>
                    <a:pt x="129" y="209"/>
                  </a:lnTo>
                  <a:lnTo>
                    <a:pt x="156" y="209"/>
                  </a:lnTo>
                  <a:lnTo>
                    <a:pt x="104" y="261"/>
                  </a:lnTo>
                  <a:lnTo>
                    <a:pt x="129" y="261"/>
                  </a:lnTo>
                  <a:lnTo>
                    <a:pt x="129" y="288"/>
                  </a:lnTo>
                  <a:lnTo>
                    <a:pt x="156" y="340"/>
                  </a:lnTo>
                  <a:lnTo>
                    <a:pt x="0" y="340"/>
                  </a:lnTo>
                  <a:lnTo>
                    <a:pt x="181" y="392"/>
                  </a:lnTo>
                  <a:lnTo>
                    <a:pt x="284" y="416"/>
                  </a:lnTo>
                  <a:lnTo>
                    <a:pt x="232" y="443"/>
                  </a:lnTo>
                  <a:lnTo>
                    <a:pt x="259" y="468"/>
                  </a:lnTo>
                  <a:lnTo>
                    <a:pt x="336" y="468"/>
                  </a:lnTo>
                  <a:lnTo>
                    <a:pt x="336" y="443"/>
                  </a:lnTo>
                  <a:lnTo>
                    <a:pt x="365" y="468"/>
                  </a:lnTo>
                  <a:lnTo>
                    <a:pt x="365" y="497"/>
                  </a:lnTo>
                  <a:lnTo>
                    <a:pt x="365" y="549"/>
                  </a:lnTo>
                  <a:lnTo>
                    <a:pt x="417" y="572"/>
                  </a:lnTo>
                  <a:lnTo>
                    <a:pt x="417" y="624"/>
                  </a:lnTo>
                  <a:lnTo>
                    <a:pt x="417" y="675"/>
                  </a:lnTo>
                  <a:lnTo>
                    <a:pt x="417" y="727"/>
                  </a:lnTo>
                  <a:lnTo>
                    <a:pt x="440" y="756"/>
                  </a:lnTo>
                  <a:lnTo>
                    <a:pt x="468" y="756"/>
                  </a:lnTo>
                  <a:lnTo>
                    <a:pt x="417" y="860"/>
                  </a:lnTo>
                  <a:lnTo>
                    <a:pt x="417" y="963"/>
                  </a:lnTo>
                  <a:lnTo>
                    <a:pt x="388" y="1015"/>
                  </a:lnTo>
                  <a:lnTo>
                    <a:pt x="417" y="1040"/>
                  </a:lnTo>
                  <a:lnTo>
                    <a:pt x="388" y="1172"/>
                  </a:lnTo>
                  <a:lnTo>
                    <a:pt x="388" y="1224"/>
                  </a:lnTo>
                  <a:lnTo>
                    <a:pt x="388" y="1247"/>
                  </a:lnTo>
                  <a:lnTo>
                    <a:pt x="388" y="1299"/>
                  </a:lnTo>
                  <a:lnTo>
                    <a:pt x="388" y="1328"/>
                  </a:lnTo>
                  <a:lnTo>
                    <a:pt x="417" y="1328"/>
                  </a:lnTo>
                  <a:lnTo>
                    <a:pt x="365" y="1299"/>
                  </a:lnTo>
                  <a:lnTo>
                    <a:pt x="336" y="1276"/>
                  </a:lnTo>
                  <a:lnTo>
                    <a:pt x="313" y="1351"/>
                  </a:lnTo>
                  <a:lnTo>
                    <a:pt x="259" y="1456"/>
                  </a:lnTo>
                  <a:lnTo>
                    <a:pt x="207" y="1483"/>
                  </a:lnTo>
                  <a:lnTo>
                    <a:pt x="181" y="1535"/>
                  </a:lnTo>
                  <a:lnTo>
                    <a:pt x="129" y="1560"/>
                  </a:lnTo>
                  <a:lnTo>
                    <a:pt x="104" y="1715"/>
                  </a:lnTo>
                  <a:lnTo>
                    <a:pt x="104" y="1871"/>
                  </a:lnTo>
                  <a:lnTo>
                    <a:pt x="156" y="1974"/>
                  </a:lnTo>
                  <a:lnTo>
                    <a:pt x="181" y="2003"/>
                  </a:lnTo>
                  <a:lnTo>
                    <a:pt x="181" y="2026"/>
                  </a:lnTo>
                  <a:lnTo>
                    <a:pt x="156" y="2080"/>
                  </a:lnTo>
                  <a:lnTo>
                    <a:pt x="207" y="2262"/>
                  </a:lnTo>
                  <a:lnTo>
                    <a:pt x="181" y="2287"/>
                  </a:lnTo>
                  <a:lnTo>
                    <a:pt x="156" y="2262"/>
                  </a:lnTo>
                  <a:lnTo>
                    <a:pt x="181" y="2368"/>
                  </a:lnTo>
                  <a:lnTo>
                    <a:pt x="207" y="2391"/>
                  </a:lnTo>
                  <a:lnTo>
                    <a:pt x="181" y="2471"/>
                  </a:lnTo>
                  <a:lnTo>
                    <a:pt x="259" y="2575"/>
                  </a:lnTo>
                  <a:lnTo>
                    <a:pt x="259" y="2523"/>
                  </a:lnTo>
                  <a:lnTo>
                    <a:pt x="232" y="2494"/>
                  </a:lnTo>
                  <a:lnTo>
                    <a:pt x="232" y="2442"/>
                  </a:lnTo>
                  <a:lnTo>
                    <a:pt x="232" y="2314"/>
                  </a:lnTo>
                  <a:lnTo>
                    <a:pt x="232" y="2287"/>
                  </a:lnTo>
                  <a:lnTo>
                    <a:pt x="207" y="2210"/>
                  </a:lnTo>
                  <a:lnTo>
                    <a:pt x="232" y="2132"/>
                  </a:lnTo>
                  <a:lnTo>
                    <a:pt x="284" y="2183"/>
                  </a:lnTo>
                  <a:lnTo>
                    <a:pt x="313" y="2339"/>
                  </a:lnTo>
                  <a:lnTo>
                    <a:pt x="313" y="2391"/>
                  </a:lnTo>
                  <a:lnTo>
                    <a:pt x="313" y="2442"/>
                  </a:lnTo>
                  <a:lnTo>
                    <a:pt x="336" y="2442"/>
                  </a:lnTo>
                  <a:lnTo>
                    <a:pt x="313" y="2471"/>
                  </a:lnTo>
                  <a:lnTo>
                    <a:pt x="365" y="2523"/>
                  </a:lnTo>
                  <a:lnTo>
                    <a:pt x="417" y="2703"/>
                  </a:lnTo>
                  <a:lnTo>
                    <a:pt x="365" y="2782"/>
                  </a:lnTo>
                  <a:lnTo>
                    <a:pt x="417" y="2914"/>
                  </a:lnTo>
                  <a:lnTo>
                    <a:pt x="491" y="2937"/>
                  </a:lnTo>
                  <a:lnTo>
                    <a:pt x="543" y="3014"/>
                  </a:lnTo>
                  <a:lnTo>
                    <a:pt x="728" y="3118"/>
                  </a:lnTo>
                  <a:lnTo>
                    <a:pt x="804" y="3118"/>
                  </a:lnTo>
                  <a:lnTo>
                    <a:pt x="856" y="3173"/>
                  </a:lnTo>
                  <a:lnTo>
                    <a:pt x="883" y="3225"/>
                  </a:lnTo>
                  <a:lnTo>
                    <a:pt x="937" y="3273"/>
                  </a:lnTo>
                  <a:lnTo>
                    <a:pt x="1012" y="3302"/>
                  </a:lnTo>
                  <a:lnTo>
                    <a:pt x="1040" y="3331"/>
                  </a:lnTo>
                  <a:lnTo>
                    <a:pt x="1115" y="3354"/>
                  </a:lnTo>
                  <a:lnTo>
                    <a:pt x="1167" y="3457"/>
                  </a:lnTo>
                  <a:lnTo>
                    <a:pt x="1167" y="3486"/>
                  </a:lnTo>
                  <a:lnTo>
                    <a:pt x="1167" y="3509"/>
                  </a:lnTo>
                  <a:lnTo>
                    <a:pt x="1272" y="3615"/>
                  </a:lnTo>
                  <a:lnTo>
                    <a:pt x="1299" y="3615"/>
                  </a:lnTo>
                  <a:lnTo>
                    <a:pt x="1403" y="3693"/>
                  </a:lnTo>
                  <a:lnTo>
                    <a:pt x="1428" y="3666"/>
                  </a:lnTo>
                  <a:lnTo>
                    <a:pt x="1376" y="3641"/>
                  </a:lnTo>
                  <a:lnTo>
                    <a:pt x="1428" y="3641"/>
                  </a:lnTo>
                  <a:lnTo>
                    <a:pt x="1455" y="3615"/>
                  </a:lnTo>
                  <a:lnTo>
                    <a:pt x="1507" y="3666"/>
                  </a:lnTo>
                  <a:lnTo>
                    <a:pt x="1480" y="3693"/>
                  </a:lnTo>
                  <a:lnTo>
                    <a:pt x="1532" y="3718"/>
                  </a:lnTo>
                  <a:lnTo>
                    <a:pt x="1560" y="3718"/>
                  </a:lnTo>
                  <a:lnTo>
                    <a:pt x="1560" y="3641"/>
                  </a:lnTo>
                  <a:lnTo>
                    <a:pt x="1455" y="3590"/>
                  </a:lnTo>
                  <a:lnTo>
                    <a:pt x="1351" y="3615"/>
                  </a:lnTo>
                  <a:lnTo>
                    <a:pt x="1299" y="3561"/>
                  </a:lnTo>
                  <a:lnTo>
                    <a:pt x="1248" y="3538"/>
                  </a:lnTo>
                  <a:lnTo>
                    <a:pt x="1272" y="3486"/>
                  </a:lnTo>
                  <a:lnTo>
                    <a:pt x="1272" y="3430"/>
                  </a:lnTo>
                  <a:lnTo>
                    <a:pt x="1351" y="3354"/>
                  </a:lnTo>
                  <a:lnTo>
                    <a:pt x="1351" y="3331"/>
                  </a:lnTo>
                  <a:lnTo>
                    <a:pt x="1299" y="3302"/>
                  </a:lnTo>
                  <a:lnTo>
                    <a:pt x="1299" y="3273"/>
                  </a:lnTo>
                  <a:lnTo>
                    <a:pt x="1272" y="3273"/>
                  </a:lnTo>
                  <a:lnTo>
                    <a:pt x="1115" y="3250"/>
                  </a:lnTo>
                  <a:lnTo>
                    <a:pt x="1092" y="3225"/>
                  </a:lnTo>
                  <a:lnTo>
                    <a:pt x="1115" y="3198"/>
                  </a:lnTo>
                  <a:lnTo>
                    <a:pt x="1144" y="3146"/>
                  </a:lnTo>
                  <a:lnTo>
                    <a:pt x="1144" y="3118"/>
                  </a:lnTo>
                  <a:lnTo>
                    <a:pt x="1167" y="3095"/>
                  </a:lnTo>
                  <a:lnTo>
                    <a:pt x="1167" y="3043"/>
                  </a:lnTo>
                  <a:lnTo>
                    <a:pt x="1196" y="3014"/>
                  </a:lnTo>
                  <a:lnTo>
                    <a:pt x="1196" y="2962"/>
                  </a:lnTo>
                  <a:lnTo>
                    <a:pt x="1167" y="2962"/>
                  </a:lnTo>
                  <a:lnTo>
                    <a:pt x="1063" y="2962"/>
                  </a:lnTo>
                  <a:lnTo>
                    <a:pt x="1040" y="3043"/>
                  </a:lnTo>
                  <a:lnTo>
                    <a:pt x="1012" y="3070"/>
                  </a:lnTo>
                  <a:lnTo>
                    <a:pt x="937" y="3043"/>
                  </a:lnTo>
                  <a:lnTo>
                    <a:pt x="883" y="3043"/>
                  </a:lnTo>
                  <a:lnTo>
                    <a:pt x="779" y="2991"/>
                  </a:lnTo>
                  <a:lnTo>
                    <a:pt x="752" y="2962"/>
                  </a:lnTo>
                  <a:lnTo>
                    <a:pt x="779" y="2886"/>
                  </a:lnTo>
                  <a:lnTo>
                    <a:pt x="728" y="2807"/>
                  </a:lnTo>
                  <a:lnTo>
                    <a:pt x="752" y="2755"/>
                  </a:lnTo>
                  <a:lnTo>
                    <a:pt x="804" y="2703"/>
                  </a:lnTo>
                  <a:lnTo>
                    <a:pt x="804" y="2678"/>
                  </a:lnTo>
                  <a:lnTo>
                    <a:pt x="831" y="2575"/>
                  </a:lnTo>
                  <a:lnTo>
                    <a:pt x="856" y="2546"/>
                  </a:lnTo>
                  <a:lnTo>
                    <a:pt x="1012" y="2546"/>
                  </a:lnTo>
                  <a:lnTo>
                    <a:pt x="1040" y="2546"/>
                  </a:lnTo>
                  <a:lnTo>
                    <a:pt x="1063" y="2575"/>
                  </a:lnTo>
                  <a:lnTo>
                    <a:pt x="1092" y="2575"/>
                  </a:lnTo>
                  <a:lnTo>
                    <a:pt x="1115" y="2598"/>
                  </a:lnTo>
                  <a:lnTo>
                    <a:pt x="1144" y="2598"/>
                  </a:lnTo>
                  <a:lnTo>
                    <a:pt x="1144" y="2627"/>
                  </a:lnTo>
                  <a:lnTo>
                    <a:pt x="1167" y="2598"/>
                  </a:lnTo>
                  <a:lnTo>
                    <a:pt x="1196" y="2627"/>
                  </a:lnTo>
                  <a:lnTo>
                    <a:pt x="1219" y="2627"/>
                  </a:lnTo>
                  <a:lnTo>
                    <a:pt x="1196" y="2575"/>
                  </a:lnTo>
                  <a:lnTo>
                    <a:pt x="1272" y="2598"/>
                  </a:lnTo>
                  <a:lnTo>
                    <a:pt x="1299" y="2575"/>
                  </a:lnTo>
                  <a:lnTo>
                    <a:pt x="1351" y="2598"/>
                  </a:lnTo>
                  <a:lnTo>
                    <a:pt x="1351" y="2627"/>
                  </a:lnTo>
                  <a:lnTo>
                    <a:pt x="1455" y="2650"/>
                  </a:lnTo>
                  <a:lnTo>
                    <a:pt x="1480" y="2678"/>
                  </a:lnTo>
                  <a:lnTo>
                    <a:pt x="1455" y="2782"/>
                  </a:lnTo>
                  <a:lnTo>
                    <a:pt x="1480" y="2782"/>
                  </a:lnTo>
                  <a:lnTo>
                    <a:pt x="1507" y="2834"/>
                  </a:lnTo>
                  <a:lnTo>
                    <a:pt x="1507" y="2886"/>
                  </a:lnTo>
                  <a:lnTo>
                    <a:pt x="1560" y="2859"/>
                  </a:lnTo>
                  <a:lnTo>
                    <a:pt x="1587" y="2807"/>
                  </a:lnTo>
                  <a:lnTo>
                    <a:pt x="1560" y="2627"/>
                  </a:lnTo>
                  <a:lnTo>
                    <a:pt x="1560" y="2575"/>
                  </a:lnTo>
                  <a:lnTo>
                    <a:pt x="1743" y="2442"/>
                  </a:lnTo>
                  <a:lnTo>
                    <a:pt x="1768" y="2391"/>
                  </a:lnTo>
                  <a:lnTo>
                    <a:pt x="1819" y="2391"/>
                  </a:lnTo>
                  <a:lnTo>
                    <a:pt x="1768" y="2314"/>
                  </a:lnTo>
                  <a:lnTo>
                    <a:pt x="1791" y="2287"/>
                  </a:lnTo>
                  <a:lnTo>
                    <a:pt x="1791" y="2314"/>
                  </a:lnTo>
                  <a:lnTo>
                    <a:pt x="1819" y="2287"/>
                  </a:lnTo>
                  <a:lnTo>
                    <a:pt x="1819" y="2262"/>
                  </a:lnTo>
                  <a:lnTo>
                    <a:pt x="1871" y="2210"/>
                  </a:lnTo>
                  <a:lnTo>
                    <a:pt x="1900" y="2158"/>
                  </a:lnTo>
                  <a:lnTo>
                    <a:pt x="1975" y="2132"/>
                  </a:lnTo>
                  <a:lnTo>
                    <a:pt x="2027" y="2080"/>
                  </a:lnTo>
                  <a:lnTo>
                    <a:pt x="2004" y="2107"/>
                  </a:lnTo>
                  <a:lnTo>
                    <a:pt x="2004" y="2080"/>
                  </a:lnTo>
                  <a:lnTo>
                    <a:pt x="2078" y="2003"/>
                  </a:lnTo>
                  <a:lnTo>
                    <a:pt x="2107" y="2003"/>
                  </a:lnTo>
                  <a:lnTo>
                    <a:pt x="2130" y="1974"/>
                  </a:lnTo>
                  <a:lnTo>
                    <a:pt x="2107" y="1974"/>
                  </a:lnTo>
                  <a:lnTo>
                    <a:pt x="2078" y="1922"/>
                  </a:lnTo>
                  <a:lnTo>
                    <a:pt x="2107" y="1974"/>
                  </a:lnTo>
                  <a:lnTo>
                    <a:pt x="2130" y="1974"/>
                  </a:lnTo>
                  <a:lnTo>
                    <a:pt x="2184" y="1951"/>
                  </a:lnTo>
                  <a:lnTo>
                    <a:pt x="2159" y="2003"/>
                  </a:lnTo>
                  <a:lnTo>
                    <a:pt x="2184" y="2026"/>
                  </a:lnTo>
                  <a:lnTo>
                    <a:pt x="2236" y="1951"/>
                  </a:lnTo>
                  <a:lnTo>
                    <a:pt x="2288" y="1922"/>
                  </a:lnTo>
                  <a:lnTo>
                    <a:pt x="2184" y="1871"/>
                  </a:lnTo>
                  <a:lnTo>
                    <a:pt x="2184" y="184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6901920" y="1295280"/>
              <a:ext cx="160560" cy="102240"/>
            </a:xfrm>
            <a:custGeom>
              <a:avLst/>
              <a:gdLst/>
              <a:ahLst/>
              <a:rect l="l" t="t" r="r" b="b"/>
              <a:pathLst>
                <a:path w="364" h="312">
                  <a:moveTo>
                    <a:pt x="14" y="274"/>
                  </a:moveTo>
                  <a:lnTo>
                    <a:pt x="26" y="286"/>
                  </a:lnTo>
                  <a:lnTo>
                    <a:pt x="40" y="286"/>
                  </a:lnTo>
                  <a:lnTo>
                    <a:pt x="52" y="286"/>
                  </a:lnTo>
                  <a:lnTo>
                    <a:pt x="52" y="312"/>
                  </a:lnTo>
                  <a:lnTo>
                    <a:pt x="78" y="312"/>
                  </a:lnTo>
                  <a:lnTo>
                    <a:pt x="92" y="312"/>
                  </a:lnTo>
                  <a:lnTo>
                    <a:pt x="118" y="312"/>
                  </a:lnTo>
                  <a:lnTo>
                    <a:pt x="130" y="312"/>
                  </a:lnTo>
                  <a:lnTo>
                    <a:pt x="144" y="300"/>
                  </a:lnTo>
                  <a:lnTo>
                    <a:pt x="118" y="274"/>
                  </a:lnTo>
                  <a:lnTo>
                    <a:pt x="118" y="260"/>
                  </a:lnTo>
                  <a:lnTo>
                    <a:pt x="156" y="286"/>
                  </a:lnTo>
                  <a:lnTo>
                    <a:pt x="156" y="274"/>
                  </a:lnTo>
                  <a:lnTo>
                    <a:pt x="182" y="248"/>
                  </a:lnTo>
                  <a:lnTo>
                    <a:pt x="208" y="248"/>
                  </a:lnTo>
                  <a:lnTo>
                    <a:pt x="222" y="234"/>
                  </a:lnTo>
                  <a:lnTo>
                    <a:pt x="208" y="208"/>
                  </a:lnTo>
                  <a:lnTo>
                    <a:pt x="208" y="196"/>
                  </a:lnTo>
                  <a:lnTo>
                    <a:pt x="222" y="182"/>
                  </a:lnTo>
                  <a:lnTo>
                    <a:pt x="208" y="170"/>
                  </a:lnTo>
                  <a:lnTo>
                    <a:pt x="222" y="170"/>
                  </a:lnTo>
                  <a:lnTo>
                    <a:pt x="248" y="156"/>
                  </a:lnTo>
                  <a:lnTo>
                    <a:pt x="286" y="144"/>
                  </a:lnTo>
                  <a:lnTo>
                    <a:pt x="312" y="118"/>
                  </a:lnTo>
                  <a:lnTo>
                    <a:pt x="338" y="92"/>
                  </a:lnTo>
                  <a:lnTo>
                    <a:pt x="352" y="92"/>
                  </a:lnTo>
                  <a:lnTo>
                    <a:pt x="338" y="78"/>
                  </a:lnTo>
                  <a:lnTo>
                    <a:pt x="338" y="66"/>
                  </a:lnTo>
                  <a:lnTo>
                    <a:pt x="352" y="66"/>
                  </a:lnTo>
                  <a:lnTo>
                    <a:pt x="364" y="52"/>
                  </a:lnTo>
                  <a:lnTo>
                    <a:pt x="352" y="40"/>
                  </a:lnTo>
                  <a:lnTo>
                    <a:pt x="326" y="26"/>
                  </a:lnTo>
                  <a:lnTo>
                    <a:pt x="300" y="14"/>
                  </a:lnTo>
                  <a:lnTo>
                    <a:pt x="300" y="26"/>
                  </a:lnTo>
                  <a:lnTo>
                    <a:pt x="274" y="0"/>
                  </a:lnTo>
                  <a:lnTo>
                    <a:pt x="260" y="0"/>
                  </a:lnTo>
                  <a:lnTo>
                    <a:pt x="234" y="0"/>
                  </a:lnTo>
                  <a:lnTo>
                    <a:pt x="222" y="14"/>
                  </a:lnTo>
                  <a:lnTo>
                    <a:pt x="208" y="26"/>
                  </a:lnTo>
                  <a:lnTo>
                    <a:pt x="196" y="14"/>
                  </a:lnTo>
                  <a:lnTo>
                    <a:pt x="170" y="14"/>
                  </a:lnTo>
                  <a:lnTo>
                    <a:pt x="170" y="26"/>
                  </a:lnTo>
                  <a:lnTo>
                    <a:pt x="170" y="40"/>
                  </a:lnTo>
                  <a:lnTo>
                    <a:pt x="156" y="40"/>
                  </a:lnTo>
                  <a:lnTo>
                    <a:pt x="144" y="66"/>
                  </a:lnTo>
                  <a:lnTo>
                    <a:pt x="144" y="78"/>
                  </a:lnTo>
                  <a:lnTo>
                    <a:pt x="156" y="92"/>
                  </a:lnTo>
                  <a:lnTo>
                    <a:pt x="182" y="92"/>
                  </a:lnTo>
                  <a:lnTo>
                    <a:pt x="182" y="104"/>
                  </a:lnTo>
                  <a:lnTo>
                    <a:pt x="208" y="104"/>
                  </a:lnTo>
                  <a:lnTo>
                    <a:pt x="196" y="118"/>
                  </a:lnTo>
                  <a:lnTo>
                    <a:pt x="170" y="118"/>
                  </a:lnTo>
                  <a:lnTo>
                    <a:pt x="156" y="118"/>
                  </a:lnTo>
                  <a:lnTo>
                    <a:pt x="144" y="130"/>
                  </a:lnTo>
                  <a:lnTo>
                    <a:pt x="144" y="156"/>
                  </a:lnTo>
                  <a:lnTo>
                    <a:pt x="156" y="156"/>
                  </a:lnTo>
                  <a:lnTo>
                    <a:pt x="130" y="144"/>
                  </a:lnTo>
                  <a:lnTo>
                    <a:pt x="118" y="130"/>
                  </a:lnTo>
                  <a:lnTo>
                    <a:pt x="118" y="144"/>
                  </a:lnTo>
                  <a:lnTo>
                    <a:pt x="104" y="156"/>
                  </a:lnTo>
                  <a:lnTo>
                    <a:pt x="104" y="170"/>
                  </a:lnTo>
                  <a:lnTo>
                    <a:pt x="118" y="182"/>
                  </a:lnTo>
                  <a:lnTo>
                    <a:pt x="104" y="196"/>
                  </a:lnTo>
                  <a:lnTo>
                    <a:pt x="118" y="208"/>
                  </a:lnTo>
                  <a:lnTo>
                    <a:pt x="104" y="208"/>
                  </a:lnTo>
                  <a:lnTo>
                    <a:pt x="92" y="208"/>
                  </a:lnTo>
                  <a:lnTo>
                    <a:pt x="66" y="222"/>
                  </a:lnTo>
                  <a:lnTo>
                    <a:pt x="52" y="222"/>
                  </a:lnTo>
                  <a:lnTo>
                    <a:pt x="52" y="234"/>
                  </a:lnTo>
                  <a:lnTo>
                    <a:pt x="66" y="234"/>
                  </a:lnTo>
                  <a:lnTo>
                    <a:pt x="52" y="234"/>
                  </a:lnTo>
                  <a:lnTo>
                    <a:pt x="40" y="234"/>
                  </a:lnTo>
                  <a:lnTo>
                    <a:pt x="26" y="248"/>
                  </a:lnTo>
                  <a:lnTo>
                    <a:pt x="26" y="222"/>
                  </a:lnTo>
                  <a:lnTo>
                    <a:pt x="14" y="234"/>
                  </a:lnTo>
                  <a:lnTo>
                    <a:pt x="14" y="248"/>
                  </a:lnTo>
                  <a:lnTo>
                    <a:pt x="0" y="260"/>
                  </a:lnTo>
                  <a:lnTo>
                    <a:pt x="14" y="274"/>
                  </a:lnTo>
                  <a:lnTo>
                    <a:pt x="14" y="27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6901920" y="1316880"/>
              <a:ext cx="40320" cy="42480"/>
            </a:xfrm>
            <a:custGeom>
              <a:avLst/>
              <a:gdLst/>
              <a:ahLst/>
              <a:rect l="l" t="t" r="r" b="b"/>
              <a:pathLst>
                <a:path w="92" h="130">
                  <a:moveTo>
                    <a:pt x="26" y="130"/>
                  </a:moveTo>
                  <a:lnTo>
                    <a:pt x="52" y="116"/>
                  </a:lnTo>
                  <a:lnTo>
                    <a:pt x="66" y="116"/>
                  </a:lnTo>
                  <a:lnTo>
                    <a:pt x="66" y="104"/>
                  </a:lnTo>
                  <a:lnTo>
                    <a:pt x="78" y="90"/>
                  </a:lnTo>
                  <a:lnTo>
                    <a:pt x="78" y="78"/>
                  </a:lnTo>
                  <a:lnTo>
                    <a:pt x="78" y="52"/>
                  </a:lnTo>
                  <a:lnTo>
                    <a:pt x="92" y="52"/>
                  </a:lnTo>
                  <a:lnTo>
                    <a:pt x="92" y="38"/>
                  </a:lnTo>
                  <a:lnTo>
                    <a:pt x="78" y="52"/>
                  </a:lnTo>
                  <a:lnTo>
                    <a:pt x="78" y="26"/>
                  </a:lnTo>
                  <a:lnTo>
                    <a:pt x="78" y="0"/>
                  </a:lnTo>
                  <a:lnTo>
                    <a:pt x="66" y="0"/>
                  </a:lnTo>
                  <a:lnTo>
                    <a:pt x="66" y="12"/>
                  </a:lnTo>
                  <a:lnTo>
                    <a:pt x="40" y="12"/>
                  </a:lnTo>
                  <a:lnTo>
                    <a:pt x="26" y="38"/>
                  </a:lnTo>
                  <a:lnTo>
                    <a:pt x="26" y="52"/>
                  </a:lnTo>
                  <a:lnTo>
                    <a:pt x="26" y="64"/>
                  </a:lnTo>
                  <a:lnTo>
                    <a:pt x="14" y="64"/>
                  </a:lnTo>
                  <a:lnTo>
                    <a:pt x="40" y="78"/>
                  </a:lnTo>
                  <a:lnTo>
                    <a:pt x="40" y="90"/>
                  </a:lnTo>
                  <a:lnTo>
                    <a:pt x="14" y="90"/>
                  </a:lnTo>
                  <a:lnTo>
                    <a:pt x="0" y="104"/>
                  </a:lnTo>
                  <a:lnTo>
                    <a:pt x="0" y="116"/>
                  </a:lnTo>
                  <a:lnTo>
                    <a:pt x="0" y="130"/>
                  </a:lnTo>
                  <a:lnTo>
                    <a:pt x="14" y="130"/>
                  </a:lnTo>
                  <a:lnTo>
                    <a:pt x="26" y="130"/>
                  </a:lnTo>
                  <a:lnTo>
                    <a:pt x="26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6896880" y="1320840"/>
              <a:ext cx="5040" cy="8280"/>
            </a:xfrm>
            <a:custGeom>
              <a:avLst/>
              <a:gdLst/>
              <a:ahLst/>
              <a:rect l="l" t="t" r="r" b="b"/>
              <a:pathLst>
                <a:path w="12" h="26">
                  <a:moveTo>
                    <a:pt x="12" y="14"/>
                  </a:moveTo>
                  <a:lnTo>
                    <a:pt x="0" y="0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6856200" y="1371960"/>
              <a:ext cx="45720" cy="55800"/>
            </a:xfrm>
            <a:custGeom>
              <a:avLst/>
              <a:gdLst/>
              <a:ahLst/>
              <a:rect l="l" t="t" r="r" b="b"/>
              <a:pathLst>
                <a:path w="104" h="170">
                  <a:moveTo>
                    <a:pt x="78" y="170"/>
                  </a:moveTo>
                  <a:lnTo>
                    <a:pt x="92" y="156"/>
                  </a:lnTo>
                  <a:lnTo>
                    <a:pt x="92" y="144"/>
                  </a:lnTo>
                  <a:lnTo>
                    <a:pt x="104" y="130"/>
                  </a:lnTo>
                  <a:lnTo>
                    <a:pt x="104" y="118"/>
                  </a:lnTo>
                  <a:lnTo>
                    <a:pt x="92" y="104"/>
                  </a:lnTo>
                  <a:lnTo>
                    <a:pt x="66" y="104"/>
                  </a:lnTo>
                  <a:lnTo>
                    <a:pt x="52" y="92"/>
                  </a:lnTo>
                  <a:lnTo>
                    <a:pt x="38" y="78"/>
                  </a:lnTo>
                  <a:lnTo>
                    <a:pt x="38" y="66"/>
                  </a:lnTo>
                  <a:lnTo>
                    <a:pt x="52" y="66"/>
                  </a:lnTo>
                  <a:lnTo>
                    <a:pt x="66" y="66"/>
                  </a:lnTo>
                  <a:lnTo>
                    <a:pt x="52" y="52"/>
                  </a:lnTo>
                  <a:lnTo>
                    <a:pt x="66" y="52"/>
                  </a:lnTo>
                  <a:lnTo>
                    <a:pt x="66" y="26"/>
                  </a:lnTo>
                  <a:lnTo>
                    <a:pt x="52" y="26"/>
                  </a:lnTo>
                  <a:lnTo>
                    <a:pt x="38" y="26"/>
                  </a:lnTo>
                  <a:lnTo>
                    <a:pt x="26" y="26"/>
                  </a:lnTo>
                  <a:lnTo>
                    <a:pt x="26" y="14"/>
                  </a:lnTo>
                  <a:lnTo>
                    <a:pt x="0" y="0"/>
                  </a:lnTo>
                  <a:lnTo>
                    <a:pt x="0" y="14"/>
                  </a:lnTo>
                  <a:lnTo>
                    <a:pt x="0" y="40"/>
                  </a:lnTo>
                  <a:lnTo>
                    <a:pt x="12" y="40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12" y="92"/>
                  </a:lnTo>
                  <a:lnTo>
                    <a:pt x="12" y="104"/>
                  </a:lnTo>
                  <a:lnTo>
                    <a:pt x="26" y="118"/>
                  </a:lnTo>
                  <a:lnTo>
                    <a:pt x="26" y="130"/>
                  </a:lnTo>
                  <a:lnTo>
                    <a:pt x="26" y="144"/>
                  </a:lnTo>
                  <a:lnTo>
                    <a:pt x="38" y="170"/>
                  </a:lnTo>
                  <a:lnTo>
                    <a:pt x="52" y="170"/>
                  </a:lnTo>
                  <a:lnTo>
                    <a:pt x="78" y="170"/>
                  </a:lnTo>
                  <a:lnTo>
                    <a:pt x="78" y="17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6885360" y="1363320"/>
              <a:ext cx="11520" cy="8280"/>
            </a:xfrm>
            <a:custGeom>
              <a:avLst/>
              <a:gdLst/>
              <a:ahLst/>
              <a:rect l="l" t="t" r="r" b="b"/>
              <a:pathLst>
                <a:path w="26" h="26">
                  <a:moveTo>
                    <a:pt x="12" y="14"/>
                  </a:moveTo>
                  <a:lnTo>
                    <a:pt x="0" y="14"/>
                  </a:lnTo>
                  <a:lnTo>
                    <a:pt x="0" y="26"/>
                  </a:lnTo>
                  <a:lnTo>
                    <a:pt x="12" y="26"/>
                  </a:lnTo>
                  <a:lnTo>
                    <a:pt x="26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844680" y="133380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0" y="12"/>
                  </a:moveTo>
                  <a:lnTo>
                    <a:pt x="0" y="38"/>
                  </a:lnTo>
                  <a:lnTo>
                    <a:pt x="12" y="52"/>
                  </a:lnTo>
                  <a:lnTo>
                    <a:pt x="26" y="38"/>
                  </a:lnTo>
                  <a:lnTo>
                    <a:pt x="38" y="26"/>
                  </a:lnTo>
                  <a:lnTo>
                    <a:pt x="26" y="0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821640" y="1325160"/>
              <a:ext cx="16560" cy="16920"/>
            </a:xfrm>
            <a:custGeom>
              <a:avLst/>
              <a:gdLst/>
              <a:ahLst/>
              <a:rect l="l" t="t" r="r" b="b"/>
              <a:pathLst>
                <a:path w="38" h="52">
                  <a:moveTo>
                    <a:pt x="26" y="0"/>
                  </a:moveTo>
                  <a:lnTo>
                    <a:pt x="12" y="12"/>
                  </a:lnTo>
                  <a:lnTo>
                    <a:pt x="0" y="12"/>
                  </a:lnTo>
                  <a:lnTo>
                    <a:pt x="0" y="26"/>
                  </a:lnTo>
                  <a:lnTo>
                    <a:pt x="12" y="38"/>
                  </a:lnTo>
                  <a:lnTo>
                    <a:pt x="0" y="52"/>
                  </a:lnTo>
                  <a:lnTo>
                    <a:pt x="12" y="52"/>
                  </a:lnTo>
                  <a:lnTo>
                    <a:pt x="12" y="38"/>
                  </a:lnTo>
                  <a:lnTo>
                    <a:pt x="38" y="26"/>
                  </a:lnTo>
                  <a:lnTo>
                    <a:pt x="38" y="12"/>
                  </a:lnTo>
                  <a:lnTo>
                    <a:pt x="26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69440" y="1825200"/>
              <a:ext cx="109080" cy="33120"/>
            </a:xfrm>
            <a:custGeom>
              <a:avLst/>
              <a:gdLst/>
              <a:ahLst/>
              <a:rect l="l" t="t" r="r" b="b"/>
              <a:pathLst>
                <a:path w="495" h="204">
                  <a:moveTo>
                    <a:pt x="131" y="48"/>
                  </a:moveTo>
                  <a:lnTo>
                    <a:pt x="236" y="100"/>
                  </a:lnTo>
                  <a:lnTo>
                    <a:pt x="263" y="100"/>
                  </a:lnTo>
                  <a:lnTo>
                    <a:pt x="311" y="156"/>
                  </a:lnTo>
                  <a:lnTo>
                    <a:pt x="311" y="181"/>
                  </a:lnTo>
                  <a:lnTo>
                    <a:pt x="467" y="204"/>
                  </a:lnTo>
                  <a:lnTo>
                    <a:pt x="495" y="181"/>
                  </a:lnTo>
                  <a:lnTo>
                    <a:pt x="444" y="156"/>
                  </a:lnTo>
                  <a:lnTo>
                    <a:pt x="444" y="129"/>
                  </a:lnTo>
                  <a:lnTo>
                    <a:pt x="340" y="100"/>
                  </a:lnTo>
                  <a:lnTo>
                    <a:pt x="288" y="48"/>
                  </a:lnTo>
                  <a:lnTo>
                    <a:pt x="131" y="0"/>
                  </a:lnTo>
                  <a:lnTo>
                    <a:pt x="27" y="23"/>
                  </a:lnTo>
                  <a:lnTo>
                    <a:pt x="0" y="48"/>
                  </a:lnTo>
                  <a:lnTo>
                    <a:pt x="52" y="48"/>
                  </a:lnTo>
                  <a:lnTo>
                    <a:pt x="104" y="23"/>
                  </a:lnTo>
                  <a:lnTo>
                    <a:pt x="131" y="4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827400" y="1863360"/>
              <a:ext cx="21960" cy="8280"/>
            </a:xfrm>
            <a:custGeom>
              <a:avLst/>
              <a:gdLst/>
              <a:ahLst/>
              <a:rect l="l" t="t" r="r" b="b"/>
              <a:pathLst>
                <a:path w="100" h="52">
                  <a:moveTo>
                    <a:pt x="48" y="27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48" y="52"/>
                  </a:lnTo>
                  <a:lnTo>
                    <a:pt x="77" y="52"/>
                  </a:lnTo>
                  <a:lnTo>
                    <a:pt x="100" y="52"/>
                  </a:lnTo>
                  <a:lnTo>
                    <a:pt x="77" y="27"/>
                  </a:lnTo>
                  <a:lnTo>
                    <a:pt x="48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80960" y="1833120"/>
              <a:ext cx="10800" cy="4320"/>
            </a:xfrm>
            <a:custGeom>
              <a:avLst/>
              <a:gdLst/>
              <a:ahLst/>
              <a:rect l="l" t="t" r="r" b="b"/>
              <a:pathLst>
                <a:path w="52" h="29">
                  <a:moveTo>
                    <a:pt x="52" y="29"/>
                  </a:moveTo>
                  <a:lnTo>
                    <a:pt x="27" y="0"/>
                  </a:lnTo>
                  <a:lnTo>
                    <a:pt x="0" y="29"/>
                  </a:lnTo>
                  <a:lnTo>
                    <a:pt x="52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480" bIns="-42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987960" y="1607040"/>
              <a:ext cx="51120" cy="37800"/>
            </a:xfrm>
            <a:custGeom>
              <a:avLst/>
              <a:gdLst/>
              <a:ahLst/>
              <a:rect l="l" t="t" r="r" b="b"/>
              <a:pathLst>
                <a:path w="233" h="232">
                  <a:moveTo>
                    <a:pt x="233" y="128"/>
                  </a:moveTo>
                  <a:lnTo>
                    <a:pt x="210" y="103"/>
                  </a:lnTo>
                  <a:lnTo>
                    <a:pt x="210" y="76"/>
                  </a:lnTo>
                  <a:lnTo>
                    <a:pt x="129" y="76"/>
                  </a:lnTo>
                  <a:lnTo>
                    <a:pt x="104" y="103"/>
                  </a:lnTo>
                  <a:lnTo>
                    <a:pt x="129" y="25"/>
                  </a:lnTo>
                  <a:lnTo>
                    <a:pt x="104" y="0"/>
                  </a:lnTo>
                  <a:lnTo>
                    <a:pt x="52" y="128"/>
                  </a:lnTo>
                  <a:lnTo>
                    <a:pt x="0" y="157"/>
                  </a:lnTo>
                  <a:lnTo>
                    <a:pt x="52" y="157"/>
                  </a:lnTo>
                  <a:lnTo>
                    <a:pt x="52" y="209"/>
                  </a:lnTo>
                  <a:lnTo>
                    <a:pt x="77" y="232"/>
                  </a:lnTo>
                  <a:lnTo>
                    <a:pt x="129" y="209"/>
                  </a:lnTo>
                  <a:lnTo>
                    <a:pt x="158" y="209"/>
                  </a:lnTo>
                  <a:lnTo>
                    <a:pt x="181" y="232"/>
                  </a:lnTo>
                  <a:lnTo>
                    <a:pt x="210" y="209"/>
                  </a:lnTo>
                  <a:lnTo>
                    <a:pt x="233" y="232"/>
                  </a:lnTo>
                  <a:lnTo>
                    <a:pt x="233" y="157"/>
                  </a:lnTo>
                  <a:lnTo>
                    <a:pt x="210" y="157"/>
                  </a:lnTo>
                  <a:lnTo>
                    <a:pt x="233" y="12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826680" y="1508760"/>
              <a:ext cx="28800" cy="16560"/>
            </a:xfrm>
            <a:custGeom>
              <a:avLst/>
              <a:gdLst/>
              <a:ahLst/>
              <a:rect l="l" t="t" r="r" b="b"/>
              <a:pathLst>
                <a:path w="133" h="104">
                  <a:moveTo>
                    <a:pt x="52" y="52"/>
                  </a:moveTo>
                  <a:lnTo>
                    <a:pt x="81" y="79"/>
                  </a:lnTo>
                  <a:lnTo>
                    <a:pt x="104" y="104"/>
                  </a:lnTo>
                  <a:lnTo>
                    <a:pt x="133" y="79"/>
                  </a:lnTo>
                  <a:lnTo>
                    <a:pt x="133" y="52"/>
                  </a:lnTo>
                  <a:lnTo>
                    <a:pt x="104" y="52"/>
                  </a:lnTo>
                  <a:lnTo>
                    <a:pt x="81" y="27"/>
                  </a:lnTo>
                  <a:lnTo>
                    <a:pt x="52" y="0"/>
                  </a:lnTo>
                  <a:lnTo>
                    <a:pt x="29" y="0"/>
                  </a:lnTo>
                  <a:lnTo>
                    <a:pt x="0" y="52"/>
                  </a:lnTo>
                  <a:lnTo>
                    <a:pt x="29" y="104"/>
                  </a:lnTo>
                  <a:lnTo>
                    <a:pt x="52" y="79"/>
                  </a:lnTo>
                  <a:lnTo>
                    <a:pt x="52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711480" y="1406160"/>
              <a:ext cx="34200" cy="21600"/>
            </a:xfrm>
            <a:custGeom>
              <a:avLst/>
              <a:gdLst/>
              <a:ahLst/>
              <a:rect l="l" t="t" r="r" b="b"/>
              <a:pathLst>
                <a:path w="156" h="132">
                  <a:moveTo>
                    <a:pt x="81" y="103"/>
                  </a:moveTo>
                  <a:lnTo>
                    <a:pt x="156" y="103"/>
                  </a:lnTo>
                  <a:lnTo>
                    <a:pt x="133" y="0"/>
                  </a:lnTo>
                  <a:lnTo>
                    <a:pt x="104" y="0"/>
                  </a:lnTo>
                  <a:lnTo>
                    <a:pt x="52" y="51"/>
                  </a:lnTo>
                  <a:lnTo>
                    <a:pt x="0" y="78"/>
                  </a:lnTo>
                  <a:lnTo>
                    <a:pt x="0" y="132"/>
                  </a:lnTo>
                  <a:lnTo>
                    <a:pt x="52" y="132"/>
                  </a:lnTo>
                  <a:lnTo>
                    <a:pt x="81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23000" y="1427760"/>
              <a:ext cx="51840" cy="37440"/>
            </a:xfrm>
            <a:custGeom>
              <a:avLst/>
              <a:gdLst/>
              <a:ahLst/>
              <a:rect l="l" t="t" r="r" b="b"/>
              <a:pathLst>
                <a:path w="236" h="230">
                  <a:moveTo>
                    <a:pt x="209" y="23"/>
                  </a:moveTo>
                  <a:lnTo>
                    <a:pt x="184" y="75"/>
                  </a:lnTo>
                  <a:lnTo>
                    <a:pt x="184" y="23"/>
                  </a:lnTo>
                  <a:lnTo>
                    <a:pt x="133" y="23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29" y="23"/>
                  </a:lnTo>
                  <a:lnTo>
                    <a:pt x="29" y="75"/>
                  </a:lnTo>
                  <a:lnTo>
                    <a:pt x="52" y="104"/>
                  </a:lnTo>
                  <a:lnTo>
                    <a:pt x="0" y="104"/>
                  </a:lnTo>
                  <a:lnTo>
                    <a:pt x="52" y="127"/>
                  </a:lnTo>
                  <a:lnTo>
                    <a:pt x="52" y="178"/>
                  </a:lnTo>
                  <a:lnTo>
                    <a:pt x="133" y="207"/>
                  </a:lnTo>
                  <a:lnTo>
                    <a:pt x="184" y="230"/>
                  </a:lnTo>
                  <a:lnTo>
                    <a:pt x="236" y="230"/>
                  </a:lnTo>
                  <a:lnTo>
                    <a:pt x="209" y="207"/>
                  </a:lnTo>
                  <a:lnTo>
                    <a:pt x="236" y="207"/>
                  </a:lnTo>
                  <a:lnTo>
                    <a:pt x="209" y="127"/>
                  </a:lnTo>
                  <a:lnTo>
                    <a:pt x="236" y="52"/>
                  </a:lnTo>
                  <a:lnTo>
                    <a:pt x="20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815160" y="1445040"/>
              <a:ext cx="120960" cy="93960"/>
            </a:xfrm>
            <a:custGeom>
              <a:avLst/>
              <a:gdLst/>
              <a:ahLst/>
              <a:rect l="l" t="t" r="r" b="b"/>
              <a:pathLst>
                <a:path w="546" h="571">
                  <a:moveTo>
                    <a:pt x="207" y="51"/>
                  </a:moveTo>
                  <a:lnTo>
                    <a:pt x="155" y="23"/>
                  </a:lnTo>
                  <a:lnTo>
                    <a:pt x="103" y="23"/>
                  </a:lnTo>
                  <a:lnTo>
                    <a:pt x="103" y="74"/>
                  </a:lnTo>
                  <a:lnTo>
                    <a:pt x="80" y="51"/>
                  </a:lnTo>
                  <a:lnTo>
                    <a:pt x="80" y="23"/>
                  </a:lnTo>
                  <a:lnTo>
                    <a:pt x="80" y="0"/>
                  </a:lnTo>
                  <a:lnTo>
                    <a:pt x="51" y="23"/>
                  </a:lnTo>
                  <a:lnTo>
                    <a:pt x="28" y="23"/>
                  </a:lnTo>
                  <a:lnTo>
                    <a:pt x="0" y="51"/>
                  </a:lnTo>
                  <a:lnTo>
                    <a:pt x="51" y="103"/>
                  </a:lnTo>
                  <a:lnTo>
                    <a:pt x="28" y="103"/>
                  </a:lnTo>
                  <a:lnTo>
                    <a:pt x="51" y="155"/>
                  </a:lnTo>
                  <a:lnTo>
                    <a:pt x="103" y="155"/>
                  </a:lnTo>
                  <a:lnTo>
                    <a:pt x="184" y="207"/>
                  </a:lnTo>
                  <a:lnTo>
                    <a:pt x="184" y="178"/>
                  </a:lnTo>
                  <a:lnTo>
                    <a:pt x="184" y="126"/>
                  </a:lnTo>
                  <a:lnTo>
                    <a:pt x="207" y="155"/>
                  </a:lnTo>
                  <a:lnTo>
                    <a:pt x="207" y="178"/>
                  </a:lnTo>
                  <a:lnTo>
                    <a:pt x="287" y="207"/>
                  </a:lnTo>
                  <a:lnTo>
                    <a:pt x="259" y="232"/>
                  </a:lnTo>
                  <a:lnTo>
                    <a:pt x="316" y="284"/>
                  </a:lnTo>
                  <a:lnTo>
                    <a:pt x="316" y="310"/>
                  </a:lnTo>
                  <a:lnTo>
                    <a:pt x="287" y="310"/>
                  </a:lnTo>
                  <a:lnTo>
                    <a:pt x="316" y="387"/>
                  </a:lnTo>
                  <a:lnTo>
                    <a:pt x="287" y="387"/>
                  </a:lnTo>
                  <a:lnTo>
                    <a:pt x="236" y="387"/>
                  </a:lnTo>
                  <a:lnTo>
                    <a:pt x="236" y="466"/>
                  </a:lnTo>
                  <a:lnTo>
                    <a:pt x="287" y="466"/>
                  </a:lnTo>
                  <a:lnTo>
                    <a:pt x="316" y="439"/>
                  </a:lnTo>
                  <a:lnTo>
                    <a:pt x="368" y="520"/>
                  </a:lnTo>
                  <a:lnTo>
                    <a:pt x="391" y="520"/>
                  </a:lnTo>
                  <a:lnTo>
                    <a:pt x="420" y="543"/>
                  </a:lnTo>
                  <a:lnTo>
                    <a:pt x="523" y="571"/>
                  </a:lnTo>
                  <a:lnTo>
                    <a:pt x="523" y="543"/>
                  </a:lnTo>
                  <a:lnTo>
                    <a:pt x="483" y="506"/>
                  </a:lnTo>
                  <a:lnTo>
                    <a:pt x="523" y="520"/>
                  </a:lnTo>
                  <a:lnTo>
                    <a:pt x="523" y="491"/>
                  </a:lnTo>
                  <a:lnTo>
                    <a:pt x="495" y="466"/>
                  </a:lnTo>
                  <a:lnTo>
                    <a:pt x="495" y="439"/>
                  </a:lnTo>
                  <a:lnTo>
                    <a:pt x="443" y="414"/>
                  </a:lnTo>
                  <a:lnTo>
                    <a:pt x="472" y="387"/>
                  </a:lnTo>
                  <a:lnTo>
                    <a:pt x="443" y="362"/>
                  </a:lnTo>
                  <a:lnTo>
                    <a:pt x="523" y="387"/>
                  </a:lnTo>
                  <a:lnTo>
                    <a:pt x="523" y="362"/>
                  </a:lnTo>
                  <a:lnTo>
                    <a:pt x="546" y="362"/>
                  </a:lnTo>
                  <a:lnTo>
                    <a:pt x="546" y="310"/>
                  </a:lnTo>
                  <a:lnTo>
                    <a:pt x="495" y="310"/>
                  </a:lnTo>
                  <a:lnTo>
                    <a:pt x="472" y="284"/>
                  </a:lnTo>
                  <a:lnTo>
                    <a:pt x="420" y="259"/>
                  </a:lnTo>
                  <a:lnTo>
                    <a:pt x="391" y="232"/>
                  </a:lnTo>
                  <a:lnTo>
                    <a:pt x="420" y="207"/>
                  </a:lnTo>
                  <a:lnTo>
                    <a:pt x="391" y="155"/>
                  </a:lnTo>
                  <a:lnTo>
                    <a:pt x="339" y="155"/>
                  </a:lnTo>
                  <a:lnTo>
                    <a:pt x="287" y="126"/>
                  </a:lnTo>
                  <a:lnTo>
                    <a:pt x="287" y="74"/>
                  </a:lnTo>
                  <a:lnTo>
                    <a:pt x="236" y="103"/>
                  </a:lnTo>
                  <a:lnTo>
                    <a:pt x="236" y="74"/>
                  </a:lnTo>
                  <a:lnTo>
                    <a:pt x="184" y="74"/>
                  </a:lnTo>
                  <a:lnTo>
                    <a:pt x="184" y="51"/>
                  </a:lnTo>
                  <a:lnTo>
                    <a:pt x="207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867000" y="1487160"/>
              <a:ext cx="5040" cy="8280"/>
            </a:xfrm>
            <a:custGeom>
              <a:avLst/>
              <a:gdLst/>
              <a:ahLst/>
              <a:rect l="l" t="t" r="r" b="b"/>
              <a:pathLst>
                <a:path w="23" h="51">
                  <a:moveTo>
                    <a:pt x="0" y="0"/>
                  </a:moveTo>
                  <a:lnTo>
                    <a:pt x="0" y="25"/>
                  </a:lnTo>
                  <a:lnTo>
                    <a:pt x="0" y="51"/>
                  </a:lnTo>
                  <a:lnTo>
                    <a:pt x="23" y="51"/>
                  </a:lnTo>
                  <a:lnTo>
                    <a:pt x="23" y="25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821640" y="1653480"/>
              <a:ext cx="109080" cy="42480"/>
            </a:xfrm>
            <a:custGeom>
              <a:avLst/>
              <a:gdLst/>
              <a:ahLst/>
              <a:rect l="l" t="t" r="r" b="b"/>
              <a:pathLst>
                <a:path w="495" h="261">
                  <a:moveTo>
                    <a:pt x="415" y="80"/>
                  </a:moveTo>
                  <a:lnTo>
                    <a:pt x="311" y="103"/>
                  </a:lnTo>
                  <a:lnTo>
                    <a:pt x="259" y="132"/>
                  </a:lnTo>
                  <a:lnTo>
                    <a:pt x="231" y="184"/>
                  </a:lnTo>
                  <a:lnTo>
                    <a:pt x="208" y="184"/>
                  </a:lnTo>
                  <a:lnTo>
                    <a:pt x="156" y="209"/>
                  </a:lnTo>
                  <a:lnTo>
                    <a:pt x="104" y="236"/>
                  </a:lnTo>
                  <a:lnTo>
                    <a:pt x="52" y="261"/>
                  </a:lnTo>
                  <a:lnTo>
                    <a:pt x="27" y="236"/>
                  </a:lnTo>
                  <a:lnTo>
                    <a:pt x="0" y="209"/>
                  </a:lnTo>
                  <a:lnTo>
                    <a:pt x="23" y="209"/>
                  </a:lnTo>
                  <a:lnTo>
                    <a:pt x="27" y="209"/>
                  </a:lnTo>
                  <a:lnTo>
                    <a:pt x="52" y="209"/>
                  </a:lnTo>
                  <a:lnTo>
                    <a:pt x="156" y="184"/>
                  </a:lnTo>
                  <a:lnTo>
                    <a:pt x="208" y="132"/>
                  </a:lnTo>
                  <a:lnTo>
                    <a:pt x="259" y="132"/>
                  </a:lnTo>
                  <a:lnTo>
                    <a:pt x="311" y="103"/>
                  </a:lnTo>
                  <a:lnTo>
                    <a:pt x="415" y="80"/>
                  </a:lnTo>
                  <a:lnTo>
                    <a:pt x="495" y="0"/>
                  </a:lnTo>
                  <a:lnTo>
                    <a:pt x="415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6867000" y="1858320"/>
              <a:ext cx="68760" cy="17640"/>
            </a:xfrm>
            <a:custGeom>
              <a:avLst/>
              <a:gdLst/>
              <a:ahLst/>
              <a:rect l="l" t="t" r="r" b="b"/>
              <a:pathLst>
                <a:path w="310" h="107">
                  <a:moveTo>
                    <a:pt x="236" y="55"/>
                  </a:moveTo>
                  <a:lnTo>
                    <a:pt x="236" y="0"/>
                  </a:lnTo>
                  <a:lnTo>
                    <a:pt x="155" y="0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51" y="0"/>
                  </a:lnTo>
                  <a:lnTo>
                    <a:pt x="103" y="28"/>
                  </a:lnTo>
                  <a:lnTo>
                    <a:pt x="80" y="55"/>
                  </a:lnTo>
                  <a:lnTo>
                    <a:pt x="51" y="55"/>
                  </a:lnTo>
                  <a:lnTo>
                    <a:pt x="0" y="80"/>
                  </a:lnTo>
                  <a:lnTo>
                    <a:pt x="51" y="107"/>
                  </a:lnTo>
                  <a:lnTo>
                    <a:pt x="80" y="80"/>
                  </a:lnTo>
                  <a:lnTo>
                    <a:pt x="132" y="107"/>
                  </a:lnTo>
                  <a:lnTo>
                    <a:pt x="155" y="107"/>
                  </a:lnTo>
                  <a:lnTo>
                    <a:pt x="184" y="107"/>
                  </a:lnTo>
                  <a:lnTo>
                    <a:pt x="207" y="107"/>
                  </a:lnTo>
                  <a:lnTo>
                    <a:pt x="236" y="80"/>
                  </a:lnTo>
                  <a:lnTo>
                    <a:pt x="287" y="107"/>
                  </a:lnTo>
                  <a:lnTo>
                    <a:pt x="310" y="107"/>
                  </a:lnTo>
                  <a:lnTo>
                    <a:pt x="287" y="55"/>
                  </a:lnTo>
                  <a:lnTo>
                    <a:pt x="236" y="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80960" y="1436400"/>
              <a:ext cx="16920" cy="16920"/>
            </a:xfrm>
            <a:custGeom>
              <a:avLst/>
              <a:gdLst/>
              <a:ahLst/>
              <a:rect l="l" t="t" r="r" b="b"/>
              <a:pathLst>
                <a:path w="79" h="103">
                  <a:moveTo>
                    <a:pt x="52" y="103"/>
                  </a:moveTo>
                  <a:lnTo>
                    <a:pt x="79" y="75"/>
                  </a:lnTo>
                  <a:lnTo>
                    <a:pt x="79" y="0"/>
                  </a:lnTo>
                  <a:lnTo>
                    <a:pt x="52" y="0"/>
                  </a:lnTo>
                  <a:lnTo>
                    <a:pt x="27" y="23"/>
                  </a:lnTo>
                  <a:lnTo>
                    <a:pt x="0" y="23"/>
                  </a:lnTo>
                  <a:lnTo>
                    <a:pt x="27" y="75"/>
                  </a:lnTo>
                  <a:lnTo>
                    <a:pt x="27" y="103"/>
                  </a:lnTo>
                  <a:lnTo>
                    <a:pt x="52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803640" y="1436400"/>
              <a:ext cx="18000" cy="11880"/>
            </a:xfrm>
            <a:custGeom>
              <a:avLst/>
              <a:gdLst/>
              <a:ahLst/>
              <a:rect l="l" t="t" r="r" b="b"/>
              <a:pathLst>
                <a:path w="80" h="75">
                  <a:moveTo>
                    <a:pt x="0" y="23"/>
                  </a:moveTo>
                  <a:lnTo>
                    <a:pt x="0" y="75"/>
                  </a:lnTo>
                  <a:lnTo>
                    <a:pt x="27" y="75"/>
                  </a:lnTo>
                  <a:lnTo>
                    <a:pt x="80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740640" y="1393200"/>
              <a:ext cx="28440" cy="8280"/>
            </a:xfrm>
            <a:custGeom>
              <a:avLst/>
              <a:gdLst/>
              <a:ahLst/>
              <a:rect l="l" t="t" r="r" b="b"/>
              <a:pathLst>
                <a:path w="128" h="52">
                  <a:moveTo>
                    <a:pt x="103" y="52"/>
                  </a:moveTo>
                  <a:lnTo>
                    <a:pt x="128" y="25"/>
                  </a:lnTo>
                  <a:lnTo>
                    <a:pt x="103" y="0"/>
                  </a:lnTo>
                  <a:lnTo>
                    <a:pt x="76" y="0"/>
                  </a:lnTo>
                  <a:lnTo>
                    <a:pt x="0" y="25"/>
                  </a:lnTo>
                  <a:lnTo>
                    <a:pt x="52" y="52"/>
                  </a:lnTo>
                  <a:lnTo>
                    <a:pt x="103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809760" y="1419120"/>
              <a:ext cx="45720" cy="17280"/>
            </a:xfrm>
            <a:custGeom>
              <a:avLst/>
              <a:gdLst/>
              <a:ahLst/>
              <a:rect l="l" t="t" r="r" b="b"/>
              <a:pathLst>
                <a:path w="209" h="106">
                  <a:moveTo>
                    <a:pt x="25" y="0"/>
                  </a:moveTo>
                  <a:lnTo>
                    <a:pt x="0" y="0"/>
                  </a:lnTo>
                  <a:lnTo>
                    <a:pt x="25" y="25"/>
                  </a:lnTo>
                  <a:lnTo>
                    <a:pt x="25" y="106"/>
                  </a:lnTo>
                  <a:lnTo>
                    <a:pt x="209" y="106"/>
                  </a:lnTo>
                  <a:lnTo>
                    <a:pt x="209" y="77"/>
                  </a:lnTo>
                  <a:lnTo>
                    <a:pt x="105" y="54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757920" y="1406160"/>
              <a:ext cx="28440" cy="16920"/>
            </a:xfrm>
            <a:custGeom>
              <a:avLst/>
              <a:gdLst/>
              <a:ahLst/>
              <a:rect l="l" t="t" r="r" b="b"/>
              <a:pathLst>
                <a:path w="131" h="103">
                  <a:moveTo>
                    <a:pt x="131" y="51"/>
                  </a:moveTo>
                  <a:lnTo>
                    <a:pt x="104" y="27"/>
                  </a:lnTo>
                  <a:lnTo>
                    <a:pt x="27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7" y="78"/>
                  </a:lnTo>
                  <a:lnTo>
                    <a:pt x="52" y="78"/>
                  </a:lnTo>
                  <a:lnTo>
                    <a:pt x="104" y="103"/>
                  </a:lnTo>
                  <a:lnTo>
                    <a:pt x="131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786720" y="1414800"/>
              <a:ext cx="16560" cy="12960"/>
            </a:xfrm>
            <a:custGeom>
              <a:avLst/>
              <a:gdLst/>
              <a:ahLst/>
              <a:rect l="l" t="t" r="r" b="b"/>
              <a:pathLst>
                <a:path w="77" h="81">
                  <a:moveTo>
                    <a:pt x="77" y="81"/>
                  </a:moveTo>
                  <a:lnTo>
                    <a:pt x="52" y="52"/>
                  </a:lnTo>
                  <a:lnTo>
                    <a:pt x="77" y="52"/>
                  </a:lnTo>
                  <a:lnTo>
                    <a:pt x="52" y="0"/>
                  </a:lnTo>
                  <a:lnTo>
                    <a:pt x="25" y="27"/>
                  </a:lnTo>
                  <a:lnTo>
                    <a:pt x="0" y="52"/>
                  </a:lnTo>
                  <a:lnTo>
                    <a:pt x="25" y="52"/>
                  </a:lnTo>
                  <a:lnTo>
                    <a:pt x="25" y="81"/>
                  </a:lnTo>
                  <a:lnTo>
                    <a:pt x="52" y="81"/>
                  </a:lnTo>
                  <a:lnTo>
                    <a:pt x="77" y="8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6763680" y="1354680"/>
              <a:ext cx="45720" cy="25920"/>
            </a:xfrm>
            <a:custGeom>
              <a:avLst/>
              <a:gdLst/>
              <a:ahLst/>
              <a:rect l="l" t="t" r="r" b="b"/>
              <a:pathLst>
                <a:path w="208" h="157">
                  <a:moveTo>
                    <a:pt x="104" y="104"/>
                  </a:moveTo>
                  <a:lnTo>
                    <a:pt x="129" y="81"/>
                  </a:lnTo>
                  <a:lnTo>
                    <a:pt x="129" y="104"/>
                  </a:lnTo>
                  <a:lnTo>
                    <a:pt x="156" y="81"/>
                  </a:lnTo>
                  <a:lnTo>
                    <a:pt x="181" y="52"/>
                  </a:lnTo>
                  <a:lnTo>
                    <a:pt x="208" y="29"/>
                  </a:lnTo>
                  <a:lnTo>
                    <a:pt x="156" y="0"/>
                  </a:lnTo>
                  <a:lnTo>
                    <a:pt x="129" y="29"/>
                  </a:lnTo>
                  <a:lnTo>
                    <a:pt x="104" y="52"/>
                  </a:lnTo>
                  <a:lnTo>
                    <a:pt x="77" y="29"/>
                  </a:lnTo>
                  <a:lnTo>
                    <a:pt x="52" y="81"/>
                  </a:lnTo>
                  <a:lnTo>
                    <a:pt x="25" y="104"/>
                  </a:lnTo>
                  <a:lnTo>
                    <a:pt x="0" y="132"/>
                  </a:lnTo>
                  <a:lnTo>
                    <a:pt x="0" y="157"/>
                  </a:lnTo>
                  <a:lnTo>
                    <a:pt x="52" y="132"/>
                  </a:lnTo>
                  <a:lnTo>
                    <a:pt x="104" y="10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786720" y="1385280"/>
              <a:ext cx="46080" cy="25200"/>
            </a:xfrm>
            <a:custGeom>
              <a:avLst/>
              <a:gdLst/>
              <a:ahLst/>
              <a:rect l="l" t="t" r="r" b="b"/>
              <a:pathLst>
                <a:path w="209" h="156">
                  <a:moveTo>
                    <a:pt x="77" y="52"/>
                  </a:moveTo>
                  <a:lnTo>
                    <a:pt x="77" y="0"/>
                  </a:lnTo>
                  <a:lnTo>
                    <a:pt x="52" y="0"/>
                  </a:lnTo>
                  <a:lnTo>
                    <a:pt x="25" y="25"/>
                  </a:lnTo>
                  <a:lnTo>
                    <a:pt x="25" y="52"/>
                  </a:lnTo>
                  <a:lnTo>
                    <a:pt x="0" y="52"/>
                  </a:lnTo>
                  <a:lnTo>
                    <a:pt x="0" y="77"/>
                  </a:lnTo>
                  <a:lnTo>
                    <a:pt x="25" y="104"/>
                  </a:lnTo>
                  <a:lnTo>
                    <a:pt x="0" y="129"/>
                  </a:lnTo>
                  <a:lnTo>
                    <a:pt x="0" y="156"/>
                  </a:lnTo>
                  <a:lnTo>
                    <a:pt x="52" y="156"/>
                  </a:lnTo>
                  <a:lnTo>
                    <a:pt x="104" y="129"/>
                  </a:lnTo>
                  <a:lnTo>
                    <a:pt x="129" y="129"/>
                  </a:lnTo>
                  <a:lnTo>
                    <a:pt x="157" y="129"/>
                  </a:lnTo>
                  <a:lnTo>
                    <a:pt x="180" y="104"/>
                  </a:lnTo>
                  <a:lnTo>
                    <a:pt x="157" y="77"/>
                  </a:lnTo>
                  <a:lnTo>
                    <a:pt x="180" y="52"/>
                  </a:lnTo>
                  <a:lnTo>
                    <a:pt x="209" y="25"/>
                  </a:lnTo>
                  <a:lnTo>
                    <a:pt x="180" y="0"/>
                  </a:lnTo>
                  <a:lnTo>
                    <a:pt x="157" y="0"/>
                  </a:lnTo>
                  <a:lnTo>
                    <a:pt x="157" y="52"/>
                  </a:lnTo>
                  <a:lnTo>
                    <a:pt x="129" y="52"/>
                  </a:lnTo>
                  <a:lnTo>
                    <a:pt x="104" y="52"/>
                  </a:lnTo>
                  <a:lnTo>
                    <a:pt x="7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384320" y="1363320"/>
              <a:ext cx="45360" cy="47160"/>
            </a:xfrm>
            <a:custGeom>
              <a:avLst/>
              <a:gdLst/>
              <a:ahLst/>
              <a:rect l="l" t="t" r="r" b="b"/>
              <a:pathLst>
                <a:path w="207" h="288">
                  <a:moveTo>
                    <a:pt x="27" y="106"/>
                  </a:moveTo>
                  <a:lnTo>
                    <a:pt x="27" y="133"/>
                  </a:lnTo>
                  <a:lnTo>
                    <a:pt x="52" y="158"/>
                  </a:lnTo>
                  <a:lnTo>
                    <a:pt x="79" y="158"/>
                  </a:lnTo>
                  <a:lnTo>
                    <a:pt x="104" y="133"/>
                  </a:lnTo>
                  <a:lnTo>
                    <a:pt x="131" y="133"/>
                  </a:lnTo>
                  <a:lnTo>
                    <a:pt x="131" y="158"/>
                  </a:lnTo>
                  <a:lnTo>
                    <a:pt x="104" y="158"/>
                  </a:lnTo>
                  <a:lnTo>
                    <a:pt x="104" y="185"/>
                  </a:lnTo>
                  <a:lnTo>
                    <a:pt x="131" y="185"/>
                  </a:lnTo>
                  <a:lnTo>
                    <a:pt x="131" y="210"/>
                  </a:lnTo>
                  <a:lnTo>
                    <a:pt x="104" y="237"/>
                  </a:lnTo>
                  <a:lnTo>
                    <a:pt x="104" y="261"/>
                  </a:lnTo>
                  <a:lnTo>
                    <a:pt x="156" y="288"/>
                  </a:lnTo>
                  <a:lnTo>
                    <a:pt x="156" y="261"/>
                  </a:lnTo>
                  <a:lnTo>
                    <a:pt x="156" y="237"/>
                  </a:lnTo>
                  <a:lnTo>
                    <a:pt x="184" y="185"/>
                  </a:lnTo>
                  <a:lnTo>
                    <a:pt x="184" y="158"/>
                  </a:lnTo>
                  <a:lnTo>
                    <a:pt x="184" y="106"/>
                  </a:lnTo>
                  <a:lnTo>
                    <a:pt x="207" y="106"/>
                  </a:lnTo>
                  <a:lnTo>
                    <a:pt x="184" y="81"/>
                  </a:lnTo>
                  <a:lnTo>
                    <a:pt x="156" y="81"/>
                  </a:lnTo>
                  <a:lnTo>
                    <a:pt x="131" y="29"/>
                  </a:lnTo>
                  <a:lnTo>
                    <a:pt x="131" y="54"/>
                  </a:lnTo>
                  <a:lnTo>
                    <a:pt x="104" y="54"/>
                  </a:lnTo>
                  <a:lnTo>
                    <a:pt x="104" y="81"/>
                  </a:lnTo>
                  <a:lnTo>
                    <a:pt x="79" y="54"/>
                  </a:lnTo>
                  <a:lnTo>
                    <a:pt x="79" y="29"/>
                  </a:lnTo>
                  <a:lnTo>
                    <a:pt x="52" y="0"/>
                  </a:lnTo>
                  <a:lnTo>
                    <a:pt x="52" y="29"/>
                  </a:lnTo>
                  <a:lnTo>
                    <a:pt x="27" y="29"/>
                  </a:lnTo>
                  <a:lnTo>
                    <a:pt x="0" y="29"/>
                  </a:lnTo>
                  <a:lnTo>
                    <a:pt x="27" y="81"/>
                  </a:lnTo>
                  <a:lnTo>
                    <a:pt x="27" y="106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430040" y="1363320"/>
              <a:ext cx="23040" cy="17280"/>
            </a:xfrm>
            <a:custGeom>
              <a:avLst/>
              <a:gdLst/>
              <a:ahLst/>
              <a:rect l="l" t="t" r="r" b="b"/>
              <a:pathLst>
                <a:path w="104" h="106">
                  <a:moveTo>
                    <a:pt x="52" y="106"/>
                  </a:moveTo>
                  <a:lnTo>
                    <a:pt x="52" y="81"/>
                  </a:lnTo>
                  <a:lnTo>
                    <a:pt x="81" y="54"/>
                  </a:lnTo>
                  <a:lnTo>
                    <a:pt x="104" y="54"/>
                  </a:lnTo>
                  <a:lnTo>
                    <a:pt x="104" y="29"/>
                  </a:lnTo>
                  <a:lnTo>
                    <a:pt x="104" y="0"/>
                  </a:lnTo>
                  <a:lnTo>
                    <a:pt x="81" y="0"/>
                  </a:lnTo>
                  <a:lnTo>
                    <a:pt x="29" y="29"/>
                  </a:lnTo>
                  <a:lnTo>
                    <a:pt x="29" y="0"/>
                  </a:lnTo>
                  <a:lnTo>
                    <a:pt x="0" y="29"/>
                  </a:lnTo>
                  <a:lnTo>
                    <a:pt x="0" y="54"/>
                  </a:lnTo>
                  <a:lnTo>
                    <a:pt x="0" y="81"/>
                  </a:lnTo>
                  <a:lnTo>
                    <a:pt x="29" y="106"/>
                  </a:lnTo>
                  <a:lnTo>
                    <a:pt x="52" y="106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430040" y="1389240"/>
              <a:ext cx="18000" cy="16920"/>
            </a:xfrm>
            <a:custGeom>
              <a:avLst/>
              <a:gdLst/>
              <a:ahLst/>
              <a:rect l="l" t="t" r="r" b="b"/>
              <a:pathLst>
                <a:path w="81" h="103">
                  <a:moveTo>
                    <a:pt x="0" y="0"/>
                  </a:moveTo>
                  <a:lnTo>
                    <a:pt x="0" y="52"/>
                  </a:lnTo>
                  <a:lnTo>
                    <a:pt x="29" y="79"/>
                  </a:lnTo>
                  <a:lnTo>
                    <a:pt x="52" y="103"/>
                  </a:lnTo>
                  <a:lnTo>
                    <a:pt x="81" y="79"/>
                  </a:lnTo>
                  <a:lnTo>
                    <a:pt x="81" y="52"/>
                  </a:lnTo>
                  <a:lnTo>
                    <a:pt x="52" y="52"/>
                  </a:lnTo>
                  <a:lnTo>
                    <a:pt x="29" y="52"/>
                  </a:lnTo>
                  <a:lnTo>
                    <a:pt x="29" y="27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40240" y="2004840"/>
              <a:ext cx="22320" cy="792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3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23"/>
                  </a:lnTo>
                  <a:lnTo>
                    <a:pt x="104" y="23"/>
                  </a:lnTo>
                  <a:lnTo>
                    <a:pt x="75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8062560" y="2004840"/>
              <a:ext cx="39600" cy="7920"/>
            </a:xfrm>
            <a:custGeom>
              <a:avLst/>
              <a:gdLst/>
              <a:ahLst/>
              <a:rect l="l" t="t" r="r" b="b"/>
              <a:pathLst>
                <a:path w="179" h="52">
                  <a:moveTo>
                    <a:pt x="127" y="23"/>
                  </a:moveTo>
                  <a:lnTo>
                    <a:pt x="127" y="0"/>
                  </a:lnTo>
                  <a:lnTo>
                    <a:pt x="104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23"/>
                  </a:lnTo>
                  <a:lnTo>
                    <a:pt x="23" y="23"/>
                  </a:lnTo>
                  <a:lnTo>
                    <a:pt x="52" y="52"/>
                  </a:lnTo>
                  <a:lnTo>
                    <a:pt x="75" y="52"/>
                  </a:lnTo>
                  <a:lnTo>
                    <a:pt x="104" y="52"/>
                  </a:lnTo>
                  <a:lnTo>
                    <a:pt x="179" y="52"/>
                  </a:lnTo>
                  <a:lnTo>
                    <a:pt x="179" y="23"/>
                  </a:lnTo>
                  <a:lnTo>
                    <a:pt x="155" y="23"/>
                  </a:lnTo>
                  <a:lnTo>
                    <a:pt x="127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8131680" y="2004840"/>
              <a:ext cx="16560" cy="3240"/>
            </a:xfrm>
            <a:custGeom>
              <a:avLst/>
              <a:gdLst/>
              <a:ahLst/>
              <a:rect l="l" t="t" r="r" b="b"/>
              <a:pathLst>
                <a:path w="77" h="23">
                  <a:moveTo>
                    <a:pt x="25" y="0"/>
                  </a:moveTo>
                  <a:lnTo>
                    <a:pt x="0" y="0"/>
                  </a:lnTo>
                  <a:lnTo>
                    <a:pt x="25" y="23"/>
                  </a:lnTo>
                  <a:lnTo>
                    <a:pt x="52" y="23"/>
                  </a:lnTo>
                  <a:lnTo>
                    <a:pt x="77" y="23"/>
                  </a:lnTo>
                  <a:lnTo>
                    <a:pt x="77" y="0"/>
                  </a:lnTo>
                  <a:lnTo>
                    <a:pt x="52" y="0"/>
                  </a:lnTo>
                  <a:lnTo>
                    <a:pt x="2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131680" y="2013120"/>
              <a:ext cx="5040" cy="360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5" y="23"/>
                  </a:moveTo>
                  <a:lnTo>
                    <a:pt x="25" y="0"/>
                  </a:lnTo>
                  <a:lnTo>
                    <a:pt x="0" y="0"/>
                  </a:lnTo>
                  <a:lnTo>
                    <a:pt x="25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171280" y="1996200"/>
              <a:ext cx="6480" cy="8280"/>
            </a:xfrm>
            <a:custGeom>
              <a:avLst/>
              <a:gdLst/>
              <a:ahLst/>
              <a:rect l="l" t="t" r="r" b="b"/>
              <a:pathLst>
                <a:path w="29" h="52">
                  <a:moveTo>
                    <a:pt x="0" y="52"/>
                  </a:moveTo>
                  <a:lnTo>
                    <a:pt x="29" y="23"/>
                  </a:lnTo>
                  <a:lnTo>
                    <a:pt x="29" y="0"/>
                  </a:lnTo>
                  <a:lnTo>
                    <a:pt x="0" y="23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67960" y="1927440"/>
              <a:ext cx="63360" cy="63720"/>
            </a:xfrm>
            <a:custGeom>
              <a:avLst/>
              <a:gdLst/>
              <a:ahLst/>
              <a:rect l="l" t="t" r="r" b="b"/>
              <a:pathLst>
                <a:path w="288" h="388">
                  <a:moveTo>
                    <a:pt x="288" y="155"/>
                  </a:moveTo>
                  <a:lnTo>
                    <a:pt x="261" y="128"/>
                  </a:lnTo>
                  <a:lnTo>
                    <a:pt x="261" y="104"/>
                  </a:lnTo>
                  <a:lnTo>
                    <a:pt x="261" y="77"/>
                  </a:lnTo>
                  <a:lnTo>
                    <a:pt x="261" y="52"/>
                  </a:lnTo>
                  <a:lnTo>
                    <a:pt x="261" y="0"/>
                  </a:lnTo>
                  <a:lnTo>
                    <a:pt x="236" y="0"/>
                  </a:lnTo>
                  <a:lnTo>
                    <a:pt x="209" y="0"/>
                  </a:lnTo>
                  <a:lnTo>
                    <a:pt x="184" y="25"/>
                  </a:lnTo>
                  <a:lnTo>
                    <a:pt x="184" y="77"/>
                  </a:lnTo>
                  <a:lnTo>
                    <a:pt x="156" y="104"/>
                  </a:lnTo>
                  <a:lnTo>
                    <a:pt x="104" y="128"/>
                  </a:lnTo>
                  <a:lnTo>
                    <a:pt x="81" y="155"/>
                  </a:lnTo>
                  <a:lnTo>
                    <a:pt x="81" y="180"/>
                  </a:lnTo>
                  <a:lnTo>
                    <a:pt x="52" y="180"/>
                  </a:lnTo>
                  <a:lnTo>
                    <a:pt x="29" y="180"/>
                  </a:lnTo>
                  <a:lnTo>
                    <a:pt x="29" y="207"/>
                  </a:lnTo>
                  <a:lnTo>
                    <a:pt x="0" y="232"/>
                  </a:lnTo>
                  <a:lnTo>
                    <a:pt x="0" y="259"/>
                  </a:lnTo>
                  <a:lnTo>
                    <a:pt x="0" y="284"/>
                  </a:lnTo>
                  <a:lnTo>
                    <a:pt x="0" y="313"/>
                  </a:lnTo>
                  <a:lnTo>
                    <a:pt x="29" y="313"/>
                  </a:lnTo>
                  <a:lnTo>
                    <a:pt x="29" y="336"/>
                  </a:lnTo>
                  <a:lnTo>
                    <a:pt x="29" y="365"/>
                  </a:lnTo>
                  <a:lnTo>
                    <a:pt x="52" y="388"/>
                  </a:lnTo>
                  <a:lnTo>
                    <a:pt x="81" y="388"/>
                  </a:lnTo>
                  <a:lnTo>
                    <a:pt x="104" y="365"/>
                  </a:lnTo>
                  <a:lnTo>
                    <a:pt x="156" y="365"/>
                  </a:lnTo>
                  <a:lnTo>
                    <a:pt x="184" y="365"/>
                  </a:lnTo>
                  <a:lnTo>
                    <a:pt x="209" y="336"/>
                  </a:lnTo>
                  <a:lnTo>
                    <a:pt x="209" y="313"/>
                  </a:lnTo>
                  <a:lnTo>
                    <a:pt x="209" y="284"/>
                  </a:lnTo>
                  <a:lnTo>
                    <a:pt x="236" y="259"/>
                  </a:lnTo>
                  <a:lnTo>
                    <a:pt x="236" y="232"/>
                  </a:lnTo>
                  <a:lnTo>
                    <a:pt x="261" y="207"/>
                  </a:lnTo>
                  <a:lnTo>
                    <a:pt x="288" y="180"/>
                  </a:lnTo>
                  <a:lnTo>
                    <a:pt x="288" y="155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108640" y="1940400"/>
              <a:ext cx="5400" cy="8280"/>
            </a:xfrm>
            <a:custGeom>
              <a:avLst/>
              <a:gdLst/>
              <a:ahLst/>
              <a:rect l="l" t="t" r="r" b="b"/>
              <a:pathLst>
                <a:path w="25" h="51">
                  <a:moveTo>
                    <a:pt x="0" y="51"/>
                  </a:moveTo>
                  <a:lnTo>
                    <a:pt x="0" y="27"/>
                  </a:lnTo>
                  <a:lnTo>
                    <a:pt x="25" y="0"/>
                  </a:lnTo>
                  <a:lnTo>
                    <a:pt x="0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163360" y="19616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5">
                  <a:moveTo>
                    <a:pt x="11" y="0"/>
                  </a:moveTo>
                  <a:lnTo>
                    <a:pt x="0" y="21"/>
                  </a:lnTo>
                  <a:lnTo>
                    <a:pt x="11" y="25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168760" y="1949040"/>
              <a:ext cx="2520" cy="3960"/>
            </a:xfrm>
            <a:custGeom>
              <a:avLst/>
              <a:gdLst/>
              <a:ahLst/>
              <a:rect l="l" t="t" r="r" b="b"/>
              <a:pathLst>
                <a:path w="11" h="27">
                  <a:moveTo>
                    <a:pt x="11" y="0"/>
                  </a:moveTo>
                  <a:lnTo>
                    <a:pt x="0" y="27"/>
                  </a:lnTo>
                  <a:lnTo>
                    <a:pt x="11" y="27"/>
                  </a:lnTo>
                  <a:lnTo>
                    <a:pt x="11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8131680" y="1953360"/>
              <a:ext cx="36720" cy="42840"/>
            </a:xfrm>
            <a:custGeom>
              <a:avLst/>
              <a:gdLst/>
              <a:ahLst/>
              <a:rect l="l" t="t" r="r" b="b"/>
              <a:pathLst>
                <a:path w="169" h="261">
                  <a:moveTo>
                    <a:pt x="77" y="0"/>
                  </a:moveTo>
                  <a:lnTo>
                    <a:pt x="77" y="25"/>
                  </a:lnTo>
                  <a:lnTo>
                    <a:pt x="52" y="52"/>
                  </a:lnTo>
                  <a:lnTo>
                    <a:pt x="25" y="104"/>
                  </a:lnTo>
                  <a:lnTo>
                    <a:pt x="25" y="129"/>
                  </a:lnTo>
                  <a:lnTo>
                    <a:pt x="25" y="181"/>
                  </a:lnTo>
                  <a:lnTo>
                    <a:pt x="0" y="210"/>
                  </a:lnTo>
                  <a:lnTo>
                    <a:pt x="25" y="261"/>
                  </a:lnTo>
                  <a:lnTo>
                    <a:pt x="52" y="261"/>
                  </a:lnTo>
                  <a:lnTo>
                    <a:pt x="52" y="233"/>
                  </a:lnTo>
                  <a:lnTo>
                    <a:pt x="52" y="181"/>
                  </a:lnTo>
                  <a:lnTo>
                    <a:pt x="77" y="158"/>
                  </a:lnTo>
                  <a:lnTo>
                    <a:pt x="104" y="158"/>
                  </a:lnTo>
                  <a:lnTo>
                    <a:pt x="129" y="158"/>
                  </a:lnTo>
                  <a:lnTo>
                    <a:pt x="129" y="129"/>
                  </a:lnTo>
                  <a:lnTo>
                    <a:pt x="129" y="104"/>
                  </a:lnTo>
                  <a:lnTo>
                    <a:pt x="144" y="73"/>
                  </a:lnTo>
                  <a:lnTo>
                    <a:pt x="104" y="52"/>
                  </a:lnTo>
                  <a:lnTo>
                    <a:pt x="155" y="25"/>
                  </a:lnTo>
                  <a:lnTo>
                    <a:pt x="169" y="0"/>
                  </a:lnTo>
                  <a:lnTo>
                    <a:pt x="129" y="0"/>
                  </a:lnTo>
                  <a:lnTo>
                    <a:pt x="7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194320" y="1940400"/>
              <a:ext cx="6120" cy="8280"/>
            </a:xfrm>
            <a:custGeom>
              <a:avLst/>
              <a:gdLst/>
              <a:ahLst/>
              <a:rect l="l" t="t" r="r" b="b"/>
              <a:pathLst>
                <a:path w="29" h="51">
                  <a:moveTo>
                    <a:pt x="29" y="27"/>
                  </a:moveTo>
                  <a:lnTo>
                    <a:pt x="29" y="0"/>
                  </a:lnTo>
                  <a:lnTo>
                    <a:pt x="0" y="27"/>
                  </a:lnTo>
                  <a:lnTo>
                    <a:pt x="0" y="51"/>
                  </a:lnTo>
                  <a:lnTo>
                    <a:pt x="29" y="51"/>
                  </a:lnTo>
                  <a:lnTo>
                    <a:pt x="29" y="2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8159760" y="1902240"/>
              <a:ext cx="29520" cy="20520"/>
            </a:xfrm>
            <a:custGeom>
              <a:avLst/>
              <a:gdLst/>
              <a:ahLst/>
              <a:rect l="l" t="t" r="r" b="b"/>
              <a:pathLst>
                <a:path w="132" h="127">
                  <a:moveTo>
                    <a:pt x="80" y="23"/>
                  </a:moveTo>
                  <a:lnTo>
                    <a:pt x="26" y="52"/>
                  </a:lnTo>
                  <a:lnTo>
                    <a:pt x="0" y="52"/>
                  </a:lnTo>
                  <a:lnTo>
                    <a:pt x="0" y="75"/>
                  </a:lnTo>
                  <a:lnTo>
                    <a:pt x="26" y="75"/>
                  </a:lnTo>
                  <a:lnTo>
                    <a:pt x="51" y="104"/>
                  </a:lnTo>
                  <a:lnTo>
                    <a:pt x="51" y="127"/>
                  </a:lnTo>
                  <a:lnTo>
                    <a:pt x="103" y="104"/>
                  </a:lnTo>
                  <a:lnTo>
                    <a:pt x="132" y="52"/>
                  </a:lnTo>
                  <a:lnTo>
                    <a:pt x="132" y="23"/>
                  </a:lnTo>
                  <a:lnTo>
                    <a:pt x="132" y="0"/>
                  </a:lnTo>
                  <a:lnTo>
                    <a:pt x="103" y="0"/>
                  </a:lnTo>
                  <a:lnTo>
                    <a:pt x="80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154360" y="1914480"/>
              <a:ext cx="5040" cy="4680"/>
            </a:xfrm>
            <a:custGeom>
              <a:avLst/>
              <a:gdLst/>
              <a:ahLst/>
              <a:rect l="l" t="t" r="r" b="b"/>
              <a:pathLst>
                <a:path w="25" h="29">
                  <a:moveTo>
                    <a:pt x="25" y="29"/>
                  </a:moveTo>
                  <a:lnTo>
                    <a:pt x="25" y="0"/>
                  </a:lnTo>
                  <a:lnTo>
                    <a:pt x="0" y="29"/>
                  </a:lnTo>
                  <a:lnTo>
                    <a:pt x="25" y="29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8136720" y="1855080"/>
              <a:ext cx="17280" cy="30240"/>
            </a:xfrm>
            <a:custGeom>
              <a:avLst/>
              <a:gdLst/>
              <a:ahLst/>
              <a:rect l="l" t="t" r="r" b="b"/>
              <a:pathLst>
                <a:path w="79" h="184">
                  <a:moveTo>
                    <a:pt x="27" y="0"/>
                  </a:moveTo>
                  <a:lnTo>
                    <a:pt x="27" y="26"/>
                  </a:lnTo>
                  <a:lnTo>
                    <a:pt x="27" y="51"/>
                  </a:lnTo>
                  <a:lnTo>
                    <a:pt x="27" y="78"/>
                  </a:lnTo>
                  <a:lnTo>
                    <a:pt x="0" y="132"/>
                  </a:lnTo>
                  <a:lnTo>
                    <a:pt x="0" y="155"/>
                  </a:lnTo>
                  <a:lnTo>
                    <a:pt x="27" y="184"/>
                  </a:lnTo>
                  <a:lnTo>
                    <a:pt x="52" y="155"/>
                  </a:lnTo>
                  <a:lnTo>
                    <a:pt x="52" y="132"/>
                  </a:lnTo>
                  <a:lnTo>
                    <a:pt x="52" y="103"/>
                  </a:lnTo>
                  <a:lnTo>
                    <a:pt x="79" y="78"/>
                  </a:lnTo>
                  <a:lnTo>
                    <a:pt x="79" y="51"/>
                  </a:lnTo>
                  <a:lnTo>
                    <a:pt x="79" y="26"/>
                  </a:lnTo>
                  <a:lnTo>
                    <a:pt x="52" y="0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303680" y="1577160"/>
              <a:ext cx="40320" cy="59760"/>
            </a:xfrm>
            <a:custGeom>
              <a:avLst/>
              <a:gdLst/>
              <a:ahLst/>
              <a:rect l="l" t="t" r="r" b="b"/>
              <a:pathLst>
                <a:path w="185" h="362">
                  <a:moveTo>
                    <a:pt x="81" y="207"/>
                  </a:moveTo>
                  <a:lnTo>
                    <a:pt x="81" y="234"/>
                  </a:lnTo>
                  <a:lnTo>
                    <a:pt x="52" y="234"/>
                  </a:lnTo>
                  <a:lnTo>
                    <a:pt x="29" y="288"/>
                  </a:lnTo>
                  <a:lnTo>
                    <a:pt x="29" y="311"/>
                  </a:lnTo>
                  <a:lnTo>
                    <a:pt x="29" y="339"/>
                  </a:lnTo>
                  <a:lnTo>
                    <a:pt x="0" y="339"/>
                  </a:lnTo>
                  <a:lnTo>
                    <a:pt x="0" y="362"/>
                  </a:lnTo>
                  <a:lnTo>
                    <a:pt x="29" y="362"/>
                  </a:lnTo>
                  <a:lnTo>
                    <a:pt x="81" y="339"/>
                  </a:lnTo>
                  <a:lnTo>
                    <a:pt x="81" y="362"/>
                  </a:lnTo>
                  <a:lnTo>
                    <a:pt x="133" y="362"/>
                  </a:lnTo>
                  <a:lnTo>
                    <a:pt x="133" y="339"/>
                  </a:lnTo>
                  <a:lnTo>
                    <a:pt x="156" y="362"/>
                  </a:lnTo>
                  <a:lnTo>
                    <a:pt x="156" y="339"/>
                  </a:lnTo>
                  <a:lnTo>
                    <a:pt x="185" y="339"/>
                  </a:lnTo>
                  <a:lnTo>
                    <a:pt x="156" y="311"/>
                  </a:lnTo>
                  <a:lnTo>
                    <a:pt x="185" y="311"/>
                  </a:lnTo>
                  <a:lnTo>
                    <a:pt x="185" y="288"/>
                  </a:lnTo>
                  <a:lnTo>
                    <a:pt x="156" y="259"/>
                  </a:lnTo>
                  <a:lnTo>
                    <a:pt x="156" y="234"/>
                  </a:lnTo>
                  <a:lnTo>
                    <a:pt x="133" y="207"/>
                  </a:lnTo>
                  <a:lnTo>
                    <a:pt x="156" y="182"/>
                  </a:lnTo>
                  <a:lnTo>
                    <a:pt x="133" y="182"/>
                  </a:lnTo>
                  <a:lnTo>
                    <a:pt x="104" y="182"/>
                  </a:lnTo>
                  <a:lnTo>
                    <a:pt x="133" y="155"/>
                  </a:lnTo>
                  <a:lnTo>
                    <a:pt x="104" y="155"/>
                  </a:lnTo>
                  <a:lnTo>
                    <a:pt x="104" y="130"/>
                  </a:lnTo>
                  <a:lnTo>
                    <a:pt x="81" y="103"/>
                  </a:lnTo>
                  <a:lnTo>
                    <a:pt x="104" y="52"/>
                  </a:lnTo>
                  <a:lnTo>
                    <a:pt x="81" y="52"/>
                  </a:lnTo>
                  <a:lnTo>
                    <a:pt x="81" y="27"/>
                  </a:lnTo>
                  <a:lnTo>
                    <a:pt x="52" y="27"/>
                  </a:lnTo>
                  <a:lnTo>
                    <a:pt x="81" y="0"/>
                  </a:lnTo>
                  <a:lnTo>
                    <a:pt x="29" y="0"/>
                  </a:lnTo>
                  <a:lnTo>
                    <a:pt x="29" y="27"/>
                  </a:lnTo>
                  <a:lnTo>
                    <a:pt x="29" y="52"/>
                  </a:lnTo>
                  <a:lnTo>
                    <a:pt x="29" y="78"/>
                  </a:lnTo>
                  <a:lnTo>
                    <a:pt x="0" y="78"/>
                  </a:lnTo>
                  <a:lnTo>
                    <a:pt x="0" y="103"/>
                  </a:lnTo>
                  <a:lnTo>
                    <a:pt x="29" y="103"/>
                  </a:lnTo>
                  <a:lnTo>
                    <a:pt x="29" y="130"/>
                  </a:lnTo>
                  <a:lnTo>
                    <a:pt x="29" y="155"/>
                  </a:lnTo>
                  <a:lnTo>
                    <a:pt x="52" y="182"/>
                  </a:lnTo>
                  <a:lnTo>
                    <a:pt x="81" y="20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275240" y="1598760"/>
              <a:ext cx="34560" cy="25560"/>
            </a:xfrm>
            <a:custGeom>
              <a:avLst/>
              <a:gdLst/>
              <a:ahLst/>
              <a:rect l="l" t="t" r="r" b="b"/>
              <a:pathLst>
                <a:path w="157" h="158">
                  <a:moveTo>
                    <a:pt x="25" y="158"/>
                  </a:moveTo>
                  <a:lnTo>
                    <a:pt x="76" y="158"/>
                  </a:lnTo>
                  <a:lnTo>
                    <a:pt x="105" y="129"/>
                  </a:lnTo>
                  <a:lnTo>
                    <a:pt x="105" y="158"/>
                  </a:lnTo>
                  <a:lnTo>
                    <a:pt x="128" y="158"/>
                  </a:lnTo>
                  <a:lnTo>
                    <a:pt x="128" y="104"/>
                  </a:lnTo>
                  <a:lnTo>
                    <a:pt x="128" y="77"/>
                  </a:lnTo>
                  <a:lnTo>
                    <a:pt x="157" y="52"/>
                  </a:lnTo>
                  <a:lnTo>
                    <a:pt x="157" y="25"/>
                  </a:lnTo>
                  <a:lnTo>
                    <a:pt x="128" y="25"/>
                  </a:lnTo>
                  <a:lnTo>
                    <a:pt x="105" y="0"/>
                  </a:lnTo>
                  <a:lnTo>
                    <a:pt x="105" y="25"/>
                  </a:lnTo>
                  <a:lnTo>
                    <a:pt x="76" y="25"/>
                  </a:lnTo>
                  <a:lnTo>
                    <a:pt x="53" y="25"/>
                  </a:lnTo>
                  <a:lnTo>
                    <a:pt x="25" y="52"/>
                  </a:lnTo>
                  <a:lnTo>
                    <a:pt x="53" y="77"/>
                  </a:lnTo>
                  <a:lnTo>
                    <a:pt x="25" y="77"/>
                  </a:lnTo>
                  <a:lnTo>
                    <a:pt x="53" y="104"/>
                  </a:lnTo>
                  <a:lnTo>
                    <a:pt x="0" y="129"/>
                  </a:lnTo>
                  <a:lnTo>
                    <a:pt x="25" y="158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8217360" y="1598760"/>
              <a:ext cx="28800" cy="72720"/>
            </a:xfrm>
            <a:custGeom>
              <a:avLst/>
              <a:gdLst/>
              <a:ahLst/>
              <a:rect l="l" t="t" r="r" b="b"/>
              <a:pathLst>
                <a:path w="132" h="445">
                  <a:moveTo>
                    <a:pt x="80" y="417"/>
                  </a:moveTo>
                  <a:lnTo>
                    <a:pt x="80" y="445"/>
                  </a:lnTo>
                  <a:lnTo>
                    <a:pt x="109" y="417"/>
                  </a:lnTo>
                  <a:lnTo>
                    <a:pt x="132" y="445"/>
                  </a:lnTo>
                  <a:lnTo>
                    <a:pt x="132" y="417"/>
                  </a:lnTo>
                  <a:lnTo>
                    <a:pt x="109" y="388"/>
                  </a:lnTo>
                  <a:lnTo>
                    <a:pt x="80" y="261"/>
                  </a:lnTo>
                  <a:lnTo>
                    <a:pt x="109" y="261"/>
                  </a:lnTo>
                  <a:lnTo>
                    <a:pt x="109" y="232"/>
                  </a:lnTo>
                  <a:lnTo>
                    <a:pt x="52" y="181"/>
                  </a:lnTo>
                  <a:lnTo>
                    <a:pt x="52" y="77"/>
                  </a:lnTo>
                  <a:lnTo>
                    <a:pt x="29" y="25"/>
                  </a:lnTo>
                  <a:lnTo>
                    <a:pt x="0" y="0"/>
                  </a:lnTo>
                  <a:lnTo>
                    <a:pt x="29" y="52"/>
                  </a:lnTo>
                  <a:lnTo>
                    <a:pt x="29" y="129"/>
                  </a:lnTo>
                  <a:lnTo>
                    <a:pt x="52" y="313"/>
                  </a:lnTo>
                  <a:lnTo>
                    <a:pt x="80" y="417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241480" y="1675440"/>
              <a:ext cx="33840" cy="25200"/>
            </a:xfrm>
            <a:custGeom>
              <a:avLst/>
              <a:gdLst/>
              <a:ahLst/>
              <a:rect l="l" t="t" r="r" b="b"/>
              <a:pathLst>
                <a:path w="156" h="155">
                  <a:moveTo>
                    <a:pt x="75" y="51"/>
                  </a:moveTo>
                  <a:lnTo>
                    <a:pt x="0" y="0"/>
                  </a:lnTo>
                  <a:lnTo>
                    <a:pt x="0" y="51"/>
                  </a:lnTo>
                  <a:lnTo>
                    <a:pt x="0" y="155"/>
                  </a:lnTo>
                  <a:lnTo>
                    <a:pt x="23" y="132"/>
                  </a:lnTo>
                  <a:lnTo>
                    <a:pt x="75" y="155"/>
                  </a:lnTo>
                  <a:lnTo>
                    <a:pt x="75" y="132"/>
                  </a:lnTo>
                  <a:lnTo>
                    <a:pt x="156" y="76"/>
                  </a:lnTo>
                  <a:lnTo>
                    <a:pt x="127" y="51"/>
                  </a:lnTo>
                  <a:lnTo>
                    <a:pt x="75" y="51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8194320" y="1705320"/>
              <a:ext cx="57600" cy="55800"/>
            </a:xfrm>
            <a:custGeom>
              <a:avLst/>
              <a:gdLst/>
              <a:ahLst/>
              <a:rect l="l" t="t" r="r" b="b"/>
              <a:pathLst>
                <a:path w="261" h="340">
                  <a:moveTo>
                    <a:pt x="213" y="0"/>
                  </a:moveTo>
                  <a:lnTo>
                    <a:pt x="184" y="132"/>
                  </a:lnTo>
                  <a:lnTo>
                    <a:pt x="184" y="155"/>
                  </a:lnTo>
                  <a:lnTo>
                    <a:pt x="104" y="236"/>
                  </a:lnTo>
                  <a:lnTo>
                    <a:pt x="104" y="263"/>
                  </a:lnTo>
                  <a:lnTo>
                    <a:pt x="29" y="288"/>
                  </a:lnTo>
                  <a:lnTo>
                    <a:pt x="0" y="315"/>
                  </a:lnTo>
                  <a:lnTo>
                    <a:pt x="29" y="340"/>
                  </a:lnTo>
                  <a:lnTo>
                    <a:pt x="56" y="315"/>
                  </a:lnTo>
                  <a:lnTo>
                    <a:pt x="81" y="315"/>
                  </a:lnTo>
                  <a:lnTo>
                    <a:pt x="104" y="315"/>
                  </a:lnTo>
                  <a:lnTo>
                    <a:pt x="133" y="340"/>
                  </a:lnTo>
                  <a:lnTo>
                    <a:pt x="156" y="340"/>
                  </a:lnTo>
                  <a:lnTo>
                    <a:pt x="156" y="315"/>
                  </a:lnTo>
                  <a:lnTo>
                    <a:pt x="184" y="315"/>
                  </a:lnTo>
                  <a:lnTo>
                    <a:pt x="184" y="288"/>
                  </a:lnTo>
                  <a:lnTo>
                    <a:pt x="236" y="288"/>
                  </a:lnTo>
                  <a:lnTo>
                    <a:pt x="236" y="263"/>
                  </a:lnTo>
                  <a:lnTo>
                    <a:pt x="261" y="288"/>
                  </a:lnTo>
                  <a:lnTo>
                    <a:pt x="261" y="207"/>
                  </a:lnTo>
                  <a:lnTo>
                    <a:pt x="236" y="155"/>
                  </a:lnTo>
                  <a:lnTo>
                    <a:pt x="261" y="132"/>
                  </a:lnTo>
                  <a:lnTo>
                    <a:pt x="261" y="107"/>
                  </a:lnTo>
                  <a:lnTo>
                    <a:pt x="261" y="79"/>
                  </a:lnTo>
                  <a:lnTo>
                    <a:pt x="236" y="27"/>
                  </a:lnTo>
                  <a:lnTo>
                    <a:pt x="213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189640" y="1764720"/>
              <a:ext cx="10800" cy="18000"/>
            </a:xfrm>
            <a:custGeom>
              <a:avLst/>
              <a:gdLst/>
              <a:ahLst/>
              <a:rect l="l" t="t" r="r" b="b"/>
              <a:pathLst>
                <a:path w="52" h="109">
                  <a:moveTo>
                    <a:pt x="52" y="80"/>
                  </a:moveTo>
                  <a:lnTo>
                    <a:pt x="52" y="57"/>
                  </a:lnTo>
                  <a:lnTo>
                    <a:pt x="52" y="28"/>
                  </a:lnTo>
                  <a:lnTo>
                    <a:pt x="23" y="0"/>
                  </a:lnTo>
                  <a:lnTo>
                    <a:pt x="0" y="28"/>
                  </a:lnTo>
                  <a:lnTo>
                    <a:pt x="0" y="80"/>
                  </a:lnTo>
                  <a:lnTo>
                    <a:pt x="23" y="109"/>
                  </a:lnTo>
                  <a:lnTo>
                    <a:pt x="52" y="8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8131680" y="1811880"/>
              <a:ext cx="11160" cy="17280"/>
            </a:xfrm>
            <a:custGeom>
              <a:avLst/>
              <a:gdLst/>
              <a:ahLst/>
              <a:rect l="l" t="t" r="r" b="b"/>
              <a:pathLst>
                <a:path w="52" h="105">
                  <a:moveTo>
                    <a:pt x="0" y="24"/>
                  </a:moveTo>
                  <a:lnTo>
                    <a:pt x="0" y="51"/>
                  </a:lnTo>
                  <a:lnTo>
                    <a:pt x="25" y="80"/>
                  </a:lnTo>
                  <a:lnTo>
                    <a:pt x="25" y="105"/>
                  </a:lnTo>
                  <a:lnTo>
                    <a:pt x="52" y="80"/>
                  </a:lnTo>
                  <a:lnTo>
                    <a:pt x="52" y="51"/>
                  </a:lnTo>
                  <a:lnTo>
                    <a:pt x="25" y="0"/>
                  </a:lnTo>
                  <a:lnTo>
                    <a:pt x="0" y="2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8051760" y="1855080"/>
              <a:ext cx="16200" cy="8280"/>
            </a:xfrm>
            <a:custGeom>
              <a:avLst/>
              <a:gdLst/>
              <a:ahLst/>
              <a:rect l="l" t="t" r="r" b="b"/>
              <a:pathLst>
                <a:path w="75" h="51">
                  <a:moveTo>
                    <a:pt x="75" y="0"/>
                  </a:moveTo>
                  <a:lnTo>
                    <a:pt x="23" y="0"/>
                  </a:lnTo>
                  <a:lnTo>
                    <a:pt x="0" y="26"/>
                  </a:lnTo>
                  <a:lnTo>
                    <a:pt x="23" y="51"/>
                  </a:lnTo>
                  <a:lnTo>
                    <a:pt x="75" y="26"/>
                  </a:lnTo>
                  <a:lnTo>
                    <a:pt x="75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861320" y="1910160"/>
              <a:ext cx="17280" cy="17280"/>
            </a:xfrm>
            <a:custGeom>
              <a:avLst/>
              <a:gdLst/>
              <a:ahLst/>
              <a:rect l="l" t="t" r="r" b="b"/>
              <a:pathLst>
                <a:path w="79" h="108">
                  <a:moveTo>
                    <a:pt x="27" y="0"/>
                  </a:moveTo>
                  <a:lnTo>
                    <a:pt x="27" y="27"/>
                  </a:lnTo>
                  <a:lnTo>
                    <a:pt x="0" y="56"/>
                  </a:lnTo>
                  <a:lnTo>
                    <a:pt x="0" y="79"/>
                  </a:lnTo>
                  <a:lnTo>
                    <a:pt x="27" y="108"/>
                  </a:lnTo>
                  <a:lnTo>
                    <a:pt x="52" y="108"/>
                  </a:lnTo>
                  <a:lnTo>
                    <a:pt x="79" y="79"/>
                  </a:lnTo>
                  <a:lnTo>
                    <a:pt x="52" y="56"/>
                  </a:lnTo>
                  <a:lnTo>
                    <a:pt x="27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597080" y="1457280"/>
              <a:ext cx="41040" cy="30240"/>
            </a:xfrm>
            <a:custGeom>
              <a:avLst/>
              <a:gdLst/>
              <a:ahLst/>
              <a:rect l="l" t="t" r="r" b="b"/>
              <a:pathLst>
                <a:path w="184" h="185">
                  <a:moveTo>
                    <a:pt x="52" y="133"/>
                  </a:moveTo>
                  <a:lnTo>
                    <a:pt x="104" y="185"/>
                  </a:lnTo>
                  <a:lnTo>
                    <a:pt x="184" y="185"/>
                  </a:lnTo>
                  <a:lnTo>
                    <a:pt x="155" y="158"/>
                  </a:lnTo>
                  <a:lnTo>
                    <a:pt x="75" y="106"/>
                  </a:lnTo>
                  <a:lnTo>
                    <a:pt x="75" y="52"/>
                  </a:lnTo>
                  <a:lnTo>
                    <a:pt x="75" y="0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27" y="29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0" y="133"/>
                  </a:lnTo>
                  <a:lnTo>
                    <a:pt x="27" y="133"/>
                  </a:lnTo>
                  <a:lnTo>
                    <a:pt x="52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603200" y="1402200"/>
              <a:ext cx="57240" cy="51120"/>
            </a:xfrm>
            <a:custGeom>
              <a:avLst/>
              <a:gdLst/>
              <a:ahLst/>
              <a:rect l="l" t="t" r="r" b="b"/>
              <a:pathLst>
                <a:path w="261" h="312">
                  <a:moveTo>
                    <a:pt x="25" y="312"/>
                  </a:moveTo>
                  <a:lnTo>
                    <a:pt x="48" y="312"/>
                  </a:lnTo>
                  <a:lnTo>
                    <a:pt x="77" y="232"/>
                  </a:lnTo>
                  <a:lnTo>
                    <a:pt x="105" y="232"/>
                  </a:lnTo>
                  <a:lnTo>
                    <a:pt x="128" y="209"/>
                  </a:lnTo>
                  <a:lnTo>
                    <a:pt x="157" y="157"/>
                  </a:lnTo>
                  <a:lnTo>
                    <a:pt x="232" y="105"/>
                  </a:lnTo>
                  <a:lnTo>
                    <a:pt x="261" y="51"/>
                  </a:lnTo>
                  <a:lnTo>
                    <a:pt x="232" y="24"/>
                  </a:lnTo>
                  <a:lnTo>
                    <a:pt x="232" y="0"/>
                  </a:lnTo>
                  <a:lnTo>
                    <a:pt x="209" y="24"/>
                  </a:lnTo>
                  <a:lnTo>
                    <a:pt x="180" y="24"/>
                  </a:lnTo>
                  <a:lnTo>
                    <a:pt x="128" y="76"/>
                  </a:lnTo>
                  <a:lnTo>
                    <a:pt x="77" y="105"/>
                  </a:lnTo>
                  <a:lnTo>
                    <a:pt x="77" y="157"/>
                  </a:lnTo>
                  <a:lnTo>
                    <a:pt x="77" y="180"/>
                  </a:lnTo>
                  <a:lnTo>
                    <a:pt x="48" y="180"/>
                  </a:lnTo>
                  <a:lnTo>
                    <a:pt x="0" y="180"/>
                  </a:lnTo>
                  <a:lnTo>
                    <a:pt x="0" y="209"/>
                  </a:lnTo>
                  <a:lnTo>
                    <a:pt x="25" y="209"/>
                  </a:lnTo>
                  <a:lnTo>
                    <a:pt x="0" y="261"/>
                  </a:lnTo>
                  <a:lnTo>
                    <a:pt x="25" y="284"/>
                  </a:lnTo>
                  <a:lnTo>
                    <a:pt x="0" y="312"/>
                  </a:lnTo>
                  <a:lnTo>
                    <a:pt x="25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23800" y="1320840"/>
              <a:ext cx="22320" cy="21600"/>
            </a:xfrm>
            <a:custGeom>
              <a:avLst/>
              <a:gdLst/>
              <a:ahLst/>
              <a:rect l="l" t="t" r="r" b="b"/>
              <a:pathLst>
                <a:path w="104" h="133">
                  <a:moveTo>
                    <a:pt x="79" y="133"/>
                  </a:moveTo>
                  <a:lnTo>
                    <a:pt x="79" y="104"/>
                  </a:lnTo>
                  <a:lnTo>
                    <a:pt x="79" y="81"/>
                  </a:lnTo>
                  <a:lnTo>
                    <a:pt x="104" y="81"/>
                  </a:lnTo>
                  <a:lnTo>
                    <a:pt x="104" y="52"/>
                  </a:lnTo>
                  <a:lnTo>
                    <a:pt x="52" y="0"/>
                  </a:lnTo>
                  <a:lnTo>
                    <a:pt x="27" y="29"/>
                  </a:lnTo>
                  <a:lnTo>
                    <a:pt x="27" y="0"/>
                  </a:lnTo>
                  <a:lnTo>
                    <a:pt x="0" y="52"/>
                  </a:lnTo>
                  <a:lnTo>
                    <a:pt x="0" y="81"/>
                  </a:lnTo>
                  <a:lnTo>
                    <a:pt x="52" y="104"/>
                  </a:lnTo>
                  <a:lnTo>
                    <a:pt x="79" y="13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46480" y="1337760"/>
              <a:ext cx="29520" cy="2160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0" y="52"/>
                  </a:moveTo>
                  <a:lnTo>
                    <a:pt x="27" y="81"/>
                  </a:lnTo>
                  <a:lnTo>
                    <a:pt x="80" y="104"/>
                  </a:lnTo>
                  <a:lnTo>
                    <a:pt x="132" y="132"/>
                  </a:lnTo>
                  <a:lnTo>
                    <a:pt x="132" y="104"/>
                  </a:lnTo>
                  <a:lnTo>
                    <a:pt x="103" y="81"/>
                  </a:lnTo>
                  <a:lnTo>
                    <a:pt x="103" y="29"/>
                  </a:lnTo>
                  <a:lnTo>
                    <a:pt x="103" y="0"/>
                  </a:lnTo>
                  <a:lnTo>
                    <a:pt x="52" y="0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87520" y="1342440"/>
              <a:ext cx="22320" cy="25560"/>
            </a:xfrm>
            <a:custGeom>
              <a:avLst/>
              <a:gdLst/>
              <a:ahLst/>
              <a:rect l="l" t="t" r="r" b="b"/>
              <a:pathLst>
                <a:path w="104" h="155">
                  <a:moveTo>
                    <a:pt x="23" y="103"/>
                  </a:moveTo>
                  <a:lnTo>
                    <a:pt x="23" y="155"/>
                  </a:lnTo>
                  <a:lnTo>
                    <a:pt x="52" y="126"/>
                  </a:lnTo>
                  <a:lnTo>
                    <a:pt x="104" y="126"/>
                  </a:lnTo>
                  <a:lnTo>
                    <a:pt x="104" y="103"/>
                  </a:lnTo>
                  <a:lnTo>
                    <a:pt x="104" y="75"/>
                  </a:lnTo>
                  <a:lnTo>
                    <a:pt x="75" y="52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3" y="23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23" y="75"/>
                  </a:lnTo>
                  <a:lnTo>
                    <a:pt x="23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23800" y="1342440"/>
              <a:ext cx="16920" cy="8280"/>
            </a:xfrm>
            <a:custGeom>
              <a:avLst/>
              <a:gdLst/>
              <a:ahLst/>
              <a:rect l="l" t="t" r="r" b="b"/>
              <a:pathLst>
                <a:path w="79" h="52">
                  <a:moveTo>
                    <a:pt x="79" y="23"/>
                  </a:moveTo>
                  <a:lnTo>
                    <a:pt x="52" y="0"/>
                  </a:lnTo>
                  <a:lnTo>
                    <a:pt x="0" y="23"/>
                  </a:lnTo>
                  <a:lnTo>
                    <a:pt x="52" y="52"/>
                  </a:lnTo>
                  <a:lnTo>
                    <a:pt x="79" y="2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999200" y="1351080"/>
              <a:ext cx="41040" cy="21240"/>
            </a:xfrm>
            <a:custGeom>
              <a:avLst/>
              <a:gdLst/>
              <a:ahLst/>
              <a:rect l="l" t="t" r="r" b="b"/>
              <a:pathLst>
                <a:path w="184" h="128">
                  <a:moveTo>
                    <a:pt x="27" y="103"/>
                  </a:moveTo>
                  <a:lnTo>
                    <a:pt x="52" y="128"/>
                  </a:lnTo>
                  <a:lnTo>
                    <a:pt x="79" y="128"/>
                  </a:lnTo>
                  <a:lnTo>
                    <a:pt x="79" y="103"/>
                  </a:lnTo>
                  <a:lnTo>
                    <a:pt x="131" y="103"/>
                  </a:lnTo>
                  <a:lnTo>
                    <a:pt x="155" y="74"/>
                  </a:lnTo>
                  <a:lnTo>
                    <a:pt x="104" y="51"/>
                  </a:lnTo>
                  <a:lnTo>
                    <a:pt x="104" y="23"/>
                  </a:lnTo>
                  <a:lnTo>
                    <a:pt x="155" y="74"/>
                  </a:lnTo>
                  <a:lnTo>
                    <a:pt x="184" y="51"/>
                  </a:lnTo>
                  <a:lnTo>
                    <a:pt x="184" y="23"/>
                  </a:lnTo>
                  <a:lnTo>
                    <a:pt x="131" y="0"/>
                  </a:lnTo>
                  <a:lnTo>
                    <a:pt x="104" y="0"/>
                  </a:lnTo>
                  <a:lnTo>
                    <a:pt x="79" y="0"/>
                  </a:lnTo>
                  <a:lnTo>
                    <a:pt x="52" y="23"/>
                  </a:lnTo>
                  <a:lnTo>
                    <a:pt x="52" y="0"/>
                  </a:lnTo>
                  <a:lnTo>
                    <a:pt x="27" y="0"/>
                  </a:lnTo>
                  <a:lnTo>
                    <a:pt x="0" y="51"/>
                  </a:lnTo>
                  <a:lnTo>
                    <a:pt x="27" y="74"/>
                  </a:lnTo>
                  <a:lnTo>
                    <a:pt x="27" y="103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6000" y="1397520"/>
              <a:ext cx="20880" cy="3240"/>
            </a:xfrm>
            <a:custGeom>
              <a:avLst/>
              <a:gdLst/>
              <a:ahLst/>
              <a:rect l="l" t="t" r="r" b="b"/>
              <a:pathLst>
                <a:path w="96" h="19">
                  <a:moveTo>
                    <a:pt x="79" y="0"/>
                  </a:moveTo>
                  <a:lnTo>
                    <a:pt x="0" y="0"/>
                  </a:lnTo>
                  <a:lnTo>
                    <a:pt x="96" y="19"/>
                  </a:lnTo>
                  <a:lnTo>
                    <a:pt x="79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976520" y="1944720"/>
              <a:ext cx="68400" cy="55080"/>
            </a:xfrm>
            <a:custGeom>
              <a:avLst/>
              <a:gdLst/>
              <a:ahLst/>
              <a:rect l="l" t="t" r="r" b="b"/>
              <a:pathLst>
                <a:path w="311" h="335">
                  <a:moveTo>
                    <a:pt x="311" y="312"/>
                  </a:moveTo>
                  <a:lnTo>
                    <a:pt x="311" y="284"/>
                  </a:lnTo>
                  <a:lnTo>
                    <a:pt x="288" y="261"/>
                  </a:lnTo>
                  <a:lnTo>
                    <a:pt x="288" y="232"/>
                  </a:lnTo>
                  <a:lnTo>
                    <a:pt x="259" y="209"/>
                  </a:lnTo>
                  <a:lnTo>
                    <a:pt x="235" y="180"/>
                  </a:lnTo>
                  <a:lnTo>
                    <a:pt x="208" y="155"/>
                  </a:lnTo>
                  <a:lnTo>
                    <a:pt x="183" y="155"/>
                  </a:lnTo>
                  <a:lnTo>
                    <a:pt x="183" y="128"/>
                  </a:lnTo>
                  <a:lnTo>
                    <a:pt x="156" y="103"/>
                  </a:lnTo>
                  <a:lnTo>
                    <a:pt x="131" y="103"/>
                  </a:lnTo>
                  <a:lnTo>
                    <a:pt x="131" y="51"/>
                  </a:lnTo>
                  <a:lnTo>
                    <a:pt x="104" y="51"/>
                  </a:lnTo>
                  <a:lnTo>
                    <a:pt x="79" y="24"/>
                  </a:lnTo>
                  <a:lnTo>
                    <a:pt x="52" y="0"/>
                  </a:lnTo>
                  <a:lnTo>
                    <a:pt x="0" y="24"/>
                  </a:lnTo>
                  <a:lnTo>
                    <a:pt x="27" y="51"/>
                  </a:lnTo>
                  <a:lnTo>
                    <a:pt x="52" y="76"/>
                  </a:lnTo>
                  <a:lnTo>
                    <a:pt x="79" y="128"/>
                  </a:lnTo>
                  <a:lnTo>
                    <a:pt x="104" y="155"/>
                  </a:lnTo>
                  <a:lnTo>
                    <a:pt x="104" y="180"/>
                  </a:lnTo>
                  <a:lnTo>
                    <a:pt x="104" y="232"/>
                  </a:lnTo>
                  <a:lnTo>
                    <a:pt x="131" y="261"/>
                  </a:lnTo>
                  <a:lnTo>
                    <a:pt x="156" y="284"/>
                  </a:lnTo>
                  <a:lnTo>
                    <a:pt x="208" y="312"/>
                  </a:lnTo>
                  <a:lnTo>
                    <a:pt x="235" y="335"/>
                  </a:lnTo>
                  <a:lnTo>
                    <a:pt x="259" y="335"/>
                  </a:lnTo>
                  <a:lnTo>
                    <a:pt x="288" y="335"/>
                  </a:lnTo>
                  <a:lnTo>
                    <a:pt x="311" y="31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970760" y="1944720"/>
              <a:ext cx="5400" cy="396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0" y="0"/>
                  </a:moveTo>
                  <a:lnTo>
                    <a:pt x="25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7390080" y="1735560"/>
              <a:ext cx="23040" cy="8280"/>
            </a:xfrm>
            <a:custGeom>
              <a:avLst/>
              <a:gdLst/>
              <a:ahLst/>
              <a:rect l="l" t="t" r="r" b="b"/>
              <a:pathLst>
                <a:path w="104" h="52">
                  <a:moveTo>
                    <a:pt x="52" y="0"/>
                  </a:moveTo>
                  <a:lnTo>
                    <a:pt x="25" y="0"/>
                  </a:lnTo>
                  <a:lnTo>
                    <a:pt x="0" y="23"/>
                  </a:lnTo>
                  <a:lnTo>
                    <a:pt x="0" y="52"/>
                  </a:lnTo>
                  <a:lnTo>
                    <a:pt x="52" y="52"/>
                  </a:lnTo>
                  <a:lnTo>
                    <a:pt x="77" y="52"/>
                  </a:lnTo>
                  <a:lnTo>
                    <a:pt x="77" y="23"/>
                  </a:lnTo>
                  <a:lnTo>
                    <a:pt x="104" y="0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7355880" y="1717920"/>
              <a:ext cx="16920" cy="12600"/>
            </a:xfrm>
            <a:custGeom>
              <a:avLst/>
              <a:gdLst/>
              <a:ahLst/>
              <a:rect l="l" t="t" r="r" b="b"/>
              <a:pathLst>
                <a:path w="77" h="76">
                  <a:moveTo>
                    <a:pt x="52" y="0"/>
                  </a:moveTo>
                  <a:lnTo>
                    <a:pt x="25" y="0"/>
                  </a:lnTo>
                  <a:lnTo>
                    <a:pt x="0" y="53"/>
                  </a:lnTo>
                  <a:lnTo>
                    <a:pt x="0" y="76"/>
                  </a:lnTo>
                  <a:lnTo>
                    <a:pt x="25" y="76"/>
                  </a:lnTo>
                  <a:lnTo>
                    <a:pt x="52" y="76"/>
                  </a:lnTo>
                  <a:lnTo>
                    <a:pt x="77" y="53"/>
                  </a:lnTo>
                  <a:lnTo>
                    <a:pt x="52" y="53"/>
                  </a:lnTo>
                  <a:lnTo>
                    <a:pt x="77" y="0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246440" y="1363320"/>
              <a:ext cx="1171800" cy="594000"/>
            </a:xfrm>
            <a:custGeom>
              <a:avLst/>
              <a:gdLst/>
              <a:ahLst/>
              <a:rect l="l" t="t" r="r" b="b"/>
              <a:pathLst>
                <a:path w="5307" h="3616">
                  <a:moveTo>
                    <a:pt x="5203" y="394"/>
                  </a:moveTo>
                  <a:lnTo>
                    <a:pt x="5232" y="342"/>
                  </a:lnTo>
                  <a:lnTo>
                    <a:pt x="5180" y="288"/>
                  </a:lnTo>
                  <a:lnTo>
                    <a:pt x="5099" y="313"/>
                  </a:lnTo>
                  <a:lnTo>
                    <a:pt x="5023" y="261"/>
                  </a:lnTo>
                  <a:lnTo>
                    <a:pt x="4971" y="237"/>
                  </a:lnTo>
                  <a:lnTo>
                    <a:pt x="4936" y="229"/>
                  </a:lnTo>
                  <a:lnTo>
                    <a:pt x="4944" y="237"/>
                  </a:lnTo>
                  <a:lnTo>
                    <a:pt x="4919" y="237"/>
                  </a:lnTo>
                  <a:lnTo>
                    <a:pt x="4840" y="210"/>
                  </a:lnTo>
                  <a:lnTo>
                    <a:pt x="4712" y="158"/>
                  </a:lnTo>
                  <a:lnTo>
                    <a:pt x="4604" y="158"/>
                  </a:lnTo>
                  <a:lnTo>
                    <a:pt x="4527" y="210"/>
                  </a:lnTo>
                  <a:lnTo>
                    <a:pt x="4579" y="237"/>
                  </a:lnTo>
                  <a:lnTo>
                    <a:pt x="4579" y="288"/>
                  </a:lnTo>
                  <a:lnTo>
                    <a:pt x="4552" y="288"/>
                  </a:lnTo>
                  <a:lnTo>
                    <a:pt x="4504" y="237"/>
                  </a:lnTo>
                  <a:lnTo>
                    <a:pt x="4395" y="261"/>
                  </a:lnTo>
                  <a:lnTo>
                    <a:pt x="4372" y="313"/>
                  </a:lnTo>
                  <a:lnTo>
                    <a:pt x="4320" y="288"/>
                  </a:lnTo>
                  <a:lnTo>
                    <a:pt x="4268" y="288"/>
                  </a:lnTo>
                  <a:lnTo>
                    <a:pt x="4216" y="210"/>
                  </a:lnTo>
                  <a:lnTo>
                    <a:pt x="4084" y="210"/>
                  </a:lnTo>
                  <a:lnTo>
                    <a:pt x="4059" y="261"/>
                  </a:lnTo>
                  <a:lnTo>
                    <a:pt x="4007" y="237"/>
                  </a:lnTo>
                  <a:lnTo>
                    <a:pt x="3928" y="237"/>
                  </a:lnTo>
                  <a:lnTo>
                    <a:pt x="3955" y="185"/>
                  </a:lnTo>
                  <a:lnTo>
                    <a:pt x="3903" y="185"/>
                  </a:lnTo>
                  <a:lnTo>
                    <a:pt x="3800" y="261"/>
                  </a:lnTo>
                  <a:lnTo>
                    <a:pt x="3800" y="210"/>
                  </a:lnTo>
                  <a:lnTo>
                    <a:pt x="3719" y="210"/>
                  </a:lnTo>
                  <a:lnTo>
                    <a:pt x="3667" y="237"/>
                  </a:lnTo>
                  <a:lnTo>
                    <a:pt x="3719" y="288"/>
                  </a:lnTo>
                  <a:lnTo>
                    <a:pt x="3696" y="288"/>
                  </a:lnTo>
                  <a:lnTo>
                    <a:pt x="3696" y="313"/>
                  </a:lnTo>
                  <a:lnTo>
                    <a:pt x="3644" y="313"/>
                  </a:lnTo>
                  <a:lnTo>
                    <a:pt x="3615" y="313"/>
                  </a:lnTo>
                  <a:lnTo>
                    <a:pt x="3563" y="365"/>
                  </a:lnTo>
                  <a:lnTo>
                    <a:pt x="3563" y="394"/>
                  </a:lnTo>
                  <a:lnTo>
                    <a:pt x="3512" y="365"/>
                  </a:lnTo>
                  <a:lnTo>
                    <a:pt x="3487" y="342"/>
                  </a:lnTo>
                  <a:lnTo>
                    <a:pt x="3435" y="342"/>
                  </a:lnTo>
                  <a:lnTo>
                    <a:pt x="3435" y="313"/>
                  </a:lnTo>
                  <a:lnTo>
                    <a:pt x="3383" y="237"/>
                  </a:lnTo>
                  <a:lnTo>
                    <a:pt x="3304" y="237"/>
                  </a:lnTo>
                  <a:lnTo>
                    <a:pt x="3279" y="237"/>
                  </a:lnTo>
                  <a:lnTo>
                    <a:pt x="3279" y="288"/>
                  </a:lnTo>
                  <a:lnTo>
                    <a:pt x="3176" y="313"/>
                  </a:lnTo>
                  <a:lnTo>
                    <a:pt x="3176" y="288"/>
                  </a:lnTo>
                  <a:lnTo>
                    <a:pt x="3147" y="288"/>
                  </a:lnTo>
                  <a:lnTo>
                    <a:pt x="3072" y="313"/>
                  </a:lnTo>
                  <a:lnTo>
                    <a:pt x="2968" y="288"/>
                  </a:lnTo>
                  <a:lnTo>
                    <a:pt x="2968" y="342"/>
                  </a:lnTo>
                  <a:lnTo>
                    <a:pt x="2915" y="365"/>
                  </a:lnTo>
                  <a:lnTo>
                    <a:pt x="2888" y="394"/>
                  </a:lnTo>
                  <a:lnTo>
                    <a:pt x="2863" y="394"/>
                  </a:lnTo>
                  <a:lnTo>
                    <a:pt x="2915" y="288"/>
                  </a:lnTo>
                  <a:lnTo>
                    <a:pt x="2940" y="261"/>
                  </a:lnTo>
                  <a:lnTo>
                    <a:pt x="2940" y="237"/>
                  </a:lnTo>
                  <a:lnTo>
                    <a:pt x="2940" y="185"/>
                  </a:lnTo>
                  <a:lnTo>
                    <a:pt x="2915" y="133"/>
                  </a:lnTo>
                  <a:lnTo>
                    <a:pt x="2915" y="81"/>
                  </a:lnTo>
                  <a:lnTo>
                    <a:pt x="2836" y="54"/>
                  </a:lnTo>
                  <a:lnTo>
                    <a:pt x="2784" y="54"/>
                  </a:lnTo>
                  <a:lnTo>
                    <a:pt x="2759" y="54"/>
                  </a:lnTo>
                  <a:lnTo>
                    <a:pt x="2759" y="106"/>
                  </a:lnTo>
                  <a:lnTo>
                    <a:pt x="2732" y="106"/>
                  </a:lnTo>
                  <a:lnTo>
                    <a:pt x="2707" y="54"/>
                  </a:lnTo>
                  <a:lnTo>
                    <a:pt x="2655" y="29"/>
                  </a:lnTo>
                  <a:lnTo>
                    <a:pt x="2627" y="0"/>
                  </a:lnTo>
                  <a:lnTo>
                    <a:pt x="2604" y="0"/>
                  </a:lnTo>
                  <a:lnTo>
                    <a:pt x="2575" y="54"/>
                  </a:lnTo>
                  <a:lnTo>
                    <a:pt x="2575" y="81"/>
                  </a:lnTo>
                  <a:lnTo>
                    <a:pt x="2627" y="106"/>
                  </a:lnTo>
                  <a:lnTo>
                    <a:pt x="2604" y="133"/>
                  </a:lnTo>
                  <a:lnTo>
                    <a:pt x="2627" y="158"/>
                  </a:lnTo>
                  <a:lnTo>
                    <a:pt x="2604" y="158"/>
                  </a:lnTo>
                  <a:lnTo>
                    <a:pt x="2575" y="210"/>
                  </a:lnTo>
                  <a:lnTo>
                    <a:pt x="2500" y="210"/>
                  </a:lnTo>
                  <a:lnTo>
                    <a:pt x="2471" y="210"/>
                  </a:lnTo>
                  <a:lnTo>
                    <a:pt x="2448" y="210"/>
                  </a:lnTo>
                  <a:lnTo>
                    <a:pt x="2448" y="237"/>
                  </a:lnTo>
                  <a:lnTo>
                    <a:pt x="2367" y="288"/>
                  </a:lnTo>
                  <a:lnTo>
                    <a:pt x="2367" y="365"/>
                  </a:lnTo>
                  <a:lnTo>
                    <a:pt x="2396" y="417"/>
                  </a:lnTo>
                  <a:lnTo>
                    <a:pt x="2367" y="417"/>
                  </a:lnTo>
                  <a:lnTo>
                    <a:pt x="2291" y="446"/>
                  </a:lnTo>
                  <a:lnTo>
                    <a:pt x="2264" y="469"/>
                  </a:lnTo>
                  <a:lnTo>
                    <a:pt x="2291" y="549"/>
                  </a:lnTo>
                  <a:lnTo>
                    <a:pt x="2367" y="549"/>
                  </a:lnTo>
                  <a:lnTo>
                    <a:pt x="2367" y="601"/>
                  </a:lnTo>
                  <a:lnTo>
                    <a:pt x="2419" y="653"/>
                  </a:lnTo>
                  <a:lnTo>
                    <a:pt x="2448" y="730"/>
                  </a:lnTo>
                  <a:lnTo>
                    <a:pt x="2396" y="678"/>
                  </a:lnTo>
                  <a:lnTo>
                    <a:pt x="2367" y="601"/>
                  </a:lnTo>
                  <a:lnTo>
                    <a:pt x="2264" y="549"/>
                  </a:lnTo>
                  <a:lnTo>
                    <a:pt x="2239" y="549"/>
                  </a:lnTo>
                  <a:lnTo>
                    <a:pt x="2239" y="572"/>
                  </a:lnTo>
                  <a:lnTo>
                    <a:pt x="2187" y="624"/>
                  </a:lnTo>
                  <a:lnTo>
                    <a:pt x="2239" y="624"/>
                  </a:lnTo>
                  <a:lnTo>
                    <a:pt x="2264" y="653"/>
                  </a:lnTo>
                  <a:lnTo>
                    <a:pt x="2187" y="653"/>
                  </a:lnTo>
                  <a:lnTo>
                    <a:pt x="2135" y="601"/>
                  </a:lnTo>
                  <a:lnTo>
                    <a:pt x="2135" y="653"/>
                  </a:lnTo>
                  <a:lnTo>
                    <a:pt x="2187" y="730"/>
                  </a:lnTo>
                  <a:lnTo>
                    <a:pt x="2187" y="757"/>
                  </a:lnTo>
                  <a:lnTo>
                    <a:pt x="2212" y="782"/>
                  </a:lnTo>
                  <a:lnTo>
                    <a:pt x="2291" y="782"/>
                  </a:lnTo>
                  <a:lnTo>
                    <a:pt x="2327" y="841"/>
                  </a:lnTo>
                  <a:lnTo>
                    <a:pt x="2264" y="808"/>
                  </a:lnTo>
                  <a:lnTo>
                    <a:pt x="2239" y="808"/>
                  </a:lnTo>
                  <a:lnTo>
                    <a:pt x="2212" y="833"/>
                  </a:lnTo>
                  <a:lnTo>
                    <a:pt x="2239" y="912"/>
                  </a:lnTo>
                  <a:lnTo>
                    <a:pt x="2212" y="989"/>
                  </a:lnTo>
                  <a:lnTo>
                    <a:pt x="2160" y="989"/>
                  </a:lnTo>
                  <a:lnTo>
                    <a:pt x="2108" y="989"/>
                  </a:lnTo>
                  <a:lnTo>
                    <a:pt x="2160" y="966"/>
                  </a:lnTo>
                  <a:lnTo>
                    <a:pt x="2187" y="860"/>
                  </a:lnTo>
                  <a:lnTo>
                    <a:pt x="2187" y="808"/>
                  </a:lnTo>
                  <a:lnTo>
                    <a:pt x="2083" y="653"/>
                  </a:lnTo>
                  <a:lnTo>
                    <a:pt x="2056" y="572"/>
                  </a:lnTo>
                  <a:lnTo>
                    <a:pt x="2003" y="549"/>
                  </a:lnTo>
                  <a:lnTo>
                    <a:pt x="1980" y="678"/>
                  </a:lnTo>
                  <a:lnTo>
                    <a:pt x="2003" y="757"/>
                  </a:lnTo>
                  <a:lnTo>
                    <a:pt x="2056" y="808"/>
                  </a:lnTo>
                  <a:lnTo>
                    <a:pt x="2056" y="833"/>
                  </a:lnTo>
                  <a:lnTo>
                    <a:pt x="2003" y="808"/>
                  </a:lnTo>
                  <a:lnTo>
                    <a:pt x="1951" y="782"/>
                  </a:lnTo>
                  <a:lnTo>
                    <a:pt x="1847" y="782"/>
                  </a:lnTo>
                  <a:lnTo>
                    <a:pt x="1876" y="833"/>
                  </a:lnTo>
                  <a:lnTo>
                    <a:pt x="1876" y="860"/>
                  </a:lnTo>
                  <a:lnTo>
                    <a:pt x="1847" y="860"/>
                  </a:lnTo>
                  <a:lnTo>
                    <a:pt x="1824" y="833"/>
                  </a:lnTo>
                  <a:lnTo>
                    <a:pt x="1743" y="885"/>
                  </a:lnTo>
                  <a:lnTo>
                    <a:pt x="1720" y="885"/>
                  </a:lnTo>
                  <a:lnTo>
                    <a:pt x="1692" y="860"/>
                  </a:lnTo>
                  <a:lnTo>
                    <a:pt x="1615" y="912"/>
                  </a:lnTo>
                  <a:lnTo>
                    <a:pt x="1588" y="937"/>
                  </a:lnTo>
                  <a:lnTo>
                    <a:pt x="1563" y="937"/>
                  </a:lnTo>
                  <a:lnTo>
                    <a:pt x="1536" y="989"/>
                  </a:lnTo>
                  <a:lnTo>
                    <a:pt x="1507" y="966"/>
                  </a:lnTo>
                  <a:lnTo>
                    <a:pt x="1507" y="885"/>
                  </a:lnTo>
                  <a:lnTo>
                    <a:pt x="1484" y="912"/>
                  </a:lnTo>
                  <a:lnTo>
                    <a:pt x="1459" y="937"/>
                  </a:lnTo>
                  <a:lnTo>
                    <a:pt x="1484" y="1018"/>
                  </a:lnTo>
                  <a:lnTo>
                    <a:pt x="1459" y="1041"/>
                  </a:lnTo>
                  <a:lnTo>
                    <a:pt x="1407" y="1041"/>
                  </a:lnTo>
                  <a:lnTo>
                    <a:pt x="1379" y="1093"/>
                  </a:lnTo>
                  <a:lnTo>
                    <a:pt x="1379" y="1121"/>
                  </a:lnTo>
                  <a:lnTo>
                    <a:pt x="1379" y="1144"/>
                  </a:lnTo>
                  <a:lnTo>
                    <a:pt x="1327" y="1093"/>
                  </a:lnTo>
                  <a:lnTo>
                    <a:pt x="1300" y="1144"/>
                  </a:lnTo>
                  <a:lnTo>
                    <a:pt x="1300" y="1173"/>
                  </a:lnTo>
                  <a:lnTo>
                    <a:pt x="1252" y="1121"/>
                  </a:lnTo>
                  <a:lnTo>
                    <a:pt x="1252" y="1041"/>
                  </a:lnTo>
                  <a:lnTo>
                    <a:pt x="1196" y="1018"/>
                  </a:lnTo>
                  <a:lnTo>
                    <a:pt x="1196" y="989"/>
                  </a:lnTo>
                  <a:lnTo>
                    <a:pt x="1252" y="1018"/>
                  </a:lnTo>
                  <a:lnTo>
                    <a:pt x="1300" y="1041"/>
                  </a:lnTo>
                  <a:lnTo>
                    <a:pt x="1352" y="1018"/>
                  </a:lnTo>
                  <a:lnTo>
                    <a:pt x="1379" y="989"/>
                  </a:lnTo>
                  <a:lnTo>
                    <a:pt x="1300" y="885"/>
                  </a:lnTo>
                  <a:lnTo>
                    <a:pt x="1252" y="860"/>
                  </a:lnTo>
                  <a:lnTo>
                    <a:pt x="1196" y="860"/>
                  </a:lnTo>
                  <a:lnTo>
                    <a:pt x="1144" y="833"/>
                  </a:lnTo>
                  <a:lnTo>
                    <a:pt x="1119" y="808"/>
                  </a:lnTo>
                  <a:lnTo>
                    <a:pt x="1091" y="808"/>
                  </a:lnTo>
                  <a:lnTo>
                    <a:pt x="1119" y="782"/>
                  </a:lnTo>
                  <a:lnTo>
                    <a:pt x="1091" y="757"/>
                  </a:lnTo>
                  <a:lnTo>
                    <a:pt x="1039" y="757"/>
                  </a:lnTo>
                  <a:lnTo>
                    <a:pt x="1016" y="782"/>
                  </a:lnTo>
                  <a:lnTo>
                    <a:pt x="987" y="757"/>
                  </a:lnTo>
                  <a:lnTo>
                    <a:pt x="964" y="757"/>
                  </a:lnTo>
                  <a:lnTo>
                    <a:pt x="964" y="782"/>
                  </a:lnTo>
                  <a:lnTo>
                    <a:pt x="935" y="782"/>
                  </a:lnTo>
                  <a:lnTo>
                    <a:pt x="912" y="782"/>
                  </a:lnTo>
                  <a:lnTo>
                    <a:pt x="912" y="833"/>
                  </a:lnTo>
                  <a:lnTo>
                    <a:pt x="860" y="833"/>
                  </a:lnTo>
                  <a:lnTo>
                    <a:pt x="808" y="833"/>
                  </a:lnTo>
                  <a:lnTo>
                    <a:pt x="755" y="912"/>
                  </a:lnTo>
                  <a:lnTo>
                    <a:pt x="780" y="912"/>
                  </a:lnTo>
                  <a:lnTo>
                    <a:pt x="755" y="937"/>
                  </a:lnTo>
                  <a:lnTo>
                    <a:pt x="755" y="966"/>
                  </a:lnTo>
                  <a:lnTo>
                    <a:pt x="728" y="937"/>
                  </a:lnTo>
                  <a:lnTo>
                    <a:pt x="703" y="989"/>
                  </a:lnTo>
                  <a:lnTo>
                    <a:pt x="703" y="1018"/>
                  </a:lnTo>
                  <a:lnTo>
                    <a:pt x="651" y="1093"/>
                  </a:lnTo>
                  <a:lnTo>
                    <a:pt x="599" y="1144"/>
                  </a:lnTo>
                  <a:lnTo>
                    <a:pt x="599" y="1173"/>
                  </a:lnTo>
                  <a:lnTo>
                    <a:pt x="572" y="1173"/>
                  </a:lnTo>
                  <a:lnTo>
                    <a:pt x="572" y="1196"/>
                  </a:lnTo>
                  <a:lnTo>
                    <a:pt x="520" y="1248"/>
                  </a:lnTo>
                  <a:lnTo>
                    <a:pt x="495" y="1277"/>
                  </a:lnTo>
                  <a:lnTo>
                    <a:pt x="495" y="1302"/>
                  </a:lnTo>
                  <a:lnTo>
                    <a:pt x="495" y="1329"/>
                  </a:lnTo>
                  <a:lnTo>
                    <a:pt x="495" y="1354"/>
                  </a:lnTo>
                  <a:lnTo>
                    <a:pt x="495" y="1380"/>
                  </a:lnTo>
                  <a:lnTo>
                    <a:pt x="495" y="1405"/>
                  </a:lnTo>
                  <a:lnTo>
                    <a:pt x="495" y="1432"/>
                  </a:lnTo>
                  <a:lnTo>
                    <a:pt x="520" y="1457"/>
                  </a:lnTo>
                  <a:lnTo>
                    <a:pt x="572" y="1432"/>
                  </a:lnTo>
                  <a:lnTo>
                    <a:pt x="599" y="1405"/>
                  </a:lnTo>
                  <a:lnTo>
                    <a:pt x="651" y="1380"/>
                  </a:lnTo>
                  <a:lnTo>
                    <a:pt x="651" y="1432"/>
                  </a:lnTo>
                  <a:lnTo>
                    <a:pt x="651" y="1457"/>
                  </a:lnTo>
                  <a:lnTo>
                    <a:pt x="676" y="1484"/>
                  </a:lnTo>
                  <a:lnTo>
                    <a:pt x="676" y="1509"/>
                  </a:lnTo>
                  <a:lnTo>
                    <a:pt x="703" y="1561"/>
                  </a:lnTo>
                  <a:lnTo>
                    <a:pt x="728" y="1561"/>
                  </a:lnTo>
                  <a:lnTo>
                    <a:pt x="728" y="1509"/>
                  </a:lnTo>
                  <a:lnTo>
                    <a:pt x="755" y="1509"/>
                  </a:lnTo>
                  <a:lnTo>
                    <a:pt x="780" y="1484"/>
                  </a:lnTo>
                  <a:lnTo>
                    <a:pt x="780" y="1432"/>
                  </a:lnTo>
                  <a:lnTo>
                    <a:pt x="780" y="1405"/>
                  </a:lnTo>
                  <a:lnTo>
                    <a:pt x="780" y="1380"/>
                  </a:lnTo>
                  <a:lnTo>
                    <a:pt x="808" y="1380"/>
                  </a:lnTo>
                  <a:lnTo>
                    <a:pt x="831" y="1380"/>
                  </a:lnTo>
                  <a:lnTo>
                    <a:pt x="831" y="1354"/>
                  </a:lnTo>
                  <a:lnTo>
                    <a:pt x="780" y="1302"/>
                  </a:lnTo>
                  <a:lnTo>
                    <a:pt x="808" y="1225"/>
                  </a:lnTo>
                  <a:lnTo>
                    <a:pt x="860" y="1225"/>
                  </a:lnTo>
                  <a:lnTo>
                    <a:pt x="883" y="1173"/>
                  </a:lnTo>
                  <a:lnTo>
                    <a:pt x="912" y="1144"/>
                  </a:lnTo>
                  <a:lnTo>
                    <a:pt x="912" y="1093"/>
                  </a:lnTo>
                  <a:lnTo>
                    <a:pt x="964" y="1041"/>
                  </a:lnTo>
                  <a:lnTo>
                    <a:pt x="987" y="1069"/>
                  </a:lnTo>
                  <a:lnTo>
                    <a:pt x="1016" y="1093"/>
                  </a:lnTo>
                  <a:lnTo>
                    <a:pt x="987" y="1121"/>
                  </a:lnTo>
                  <a:lnTo>
                    <a:pt x="935" y="1173"/>
                  </a:lnTo>
                  <a:lnTo>
                    <a:pt x="935" y="1196"/>
                  </a:lnTo>
                  <a:lnTo>
                    <a:pt x="912" y="1196"/>
                  </a:lnTo>
                  <a:lnTo>
                    <a:pt x="912" y="1225"/>
                  </a:lnTo>
                  <a:lnTo>
                    <a:pt x="912" y="1248"/>
                  </a:lnTo>
                  <a:lnTo>
                    <a:pt x="935" y="1277"/>
                  </a:lnTo>
                  <a:lnTo>
                    <a:pt x="912" y="1302"/>
                  </a:lnTo>
                  <a:lnTo>
                    <a:pt x="912" y="1329"/>
                  </a:lnTo>
                  <a:lnTo>
                    <a:pt x="935" y="1329"/>
                  </a:lnTo>
                  <a:lnTo>
                    <a:pt x="987" y="1329"/>
                  </a:lnTo>
                  <a:lnTo>
                    <a:pt x="1091" y="1302"/>
                  </a:lnTo>
                  <a:lnTo>
                    <a:pt x="1119" y="1302"/>
                  </a:lnTo>
                  <a:lnTo>
                    <a:pt x="1144" y="1329"/>
                  </a:lnTo>
                  <a:lnTo>
                    <a:pt x="1171" y="1354"/>
                  </a:lnTo>
                  <a:lnTo>
                    <a:pt x="1144" y="1380"/>
                  </a:lnTo>
                  <a:lnTo>
                    <a:pt x="1119" y="1405"/>
                  </a:lnTo>
                  <a:lnTo>
                    <a:pt x="1144" y="1380"/>
                  </a:lnTo>
                  <a:lnTo>
                    <a:pt x="1091" y="1380"/>
                  </a:lnTo>
                  <a:lnTo>
                    <a:pt x="1068" y="1380"/>
                  </a:lnTo>
                  <a:lnTo>
                    <a:pt x="1016" y="1405"/>
                  </a:lnTo>
                  <a:lnTo>
                    <a:pt x="987" y="1405"/>
                  </a:lnTo>
                  <a:lnTo>
                    <a:pt x="987" y="1457"/>
                  </a:lnTo>
                  <a:lnTo>
                    <a:pt x="987" y="1484"/>
                  </a:lnTo>
                  <a:lnTo>
                    <a:pt x="935" y="1484"/>
                  </a:lnTo>
                  <a:lnTo>
                    <a:pt x="912" y="1509"/>
                  </a:lnTo>
                  <a:lnTo>
                    <a:pt x="912" y="1536"/>
                  </a:lnTo>
                  <a:lnTo>
                    <a:pt x="912" y="1561"/>
                  </a:lnTo>
                  <a:lnTo>
                    <a:pt x="912" y="1590"/>
                  </a:lnTo>
                  <a:lnTo>
                    <a:pt x="883" y="1613"/>
                  </a:lnTo>
                  <a:lnTo>
                    <a:pt x="912" y="1613"/>
                  </a:lnTo>
                  <a:lnTo>
                    <a:pt x="964" y="1641"/>
                  </a:lnTo>
                  <a:lnTo>
                    <a:pt x="935" y="1641"/>
                  </a:lnTo>
                  <a:lnTo>
                    <a:pt x="883" y="1613"/>
                  </a:lnTo>
                  <a:lnTo>
                    <a:pt x="860" y="1613"/>
                  </a:lnTo>
                  <a:lnTo>
                    <a:pt x="808" y="1613"/>
                  </a:lnTo>
                  <a:lnTo>
                    <a:pt x="728" y="1641"/>
                  </a:lnTo>
                  <a:lnTo>
                    <a:pt x="676" y="1641"/>
                  </a:lnTo>
                  <a:lnTo>
                    <a:pt x="624" y="1641"/>
                  </a:lnTo>
                  <a:lnTo>
                    <a:pt x="599" y="1613"/>
                  </a:lnTo>
                  <a:lnTo>
                    <a:pt x="599" y="1561"/>
                  </a:lnTo>
                  <a:lnTo>
                    <a:pt x="624" y="1536"/>
                  </a:lnTo>
                  <a:lnTo>
                    <a:pt x="624" y="1509"/>
                  </a:lnTo>
                  <a:lnTo>
                    <a:pt x="599" y="1457"/>
                  </a:lnTo>
                  <a:lnTo>
                    <a:pt x="572" y="1509"/>
                  </a:lnTo>
                  <a:lnTo>
                    <a:pt x="572" y="1536"/>
                  </a:lnTo>
                  <a:lnTo>
                    <a:pt x="572" y="1590"/>
                  </a:lnTo>
                  <a:lnTo>
                    <a:pt x="572" y="1613"/>
                  </a:lnTo>
                  <a:lnTo>
                    <a:pt x="572" y="1641"/>
                  </a:lnTo>
                  <a:lnTo>
                    <a:pt x="547" y="1641"/>
                  </a:lnTo>
                  <a:lnTo>
                    <a:pt x="520" y="1664"/>
                  </a:lnTo>
                  <a:lnTo>
                    <a:pt x="467" y="1664"/>
                  </a:lnTo>
                  <a:lnTo>
                    <a:pt x="467" y="1693"/>
                  </a:lnTo>
                  <a:lnTo>
                    <a:pt x="444" y="1716"/>
                  </a:lnTo>
                  <a:lnTo>
                    <a:pt x="415" y="1716"/>
                  </a:lnTo>
                  <a:lnTo>
                    <a:pt x="415" y="1745"/>
                  </a:lnTo>
                  <a:lnTo>
                    <a:pt x="392" y="1745"/>
                  </a:lnTo>
                  <a:lnTo>
                    <a:pt x="363" y="1768"/>
                  </a:lnTo>
                  <a:lnTo>
                    <a:pt x="311" y="1797"/>
                  </a:lnTo>
                  <a:lnTo>
                    <a:pt x="288" y="1797"/>
                  </a:lnTo>
                  <a:lnTo>
                    <a:pt x="236" y="1820"/>
                  </a:lnTo>
                  <a:lnTo>
                    <a:pt x="207" y="1849"/>
                  </a:lnTo>
                  <a:lnTo>
                    <a:pt x="184" y="1849"/>
                  </a:lnTo>
                  <a:lnTo>
                    <a:pt x="184" y="1872"/>
                  </a:lnTo>
                  <a:lnTo>
                    <a:pt x="207" y="1872"/>
                  </a:lnTo>
                  <a:lnTo>
                    <a:pt x="236" y="1901"/>
                  </a:lnTo>
                  <a:lnTo>
                    <a:pt x="236" y="1925"/>
                  </a:lnTo>
                  <a:lnTo>
                    <a:pt x="236" y="2004"/>
                  </a:lnTo>
                  <a:lnTo>
                    <a:pt x="207" y="2029"/>
                  </a:lnTo>
                  <a:lnTo>
                    <a:pt x="184" y="2029"/>
                  </a:lnTo>
                  <a:lnTo>
                    <a:pt x="156" y="2029"/>
                  </a:lnTo>
                  <a:lnTo>
                    <a:pt x="131" y="2004"/>
                  </a:lnTo>
                  <a:lnTo>
                    <a:pt x="79" y="2029"/>
                  </a:lnTo>
                  <a:lnTo>
                    <a:pt x="52" y="2029"/>
                  </a:lnTo>
                  <a:lnTo>
                    <a:pt x="27" y="2029"/>
                  </a:lnTo>
                  <a:lnTo>
                    <a:pt x="27" y="2081"/>
                  </a:lnTo>
                  <a:lnTo>
                    <a:pt x="27" y="2133"/>
                  </a:lnTo>
                  <a:lnTo>
                    <a:pt x="27" y="2185"/>
                  </a:lnTo>
                  <a:lnTo>
                    <a:pt x="0" y="2213"/>
                  </a:lnTo>
                  <a:lnTo>
                    <a:pt x="27" y="2265"/>
                  </a:lnTo>
                  <a:lnTo>
                    <a:pt x="0" y="2317"/>
                  </a:lnTo>
                  <a:lnTo>
                    <a:pt x="52" y="2317"/>
                  </a:lnTo>
                  <a:lnTo>
                    <a:pt x="79" y="2317"/>
                  </a:lnTo>
                  <a:lnTo>
                    <a:pt x="104" y="2369"/>
                  </a:lnTo>
                  <a:lnTo>
                    <a:pt x="156" y="2340"/>
                  </a:lnTo>
                  <a:lnTo>
                    <a:pt x="207" y="2369"/>
                  </a:lnTo>
                  <a:lnTo>
                    <a:pt x="236" y="2340"/>
                  </a:lnTo>
                  <a:lnTo>
                    <a:pt x="259" y="2317"/>
                  </a:lnTo>
                  <a:lnTo>
                    <a:pt x="288" y="2265"/>
                  </a:lnTo>
                  <a:lnTo>
                    <a:pt x="340" y="2185"/>
                  </a:lnTo>
                  <a:lnTo>
                    <a:pt x="392" y="2133"/>
                  </a:lnTo>
                  <a:lnTo>
                    <a:pt x="392" y="2081"/>
                  </a:lnTo>
                  <a:lnTo>
                    <a:pt x="415" y="2081"/>
                  </a:lnTo>
                  <a:lnTo>
                    <a:pt x="415" y="2056"/>
                  </a:lnTo>
                  <a:lnTo>
                    <a:pt x="467" y="2056"/>
                  </a:lnTo>
                  <a:lnTo>
                    <a:pt x="495" y="2029"/>
                  </a:lnTo>
                  <a:lnTo>
                    <a:pt x="520" y="2029"/>
                  </a:lnTo>
                  <a:lnTo>
                    <a:pt x="572" y="2029"/>
                  </a:lnTo>
                  <a:lnTo>
                    <a:pt x="599" y="2029"/>
                  </a:lnTo>
                  <a:lnTo>
                    <a:pt x="624" y="2056"/>
                  </a:lnTo>
                  <a:lnTo>
                    <a:pt x="624" y="2081"/>
                  </a:lnTo>
                  <a:lnTo>
                    <a:pt x="703" y="2160"/>
                  </a:lnTo>
                  <a:lnTo>
                    <a:pt x="728" y="2160"/>
                  </a:lnTo>
                  <a:lnTo>
                    <a:pt x="755" y="2185"/>
                  </a:lnTo>
                  <a:lnTo>
                    <a:pt x="780" y="2213"/>
                  </a:lnTo>
                  <a:lnTo>
                    <a:pt x="755" y="2236"/>
                  </a:lnTo>
                  <a:lnTo>
                    <a:pt x="755" y="2265"/>
                  </a:lnTo>
                  <a:lnTo>
                    <a:pt x="808" y="2236"/>
                  </a:lnTo>
                  <a:lnTo>
                    <a:pt x="780" y="2185"/>
                  </a:lnTo>
                  <a:lnTo>
                    <a:pt x="780" y="2160"/>
                  </a:lnTo>
                  <a:lnTo>
                    <a:pt x="808" y="2185"/>
                  </a:lnTo>
                  <a:lnTo>
                    <a:pt x="831" y="2213"/>
                  </a:lnTo>
                  <a:lnTo>
                    <a:pt x="831" y="2185"/>
                  </a:lnTo>
                  <a:lnTo>
                    <a:pt x="780" y="2133"/>
                  </a:lnTo>
                  <a:lnTo>
                    <a:pt x="755" y="2108"/>
                  </a:lnTo>
                  <a:lnTo>
                    <a:pt x="728" y="2081"/>
                  </a:lnTo>
                  <a:lnTo>
                    <a:pt x="703" y="2081"/>
                  </a:lnTo>
                  <a:lnTo>
                    <a:pt x="676" y="2029"/>
                  </a:lnTo>
                  <a:lnTo>
                    <a:pt x="651" y="2029"/>
                  </a:lnTo>
                  <a:lnTo>
                    <a:pt x="651" y="2004"/>
                  </a:lnTo>
                  <a:lnTo>
                    <a:pt x="651" y="1977"/>
                  </a:lnTo>
                  <a:lnTo>
                    <a:pt x="676" y="1977"/>
                  </a:lnTo>
                  <a:lnTo>
                    <a:pt x="703" y="2004"/>
                  </a:lnTo>
                  <a:lnTo>
                    <a:pt x="755" y="2004"/>
                  </a:lnTo>
                  <a:lnTo>
                    <a:pt x="755" y="2029"/>
                  </a:lnTo>
                  <a:lnTo>
                    <a:pt x="780" y="2056"/>
                  </a:lnTo>
                  <a:lnTo>
                    <a:pt x="808" y="2081"/>
                  </a:lnTo>
                  <a:lnTo>
                    <a:pt x="860" y="2081"/>
                  </a:lnTo>
                  <a:lnTo>
                    <a:pt x="883" y="2108"/>
                  </a:lnTo>
                  <a:lnTo>
                    <a:pt x="883" y="2133"/>
                  </a:lnTo>
                  <a:lnTo>
                    <a:pt x="883" y="2185"/>
                  </a:lnTo>
                  <a:lnTo>
                    <a:pt x="912" y="2185"/>
                  </a:lnTo>
                  <a:lnTo>
                    <a:pt x="935" y="2185"/>
                  </a:lnTo>
                  <a:lnTo>
                    <a:pt x="935" y="2213"/>
                  </a:lnTo>
                  <a:lnTo>
                    <a:pt x="935" y="2236"/>
                  </a:lnTo>
                  <a:lnTo>
                    <a:pt x="987" y="2288"/>
                  </a:lnTo>
                  <a:lnTo>
                    <a:pt x="1016" y="2288"/>
                  </a:lnTo>
                  <a:lnTo>
                    <a:pt x="987" y="2265"/>
                  </a:lnTo>
                  <a:lnTo>
                    <a:pt x="964" y="2236"/>
                  </a:lnTo>
                  <a:lnTo>
                    <a:pt x="964" y="2213"/>
                  </a:lnTo>
                  <a:lnTo>
                    <a:pt x="1016" y="2213"/>
                  </a:lnTo>
                  <a:lnTo>
                    <a:pt x="964" y="2185"/>
                  </a:lnTo>
                  <a:lnTo>
                    <a:pt x="987" y="2185"/>
                  </a:lnTo>
                  <a:lnTo>
                    <a:pt x="1016" y="2213"/>
                  </a:lnTo>
                  <a:lnTo>
                    <a:pt x="1016" y="2185"/>
                  </a:lnTo>
                  <a:lnTo>
                    <a:pt x="1039" y="2185"/>
                  </a:lnTo>
                  <a:lnTo>
                    <a:pt x="1068" y="2185"/>
                  </a:lnTo>
                  <a:lnTo>
                    <a:pt x="1091" y="2160"/>
                  </a:lnTo>
                  <a:lnTo>
                    <a:pt x="1091" y="2133"/>
                  </a:lnTo>
                  <a:lnTo>
                    <a:pt x="1119" y="2133"/>
                  </a:lnTo>
                  <a:lnTo>
                    <a:pt x="1144" y="2108"/>
                  </a:lnTo>
                  <a:lnTo>
                    <a:pt x="1119" y="2081"/>
                  </a:lnTo>
                  <a:lnTo>
                    <a:pt x="1144" y="2056"/>
                  </a:lnTo>
                  <a:lnTo>
                    <a:pt x="1144" y="2029"/>
                  </a:lnTo>
                  <a:lnTo>
                    <a:pt x="1144" y="2004"/>
                  </a:lnTo>
                  <a:lnTo>
                    <a:pt x="1171" y="2004"/>
                  </a:lnTo>
                  <a:lnTo>
                    <a:pt x="1196" y="2004"/>
                  </a:lnTo>
                  <a:lnTo>
                    <a:pt x="1223" y="1952"/>
                  </a:lnTo>
                  <a:lnTo>
                    <a:pt x="1248" y="1952"/>
                  </a:lnTo>
                  <a:lnTo>
                    <a:pt x="1275" y="1952"/>
                  </a:lnTo>
                  <a:lnTo>
                    <a:pt x="1275" y="1977"/>
                  </a:lnTo>
                  <a:lnTo>
                    <a:pt x="1300" y="2004"/>
                  </a:lnTo>
                  <a:lnTo>
                    <a:pt x="1327" y="2004"/>
                  </a:lnTo>
                  <a:lnTo>
                    <a:pt x="1300" y="1977"/>
                  </a:lnTo>
                  <a:lnTo>
                    <a:pt x="1300" y="1952"/>
                  </a:lnTo>
                  <a:lnTo>
                    <a:pt x="1327" y="1952"/>
                  </a:lnTo>
                  <a:lnTo>
                    <a:pt x="1379" y="1952"/>
                  </a:lnTo>
                  <a:lnTo>
                    <a:pt x="1404" y="1925"/>
                  </a:lnTo>
                  <a:lnTo>
                    <a:pt x="1432" y="1901"/>
                  </a:lnTo>
                  <a:lnTo>
                    <a:pt x="1459" y="1872"/>
                  </a:lnTo>
                  <a:lnTo>
                    <a:pt x="1459" y="1877"/>
                  </a:lnTo>
                  <a:lnTo>
                    <a:pt x="1432" y="1901"/>
                  </a:lnTo>
                  <a:lnTo>
                    <a:pt x="1407" y="1925"/>
                  </a:lnTo>
                  <a:lnTo>
                    <a:pt x="1459" y="1925"/>
                  </a:lnTo>
                  <a:lnTo>
                    <a:pt x="1459" y="1952"/>
                  </a:lnTo>
                  <a:lnTo>
                    <a:pt x="1432" y="2004"/>
                  </a:lnTo>
                  <a:lnTo>
                    <a:pt x="1459" y="2033"/>
                  </a:lnTo>
                  <a:lnTo>
                    <a:pt x="1484" y="2056"/>
                  </a:lnTo>
                  <a:lnTo>
                    <a:pt x="1536" y="2081"/>
                  </a:lnTo>
                  <a:lnTo>
                    <a:pt x="1563" y="2133"/>
                  </a:lnTo>
                  <a:lnTo>
                    <a:pt x="1563" y="2160"/>
                  </a:lnTo>
                  <a:lnTo>
                    <a:pt x="1507" y="2160"/>
                  </a:lnTo>
                  <a:lnTo>
                    <a:pt x="1484" y="2185"/>
                  </a:lnTo>
                  <a:lnTo>
                    <a:pt x="1459" y="2185"/>
                  </a:lnTo>
                  <a:lnTo>
                    <a:pt x="1327" y="2133"/>
                  </a:lnTo>
                  <a:lnTo>
                    <a:pt x="1275" y="2133"/>
                  </a:lnTo>
                  <a:lnTo>
                    <a:pt x="1223" y="2160"/>
                  </a:lnTo>
                  <a:lnTo>
                    <a:pt x="1171" y="2185"/>
                  </a:lnTo>
                  <a:lnTo>
                    <a:pt x="1144" y="2185"/>
                  </a:lnTo>
                  <a:lnTo>
                    <a:pt x="1171" y="2213"/>
                  </a:lnTo>
                  <a:lnTo>
                    <a:pt x="1119" y="2185"/>
                  </a:lnTo>
                  <a:lnTo>
                    <a:pt x="1119" y="2213"/>
                  </a:lnTo>
                  <a:lnTo>
                    <a:pt x="1119" y="2236"/>
                  </a:lnTo>
                  <a:lnTo>
                    <a:pt x="1091" y="2288"/>
                  </a:lnTo>
                  <a:lnTo>
                    <a:pt x="1119" y="2288"/>
                  </a:lnTo>
                  <a:lnTo>
                    <a:pt x="1144" y="2317"/>
                  </a:lnTo>
                  <a:lnTo>
                    <a:pt x="1171" y="2340"/>
                  </a:lnTo>
                  <a:lnTo>
                    <a:pt x="1196" y="2369"/>
                  </a:lnTo>
                  <a:lnTo>
                    <a:pt x="1275" y="2340"/>
                  </a:lnTo>
                  <a:lnTo>
                    <a:pt x="1275" y="2369"/>
                  </a:lnTo>
                  <a:lnTo>
                    <a:pt x="1300" y="2369"/>
                  </a:lnTo>
                  <a:lnTo>
                    <a:pt x="1352" y="2369"/>
                  </a:lnTo>
                  <a:lnTo>
                    <a:pt x="1379" y="2369"/>
                  </a:lnTo>
                  <a:lnTo>
                    <a:pt x="1404" y="2392"/>
                  </a:lnTo>
                  <a:lnTo>
                    <a:pt x="1379" y="2421"/>
                  </a:lnTo>
                  <a:lnTo>
                    <a:pt x="1404" y="2444"/>
                  </a:lnTo>
                  <a:lnTo>
                    <a:pt x="1404" y="2472"/>
                  </a:lnTo>
                  <a:lnTo>
                    <a:pt x="1379" y="2495"/>
                  </a:lnTo>
                  <a:lnTo>
                    <a:pt x="1352" y="2524"/>
                  </a:lnTo>
                  <a:lnTo>
                    <a:pt x="1359" y="2620"/>
                  </a:lnTo>
                  <a:lnTo>
                    <a:pt x="1379" y="2680"/>
                  </a:lnTo>
                  <a:lnTo>
                    <a:pt x="1459" y="2756"/>
                  </a:lnTo>
                  <a:lnTo>
                    <a:pt x="1459" y="2783"/>
                  </a:lnTo>
                  <a:lnTo>
                    <a:pt x="1484" y="2889"/>
                  </a:lnTo>
                  <a:lnTo>
                    <a:pt x="1563" y="2968"/>
                  </a:lnTo>
                  <a:lnTo>
                    <a:pt x="1615" y="3096"/>
                  </a:lnTo>
                  <a:lnTo>
                    <a:pt x="1615" y="3148"/>
                  </a:lnTo>
                  <a:lnTo>
                    <a:pt x="1663" y="3173"/>
                  </a:lnTo>
                  <a:lnTo>
                    <a:pt x="1720" y="3148"/>
                  </a:lnTo>
                  <a:lnTo>
                    <a:pt x="1772" y="3125"/>
                  </a:lnTo>
                  <a:lnTo>
                    <a:pt x="1795" y="3125"/>
                  </a:lnTo>
                  <a:lnTo>
                    <a:pt x="1899" y="3096"/>
                  </a:lnTo>
                  <a:lnTo>
                    <a:pt x="1928" y="3071"/>
                  </a:lnTo>
                  <a:lnTo>
                    <a:pt x="1980" y="3044"/>
                  </a:lnTo>
                  <a:lnTo>
                    <a:pt x="2031" y="3016"/>
                  </a:lnTo>
                  <a:lnTo>
                    <a:pt x="2056" y="2993"/>
                  </a:lnTo>
                  <a:lnTo>
                    <a:pt x="2083" y="2941"/>
                  </a:lnTo>
                  <a:lnTo>
                    <a:pt x="2135" y="2912"/>
                  </a:lnTo>
                  <a:lnTo>
                    <a:pt x="2135" y="2889"/>
                  </a:lnTo>
                  <a:lnTo>
                    <a:pt x="2108" y="2860"/>
                  </a:lnTo>
                  <a:lnTo>
                    <a:pt x="2083" y="2837"/>
                  </a:lnTo>
                  <a:lnTo>
                    <a:pt x="2031" y="2812"/>
                  </a:lnTo>
                  <a:lnTo>
                    <a:pt x="2003" y="2837"/>
                  </a:lnTo>
                  <a:lnTo>
                    <a:pt x="2003" y="2860"/>
                  </a:lnTo>
                  <a:lnTo>
                    <a:pt x="2003" y="2912"/>
                  </a:lnTo>
                  <a:lnTo>
                    <a:pt x="1980" y="2860"/>
                  </a:lnTo>
                  <a:lnTo>
                    <a:pt x="2031" y="2812"/>
                  </a:lnTo>
                  <a:lnTo>
                    <a:pt x="2003" y="2783"/>
                  </a:lnTo>
                  <a:lnTo>
                    <a:pt x="1980" y="2783"/>
                  </a:lnTo>
                  <a:lnTo>
                    <a:pt x="1980" y="2812"/>
                  </a:lnTo>
                  <a:lnTo>
                    <a:pt x="1899" y="2783"/>
                  </a:lnTo>
                  <a:lnTo>
                    <a:pt x="1876" y="2783"/>
                  </a:lnTo>
                  <a:lnTo>
                    <a:pt x="1847" y="2732"/>
                  </a:lnTo>
                  <a:lnTo>
                    <a:pt x="1847" y="2705"/>
                  </a:lnTo>
                  <a:lnTo>
                    <a:pt x="1795" y="2653"/>
                  </a:lnTo>
                  <a:lnTo>
                    <a:pt x="1772" y="2601"/>
                  </a:lnTo>
                  <a:lnTo>
                    <a:pt x="1795" y="2601"/>
                  </a:lnTo>
                  <a:lnTo>
                    <a:pt x="1847" y="2601"/>
                  </a:lnTo>
                  <a:lnTo>
                    <a:pt x="1876" y="2653"/>
                  </a:lnTo>
                  <a:lnTo>
                    <a:pt x="1899" y="2680"/>
                  </a:lnTo>
                  <a:lnTo>
                    <a:pt x="1951" y="2705"/>
                  </a:lnTo>
                  <a:lnTo>
                    <a:pt x="1980" y="2732"/>
                  </a:lnTo>
                  <a:lnTo>
                    <a:pt x="2056" y="2705"/>
                  </a:lnTo>
                  <a:lnTo>
                    <a:pt x="2056" y="2756"/>
                  </a:lnTo>
                  <a:lnTo>
                    <a:pt x="2160" y="2756"/>
                  </a:lnTo>
                  <a:lnTo>
                    <a:pt x="2191" y="2772"/>
                  </a:lnTo>
                  <a:lnTo>
                    <a:pt x="2187" y="2783"/>
                  </a:lnTo>
                  <a:lnTo>
                    <a:pt x="2239" y="2783"/>
                  </a:lnTo>
                  <a:lnTo>
                    <a:pt x="2344" y="2783"/>
                  </a:lnTo>
                  <a:lnTo>
                    <a:pt x="2367" y="2783"/>
                  </a:lnTo>
                  <a:lnTo>
                    <a:pt x="2396" y="2837"/>
                  </a:lnTo>
                  <a:lnTo>
                    <a:pt x="2419" y="2860"/>
                  </a:lnTo>
                  <a:lnTo>
                    <a:pt x="2471" y="2860"/>
                  </a:lnTo>
                  <a:lnTo>
                    <a:pt x="2448" y="2889"/>
                  </a:lnTo>
                  <a:lnTo>
                    <a:pt x="2471" y="2912"/>
                  </a:lnTo>
                  <a:lnTo>
                    <a:pt x="2500" y="2912"/>
                  </a:lnTo>
                  <a:lnTo>
                    <a:pt x="2523" y="2860"/>
                  </a:lnTo>
                  <a:lnTo>
                    <a:pt x="2552" y="2912"/>
                  </a:lnTo>
                  <a:lnTo>
                    <a:pt x="2552" y="3016"/>
                  </a:lnTo>
                  <a:lnTo>
                    <a:pt x="2627" y="3173"/>
                  </a:lnTo>
                  <a:lnTo>
                    <a:pt x="2655" y="3280"/>
                  </a:lnTo>
                  <a:lnTo>
                    <a:pt x="2707" y="3328"/>
                  </a:lnTo>
                  <a:lnTo>
                    <a:pt x="2759" y="3303"/>
                  </a:lnTo>
                  <a:lnTo>
                    <a:pt x="2836" y="3173"/>
                  </a:lnTo>
                  <a:lnTo>
                    <a:pt x="2863" y="3071"/>
                  </a:lnTo>
                  <a:lnTo>
                    <a:pt x="2888" y="3044"/>
                  </a:lnTo>
                  <a:lnTo>
                    <a:pt x="2991" y="2968"/>
                  </a:lnTo>
                  <a:lnTo>
                    <a:pt x="3020" y="2912"/>
                  </a:lnTo>
                  <a:lnTo>
                    <a:pt x="3043" y="2912"/>
                  </a:lnTo>
                  <a:lnTo>
                    <a:pt x="3043" y="2860"/>
                  </a:lnTo>
                  <a:lnTo>
                    <a:pt x="3043" y="2837"/>
                  </a:lnTo>
                  <a:lnTo>
                    <a:pt x="3072" y="2812"/>
                  </a:lnTo>
                  <a:lnTo>
                    <a:pt x="3095" y="2860"/>
                  </a:lnTo>
                  <a:lnTo>
                    <a:pt x="3124" y="2889"/>
                  </a:lnTo>
                  <a:lnTo>
                    <a:pt x="3147" y="2912"/>
                  </a:lnTo>
                  <a:lnTo>
                    <a:pt x="3176" y="2968"/>
                  </a:lnTo>
                  <a:lnTo>
                    <a:pt x="3199" y="2993"/>
                  </a:lnTo>
                  <a:lnTo>
                    <a:pt x="3227" y="3071"/>
                  </a:lnTo>
                  <a:lnTo>
                    <a:pt x="3251" y="3096"/>
                  </a:lnTo>
                  <a:lnTo>
                    <a:pt x="3279" y="3125"/>
                  </a:lnTo>
                  <a:lnTo>
                    <a:pt x="3304" y="3071"/>
                  </a:lnTo>
                  <a:lnTo>
                    <a:pt x="3331" y="3096"/>
                  </a:lnTo>
                  <a:lnTo>
                    <a:pt x="3331" y="3125"/>
                  </a:lnTo>
                  <a:lnTo>
                    <a:pt x="3356" y="3177"/>
                  </a:lnTo>
                  <a:lnTo>
                    <a:pt x="3356" y="3229"/>
                  </a:lnTo>
                  <a:lnTo>
                    <a:pt x="3383" y="3280"/>
                  </a:lnTo>
                  <a:lnTo>
                    <a:pt x="3383" y="3332"/>
                  </a:lnTo>
                  <a:lnTo>
                    <a:pt x="3383" y="3355"/>
                  </a:lnTo>
                  <a:lnTo>
                    <a:pt x="3408" y="3384"/>
                  </a:lnTo>
                  <a:lnTo>
                    <a:pt x="3435" y="3436"/>
                  </a:lnTo>
                  <a:lnTo>
                    <a:pt x="3408" y="3436"/>
                  </a:lnTo>
                  <a:lnTo>
                    <a:pt x="3435" y="3488"/>
                  </a:lnTo>
                  <a:lnTo>
                    <a:pt x="3460" y="3564"/>
                  </a:lnTo>
                  <a:lnTo>
                    <a:pt x="3539" y="3616"/>
                  </a:lnTo>
                  <a:lnTo>
                    <a:pt x="3539" y="3564"/>
                  </a:lnTo>
                  <a:lnTo>
                    <a:pt x="3512" y="3540"/>
                  </a:lnTo>
                  <a:lnTo>
                    <a:pt x="3512" y="3488"/>
                  </a:lnTo>
                  <a:lnTo>
                    <a:pt x="3487" y="3436"/>
                  </a:lnTo>
                  <a:lnTo>
                    <a:pt x="3460" y="3436"/>
                  </a:lnTo>
                  <a:lnTo>
                    <a:pt x="3435" y="3384"/>
                  </a:lnTo>
                  <a:lnTo>
                    <a:pt x="3408" y="3355"/>
                  </a:lnTo>
                  <a:lnTo>
                    <a:pt x="3435" y="3280"/>
                  </a:lnTo>
                  <a:lnTo>
                    <a:pt x="3435" y="3229"/>
                  </a:lnTo>
                  <a:lnTo>
                    <a:pt x="3460" y="3229"/>
                  </a:lnTo>
                  <a:lnTo>
                    <a:pt x="3487" y="3229"/>
                  </a:lnTo>
                  <a:lnTo>
                    <a:pt x="3487" y="3280"/>
                  </a:lnTo>
                  <a:lnTo>
                    <a:pt x="3512" y="3303"/>
                  </a:lnTo>
                  <a:lnTo>
                    <a:pt x="3563" y="3332"/>
                  </a:lnTo>
                  <a:lnTo>
                    <a:pt x="3563" y="3355"/>
                  </a:lnTo>
                  <a:lnTo>
                    <a:pt x="3592" y="3355"/>
                  </a:lnTo>
                  <a:lnTo>
                    <a:pt x="3667" y="3280"/>
                  </a:lnTo>
                  <a:lnTo>
                    <a:pt x="3696" y="3280"/>
                  </a:lnTo>
                  <a:lnTo>
                    <a:pt x="3696" y="3229"/>
                  </a:lnTo>
                  <a:lnTo>
                    <a:pt x="3696" y="3148"/>
                  </a:lnTo>
                  <a:lnTo>
                    <a:pt x="3667" y="3125"/>
                  </a:lnTo>
                  <a:lnTo>
                    <a:pt x="3667" y="3096"/>
                  </a:lnTo>
                  <a:lnTo>
                    <a:pt x="3615" y="3096"/>
                  </a:lnTo>
                  <a:lnTo>
                    <a:pt x="3615" y="3071"/>
                  </a:lnTo>
                  <a:lnTo>
                    <a:pt x="3592" y="3019"/>
                  </a:lnTo>
                  <a:lnTo>
                    <a:pt x="3592" y="2968"/>
                  </a:lnTo>
                  <a:lnTo>
                    <a:pt x="3615" y="2941"/>
                  </a:lnTo>
                  <a:lnTo>
                    <a:pt x="3615" y="2912"/>
                  </a:lnTo>
                  <a:lnTo>
                    <a:pt x="3667" y="2912"/>
                  </a:lnTo>
                  <a:lnTo>
                    <a:pt x="3667" y="2968"/>
                  </a:lnTo>
                  <a:lnTo>
                    <a:pt x="3719" y="2968"/>
                  </a:lnTo>
                  <a:lnTo>
                    <a:pt x="3719" y="2912"/>
                  </a:lnTo>
                  <a:lnTo>
                    <a:pt x="3771" y="2912"/>
                  </a:lnTo>
                  <a:lnTo>
                    <a:pt x="3800" y="2889"/>
                  </a:lnTo>
                  <a:lnTo>
                    <a:pt x="3823" y="2889"/>
                  </a:lnTo>
                  <a:lnTo>
                    <a:pt x="3903" y="2864"/>
                  </a:lnTo>
                  <a:lnTo>
                    <a:pt x="3955" y="2783"/>
                  </a:lnTo>
                  <a:lnTo>
                    <a:pt x="3955" y="2756"/>
                  </a:lnTo>
                  <a:lnTo>
                    <a:pt x="3980" y="2732"/>
                  </a:lnTo>
                  <a:lnTo>
                    <a:pt x="4007" y="2680"/>
                  </a:lnTo>
                  <a:lnTo>
                    <a:pt x="4032" y="2628"/>
                  </a:lnTo>
                  <a:lnTo>
                    <a:pt x="4032" y="2601"/>
                  </a:lnTo>
                  <a:lnTo>
                    <a:pt x="3980" y="2628"/>
                  </a:lnTo>
                  <a:lnTo>
                    <a:pt x="3955" y="2601"/>
                  </a:lnTo>
                  <a:lnTo>
                    <a:pt x="3980" y="2576"/>
                  </a:lnTo>
                  <a:lnTo>
                    <a:pt x="3955" y="2524"/>
                  </a:lnTo>
                  <a:lnTo>
                    <a:pt x="4007" y="2524"/>
                  </a:lnTo>
                  <a:lnTo>
                    <a:pt x="3980" y="2501"/>
                  </a:lnTo>
                  <a:lnTo>
                    <a:pt x="3955" y="2421"/>
                  </a:lnTo>
                  <a:lnTo>
                    <a:pt x="3928" y="2396"/>
                  </a:lnTo>
                  <a:lnTo>
                    <a:pt x="3980" y="2317"/>
                  </a:lnTo>
                  <a:lnTo>
                    <a:pt x="3955" y="2288"/>
                  </a:lnTo>
                  <a:lnTo>
                    <a:pt x="3928" y="2288"/>
                  </a:lnTo>
                  <a:lnTo>
                    <a:pt x="3903" y="2317"/>
                  </a:lnTo>
                  <a:lnTo>
                    <a:pt x="3875" y="2288"/>
                  </a:lnTo>
                  <a:lnTo>
                    <a:pt x="3851" y="2265"/>
                  </a:lnTo>
                  <a:lnTo>
                    <a:pt x="3851" y="2236"/>
                  </a:lnTo>
                  <a:lnTo>
                    <a:pt x="3903" y="2213"/>
                  </a:lnTo>
                  <a:lnTo>
                    <a:pt x="3955" y="2160"/>
                  </a:lnTo>
                  <a:lnTo>
                    <a:pt x="3955" y="2213"/>
                  </a:lnTo>
                  <a:lnTo>
                    <a:pt x="4007" y="2213"/>
                  </a:lnTo>
                  <a:lnTo>
                    <a:pt x="4032" y="2188"/>
                  </a:lnTo>
                  <a:lnTo>
                    <a:pt x="4072" y="2148"/>
                  </a:lnTo>
                  <a:lnTo>
                    <a:pt x="4059" y="2188"/>
                  </a:lnTo>
                  <a:lnTo>
                    <a:pt x="4084" y="2213"/>
                  </a:lnTo>
                  <a:lnTo>
                    <a:pt x="4084" y="2265"/>
                  </a:lnTo>
                  <a:lnTo>
                    <a:pt x="4111" y="2265"/>
                  </a:lnTo>
                  <a:lnTo>
                    <a:pt x="4136" y="2288"/>
                  </a:lnTo>
                  <a:lnTo>
                    <a:pt x="4162" y="2344"/>
                  </a:lnTo>
                  <a:lnTo>
                    <a:pt x="4162" y="2396"/>
                  </a:lnTo>
                  <a:lnTo>
                    <a:pt x="4216" y="2396"/>
                  </a:lnTo>
                  <a:lnTo>
                    <a:pt x="4216" y="2344"/>
                  </a:lnTo>
                  <a:lnTo>
                    <a:pt x="4187" y="2288"/>
                  </a:lnTo>
                  <a:lnTo>
                    <a:pt x="4162" y="2236"/>
                  </a:lnTo>
                  <a:lnTo>
                    <a:pt x="4136" y="2213"/>
                  </a:lnTo>
                  <a:lnTo>
                    <a:pt x="4162" y="2188"/>
                  </a:lnTo>
                  <a:lnTo>
                    <a:pt x="4187" y="2133"/>
                  </a:lnTo>
                  <a:lnTo>
                    <a:pt x="4187" y="2081"/>
                  </a:lnTo>
                  <a:lnTo>
                    <a:pt x="4216" y="2033"/>
                  </a:lnTo>
                  <a:lnTo>
                    <a:pt x="4228" y="2016"/>
                  </a:lnTo>
                  <a:lnTo>
                    <a:pt x="4239" y="2033"/>
                  </a:lnTo>
                  <a:lnTo>
                    <a:pt x="4268" y="2056"/>
                  </a:lnTo>
                  <a:lnTo>
                    <a:pt x="4291" y="2033"/>
                  </a:lnTo>
                  <a:lnTo>
                    <a:pt x="4395" y="1901"/>
                  </a:lnTo>
                  <a:lnTo>
                    <a:pt x="4424" y="1561"/>
                  </a:lnTo>
                  <a:lnTo>
                    <a:pt x="4395" y="1536"/>
                  </a:lnTo>
                  <a:lnTo>
                    <a:pt x="4395" y="1457"/>
                  </a:lnTo>
                  <a:lnTo>
                    <a:pt x="4347" y="1457"/>
                  </a:lnTo>
                  <a:lnTo>
                    <a:pt x="4239" y="1484"/>
                  </a:lnTo>
                  <a:lnTo>
                    <a:pt x="4239" y="1432"/>
                  </a:lnTo>
                  <a:lnTo>
                    <a:pt x="4187" y="1405"/>
                  </a:lnTo>
                  <a:lnTo>
                    <a:pt x="4239" y="1248"/>
                  </a:lnTo>
                  <a:lnTo>
                    <a:pt x="4239" y="1173"/>
                  </a:lnTo>
                  <a:lnTo>
                    <a:pt x="4291" y="1121"/>
                  </a:lnTo>
                  <a:lnTo>
                    <a:pt x="4395" y="1093"/>
                  </a:lnTo>
                  <a:lnTo>
                    <a:pt x="4447" y="1069"/>
                  </a:lnTo>
                  <a:lnTo>
                    <a:pt x="4527" y="1041"/>
                  </a:lnTo>
                  <a:lnTo>
                    <a:pt x="4504" y="1093"/>
                  </a:lnTo>
                  <a:lnTo>
                    <a:pt x="4552" y="1069"/>
                  </a:lnTo>
                  <a:lnTo>
                    <a:pt x="4604" y="1041"/>
                  </a:lnTo>
                  <a:lnTo>
                    <a:pt x="4579" y="1018"/>
                  </a:lnTo>
                  <a:lnTo>
                    <a:pt x="4604" y="885"/>
                  </a:lnTo>
                  <a:lnTo>
                    <a:pt x="4660" y="860"/>
                  </a:lnTo>
                  <a:lnTo>
                    <a:pt x="4683" y="912"/>
                  </a:lnTo>
                  <a:lnTo>
                    <a:pt x="4735" y="808"/>
                  </a:lnTo>
                  <a:lnTo>
                    <a:pt x="4760" y="885"/>
                  </a:lnTo>
                  <a:lnTo>
                    <a:pt x="4786" y="912"/>
                  </a:lnTo>
                  <a:lnTo>
                    <a:pt x="4760" y="966"/>
                  </a:lnTo>
                  <a:lnTo>
                    <a:pt x="4735" y="1093"/>
                  </a:lnTo>
                  <a:lnTo>
                    <a:pt x="4712" y="1144"/>
                  </a:lnTo>
                  <a:lnTo>
                    <a:pt x="4712" y="1248"/>
                  </a:lnTo>
                  <a:lnTo>
                    <a:pt x="4760" y="1432"/>
                  </a:lnTo>
                  <a:lnTo>
                    <a:pt x="4815" y="1457"/>
                  </a:lnTo>
                  <a:lnTo>
                    <a:pt x="4840" y="1561"/>
                  </a:lnTo>
                  <a:lnTo>
                    <a:pt x="4892" y="1457"/>
                  </a:lnTo>
                  <a:lnTo>
                    <a:pt x="4892" y="1405"/>
                  </a:lnTo>
                  <a:lnTo>
                    <a:pt x="4919" y="1405"/>
                  </a:lnTo>
                  <a:lnTo>
                    <a:pt x="4892" y="1354"/>
                  </a:lnTo>
                  <a:lnTo>
                    <a:pt x="4919" y="1302"/>
                  </a:lnTo>
                  <a:lnTo>
                    <a:pt x="4867" y="1248"/>
                  </a:lnTo>
                  <a:lnTo>
                    <a:pt x="4892" y="1196"/>
                  </a:lnTo>
                  <a:lnTo>
                    <a:pt x="4867" y="1093"/>
                  </a:lnTo>
                  <a:lnTo>
                    <a:pt x="4840" y="1121"/>
                  </a:lnTo>
                  <a:lnTo>
                    <a:pt x="4815" y="989"/>
                  </a:lnTo>
                  <a:lnTo>
                    <a:pt x="4815" y="966"/>
                  </a:lnTo>
                  <a:lnTo>
                    <a:pt x="4892" y="912"/>
                  </a:lnTo>
                  <a:lnTo>
                    <a:pt x="4944" y="885"/>
                  </a:lnTo>
                  <a:lnTo>
                    <a:pt x="4996" y="966"/>
                  </a:lnTo>
                  <a:lnTo>
                    <a:pt x="5023" y="730"/>
                  </a:lnTo>
                  <a:lnTo>
                    <a:pt x="5128" y="678"/>
                  </a:lnTo>
                  <a:lnTo>
                    <a:pt x="5074" y="653"/>
                  </a:lnTo>
                  <a:lnTo>
                    <a:pt x="5074" y="624"/>
                  </a:lnTo>
                  <a:lnTo>
                    <a:pt x="5023" y="624"/>
                  </a:lnTo>
                  <a:lnTo>
                    <a:pt x="4971" y="572"/>
                  </a:lnTo>
                  <a:lnTo>
                    <a:pt x="4919" y="521"/>
                  </a:lnTo>
                  <a:lnTo>
                    <a:pt x="4971" y="521"/>
                  </a:lnTo>
                  <a:lnTo>
                    <a:pt x="5048" y="498"/>
                  </a:lnTo>
                  <a:lnTo>
                    <a:pt x="4996" y="469"/>
                  </a:lnTo>
                  <a:lnTo>
                    <a:pt x="4996" y="394"/>
                  </a:lnTo>
                  <a:lnTo>
                    <a:pt x="5023" y="417"/>
                  </a:lnTo>
                  <a:lnTo>
                    <a:pt x="5128" y="446"/>
                  </a:lnTo>
                  <a:lnTo>
                    <a:pt x="5180" y="469"/>
                  </a:lnTo>
                  <a:lnTo>
                    <a:pt x="5255" y="469"/>
                  </a:lnTo>
                  <a:lnTo>
                    <a:pt x="5307" y="417"/>
                  </a:lnTo>
                  <a:lnTo>
                    <a:pt x="5203" y="39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453080" y="1735560"/>
              <a:ext cx="17280" cy="12240"/>
            </a:xfrm>
            <a:custGeom>
              <a:avLst/>
              <a:gdLst/>
              <a:ahLst/>
              <a:rect l="l" t="t" r="r" b="b"/>
              <a:pathLst>
                <a:path w="81" h="75">
                  <a:moveTo>
                    <a:pt x="0" y="52"/>
                  </a:moveTo>
                  <a:lnTo>
                    <a:pt x="29" y="75"/>
                  </a:lnTo>
                  <a:lnTo>
                    <a:pt x="81" y="75"/>
                  </a:lnTo>
                  <a:lnTo>
                    <a:pt x="81" y="52"/>
                  </a:lnTo>
                  <a:lnTo>
                    <a:pt x="52" y="23"/>
                  </a:lnTo>
                  <a:lnTo>
                    <a:pt x="0" y="0"/>
                  </a:lnTo>
                  <a:lnTo>
                    <a:pt x="0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7361640" y="1705320"/>
              <a:ext cx="1116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27" y="52"/>
                  </a:moveTo>
                  <a:lnTo>
                    <a:pt x="52" y="52"/>
                  </a:lnTo>
                  <a:lnTo>
                    <a:pt x="52" y="27"/>
                  </a:lnTo>
                  <a:lnTo>
                    <a:pt x="52" y="0"/>
                  </a:lnTo>
                  <a:lnTo>
                    <a:pt x="0" y="27"/>
                  </a:lnTo>
                  <a:lnTo>
                    <a:pt x="27" y="5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07800" y="2256480"/>
              <a:ext cx="68760" cy="42480"/>
            </a:xfrm>
            <a:custGeom>
              <a:avLst/>
              <a:gdLst/>
              <a:ahLst/>
              <a:rect l="l" t="t" r="r" b="b"/>
              <a:pathLst>
                <a:path w="156" h="130">
                  <a:moveTo>
                    <a:pt x="40" y="118"/>
                  </a:moveTo>
                  <a:lnTo>
                    <a:pt x="26" y="118"/>
                  </a:lnTo>
                  <a:lnTo>
                    <a:pt x="14" y="104"/>
                  </a:lnTo>
                  <a:lnTo>
                    <a:pt x="0" y="104"/>
                  </a:lnTo>
                  <a:lnTo>
                    <a:pt x="0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52" y="66"/>
                  </a:lnTo>
                  <a:lnTo>
                    <a:pt x="78" y="52"/>
                  </a:lnTo>
                  <a:lnTo>
                    <a:pt x="78" y="40"/>
                  </a:lnTo>
                  <a:lnTo>
                    <a:pt x="92" y="26"/>
                  </a:lnTo>
                  <a:lnTo>
                    <a:pt x="130" y="14"/>
                  </a:lnTo>
                  <a:lnTo>
                    <a:pt x="130" y="0"/>
                  </a:lnTo>
                  <a:lnTo>
                    <a:pt x="144" y="0"/>
                  </a:lnTo>
                  <a:lnTo>
                    <a:pt x="144" y="26"/>
                  </a:lnTo>
                  <a:lnTo>
                    <a:pt x="156" y="26"/>
                  </a:lnTo>
                  <a:lnTo>
                    <a:pt x="144" y="52"/>
                  </a:lnTo>
                  <a:lnTo>
                    <a:pt x="130" y="52"/>
                  </a:lnTo>
                  <a:lnTo>
                    <a:pt x="118" y="66"/>
                  </a:lnTo>
                  <a:lnTo>
                    <a:pt x="104" y="78"/>
                  </a:lnTo>
                  <a:lnTo>
                    <a:pt x="92" y="66"/>
                  </a:lnTo>
                  <a:lnTo>
                    <a:pt x="92" y="78"/>
                  </a:lnTo>
                  <a:lnTo>
                    <a:pt x="78" y="92"/>
                  </a:lnTo>
                  <a:lnTo>
                    <a:pt x="78" y="104"/>
                  </a:lnTo>
                  <a:lnTo>
                    <a:pt x="66" y="118"/>
                  </a:lnTo>
                  <a:lnTo>
                    <a:pt x="52" y="118"/>
                  </a:lnTo>
                  <a:lnTo>
                    <a:pt x="52" y="130"/>
                  </a:lnTo>
                  <a:lnTo>
                    <a:pt x="40" y="118"/>
                  </a:lnTo>
                  <a:lnTo>
                    <a:pt x="40" y="118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76560" y="2222280"/>
              <a:ext cx="28800" cy="42480"/>
            </a:xfrm>
            <a:custGeom>
              <a:avLst/>
              <a:gdLst/>
              <a:ahLst/>
              <a:rect l="l" t="t" r="r" b="b"/>
              <a:pathLst>
                <a:path w="66" h="130">
                  <a:moveTo>
                    <a:pt x="0" y="130"/>
                  </a:moveTo>
                  <a:lnTo>
                    <a:pt x="0" y="118"/>
                  </a:lnTo>
                  <a:lnTo>
                    <a:pt x="0" y="104"/>
                  </a:lnTo>
                  <a:lnTo>
                    <a:pt x="14" y="92"/>
                  </a:lnTo>
                  <a:lnTo>
                    <a:pt x="26" y="78"/>
                  </a:lnTo>
                  <a:lnTo>
                    <a:pt x="26" y="66"/>
                  </a:lnTo>
                  <a:lnTo>
                    <a:pt x="26" y="40"/>
                  </a:lnTo>
                  <a:lnTo>
                    <a:pt x="26" y="26"/>
                  </a:lnTo>
                  <a:lnTo>
                    <a:pt x="14" y="0"/>
                  </a:lnTo>
                  <a:lnTo>
                    <a:pt x="26" y="26"/>
                  </a:lnTo>
                  <a:lnTo>
                    <a:pt x="40" y="52"/>
                  </a:lnTo>
                  <a:lnTo>
                    <a:pt x="52" y="66"/>
                  </a:lnTo>
                  <a:lnTo>
                    <a:pt x="66" y="78"/>
                  </a:lnTo>
                  <a:lnTo>
                    <a:pt x="66" y="66"/>
                  </a:lnTo>
                  <a:lnTo>
                    <a:pt x="66" y="78"/>
                  </a:lnTo>
                  <a:lnTo>
                    <a:pt x="66" y="92"/>
                  </a:lnTo>
                  <a:lnTo>
                    <a:pt x="52" y="104"/>
                  </a:lnTo>
                  <a:lnTo>
                    <a:pt x="40" y="118"/>
                  </a:lnTo>
                  <a:lnTo>
                    <a:pt x="26" y="130"/>
                  </a:lnTo>
                  <a:lnTo>
                    <a:pt x="14" y="130"/>
                  </a:lnTo>
                  <a:lnTo>
                    <a:pt x="0" y="130"/>
                  </a:lnTo>
                  <a:lnTo>
                    <a:pt x="0" y="13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44440" y="2025360"/>
              <a:ext cx="34920" cy="8640"/>
            </a:xfrm>
            <a:custGeom>
              <a:avLst/>
              <a:gdLst/>
              <a:ahLst/>
              <a:rect l="l" t="t" r="r" b="b"/>
              <a:pathLst>
                <a:path w="157" h="53">
                  <a:moveTo>
                    <a:pt x="128" y="0"/>
                  </a:moveTo>
                  <a:lnTo>
                    <a:pt x="103" y="0"/>
                  </a:lnTo>
                  <a:lnTo>
                    <a:pt x="76" y="29"/>
                  </a:lnTo>
                  <a:lnTo>
                    <a:pt x="51" y="29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0"/>
                  </a:lnTo>
                  <a:lnTo>
                    <a:pt x="0" y="29"/>
                  </a:lnTo>
                  <a:lnTo>
                    <a:pt x="25" y="53"/>
                  </a:lnTo>
                  <a:lnTo>
                    <a:pt x="51" y="53"/>
                  </a:lnTo>
                  <a:lnTo>
                    <a:pt x="76" y="53"/>
                  </a:lnTo>
                  <a:lnTo>
                    <a:pt x="103" y="53"/>
                  </a:lnTo>
                  <a:lnTo>
                    <a:pt x="128" y="53"/>
                  </a:lnTo>
                  <a:lnTo>
                    <a:pt x="157" y="29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361720" y="2017080"/>
              <a:ext cx="10800" cy="8280"/>
            </a:xfrm>
            <a:custGeom>
              <a:avLst/>
              <a:gdLst/>
              <a:ahLst/>
              <a:rect l="l" t="t" r="r" b="b"/>
              <a:pathLst>
                <a:path w="52" h="52">
                  <a:moveTo>
                    <a:pt x="52" y="0"/>
                  </a:moveTo>
                  <a:lnTo>
                    <a:pt x="0" y="0"/>
                  </a:lnTo>
                  <a:lnTo>
                    <a:pt x="27" y="29"/>
                  </a:lnTo>
                  <a:lnTo>
                    <a:pt x="52" y="52"/>
                  </a:lnTo>
                  <a:lnTo>
                    <a:pt x="52" y="29"/>
                  </a:lnTo>
                  <a:lnTo>
                    <a:pt x="52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258400" y="2030040"/>
              <a:ext cx="11520" cy="8280"/>
            </a:xfrm>
            <a:custGeom>
              <a:avLst/>
              <a:gdLst/>
              <a:ahLst/>
              <a:rect l="l" t="t" r="r" b="b"/>
              <a:pathLst>
                <a:path w="52" h="51">
                  <a:moveTo>
                    <a:pt x="0" y="0"/>
                  </a:moveTo>
                  <a:lnTo>
                    <a:pt x="0" y="24"/>
                  </a:lnTo>
                  <a:lnTo>
                    <a:pt x="25" y="51"/>
                  </a:lnTo>
                  <a:lnTo>
                    <a:pt x="52" y="24"/>
                  </a:lnTo>
                  <a:lnTo>
                    <a:pt x="25" y="0"/>
                  </a:lnTo>
                  <a:lnTo>
                    <a:pt x="0" y="0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223840" y="1983240"/>
              <a:ext cx="132120" cy="81000"/>
            </a:xfrm>
            <a:custGeom>
              <a:avLst/>
              <a:gdLst/>
              <a:ahLst/>
              <a:rect l="l" t="t" r="r" b="b"/>
              <a:pathLst>
                <a:path w="597" h="493">
                  <a:moveTo>
                    <a:pt x="571" y="442"/>
                  </a:moveTo>
                  <a:lnTo>
                    <a:pt x="519" y="390"/>
                  </a:lnTo>
                  <a:lnTo>
                    <a:pt x="494" y="338"/>
                  </a:lnTo>
                  <a:lnTo>
                    <a:pt x="519" y="311"/>
                  </a:lnTo>
                  <a:lnTo>
                    <a:pt x="519" y="287"/>
                  </a:lnTo>
                  <a:lnTo>
                    <a:pt x="494" y="258"/>
                  </a:lnTo>
                  <a:lnTo>
                    <a:pt x="467" y="258"/>
                  </a:lnTo>
                  <a:lnTo>
                    <a:pt x="467" y="235"/>
                  </a:lnTo>
                  <a:lnTo>
                    <a:pt x="442" y="183"/>
                  </a:lnTo>
                  <a:lnTo>
                    <a:pt x="391" y="155"/>
                  </a:lnTo>
                  <a:lnTo>
                    <a:pt x="362" y="132"/>
                  </a:lnTo>
                  <a:lnTo>
                    <a:pt x="335" y="132"/>
                  </a:lnTo>
                  <a:lnTo>
                    <a:pt x="287" y="103"/>
                  </a:lnTo>
                  <a:lnTo>
                    <a:pt x="258" y="80"/>
                  </a:lnTo>
                  <a:lnTo>
                    <a:pt x="235" y="80"/>
                  </a:lnTo>
                  <a:lnTo>
                    <a:pt x="180" y="103"/>
                  </a:lnTo>
                  <a:lnTo>
                    <a:pt x="155" y="103"/>
                  </a:lnTo>
                  <a:lnTo>
                    <a:pt x="128" y="103"/>
                  </a:lnTo>
                  <a:lnTo>
                    <a:pt x="103" y="28"/>
                  </a:lnTo>
                  <a:lnTo>
                    <a:pt x="80" y="0"/>
                  </a:lnTo>
                  <a:lnTo>
                    <a:pt x="52" y="0"/>
                  </a:lnTo>
                  <a:lnTo>
                    <a:pt x="0" y="28"/>
                  </a:lnTo>
                  <a:lnTo>
                    <a:pt x="52" y="51"/>
                  </a:lnTo>
                  <a:lnTo>
                    <a:pt x="52" y="80"/>
                  </a:lnTo>
                  <a:lnTo>
                    <a:pt x="80" y="80"/>
                  </a:lnTo>
                  <a:lnTo>
                    <a:pt x="103" y="80"/>
                  </a:lnTo>
                  <a:lnTo>
                    <a:pt x="80" y="103"/>
                  </a:lnTo>
                  <a:lnTo>
                    <a:pt x="52" y="132"/>
                  </a:lnTo>
                  <a:lnTo>
                    <a:pt x="80" y="132"/>
                  </a:lnTo>
                  <a:lnTo>
                    <a:pt x="103" y="132"/>
                  </a:lnTo>
                  <a:lnTo>
                    <a:pt x="128" y="132"/>
                  </a:lnTo>
                  <a:lnTo>
                    <a:pt x="180" y="155"/>
                  </a:lnTo>
                  <a:lnTo>
                    <a:pt x="235" y="206"/>
                  </a:lnTo>
                  <a:lnTo>
                    <a:pt x="235" y="235"/>
                  </a:lnTo>
                  <a:lnTo>
                    <a:pt x="235" y="258"/>
                  </a:lnTo>
                  <a:lnTo>
                    <a:pt x="207" y="258"/>
                  </a:lnTo>
                  <a:lnTo>
                    <a:pt x="207" y="287"/>
                  </a:lnTo>
                  <a:lnTo>
                    <a:pt x="235" y="287"/>
                  </a:lnTo>
                  <a:lnTo>
                    <a:pt x="235" y="311"/>
                  </a:lnTo>
                  <a:lnTo>
                    <a:pt x="235" y="338"/>
                  </a:lnTo>
                  <a:lnTo>
                    <a:pt x="258" y="338"/>
                  </a:lnTo>
                  <a:lnTo>
                    <a:pt x="287" y="363"/>
                  </a:lnTo>
                  <a:lnTo>
                    <a:pt x="310" y="390"/>
                  </a:lnTo>
                  <a:lnTo>
                    <a:pt x="335" y="363"/>
                  </a:lnTo>
                  <a:lnTo>
                    <a:pt x="335" y="390"/>
                  </a:lnTo>
                  <a:lnTo>
                    <a:pt x="362" y="390"/>
                  </a:lnTo>
                  <a:lnTo>
                    <a:pt x="362" y="363"/>
                  </a:lnTo>
                  <a:lnTo>
                    <a:pt x="335" y="338"/>
                  </a:lnTo>
                  <a:lnTo>
                    <a:pt x="362" y="338"/>
                  </a:lnTo>
                  <a:lnTo>
                    <a:pt x="391" y="338"/>
                  </a:lnTo>
                  <a:lnTo>
                    <a:pt x="442" y="363"/>
                  </a:lnTo>
                  <a:lnTo>
                    <a:pt x="467" y="390"/>
                  </a:lnTo>
                  <a:lnTo>
                    <a:pt x="494" y="415"/>
                  </a:lnTo>
                  <a:lnTo>
                    <a:pt x="519" y="442"/>
                  </a:lnTo>
                  <a:lnTo>
                    <a:pt x="519" y="466"/>
                  </a:lnTo>
                  <a:lnTo>
                    <a:pt x="571" y="493"/>
                  </a:lnTo>
                  <a:lnTo>
                    <a:pt x="597" y="493"/>
                  </a:lnTo>
                  <a:lnTo>
                    <a:pt x="571" y="466"/>
                  </a:lnTo>
                  <a:lnTo>
                    <a:pt x="597" y="466"/>
                  </a:lnTo>
                  <a:lnTo>
                    <a:pt x="571" y="4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361640" y="1752480"/>
              <a:ext cx="28800" cy="37800"/>
            </a:xfrm>
            <a:custGeom>
              <a:avLst/>
              <a:gdLst/>
              <a:ahLst/>
              <a:rect l="l" t="t" r="r" b="b"/>
              <a:pathLst>
                <a:path w="66" h="116">
                  <a:moveTo>
                    <a:pt x="14" y="0"/>
                  </a:moveTo>
                  <a:lnTo>
                    <a:pt x="14" y="38"/>
                  </a:lnTo>
                  <a:lnTo>
                    <a:pt x="0" y="52"/>
                  </a:lnTo>
                  <a:lnTo>
                    <a:pt x="26" y="116"/>
                  </a:lnTo>
                  <a:lnTo>
                    <a:pt x="66" y="78"/>
                  </a:lnTo>
                  <a:lnTo>
                    <a:pt x="40" y="52"/>
                  </a:lnTo>
                  <a:lnTo>
                    <a:pt x="66" y="26"/>
                  </a:lnTo>
                  <a:lnTo>
                    <a:pt x="52" y="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620480" y="2039040"/>
              <a:ext cx="63360" cy="85320"/>
            </a:xfrm>
            <a:custGeom>
              <a:avLst/>
              <a:gdLst/>
              <a:ahLst/>
              <a:rect l="l" t="t" r="r" b="b"/>
              <a:pathLst>
                <a:path w="144" h="260">
                  <a:moveTo>
                    <a:pt x="26" y="104"/>
                  </a:moveTo>
                  <a:lnTo>
                    <a:pt x="26" y="142"/>
                  </a:lnTo>
                  <a:lnTo>
                    <a:pt x="0" y="194"/>
                  </a:lnTo>
                  <a:lnTo>
                    <a:pt x="0" y="246"/>
                  </a:lnTo>
                  <a:lnTo>
                    <a:pt x="26" y="260"/>
                  </a:lnTo>
                  <a:lnTo>
                    <a:pt x="40" y="246"/>
                  </a:lnTo>
                  <a:lnTo>
                    <a:pt x="66" y="246"/>
                  </a:lnTo>
                  <a:lnTo>
                    <a:pt x="78" y="220"/>
                  </a:lnTo>
                  <a:lnTo>
                    <a:pt x="78" y="208"/>
                  </a:lnTo>
                  <a:lnTo>
                    <a:pt x="118" y="116"/>
                  </a:lnTo>
                  <a:lnTo>
                    <a:pt x="118" y="104"/>
                  </a:lnTo>
                  <a:lnTo>
                    <a:pt x="118" y="64"/>
                  </a:lnTo>
                  <a:lnTo>
                    <a:pt x="130" y="64"/>
                  </a:lnTo>
                  <a:lnTo>
                    <a:pt x="130" y="90"/>
                  </a:lnTo>
                  <a:lnTo>
                    <a:pt x="144" y="52"/>
                  </a:lnTo>
                  <a:lnTo>
                    <a:pt x="130" y="38"/>
                  </a:lnTo>
                  <a:lnTo>
                    <a:pt x="118" y="12"/>
                  </a:lnTo>
                  <a:lnTo>
                    <a:pt x="118" y="0"/>
                  </a:lnTo>
                  <a:lnTo>
                    <a:pt x="78" y="64"/>
                  </a:lnTo>
                  <a:lnTo>
                    <a:pt x="66" y="64"/>
                  </a:lnTo>
                  <a:lnTo>
                    <a:pt x="66" y="78"/>
                  </a:lnTo>
                  <a:lnTo>
                    <a:pt x="52" y="78"/>
                  </a:lnTo>
                  <a:lnTo>
                    <a:pt x="26" y="104"/>
                  </a:lnTo>
                  <a:lnTo>
                    <a:pt x="26" y="10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161120" y="1752480"/>
              <a:ext cx="528120" cy="435600"/>
            </a:xfrm>
            <a:custGeom>
              <a:avLst/>
              <a:gdLst/>
              <a:ahLst/>
              <a:rect l="l" t="t" r="r" b="b"/>
              <a:pathLst>
                <a:path w="1196" h="1326">
                  <a:moveTo>
                    <a:pt x="864" y="144"/>
                  </a:moveTo>
                  <a:lnTo>
                    <a:pt x="852" y="108"/>
                  </a:lnTo>
                  <a:lnTo>
                    <a:pt x="806" y="90"/>
                  </a:lnTo>
                  <a:lnTo>
                    <a:pt x="780" y="116"/>
                  </a:lnTo>
                  <a:lnTo>
                    <a:pt x="714" y="104"/>
                  </a:lnTo>
                  <a:lnTo>
                    <a:pt x="676" y="78"/>
                  </a:lnTo>
                  <a:lnTo>
                    <a:pt x="650" y="78"/>
                  </a:lnTo>
                  <a:lnTo>
                    <a:pt x="636" y="116"/>
                  </a:lnTo>
                  <a:lnTo>
                    <a:pt x="624" y="130"/>
                  </a:lnTo>
                  <a:lnTo>
                    <a:pt x="584" y="104"/>
                  </a:lnTo>
                  <a:lnTo>
                    <a:pt x="572" y="78"/>
                  </a:lnTo>
                  <a:lnTo>
                    <a:pt x="520" y="78"/>
                  </a:lnTo>
                  <a:lnTo>
                    <a:pt x="480" y="130"/>
                  </a:lnTo>
                  <a:lnTo>
                    <a:pt x="480" y="116"/>
                  </a:lnTo>
                  <a:lnTo>
                    <a:pt x="454" y="52"/>
                  </a:lnTo>
                  <a:lnTo>
                    <a:pt x="468" y="38"/>
                  </a:lnTo>
                  <a:lnTo>
                    <a:pt x="468" y="0"/>
                  </a:lnTo>
                  <a:lnTo>
                    <a:pt x="428" y="12"/>
                  </a:lnTo>
                  <a:lnTo>
                    <a:pt x="390" y="0"/>
                  </a:lnTo>
                  <a:lnTo>
                    <a:pt x="324" y="38"/>
                  </a:lnTo>
                  <a:lnTo>
                    <a:pt x="298" y="38"/>
                  </a:lnTo>
                  <a:lnTo>
                    <a:pt x="260" y="26"/>
                  </a:lnTo>
                  <a:lnTo>
                    <a:pt x="246" y="52"/>
                  </a:lnTo>
                  <a:lnTo>
                    <a:pt x="208" y="78"/>
                  </a:lnTo>
                  <a:lnTo>
                    <a:pt x="182" y="116"/>
                  </a:lnTo>
                  <a:lnTo>
                    <a:pt x="182" y="142"/>
                  </a:lnTo>
                  <a:lnTo>
                    <a:pt x="104" y="194"/>
                  </a:lnTo>
                  <a:lnTo>
                    <a:pt x="78" y="208"/>
                  </a:lnTo>
                  <a:lnTo>
                    <a:pt x="12" y="286"/>
                  </a:lnTo>
                  <a:lnTo>
                    <a:pt x="26" y="300"/>
                  </a:lnTo>
                  <a:lnTo>
                    <a:pt x="26" y="312"/>
                  </a:lnTo>
                  <a:lnTo>
                    <a:pt x="26" y="324"/>
                  </a:lnTo>
                  <a:lnTo>
                    <a:pt x="26" y="378"/>
                  </a:lnTo>
                  <a:lnTo>
                    <a:pt x="12" y="390"/>
                  </a:lnTo>
                  <a:lnTo>
                    <a:pt x="0" y="416"/>
                  </a:lnTo>
                  <a:lnTo>
                    <a:pt x="0" y="430"/>
                  </a:lnTo>
                  <a:lnTo>
                    <a:pt x="0" y="456"/>
                  </a:lnTo>
                  <a:lnTo>
                    <a:pt x="0" y="468"/>
                  </a:lnTo>
                  <a:lnTo>
                    <a:pt x="26" y="494"/>
                  </a:lnTo>
                  <a:lnTo>
                    <a:pt x="52" y="508"/>
                  </a:lnTo>
                  <a:lnTo>
                    <a:pt x="52" y="520"/>
                  </a:lnTo>
                  <a:lnTo>
                    <a:pt x="64" y="546"/>
                  </a:lnTo>
                  <a:lnTo>
                    <a:pt x="78" y="560"/>
                  </a:lnTo>
                  <a:lnTo>
                    <a:pt x="156" y="598"/>
                  </a:lnTo>
                  <a:lnTo>
                    <a:pt x="208" y="598"/>
                  </a:lnTo>
                  <a:lnTo>
                    <a:pt x="246" y="598"/>
                  </a:lnTo>
                  <a:lnTo>
                    <a:pt x="286" y="586"/>
                  </a:lnTo>
                  <a:lnTo>
                    <a:pt x="312" y="572"/>
                  </a:lnTo>
                  <a:lnTo>
                    <a:pt x="338" y="560"/>
                  </a:lnTo>
                  <a:lnTo>
                    <a:pt x="376" y="572"/>
                  </a:lnTo>
                  <a:lnTo>
                    <a:pt x="390" y="598"/>
                  </a:lnTo>
                  <a:lnTo>
                    <a:pt x="416" y="612"/>
                  </a:lnTo>
                  <a:lnTo>
                    <a:pt x="442" y="586"/>
                  </a:lnTo>
                  <a:lnTo>
                    <a:pt x="468" y="598"/>
                  </a:lnTo>
                  <a:lnTo>
                    <a:pt x="468" y="638"/>
                  </a:lnTo>
                  <a:lnTo>
                    <a:pt x="454" y="650"/>
                  </a:lnTo>
                  <a:lnTo>
                    <a:pt x="454" y="690"/>
                  </a:lnTo>
                  <a:lnTo>
                    <a:pt x="468" y="716"/>
                  </a:lnTo>
                  <a:lnTo>
                    <a:pt x="494" y="742"/>
                  </a:lnTo>
                  <a:lnTo>
                    <a:pt x="506" y="768"/>
                  </a:lnTo>
                  <a:lnTo>
                    <a:pt x="520" y="780"/>
                  </a:lnTo>
                  <a:lnTo>
                    <a:pt x="532" y="820"/>
                  </a:lnTo>
                  <a:lnTo>
                    <a:pt x="520" y="846"/>
                  </a:lnTo>
                  <a:lnTo>
                    <a:pt x="532" y="858"/>
                  </a:lnTo>
                  <a:lnTo>
                    <a:pt x="546" y="872"/>
                  </a:lnTo>
                  <a:lnTo>
                    <a:pt x="532" y="898"/>
                  </a:lnTo>
                  <a:lnTo>
                    <a:pt x="520" y="924"/>
                  </a:lnTo>
                  <a:lnTo>
                    <a:pt x="506" y="962"/>
                  </a:lnTo>
                  <a:lnTo>
                    <a:pt x="506" y="1002"/>
                  </a:lnTo>
                  <a:lnTo>
                    <a:pt x="532" y="1066"/>
                  </a:lnTo>
                  <a:lnTo>
                    <a:pt x="558" y="1080"/>
                  </a:lnTo>
                  <a:lnTo>
                    <a:pt x="572" y="1170"/>
                  </a:lnTo>
                  <a:lnTo>
                    <a:pt x="598" y="1210"/>
                  </a:lnTo>
                  <a:lnTo>
                    <a:pt x="600" y="1204"/>
                  </a:lnTo>
                  <a:lnTo>
                    <a:pt x="624" y="1262"/>
                  </a:lnTo>
                  <a:lnTo>
                    <a:pt x="624" y="1288"/>
                  </a:lnTo>
                  <a:lnTo>
                    <a:pt x="636" y="1326"/>
                  </a:lnTo>
                  <a:lnTo>
                    <a:pt x="650" y="1326"/>
                  </a:lnTo>
                  <a:lnTo>
                    <a:pt x="676" y="1314"/>
                  </a:lnTo>
                  <a:lnTo>
                    <a:pt x="714" y="1314"/>
                  </a:lnTo>
                  <a:lnTo>
                    <a:pt x="754" y="1288"/>
                  </a:lnTo>
                  <a:lnTo>
                    <a:pt x="806" y="1262"/>
                  </a:lnTo>
                  <a:lnTo>
                    <a:pt x="858" y="1184"/>
                  </a:lnTo>
                  <a:lnTo>
                    <a:pt x="858" y="1170"/>
                  </a:lnTo>
                  <a:lnTo>
                    <a:pt x="844" y="1158"/>
                  </a:lnTo>
                  <a:lnTo>
                    <a:pt x="870" y="1170"/>
                  </a:lnTo>
                  <a:lnTo>
                    <a:pt x="870" y="1132"/>
                  </a:lnTo>
                  <a:lnTo>
                    <a:pt x="910" y="1106"/>
                  </a:lnTo>
                  <a:lnTo>
                    <a:pt x="910" y="1054"/>
                  </a:lnTo>
                  <a:lnTo>
                    <a:pt x="896" y="1040"/>
                  </a:lnTo>
                  <a:lnTo>
                    <a:pt x="910" y="1028"/>
                  </a:lnTo>
                  <a:lnTo>
                    <a:pt x="924" y="1014"/>
                  </a:lnTo>
                  <a:lnTo>
                    <a:pt x="936" y="1002"/>
                  </a:lnTo>
                  <a:lnTo>
                    <a:pt x="1002" y="950"/>
                  </a:lnTo>
                  <a:lnTo>
                    <a:pt x="1014" y="858"/>
                  </a:lnTo>
                  <a:lnTo>
                    <a:pt x="1002" y="846"/>
                  </a:lnTo>
                  <a:lnTo>
                    <a:pt x="1002" y="780"/>
                  </a:lnTo>
                  <a:lnTo>
                    <a:pt x="988" y="780"/>
                  </a:lnTo>
                  <a:lnTo>
                    <a:pt x="988" y="754"/>
                  </a:lnTo>
                  <a:lnTo>
                    <a:pt x="1026" y="690"/>
                  </a:lnTo>
                  <a:lnTo>
                    <a:pt x="1132" y="586"/>
                  </a:lnTo>
                  <a:lnTo>
                    <a:pt x="1196" y="468"/>
                  </a:lnTo>
                  <a:lnTo>
                    <a:pt x="1184" y="442"/>
                  </a:lnTo>
                  <a:lnTo>
                    <a:pt x="1158" y="456"/>
                  </a:lnTo>
                  <a:lnTo>
                    <a:pt x="1132" y="468"/>
                  </a:lnTo>
                  <a:lnTo>
                    <a:pt x="1092" y="468"/>
                  </a:lnTo>
                  <a:lnTo>
                    <a:pt x="1054" y="468"/>
                  </a:lnTo>
                  <a:lnTo>
                    <a:pt x="1054" y="456"/>
                  </a:lnTo>
                  <a:lnTo>
                    <a:pt x="1040" y="430"/>
                  </a:lnTo>
                  <a:lnTo>
                    <a:pt x="976" y="390"/>
                  </a:lnTo>
                  <a:lnTo>
                    <a:pt x="962" y="338"/>
                  </a:lnTo>
                  <a:lnTo>
                    <a:pt x="936" y="324"/>
                  </a:lnTo>
                  <a:lnTo>
                    <a:pt x="936" y="286"/>
                  </a:lnTo>
                  <a:lnTo>
                    <a:pt x="910" y="260"/>
                  </a:lnTo>
                  <a:lnTo>
                    <a:pt x="844" y="156"/>
                  </a:lnTo>
                  <a:lnTo>
                    <a:pt x="832" y="130"/>
                  </a:lnTo>
                  <a:lnTo>
                    <a:pt x="844" y="142"/>
                  </a:lnTo>
                  <a:lnTo>
                    <a:pt x="870" y="168"/>
                  </a:lnTo>
                  <a:lnTo>
                    <a:pt x="864" y="144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545240" y="1778040"/>
              <a:ext cx="4320" cy="5760"/>
            </a:xfrm>
            <a:custGeom>
              <a:avLst/>
              <a:gdLst/>
              <a:ahLst/>
              <a:rect l="l" t="t" r="r" b="b"/>
              <a:pathLst>
                <a:path w="10" h="18">
                  <a:moveTo>
                    <a:pt x="0" y="0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10" y="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545240" y="1781280"/>
              <a:ext cx="6120" cy="13680"/>
            </a:xfrm>
            <a:custGeom>
              <a:avLst/>
              <a:gdLst/>
              <a:ahLst/>
              <a:rect l="l" t="t" r="r" b="b"/>
              <a:pathLst>
                <a:path w="14" h="42">
                  <a:moveTo>
                    <a:pt x="6" y="0"/>
                  </a:moveTo>
                  <a:lnTo>
                    <a:pt x="14" y="16"/>
                  </a:lnTo>
                  <a:lnTo>
                    <a:pt x="0" y="28"/>
                  </a:lnTo>
                  <a:lnTo>
                    <a:pt x="0" y="42"/>
                  </a:lnTo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258400" y="2239560"/>
              <a:ext cx="28800" cy="25560"/>
            </a:xfrm>
            <a:custGeom>
              <a:avLst/>
              <a:gdLst/>
              <a:ahLst/>
              <a:rect l="l" t="t" r="r" b="b"/>
              <a:pathLst>
                <a:path w="66" h="78">
                  <a:moveTo>
                    <a:pt x="52" y="0"/>
                  </a:moveTo>
                  <a:lnTo>
                    <a:pt x="26" y="0"/>
                  </a:lnTo>
                  <a:lnTo>
                    <a:pt x="0" y="0"/>
                  </a:lnTo>
                  <a:lnTo>
                    <a:pt x="12" y="26"/>
                  </a:lnTo>
                  <a:lnTo>
                    <a:pt x="12" y="52"/>
                  </a:lnTo>
                  <a:lnTo>
                    <a:pt x="12" y="66"/>
                  </a:lnTo>
                  <a:lnTo>
                    <a:pt x="40" y="78"/>
                  </a:lnTo>
                  <a:lnTo>
                    <a:pt x="40" y="66"/>
                  </a:lnTo>
                  <a:lnTo>
                    <a:pt x="52" y="52"/>
                  </a:lnTo>
                  <a:lnTo>
                    <a:pt x="66" y="40"/>
                  </a:lnTo>
                  <a:lnTo>
                    <a:pt x="66" y="26"/>
                  </a:lnTo>
                  <a:lnTo>
                    <a:pt x="66" y="14"/>
                  </a:lnTo>
                  <a:lnTo>
                    <a:pt x="52" y="14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068320" y="2043000"/>
              <a:ext cx="276480" cy="183960"/>
            </a:xfrm>
            <a:custGeom>
              <a:avLst/>
              <a:gdLst/>
              <a:ahLst/>
              <a:rect l="l" t="t" r="r" b="b"/>
              <a:pathLst>
                <a:path w="626" h="560">
                  <a:moveTo>
                    <a:pt x="612" y="234"/>
                  </a:moveTo>
                  <a:lnTo>
                    <a:pt x="586" y="208"/>
                  </a:lnTo>
                  <a:lnTo>
                    <a:pt x="574" y="182"/>
                  </a:lnTo>
                  <a:lnTo>
                    <a:pt x="560" y="170"/>
                  </a:lnTo>
                  <a:lnTo>
                    <a:pt x="548" y="156"/>
                  </a:lnTo>
                  <a:lnTo>
                    <a:pt x="548" y="130"/>
                  </a:lnTo>
                  <a:lnTo>
                    <a:pt x="548" y="104"/>
                  </a:lnTo>
                  <a:lnTo>
                    <a:pt x="534" y="92"/>
                  </a:lnTo>
                  <a:lnTo>
                    <a:pt x="520" y="66"/>
                  </a:lnTo>
                  <a:lnTo>
                    <a:pt x="520" y="40"/>
                  </a:lnTo>
                  <a:lnTo>
                    <a:pt x="508" y="52"/>
                  </a:lnTo>
                  <a:lnTo>
                    <a:pt x="508" y="78"/>
                  </a:lnTo>
                  <a:lnTo>
                    <a:pt x="496" y="118"/>
                  </a:lnTo>
                  <a:lnTo>
                    <a:pt x="482" y="130"/>
                  </a:lnTo>
                  <a:lnTo>
                    <a:pt x="470" y="130"/>
                  </a:lnTo>
                  <a:lnTo>
                    <a:pt x="442" y="104"/>
                  </a:lnTo>
                  <a:lnTo>
                    <a:pt x="430" y="92"/>
                  </a:lnTo>
                  <a:lnTo>
                    <a:pt x="416" y="78"/>
                  </a:lnTo>
                  <a:lnTo>
                    <a:pt x="404" y="66"/>
                  </a:lnTo>
                  <a:lnTo>
                    <a:pt x="416" y="52"/>
                  </a:lnTo>
                  <a:lnTo>
                    <a:pt x="430" y="40"/>
                  </a:lnTo>
                  <a:lnTo>
                    <a:pt x="430" y="26"/>
                  </a:lnTo>
                  <a:lnTo>
                    <a:pt x="416" y="26"/>
                  </a:lnTo>
                  <a:lnTo>
                    <a:pt x="378" y="14"/>
                  </a:lnTo>
                  <a:lnTo>
                    <a:pt x="364" y="0"/>
                  </a:lnTo>
                  <a:lnTo>
                    <a:pt x="352" y="26"/>
                  </a:lnTo>
                  <a:lnTo>
                    <a:pt x="338" y="14"/>
                  </a:lnTo>
                  <a:lnTo>
                    <a:pt x="314" y="26"/>
                  </a:lnTo>
                  <a:lnTo>
                    <a:pt x="314" y="52"/>
                  </a:lnTo>
                  <a:lnTo>
                    <a:pt x="300" y="52"/>
                  </a:lnTo>
                  <a:lnTo>
                    <a:pt x="274" y="52"/>
                  </a:lnTo>
                  <a:lnTo>
                    <a:pt x="260" y="52"/>
                  </a:lnTo>
                  <a:lnTo>
                    <a:pt x="260" y="40"/>
                  </a:lnTo>
                  <a:lnTo>
                    <a:pt x="222" y="52"/>
                  </a:lnTo>
                  <a:lnTo>
                    <a:pt x="208" y="66"/>
                  </a:lnTo>
                  <a:lnTo>
                    <a:pt x="182" y="66"/>
                  </a:lnTo>
                  <a:lnTo>
                    <a:pt x="170" y="78"/>
                  </a:lnTo>
                  <a:lnTo>
                    <a:pt x="170" y="92"/>
                  </a:lnTo>
                  <a:lnTo>
                    <a:pt x="144" y="118"/>
                  </a:lnTo>
                  <a:lnTo>
                    <a:pt x="130" y="118"/>
                  </a:lnTo>
                  <a:lnTo>
                    <a:pt x="130" y="130"/>
                  </a:lnTo>
                  <a:lnTo>
                    <a:pt x="66" y="130"/>
                  </a:lnTo>
                  <a:lnTo>
                    <a:pt x="40" y="130"/>
                  </a:lnTo>
                  <a:lnTo>
                    <a:pt x="26" y="144"/>
                  </a:lnTo>
                  <a:lnTo>
                    <a:pt x="14" y="182"/>
                  </a:lnTo>
                  <a:lnTo>
                    <a:pt x="26" y="222"/>
                  </a:lnTo>
                  <a:lnTo>
                    <a:pt x="0" y="208"/>
                  </a:lnTo>
                  <a:lnTo>
                    <a:pt x="0" y="248"/>
                  </a:lnTo>
                  <a:lnTo>
                    <a:pt x="14" y="326"/>
                  </a:lnTo>
                  <a:lnTo>
                    <a:pt x="14" y="338"/>
                  </a:lnTo>
                  <a:lnTo>
                    <a:pt x="0" y="378"/>
                  </a:lnTo>
                  <a:lnTo>
                    <a:pt x="14" y="390"/>
                  </a:lnTo>
                  <a:lnTo>
                    <a:pt x="26" y="390"/>
                  </a:lnTo>
                  <a:lnTo>
                    <a:pt x="26" y="404"/>
                  </a:lnTo>
                  <a:lnTo>
                    <a:pt x="52" y="404"/>
                  </a:lnTo>
                  <a:lnTo>
                    <a:pt x="78" y="378"/>
                  </a:lnTo>
                  <a:lnTo>
                    <a:pt x="104" y="390"/>
                  </a:lnTo>
                  <a:lnTo>
                    <a:pt x="118" y="390"/>
                  </a:lnTo>
                  <a:lnTo>
                    <a:pt x="144" y="390"/>
                  </a:lnTo>
                  <a:lnTo>
                    <a:pt x="156" y="364"/>
                  </a:lnTo>
                  <a:lnTo>
                    <a:pt x="182" y="364"/>
                  </a:lnTo>
                  <a:lnTo>
                    <a:pt x="208" y="364"/>
                  </a:lnTo>
                  <a:lnTo>
                    <a:pt x="260" y="364"/>
                  </a:lnTo>
                  <a:lnTo>
                    <a:pt x="286" y="390"/>
                  </a:lnTo>
                  <a:lnTo>
                    <a:pt x="314" y="416"/>
                  </a:lnTo>
                  <a:lnTo>
                    <a:pt x="314" y="430"/>
                  </a:lnTo>
                  <a:lnTo>
                    <a:pt x="326" y="430"/>
                  </a:lnTo>
                  <a:lnTo>
                    <a:pt x="352" y="416"/>
                  </a:lnTo>
                  <a:lnTo>
                    <a:pt x="378" y="390"/>
                  </a:lnTo>
                  <a:lnTo>
                    <a:pt x="364" y="416"/>
                  </a:lnTo>
                  <a:lnTo>
                    <a:pt x="352" y="442"/>
                  </a:lnTo>
                  <a:lnTo>
                    <a:pt x="338" y="456"/>
                  </a:lnTo>
                  <a:lnTo>
                    <a:pt x="364" y="442"/>
                  </a:lnTo>
                  <a:lnTo>
                    <a:pt x="392" y="430"/>
                  </a:lnTo>
                  <a:lnTo>
                    <a:pt x="364" y="456"/>
                  </a:lnTo>
                  <a:lnTo>
                    <a:pt x="352" y="468"/>
                  </a:lnTo>
                  <a:lnTo>
                    <a:pt x="378" y="456"/>
                  </a:lnTo>
                  <a:lnTo>
                    <a:pt x="392" y="456"/>
                  </a:lnTo>
                  <a:lnTo>
                    <a:pt x="378" y="482"/>
                  </a:lnTo>
                  <a:lnTo>
                    <a:pt x="378" y="494"/>
                  </a:lnTo>
                  <a:lnTo>
                    <a:pt x="378" y="508"/>
                  </a:lnTo>
                  <a:lnTo>
                    <a:pt x="404" y="534"/>
                  </a:lnTo>
                  <a:lnTo>
                    <a:pt x="416" y="546"/>
                  </a:lnTo>
                  <a:lnTo>
                    <a:pt x="442" y="546"/>
                  </a:lnTo>
                  <a:lnTo>
                    <a:pt x="470" y="534"/>
                  </a:lnTo>
                  <a:lnTo>
                    <a:pt x="456" y="546"/>
                  </a:lnTo>
                  <a:lnTo>
                    <a:pt x="470" y="560"/>
                  </a:lnTo>
                  <a:lnTo>
                    <a:pt x="508" y="546"/>
                  </a:lnTo>
                  <a:lnTo>
                    <a:pt x="520" y="546"/>
                  </a:lnTo>
                  <a:lnTo>
                    <a:pt x="534" y="546"/>
                  </a:lnTo>
                  <a:lnTo>
                    <a:pt x="560" y="508"/>
                  </a:lnTo>
                  <a:lnTo>
                    <a:pt x="574" y="482"/>
                  </a:lnTo>
                  <a:lnTo>
                    <a:pt x="586" y="468"/>
                  </a:lnTo>
                  <a:lnTo>
                    <a:pt x="612" y="430"/>
                  </a:lnTo>
                  <a:lnTo>
                    <a:pt x="626" y="390"/>
                  </a:lnTo>
                  <a:lnTo>
                    <a:pt x="626" y="338"/>
                  </a:lnTo>
                  <a:lnTo>
                    <a:pt x="626" y="274"/>
                  </a:lnTo>
                  <a:lnTo>
                    <a:pt x="612" y="234"/>
                  </a:lnTo>
                  <a:close/>
                </a:path>
              </a:pathLst>
            </a:cu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2" name="" descr=""/>
          <p:cNvPicPr/>
          <p:nvPr/>
        </p:nvPicPr>
        <p:blipFill>
          <a:blip r:embed="rId3"/>
          <a:stretch/>
        </p:blipFill>
        <p:spPr>
          <a:xfrm>
            <a:off x="7315200" y="5257800"/>
            <a:ext cx="914400" cy="1143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221E-1B68-44BF-B58A-317140CE11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620120" cy="9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GDF Procurement Unit for MDR-T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1038960" y="1447920"/>
            <a:ext cx="7572600" cy="4800600"/>
            <a:chOff x="1038960" y="1447920"/>
            <a:chExt cx="7572600" cy="4800600"/>
          </a:xfrm>
        </p:grpSpPr>
        <p:cxnSp>
          <p:nvCxnSpPr>
            <p:cNvPr id="155" name="_s67589"/>
            <p:cNvCxnSpPr>
              <a:stCxn id="156" idx="0"/>
              <a:endCxn id="157" idx="2"/>
            </p:cNvCxnSpPr>
            <p:nvPr/>
          </p:nvCxnSpPr>
          <p:spPr>
            <a:xfrm flipH="1" flipV="1" rot="5400000">
              <a:off x="1218960" y="2669400"/>
              <a:ext cx="2591640" cy="1181880"/>
            </a:xfrm>
            <a:prstGeom prst="bentConnector3">
              <a:avLst>
                <a:gd name="adj1" fmla="val 48944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58" name="_s67590"/>
            <p:cNvCxnSpPr>
              <a:stCxn id="159" idx="0"/>
              <a:endCxn id="160" idx="2"/>
            </p:cNvCxnSpPr>
            <p:nvPr/>
          </p:nvCxnSpPr>
          <p:spPr>
            <a:xfrm flipV="1" rot="16200000">
              <a:off x="5646960" y="2406600"/>
              <a:ext cx="1334160" cy="2844360"/>
            </a:xfrm>
            <a:prstGeom prst="bentConnector3">
              <a:avLst>
                <a:gd name="adj1" fmla="val 855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1" name="_s67591"/>
            <p:cNvCxnSpPr>
              <a:stCxn id="162" idx="0"/>
              <a:endCxn id="160" idx="2"/>
            </p:cNvCxnSpPr>
            <p:nvPr/>
          </p:nvCxnSpPr>
          <p:spPr>
            <a:xfrm flipH="1" flipV="1" rot="5400000">
              <a:off x="2204280" y="2873160"/>
              <a:ext cx="2401200" cy="297864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3" name="_s67592"/>
            <p:cNvCxnSpPr>
              <a:stCxn id="164" idx="0"/>
              <a:endCxn id="160" idx="2"/>
            </p:cNvCxnSpPr>
            <p:nvPr/>
          </p:nvCxnSpPr>
          <p:spPr>
            <a:xfrm flipV="1" rot="16200000">
              <a:off x="5090760" y="2962800"/>
              <a:ext cx="2401200" cy="2799000"/>
            </a:xfrm>
            <a:prstGeom prst="bentConnector3">
              <a:avLst>
                <a:gd name="adj1" fmla="val 47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5" name="_s67593"/>
            <p:cNvCxnSpPr>
              <a:stCxn id="166" idx="0"/>
              <a:endCxn id="160" idx="2"/>
            </p:cNvCxnSpPr>
            <p:nvPr/>
          </p:nvCxnSpPr>
          <p:spPr>
            <a:xfrm flipV="1" rot="16200000">
              <a:off x="4167720" y="3884400"/>
              <a:ext cx="2401200" cy="95544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7" name="_s67594"/>
            <p:cNvCxnSpPr>
              <a:stCxn id="168" idx="0"/>
              <a:endCxn id="160" idx="2"/>
            </p:cNvCxnSpPr>
            <p:nvPr/>
          </p:nvCxnSpPr>
          <p:spPr>
            <a:xfrm flipH="1" flipV="1" rot="5400000">
              <a:off x="3160080" y="3832200"/>
              <a:ext cx="2401200" cy="1060560"/>
            </a:xfrm>
            <a:prstGeom prst="bentConnector3">
              <a:avLst>
                <a:gd name="adj1" fmla="val 445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69" name="_s67597"/>
            <p:cNvCxnSpPr>
              <a:stCxn id="170" idx="1"/>
              <a:endCxn id="160" idx="2"/>
            </p:cNvCxnSpPr>
            <p:nvPr/>
          </p:nvCxnSpPr>
          <p:spPr>
            <a:xfrm rot="10800000">
              <a:off x="4890240" y="3161520"/>
              <a:ext cx="2037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1" name="_s67598"/>
            <p:cNvCxnSpPr>
              <a:stCxn id="172" idx="3"/>
              <a:endCxn id="160" idx="2"/>
            </p:cNvCxnSpPr>
            <p:nvPr/>
          </p:nvCxnSpPr>
          <p:spPr>
            <a:xfrm flipV="1">
              <a:off x="4527000" y="3161520"/>
              <a:ext cx="363960" cy="6865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73" name="_s67599"/>
            <p:cNvCxnSpPr>
              <a:stCxn id="160" idx="0"/>
              <a:endCxn id="157" idx="2"/>
            </p:cNvCxnSpPr>
            <p:nvPr/>
          </p:nvCxnSpPr>
          <p:spPr>
            <a:xfrm flipV="1" rot="16200000">
              <a:off x="3742560" y="1326960"/>
              <a:ext cx="511920" cy="1787400"/>
            </a:xfrm>
            <a:prstGeom prst="bentConnector3">
              <a:avLst>
                <a:gd name="adj1" fmla="val 22308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57" name="_s67600"/>
            <p:cNvSpPr/>
            <p:nvPr/>
          </p:nvSpPr>
          <p:spPr>
            <a:xfrm>
              <a:off x="2253960" y="1447920"/>
              <a:ext cx="1699560" cy="51732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Manag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_s67601"/>
            <p:cNvSpPr/>
            <p:nvPr/>
          </p:nvSpPr>
          <p:spPr>
            <a:xfrm>
              <a:off x="3961800" y="2476440"/>
              <a:ext cx="1859760" cy="685800"/>
            </a:xfrm>
            <a:prstGeom prst="roundRect">
              <a:avLst>
                <a:gd name="adj" fmla="val 16667"/>
              </a:avLst>
            </a:prstGeom>
            <a:solidFill>
              <a:srgbClr val="ffffff"/>
            </a:solidFill>
            <a:ln w="1908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108000" bIns="0" anchor="ctr">
              <a:noAutofit/>
            </a:bodyPr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GDF Procure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 rtl="1">
                <a:lnSpc>
                  <a:spcPct val="80000"/>
                </a:lnSpc>
                <a:spcBef>
                  <a:spcPts val="524"/>
                </a:spcBef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Team Manager</a:t>
              </a: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_s67602"/>
            <p:cNvSpPr/>
            <p:nvPr/>
          </p:nvSpPr>
          <p:spPr>
            <a:xfrm>
              <a:off x="2829240" y="3505320"/>
              <a:ext cx="169812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istrativ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ssistan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_s67603"/>
            <p:cNvSpPr/>
            <p:nvPr/>
          </p:nvSpPr>
          <p:spPr>
            <a:xfrm>
              <a:off x="5094360" y="3505320"/>
              <a:ext cx="169812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Admin. Assista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duct Databas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ana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_s67606"/>
            <p:cNvSpPr/>
            <p:nvPr/>
          </p:nvSpPr>
          <p:spPr>
            <a:xfrm>
              <a:off x="2822400" y="5562720"/>
              <a:ext cx="2016360" cy="68580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80"/>
                  </a:solidFill>
                  <a:latin typeface="Arial"/>
                  <a:ea typeface="宋体"/>
                </a:rPr>
                <a:t>SL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_s67607"/>
            <p:cNvSpPr/>
            <p:nvPr/>
          </p:nvSpPr>
          <p:spPr>
            <a:xfrm>
              <a:off x="4952160" y="5562720"/>
              <a:ext cx="178848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70000"/>
                </a:lnSpc>
                <a:spcBef>
                  <a:spcPts val="224"/>
                </a:spcBef>
                <a:spcAft>
                  <a:spcPts val="2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UNITAID Order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70000"/>
                </a:lnSpc>
                <a:spcBef>
                  <a:spcPts val="201"/>
                </a:spcBef>
                <a:spcAft>
                  <a:spcPts val="2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aediatrics</a:t>
              </a:r>
              <a:r>
                <a:rPr b="1" lang="en-US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, </a:t>
              </a:r>
              <a:r>
                <a:rPr b="1" lang="en-GB" sz="1100" spc="-1" strike="noStrike">
                  <a:solidFill>
                    <a:srgbClr val="000080"/>
                  </a:solidFill>
                  <a:latin typeface="Arial"/>
                  <a:ea typeface="宋体"/>
                </a:rPr>
                <a:t>Diagnostic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_s67608"/>
            <p:cNvSpPr/>
            <p:nvPr/>
          </p:nvSpPr>
          <p:spPr>
            <a:xfrm>
              <a:off x="6789240" y="5562720"/>
              <a:ext cx="180288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spcBef>
                  <a:spcPts val="300"/>
                </a:spcBef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Q, Horizontal 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 </a:t>
              </a: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Backup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_s67609"/>
            <p:cNvSpPr/>
            <p:nvPr/>
          </p:nvSpPr>
          <p:spPr>
            <a:xfrm>
              <a:off x="1038960" y="5562720"/>
              <a:ext cx="175320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Procurement Offic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66"/>
                  </a:solidFill>
                  <a:latin typeface="Arial"/>
                  <a:ea typeface="Arial"/>
                </a:rPr>
                <a:t>SRS and SR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_s67610"/>
            <p:cNvSpPr/>
            <p:nvPr/>
          </p:nvSpPr>
          <p:spPr>
            <a:xfrm>
              <a:off x="6856920" y="4495680"/>
              <a:ext cx="1754640" cy="685800"/>
            </a:xfrm>
            <a:prstGeom prst="roundRect">
              <a:avLst>
                <a:gd name="adj" fmla="val 16667"/>
              </a:avLst>
            </a:prstGeom>
            <a:solidFill>
              <a:srgbClr val="00ccff"/>
            </a:solidFill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Procurement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MDR-TB Diagnosti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宋体"/>
                </a:rPr>
                <a:t>(GLI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_s67611"/>
            <p:cNvSpPr/>
            <p:nvPr/>
          </p:nvSpPr>
          <p:spPr>
            <a:xfrm>
              <a:off x="1073160" y="4556160"/>
              <a:ext cx="1699560" cy="685800"/>
            </a:xfrm>
            <a:prstGeom prst="roundRect">
              <a:avLst>
                <a:gd name="adj" fmla="val 16667"/>
              </a:avLst>
            </a:prstGeom>
            <a:noFill/>
            <a:ln w="1908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marL="533520" indent="-53352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000080"/>
                  </a:solidFill>
                  <a:latin typeface="Arial"/>
                  <a:ea typeface="Arial"/>
                </a:rPr>
                <a:t>QA Technical Offic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037400" y="1523880"/>
              <a:ext cx="2210400" cy="0"/>
            </a:xfrm>
            <a:prstGeom prst="line">
              <a:avLst/>
            </a:prstGeom>
            <a:ln w="19080">
              <a:solidFill>
                <a:srgbClr val="ff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" name=""/>
          <p:cNvSpPr/>
          <p:nvPr/>
        </p:nvSpPr>
        <p:spPr>
          <a:xfrm>
            <a:off x="5181480" y="6400800"/>
            <a:ext cx="318132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cc0000"/>
                </a:solidFill>
                <a:latin typeface="Trebuchet MS"/>
                <a:ea typeface="Arial"/>
              </a:rPr>
              <a:t>------</a:t>
            </a:r>
            <a:r>
              <a:rPr b="0" lang="en-GB" sz="1800" spc="-1" strike="noStrike">
                <a:solidFill>
                  <a:srgbClr val="000000"/>
                </a:solidFill>
                <a:latin typeface="Trebuchet MS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Trebuchet MS"/>
                <a:ea typeface="Arial"/>
              </a:rPr>
              <a:t>= 50% or less input staff ti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1152360" cy="1120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7" name=""/>
          <p:cNvGraphicFramePr/>
          <p:nvPr/>
        </p:nvGraphicFramePr>
        <p:xfrm>
          <a:off x="457200" y="1600200"/>
          <a:ext cx="925560" cy="132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" y="1600200"/>
                    <a:ext cx="925560" cy="132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"/>
          <p:cNvSpPr/>
          <p:nvPr/>
        </p:nvSpPr>
        <p:spPr>
          <a:xfrm>
            <a:off x="60958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MS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696080" y="1219320"/>
            <a:ext cx="1295640" cy="1066680"/>
          </a:xfrm>
          <a:custGeom>
            <a:avLst/>
            <a:gdLst>
              <a:gd name="textAreaLeft" fmla="*/ 295560 w 1295640"/>
              <a:gd name="textAreaRight" fmla="*/ 1000080 w 1295640"/>
              <a:gd name="textAreaTop" fmla="*/ 243360 h 1066680"/>
              <a:gd name="textAreaBottom" fmla="*/ 823320 h 1066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B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>
            <a:off x="5866920" y="2133720"/>
            <a:ext cx="762120" cy="60948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7238880" y="1600200"/>
            <a:ext cx="609840" cy="0"/>
          </a:xfrm>
          <a:prstGeom prst="line">
            <a:avLst/>
          </a:prstGeom>
          <a:ln w="1908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124080" y="6400800"/>
            <a:ext cx="457200" cy="228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657600" y="6400800"/>
            <a:ext cx="198108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3520" indent="-533520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rebuchet MS"/>
                <a:ea typeface="Arial"/>
              </a:rPr>
              <a:t>Hiring pend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9AFE-A6D8-4FA8-B660-24E42F254AA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72920" y="32976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GLC Initiative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09480" y="1450800"/>
            <a:ext cx="8229600" cy="5102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981440" cy="1063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9616E-3F93-4F37-A31C-9079B2129E0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4680" y="6553080"/>
            <a:ext cx="91440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280" y="228600"/>
          <a:ext cx="8763120" cy="65768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763120" cy="657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E856-7234-4A9E-BECA-94D23E8EA5B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" name=""/>
          <p:cNvGraphicFramePr/>
          <p:nvPr/>
        </p:nvGraphicFramePr>
        <p:xfrm>
          <a:off x="152280" y="147600"/>
          <a:ext cx="8839440" cy="6634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47600"/>
                    <a:ext cx="8839440" cy="663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A055-082D-4E69-A367-32A4150B8B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152280" y="152280"/>
          <a:ext cx="8839440" cy="663444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839440" cy="663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4" name=""/>
          <p:cNvSpPr/>
          <p:nvPr/>
        </p:nvSpPr>
        <p:spPr>
          <a:xfrm>
            <a:off x="792468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A1EA1-A7FD-49E3-BCD4-9A0BF46A30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752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228600" y="185760"/>
          <a:ext cx="8686800" cy="651996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85760"/>
                    <a:ext cx="8686800" cy="651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"/>
          <p:cNvSpPr/>
          <p:nvPr/>
        </p:nvSpPr>
        <p:spPr>
          <a:xfrm>
            <a:off x="7848720" y="6400800"/>
            <a:ext cx="9144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A33E9-09D5-43CE-8250-052A83CD5C2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0T12:56:11Z</dcterms:created>
  <dc:creator>pzintl</dc:creator>
  <dc:description/>
  <dc:language>en-US</dc:language>
  <cp:lastModifiedBy>matirur</cp:lastModifiedBy>
  <dcterms:modified xsi:type="dcterms:W3CDTF">2008-10-29T05:29:47Z</dcterms:modified>
  <cp:revision>53</cp:revision>
  <dc:subject/>
  <dc:title>Slide 1</dc:title>
</cp:coreProperties>
</file>