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E41FD9-6381-42EB-9B8A-5639BC1094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7E273-6FB5-45CE-BE68-4868F16EAF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173E4-3726-4ACC-AC6A-B172153263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87C2AC9-5FEB-4C8D-9AA0-1973F2B0D4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C018C394-9039-43B6-BADC-F0E3CD9848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48B6BB8-16D8-44FB-A409-9EBA07B8DE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DFAFC65-99ED-4874-B496-7E3499858A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1783D5F-5651-4AF8-8AD7-88AA93D2B7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4D95D56-D908-416A-8D8F-220170BA96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9498A27-5D71-42C0-9B8B-15CB661BF6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0506209-CE58-401A-95EB-CE9C9EB73C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FE70E61-2DE5-4D76-93A3-CAAD17F76A3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154D-8501-4868-9547-D5EA16D52F0E}"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749E-B25D-4EE2-90DB-F1FC08A91D74}" type="datetime3">
              <a:rPr b="0" lang="en-US" sz="1200" spc="-1" strike="noStrike">
                <a:solidFill>
                  <a:srgbClr val="ffffff"/>
                </a:solidFill>
                <a:latin typeface="Times New Roman"/>
              </a:rPr>
              <a:t>July 31,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