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8D947B-1D32-4A3F-8D03-2C0F2615FA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5D59D-2667-4372-AAD5-A0D94D9D6A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94AC9-FC4A-41F1-9F9B-9B120E107D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C045822-6E94-4761-8593-F1D68E1D4C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BCCEFEF7-D384-4335-989B-FA292554A0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03B2D91-83B7-4461-81DF-2CA6164F48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1DB30D9-0C8B-41D3-AFCF-932045692E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2BBFEED-595D-4332-BD42-DD0DC5580A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C4BB223-A486-4EA5-BE70-7F3F81CE45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7D4F19E-CE23-44C2-92CC-1CE6285090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6A10F6A-25D7-4067-9C82-B4E732D2FA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3BD977FE-A56B-45DB-8BA6-19E16F2D27C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5F57-BB97-4D01-8144-1E1B73D4AA6E}"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4022-2CE5-4E1A-A3D7-070C09B5107C}" type="datetime3">
              <a:rPr b="0" lang="en-US" sz="1200" spc="-1" strike="noStrike">
                <a:solidFill>
                  <a:srgbClr val="ffffff"/>
                </a:solidFill>
                <a:latin typeface="Times New Roman"/>
              </a:rPr>
              <a:t>July 29,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