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F2CF-7FAC-4E73-A67F-6968500CD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ustification for WGND here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TB alliance cannot operate in a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Need for working with the Partnership clear from our strategic imper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Dependence on network for knowledge, tools, biology and lead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Integration with other WGS critical (diagnostics and surrogate markers mentioned as ex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AAA: need to work with partners to ensure 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Define, in light of the mckinsey report, how we can improve the WGND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1. Ensure adequate representation of all stakeholder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(call for agenda items 2 wks prior to meetings; Teleconferences every 6 weeks between face to face meetings, to track all project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Objectives setting every year; of the WGND and of each individual member’s contrib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Re-assess the role of the Chair – rather than setting meeting agendas, act to ensure appropriate timing of agenda items, organize agenda and perform performance manag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Establish the need for, definition of and organization of a core group, obliged to attend every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(decision on core group, chair’s role etc based on consensu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pdate the WGND Strategic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olunteer writing committee to meet by teleconferen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duct member survey to ascertain goals and object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lude MDR/XDR strategy and budget adjustmen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draft of updated Strategic Plan at Annual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 Perform thorough census of member activ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Voluntary submissions will be collated and distributed as information-sharing exerc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Breadth of membership can be analyzed and outreach perform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 Special Annual Meeting: using materials developed in (1) and (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Discuss goals, objectives, activities, performance management, structure, funding and administr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033-3977-4294-B241-244257A8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E9E-6170-4382-88B9-F0536D15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01A-E410-40ED-8983-DBB311D1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66F-005F-4EA7-888F-9675066C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6252-B4BF-4D5C-B04E-CC26DE96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8287-E210-4B5A-84A8-9A66C32B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C998-DC85-4564-A360-D641E871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4D7F-3A76-4002-8359-9F2D1240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BA53-3A48-4FCB-83B1-72F3FA21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8B14-419C-417E-AE79-01870021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2C2B-873C-45B1-BEE8-777FEE3E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FF30-4D47-476C-8F25-856AAF96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0519-A922-45D7-ADE9-DE9DF771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A39A-6C5E-46ED-8CA2-1A9F69A9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6AA0-071F-4395-9483-9011CEBC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7F3C-D1B9-4BBE-B412-6DCDEF1F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BFB0-8346-4C7F-9F3D-14BFDF4B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3FFF9-EFB1-45A7-A74C-396924FA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3A26D-B503-4C5C-AF57-07C7EE78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09B70-C94B-4E4E-ADB2-0BF464F0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9309D-8C7C-4D76-8C95-22120BBE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7224-334D-4546-AEB1-3BC079B1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8A5-45EC-4EF1-A8D5-CF0408C6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8D3BA-7C74-4B35-AAB8-6AFE818D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02484-52F0-4916-97E1-B92FA3E9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069DD-B807-475F-8295-B6C98C62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D66B3-F051-484F-9229-3E2CE003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53B3D-9B18-470B-A88B-9B7802F5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534DD-864B-446C-9482-012F8797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A42E8-8E0C-4ABF-A753-E15012E0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FF5-EB5C-4519-A708-3AC2213E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1384-7B23-4DF9-AF50-4E09BA05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A1B2-872F-48AC-94CC-15F27976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547-9861-439F-8E01-A0905FCF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0DBC-92B1-4054-B801-AF72E422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D97-7911-4A22-94BA-F12CF02B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D596-4035-40F8-AB73-8DD289468D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08D1-0035-402F-9538-BD9539236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6EC8-B3F1-47C7-8788-20858F2F03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8224-F42D-45E2-9AA7-F865322B8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0040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85EE-09EB-49B5-9135-73B4480A0F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CBD3-29C6-4796-B7F8-70965D111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Working with the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Stop TB Partnership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for a TB-fre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ome Premmereur, 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04920" y="155412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5. En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closely with WHO and the Stop TB Partnersh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sion of new TB treatment strategies in all necessary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" y="3367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6. Ensure industrial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nership with industrial operators must ensure successful translation into industrial production and an affordabl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04920" y="1523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7. Develop a strategy for product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e with the Stop TB Partnership, the pharmaceutical industry, countries and other partners to ensure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28600" y="3429000"/>
            <a:ext cx="77724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8. Ensure that sufficient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nd Mone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artnership is Ess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28600" y="1523880"/>
            <a:ext cx="7772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Collaborate with WGND, other WGs and partne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understanding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velop tools for lead gen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tools (surrogate markers) and networks to speed clinical tri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option and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228600" y="152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hat might be the Future of the WGN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0880" y="121932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re-visit strategic and operat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meeting agendas in advance via open call to members (rather than by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specific measurable objectives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able work and fund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scope of work on a frequent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350532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ensure representation of all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a member survey to gain consens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for, definition, obligations and use of cor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and process for electing th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ligations of members: meeting frequency,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TB Alliance needs you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o you need 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06CB-F2B4-4C92-8991-6875518B7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get more LO produc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people with the following expertise: Pharmacologist, Pharmaceutical Development Specialist, Toxicologist, PK/PD Experts, Phase 1 and 2 (Proof of concept) Expe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clarify if we have already explored all possibilities of existing products in the pharmaceutical industry (TB drug repurpo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drug discovery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ision on lead generation and lead optimization as internal evidence based Go/No-Go (library of Rifamycin analog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for a network of phase 2 centers that can rapidly evaluate products (EBA dose ranging at 2 wee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0B9B-D6A5-4E9A-8565-9B26AD8AF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speed up product realization develop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phase 3 centers: Quality and quantity in endemic countries not familiar with GCPs, e.g., French Government network in Africa (HC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regulatory network in order to speed up the approval process of studies (8 to 12 months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CROs (people) for high perform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B7BD-7B1A-4848-B01C-9CEC6E2D3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1473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op TB  Partnership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B Alliance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 is impossible without new drugs and new drug regi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9480" y="1371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p TB  Partnership’s 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very TB patient has access to effective diagnosis, treatment and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p transmission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the inequitable social and economic toll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d implement new preventive, diagnostic and therapeutic tools and strategies to stop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09480" y="12193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B Alliance’s Mi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new TB dr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horter and simpler treatment that are affordable, available and widely adopt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offer a better risk-benefit ratio compared to existing treat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mprove treatment of every form of TB: drug sensitive,  MDR and XDR, HIV/TB, latent TB pa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81080" y="434340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66880" y="4343400"/>
            <a:ext cx="6324840" cy="22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81080" y="1390680"/>
            <a:ext cx="129564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981080" y="487692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0" y="4876920"/>
            <a:ext cx="6705720" cy="2286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981080" y="4076640"/>
            <a:ext cx="990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71800" y="4076640"/>
            <a:ext cx="6019920" cy="2286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52680" y="1390680"/>
            <a:ext cx="99072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1972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38098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581280" y="3809880"/>
            <a:ext cx="5410440" cy="2286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981080" y="3276720"/>
            <a:ext cx="19051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886200" y="3276720"/>
            <a:ext cx="5105520" cy="2286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48640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655308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7620120" y="1390680"/>
            <a:ext cx="137160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981080" y="3009960"/>
            <a:ext cx="20574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38480" y="3009960"/>
            <a:ext cx="4953240" cy="2286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2280" y="48769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52280" y="40766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152280" y="43434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52280" y="38098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52280" y="32767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52280" y="30099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52280" y="27432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52280" y="24764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52280" y="35434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152280" y="22096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52280" y="19432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1981080" y="2743200"/>
            <a:ext cx="2133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114800" y="2743200"/>
            <a:ext cx="4876920" cy="22860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1981080" y="2476440"/>
            <a:ext cx="2438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48320" y="2476440"/>
            <a:ext cx="4343400" cy="2286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1981080" y="2209680"/>
            <a:ext cx="4800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6781680" y="2209680"/>
            <a:ext cx="2210040" cy="22860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1981080" y="1943280"/>
            <a:ext cx="5867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7848720" y="1943280"/>
            <a:ext cx="1143000" cy="22860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3352680" y="3543480"/>
            <a:ext cx="5639040" cy="2286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419720" y="2476440"/>
            <a:ext cx="22860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3352680" y="3809880"/>
            <a:ext cx="228600" cy="228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1981080" y="35434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343080"/>
            <a:ext cx="945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152280" y="1076400"/>
            <a:ext cx="1752840" cy="82872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981080" y="107640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5486400" y="106668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352680" y="3543480"/>
            <a:ext cx="2286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1981080" y="461016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2666880" y="4610160"/>
            <a:ext cx="6324840" cy="2286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152280" y="46101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7666200" y="658332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9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142920" y="51436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1971720" y="51436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276640" y="5143680"/>
            <a:ext cx="6705360" cy="22860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142920" y="54100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1971720" y="54100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2276640" y="5410080"/>
            <a:ext cx="6705360" cy="2286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028960" y="4362480"/>
            <a:ext cx="9334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962440" y="4362480"/>
            <a:ext cx="5976720" cy="1332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009880" y="1076400"/>
            <a:ext cx="1295280" cy="32364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28960" y="5029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24160" y="5029200"/>
            <a:ext cx="6600600" cy="1332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028960" y="4038480"/>
            <a:ext cx="1301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324240" y="4038480"/>
            <a:ext cx="5619600" cy="15264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381480" y="1076400"/>
            <a:ext cx="99036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44816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028960" y="3714840"/>
            <a:ext cx="15922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619440" y="3714840"/>
            <a:ext cx="5330880" cy="1332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028960" y="3067200"/>
            <a:ext cx="18810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14640" y="3067200"/>
            <a:ext cx="5040360" cy="1332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51484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58188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648560" y="1076400"/>
            <a:ext cx="137160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2028960" y="2743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4067280" y="2743200"/>
            <a:ext cx="4889520" cy="1332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181080" y="501984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181080" y="404820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181080" y="4371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81080" y="372420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190440" y="3076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190440" y="2752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90440" y="2428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190440" y="210492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181080" y="340056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90440" y="178128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90440" y="145728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028960" y="2428920"/>
            <a:ext cx="290664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4943520" y="2428920"/>
            <a:ext cx="4005360" cy="12384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028960" y="2104920"/>
            <a:ext cx="4425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6458040" y="2114640"/>
            <a:ext cx="2496960" cy="1332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028960" y="1771560"/>
            <a:ext cx="55674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7601040" y="1771560"/>
            <a:ext cx="1371600" cy="14292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2028960" y="1438200"/>
            <a:ext cx="6954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3876840" y="3390840"/>
            <a:ext cx="5072040" cy="13356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2028960" y="3390840"/>
            <a:ext cx="18586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0" y="276120"/>
            <a:ext cx="945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52280" y="762120"/>
            <a:ext cx="1752840" cy="61884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009880" y="76212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5514840" y="75240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2028960" y="4695840"/>
            <a:ext cx="46656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2495520" y="4695840"/>
            <a:ext cx="6434280" cy="1332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181080" y="4695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181080" y="534348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2028960" y="5353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2333520" y="5353200"/>
            <a:ext cx="6600960" cy="133200"/>
          </a:xfrm>
          <a:prstGeom prst="rect">
            <a:avLst/>
          </a:prstGeom>
          <a:blipFill rotWithShape="0">
            <a:blip r:embed="rId1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181080" y="566748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038320" y="5676840"/>
            <a:ext cx="3002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33520" y="5676840"/>
            <a:ext cx="6600960" cy="133560"/>
          </a:xfrm>
          <a:prstGeom prst="rect">
            <a:avLst/>
          </a:prstGeom>
          <a:blipFill rotWithShape="0">
            <a:blip r:embed="rId1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2028960" y="4533840"/>
            <a:ext cx="6760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4"/>
          <p:cNvSpPr/>
          <p:nvPr/>
        </p:nvSpPr>
        <p:spPr>
          <a:xfrm>
            <a:off x="2714760" y="4533840"/>
            <a:ext cx="6243480" cy="133560"/>
          </a:xfrm>
          <a:prstGeom prst="rect">
            <a:avLst/>
          </a:prstGeom>
          <a:blipFill rotWithShape="0">
            <a:blip r:embed="rId1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2028960" y="5191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2324160" y="5191200"/>
            <a:ext cx="6600600" cy="1332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7"/>
          <p:cNvSpPr/>
          <p:nvPr/>
        </p:nvSpPr>
        <p:spPr>
          <a:xfrm>
            <a:off x="2028960" y="4200480"/>
            <a:ext cx="977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8"/>
          <p:cNvSpPr/>
          <p:nvPr/>
        </p:nvSpPr>
        <p:spPr>
          <a:xfrm>
            <a:off x="3000240" y="4200480"/>
            <a:ext cx="5943600" cy="13356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2028960" y="3867120"/>
            <a:ext cx="158256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3610080" y="3876840"/>
            <a:ext cx="5340240" cy="1332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2028960" y="3228840"/>
            <a:ext cx="18810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2"/>
          <p:cNvSpPr/>
          <p:nvPr/>
        </p:nvSpPr>
        <p:spPr>
          <a:xfrm>
            <a:off x="3905280" y="3228840"/>
            <a:ext cx="5040360" cy="133560"/>
          </a:xfrm>
          <a:prstGeom prst="rect">
            <a:avLst/>
          </a:prstGeom>
          <a:blipFill rotWithShape="0">
            <a:blip r:embed="rId1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3"/>
          <p:cNvSpPr/>
          <p:nvPr/>
        </p:nvSpPr>
        <p:spPr>
          <a:xfrm>
            <a:off x="2028960" y="2905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"/>
          <p:cNvSpPr/>
          <p:nvPr/>
        </p:nvSpPr>
        <p:spPr>
          <a:xfrm>
            <a:off x="4067280" y="2905200"/>
            <a:ext cx="4889520" cy="133200"/>
          </a:xfrm>
          <a:prstGeom prst="rect">
            <a:avLst/>
          </a:prstGeom>
          <a:blipFill rotWithShape="0">
            <a:blip r:embed="rId1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5"/>
          <p:cNvSpPr/>
          <p:nvPr/>
        </p:nvSpPr>
        <p:spPr>
          <a:xfrm>
            <a:off x="181080" y="5181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181080" y="421020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181080" y="453384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8"/>
          <p:cNvSpPr/>
          <p:nvPr/>
        </p:nvSpPr>
        <p:spPr>
          <a:xfrm>
            <a:off x="181080" y="3886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9"/>
          <p:cNvSpPr/>
          <p:nvPr/>
        </p:nvSpPr>
        <p:spPr>
          <a:xfrm>
            <a:off x="181080" y="323856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LO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0"/>
          <p:cNvSpPr/>
          <p:nvPr/>
        </p:nvSpPr>
        <p:spPr>
          <a:xfrm>
            <a:off x="190440" y="2914560"/>
            <a:ext cx="174636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1"/>
          <p:cNvSpPr/>
          <p:nvPr/>
        </p:nvSpPr>
        <p:spPr>
          <a:xfrm>
            <a:off x="190440" y="259092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2"/>
          <p:cNvSpPr/>
          <p:nvPr/>
        </p:nvSpPr>
        <p:spPr>
          <a:xfrm>
            <a:off x="190440" y="2266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3"/>
          <p:cNvSpPr/>
          <p:nvPr/>
        </p:nvSpPr>
        <p:spPr>
          <a:xfrm>
            <a:off x="181080" y="3562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4"/>
          <p:cNvSpPr/>
          <p:nvPr/>
        </p:nvSpPr>
        <p:spPr>
          <a:xfrm>
            <a:off x="190440" y="1943280"/>
            <a:ext cx="1746360" cy="145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5"/>
          <p:cNvSpPr/>
          <p:nvPr/>
        </p:nvSpPr>
        <p:spPr>
          <a:xfrm>
            <a:off x="190440" y="161928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6"/>
          <p:cNvSpPr/>
          <p:nvPr/>
        </p:nvSpPr>
        <p:spPr>
          <a:xfrm>
            <a:off x="2028960" y="2581200"/>
            <a:ext cx="23828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7"/>
          <p:cNvSpPr/>
          <p:nvPr/>
        </p:nvSpPr>
        <p:spPr>
          <a:xfrm>
            <a:off x="4410000" y="2590920"/>
            <a:ext cx="4557960" cy="114120"/>
          </a:xfrm>
          <a:prstGeom prst="rect">
            <a:avLst/>
          </a:prstGeom>
          <a:blipFill rotWithShape="0">
            <a:blip r:embed="rId2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8"/>
          <p:cNvSpPr/>
          <p:nvPr/>
        </p:nvSpPr>
        <p:spPr>
          <a:xfrm>
            <a:off x="2028960" y="2276640"/>
            <a:ext cx="34066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"/>
          <p:cNvSpPr/>
          <p:nvPr/>
        </p:nvSpPr>
        <p:spPr>
          <a:xfrm>
            <a:off x="5427720" y="2266920"/>
            <a:ext cx="3525840" cy="133560"/>
          </a:xfrm>
          <a:prstGeom prst="rect">
            <a:avLst/>
          </a:prstGeom>
          <a:blipFill rotWithShape="0">
            <a:blip r:embed="rId2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0"/>
          <p:cNvSpPr/>
          <p:nvPr/>
        </p:nvSpPr>
        <p:spPr>
          <a:xfrm>
            <a:off x="2028960" y="1933560"/>
            <a:ext cx="51670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1"/>
          <p:cNvSpPr/>
          <p:nvPr/>
        </p:nvSpPr>
        <p:spPr>
          <a:xfrm>
            <a:off x="7201080" y="1943280"/>
            <a:ext cx="1752480" cy="133200"/>
          </a:xfrm>
          <a:prstGeom prst="rect">
            <a:avLst/>
          </a:prstGeom>
          <a:blipFill rotWithShape="0">
            <a:blip r:embed="rId2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2"/>
          <p:cNvSpPr/>
          <p:nvPr/>
        </p:nvSpPr>
        <p:spPr>
          <a:xfrm>
            <a:off x="2028960" y="1609560"/>
            <a:ext cx="63738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3"/>
          <p:cNvSpPr/>
          <p:nvPr/>
        </p:nvSpPr>
        <p:spPr>
          <a:xfrm>
            <a:off x="8400960" y="1609560"/>
            <a:ext cx="567000" cy="142920"/>
          </a:xfrm>
          <a:prstGeom prst="rect">
            <a:avLst/>
          </a:prstGeom>
          <a:blipFill rotWithShape="0">
            <a:blip r:embed="rId2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3848040" y="3552840"/>
            <a:ext cx="5100840" cy="133200"/>
          </a:xfrm>
          <a:prstGeom prst="rect">
            <a:avLst/>
          </a:prstGeom>
          <a:blipFill rotWithShape="0">
            <a:blip r:embed="rId2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5"/>
          <p:cNvSpPr/>
          <p:nvPr/>
        </p:nvSpPr>
        <p:spPr>
          <a:xfrm>
            <a:off x="2028960" y="3552840"/>
            <a:ext cx="183024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2028960" y="4857840"/>
            <a:ext cx="45720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2495520" y="4857840"/>
            <a:ext cx="6434280" cy="142920"/>
          </a:xfrm>
          <a:prstGeom prst="rect">
            <a:avLst/>
          </a:prstGeom>
          <a:blipFill rotWithShape="0">
            <a:blip r:embed="rId2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181080" y="485784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181080" y="5505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2028960" y="5514840"/>
            <a:ext cx="2998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333520" y="5514840"/>
            <a:ext cx="6600960" cy="133560"/>
          </a:xfrm>
          <a:prstGeom prst="rect">
            <a:avLst/>
          </a:prstGeom>
          <a:blipFill rotWithShape="0">
            <a:blip r:embed="rId2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2"/>
          <p:cNvSpPr/>
          <p:nvPr/>
        </p:nvSpPr>
        <p:spPr>
          <a:xfrm>
            <a:off x="171360" y="5829480"/>
            <a:ext cx="174636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G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3"/>
          <p:cNvSpPr/>
          <p:nvPr/>
        </p:nvSpPr>
        <p:spPr>
          <a:xfrm>
            <a:off x="2028960" y="583884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4"/>
          <p:cNvSpPr/>
          <p:nvPr/>
        </p:nvSpPr>
        <p:spPr>
          <a:xfrm>
            <a:off x="2333520" y="5838840"/>
            <a:ext cx="6600960" cy="133200"/>
          </a:xfrm>
          <a:prstGeom prst="rect">
            <a:avLst/>
          </a:prstGeom>
          <a:blipFill rotWithShape="0">
            <a:blip r:embed="rId2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64" descr=""/>
          <p:cNvPicPr/>
          <p:nvPr/>
        </p:nvPicPr>
        <p:blipFill>
          <a:blip r:embed="rId28"/>
          <a:stretch/>
        </p:blipFill>
        <p:spPr>
          <a:xfrm>
            <a:off x="2097000" y="1620720"/>
            <a:ext cx="66819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Generating more L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106920" y="2057400"/>
            <a:ext cx="8249040" cy="3705480"/>
            <a:chOff x="106920" y="2057400"/>
            <a:chExt cx="8249040" cy="3705480"/>
          </a:xfrm>
        </p:grpSpPr>
        <p:sp>
          <p:nvSpPr>
            <p:cNvPr id="298" name="Rectangle 4"/>
            <p:cNvSpPr/>
            <p:nvPr/>
          </p:nvSpPr>
          <p:spPr>
            <a:xfrm>
              <a:off x="3353040" y="20574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ncluding reassessment of what we “know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3353040" y="4876920"/>
              <a:ext cx="2286000" cy="761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maging M.tb </a:t>
              </a:r>
              <a:r>
                <a:rPr b="1" i="1" lang="en-US" sz="1100" spc="-1" strike="noStrike">
                  <a:solidFill>
                    <a:srgbClr val="ffffff"/>
                  </a:solidFill>
                  <a:latin typeface="Calibri"/>
                </a:rPr>
                <a:t>in situ</a:t>
              </a: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, biomar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6212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i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Understanding persistence and lat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594360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Lea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Chemical genom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Down Arrow 8"/>
            <p:cNvSpPr/>
            <p:nvPr/>
          </p:nvSpPr>
          <p:spPr>
            <a:xfrm rot="2653800">
              <a:off x="2849400" y="275400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Down Arrow 9"/>
            <p:cNvSpPr/>
            <p:nvPr/>
          </p:nvSpPr>
          <p:spPr>
            <a:xfrm rot="18870000">
              <a:off x="5823000" y="275076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Down Arrow 12"/>
            <p:cNvSpPr/>
            <p:nvPr/>
          </p:nvSpPr>
          <p:spPr>
            <a:xfrm rot="13404600">
              <a:off x="5972400" y="427968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Down Arrow 13"/>
            <p:cNvSpPr/>
            <p:nvPr/>
          </p:nvSpPr>
          <p:spPr>
            <a:xfrm rot="8084400">
              <a:off x="2850480" y="427464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ight Arrow 14"/>
            <p:cNvSpPr/>
            <p:nvPr/>
          </p:nvSpPr>
          <p:spPr>
            <a:xfrm>
              <a:off x="3505320" y="3429000"/>
              <a:ext cx="2057400" cy="685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5"/>
            <p:cNvSpPr/>
            <p:nvPr/>
          </p:nvSpPr>
          <p:spPr>
            <a:xfrm>
              <a:off x="106920" y="5486400"/>
              <a:ext cx="282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rom BMG Foundation Meeting April 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7"/>
            <p:cNvSpPr/>
            <p:nvPr/>
          </p:nvSpPr>
          <p:spPr>
            <a:xfrm>
              <a:off x="1218240" y="2743200"/>
              <a:ext cx="16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xisting sterilizing dru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8"/>
            <p:cNvSpPr/>
            <p:nvPr/>
          </p:nvSpPr>
          <p:spPr>
            <a:xfrm>
              <a:off x="6285600" y="2743200"/>
              <a:ext cx="207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ptimal PK/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tential scale-up /COG iss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>
              <a:off x="6291360" y="4724280"/>
              <a:ext cx="19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ssess activit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in vivo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al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d in comb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1276200" y="4724280"/>
              <a:ext cx="168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bserve persistent M.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228600" y="1523880"/>
            <a:ext cx="87631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1. Generate more new lea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discovery 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B drug repurposing (existing leads and products now abandoned but which can be optimized for T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228600" y="3429000"/>
            <a:ext cx="84582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2. Develop a network of clinical trial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ters of excellence will allow high quality and rapid clinica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304920" y="1539720"/>
            <a:ext cx="84582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3. Ensure close collaboration with TB diagnostic and biomark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implementation of drug development (need for better surrogate mark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04920" y="3398760"/>
            <a:ext cx="84582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4. Ensure registration by major regulator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coordination and accelerated plans (e.g. FDA priority review vouch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8:57:12Z</dcterms:created>
  <dc:creator>jpremmereur</dc:creator>
  <dc:description/>
  <dc:language>en-US</dc:language>
  <cp:lastModifiedBy>jpremmereur</cp:lastModifiedBy>
  <dcterms:modified xsi:type="dcterms:W3CDTF">2008-05-02T23:18:20Z</dcterms:modified>
  <cp:revision>242</cp:revision>
  <dc:subject/>
  <dc:title>Board Meeting 24th and 25th of April 2008 NY</dc:title>
</cp:coreProperties>
</file>