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AE6F-146A-4F48-AC80-1F578DCFC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E8A3-0806-4946-8A1A-617C3802615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fa1"/>
            </a:gs>
            <a:gs pos="50000">
              <a:srgbClr val="000066"/>
            </a:gs>
            <a:gs pos="100000">
              <a:srgbClr val="320f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9192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eeting of the Stop TB Partnership Coordinating Board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Picture 6" descr="Pic1"/>
          <p:cNvPicPr/>
          <p:nvPr/>
        </p:nvPicPr>
        <p:blipFill>
          <a:blip r:embed="rId2"/>
          <a:stretch/>
        </p:blipFill>
        <p:spPr>
          <a:xfrm>
            <a:off x="0" y="0"/>
            <a:ext cx="1523880" cy="94608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7"/>
          <p:cNvGrpSpPr/>
          <p:nvPr/>
        </p:nvGrpSpPr>
        <p:grpSpPr>
          <a:xfrm>
            <a:off x="7467480" y="-152280"/>
            <a:ext cx="1905120" cy="1604880"/>
            <a:chOff x="7467480" y="-152280"/>
            <a:chExt cx="1905120" cy="1604880"/>
          </a:xfrm>
        </p:grpSpPr>
        <p:sp>
          <p:nvSpPr>
            <p:cNvPr id="47" name="AutoShape 8"/>
            <p:cNvSpPr/>
            <p:nvPr/>
          </p:nvSpPr>
          <p:spPr>
            <a:xfrm>
              <a:off x="7467480" y="-152280"/>
              <a:ext cx="190512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WordArt 9"/>
            <p:cNvSpPr txBox="1"/>
            <p:nvPr/>
          </p:nvSpPr>
          <p:spPr>
            <a:xfrm>
              <a:off x="8537040" y="679680"/>
              <a:ext cx="34560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9" name="WordArt 10"/>
            <p:cNvSpPr txBox="1"/>
            <p:nvPr/>
          </p:nvSpPr>
          <p:spPr>
            <a:xfrm>
              <a:off x="8166600" y="315720"/>
              <a:ext cx="437040" cy="24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AutoShape 11"/>
            <p:cNvSpPr/>
            <p:nvPr/>
          </p:nvSpPr>
          <p:spPr>
            <a:xfrm rot="5553600">
              <a:off x="7945200" y="38520"/>
              <a:ext cx="1073880" cy="114192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57280" y="428760"/>
            <a:ext cx="45720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  <a:ea typeface="Arial"/>
              </a:rPr>
              <a:t>Partners of NTP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760" y="1760040"/>
            <a:ext cx="3929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F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Donor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Implementers       ( 47 NGOs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1143000" y="1760400"/>
            <a:ext cx="407196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C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UAT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wait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9640" y="579600"/>
            <a:ext cx="62751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ining DOTS and Implementing New Stop TB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ccessibility for all with special focus on fe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Funds Available / Gap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26920" y="1628640"/>
          <a:ext cx="7726680" cy="4302360"/>
        </p:xfrm>
        <a:graphic>
          <a:graphicData uri="http://schemas.openxmlformats.org/drawingml/2006/table">
            <a:tbl>
              <a:tblPr/>
              <a:tblGrid>
                <a:gridCol w="3565800"/>
                <a:gridCol w="1920600"/>
                <a:gridCol w="2240280"/>
              </a:tblGrid>
              <a:tr h="100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n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mount in Mill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alian corpo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€ (1.3US$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--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 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D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lobal F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3"/>
          <p:cNvSpPr/>
          <p:nvPr/>
        </p:nvSpPr>
        <p:spPr>
          <a:xfrm>
            <a:off x="785880" y="6000840"/>
            <a:ext cx="7786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pproximately 15M. US $  pledged against required 100 M. for 5yea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81240" y="3429000"/>
            <a:ext cx="48909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2009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C:\Documents and Settings\Dr Shah Maroofi\My Documents\My Pictures\Flags\ist2_3296186_afghanistan_flag_with_clipping_path[1].jpg"/>
          <p:cNvPicPr/>
          <p:nvPr/>
        </p:nvPicPr>
        <p:blipFill>
          <a:blip r:embed="rId2"/>
          <a:stretch/>
        </p:blipFill>
        <p:spPr>
          <a:xfrm>
            <a:off x="3786120" y="71280"/>
            <a:ext cx="18795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NTP strategy in line with the new 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Stop-TB Strateg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92869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suing, optimizing and sustaining quality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ng DOTS to respond to TB/HIV, MDR-TB and other speci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ng Public-Private Mix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owering patients and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ing and promoting research and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7667640" y="-15840"/>
            <a:ext cx="1270080" cy="1069920"/>
            <a:chOff x="7667640" y="-15840"/>
            <a:chExt cx="1270080" cy="1069920"/>
          </a:xfrm>
        </p:grpSpPr>
        <p:sp>
          <p:nvSpPr>
            <p:cNvPr id="54" name="AutoShape 5"/>
            <p:cNvSpPr/>
            <p:nvPr/>
          </p:nvSpPr>
          <p:spPr>
            <a:xfrm>
              <a:off x="7667640" y="-15840"/>
              <a:ext cx="12700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WordArt 6"/>
            <p:cNvSpPr txBox="1"/>
            <p:nvPr/>
          </p:nvSpPr>
          <p:spPr>
            <a:xfrm>
              <a:off x="8335800" y="452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6" name="WordArt 7"/>
            <p:cNvSpPr txBox="1"/>
            <p:nvPr/>
          </p:nvSpPr>
          <p:spPr>
            <a:xfrm>
              <a:off x="8042760" y="349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7" name="AutoShape 8"/>
            <p:cNvSpPr/>
            <p:nvPr/>
          </p:nvSpPr>
          <p:spPr>
            <a:xfrm rot="4879200">
              <a:off x="8038440" y="9756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Picture 9" descr="Pic1"/>
          <p:cNvPicPr/>
          <p:nvPr/>
        </p:nvPicPr>
        <p:blipFill>
          <a:blip r:embed="rId1"/>
          <a:stretch/>
        </p:blipFill>
        <p:spPr>
          <a:xfrm>
            <a:off x="355680" y="214200"/>
            <a:ext cx="83160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ut in half country burden of TB by 2020        (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fghan MDG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achieve the stop TB partnership tar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85800" y="8294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c33"/>
                </a:solidFill>
                <a:latin typeface="Arial"/>
              </a:rPr>
              <a:t>Go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62" name="AutoShape 7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WordArt 8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4" name="WordArt 9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5" name="AutoShape 10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" name="Picture 11" descr="Pic1"/>
          <p:cNvPicPr/>
          <p:nvPr/>
        </p:nvPicPr>
        <p:blipFill>
          <a:blip r:embed="rId1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6920" y="1268280"/>
          <a:ext cx="7777440" cy="4703760"/>
        </p:xfrm>
        <a:graphic>
          <a:graphicData uri="http://schemas.openxmlformats.org/drawingml/2006/table">
            <a:tbl>
              <a:tblPr/>
              <a:tblGrid>
                <a:gridCol w="4859640"/>
                <a:gridCol w="1542960"/>
                <a:gridCol w="1374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all TB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 SS+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alence (all cases  /100,000/y)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R-TB  (need survey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detection of new SS+ (200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su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Fema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tality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2"/>
          <p:cNvSpPr/>
          <p:nvPr/>
        </p:nvSpPr>
        <p:spPr>
          <a:xfrm>
            <a:off x="500040" y="2847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Afghanistan TB Facts and Fig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9"/>
          <p:cNvSpPr/>
          <p:nvPr/>
        </p:nvSpPr>
        <p:spPr>
          <a:xfrm>
            <a:off x="468360" y="6453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rce: Global Tuberculosis control report-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67"/>
          <p:cNvGrpSpPr/>
          <p:nvPr/>
        </p:nvGrpSpPr>
        <p:grpSpPr>
          <a:xfrm>
            <a:off x="7780320" y="44280"/>
            <a:ext cx="1270080" cy="1070280"/>
            <a:chOff x="7780320" y="44280"/>
            <a:chExt cx="1270080" cy="1070280"/>
          </a:xfrm>
        </p:grpSpPr>
        <p:sp>
          <p:nvSpPr>
            <p:cNvPr id="71" name="AutoShape 68"/>
            <p:cNvSpPr/>
            <p:nvPr/>
          </p:nvSpPr>
          <p:spPr>
            <a:xfrm>
              <a:off x="7780320" y="44280"/>
              <a:ext cx="12700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WordArt 69"/>
            <p:cNvSpPr txBox="1"/>
            <p:nvPr/>
          </p:nvSpPr>
          <p:spPr>
            <a:xfrm>
              <a:off x="8448480" y="51264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3" name="WordArt 70"/>
            <p:cNvSpPr txBox="1"/>
            <p:nvPr/>
          </p:nvSpPr>
          <p:spPr>
            <a:xfrm>
              <a:off x="8155440" y="40968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4" name="AutoShape 71"/>
            <p:cNvSpPr/>
            <p:nvPr/>
          </p:nvSpPr>
          <p:spPr>
            <a:xfrm rot="4879200">
              <a:off x="8151120" y="15768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5" name="Picture 72" descr="Pic1"/>
          <p:cNvPicPr/>
          <p:nvPr/>
        </p:nvPicPr>
        <p:blipFill>
          <a:blip r:embed="rId1"/>
          <a:stretch/>
        </p:blipFill>
        <p:spPr>
          <a:xfrm>
            <a:off x="468360" y="274680"/>
            <a:ext cx="831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9640" y="1644480"/>
          <a:ext cx="8278920" cy="448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44480"/>
                    <a:ext cx="827892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6"/>
          <p:cNvSpPr/>
          <p:nvPr/>
        </p:nvSpPr>
        <p:spPr>
          <a:xfrm>
            <a:off x="2237760" y="57168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OTS population 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0" name="AutoShape 1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WordArt 1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2" name="WordArt 1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3" name="AutoShape 1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" name="Picture 1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6"/>
          <p:cNvSpPr/>
          <p:nvPr/>
        </p:nvSpPr>
        <p:spPr>
          <a:xfrm>
            <a:off x="1376280" y="50004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9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1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2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0"/>
          <p:cNvGraphicFramePr/>
          <p:nvPr/>
        </p:nvGraphicFramePr>
        <p:xfrm>
          <a:off x="0" y="-71280"/>
          <a:ext cx="9144000" cy="6858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712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1187280" y="2602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0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2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189000"/>
          <a:ext cx="914400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Group 10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8" name="AutoShape 11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WordArt 12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0" name="WordArt 13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1" name="AutoShape 14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Picture 15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71280" y="600084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225360" y="1209600"/>
          <a:ext cx="88488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209600"/>
                    <a:ext cx="88488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Group 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17" name="AutoShape 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WordArt 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9" name="WordArt 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Picture 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039680" y="614376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42960" y="2142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Cas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by age and gender in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05:23:03Z</dcterms:created>
  <dc:creator>国際協力機構</dc:creator>
  <dc:description/>
  <dc:language>en-US</dc:language>
  <cp:lastModifiedBy> </cp:lastModifiedBy>
  <dcterms:modified xsi:type="dcterms:W3CDTF">2008-05-08T08:29:30Z</dcterms:modified>
  <cp:revision>97</cp:revision>
  <dc:subject/>
  <dc:title>スライド 1</dc:title>
</cp:coreProperties>
</file>