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1731-1455-4B44-A3C6-4B0129E249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21A5-CC62-4020-855A-84204668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A869-88B3-4B4D-9441-76AE6D7A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3347-E882-46A8-BEAF-A4FC4CD1B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A6F2-4C31-4ED3-B515-9D87D90B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0242-E3B5-4B45-A207-2B370821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FE38-A4B1-40D3-9F0B-4944006E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53E6-9034-4FE9-A4EE-C3644D2D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4417-BED7-41A9-84A8-C0FB7928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21BE-FBF8-41DB-BDAA-F2E6AE49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649E-9867-4397-9B80-7952AC7D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C06B-D1F6-40FD-AAC4-E3A15199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A296-7D18-41D5-A71F-0CE3ED8D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D2FB-7A8D-4A72-852F-CAABD6DD712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0671-D240-4890-AF29-6D9A9E885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700280"/>
            <a:ext cx="85690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8000" y="189000"/>
            <a:ext cx="735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 Meeting of the WHO Task Force on XDR-TB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9-10 April 2008, Geneva, 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09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25236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Tahoma"/>
              </a:rPr>
              <a:t>        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Tahoma"/>
              </a:rPr>
              <a:t>Acknowledgements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3280" y="1165320"/>
            <a:ext cx="2665440" cy="56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Lynne Harro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cos Espin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ia Sarquell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io Ravigli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tins Pavels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tteo Zign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ukund Uplek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loma Lerg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tricia La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ulette Asho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ul Nun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Robert Matir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Rosalie Ed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Tom Hiat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1268280"/>
            <a:ext cx="338472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Abigail Wrigh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Andrea Panto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Charlie Gil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Eugenia Becerr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Fabio Scan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Fuad Mirzaye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Geneviève Pin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Glenn Thom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Irina Sahaky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Janet Cout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John Loeb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rin Wey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therine Floy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thrin Thom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Lina Abrah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181440" y="-360"/>
            <a:ext cx="781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articipants at the meeting of the WHO Task Force on XDR-TB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360" y="-1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360" y="1125360"/>
            <a:ext cx="8820360" cy="51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01a3"/>
                </a:solidFill>
                <a:latin typeface="Arial"/>
                <a:ea typeface="SimSun"/>
              </a:rPr>
              <a:t>Areas of significant progr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WHO Guidelines for DR-TB management upd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eru, first low resource setting reporting universal access to MDR-TB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Dx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and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R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lobal Laboratory Initiative leading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Dx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cessful evaluation of line probe assays in Sou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36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51452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making progress in addressing drug procurement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or TB control and infection control 1994-200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→ nosocomial spread most likely explain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XDR-TB outbreak in Tugela Ferry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waZulu N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idence that MDR-TB can be managed in very difficult circumstanc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but raises major ethical and legal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000" y="1214280"/>
            <a:ext cx="896472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001a3"/>
                </a:solidFill>
                <a:latin typeface="Arial"/>
                <a:ea typeface="SimSun"/>
              </a:rPr>
              <a:t>Progress in 27 high priority MDR-TB countries* shows enormous gaps, patients on treatment well below targ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/22 (40.9%) countries have drug resistance surveys &gt; 5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/22 (27.3%) countries have external quality-assured dru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ceptibility testing for 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ine anti-TB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/22 (45.4%) countries have DST capacity for 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in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i-TB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/22 (36.4%) countries have national guidelines for MDR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/22 (50.0%) countries do not have a MDR-TB focal poin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 the N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6/22 (72.7%) countries have wide availability of S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9000" y="6375240"/>
            <a:ext cx="78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2001a3"/>
                </a:solidFill>
                <a:latin typeface="Arial"/>
              </a:rPr>
              <a:t>Countries with 95% of MDR TB burden, and small countries w/ &gt;10% M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untries to involve all health care providers in the global response to MDR-TB and XDR-TB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DR-TB Working Group to further develop framework of Centers of Excellence for promoting development of human resources in MDR-TB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to produce training modules for programmatic management of drug resistant TB and make them available AS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WHO to provide guidance on implementation of line probe assays for MDR-TB within specific country settin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WHO to produce and disseminate practical guidance on ethical and legal issues to support patient-centered TB care, including community-based MDR-TB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27 priority countries to produce comprehensive national response plans to MDR-TB/XDR-TB, with support of WHO and Stop TB Partnershi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WHO and Stop TB Partnership to convene meeting with ALL 27 high priority countries early in 200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51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ims of WHO and Stop TB Partnership meeting with ALL 27 high priority countries in early 20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ncrease political commitment at the highest country leve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assess progress achieved in these priority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and agree on actions to tackle main factor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kgc1</cp:lastModifiedBy>
  <dcterms:modified xsi:type="dcterms:W3CDTF">2008-05-07T09:59:23Z</dcterms:modified>
  <cp:revision>279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