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813A4-F97B-4706-8C71-CE6DBAB104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6980B-4D79-46F9-9ADF-C403AF551A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46556-C232-4438-8B48-58E7FD441B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E2EF4EB-8C21-478B-B54B-11875429FA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18277E66-1474-4450-879F-11B3DB9DEE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C2CCFEF-EC9D-4021-BFC5-FA6C6CDB25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6324BC4-170A-4251-ABD7-2AAA337880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5014F7F-C8EB-4B8C-A50B-22FEB34B3B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4CED6DD-C46E-473A-A500-575FEFD67E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EBF7493-E2FA-4840-A6BB-3B0FF77E5B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8A03E4D-1C4A-4AEA-9A63-A3B2795F7D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1FFCA668-FE95-4A7D-AAC0-A75C4E05279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2E17-FAA8-4D4E-86C9-B1FE2AB46AA3}"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373D-8607-4F3F-B8A1-36DAF0449265}" type="datetime3">
              <a:rPr b="0" lang="en-US" sz="1200" spc="-1" strike="noStrike">
                <a:solidFill>
                  <a:srgbClr val="ffffff"/>
                </a:solidFill>
                <a:latin typeface="Times New Roman"/>
              </a:rPr>
              <a:t>July 31,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