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77E-41D1-4228-A2CC-784FE36E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0C7B-F379-42B8-892F-9AE6D2B4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84F-31E4-4A7D-8085-2E06FDDB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E370-3FFC-4090-A2EC-FA1D0F24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17C-A573-49E1-9240-86A3A764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6CF3-94E2-48AF-9E7B-99B6C9F1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473-2310-40C6-9A9E-A2D329A8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576-5190-40C1-8128-7547C04A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3B9-7D84-4915-9C20-7EAF2C67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5E5-C58C-4D81-B834-DA1A3FD5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F1F-F8F4-453C-815B-DFDB4265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522-9475-4689-9852-64E9ED70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F00D-16D3-498E-8EFC-092E07FB17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4360" y="5950080"/>
            <a:ext cx="1684440" cy="68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oniazid preventive therapy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Intensified case find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Infection contro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3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V Department, April 2-4, 2008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ive and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ide ways HIV community could scale u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larify/develop policy in all 3 area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evelop indicator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dvocate from top: create demand from bottom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Raise resources through UNITAID etc for isoniazid and infection contro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931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ternational AIDS Soci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verning council committed to TB/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AS is standing member of the TB/HIV Core Group and the President, Pedro Cahn attend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ndorsed the IPT consensus statement of the WG and disseminating i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ainstreamed TB infection control in their work on health workers safe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S 2008, Mexico City, August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B/HIV Activiti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 Session (Augus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. Chak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Driven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ral session (TB and ART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oster driven session (TB and HIV, a deadly partnership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sympo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TB Shack" in commercial exhibi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AG and IAS on infection contro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HO guidelines on TB and HIV services in drug users: launch 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ily visibility of TB/HIV in the daily newsletter of the conference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noscop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 TB/HIV logo with 2-4 pag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of journalists from the south on TB/HIV to report on the conference and later in their respectiv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9:54:42Z</dcterms:created>
  <dc:creator>nunnp</dc:creator>
  <dc:description/>
  <dc:language>en-US</dc:language>
  <cp:lastModifiedBy>hendersons</cp:lastModifiedBy>
  <dcterms:modified xsi:type="dcterms:W3CDTF">2008-05-13T08:32:24Z</dcterms:modified>
  <cp:revision>3</cp:revision>
  <dc:subject/>
  <dc:title>  Isoniazid preventive therapy +Intensified case finding +Infection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127637</vt:r8>
  </property>
  <property fmtid="{D5CDD505-2E9C-101B-9397-08002B2CF9AE}" pid="3" name="_AuthorEmail">
    <vt:lpwstr>nunnp@who.int</vt:lpwstr>
  </property>
  <property fmtid="{D5CDD505-2E9C-101B-9397-08002B2CF9AE}" pid="4" name="_AuthorEmailDisplayName">
    <vt:lpwstr>Nunn, Paul P.</vt:lpwstr>
  </property>
  <property fmtid="{D5CDD505-2E9C-101B-9397-08002B2CF9AE}" pid="5" name="_EmailSubject">
    <vt:lpwstr>Cairo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