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5EA2-8151-4BAC-8E7F-BFD105ECE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55640" y="2904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A323-24BB-4004-BCC1-DE218774D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3560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3CF0-DC2D-42C8-A139-A9DC8FB2D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1960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08392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5564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1960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08392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01D7-1190-479C-95C7-46D3CFB89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5564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9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5564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A350-4941-45E8-8171-3B9CD78DE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03560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55640" y="2904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03560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1960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8392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5564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91960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08392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27FC-E914-48DB-82FD-FAAFDAF29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8749-BEB7-4287-961B-E39A755BD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955D-D001-4656-A740-829889A62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89C3-FADA-4051-9EC6-B45CA2780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35B4-D7B6-4F4C-94AD-E8939B60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3560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4A21-5C54-492F-AA5F-BB70B493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63B7-6EDE-477C-A4FA-C2540EFE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749DA-6BC6-4E8A-91C0-6FB3EED585F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126828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toptb.org/researchmovement" TargetMode="External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698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The Research Movement of the Stop TB Partnership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ordinating Board meeting, 23-24 October 2007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755640" y="1989000"/>
            <a:ext cx="763272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urpose of presentation to Coordinating Bo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o provide feedback to the Coordinating Board from STAG on WHO's role in, and contribution to, the Research Movemen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o presen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he proposed strategic plan of action which is, for the moment, based on STAG's endorsement and calls for full ownership by all Stop TB partner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 -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overall scope under the Stop TB Partnershi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632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Developments to dat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developments to date (1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68000" y="148392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Raising awareness of TB research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Websit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 u="sng">
                <a:solidFill>
                  <a:srgbClr val="99ccff"/>
                </a:solidFill>
                <a:uFillTx/>
                <a:latin typeface="Arial"/>
                <a:ea typeface="Arial"/>
                <a:hlinkClick r:id="rId1"/>
              </a:rPr>
              <a:t>www.stoptb.org/researchmovem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Research featured prominently in World TB day events 2007, e.g. New York, Brussels, Berlin, Rome, Pari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Arial"/>
              </a:rPr>
              <a:t>Dissemination of results of analysis of current funding and recent funding trends, e.g. TAG report, Kaufman and Parida (Nature Medicine, March 2007)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Providing information for advocac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Stop TB Partnership secretariat is working closely with the ACSM WG to provide information for advocac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developments to date (2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39280" y="1483920"/>
            <a:ext cx="8209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ctive engagement of key research partners, includ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&amp;D WGs, including FIND, Global Alliance and Ae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esearch funding institutions, e.g. NIH, European Commission, UK MRC, South Africa MR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Bilaterals, e.g. USAID, DFI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oundations, e.g. Gates, Rockefelle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GOs, e.g. MSF, T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cademic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D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xpected benefits of investment in new diagnostics, drugs and vaccines set out in long-term strategic plans of R&amp;D WGs (Global Plan to Stop TB, 2006-2015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developments to date (3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7487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lobal TB research agendas developed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&amp;D Working Group strategic pl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esearch agendas developed by other WGs/subgroups and partn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DR-TB research priorities (Int J TB &amp; Lung Dis 2003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B/HIV research priorities (WHO/HTM/TB/2005.355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hildhood TB (WHO/HTM/TB/2007.38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lobal TB research agenda (TDR Scientific Working Group Oct 2005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IAID, NIH  - Research Agenda for M(X)DR-TB, June 200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(www.niaid.nih.go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ork in progress, e.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uropean Commission (new drug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08000" y="2638080"/>
            <a:ext cx="90360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Proposed activities of Partnership and WH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proposed activities of Partnership (1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503280" y="1412640"/>
            <a:ext cx="86407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bjective 1)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provide leadership and advocacy to mobilise increased resources to support a coherent and comprehensive global TB research agen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sessment of TB research fun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lobal tracking of TB research fun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sessment of funding for operational research (linked to global M&amp;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aising awareness of need to boost TB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aising profile of TB research, e.g. 2008 Global Ministerial Forum on Research for Health, Bamak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aunch of Research Movement at Bellagio conference (or simil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proposed activities of Partnership (2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03280" y="1412640"/>
            <a:ext cx="86407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bjective 1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(contd.)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provide leadership and advocacy to mobilise increased resources to support a coherent and comprehensive global TB research agen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sessment of expected benefits of increased investment i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rticulation of expected benefits of increased investment in research, in basic and implementation research as well as in R&amp;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viding information for advoca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rough the ACSM W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ntributing to development of innovative financing mechanis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llaboration with InterGovernmental Working Group on Public Health, Innovation and Intellectual Proper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ordinating plans to engage and persuade key don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igh-level missions to main research funding agencies to advance arguments for increased fun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proposed activities of Partnership (3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29840" y="1530000"/>
            <a:ext cx="87138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bjective 2)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provide a forum for funders and implementers of TB research to coordinate plans and actions, with the result of ensuring that research needs are addressed, opportunities prioritised, and gaps fill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ngaging key research stakehold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ntinue and widen engagement with key research partn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pportunities for consultation, e.g. forum at the IUATLD conference, Cape Town, 8-12 November 2007; public-private dialog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veloping global TB research agend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Updating the research agendas that have been developed so far, and ultimately contributing to the development of a comprehensive global TB research agen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WHO's role in Research Movement: proposed activities (1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539280" y="162828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71280" y="1341360"/>
          <a:ext cx="8964720" cy="5334120"/>
        </p:xfrm>
        <a:graphic>
          <a:graphicData uri="http://schemas.openxmlformats.org/drawingml/2006/table">
            <a:tbl>
              <a:tblPr/>
              <a:tblGrid>
                <a:gridCol w="4114800"/>
                <a:gridCol w="4849920"/>
              </a:tblGrid>
              <a:tr h="580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ctive 1):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provide leadership and advocacy to mobilise increased resources to support a coherent and comprehensive global TB research agen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Movement proposed a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 r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ment of TB research fundin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or op. res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 of M&amp;E sys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sing awareness of need to boost TB resear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 follow-up to World Health Assembly resolution; b) contribution to development of WHO's overall health research agenda to be approved by the WHA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ing information for advoca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sing profile of need for research, including on M(X)DR-TB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ibuting to development of innovative financing mechanis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governmental Working Group on Public Health, Innovation and Intellectual Prope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ing expected benefits of increased investment in resear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aboration with Stop TB Partnership secretari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ing plans to engage and persuade key fund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r networking with fund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WHO's role in Research Movement: proposed activities (2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71280" y="1657440"/>
          <a:ext cx="8964720" cy="2376360"/>
        </p:xfrm>
        <a:graphic>
          <a:graphicData uri="http://schemas.openxmlformats.org/drawingml/2006/table">
            <a:tbl>
              <a:tblPr/>
              <a:tblGrid>
                <a:gridCol w="4114800"/>
                <a:gridCol w="4849920"/>
              </a:tblGrid>
              <a:tr h="823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ctive 2):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provide a forum for funders and implementers of TB research to coordinate plans and actions, with the result of ensuring that research needs are addressed, opportunities prioritised, and gaps fille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Movement proposed a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 r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ing global TB research agend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ibution to development of research agendas of implementation WGs and subgroups, representing expressed needs of count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aging key research stakehold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aging stakeholders in line with WHO man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Contents of present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50560" y="1989000"/>
            <a:ext cx="856908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Background – continuum of health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rocess of developing the TB Research M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Relative roles of Partnership and WH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Goal, objectives and activ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evelopments to dat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roposed activities of Partnership and WH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Questions to Coordinating Bo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mmary indicative char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4920" y="987480"/>
          <a:ext cx="8964720" cy="5703840"/>
        </p:xfrm>
        <a:graphic>
          <a:graphicData uri="http://schemas.openxmlformats.org/drawingml/2006/table">
            <a:tbl>
              <a:tblPr/>
              <a:tblGrid>
                <a:gridCol w="2889360"/>
                <a:gridCol w="888840"/>
                <a:gridCol w="963720"/>
                <a:gridCol w="887400"/>
                <a:gridCol w="890640"/>
                <a:gridCol w="888840"/>
                <a:gridCol w="814320"/>
                <a:gridCol w="741600"/>
              </a:tblGrid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4 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1 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2 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3 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4 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1 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2 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der for development of research funding tracking sys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 funding for operational research through global M&amp;E sys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 expected benefits of increased investment in resear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e development of consolidated research agen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um at IUATLD meeting, Cape T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llagio meeting (or simila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 plan for targeted approaches to key research funders (high-level mission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Questions to Coordinating Boar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539280" y="162828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1773360"/>
            <a:ext cx="8569080" cy="77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oes the Board agree with the Research Movement's strategic approach emerging from the process of consultation, under the auspices of the Stop TB Partnershi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oes the Board agree that the specific activities proposed will serve to meet the Research Movement's goal and objectiv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Continuum of TB research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– needs funding at all level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95280" y="1989000"/>
            <a:ext cx="813744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Basic research for dis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evelopment of new too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diagnostic tests, drugs, vaccin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mplementation/operational researc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health policy, systems and service deliver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ocial science and behavioural researc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onitoring and evaluation of impa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pidemiology and model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2421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56000" y="35020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56000" y="4941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: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progress in process of consultation </a:t>
            </a:r>
            <a:br>
              <a:rPr sz="2800"/>
            </a:b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5292720" y="1484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T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June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17800" y="1484280"/>
            <a:ext cx="219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top TB P'shi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GB" sz="1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Cd  Bd mtg, Geneva, April 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88000" y="1413000"/>
            <a:ext cx="25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top TB P'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en-GB" sz="1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Cd Bd mtg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erli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23-24 October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645000"/>
            <a:ext cx="9144000" cy="865080"/>
          </a:xfrm>
          <a:prstGeom prst="rightArrow">
            <a:avLst>
              <a:gd name="adj1" fmla="val 50093"/>
              <a:gd name="adj2" fmla="val 96354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ESEARCH MOVEMENT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/>
          <p:nvPr/>
        </p:nvCxnSpPr>
        <p:spPr>
          <a:xfrm>
            <a:off x="2842920" y="2708280"/>
            <a:ext cx="1080" cy="9374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/>
          <p:nvPr/>
        </p:nvCxnSpPr>
        <p:spPr>
          <a:xfrm>
            <a:off x="7811640" y="2708280"/>
            <a:ext cx="1080" cy="9374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5294160" y="5589720"/>
            <a:ext cx="280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Times New Roman"/>
              </a:rPr>
              <a:t>approval of WHO's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5866920" y="2637000"/>
            <a:ext cx="1080" cy="1008720"/>
          </a:xfrm>
          <a:prstGeom prst="straightConnector1">
            <a:avLst/>
          </a:prstGeom>
          <a:ln w="54000">
            <a:solidFill>
              <a:srgbClr val="3366cc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5866920" y="4508280"/>
            <a:ext cx="1080" cy="937080"/>
          </a:xfrm>
          <a:prstGeom prst="straightConnector1">
            <a:avLst/>
          </a:prstGeom>
          <a:ln w="54000">
            <a:solidFill>
              <a:srgbClr val="3366cc"/>
            </a:solidFill>
            <a:miter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3995640" y="148428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ay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/>
          <p:nvPr/>
        </p:nvCxnSpPr>
        <p:spPr>
          <a:xfrm>
            <a:off x="4427280" y="2708280"/>
            <a:ext cx="1080" cy="9374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2843280" y="5589720"/>
            <a:ext cx="244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request "to enhance WHO's role in TB research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" name=""/>
          <p:cNvCxnSpPr/>
          <p:nvPr/>
        </p:nvCxnSpPr>
        <p:spPr>
          <a:xfrm>
            <a:off x="4427280" y="4508280"/>
            <a:ext cx="1080" cy="93708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108000" y="1484280"/>
            <a:ext cx="194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top TB P'shi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d  Bd mtg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buja April 2006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Jakarta Nov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"/>
          <p:cNvCxnSpPr/>
          <p:nvPr/>
        </p:nvCxnSpPr>
        <p:spPr>
          <a:xfrm>
            <a:off x="1042560" y="2708280"/>
            <a:ext cx="1080" cy="9374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: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relative roles of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he Partnership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and WHO (1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24000" y="1341360"/>
            <a:ext cx="8424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le of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Partnership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nvening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a wide range of TB research stakehold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(including the end-users of TB research, e.g. NTP managers, and community groups), in addition to researchers and stakeholders in related research (including health systems and policy research, HIV research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nsifying engagement with funders of research to mobilize increased funding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advocating for TB research, contributing to public awareness of TB research and promoting community mobilization for research activities through the ACSM Working Group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promoting the development of a wide range of technologies through the Partnership's Working Groups on new tool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: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lative roles of the Partnership and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WHO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(2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24000" y="1341360"/>
            <a:ext cx="8208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HO is playing a lead role in establishing the Research Movement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ince the goal and objectives are fully consistent with WHO's mand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 promote TB researc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ve advantages of WHO's contribution include it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s with countries and representation of country need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licy mandate and associated opportunities to identify research need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ole in technical collaboration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ad role in global TB M&amp;E; a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stitutional commitment to promote research as articulated by the Director-General and expressed in the 2007 WHA resolution (WHA 60.19) "TB control: progress and long-term planning"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goal and objectiv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395280" y="1557360"/>
            <a:ext cx="8569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The goal is to stimulate, support and expand research to ensure the global elimination of TB by 2050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The objectives are to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provide leadership and advocacy to mobilise increased resources in support of a coherent and comprehensive global TB research agenda;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provide a forum for funders and implementers of TB research to coordinate plans and actions, with the result of ensuring that research needs are addressed, opportunities prioritised, and gaps filled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: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activities to achieve objective 1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539640" y="1483920"/>
            <a:ext cx="8136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Objective 1): to provide leadership and advocacy to mobilise increased resources in support of a coherent and comprehensive global TB research agend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ctivities proposed to achieve objective 1)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ssessment of TB research funding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raising awareness of need to boost research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ssessment of expected benefits of increased investment in research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providing information for advocac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contributing to development of innovative financing  mechanism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coordinate plans to engage and persuade key fund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: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activities to achieve objective 2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539280" y="1484280"/>
            <a:ext cx="82803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Objective 2): to provide a forum for funders and implementers of TB research to coordinate plans and actions, with the result of ensuring that research needs are addressed, opportunities prioritised, and gaps fill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ctivities proposed to achieve objective 2)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engage key research stakeholder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further promote the research agendas of the WGs on new diagnostics, drugs and vaccine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develop global TB research agendas in specific area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facilitate interaction between research funding agenci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9T09:11:51Z</dcterms:created>
  <dc:creator>lamyquiques</dc:creator>
  <dc:description/>
  <cp:keywords/>
  <dc:language>en-US</dc:language>
  <cp:lastModifiedBy>User</cp:lastModifiedBy>
  <dcterms:modified xsi:type="dcterms:W3CDTF">2007-10-24T06:26:25Z</dcterms:modified>
  <cp:revision>3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64941164</vt:r8>
  </property>
  <property fmtid="{D5CDD505-2E9C-101B-9397-08002B2CF9AE}" pid="3" name="_AuthorEmail">
    <vt:lpwstr>maherd@who.int</vt:lpwstr>
  </property>
  <property fmtid="{D5CDD505-2E9C-101B-9397-08002B2CF9AE}" pid="4" name="_AuthorEmailDisplayName">
    <vt:lpwstr>Maher, Dermot</vt:lpwstr>
  </property>
  <property fmtid="{D5CDD505-2E9C-101B-9397-08002B2CF9AE}" pid="5" name="_EmailSubject">
    <vt:lpwstr>slides for Roberto Tapia's presentation</vt:lpwstr>
  </property>
  <property fmtid="{D5CDD505-2E9C-101B-9397-08002B2CF9AE}" pid="6" name="_NewReviewCycle">
    <vt:lpwstr/>
  </property>
  <property fmtid="{D5CDD505-2E9C-101B-9397-08002B2CF9AE}" pid="7" name="_PreviousAdHocReviewCycleID">
    <vt:r8>-472832796</vt:r8>
  </property>
  <property fmtid="{D5CDD505-2E9C-101B-9397-08002B2CF9AE}" pid="8" name="_ReviewingToolsShownOnce">
    <vt:lpwstr/>
  </property>
  <property fmtid="{D5CDD505-2E9C-101B-9397-08002B2CF9AE}" pid="9" name="_TemplateID">
    <vt:lpwstr>TC011811911033</vt:lpwstr>
  </property>
</Properties>
</file>