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760920" y="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940752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C0A0-0489-48BA-88F0-D0FE33C752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FBA1-6677-4B88-BCAF-EF4C87F81A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3480" y="470340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43CE-4E7C-44E1-83EC-868485103C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furcated contracts to create enforceable obligation on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Obviates need for LOC or escrow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No $ paid until qualifying vaccine is tender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MC does not compete for current resour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sponsibilities of companies are nomi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Guarantee Agreement is attached—obligation of donors; right of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Superior vaccines do not increase market size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  <a:ea typeface="Arial"/>
              </a:rPr>
              <a:t>→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compet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DC73-68D3-4BA5-92C0-C3DB346FB4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5D7D-BFB0-46A8-8F99-AE40FE6E6F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C0B5-0277-42A9-B3CF-36391200B3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51ED-9969-44DC-907F-E8DC69F146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DF68-6142-412C-B3EE-5F6776A1DB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E625-74A4-47FA-BFC5-7BA0C45A8D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00D0-78BF-488D-809C-62FF23A9DF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3DFB-6D10-470D-AA11-C5236CB891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3594-DBFA-4AEF-9EE5-C403676563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383C-4D9D-466A-813A-2A9CFCC0C3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FEEA-A362-4D10-B917-45AC68CFF7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D107-7E9A-4E36-B8A1-32307A8DF9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E24F6-B47F-4674-9F1F-B82FCE12F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D5E85-A749-45AC-91D2-761E271DB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3FCD3-A9DC-42BB-8954-0B30AA1DA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8B016-225D-4DC8-82D3-5122D55B8F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357E3-DCFA-4F5D-8368-5AC0137341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DC4D9-1DBB-4787-991F-DF45D51BE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72426-E24F-412F-B97A-093CCA5C6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95B45-AFEE-49F2-A548-1C1461876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A49B5-5A9B-47E2-92DB-A4C4D6798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7AEAB-B529-4714-93AE-6B6DAECF1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76F32-6E47-489A-8218-57EC390C5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E3570-557B-49AE-96BF-EA7E63B24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D5A9-BC2E-4EE6-AF65-EC9E9B69D40D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307D-AA53-4F0E-92F8-4495C1D8E5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916360" y="6381720"/>
            <a:ext cx="2824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STOP TB Board October, 2007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13" descr="GAVIAlliance"/>
          <p:cNvPicPr/>
          <p:nvPr/>
        </p:nvPicPr>
        <p:blipFill>
          <a:blip r:embed="rId2"/>
          <a:stretch/>
        </p:blipFill>
        <p:spPr>
          <a:xfrm>
            <a:off x="7143840" y="6019920"/>
            <a:ext cx="1531800" cy="66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720" y="620640"/>
            <a:ext cx="8245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Garamond"/>
              </a:rPr>
              <a:t>AMC Overview</a:t>
            </a:r>
            <a:r>
              <a:rPr b="1" lang="en-GB" sz="48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Garamond"/>
            </a:endParaRPr>
          </a:p>
        </p:txBody>
      </p:sp>
      <p:pic>
        <p:nvPicPr>
          <p:cNvPr id="50" name="Picture 6" descr="GAVIAlliance"/>
          <p:cNvPicPr/>
          <p:nvPr/>
        </p:nvPicPr>
        <p:blipFill>
          <a:blip r:embed="rId1"/>
          <a:stretch/>
        </p:blipFill>
        <p:spPr>
          <a:xfrm>
            <a:off x="3048120" y="4343400"/>
            <a:ext cx="3720960" cy="158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Accelerating Vaccine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ACF0-4492-4616-A0A0-9ADB0334CC63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Line 2"/>
          <p:cNvSpPr/>
          <p:nvPr/>
        </p:nvSpPr>
        <p:spPr>
          <a:xfrm flipV="1">
            <a:off x="1131840" y="3033360"/>
            <a:ext cx="7351920" cy="11160"/>
          </a:xfrm>
          <a:prstGeom prst="line">
            <a:avLst/>
          </a:prstGeom>
          <a:ln w="349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744120" y="1957320"/>
            <a:ext cx="1136520" cy="1025280"/>
            <a:chOff x="744120" y="1957320"/>
            <a:chExt cx="1136520" cy="1025280"/>
          </a:xfrm>
        </p:grpSpPr>
        <p:sp>
          <p:nvSpPr>
            <p:cNvPr id="379" name="Text Box 4"/>
            <p:cNvSpPr/>
            <p:nvPr/>
          </p:nvSpPr>
          <p:spPr>
            <a:xfrm>
              <a:off x="744120" y="1957320"/>
              <a:ext cx="11365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greement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nnounc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0" name="Line 5"/>
            <p:cNvSpPr/>
            <p:nvPr/>
          </p:nvSpPr>
          <p:spPr>
            <a:xfrm flipH="1">
              <a:off x="1141920" y="2697480"/>
              <a:ext cx="9360" cy="28512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81" name="Group 6"/>
          <p:cNvGrpSpPr/>
          <p:nvPr/>
        </p:nvGrpSpPr>
        <p:grpSpPr>
          <a:xfrm>
            <a:off x="495360" y="3048120"/>
            <a:ext cx="3200040" cy="2970720"/>
            <a:chOff x="495360" y="3048120"/>
            <a:chExt cx="3200040" cy="2970720"/>
          </a:xfrm>
        </p:grpSpPr>
        <p:sp>
          <p:nvSpPr>
            <p:cNvPr id="382" name="Text Box 7"/>
            <p:cNvSpPr/>
            <p:nvPr/>
          </p:nvSpPr>
          <p:spPr>
            <a:xfrm>
              <a:off x="495360" y="4872960"/>
              <a:ext cx="3200040" cy="11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dependent Assessment Committe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duct specification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uarantee term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 flipH="1">
              <a:off x="1116360" y="3048120"/>
              <a:ext cx="17280" cy="1824840"/>
            </a:xfrm>
            <a:prstGeom prst="line">
              <a:avLst/>
            </a:prstGeom>
            <a:ln cap="rnd" w="9360">
              <a:solidFill>
                <a:srgbClr val="00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84" name="Text Box 9"/>
          <p:cNvSpPr/>
          <p:nvPr/>
        </p:nvSpPr>
        <p:spPr>
          <a:xfrm>
            <a:off x="1143000" y="3244680"/>
            <a:ext cx="2743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 binding on sponsor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al for firms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884240" y="2425680"/>
            <a:ext cx="2033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Framework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4483080" y="2419200"/>
            <a:ext cx="1566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upply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886200" y="3146400"/>
            <a:ext cx="22384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 guarante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facturing capacit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ies sign on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7543800" y="3092400"/>
            <a:ext cx="15238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s provide vaccine to eligible countries at agreed lower pric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89" name="Group 14"/>
          <p:cNvGrpSpPr/>
          <p:nvPr/>
        </p:nvGrpSpPr>
        <p:grpSpPr>
          <a:xfrm>
            <a:off x="3429000" y="1846440"/>
            <a:ext cx="1294920" cy="1276920"/>
            <a:chOff x="3429000" y="1846440"/>
            <a:chExt cx="1294920" cy="1276920"/>
          </a:xfrm>
        </p:grpSpPr>
        <p:sp>
          <p:nvSpPr>
            <p:cNvPr id="390" name="Text Box 15"/>
            <p:cNvSpPr/>
            <p:nvPr/>
          </p:nvSpPr>
          <p:spPr>
            <a:xfrm>
              <a:off x="3429000" y="18464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Firs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 flipH="1">
              <a:off x="3948480" y="2604240"/>
              <a:ext cx="13680" cy="43596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2" name="AutoShape 17"/>
            <p:cNvSpPr/>
            <p:nvPr/>
          </p:nvSpPr>
          <p:spPr>
            <a:xfrm>
              <a:off x="3875400" y="2980800"/>
              <a:ext cx="147240" cy="14256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5761080" y="1828800"/>
            <a:ext cx="1096560" cy="1289880"/>
            <a:chOff x="5761080" y="1828800"/>
            <a:chExt cx="1096560" cy="1289880"/>
          </a:xfrm>
        </p:grpSpPr>
        <p:sp>
          <p:nvSpPr>
            <p:cNvPr id="394" name="Text Box 19"/>
            <p:cNvSpPr/>
            <p:nvPr/>
          </p:nvSpPr>
          <p:spPr>
            <a:xfrm>
              <a:off x="5761080" y="1828800"/>
              <a:ext cx="109656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Second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5" name="Line 20"/>
            <p:cNvSpPr/>
            <p:nvPr/>
          </p:nvSpPr>
          <p:spPr>
            <a:xfrm flipH="1">
              <a:off x="6201000" y="2594160"/>
              <a:ext cx="11520" cy="4402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6139080" y="2974680"/>
              <a:ext cx="124920" cy="1440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7" name="Group 22"/>
          <p:cNvGrpSpPr/>
          <p:nvPr/>
        </p:nvGrpSpPr>
        <p:grpSpPr>
          <a:xfrm>
            <a:off x="7162920" y="2033640"/>
            <a:ext cx="1294920" cy="1063080"/>
            <a:chOff x="7162920" y="2033640"/>
            <a:chExt cx="1294920" cy="1063080"/>
          </a:xfrm>
        </p:grpSpPr>
        <p:sp>
          <p:nvSpPr>
            <p:cNvPr id="398" name="Text Box 23"/>
            <p:cNvSpPr/>
            <p:nvPr/>
          </p:nvSpPr>
          <p:spPr>
            <a:xfrm>
              <a:off x="7162920" y="20336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Commitment 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exhaust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9" name="Line 24"/>
            <p:cNvSpPr/>
            <p:nvPr/>
          </p:nvSpPr>
          <p:spPr>
            <a:xfrm flipH="1">
              <a:off x="7682400" y="2664360"/>
              <a:ext cx="13680" cy="3628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0" name="AutoShape 25"/>
            <p:cNvSpPr/>
            <p:nvPr/>
          </p:nvSpPr>
          <p:spPr>
            <a:xfrm>
              <a:off x="7609320" y="2977920"/>
              <a:ext cx="147240" cy="1188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im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4724280" y="3886200"/>
            <a:ext cx="242424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ccines deliver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5805360" y="4067280"/>
            <a:ext cx="2424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vacci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purchased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C517-F488-41D8-9009-031B1CC1FDA6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Market Incentiv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19520" y="16462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arket ent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n to all players – multinational and emerging, biotechs and vaccine manufactur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mpet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igned to sustain 2-3 firms to encourage adequate capacity and pric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tinued inno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signed to last 7-10 years to allow multiple products.  Countries “demand” product that best meets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med_supply_pic"/>
          <p:cNvPicPr/>
          <p:nvPr/>
        </p:nvPicPr>
        <p:blipFill>
          <a:blip r:embed="rId1"/>
          <a:stretch/>
        </p:blipFill>
        <p:spPr>
          <a:xfrm>
            <a:off x="685800" y="1600200"/>
            <a:ext cx="2048040" cy="403848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685800" y="56386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UNICEF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215D-D220-4F9F-A45E-208CBD8C5AF3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A pilot AMC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lot AMC has been designed for pneumococcal vaccines to demon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asibility of the AMC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impact on accelerating vaccine development,   production scale-up, and introdu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s long term, sustainable impact, the AMC would prevent 500,000-700,000 deaths during the AMC itself and roughly 5.4 million deaths by 2030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FC26-1338-4854-A533-B66EEAD49BD2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cess to dat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convened by Center for Global Development and published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7 Finance Ministers commissioned fur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 and GAVI worked over past year on developing a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Committee chose pneumo as the pilot - $1.5 billion needed to la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aunch of AMC pilot on February 9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in Rome with aim to have signed legal agreements by earl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now focussed on finalizing remaining issues, consulting with industry and drafting legal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he Next Pilo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al expert group met February 2006 and reviewed 6 candidates (rota, pneumo, HPV, TB, malaria, H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neumo, first choice; malaria as best early stage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nvene expert group in Januar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review candidates to consider what makes the next best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on donor advocacy will then move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2D06-F547-4024-8564-A0AF3DC797A8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7" descr="GAVIAlliance"/>
          <p:cNvPicPr/>
          <p:nvPr/>
        </p:nvPicPr>
        <p:blipFill>
          <a:blip r:embed="rId1"/>
          <a:stretch/>
        </p:blipFill>
        <p:spPr>
          <a:xfrm>
            <a:off x="1042920" y="1989000"/>
            <a:ext cx="6769080" cy="28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AC29-A452-42B5-91A3-6A658ECBBEC3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685800" y="1066680"/>
          <a:ext cx="72342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2342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The new vaccines pipelin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can prevent these deaths</a:t>
            </a:r>
            <a:endParaRPr b="1" lang="en-US" sz="32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04920" y="6080040"/>
            <a:ext cx="70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 that the halos represent current  deaths being averted, and solid circles represent deaths estimated to occur. 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1143000" y="2971800"/>
            <a:ext cx="3886200" cy="3048120"/>
            <a:chOff x="1143000" y="2971800"/>
            <a:chExt cx="3886200" cy="3048120"/>
          </a:xfrm>
        </p:grpSpPr>
        <p:sp>
          <p:nvSpPr>
            <p:cNvPr id="58" name="Text Box 8"/>
            <p:cNvSpPr/>
            <p:nvPr/>
          </p:nvSpPr>
          <p:spPr>
            <a:xfrm>
              <a:off x="1143000" y="2971800"/>
              <a:ext cx="327672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Part of routine immunization and in existence for many year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219320" y="4267080"/>
              <a:ext cx="380988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0" name="Group 18"/>
          <p:cNvGrpSpPr/>
          <p:nvPr/>
        </p:nvGrpSpPr>
        <p:grpSpPr>
          <a:xfrm>
            <a:off x="3505320" y="2133720"/>
            <a:ext cx="2651040" cy="2438280"/>
            <a:chOff x="3505320" y="2133720"/>
            <a:chExt cx="2651040" cy="2438280"/>
          </a:xfrm>
        </p:grpSpPr>
        <p:sp>
          <p:nvSpPr>
            <p:cNvPr id="61" name="Oval 6"/>
            <p:cNvSpPr/>
            <p:nvPr/>
          </p:nvSpPr>
          <p:spPr>
            <a:xfrm>
              <a:off x="3780000" y="2895480"/>
              <a:ext cx="2376360" cy="167652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3505320" y="21337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Underused Vaccines – GAVI’s Focu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3" name="Group 20"/>
          <p:cNvGrpSpPr/>
          <p:nvPr/>
        </p:nvGrpSpPr>
        <p:grpSpPr>
          <a:xfrm>
            <a:off x="5562720" y="1295280"/>
            <a:ext cx="3276360" cy="2700000"/>
            <a:chOff x="5562720" y="1295280"/>
            <a:chExt cx="3276360" cy="2700000"/>
          </a:xfrm>
        </p:grpSpPr>
        <p:sp>
          <p:nvSpPr>
            <p:cNvPr id="64" name="Oval 7"/>
            <p:cNvSpPr/>
            <p:nvPr/>
          </p:nvSpPr>
          <p:spPr>
            <a:xfrm>
              <a:off x="5562720" y="1295280"/>
              <a:ext cx="236196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Text Box 17"/>
            <p:cNvSpPr/>
            <p:nvPr/>
          </p:nvSpPr>
          <p:spPr>
            <a:xfrm>
              <a:off x="6629400" y="3352680"/>
              <a:ext cx="2209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Vaccines not yet available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FEF8-F550-4922-B0C4-5BBCD82F29F6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ackage of solution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ing products (e.g. GAVI F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market for existing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s deliver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FIm – long-term contrac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future 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ADIPs, WHO &amp; UNIC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 public resources in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development P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” for scientific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4120" y="3962520"/>
            <a:ext cx="2819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ssing:  market for future produc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FC1D-8B82-4992-9B5C-A412EE957FF9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Funding the pip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066680" y="17524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066680" y="1752480"/>
            <a:ext cx="68580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676520" y="1752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scovery &amp;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895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linical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114800" y="17524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censur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81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248520" y="1752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AutoShape 13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0000ff"/>
              </a:gs>
              <a:gs pos="100000">
                <a:srgbClr val="000076">
                  <a:alpha val="0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467480" y="25462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affluent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659480" y="4876920"/>
            <a:ext cx="2503440" cy="946440"/>
            <a:chOff x="4659480" y="4876920"/>
            <a:chExt cx="2503440" cy="946440"/>
          </a:xfrm>
        </p:grpSpPr>
        <p:graphicFrame>
          <p:nvGraphicFramePr>
            <p:cNvPr id="84" name="Object 16"/>
            <p:cNvGraphicFramePr/>
            <p:nvPr/>
          </p:nvGraphicFramePr>
          <p:xfrm>
            <a:off x="4659480" y="5207040"/>
            <a:ext cx="985680" cy="36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9480" y="5207040"/>
                      <a:ext cx="98568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Text Box 17"/>
            <p:cNvSpPr/>
            <p:nvPr/>
          </p:nvSpPr>
          <p:spPr>
            <a:xfrm>
              <a:off x="5867280" y="487692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poor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8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7" name="Group 38"/>
          <p:cNvGrpSpPr/>
          <p:nvPr/>
        </p:nvGrpSpPr>
        <p:grpSpPr>
          <a:xfrm>
            <a:off x="1295280" y="4218120"/>
            <a:ext cx="4419720" cy="2635200"/>
            <a:chOff x="1295280" y="4218120"/>
            <a:chExt cx="4419720" cy="2635200"/>
          </a:xfrm>
        </p:grpSpPr>
        <p:graphicFrame>
          <p:nvGraphicFramePr>
            <p:cNvPr id="88" name="Object 19"/>
            <p:cNvGraphicFramePr/>
            <p:nvPr/>
          </p:nvGraphicFramePr>
          <p:xfrm>
            <a:off x="1905120" y="4218120"/>
            <a:ext cx="3809880" cy="263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218120"/>
                      <a:ext cx="3809880" cy="263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Text Box 20"/>
            <p:cNvSpPr/>
            <p:nvPr/>
          </p:nvSpPr>
          <p:spPr>
            <a:xfrm>
              <a:off x="1295280" y="472428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affluent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106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1" name="Line 21"/>
          <p:cNvSpPr/>
          <p:nvPr/>
        </p:nvSpPr>
        <p:spPr>
          <a:xfrm>
            <a:off x="2743200" y="2895480"/>
            <a:ext cx="3276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467480" y="3505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poor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3" name="Group 24"/>
          <p:cNvGrpSpPr/>
          <p:nvPr/>
        </p:nvGrpSpPr>
        <p:grpSpPr>
          <a:xfrm>
            <a:off x="1523520" y="3505320"/>
            <a:ext cx="5868000" cy="914400"/>
            <a:chOff x="1523520" y="3505320"/>
            <a:chExt cx="5868000" cy="914400"/>
          </a:xfrm>
        </p:grpSpPr>
        <p:sp>
          <p:nvSpPr>
            <p:cNvPr id="94" name="Oval 25"/>
            <p:cNvSpPr/>
            <p:nvPr/>
          </p:nvSpPr>
          <p:spPr>
            <a:xfrm>
              <a:off x="4495680" y="3581640"/>
              <a:ext cx="2819520" cy="838080"/>
            </a:xfrm>
            <a:prstGeom prst="ellipse">
              <a:avLst/>
            </a:prstGeom>
            <a:blipFill rotWithShape="0">
              <a:blip r:embed="rId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" name="AutoShape 26"/>
            <p:cNvSpPr/>
            <p:nvPr/>
          </p:nvSpPr>
          <p:spPr>
            <a:xfrm rot="5400000">
              <a:off x="425088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" name="AutoShape 27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AutoShape 28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6e">
                    <a:alpha val="0"/>
                  </a:srgbClr>
                </a:gs>
                <a:gs pos="100000">
                  <a:srgbClr val="00002d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8" name="AutoShape 29"/>
            <p:cNvSpPr/>
            <p:nvPr/>
          </p:nvSpPr>
          <p:spPr>
            <a:xfrm rot="5400000">
              <a:off x="427644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9" name="Oval 30"/>
            <p:cNvSpPr/>
            <p:nvPr/>
          </p:nvSpPr>
          <p:spPr>
            <a:xfrm>
              <a:off x="4343400" y="3505320"/>
              <a:ext cx="3048120" cy="838440"/>
            </a:xfrm>
            <a:prstGeom prst="ellipse">
              <a:avLst/>
            </a:prstGeom>
            <a:blipFill rotWithShape="0">
              <a:blip r:embed="rId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Group 35"/>
          <p:cNvGrpSpPr/>
          <p:nvPr/>
        </p:nvGrpSpPr>
        <p:grpSpPr>
          <a:xfrm>
            <a:off x="1523520" y="3778200"/>
            <a:ext cx="7315560" cy="2241720"/>
            <a:chOff x="1523520" y="3778200"/>
            <a:chExt cx="7315560" cy="2241720"/>
          </a:xfrm>
        </p:grpSpPr>
        <p:sp>
          <p:nvSpPr>
            <p:cNvPr id="101" name="AutoShape 32"/>
            <p:cNvSpPr/>
            <p:nvPr/>
          </p:nvSpPr>
          <p:spPr>
            <a:xfrm rot="5400000">
              <a:off x="4250520" y="1050840"/>
              <a:ext cx="26064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>
                    <a:alpha val="8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AutoShape 33"/>
            <p:cNvSpPr/>
            <p:nvPr/>
          </p:nvSpPr>
          <p:spPr>
            <a:xfrm>
              <a:off x="7162560" y="4572000"/>
              <a:ext cx="1676520" cy="1447920"/>
            </a:xfrm>
            <a:prstGeom prst="wedgeRoundRectCallout">
              <a:avLst>
                <a:gd name="adj1" fmla="val -58240"/>
                <a:gd name="adj2" fmla="val -97148"/>
                <a:gd name="adj3" fmla="val 16667"/>
              </a:avLst>
            </a:prstGeom>
            <a:solidFill>
              <a:srgbClr val="0000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Private investment to complete the pipeline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Rectangle 39"/>
          <p:cNvSpPr/>
          <p:nvPr/>
        </p:nvSpPr>
        <p:spPr>
          <a:xfrm>
            <a:off x="304920" y="5791320"/>
            <a:ext cx="228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04920" y="617220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Text Box 41"/>
          <p:cNvSpPr/>
          <p:nvPr/>
        </p:nvSpPr>
        <p:spPr>
          <a:xfrm>
            <a:off x="457200" y="5791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Text Box 42"/>
          <p:cNvSpPr/>
          <p:nvPr/>
        </p:nvSpPr>
        <p:spPr>
          <a:xfrm>
            <a:off x="457200" y="61722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0A24-FBA4-448F-8A7B-18B8315E9275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duct Development Cycl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-69840" y="6583320"/>
            <a:ext cx="32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 Mercer Management Consulting analys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799240" y="1521000"/>
            <a:ext cx="2651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w probability of market return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575320" y="1268280"/>
            <a:ext cx="318960" cy="2625840"/>
          </a:xfrm>
          <a:custGeom>
            <a:avLst/>
            <a:gdLst>
              <a:gd name="textAreaLeft" fmla="*/ 0 w 318960"/>
              <a:gd name="textAreaRight" fmla="*/ 115200 w 318960"/>
              <a:gd name="textAreaTop" fmla="*/ 68400 h 2625840"/>
              <a:gd name="textAreaBottom" fmla="*/ 2557440 h 26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441440" y="4694400"/>
            <a:ext cx="1386000" cy="502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76400" y="3809880"/>
            <a:ext cx="903600" cy="858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34280" y="2617920"/>
            <a:ext cx="165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disincentive to inves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7230960" y="2322360"/>
            <a:ext cx="5040" cy="37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10"/>
          <p:cNvSpPr/>
          <p:nvPr/>
        </p:nvSpPr>
        <p:spPr>
          <a:xfrm rot="16200000">
            <a:off x="-484920" y="3047400"/>
            <a:ext cx="203976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investmen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501920" y="5494320"/>
            <a:ext cx="42591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(years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Freeform 12"/>
          <p:cNvSpPr/>
          <p:nvPr/>
        </p:nvSpPr>
        <p:spPr>
          <a:xfrm>
            <a:off x="1441440" y="1433520"/>
            <a:ext cx="4700520" cy="3763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667880" y="5289480"/>
            <a:ext cx="4347000" cy="271440"/>
            <a:chOff x="1667880" y="5289480"/>
            <a:chExt cx="4347000" cy="271440"/>
          </a:xfrm>
        </p:grpSpPr>
        <p:sp>
          <p:nvSpPr>
            <p:cNvPr id="120" name="Rectangle 14"/>
            <p:cNvSpPr/>
            <p:nvPr/>
          </p:nvSpPr>
          <p:spPr>
            <a:xfrm>
              <a:off x="16678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20066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23414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6794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301320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33523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6871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0233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43617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4654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49881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Rectangle 25"/>
            <p:cNvSpPr/>
            <p:nvPr/>
          </p:nvSpPr>
          <p:spPr>
            <a:xfrm>
              <a:off x="53283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5662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3" name="Group 27"/>
          <p:cNvGrpSpPr/>
          <p:nvPr/>
        </p:nvGrpSpPr>
        <p:grpSpPr>
          <a:xfrm>
            <a:off x="1797120" y="5202360"/>
            <a:ext cx="4057560" cy="61920"/>
            <a:chOff x="1797120" y="5202360"/>
            <a:chExt cx="4057560" cy="61920"/>
          </a:xfrm>
        </p:grpSpPr>
        <p:sp>
          <p:nvSpPr>
            <p:cNvPr id="134" name="Line 28"/>
            <p:cNvSpPr/>
            <p:nvPr/>
          </p:nvSpPr>
          <p:spPr>
            <a:xfrm>
              <a:off x="17971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Line 29"/>
            <p:cNvSpPr/>
            <p:nvPr/>
          </p:nvSpPr>
          <p:spPr>
            <a:xfrm>
              <a:off x="2135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Line 30"/>
            <p:cNvSpPr/>
            <p:nvPr/>
          </p:nvSpPr>
          <p:spPr>
            <a:xfrm>
              <a:off x="247284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>
              <a:off x="2811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>
              <a:off x="3148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Line 33"/>
            <p:cNvSpPr/>
            <p:nvPr/>
          </p:nvSpPr>
          <p:spPr>
            <a:xfrm>
              <a:off x="3487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Line 34"/>
            <p:cNvSpPr/>
            <p:nvPr/>
          </p:nvSpPr>
          <p:spPr>
            <a:xfrm>
              <a:off x="3825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41652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Line 36"/>
            <p:cNvSpPr/>
            <p:nvPr/>
          </p:nvSpPr>
          <p:spPr>
            <a:xfrm>
              <a:off x="4502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>
              <a:off x="4840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Line 38"/>
            <p:cNvSpPr/>
            <p:nvPr/>
          </p:nvSpPr>
          <p:spPr>
            <a:xfrm>
              <a:off x="5178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Line 39"/>
            <p:cNvSpPr/>
            <p:nvPr/>
          </p:nvSpPr>
          <p:spPr>
            <a:xfrm>
              <a:off x="5517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Line 40"/>
            <p:cNvSpPr/>
            <p:nvPr/>
          </p:nvSpPr>
          <p:spPr>
            <a:xfrm>
              <a:off x="5854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Rectangle 41"/>
          <p:cNvSpPr/>
          <p:nvPr/>
        </p:nvSpPr>
        <p:spPr>
          <a:xfrm>
            <a:off x="1247040" y="50576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Line 42"/>
          <p:cNvSpPr/>
          <p:nvPr/>
        </p:nvSpPr>
        <p:spPr>
          <a:xfrm flipH="1">
            <a:off x="1468080" y="5197320"/>
            <a:ext cx="81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3772080" y="2749680"/>
            <a:ext cx="1022040" cy="1069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4132440" y="1433520"/>
            <a:ext cx="1346040" cy="13082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1562040" y="4695480"/>
            <a:ext cx="9954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-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Rectangle 46"/>
          <p:cNvSpPr/>
          <p:nvPr/>
        </p:nvSpPr>
        <p:spPr>
          <a:xfrm>
            <a:off x="2868480" y="3945960"/>
            <a:ext cx="84168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te/ early 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Rectangle 47"/>
          <p:cNvSpPr/>
          <p:nvPr/>
        </p:nvSpPr>
        <p:spPr>
          <a:xfrm>
            <a:off x="4192560" y="1671120"/>
            <a:ext cx="127800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ing capacity scale-up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Rectangle 48"/>
          <p:cNvSpPr/>
          <p:nvPr/>
        </p:nvSpPr>
        <p:spPr>
          <a:xfrm>
            <a:off x="3846600" y="2895120"/>
            <a:ext cx="88884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acy trials (phase III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AutoShape 49"/>
          <p:cNvSpPr/>
          <p:nvPr/>
        </p:nvSpPr>
        <p:spPr>
          <a:xfrm rot="5400000">
            <a:off x="2900880" y="4620240"/>
            <a:ext cx="514080" cy="66204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Rectangle 50"/>
          <p:cNvSpPr/>
          <p:nvPr/>
        </p:nvSpPr>
        <p:spPr>
          <a:xfrm>
            <a:off x="2886120" y="4808520"/>
            <a:ext cx="42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7" name="Group 51"/>
          <p:cNvGrpSpPr/>
          <p:nvPr/>
        </p:nvGrpSpPr>
        <p:grpSpPr>
          <a:xfrm>
            <a:off x="1668600" y="1980000"/>
            <a:ext cx="2376000" cy="1676880"/>
            <a:chOff x="1668600" y="1980000"/>
            <a:chExt cx="2376000" cy="1676880"/>
          </a:xfrm>
        </p:grpSpPr>
        <p:sp>
          <p:nvSpPr>
            <p:cNvPr id="158" name="Rectangle 52"/>
            <p:cNvSpPr/>
            <p:nvPr/>
          </p:nvSpPr>
          <p:spPr>
            <a:xfrm>
              <a:off x="1668600" y="1989000"/>
              <a:ext cx="1707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9360" bIns="93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ision gate: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bability of a market return?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AutoShape 53"/>
            <p:cNvSpPr/>
            <p:nvPr/>
          </p:nvSpPr>
          <p:spPr>
            <a:xfrm rot="2857200">
              <a:off x="3465000" y="2111400"/>
              <a:ext cx="524160" cy="380880"/>
            </a:xfrm>
            <a:prstGeom prst="rightArrow">
              <a:avLst>
                <a:gd name="adj1" fmla="val 50000"/>
                <a:gd name="adj2" fmla="val 34405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AutoShape 54"/>
            <p:cNvSpPr/>
            <p:nvPr/>
          </p:nvSpPr>
          <p:spPr>
            <a:xfrm rot="2857200">
              <a:off x="2995920" y="3144240"/>
              <a:ext cx="523800" cy="380880"/>
            </a:xfrm>
            <a:prstGeom prst="rightArrow">
              <a:avLst>
                <a:gd name="adj1" fmla="val 50000"/>
                <a:gd name="adj2" fmla="val 34381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58CE-2B52-4360-B872-DB125974F2CB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What is an AMC?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, risky, and unpredictable markets lead to under-investment in products of importance to the developing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’s investments in development/capacity determine what products are available, when, and to wh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ances of a future market as incentive for more timely investment by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redible commitments to guarantee future financing for priority vaccines – before funds are needed to purchase d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use funds – and buy vaccines – if there ar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mom_child_3"/>
          <p:cNvPicPr/>
          <p:nvPr/>
        </p:nvPicPr>
        <p:blipFill>
          <a:blip r:embed="rId1"/>
          <a:stretch/>
        </p:blipFill>
        <p:spPr>
          <a:xfrm>
            <a:off x="5562720" y="1295280"/>
            <a:ext cx="3143160" cy="4191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5562720" y="55627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GAVI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C7BE-B70C-4B0F-9F5E-B202CDE2744D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1363680" y="1828800"/>
            <a:ext cx="732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revious vaccine pric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5181480" y="3048120"/>
            <a:ext cx="3048120" cy="990000"/>
            <a:chOff x="5181480" y="3048120"/>
            <a:chExt cx="3048120" cy="990000"/>
          </a:xfrm>
        </p:grpSpPr>
        <p:sp>
          <p:nvSpPr>
            <p:cNvPr id="172" name="Text Box 7"/>
            <p:cNvSpPr/>
            <p:nvPr/>
          </p:nvSpPr>
          <p:spPr>
            <a:xfrm>
              <a:off x="5638680" y="304812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 declines over tim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 flipH="1">
              <a:off x="5181480" y="3352680"/>
              <a:ext cx="533520" cy="6854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2286000" y="2666880"/>
            <a:ext cx="5867280" cy="2286000"/>
            <a:chOff x="2286000" y="2666880"/>
            <a:chExt cx="5867280" cy="2286000"/>
          </a:xfrm>
        </p:grpSpPr>
        <p:sp>
          <p:nvSpPr>
            <p:cNvPr id="175" name="AutoShape 10"/>
            <p:cNvSpPr/>
            <p:nvPr/>
          </p:nvSpPr>
          <p:spPr>
            <a:xfrm>
              <a:off x="2286000" y="2971800"/>
              <a:ext cx="4648320" cy="1905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AutoShape 11"/>
            <p:cNvSpPr/>
            <p:nvPr/>
          </p:nvSpPr>
          <p:spPr>
            <a:xfrm>
              <a:off x="2286000" y="2666880"/>
              <a:ext cx="1295280" cy="83844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AutoShape 12"/>
            <p:cNvSpPr/>
            <p:nvPr/>
          </p:nvSpPr>
          <p:spPr>
            <a:xfrm>
              <a:off x="4572000" y="4038480"/>
              <a:ext cx="3505320" cy="762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AutoShape 13"/>
            <p:cNvSpPr/>
            <p:nvPr/>
          </p:nvSpPr>
          <p:spPr>
            <a:xfrm flipH="1">
              <a:off x="7314480" y="4800600"/>
              <a:ext cx="762120" cy="763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AutoShape 14"/>
            <p:cNvSpPr/>
            <p:nvPr/>
          </p:nvSpPr>
          <p:spPr>
            <a:xfrm>
              <a:off x="6705720" y="4572000"/>
              <a:ext cx="1447560" cy="3049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2286000" y="4800600"/>
              <a:ext cx="5867280" cy="15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AutoShape 16"/>
            <p:cNvSpPr/>
            <p:nvPr/>
          </p:nvSpPr>
          <p:spPr>
            <a:xfrm>
              <a:off x="6019920" y="4419720"/>
              <a:ext cx="2133360" cy="38088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183" name="Text Box 1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85" name="Text Box 20"/>
          <p:cNvSpPr/>
          <p:nvPr/>
        </p:nvSpPr>
        <p:spPr>
          <a:xfrm>
            <a:off x="251460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pays 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for R&amp;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86" name="Group 91"/>
          <p:cNvGrpSpPr/>
          <p:nvPr/>
        </p:nvGrpSpPr>
        <p:grpSpPr>
          <a:xfrm>
            <a:off x="4191120" y="1371600"/>
            <a:ext cx="3047760" cy="2438280"/>
            <a:chOff x="4191120" y="1371600"/>
            <a:chExt cx="3047760" cy="2438280"/>
          </a:xfrm>
        </p:grpSpPr>
        <p:sp>
          <p:nvSpPr>
            <p:cNvPr id="187" name="AutoShape 21"/>
            <p:cNvSpPr/>
            <p:nvPr/>
          </p:nvSpPr>
          <p:spPr>
            <a:xfrm>
              <a:off x="4191120" y="1371600"/>
              <a:ext cx="304560" cy="2438280"/>
            </a:xfrm>
            <a:prstGeom prst="downArrow">
              <a:avLst>
                <a:gd name="adj1" fmla="val 50000"/>
                <a:gd name="adj2" fmla="val 200148"/>
              </a:avLst>
            </a:prstGeom>
            <a:solidFill>
              <a:srgbClr val="009999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Text Box 22"/>
            <p:cNvSpPr/>
            <p:nvPr/>
          </p:nvSpPr>
          <p:spPr>
            <a:xfrm>
              <a:off x="4495680" y="138420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technologies reduce cost of product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Text Box 25"/>
            <p:cNvSpPr/>
            <p:nvPr/>
          </p:nvSpPr>
          <p:spPr>
            <a:xfrm>
              <a:off x="4495680" y="2238480"/>
              <a:ext cx="274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manufacturers enter mark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0" name="Line 39"/>
          <p:cNvSpPr/>
          <p:nvPr/>
        </p:nvSpPr>
        <p:spPr>
          <a:xfrm>
            <a:off x="1992240" y="2174760"/>
            <a:ext cx="1800" cy="29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0"/>
          <p:cNvSpPr/>
          <p:nvPr/>
        </p:nvSpPr>
        <p:spPr>
          <a:xfrm>
            <a:off x="1916280" y="516564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41"/>
          <p:cNvSpPr/>
          <p:nvPr/>
        </p:nvSpPr>
        <p:spPr>
          <a:xfrm>
            <a:off x="1916280" y="47926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42"/>
          <p:cNvSpPr/>
          <p:nvPr/>
        </p:nvSpPr>
        <p:spPr>
          <a:xfrm>
            <a:off x="1916280" y="441792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43"/>
          <p:cNvSpPr/>
          <p:nvPr/>
        </p:nvSpPr>
        <p:spPr>
          <a:xfrm>
            <a:off x="1916280" y="404496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44"/>
          <p:cNvSpPr/>
          <p:nvPr/>
        </p:nvSpPr>
        <p:spPr>
          <a:xfrm>
            <a:off x="1916280" y="367020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45"/>
          <p:cNvSpPr/>
          <p:nvPr/>
        </p:nvSpPr>
        <p:spPr>
          <a:xfrm>
            <a:off x="1916280" y="329724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46"/>
          <p:cNvSpPr/>
          <p:nvPr/>
        </p:nvSpPr>
        <p:spPr>
          <a:xfrm>
            <a:off x="1916280" y="292248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47"/>
          <p:cNvSpPr/>
          <p:nvPr/>
        </p:nvSpPr>
        <p:spPr>
          <a:xfrm>
            <a:off x="1916280" y="25480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48"/>
          <p:cNvSpPr/>
          <p:nvPr/>
        </p:nvSpPr>
        <p:spPr>
          <a:xfrm>
            <a:off x="1916280" y="217476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Line 49"/>
          <p:cNvSpPr/>
          <p:nvPr/>
        </p:nvSpPr>
        <p:spPr>
          <a:xfrm>
            <a:off x="1992240" y="5165640"/>
            <a:ext cx="6408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Line 50"/>
          <p:cNvSpPr/>
          <p:nvPr/>
        </p:nvSpPr>
        <p:spPr>
          <a:xfrm flipV="1">
            <a:off x="199224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Line 51"/>
          <p:cNvSpPr/>
          <p:nvPr/>
        </p:nvSpPr>
        <p:spPr>
          <a:xfrm flipV="1">
            <a:off x="24512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Line 52"/>
          <p:cNvSpPr/>
          <p:nvPr/>
        </p:nvSpPr>
        <p:spPr>
          <a:xfrm flipV="1">
            <a:off x="29084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Line 53"/>
          <p:cNvSpPr/>
          <p:nvPr/>
        </p:nvSpPr>
        <p:spPr>
          <a:xfrm flipV="1">
            <a:off x="33656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Line 54"/>
          <p:cNvSpPr/>
          <p:nvPr/>
        </p:nvSpPr>
        <p:spPr>
          <a:xfrm flipV="1">
            <a:off x="38242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Line 55"/>
          <p:cNvSpPr/>
          <p:nvPr/>
        </p:nvSpPr>
        <p:spPr>
          <a:xfrm flipV="1">
            <a:off x="42814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Line 56"/>
          <p:cNvSpPr/>
          <p:nvPr/>
        </p:nvSpPr>
        <p:spPr>
          <a:xfrm flipV="1">
            <a:off x="47386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51973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Line 58"/>
          <p:cNvSpPr/>
          <p:nvPr/>
        </p:nvSpPr>
        <p:spPr>
          <a:xfrm flipV="1">
            <a:off x="56545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Line 59"/>
          <p:cNvSpPr/>
          <p:nvPr/>
        </p:nvSpPr>
        <p:spPr>
          <a:xfrm flipV="1">
            <a:off x="61117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Line 60"/>
          <p:cNvSpPr/>
          <p:nvPr/>
        </p:nvSpPr>
        <p:spPr>
          <a:xfrm flipV="1">
            <a:off x="65707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Line 61"/>
          <p:cNvSpPr/>
          <p:nvPr/>
        </p:nvSpPr>
        <p:spPr>
          <a:xfrm flipV="1">
            <a:off x="70279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Line 62"/>
          <p:cNvSpPr/>
          <p:nvPr/>
        </p:nvSpPr>
        <p:spPr>
          <a:xfrm flipV="1">
            <a:off x="74851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Line 63"/>
          <p:cNvSpPr/>
          <p:nvPr/>
        </p:nvSpPr>
        <p:spPr>
          <a:xfrm flipV="1">
            <a:off x="79423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Line 64"/>
          <p:cNvSpPr/>
          <p:nvPr/>
        </p:nvSpPr>
        <p:spPr>
          <a:xfrm flipV="1">
            <a:off x="840096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Freeform 65"/>
          <p:cNvSpPr/>
          <p:nvPr/>
        </p:nvSpPr>
        <p:spPr>
          <a:xfrm>
            <a:off x="2222640" y="4979880"/>
            <a:ext cx="5949720" cy="180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Rectangle 67"/>
          <p:cNvSpPr/>
          <p:nvPr/>
        </p:nvSpPr>
        <p:spPr>
          <a:xfrm>
            <a:off x="1677960" y="5035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1677960" y="466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Rectangle 69"/>
          <p:cNvSpPr/>
          <p:nvPr/>
        </p:nvSpPr>
        <p:spPr>
          <a:xfrm>
            <a:off x="1677960" y="4287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Rectangle 70"/>
          <p:cNvSpPr/>
          <p:nvPr/>
        </p:nvSpPr>
        <p:spPr>
          <a:xfrm>
            <a:off x="1677960" y="3913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Rectangle 71"/>
          <p:cNvSpPr/>
          <p:nvPr/>
        </p:nvSpPr>
        <p:spPr>
          <a:xfrm>
            <a:off x="1677960" y="3540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Rectangle 72"/>
          <p:cNvSpPr/>
          <p:nvPr/>
        </p:nvSpPr>
        <p:spPr>
          <a:xfrm>
            <a:off x="1554120" y="31654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Rectangle 73"/>
          <p:cNvSpPr/>
          <p:nvPr/>
        </p:nvSpPr>
        <p:spPr>
          <a:xfrm>
            <a:off x="1554120" y="2792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Rectangle 74"/>
          <p:cNvSpPr/>
          <p:nvPr/>
        </p:nvSpPr>
        <p:spPr>
          <a:xfrm>
            <a:off x="1554120" y="24177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Rectangle 76"/>
          <p:cNvSpPr/>
          <p:nvPr/>
        </p:nvSpPr>
        <p:spPr>
          <a:xfrm>
            <a:off x="21654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Rectangle 77"/>
          <p:cNvSpPr/>
          <p:nvPr/>
        </p:nvSpPr>
        <p:spPr>
          <a:xfrm>
            <a:off x="26226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Rectangle 78"/>
          <p:cNvSpPr/>
          <p:nvPr/>
        </p:nvSpPr>
        <p:spPr>
          <a:xfrm>
            <a:off x="30798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Rectangle 79"/>
          <p:cNvSpPr/>
          <p:nvPr/>
        </p:nvSpPr>
        <p:spPr>
          <a:xfrm>
            <a:off x="35370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Rectangle 80"/>
          <p:cNvSpPr/>
          <p:nvPr/>
        </p:nvSpPr>
        <p:spPr>
          <a:xfrm>
            <a:off x="39956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Rectangle 81"/>
          <p:cNvSpPr/>
          <p:nvPr/>
        </p:nvSpPr>
        <p:spPr>
          <a:xfrm>
            <a:off x="44528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Rectangle 82"/>
          <p:cNvSpPr/>
          <p:nvPr/>
        </p:nvSpPr>
        <p:spPr>
          <a:xfrm>
            <a:off x="4910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Rectangle 83"/>
          <p:cNvSpPr/>
          <p:nvPr/>
        </p:nvSpPr>
        <p:spPr>
          <a:xfrm>
            <a:off x="5369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Rectangle 84"/>
          <p:cNvSpPr/>
          <p:nvPr/>
        </p:nvSpPr>
        <p:spPr>
          <a:xfrm>
            <a:off x="58262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Rectangle 85"/>
          <p:cNvSpPr/>
          <p:nvPr/>
        </p:nvSpPr>
        <p:spPr>
          <a:xfrm>
            <a:off x="6216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Rectangle 86"/>
          <p:cNvSpPr/>
          <p:nvPr/>
        </p:nvSpPr>
        <p:spPr>
          <a:xfrm>
            <a:off x="6675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Rectangle 87"/>
          <p:cNvSpPr/>
          <p:nvPr/>
        </p:nvSpPr>
        <p:spPr>
          <a:xfrm>
            <a:off x="71326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Freeform 90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0629-5E16-4DF8-A84B-0E6B64970985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Rectangle 85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3" name="Group 88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244" name="Text Box 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6" name="Group 87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247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9" name="Group 90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250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52" name="Line 27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Line 28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Line 32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Line 33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Line 35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Line 36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Line 37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Line 38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Line 39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Line 40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Line 41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Line 42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Line 43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Line 44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Line 46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Line 47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Line 48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Line 49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Line 50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Line 51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Line 52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Line 53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Line 54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Freeform 55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Rectangle 66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Rectangle 6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Rectangle 6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Rectangle 7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Rectangle 7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Rectangle 7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Rectangle 7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Rectangle 7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Rectangle 7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Rectangle 7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Rectangle 7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Rectangle 7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Rectangle 7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Rectangle 8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95" name="Group 86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296" name="Line 82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Line 83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Line 84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9" name="Freeform 89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0" name="Group 93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01" name="Text Box 16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3" name="Line 9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48C4-C635-44FD-BA57-0ED505E810A2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310" name="Text Box 7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2" name="Group 9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313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316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8" name="Line 18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Line 19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Line 26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Line 30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Line 31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Line 32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Line 33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Line 34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Line 35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Line 36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Line 37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Line 38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Line 39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Line 40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Line 41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Line 42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Line 43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Line 44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Line 45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Freeform 46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Rectangle 47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Rectangle 4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Rectangle 4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Rectangle 5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Rectangle 5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Rectangle 5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Rectangle 5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Rectangle 5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Rectangle 5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Rectangle 5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Rectangle 5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Rectangle 6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1" name="Group 62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362" name="Line 63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Line 64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65" name="Text Box 67"/>
          <p:cNvSpPr/>
          <p:nvPr/>
        </p:nvSpPr>
        <p:spPr>
          <a:xfrm>
            <a:off x="2514600" y="3214800"/>
            <a:ext cx="1371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"/>
              </a:rPr>
              <a:t>$X </a:t>
            </a:r>
            <a:br>
              <a:rPr sz="28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total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6" name="Group 73"/>
          <p:cNvGrpSpPr/>
          <p:nvPr/>
        </p:nvGrpSpPr>
        <p:grpSpPr>
          <a:xfrm>
            <a:off x="5105520" y="2971800"/>
            <a:ext cx="2209680" cy="1905120"/>
            <a:chOff x="5105520" y="2971800"/>
            <a:chExt cx="2209680" cy="1905120"/>
          </a:xfrm>
        </p:grpSpPr>
        <p:sp>
          <p:nvSpPr>
            <p:cNvPr id="367" name="Text Box 68"/>
            <p:cNvSpPr/>
            <p:nvPr/>
          </p:nvSpPr>
          <p:spPr>
            <a:xfrm>
              <a:off x="5105520" y="297180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In return, firms obliged to 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sell at lower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long run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Line 69"/>
            <p:cNvSpPr/>
            <p:nvPr/>
          </p:nvSpPr>
          <p:spPr>
            <a:xfrm flipH="1">
              <a:off x="5105520" y="40384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69" name="Group 70"/>
          <p:cNvGrpSpPr/>
          <p:nvPr/>
        </p:nvGrpSpPr>
        <p:grpSpPr>
          <a:xfrm>
            <a:off x="1828800" y="5410080"/>
            <a:ext cx="2209680" cy="1067400"/>
            <a:chOff x="1828800" y="5410080"/>
            <a:chExt cx="2209680" cy="1067400"/>
          </a:xfrm>
        </p:grpSpPr>
        <p:sp>
          <p:nvSpPr>
            <p:cNvPr id="370" name="Text Box 71"/>
            <p:cNvSpPr/>
            <p:nvPr/>
          </p:nvSpPr>
          <p:spPr>
            <a:xfrm>
              <a:off x="1828800" y="541008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he price for a maximum number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of treatment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Line 72"/>
            <p:cNvSpPr/>
            <p:nvPr/>
          </p:nvSpPr>
          <p:spPr>
            <a:xfrm flipH="1">
              <a:off x="2057400" y="5410080"/>
              <a:ext cx="175248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72" name="Group 78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73" name="Text Box 79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Line 80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5" name="Line 8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3:42:52Z</dcterms:created>
  <dc:creator>ajones</dc:creator>
  <dc:description/>
  <dc:language>en-US</dc:language>
  <cp:lastModifiedBy>apalacios</cp:lastModifiedBy>
  <dcterms:modified xsi:type="dcterms:W3CDTF">2007-10-23T06:47:29Z</dcterms:modified>
  <cp:revision>51</cp:revision>
  <dc:subject/>
  <dc:title>ADVANCE MARKET COMMITME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