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1BB3-CE22-452E-81A4-B02941774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63CB-9321-406F-952B-F8BBF74B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37BE-3CA7-4C3D-8091-18E1DE4A3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3E29-57FA-49A5-A16C-0C336EA15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9F41-2D03-4BE1-9CCD-739CBE3F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2BDE-C2CD-4998-9A1B-2CE9C091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DFB8-AEF9-41A3-9201-F48A004D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3AFF-64F8-4541-A727-85840EB0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E278-E8FA-4FAC-976E-58DF1063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54F5-E324-4654-A5C8-F59F1E6B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F572-43E0-4F18-8AB2-A3873D96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BAC2-11E3-49C5-8480-E56F87AB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2424-45BE-4BA8-9403-6B3C40A02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962680" y="6005520"/>
            <a:ext cx="3181320" cy="852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74720" y="1403280"/>
            <a:ext cx="748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27320" y="3511440"/>
            <a:ext cx="6916680" cy="3346560"/>
          </a:xfrm>
          <a:prstGeom prst="rect">
            <a:avLst/>
          </a:prstGeom>
          <a:noFill/>
          <a:ln w="255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Stop TB Part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24 October 200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Berlin, 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Paul Sommerf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Chair, ACSM Working Gr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826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CSM Working Group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iennium Workplan</a:t>
            </a:r>
            <a:br>
              <a:rPr sz="3600"/>
            </a:br>
            <a:br>
              <a:rPr sz="3600"/>
            </a:b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Strategic Action to Stop T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24379" t="0" r="32732" b="0"/>
          <a:stretch/>
        </p:blipFill>
        <p:spPr>
          <a:xfrm>
            <a:off x="228600" y="887400"/>
            <a:ext cx="2754360" cy="4226040"/>
          </a:xfrm>
          <a:prstGeom prst="rect">
            <a:avLst/>
          </a:prstGeom>
          <a:ln w="57240">
            <a:solidFill>
              <a:srgbClr val="66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Strategic Frame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velop Opportunities for More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gage Civil Society; Promote Collab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mote ACSM Approaches in TB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pport other Partnership Working Groups and Initi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evelop Opportun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8560" y="1562040"/>
            <a:ext cx="8020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dentify targets and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elop a "Library of Evidence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ise strategy for each tar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Link Secretariat and Partner eff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onitor resource mobilization activi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ngage Civil Socie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4880" y="1562040"/>
            <a:ext cx="8020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mote Regional and Nat'l STB Partner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nvene Reg’l and Nat’l dialogue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ordinate partne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round key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sseminate messag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ild Civil Society Capa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3040" y="1981080"/>
            <a:ext cx="8020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ction learning on civil society invol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trengthen and link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romote use of Patients' Charter and International Standards of TB C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grate ACSM in TB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00280" y="1657440"/>
            <a:ext cx="801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ntin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regional ACSM planning worksh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acilitate technical assistance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rain consultan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ntegrate ACSM into existing to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isseminate "how-to" ACSM  gui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Integrate ACSM in TB Control</a:t>
            </a: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4880" y="1486080"/>
            <a:ext cx="80200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sseminate best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duce regional case study colle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ollect examples of good ACSM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global indi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Annually review ACSM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pport other Working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6720" y="1581120"/>
            <a:ext cx="802008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romote exchange of information and sh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CSM-related tools and best pract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SimSun"/>
              </a:rPr>
              <a:t>Work with advocacy people of oth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ACSM Core Group individuals to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SimSun"/>
              </a:rPr>
              <a:t>assu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lia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vide training, tools and materials to develop advocacy capacity of oth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Next Steps </a:t>
            </a: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4880" y="1486080"/>
            <a:ext cx="8020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ranslate objectives into Action Pl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Partners meet in Cape Town to develop strategy and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Identify resources for WG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(Regular support is in Secretari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cos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2:13:56Z</dcterms:created>
  <dc:creator>LamyQuiqueS</dc:creator>
  <dc:description/>
  <dc:language>en-US</dc:language>
  <cp:lastModifiedBy>User</cp:lastModifiedBy>
  <cp:lastPrinted>2002-05-31T10:14:11Z</cp:lastPrinted>
  <dcterms:modified xsi:type="dcterms:W3CDTF">2007-10-24T06:26:30Z</dcterms:modified>
  <cp:revision>10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