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9FB-B87E-4EC9-99CE-60A7F2CB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12F7-E582-4F22-9476-6E983332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28A-1A71-4D4F-A06F-A9485A45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87C-8197-46A5-AC6D-C3D91F4B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D57-0D38-4645-AD67-35FE904B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471-A1D0-4419-A796-7AB423F1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3DB0-30EC-47A3-B336-F3C70E78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DE9-1C54-47B8-AED0-2A7FA028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00F-CCFF-4B47-86B3-8C7714B3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727-C95B-4014-AEED-E84D9CDC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05A9-EC6A-484A-ACCE-3D595B53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78A-0C6C-43AB-A009-3EBFA1D0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7452-F13B-4F35-BBDA-47FFB26CC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7320" y="3511440"/>
            <a:ext cx="6916680" cy="3346560"/>
          </a:xfrm>
          <a:prstGeom prst="rect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24 October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Berlin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Paul Sommer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hair, ACSM Working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826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SM Working Group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iennium Workplan</a:t>
            </a:r>
            <a:br>
              <a:rPr sz="3600"/>
            </a:b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trategic Action to Stop T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4379" t="0" r="32732" b="0"/>
          <a:stretch/>
        </p:blipFill>
        <p:spPr>
          <a:xfrm>
            <a:off x="228600" y="887400"/>
            <a:ext cx="2754360" cy="4226040"/>
          </a:xfrm>
          <a:prstGeom prst="rect">
            <a:avLst/>
          </a:prstGeom>
          <a:ln w="57240">
            <a:solidFill>
              <a:srgbClr val="66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Opportunities for Mo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age Civil Society; Promote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ote ACSM Approaches in TB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other Partnership Working Groups and Initi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velop Opportun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562040"/>
            <a:ext cx="8020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argets and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 "Library of Evidenc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ise strategy for each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Link Secretariat and Partner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resource mobilization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gage Civil Socie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4880" y="1562040"/>
            <a:ext cx="802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mote Regional and Nat'l STB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vene Reg’l and Nat’l dialogu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ordinate partn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round ke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mess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 Civil Society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3040" y="1981080"/>
            <a:ext cx="802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tion learning on civil society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rengthen and link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use of Patients' Charter and International Standards of TB C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280" y="1657440"/>
            <a:ext cx="80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regional ACSM planning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ilitate technical assistanc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rain consulta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tegrate ACSM into existing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isseminate "how-to" ACSM  gu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4880" y="1486080"/>
            <a:ext cx="8020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bes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duce regional case study coll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llect examples of good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glob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nnually review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port other Work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6720" y="1581120"/>
            <a:ext cx="8020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exchange of information and sh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SM-related tools and best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Work with advocacy people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CSM Core Group individuals t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ass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vide training, tools and materials to develop advocacy capacity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ext Steps 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1486080"/>
            <a:ext cx="802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late objectives into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Partners meet in Cape Town to develop strategy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resources for W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(Regular support is in Secretar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User</cp:lastModifiedBy>
  <cp:lastPrinted>2002-05-31T10:14:11Z</cp:lastPrinted>
  <dcterms:modified xsi:type="dcterms:W3CDTF">2007-10-24T06:26:30Z</dcterms:modified>
  <cp:revision>10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