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A99-E0C0-4068-986D-3F84C326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62EC-783D-446B-B220-16F0F87D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4C85-1BCD-4492-A64E-14A93C5B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D7F3-2CAA-499C-963F-C413E303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4D18-2235-4FB7-A841-94602364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0B1D-369D-4A24-A0E7-F459D021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14D1-FB8E-4A35-BF3B-51A3A2E5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302E-B020-4A43-9CD1-5B91245C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20C-B8FA-4925-B58F-2E474C22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FA4C-A574-46F7-92B7-40256F0C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94B-12D0-4FC9-B300-55D19100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8F19-6E3E-4F74-9C08-F1BC96AF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5096-F969-45F3-B89D-0E6B4ED444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126828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698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he Research Movement of the Stop TB Partnership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 meeting, 23-24 October 200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urpose of presentation to Coordinating 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feedback to the Coordinating Board from STAG on WHO's role in, and contribution to, the Research Movemen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es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proposed strategic plan of action which is, for the moment, based on STAG's endorsement and calls for full ownership by all Stop TB partner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overall scope under the Stop TB Partnershi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68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TB researc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ea typeface="Arial"/>
                <a:hlinkClick r:id="rId1"/>
              </a:rPr>
              <a:t>www.stoptb.org/researchmov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esearch featured prominently in World TB day events 2007, e.g. New York, Brussels, Berlin, Rome, Par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Dissemination of results of analysis of current funding and recent funding trends, e.g. TAG report, Kaufman and Parida (Nature Medicine, March 2007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secretariat is working closely with the ACSM WG to provide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148392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tive engagement of key research partners, includ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&amp;D WGs, including FIND, Global Alliance and Ae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funding institutions, e.g. NIH, European Commission, UK MRC, South Africa MR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ilaterals, e.g. USAID, DFI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ations, e.g. Gates, Rockefell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GOs, e.g. MSF,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ademic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D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ected benefits of investment in new diagnostics, drugs and vaccines set out in long-term strategic plans of R&amp;D WGs (Global Plan to Stop TB, 2006-2015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s develope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&amp;D Working Group strategic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search agendas developed by other WGs/subgroups and partn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DR-TB research priorities (Int J TB &amp; Lung Dis 200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B/HIV research priorities (WHO/HTM/TB/2005.35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ildhood TB (WHO/HTM/TB/2007.38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 (TDR Scientific Working Group Oct 2005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IAID, NIH  - Research Agenda for M(X)DR-TB, June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www.niaid.nih.go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k in progress, e.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mmission (new dru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8000" y="2638080"/>
            <a:ext cx="9036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racking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funding for operational research (linked to global M&amp;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TB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profile of TB research, e.g. 2008 Global Ministerial Forum on Research for Health, Bamak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unch of Research Movement at Bellagio conference (or simil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contd.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tion of expected benefits of increased investment in research, in basic and implementation research as well as in R&amp;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the ACSM W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mechani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llaboration with InterGovernmental Working Group on Public Health, Innovation and Intellectual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plans to engage and persuade key don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-level missions to main research funding agencies to advance arguments for increased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2984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2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gaging key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 and widen engagement with key research part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consultation, e.g. forum at the IUATLD conference, Cape Town, 8-12 November 2007; public-private dialo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global TB research agen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pdating the research agendas that have been developed so far, and ultimately contributing to the development of a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1280" y="1341360"/>
          <a:ext cx="8964720" cy="533412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1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leadership and advocacy to mobilise increased resources to support a coherent and comprehensive global TB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of TB research fund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or op. res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of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awareness of need to boost TB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follow-up to World Health Assembly resolution; b) contribution to development of WHO's overall health research agenda to be approved by the WHA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information for advoc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profile of need for research, including on M(X)DR-T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to development of innovative financing mechanis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governmental Working Group on Public Health, Innovation and Intellectual 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ing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on with Stop TB Partnership secretar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ng plans to engage and persuade key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networking with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1280" y="1657440"/>
          <a:ext cx="8964720" cy="237636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823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2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a forum for funders and implementers of TB research to coordinate plans and actions, with the result of ensuring that research needs are addressed, opportunities prioritised, and gaps fill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global TB research agen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on to development of research agendas of implementation WGs and subgroups, representing expressed needs of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key research stakeho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stakeholders in line with WHO man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ents of pres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85690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ackground – continuum of health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of developing the TB Research M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lative rol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oal, objectives and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uestions to Coordinating 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mary indicative cha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4920" y="987480"/>
          <a:ext cx="8964720" cy="5703840"/>
        </p:xfrm>
        <a:graphic>
          <a:graphicData uri="http://schemas.openxmlformats.org/drawingml/2006/table">
            <a:tbl>
              <a:tblPr/>
              <a:tblGrid>
                <a:gridCol w="2889360"/>
                <a:gridCol w="888840"/>
                <a:gridCol w="963720"/>
                <a:gridCol w="887400"/>
                <a:gridCol w="890640"/>
                <a:gridCol w="888840"/>
                <a:gridCol w="814320"/>
                <a:gridCol w="74160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funding for operational research through global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lagio meeting (or simil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plan for targeted approaches to key research funders (high-level miss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Questions to Coordinating Boar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773360"/>
            <a:ext cx="8569080" cy="77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with the Research Movement's strategic approach emerging from the process of consultation, under the auspices of the Stop TB Partnershi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that the specific activities proposed will serve to meet the Research Movement's goal and object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inuum of TB research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– needs funding at all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1989000"/>
            <a:ext cx="8137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asic research for dis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new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diagnostic tests, drugs, vaccin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/operation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health policy, systems and service delive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cial science and behaviour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nitoring and evaluation of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pidemiology and mode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3502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progress in process of consultation 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292720" y="148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un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7800" y="148428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 Bd mtg, Geneva, April 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1413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Bd mt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erl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3-24 October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645000"/>
            <a:ext cx="9144000" cy="865080"/>
          </a:xfrm>
          <a:prstGeom prst="rightArrow">
            <a:avLst>
              <a:gd name="adj1" fmla="val 50093"/>
              <a:gd name="adj2" fmla="val 96354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SEARCH MOVEMEN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284292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781164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294160" y="5589720"/>
            <a:ext cx="280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Times New Roman"/>
              </a:rPr>
              <a:t>approval of WHO's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5866920" y="2637000"/>
            <a:ext cx="1080" cy="100872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5866920" y="4508280"/>
            <a:ext cx="1080" cy="93708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3995640" y="1484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y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/>
          <p:nvPr/>
        </p:nvCxnSpPr>
        <p:spPr>
          <a:xfrm>
            <a:off x="442728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843280" y="5589720"/>
            <a:ext cx="24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quest "to enhance WHO's role in TB researc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>
            <a:off x="4427280" y="4508280"/>
            <a:ext cx="1080" cy="937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108000" y="148428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d  Bd mtg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uja April 2006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akarta Nov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104256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Partnershi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and WHO (1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 of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artnershi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ven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 wide range of TB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(including the end-users of TB research, e.g. NTP managers, and community groups), in addition to researchers and stakeholders in related research (including health systems and policy research, HIV researc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nsifying engagement with funders of research to mobilize increased funding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dvocating for TB research, contributing to public awareness of TB research and promoting community mobilization for research activities through the ACSM Working Group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promoting the development of a wide range of technologies through the Partnership's Working Groups on new too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the Partnership and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O is playing a lead role in establishing the Research Movemen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nce the goal and objectives are fully consistent with WHO's man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promote TB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ve advantages of WHO's contribution include i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s with countries and representation of country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y mandate and associated opportunities to identify research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le in technical collaboratio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d role in global TB M&amp;E;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itutional commitment to promote research as articulated by the Director-General and expressed in the 2007 WHA resolution (WHA 60.19) "TB control: progress and long-term planning"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goal and objectiv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goal is to stimulate, support and expand research to ensure the global elimination of TB by 2050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objectives are to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leadership and advocacy to mobilise increased resources in support of a coherent and comprehensive global TB research agenda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1): to provide leadership and advocacy to mobilise increased resources in support of a coherent and comprehensive global TB research agend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1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 mechanism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ordinate plans to engage and persuade key fund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2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2): to 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2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ngage key research stakeholder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urther promote the research agendas of the WGs on new diagnostics, drugs and vaccin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develop global TB research agendas in specific area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acilitate interaction between research funding agenc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9:11:51Z</dcterms:created>
  <dc:creator>lamyquiques</dc:creator>
  <dc:description/>
  <cp:keywords/>
  <dc:language>en-US</dc:language>
  <cp:lastModifiedBy>User</cp:lastModifiedBy>
  <dcterms:modified xsi:type="dcterms:W3CDTF">2007-10-24T06:26:25Z</dcterms:modified>
  <cp:revision>3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64941164</vt:r8>
  </property>
  <property fmtid="{D5CDD505-2E9C-101B-9397-08002B2CF9AE}" pid="3" name="_AuthorEmail">
    <vt:lpwstr>maherd@who.int</vt:lpwstr>
  </property>
  <property fmtid="{D5CDD505-2E9C-101B-9397-08002B2CF9AE}" pid="4" name="_AuthorEmailDisplayName">
    <vt:lpwstr>Maher, Dermot</vt:lpwstr>
  </property>
  <property fmtid="{D5CDD505-2E9C-101B-9397-08002B2CF9AE}" pid="5" name="_EmailSubject">
    <vt:lpwstr>slides for Roberto Tapia's presentation</vt:lpwstr>
  </property>
  <property fmtid="{D5CDD505-2E9C-101B-9397-08002B2CF9AE}" pid="6" name="_NewReviewCycle">
    <vt:lpwstr/>
  </property>
  <property fmtid="{D5CDD505-2E9C-101B-9397-08002B2CF9AE}" pid="7" name="_PreviousAdHocReviewCycleID">
    <vt:r8>-472832796</vt:r8>
  </property>
  <property fmtid="{D5CDD505-2E9C-101B-9397-08002B2CF9AE}" pid="8" name="_ReviewingToolsShownOnce">
    <vt:lpwstr/>
  </property>
  <property fmtid="{D5CDD505-2E9C-101B-9397-08002B2CF9AE}" pid="9" name="_TemplateID">
    <vt:lpwstr>TC011811911033</vt:lpwstr>
  </property>
</Properties>
</file>