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4A3-392A-401D-97F1-B0381527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0521-6DBF-4D0F-A3B2-04A4B630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1AE0-965D-43EA-93B3-22A0C9A7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332F-BFB5-4242-90DC-8033C52F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DF08-A154-4779-9E55-CAED04DC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44E2-1D89-416F-A167-EE7488A2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68A0-42F8-41AB-818B-05D7C857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7D5C-EE03-4E13-802E-8A712839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F793-0CAC-420B-A0DD-83053AF8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B475-C590-4BD5-8B09-E9567A2E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A9EA-5E42-49AF-A32A-ACF132CE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69A-8274-47E0-BB36-1476D40B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7826-27B6-4CBE-BC34-EF3D3934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605C-DCF4-4191-BDD6-7634D1CB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0248-02A8-412D-AB87-7AF620AA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7CCB-9DF9-42FC-A326-D3BA4ED9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4289-CC35-4BC0-9CAE-5179AC62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C3E-148B-49BE-9A55-FC764C9E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6D2C-1009-42DA-B7EA-0A057D66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FBE2-9410-4B66-996A-0EB52A39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ACA-71DD-4B5B-8A37-137D2505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D13F-4DF5-457C-AE20-110BC1C0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EE3A-8F9C-4FBF-8E66-B2B288B2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3449-4C83-4A1E-83B7-217EDACD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3C3A-9CF2-47B8-9FA2-C49D6CB67EB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F618-A84B-4212-8DA6-67742F9B6A3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2205000"/>
            <a:ext cx="756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ORKPLANS 2008-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SEARCH WORKING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Vaccines WG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1: Keep the Pipeline fill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workshop on innovative approaches to TB vaccine development and provide report and follow-up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2: Build capacity at vaccine trial sit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nd convene a “clinical trialists network”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in strengthening of regulatory and ethical capacity in TB endemic countries where trials are being perform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y 3: Perform clinical tria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 annual workshop on laboratory assay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international collaborative study on development of a functional assa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nual meeting on diagnostics paradigms and clinical endpoi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“white book” on clinical evaluation of TB vaccin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4: Provide an enabling infrastructure &amp;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n economics and product profi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 study on economic impac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meeting on advocacy, communications and social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advocacy mate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ommunity outreach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nd support 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f Working Grou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dget Reques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2 Objectiv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udget requested ($U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and improve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G vaccination program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y &amp; translational rese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apacity at vaccine trial 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7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clinical tri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33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n enabling infra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55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9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&amp;D Working groups are on track on the deliverables as expressed i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uilding upon early success to strenghten and expand activiti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equest Partnership to continue its support and commitment and scale up activities on resource mobilization for New Tool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ork Plan WG on Diagnostics 2008-2009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1: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Intensify collaboration within the WG on New Diagnostics and with  other WGs of the Stop TB Partnership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nlarge Core Group of the New Diagnostics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stablish Sub-groups within the New Diagnostics Working Group and facilitate sub-group members to take an active role in developing the Sub-group and working towards their goal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Annual all-day meeting of Working Group on New Diagnostics during the Union’s World Conference on Lung Health, plus 2 "Meet the Experts" Workshops in the main programme of the conference 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Part-time personnel support for secretariat in preparation of New Diagnostics WG materials, and development and maintenance of  website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 Area 2: Develop clear criteria for describing intended setting for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candidate diagnostic test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be conducted at the same time as Activity A in Priority Thre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 3: Describe an expanded diagnostics pipeline that reflects the explosion in activity aimed at developing new diagnostics for tuberculosi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conduct one workshop in 2008 to describe the expanded pipeline of T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diagnostics under development or evaluation and develop clear criteria for describing the intended setting for candidate diagnostic test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Update the pipeline in 2009.  This will be mainly achieved through e-mail and teleconference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4: Develop a Scientific Blueprint for the development of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Diagnost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Workshop, consultations, writing, publishing and distributing a Scientific Blueprint for TB Diagnostics Development.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5: Develop criteria to place developing technologies at particular stages of the “value chain” of development and evaluation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6: Work with the STP Retooling Task Force and the Subgroup on Laboratory Capacity Strengthening to promote and facilitate the implementation of new diagnostic technologie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Participation of WG members in Retooling Task Force and SCLS meeting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Develop guidelines for the introduction and sustainable implementation of new diagnostics in partnership with the RTF and SLC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osed biennial budge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0400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47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47840" y="69480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35120" y="1495440"/>
            <a:ext cx="80517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1: Support Global R&amp;D for New TB Drug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research coordination to advance the global TB drug pipeline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Symposia at IUATLD on TB drug development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sh R&amp;D activity mapping projec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Support development of clinical trial site capacity.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Assess funding needs for clinical trial site capacity building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development of biomarkers, surrogate endpoints, animal models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tract and publish a review on the state of the art of biomarkers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/co-sponsor a symposium on these top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Identify strategies to evaluate new drugs for MDR- and XDR-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and help organize meetings of the MDR/XDR Task Forc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publication of MDR/XDR Task Force document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other activities of the MDR/XDR Task Force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47840" y="67644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960" y="1793520"/>
            <a:ext cx="810576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2: Promote harmonized regulatory guidelines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for TB and MDR-TB Drug Development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 and co-sponsor annual Open Fora on key regulatory issu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3: Promote engagement with affected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community representatives (ACRs)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travel to WGND annual meetings, symposia and Open Fora; 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rovide support and training to facilitate ACR participation in meetings and WGND activitie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4: Maintain communication and collabora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WGND</a:t>
            </a: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 meetings; participate in Partnership meeting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Update the Strategic Plan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 core group to oversee implementation of the Strategic Plan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the activities of the Retooling Task Force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cations: e.g. brochure, newsletter, annual reports, websit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Retain the services of a full-time Secretaria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7840" y="68580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72600" y="144936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Minimum Two Year Budget, b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1984320"/>
          <a:ext cx="7629480" cy="4551480"/>
        </p:xfrm>
        <a:graphic>
          <a:graphicData uri="http://schemas.openxmlformats.org/drawingml/2006/table">
            <a:tbl>
              <a:tblPr/>
              <a:tblGrid>
                <a:gridCol w="741960"/>
                <a:gridCol w="2702160"/>
                <a:gridCol w="1572840"/>
                <a:gridCol w="1553760"/>
                <a:gridCol w="1058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Pri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Partnership</a:t>
                      </a: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AXIMU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TB Alli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a at IUAT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&amp;D activity mapping projec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ssess funds for clinical trial si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um on Biomark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DR Taskforce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pen For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CR Travel and train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trategic Plan Up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GND Publica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Support sta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Annual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ravel to Partnership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nvene a core grou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$3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User</cp:lastModifiedBy>
  <dcterms:modified xsi:type="dcterms:W3CDTF">2007-10-24T06:20:15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