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A982-C31C-45B0-B669-CF17EBA7F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88F2-9FAD-44E8-99C2-A4F5DFE1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36D4-88E5-4638-B767-381EB0446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EB39-B4B0-4D1D-B710-F26066FE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4373-934D-4F1A-8D3D-FE734FF3C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7B03-3986-445E-A4D0-E8CF3E2D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99A9-15FE-483A-B777-F86D8124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E132-C074-4E89-BDBE-63CBFF4D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023D-4620-4240-BF45-AF34BC20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C5E8-9F16-40D7-A0AF-309BE91E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6414-61E4-41F1-B079-676F6676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D65E-1A74-4D79-B197-7A4E6274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A5EF-AFAA-470B-A259-537D6090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8FFC-B9E1-4505-90B9-5C821EA7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839E-AFCB-43EA-A9D1-B10FEC03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B952-C6ED-4110-A03D-8D50D5DE8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AA3C-0270-468D-A74E-1F5E0997C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6F52-2783-4328-ABD0-F90E3B61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89AF-753E-4900-8555-AF6043B9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A738-92FC-4618-BC6F-03D4C8FD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B125-95CB-4558-94DA-200E1A32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56CC-4084-4E7E-91F3-7C3A425D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5CC3-C064-4AF2-9275-B8E69BE3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67E7-6EDE-495C-913D-8B80E1F0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88FC-7421-4A19-8B83-F9F702DB096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530F-43FA-4941-B648-046A5260D79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A perspective of the community evolution in TB control (2005-2007), by a living legend. 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 Ches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ril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chievements through the ACTION project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ion of the UCCATM for the Civil Society to engage in Political advocacy in Kenya.( this was after TB grant Round 2, Phase 2 was suspended in Kenya 200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ting of the suspension on R2 P2,its sign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ing of Round 5 and money disburs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vocacy for TB representation on the CC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chievements through the ACTION project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civil society engagement in TB activi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drawal of the Industrial property bill from parliament-Bill to ensure use of brand drugs only for HIV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media coverage on TB and TB/HI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sing of the political profile of TB in Keny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lanned activ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ssive effort campaign on TB in Kenya-(gazzetement of TB and HIV as emergenc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os engagement of civil societies to think and do TB work at grass root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HA conference April 2007 “Impact of TB among PLH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tly I stay committed to TB advocacy and be assured that you cant count on me for your support in all TB work= TB free wor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cknowledge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ard members for all their unwavering support  for patient empower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munity Task Fo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ll the community representatives at the Task Fo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 Jeremiah Chaka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s Educational f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I referral Hospi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ment Action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ivil Society in Ken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ntry Point in TB &amp;TB/HIV advocac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B/HIV co-inf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rviving the dual epidem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pite an immune reconstit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all started after open confession of living with HIV  being the first HCW to openly acknowledge having the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tion in TB/HIV advocacy organized by WH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ernational advocac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itation by Results educational fund to participate in media work prior to G 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nvolved media interviews on Good morning Scotland and BBC English and Kiswahili program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on one meetings with Parliamentarians in UK to sensitise them of the TB situation in Af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ivery of TB letter to Tony Blair’s office prior to G8 to advocate for T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lobal responsibi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 ever board member to represent communities affected on the Stop TB C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resentative on the TB/HIV working group and core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ion to the Open Society Institute Community advisory Committee on TB/HIV monitoring and advocacy project –Project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gass Global Task force 2006 to represent TB/HIV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lobal achievements 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unity engagement within the Stop TB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representative on the C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moting TB/HIV advisor in UNAI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ddition of component 5 within the Stop TB strateg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cipation in HLM’s and Global plan 2 launch in Africa and Toronto AIDS conferen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AG research on T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TAG-OSI collaboration for TB, TB-HIV advocacy training and treatment literac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Establishment of a Community Task For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Leading the TB-HIV WG to endorse universal targets for TB-HIV collaborative ac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Global achievements I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unch of the Patients Char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lobal media articles-Maputo, Toronto on TB and TB/HIV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unch of the Civil Society Challenge fu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romoting greater collaboration among WHO HIV and TB Departments and UNAI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romoting expanded diagnosis of smear negative of extra-pulmonary TB in high HIV prevalence are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dvocacy for new TB drugs, better TB diagnostics and a new TB vacc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dvocacy for donors support for TB contro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ional achievement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rican emergency declaration on TB-South Africa, Nigeria, Tanzania and Malawi – Kenya ?????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ement of African Civil society on TB/HIV prior to the Abuja summit that resulted in the specific TB/HIV indicators in the common position paper (post Abuj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cipation in the ACSO taskforce to represent TB/HIV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ilitation in the 2nd Training of TB/HIV advocates in Africa. And TAG’s workshop that brought together 70 participants from African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ional achieve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World Bank Pres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all African Ministers of Finance during the recent UNECA meeting in Add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all African Ministers of Health during the recent Jo Burg meeting April 2007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B Emergency- CSO advoc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OS training of journalists on TB/HIV March 20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% campaign on Health by ACS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enyan responsibi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TB/HIV steering committ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TB IC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MOI Referral Hospital TB/HIV committee that resulted in one stop clinic for TB/HI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United Civil society Coalition on AIDS,TB and Malaria representing T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ment literacy on TB and TB/HIV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OS task force on TB/HIV for training journa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5:39:40Z</dcterms:created>
  <dc:creator>  </dc:creator>
  <dc:description/>
  <dc:language>en-US</dc:language>
  <cp:lastModifiedBy>Ezio T. Santos Filho</cp:lastModifiedBy>
  <dcterms:modified xsi:type="dcterms:W3CDTF">2007-04-18T17:05:47Z</dcterms:modified>
  <cp:revision>15</cp:revision>
  <dc:subject/>
  <dc:title>2004-2006 Patient Empowerment</dc:title>
</cp:coreProperties>
</file>