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4.png" ContentType="image/png"/>
  <Override PartName="/ppt/media/image20.wmf" ContentType="image/x-wmf"/>
  <Override PartName="/ppt/media/image5.jpeg" ContentType="image/jpeg"/>
  <Override PartName="/ppt/media/image10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13.png" ContentType="image/png"/>
  <Override PartName="/ppt/media/image12.png" ContentType="image/png"/>
  <Override PartName="/ppt/media/image9.png" ContentType="image/png"/>
  <Override PartName="/ppt/media/image30.png" ContentType="image/png"/>
  <Override PartName="/ppt/media/image3.jpeg" ContentType="image/jpeg"/>
  <Override PartName="/ppt/media/image2.jpeg" ContentType="image/jpeg"/>
  <Override PartName="/ppt/media/image25.wmf" ContentType="image/x-wmf"/>
  <Override PartName="/ppt/media/image15.jpeg" ContentType="image/jpeg"/>
  <Override PartName="/ppt/media/image26.wmf" ContentType="image/x-wmf"/>
  <Override PartName="/ppt/media/image16.jpeg" ContentType="image/jpeg"/>
  <Override PartName="/ppt/media/image17.jpeg" ContentType="image/jpeg"/>
  <Override PartName="/ppt/media/image18.jpeg" ContentType="image/jpeg"/>
  <Override PartName="/ppt/media/image19.wmf" ContentType="image/x-wmf"/>
  <Override PartName="/ppt/media/image6.jpeg" ContentType="image/jpeg"/>
  <Override PartName="/ppt/media/image21.wmf" ContentType="image/x-wmf"/>
  <Override PartName="/ppt/media/image22.wmf" ContentType="image/x-wmf"/>
  <Override PartName="/ppt/media/image24.wmf" ContentType="image/x-wmf"/>
  <Override PartName="/ppt/media/image27.wmf" ContentType="image/x-wmf"/>
  <Override PartName="/ppt/media/image23.wmf" ContentType="image/x-wmf"/>
  <Override PartName="/ppt/media/image2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FC026-5190-4415-B849-F1BED96369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t in other countries we are not seeing the expected dec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43" name="PlaceHolder 2"/>
          <p:cNvSpPr>
            <a:spLocks noGrp="1"/>
          </p:cNvSpPr>
          <p:nvPr>
            <p:ph type="body"/>
          </p:nvPr>
        </p:nvSpPr>
        <p:spPr>
          <a:xfrm>
            <a:off x="679320" y="471600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rst, a reminder about the targ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751E-AB9A-4380-8DF9-25660095CD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E4F8B-8536-48BB-B34C-2D5CAA112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5AC4-02A3-4FF6-BFAC-3D019E153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025E-1158-4F88-8193-86CBA16AF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E2A85-3985-4548-B514-82631B4B4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E50B-9B46-4D20-BDC6-B239C2141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75C2-AEC7-45C7-9D17-F84CEBB7C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85B9-EEAC-4CDC-8D6F-6386067B0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4389-4424-4A02-AE5B-3B0F27373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9221-BB38-4E08-B759-2D6BA712B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A681-4C16-4509-8445-2EBEEA7F8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9AE0-79DC-4B16-9A28-BA0EB8610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DADCF0-FBAD-4F78-87DC-894E2D9DA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image" Target="../media/image17.jpeg"/><Relationship Id="rId8" Type="http://schemas.openxmlformats.org/officeDocument/2006/relationships/image" Target="../media/image18.jpe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93480" y="1844280"/>
            <a:ext cx="8281800" cy="23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n-GB" sz="3800" spc="-1" strike="noStrike">
                <a:solidFill>
                  <a:srgbClr val="000000"/>
                </a:solidFill>
                <a:latin typeface="Arial"/>
              </a:rPr>
              <a:t>Did we reach the 2005 targets?</a:t>
            </a:r>
            <a:br>
              <a:rPr sz="3800"/>
            </a:br>
            <a:r>
              <a:rPr b="1" lang="en-GB" sz="3800" spc="-1" strike="noStrike">
                <a:solidFill>
                  <a:srgbClr val="000000"/>
                </a:solidFill>
                <a:latin typeface="Arial"/>
              </a:rPr>
              <a:t>Will we achieve the Millennium Development Goals?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428760" y="333360"/>
            <a:ext cx="4647600" cy="1224000"/>
            <a:chOff x="428760" y="333360"/>
            <a:chExt cx="4647600" cy="1224000"/>
          </a:xfrm>
        </p:grpSpPr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3128040" y="333360"/>
              <a:ext cx="109152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2"/>
            <a:stretch/>
          </p:blipFill>
          <p:spPr>
            <a:xfrm>
              <a:off x="428760" y="335160"/>
              <a:ext cx="943920" cy="1222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2" name="" descr=""/>
            <p:cNvPicPr/>
            <p:nvPr/>
          </p:nvPicPr>
          <p:blipFill>
            <a:blip r:embed="rId3"/>
            <a:stretch/>
          </p:blipFill>
          <p:spPr>
            <a:xfrm>
              <a:off x="1328400" y="333360"/>
              <a:ext cx="1799640" cy="1224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" descr=""/>
            <p:cNvPicPr/>
            <p:nvPr/>
          </p:nvPicPr>
          <p:blipFill>
            <a:blip r:embed="rId4"/>
            <a:stretch/>
          </p:blipFill>
          <p:spPr>
            <a:xfrm>
              <a:off x="4206960" y="333360"/>
              <a:ext cx="869400" cy="1224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395280" y="4437000"/>
            <a:ext cx="5905440" cy="181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65160" y="1622520"/>
            <a:ext cx="4500360" cy="44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803160" y="1806480"/>
            <a:ext cx="3222720" cy="36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803160" y="1806480"/>
            <a:ext cx="3222720" cy="364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03160" y="1806480"/>
            <a:ext cx="1800" cy="364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736560" y="544680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6560" y="454032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36560" y="363384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736560" y="271296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36560" y="180648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3160" y="5446800"/>
            <a:ext cx="3222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803160" y="5446440"/>
            <a:ext cx="1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1816200" y="544644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V="1">
            <a:off x="2816280" y="544644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3828960" y="5446440"/>
            <a:ext cx="1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803160" y="3029040"/>
            <a:ext cx="3025800" cy="1708200"/>
          </a:xfrm>
          <a:custGeom>
            <a:avLst/>
            <a:gdLst/>
            <a:ahLst/>
            <a:rect l="l" t="t" r="r" b="b"/>
            <a:pathLst>
              <a:path w="230" h="130">
                <a:moveTo>
                  <a:pt x="0" y="130"/>
                </a:moveTo>
                <a:lnTo>
                  <a:pt x="15" y="122"/>
                </a:lnTo>
                <a:lnTo>
                  <a:pt x="31" y="115"/>
                </a:lnTo>
                <a:lnTo>
                  <a:pt x="46" y="104"/>
                </a:lnTo>
                <a:lnTo>
                  <a:pt x="61" y="96"/>
                </a:lnTo>
                <a:lnTo>
                  <a:pt x="77" y="81"/>
                </a:lnTo>
                <a:lnTo>
                  <a:pt x="92" y="73"/>
                </a:lnTo>
                <a:lnTo>
                  <a:pt x="107" y="65"/>
                </a:lnTo>
                <a:lnTo>
                  <a:pt x="123" y="54"/>
                </a:lnTo>
                <a:lnTo>
                  <a:pt x="138" y="45"/>
                </a:lnTo>
                <a:lnTo>
                  <a:pt x="153" y="39"/>
                </a:lnTo>
                <a:lnTo>
                  <a:pt x="168" y="24"/>
                </a:lnTo>
                <a:lnTo>
                  <a:pt x="184" y="16"/>
                </a:lnTo>
                <a:lnTo>
                  <a:pt x="199" y="9"/>
                </a:lnTo>
                <a:lnTo>
                  <a:pt x="214" y="0"/>
                </a:lnTo>
                <a:lnTo>
                  <a:pt x="230" y="3"/>
                </a:lnTo>
              </a:path>
            </a:pathLst>
          </a:custGeom>
          <a:noFill/>
          <a:ln w="39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3160" y="5118120"/>
            <a:ext cx="3025800" cy="183960"/>
          </a:xfrm>
          <a:custGeom>
            <a:avLst/>
            <a:gdLst/>
            <a:ahLst/>
            <a:rect l="l" t="t" r="r" b="b"/>
            <a:pathLst>
              <a:path w="230" h="14">
                <a:moveTo>
                  <a:pt x="0" y="14"/>
                </a:moveTo>
                <a:lnTo>
                  <a:pt x="15" y="14"/>
                </a:lnTo>
                <a:lnTo>
                  <a:pt x="31" y="14"/>
                </a:lnTo>
                <a:lnTo>
                  <a:pt x="46" y="13"/>
                </a:lnTo>
                <a:lnTo>
                  <a:pt x="61" y="11"/>
                </a:lnTo>
                <a:lnTo>
                  <a:pt x="77" y="10"/>
                </a:lnTo>
                <a:lnTo>
                  <a:pt x="92" y="6"/>
                </a:lnTo>
                <a:lnTo>
                  <a:pt x="107" y="5"/>
                </a:lnTo>
                <a:lnTo>
                  <a:pt x="123" y="5"/>
                </a:lnTo>
                <a:lnTo>
                  <a:pt x="138" y="1"/>
                </a:lnTo>
                <a:lnTo>
                  <a:pt x="153" y="1"/>
                </a:lnTo>
                <a:lnTo>
                  <a:pt x="168" y="1"/>
                </a:lnTo>
                <a:lnTo>
                  <a:pt x="184" y="0"/>
                </a:lnTo>
                <a:lnTo>
                  <a:pt x="199" y="1"/>
                </a:lnTo>
                <a:lnTo>
                  <a:pt x="214" y="1"/>
                </a:lnTo>
                <a:lnTo>
                  <a:pt x="230" y="1"/>
                </a:lnTo>
              </a:path>
            </a:pathLst>
          </a:custGeom>
          <a:noFill/>
          <a:ln w="39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03160" y="2398680"/>
            <a:ext cx="3025800" cy="222120"/>
          </a:xfrm>
          <a:custGeom>
            <a:avLst/>
            <a:gdLst/>
            <a:ahLst/>
            <a:rect l="l" t="t" r="r" b="b"/>
            <a:pathLst>
              <a:path w="230" h="17">
                <a:moveTo>
                  <a:pt x="0" y="0"/>
                </a:moveTo>
                <a:lnTo>
                  <a:pt x="15" y="2"/>
                </a:lnTo>
                <a:lnTo>
                  <a:pt x="31" y="2"/>
                </a:lnTo>
                <a:lnTo>
                  <a:pt x="46" y="0"/>
                </a:lnTo>
                <a:lnTo>
                  <a:pt x="61" y="3"/>
                </a:lnTo>
                <a:lnTo>
                  <a:pt x="77" y="3"/>
                </a:lnTo>
                <a:lnTo>
                  <a:pt x="92" y="0"/>
                </a:lnTo>
                <a:lnTo>
                  <a:pt x="107" y="0"/>
                </a:lnTo>
                <a:lnTo>
                  <a:pt x="123" y="3"/>
                </a:lnTo>
                <a:lnTo>
                  <a:pt x="138" y="1"/>
                </a:lnTo>
                <a:lnTo>
                  <a:pt x="153" y="3"/>
                </a:lnTo>
                <a:lnTo>
                  <a:pt x="168" y="7"/>
                </a:lnTo>
                <a:lnTo>
                  <a:pt x="184" y="9"/>
                </a:lnTo>
                <a:lnTo>
                  <a:pt x="199" y="14"/>
                </a:lnTo>
                <a:lnTo>
                  <a:pt x="214" y="17"/>
                </a:lnTo>
                <a:lnTo>
                  <a:pt x="230" y="12"/>
                </a:lnTo>
              </a:path>
            </a:pathLst>
          </a:custGeom>
          <a:noFill/>
          <a:ln w="39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12640" y="53276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12640" y="442116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12640" y="351468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12640" y="259560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12640" y="16891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65200" y="5643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579680" y="5643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77960" y="5643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592440" y="564372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 rot="16200000">
            <a:off x="-1307520" y="3494880"/>
            <a:ext cx="3109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new cases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853360" y="4684680"/>
            <a:ext cx="951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00"/>
                </a:solidFill>
                <a:latin typeface="Arial"/>
              </a:rPr>
              <a:t>E Europ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209760" y="3435480"/>
            <a:ext cx="613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Afric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447640" y="1978200"/>
            <a:ext cx="1369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80"/>
                </a:solidFill>
                <a:latin typeface="Arial"/>
              </a:rPr>
              <a:t>Rest of worl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184640" y="1622520"/>
            <a:ext cx="4894200" cy="44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906800" y="1806480"/>
            <a:ext cx="324972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4906800" y="1806480"/>
            <a:ext cx="3249720" cy="3600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06800" y="1806480"/>
            <a:ext cx="1800" cy="360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842000" y="540720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4842000" y="421164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4842000" y="300204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842000" y="1806480"/>
            <a:ext cx="64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906800" y="5407200"/>
            <a:ext cx="3249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4906800" y="5407200"/>
            <a:ext cx="180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 flipV="1">
            <a:off x="5919840" y="5407200"/>
            <a:ext cx="144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V="1">
            <a:off x="6934320" y="5407200"/>
            <a:ext cx="144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 flipV="1">
            <a:off x="7959600" y="5407200"/>
            <a:ext cx="180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906800" y="2055960"/>
            <a:ext cx="3052800" cy="2798640"/>
          </a:xfrm>
          <a:custGeom>
            <a:avLst/>
            <a:gdLst/>
            <a:ahLst/>
            <a:rect l="l" t="t" r="r" b="b"/>
            <a:pathLst>
              <a:path w="232" h="213">
                <a:moveTo>
                  <a:pt x="0" y="213"/>
                </a:moveTo>
                <a:lnTo>
                  <a:pt x="15" y="200"/>
                </a:lnTo>
                <a:lnTo>
                  <a:pt x="31" y="187"/>
                </a:lnTo>
                <a:lnTo>
                  <a:pt x="46" y="167"/>
                </a:lnTo>
                <a:lnTo>
                  <a:pt x="62" y="155"/>
                </a:lnTo>
                <a:lnTo>
                  <a:pt x="77" y="132"/>
                </a:lnTo>
                <a:lnTo>
                  <a:pt x="93" y="114"/>
                </a:lnTo>
                <a:lnTo>
                  <a:pt x="108" y="99"/>
                </a:lnTo>
                <a:lnTo>
                  <a:pt x="124" y="84"/>
                </a:lnTo>
                <a:lnTo>
                  <a:pt x="139" y="65"/>
                </a:lnTo>
                <a:lnTo>
                  <a:pt x="154" y="56"/>
                </a:lnTo>
                <a:lnTo>
                  <a:pt x="170" y="37"/>
                </a:lnTo>
                <a:lnTo>
                  <a:pt x="185" y="26"/>
                </a:lnTo>
                <a:lnTo>
                  <a:pt x="201" y="19"/>
                </a:lnTo>
                <a:lnTo>
                  <a:pt x="216" y="7"/>
                </a:lnTo>
                <a:lnTo>
                  <a:pt x="232" y="0"/>
                </a:lnTo>
              </a:path>
            </a:pathLst>
          </a:custGeom>
          <a:noFill/>
          <a:ln w="39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156520" y="1806480"/>
            <a:ext cx="1800" cy="360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8091360" y="540720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8091360" y="421164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91360" y="300204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8091360" y="1806480"/>
            <a:ext cx="131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4906800" y="2227320"/>
            <a:ext cx="3052800" cy="1695240"/>
          </a:xfrm>
          <a:custGeom>
            <a:avLst/>
            <a:gdLst/>
            <a:ahLst/>
            <a:rect l="l" t="t" r="r" b="b"/>
            <a:pathLst>
              <a:path w="232" h="129">
                <a:moveTo>
                  <a:pt x="0" y="129"/>
                </a:moveTo>
                <a:lnTo>
                  <a:pt x="15" y="122"/>
                </a:lnTo>
                <a:lnTo>
                  <a:pt x="31" y="116"/>
                </a:lnTo>
                <a:lnTo>
                  <a:pt x="46" y="96"/>
                </a:lnTo>
                <a:lnTo>
                  <a:pt x="62" y="91"/>
                </a:lnTo>
                <a:lnTo>
                  <a:pt x="77" y="68"/>
                </a:lnTo>
                <a:lnTo>
                  <a:pt x="93" y="52"/>
                </a:lnTo>
                <a:lnTo>
                  <a:pt x="108" y="42"/>
                </a:lnTo>
                <a:lnTo>
                  <a:pt x="124" y="33"/>
                </a:lnTo>
                <a:lnTo>
                  <a:pt x="139" y="18"/>
                </a:lnTo>
                <a:lnTo>
                  <a:pt x="154" y="19"/>
                </a:lnTo>
                <a:lnTo>
                  <a:pt x="170" y="4"/>
                </a:lnTo>
                <a:lnTo>
                  <a:pt x="185" y="0"/>
                </a:lnTo>
                <a:lnTo>
                  <a:pt x="201" y="4"/>
                </a:lnTo>
                <a:lnTo>
                  <a:pt x="216" y="0"/>
                </a:lnTo>
                <a:lnTo>
                  <a:pt x="232" y="5"/>
                </a:lnTo>
              </a:path>
            </a:pathLst>
          </a:custGeom>
          <a:noFill/>
          <a:ln w="3960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618080" y="52880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4618080" y="409248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4618080" y="28843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4618080" y="16891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670280" y="560376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5683320" y="560376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696000" y="560376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723080" y="560376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16200000">
            <a:off x="2824560" y="3412440"/>
            <a:ext cx="3109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new cases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8327880" y="528804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11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327880" y="409248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12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327880" y="28843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13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8327880" y="16891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14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6200000">
            <a:off x="7243200" y="3462120"/>
            <a:ext cx="3245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New cases per 100,000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39640" y="2043000"/>
            <a:ext cx="1707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Rate per 100,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040000" y="4869000"/>
            <a:ext cx="172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cas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79280" y="260280"/>
            <a:ext cx="878544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Global TB inciden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Arial"/>
              </a:rPr>
              <a:t>rate stable or falling by 2005, numbers still increa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1" dur="2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4" dur="2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2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8" dur="2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2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0" y="297000"/>
            <a:ext cx="9144000" cy="626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407960" y="1538280"/>
            <a:ext cx="7358040" cy="40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07960" y="1538280"/>
            <a:ext cx="7358040" cy="4084560"/>
          </a:xfrm>
          <a:prstGeom prst="rect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422360" y="3639960"/>
            <a:ext cx="333360" cy="198288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467080" y="5124600"/>
            <a:ext cx="333360" cy="49824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527280" y="4246560"/>
            <a:ext cx="333360" cy="137628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4572000" y="5335560"/>
            <a:ext cx="333360" cy="28728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5632560" y="2990880"/>
            <a:ext cx="331560" cy="263196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6676920" y="4307040"/>
            <a:ext cx="331920" cy="131580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736040" y="4200480"/>
            <a:ext cx="333360" cy="142236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755720" y="1855800"/>
            <a:ext cx="333360" cy="376704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800440" y="5335560"/>
            <a:ext cx="349200" cy="28728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3860640" y="4564080"/>
            <a:ext cx="333360" cy="105876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905360" y="5245200"/>
            <a:ext cx="347760" cy="37764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964120" y="4049640"/>
            <a:ext cx="333360" cy="157320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008840" y="4761000"/>
            <a:ext cx="349200" cy="86184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069400" y="4381560"/>
            <a:ext cx="333360" cy="124128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089080" y="4640400"/>
            <a:ext cx="333360" cy="98244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3149640" y="5381640"/>
            <a:ext cx="331920" cy="24120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4194000" y="4941720"/>
            <a:ext cx="331920" cy="6811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253120" y="5472000"/>
            <a:ext cx="333360" cy="15084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297480" y="4307040"/>
            <a:ext cx="333360" cy="131580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358040" y="4957920"/>
            <a:ext cx="333360" cy="6649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8402760" y="4911840"/>
            <a:ext cx="333360" cy="71100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07960" y="1538280"/>
            <a:ext cx="1800" cy="4084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317600" y="5622840"/>
            <a:ext cx="90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317600" y="5108400"/>
            <a:ext cx="90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317600" y="4608360"/>
            <a:ext cx="90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317600" y="4094280"/>
            <a:ext cx="9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317600" y="3579840"/>
            <a:ext cx="9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317600" y="3065400"/>
            <a:ext cx="903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317600" y="2567160"/>
            <a:ext cx="9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317600" y="2052720"/>
            <a:ext cx="9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317600" y="1538280"/>
            <a:ext cx="903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07960" y="5622840"/>
            <a:ext cx="735804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V="1">
            <a:off x="1407960" y="5622840"/>
            <a:ext cx="180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V="1">
            <a:off x="2452680" y="5622840"/>
            <a:ext cx="144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V="1">
            <a:off x="3511440" y="5622840"/>
            <a:ext cx="180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 flipV="1">
            <a:off x="4556160" y="5622840"/>
            <a:ext cx="144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V="1">
            <a:off x="5616720" y="5622840"/>
            <a:ext cx="144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flipV="1">
            <a:off x="6661080" y="5622840"/>
            <a:ext cx="180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 flipV="1">
            <a:off x="7721640" y="5622840"/>
            <a:ext cx="144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V="1">
            <a:off x="8766000" y="5622840"/>
            <a:ext cx="1800" cy="90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2611080" y="477720"/>
            <a:ext cx="506340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Global epidemic in decline... 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078640" y="947880"/>
            <a:ext cx="60328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but not fast enough to meet MDG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1013760" y="5456160"/>
            <a:ext cx="1638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846360" y="494172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846360" y="444348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846360" y="392904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846360" y="341316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846360" y="289872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846360" y="240048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846360" y="188604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846360" y="1371600"/>
            <a:ext cx="3268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1648440" y="5880240"/>
            <a:ext cx="6026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F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662560" y="5880240"/>
            <a:ext cx="6681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AM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723120" y="5880240"/>
            <a:ext cx="6516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M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798080" y="5880240"/>
            <a:ext cx="6195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EU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5736600" y="5880240"/>
            <a:ext cx="81468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SEA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6873480" y="5880240"/>
            <a:ext cx="6836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WP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825680" y="5880240"/>
            <a:ext cx="82836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Worl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 rot="16200000">
            <a:off x="-1441800" y="3430800"/>
            <a:ext cx="353340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eaths (per 100 000/year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6191280" y="1673280"/>
            <a:ext cx="2482920" cy="99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6676920" y="1779480"/>
            <a:ext cx="150840" cy="150840"/>
          </a:xfrm>
          <a:prstGeom prst="rect">
            <a:avLst/>
          </a:prstGeom>
          <a:solidFill>
            <a:srgbClr val="00008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6889320" y="170352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6676920" y="2097000"/>
            <a:ext cx="150840" cy="152640"/>
          </a:xfrm>
          <a:prstGeom prst="rect">
            <a:avLst/>
          </a:prstGeom>
          <a:solidFill>
            <a:srgbClr val="ff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889320" y="202248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676920" y="2430360"/>
            <a:ext cx="150840" cy="15084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890400" y="2354400"/>
            <a:ext cx="13417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arget 201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3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6" dur="1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9" dur="1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1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5" dur="10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1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6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9" dur="1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2" dur="1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1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8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1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6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9" dur="1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1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5" dur="1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8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1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3" name="" descr=""/>
          <p:cNvPicPr/>
          <p:nvPr/>
        </p:nvPicPr>
        <p:blipFill>
          <a:blip r:embed="rId1"/>
          <a:stretch/>
        </p:blipFill>
        <p:spPr>
          <a:xfrm>
            <a:off x="0" y="31680"/>
            <a:ext cx="9144000" cy="679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" descr=""/>
          <p:cNvPicPr/>
          <p:nvPr/>
        </p:nvPicPr>
        <p:blipFill>
          <a:blip r:embed="rId1"/>
          <a:stretch/>
        </p:blipFill>
        <p:spPr>
          <a:xfrm>
            <a:off x="0" y="352440"/>
            <a:ext cx="9144000" cy="6153120"/>
          </a:xfrm>
          <a:prstGeom prst="rect">
            <a:avLst/>
          </a:prstGeom>
          <a:ln w="0">
            <a:noFill/>
          </a:ln>
        </p:spPr>
      </p:pic>
      <p:sp>
        <p:nvSpPr>
          <p:cNvPr id="495" name=""/>
          <p:cNvSpPr/>
          <p:nvPr/>
        </p:nvSpPr>
        <p:spPr>
          <a:xfrm>
            <a:off x="828720" y="333360"/>
            <a:ext cx="8064360" cy="106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INDIA: NO STATE SHOWS MARKED DECLINE IN CASE NOTIFIC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6" name="" descr=""/>
          <p:cNvPicPr/>
          <p:nvPr/>
        </p:nvPicPr>
        <p:blipFill>
          <a:blip r:embed="rId1"/>
          <a:stretch/>
        </p:blipFill>
        <p:spPr>
          <a:xfrm>
            <a:off x="0" y="117360"/>
            <a:ext cx="9144000" cy="65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914400" y="198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008000"/>
                </a:solidFill>
                <a:latin typeface="Arial"/>
              </a:rPr>
              <a:t>Trends in case notification rates in Viet Nam, 1997-200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1243080" y="2405160"/>
            <a:ext cx="234720" cy="134460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01840" y="3381480"/>
            <a:ext cx="235080" cy="36828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3362400" y="3749760"/>
            <a:ext cx="234720" cy="37944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421160" y="3749760"/>
            <a:ext cx="235080" cy="31248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5479920" y="3749760"/>
            <a:ext cx="235080" cy="73800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540480" y="3559320"/>
            <a:ext cx="235080" cy="19044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7599240" y="3384720"/>
            <a:ext cx="235080" cy="36504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477800" y="2824200"/>
            <a:ext cx="236880" cy="92556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2536920" y="3749760"/>
            <a:ext cx="236520" cy="86652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597120" y="3749760"/>
            <a:ext cx="236520" cy="183348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656240" y="3749760"/>
            <a:ext cx="236520" cy="162396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5715000" y="3749760"/>
            <a:ext cx="236520" cy="183672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6775560" y="3481560"/>
            <a:ext cx="236520" cy="26820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7834320" y="3749760"/>
            <a:ext cx="236520" cy="58896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714680" y="2451240"/>
            <a:ext cx="234720" cy="12985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2773440" y="3735360"/>
            <a:ext cx="234720" cy="1440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833640" y="3749760"/>
            <a:ext cx="233640" cy="6904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4892760" y="3749760"/>
            <a:ext cx="234720" cy="55224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5951520" y="3749760"/>
            <a:ext cx="235080" cy="10713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012080" y="3487680"/>
            <a:ext cx="233280" cy="26208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8070840" y="3670200"/>
            <a:ext cx="235080" cy="7956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1360440" y="2131560"/>
            <a:ext cx="1800" cy="2732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332000" y="213192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419200" y="3279240"/>
            <a:ext cx="1800" cy="1018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2392200" y="327960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3479760" y="4041360"/>
            <a:ext cx="1800" cy="874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680" bIns="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3451320" y="4041720"/>
            <a:ext cx="568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 flipV="1">
            <a:off x="4538520" y="3967200"/>
            <a:ext cx="1800" cy="9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4510080" y="396720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 flipV="1">
            <a:off x="5597640" y="4379760"/>
            <a:ext cx="1440" cy="108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570640" y="4379760"/>
            <a:ext cx="568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6657840" y="3465000"/>
            <a:ext cx="1800" cy="939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6629400" y="346536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7716960" y="3342960"/>
            <a:ext cx="1440" cy="414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688160" y="334332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1360440" y="2405160"/>
            <a:ext cx="1800" cy="568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332000" y="246204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2419200" y="3381480"/>
            <a:ext cx="1800" cy="101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392200" y="3483000"/>
            <a:ext cx="57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3479760" y="4129200"/>
            <a:ext cx="1800" cy="87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451320" y="4216320"/>
            <a:ext cx="568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4538520" y="4062240"/>
            <a:ext cx="1800" cy="96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4510080" y="415908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5597640" y="4487760"/>
            <a:ext cx="1440" cy="1080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5570640" y="4595760"/>
            <a:ext cx="568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6657840" y="3559320"/>
            <a:ext cx="1800" cy="95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6629400" y="365436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716960" y="3384720"/>
            <a:ext cx="1440" cy="42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7688160" y="342756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V="1">
            <a:off x="1595520" y="2600280"/>
            <a:ext cx="1440" cy="2239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1566720" y="2600280"/>
            <a:ext cx="59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 flipV="1">
            <a:off x="2654280" y="4455720"/>
            <a:ext cx="1440" cy="1602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627280" y="445608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3714840" y="5435640"/>
            <a:ext cx="1440" cy="147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3686040" y="5435640"/>
            <a:ext cx="57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4773600" y="5221080"/>
            <a:ext cx="1440" cy="1522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745160" y="522144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5832360" y="5440320"/>
            <a:ext cx="1800" cy="146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805360" y="544032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6892920" y="3362040"/>
            <a:ext cx="1440" cy="119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6864480" y="3362400"/>
            <a:ext cx="568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 flipV="1">
            <a:off x="7951680" y="4274640"/>
            <a:ext cx="1800" cy="637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923240" y="427500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1595520" y="2824200"/>
            <a:ext cx="1440" cy="222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566720" y="3046320"/>
            <a:ext cx="59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654280" y="4616280"/>
            <a:ext cx="1440" cy="158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2627280" y="477504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3714840" y="5583240"/>
            <a:ext cx="1440" cy="1461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686040" y="5729400"/>
            <a:ext cx="57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773600" y="5373720"/>
            <a:ext cx="1440" cy="1508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4745160" y="552456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832360" y="5586480"/>
            <a:ext cx="1800" cy="1443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805360" y="5730840"/>
            <a:ext cx="572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892920" y="3481560"/>
            <a:ext cx="1440" cy="1173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6864480" y="3598920"/>
            <a:ext cx="568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951680" y="4338720"/>
            <a:ext cx="1800" cy="60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7923240" y="439884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 flipV="1">
            <a:off x="1832040" y="2317320"/>
            <a:ext cx="1440" cy="1335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1803240" y="2317680"/>
            <a:ext cx="5904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2890800" y="3649680"/>
            <a:ext cx="1800" cy="8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2862360" y="364968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V="1">
            <a:off x="3949560" y="4365360"/>
            <a:ext cx="1800" cy="74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3922560" y="4365720"/>
            <a:ext cx="57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 flipV="1">
            <a:off x="5010120" y="4287600"/>
            <a:ext cx="1440" cy="140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4981680" y="428796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V="1">
            <a:off x="6068880" y="4734000"/>
            <a:ext cx="1800" cy="871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6040440" y="4734000"/>
            <a:ext cx="586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 flipV="1">
            <a:off x="7128000" y="3412800"/>
            <a:ext cx="1440" cy="745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7101000" y="3413160"/>
            <a:ext cx="568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8188200" y="3634920"/>
            <a:ext cx="1800" cy="349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8159760" y="363528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1832040" y="2451240"/>
            <a:ext cx="1440" cy="13176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1803240" y="2583000"/>
            <a:ext cx="590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2890800" y="3735360"/>
            <a:ext cx="1800" cy="8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862360" y="382104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949560" y="4440240"/>
            <a:ext cx="1800" cy="763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3922560" y="4516560"/>
            <a:ext cx="5724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010120" y="4302000"/>
            <a:ext cx="1440" cy="1476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4981680" y="444960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6068880" y="4821120"/>
            <a:ext cx="1800" cy="856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040440" y="490680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7128000" y="3487680"/>
            <a:ext cx="1440" cy="7308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101000" y="3560760"/>
            <a:ext cx="56880" cy="144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8188200" y="3670200"/>
            <a:ext cx="1800" cy="3492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8159760" y="3705120"/>
            <a:ext cx="58680" cy="1800"/>
          </a:xfrm>
          <a:prstGeom prst="line">
            <a:avLst/>
          </a:prstGeom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066680" y="1598760"/>
            <a:ext cx="1800" cy="43005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1033560" y="589932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1033560" y="4824360"/>
            <a:ext cx="33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1033560" y="374976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033560" y="267336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033560" y="1598760"/>
            <a:ext cx="331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066680" y="3749760"/>
            <a:ext cx="741528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762120" y="5748480"/>
            <a:ext cx="20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762120" y="4673520"/>
            <a:ext cx="203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800280" y="3598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800280" y="25225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800280" y="1447920"/>
            <a:ext cx="12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1454760" y="58212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-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2513520" y="58212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5-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572640" y="58212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5-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4632840" y="58212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5-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5691960" y="5821200"/>
            <a:ext cx="582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5-6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799320" y="5821200"/>
            <a:ext cx="387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5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7848720" y="5821200"/>
            <a:ext cx="4824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rot="16200000">
            <a:off x="-940680" y="3304080"/>
            <a:ext cx="2922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nual percentage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5931000" y="6154560"/>
            <a:ext cx="2519280" cy="22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012000" y="6381720"/>
            <a:ext cx="144360" cy="142920"/>
          </a:xfrm>
          <a:prstGeom prst="rect">
            <a:avLst/>
          </a:prstGeom>
          <a:solidFill>
            <a:srgbClr val="00008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244920" y="6324480"/>
            <a:ext cx="45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6804000" y="6381720"/>
            <a:ext cx="144360" cy="142920"/>
          </a:xfrm>
          <a:prstGeom prst="rect">
            <a:avLst/>
          </a:prstGeom>
          <a:solidFill>
            <a:srgbClr val="ff6600"/>
          </a:solidFill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7002000" y="6308640"/>
            <a:ext cx="826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om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7885080" y="6381720"/>
            <a:ext cx="174600" cy="142920"/>
          </a:xfrm>
          <a:prstGeom prst="rect">
            <a:avLst/>
          </a:prstGeom>
          <a:noFill/>
          <a:ln w="11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8128800" y="6308640"/>
            <a:ext cx="547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" descr=""/>
          <p:cNvPicPr/>
          <p:nvPr/>
        </p:nvPicPr>
        <p:blipFill>
          <a:blip r:embed="rId1"/>
          <a:stretch/>
        </p:blipFill>
        <p:spPr>
          <a:xfrm>
            <a:off x="6084720" y="1341360"/>
            <a:ext cx="2374920" cy="19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1" name="" descr=""/>
          <p:cNvPicPr/>
          <p:nvPr/>
        </p:nvPicPr>
        <p:blipFill>
          <a:blip r:embed="rId1"/>
          <a:stretch/>
        </p:blipFill>
        <p:spPr>
          <a:xfrm>
            <a:off x="0" y="54000"/>
            <a:ext cx="9144000" cy="675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2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3" name="" descr=""/>
          <p:cNvPicPr/>
          <p:nvPr/>
        </p:nvPicPr>
        <p:blipFill>
          <a:blip r:embed="rId1"/>
          <a:stretch/>
        </p:blipFill>
        <p:spPr>
          <a:xfrm>
            <a:off x="0" y="189000"/>
            <a:ext cx="9144000" cy="64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692000" y="333360"/>
            <a:ext cx="7343640" cy="22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"Millennium Development Holes"</a:t>
            </a:r>
            <a:br>
              <a:rPr sz="36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"political commitment… is failing to deliver on its promises. The problem is made worse by the questionable evaluation of progress"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ature v446, p347,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" descr=""/>
          <p:cNvPicPr/>
          <p:nvPr/>
        </p:nvPicPr>
        <p:blipFill>
          <a:blip r:embed="rId1"/>
          <a:stretch/>
        </p:blipFill>
        <p:spPr>
          <a:xfrm>
            <a:off x="142920" y="4365720"/>
            <a:ext cx="8893080" cy="2230200"/>
          </a:xfrm>
          <a:prstGeom prst="rect">
            <a:avLst/>
          </a:prstGeom>
          <a:ln w="0">
            <a:noFill/>
          </a:ln>
        </p:spPr>
      </p:pic>
      <p:sp>
        <p:nvSpPr>
          <p:cNvPr id="636" name=""/>
          <p:cNvSpPr/>
          <p:nvPr/>
        </p:nvSpPr>
        <p:spPr>
          <a:xfrm>
            <a:off x="468360" y="3716280"/>
            <a:ext cx="482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N Walker et al, Lancet v369, p956, 200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7" name="" descr=""/>
          <p:cNvPicPr/>
          <p:nvPr/>
        </p:nvPicPr>
        <p:blipFill>
          <a:blip r:embed="rId2"/>
          <a:stretch/>
        </p:blipFill>
        <p:spPr>
          <a:xfrm>
            <a:off x="47520" y="333360"/>
            <a:ext cx="1675080" cy="2232000"/>
          </a:xfrm>
          <a:prstGeom prst="rect">
            <a:avLst/>
          </a:prstGeom>
          <a:ln w="0">
            <a:noFill/>
          </a:ln>
        </p:spPr>
      </p:pic>
      <p:pic>
        <p:nvPicPr>
          <p:cNvPr id="638" name="" descr=""/>
          <p:cNvPicPr/>
          <p:nvPr/>
        </p:nvPicPr>
        <p:blipFill>
          <a:blip r:embed="rId3"/>
          <a:stretch/>
        </p:blipFill>
        <p:spPr>
          <a:xfrm>
            <a:off x="7524720" y="2708280"/>
            <a:ext cx="1125720" cy="151272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4">
            <a:lum contrast="20000"/>
          </a:blip>
          <a:stretch/>
        </p:blipFill>
        <p:spPr>
          <a:xfrm>
            <a:off x="512640" y="2906640"/>
            <a:ext cx="6877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79280" y="333360"/>
            <a:ext cx="8785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ore than 6m cases growing at 2-3%/yr in 1990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Asia dominates burden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   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Africa governs tre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5160" y="1765440"/>
            <a:ext cx="4500360" cy="44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803160" y="1949400"/>
            <a:ext cx="3222720" cy="364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803160" y="1949400"/>
            <a:ext cx="3222720" cy="3640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803160" y="1949400"/>
            <a:ext cx="1800" cy="3640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36560" y="558972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36560" y="468324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6560" y="3776760"/>
            <a:ext cx="666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36560" y="285588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36560" y="1949400"/>
            <a:ext cx="666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03160" y="5589720"/>
            <a:ext cx="32227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803160" y="5589720"/>
            <a:ext cx="180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1816200" y="5589720"/>
            <a:ext cx="144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2816280" y="5589720"/>
            <a:ext cx="144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3828960" y="5589720"/>
            <a:ext cx="1800" cy="64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000" bIns="18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03160" y="3684600"/>
            <a:ext cx="2013120" cy="1195200"/>
          </a:xfrm>
          <a:custGeom>
            <a:avLst/>
            <a:gdLst/>
            <a:ahLst/>
            <a:rect l="l" t="t" r="r" b="b"/>
            <a:pathLst>
              <a:path w="153" h="91">
                <a:moveTo>
                  <a:pt x="0" y="91"/>
                </a:moveTo>
                <a:lnTo>
                  <a:pt x="15" y="83"/>
                </a:lnTo>
                <a:lnTo>
                  <a:pt x="31" y="76"/>
                </a:lnTo>
                <a:lnTo>
                  <a:pt x="46" y="65"/>
                </a:lnTo>
                <a:lnTo>
                  <a:pt x="61" y="57"/>
                </a:lnTo>
                <a:lnTo>
                  <a:pt x="77" y="42"/>
                </a:lnTo>
                <a:lnTo>
                  <a:pt x="92" y="34"/>
                </a:lnTo>
                <a:lnTo>
                  <a:pt x="107" y="26"/>
                </a:lnTo>
                <a:lnTo>
                  <a:pt x="123" y="15"/>
                </a:lnTo>
                <a:lnTo>
                  <a:pt x="138" y="6"/>
                </a:lnTo>
                <a:lnTo>
                  <a:pt x="153" y="0"/>
                </a:lnTo>
              </a:path>
            </a:pathLst>
          </a:custGeom>
          <a:noFill/>
          <a:ln w="3960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03160" y="5273640"/>
            <a:ext cx="2013120" cy="171360"/>
          </a:xfrm>
          <a:custGeom>
            <a:avLst/>
            <a:gdLst/>
            <a:ahLst/>
            <a:rect l="l" t="t" r="r" b="b"/>
            <a:pathLst>
              <a:path w="153" h="13">
                <a:moveTo>
                  <a:pt x="0" y="13"/>
                </a:moveTo>
                <a:lnTo>
                  <a:pt x="15" y="13"/>
                </a:lnTo>
                <a:lnTo>
                  <a:pt x="31" y="13"/>
                </a:lnTo>
                <a:lnTo>
                  <a:pt x="46" y="12"/>
                </a:lnTo>
                <a:lnTo>
                  <a:pt x="61" y="10"/>
                </a:lnTo>
                <a:lnTo>
                  <a:pt x="77" y="9"/>
                </a:lnTo>
                <a:lnTo>
                  <a:pt x="92" y="5"/>
                </a:lnTo>
                <a:lnTo>
                  <a:pt x="107" y="4"/>
                </a:lnTo>
                <a:lnTo>
                  <a:pt x="123" y="4"/>
                </a:lnTo>
                <a:lnTo>
                  <a:pt x="138" y="0"/>
                </a:lnTo>
                <a:lnTo>
                  <a:pt x="153" y="0"/>
                </a:lnTo>
              </a:path>
            </a:pathLst>
          </a:custGeom>
          <a:noFill/>
          <a:ln w="3960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03160" y="2541600"/>
            <a:ext cx="2013120" cy="38160"/>
          </a:xfrm>
          <a:custGeom>
            <a:avLst/>
            <a:gdLst/>
            <a:ahLst/>
            <a:rect l="l" t="t" r="r" b="b"/>
            <a:pathLst>
              <a:path w="153" h="3">
                <a:moveTo>
                  <a:pt x="0" y="0"/>
                </a:moveTo>
                <a:lnTo>
                  <a:pt x="15" y="2"/>
                </a:lnTo>
                <a:lnTo>
                  <a:pt x="31" y="2"/>
                </a:lnTo>
                <a:lnTo>
                  <a:pt x="46" y="0"/>
                </a:lnTo>
                <a:lnTo>
                  <a:pt x="61" y="3"/>
                </a:lnTo>
                <a:lnTo>
                  <a:pt x="77" y="3"/>
                </a:lnTo>
                <a:lnTo>
                  <a:pt x="92" y="0"/>
                </a:lnTo>
                <a:lnTo>
                  <a:pt x="107" y="0"/>
                </a:lnTo>
                <a:lnTo>
                  <a:pt x="123" y="3"/>
                </a:lnTo>
                <a:lnTo>
                  <a:pt x="138" y="1"/>
                </a:lnTo>
                <a:lnTo>
                  <a:pt x="153" y="3"/>
                </a:lnTo>
              </a:path>
            </a:pathLst>
          </a:custGeom>
          <a:noFill/>
          <a:ln w="3960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12640" y="547056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12640" y="456408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12640" y="365760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12640" y="273852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12640" y="18320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65200" y="57862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579680" y="57862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77960" y="57862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92440" y="57862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6200000">
            <a:off x="-1307520" y="3558600"/>
            <a:ext cx="3109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new cases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919800" y="5024520"/>
            <a:ext cx="9518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8000"/>
                </a:solidFill>
                <a:latin typeface="Arial"/>
              </a:rPr>
              <a:t>E Europ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20520" y="4038480"/>
            <a:ext cx="613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0000"/>
                </a:solidFill>
                <a:latin typeface="Arial"/>
              </a:rPr>
              <a:t>Afric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20520" y="2120760"/>
            <a:ext cx="136944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80"/>
                </a:solidFill>
                <a:latin typeface="Arial"/>
              </a:rPr>
              <a:t>Rest of worl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184640" y="1765440"/>
            <a:ext cx="4894200" cy="445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906800" y="1949400"/>
            <a:ext cx="323712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906800" y="1949400"/>
            <a:ext cx="323712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906800" y="1949400"/>
            <a:ext cx="1800" cy="3600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842000" y="5549760"/>
            <a:ext cx="64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842000" y="435456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842000" y="3144960"/>
            <a:ext cx="6480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842000" y="1949400"/>
            <a:ext cx="6480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906800" y="5549760"/>
            <a:ext cx="32371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906800" y="5549400"/>
            <a:ext cx="180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919840" y="554940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6934320" y="554940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7947000" y="5549400"/>
            <a:ext cx="1440" cy="651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8360" bIns="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906800" y="2935440"/>
            <a:ext cx="2027520" cy="2062080"/>
          </a:xfrm>
          <a:custGeom>
            <a:avLst/>
            <a:gdLst/>
            <a:ahLst/>
            <a:rect l="l" t="t" r="r" b="b"/>
            <a:pathLst>
              <a:path w="154" h="157">
                <a:moveTo>
                  <a:pt x="0" y="157"/>
                </a:moveTo>
                <a:lnTo>
                  <a:pt x="15" y="144"/>
                </a:lnTo>
                <a:lnTo>
                  <a:pt x="31" y="131"/>
                </a:lnTo>
                <a:lnTo>
                  <a:pt x="46" y="111"/>
                </a:lnTo>
                <a:lnTo>
                  <a:pt x="62" y="99"/>
                </a:lnTo>
                <a:lnTo>
                  <a:pt x="77" y="76"/>
                </a:lnTo>
                <a:lnTo>
                  <a:pt x="92" y="58"/>
                </a:lnTo>
                <a:lnTo>
                  <a:pt x="108" y="43"/>
                </a:lnTo>
                <a:lnTo>
                  <a:pt x="123" y="28"/>
                </a:lnTo>
                <a:lnTo>
                  <a:pt x="138" y="9"/>
                </a:lnTo>
                <a:lnTo>
                  <a:pt x="154" y="0"/>
                </a:lnTo>
              </a:path>
            </a:pathLst>
          </a:custGeom>
          <a:noFill/>
          <a:ln w="39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8143920" y="1949400"/>
            <a:ext cx="1440" cy="36003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78760" y="5549760"/>
            <a:ext cx="131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078760" y="465624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078760" y="3749760"/>
            <a:ext cx="131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078760" y="2855880"/>
            <a:ext cx="131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078760" y="1949400"/>
            <a:ext cx="131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906800" y="2449440"/>
            <a:ext cx="2027520" cy="1090800"/>
          </a:xfrm>
          <a:custGeom>
            <a:avLst/>
            <a:gdLst/>
            <a:ahLst/>
            <a:rect l="l" t="t" r="r" b="b"/>
            <a:pathLst>
              <a:path w="154" h="83">
                <a:moveTo>
                  <a:pt x="0" y="83"/>
                </a:moveTo>
                <a:lnTo>
                  <a:pt x="15" y="78"/>
                </a:lnTo>
                <a:lnTo>
                  <a:pt x="31" y="73"/>
                </a:lnTo>
                <a:lnTo>
                  <a:pt x="46" y="58"/>
                </a:lnTo>
                <a:lnTo>
                  <a:pt x="62" y="54"/>
                </a:lnTo>
                <a:lnTo>
                  <a:pt x="77" y="37"/>
                </a:lnTo>
                <a:lnTo>
                  <a:pt x="92" y="25"/>
                </a:lnTo>
                <a:lnTo>
                  <a:pt x="108" y="18"/>
                </a:lnTo>
                <a:lnTo>
                  <a:pt x="123" y="11"/>
                </a:lnTo>
                <a:lnTo>
                  <a:pt x="138" y="0"/>
                </a:lnTo>
                <a:lnTo>
                  <a:pt x="154" y="0"/>
                </a:lnTo>
              </a:path>
            </a:pathLst>
          </a:custGeom>
          <a:noFill/>
          <a:ln w="39600">
            <a:solidFill>
              <a:srgbClr val="3366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18080" y="543096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618080" y="423540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618080" y="30272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18080" y="1832040"/>
            <a:ext cx="12096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670280" y="57466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683320" y="57466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96000" y="57466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7710480" y="5746680"/>
            <a:ext cx="482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 rot="16200000">
            <a:off x="2824560" y="3555360"/>
            <a:ext cx="31096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new cases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315280" y="543096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315280" y="45385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1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315280" y="363204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2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315280" y="273852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3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15280" y="1832040"/>
            <a:ext cx="3618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14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6200000">
            <a:off x="7477200" y="3602880"/>
            <a:ext cx="277740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Cases per 100,000 per yea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027040" y="2185920"/>
            <a:ext cx="17074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66ff"/>
                </a:solidFill>
                <a:latin typeface="Arial"/>
              </a:rPr>
              <a:t>Rate per 100,00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7400" y="5037120"/>
            <a:ext cx="1729080" cy="2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Millions of cas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40" name=""/>
          <p:cNvGraphicFramePr/>
          <p:nvPr/>
        </p:nvGraphicFramePr>
        <p:xfrm>
          <a:off x="458640" y="1339920"/>
          <a:ext cx="8289720" cy="5328720"/>
        </p:xfrm>
        <a:graphic>
          <a:graphicData uri="http://schemas.openxmlformats.org/drawingml/2006/table">
            <a:tbl>
              <a:tblPr/>
              <a:tblGrid>
                <a:gridCol w="4145760"/>
                <a:gridCol w="4143960"/>
              </a:tblGrid>
              <a:tr h="1021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70/85 targets met in W Pacific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70/85 targets not met globall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70/85 targets met in ≈ 26 countrie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Meeting targets may not have expected impac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7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Rapid implementation Stop TB Strategy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TB/HIV &amp; MDR from levels far below Global Plan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Global TB epidemic on point of decline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Not yet fast enough to meet MDG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9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008000"/>
                          </a:solidFill>
                          <a:latin typeface="Arial"/>
                        </a:rPr>
                        <a:t>2007 report published all surveys of infection, disease, deaths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600" spc="-1" strike="noStrike">
                          <a:solidFill>
                            <a:srgbClr val="cc0000"/>
                          </a:solidFill>
                          <a:latin typeface="Arial"/>
                        </a:rPr>
                        <a:t>Evidence for trends and impact to be more extensive and robust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8000"/>
                </a:solidFill>
                <a:latin typeface="Arial"/>
              </a:rPr>
              <a:t>The good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GB" sz="4400" spc="-1" strike="noStrike">
                <a:solidFill>
                  <a:srgbClr val="cc0000"/>
                </a:solidFill>
                <a:latin typeface="Arial"/>
              </a:rPr>
              <a:t>the bad</a:t>
            </a: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 and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08000" y="476280"/>
            <a:ext cx="4897440" cy="313524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076720" y="476280"/>
            <a:ext cx="3816360" cy="3141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Arial"/>
              </a:rPr>
              <a:t>World Health Assembly 1991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79280" y="3860640"/>
            <a:ext cx="8713800" cy="2531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Trebuchet MS"/>
              </a:rPr>
              <a:t>"…attain a  global target of cure of 85% sputum-positive patients under treatment and detection of 70% of cases by the year 2000"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71400" y="0"/>
            <a:ext cx="55562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11240" y="2935440"/>
            <a:ext cx="4876920" cy="3644640"/>
          </a:xfrm>
          <a:custGeom>
            <a:avLst/>
            <a:gdLst/>
            <a:ahLst/>
            <a:rect l="l" t="t" r="r" b="b"/>
            <a:pathLst>
              <a:path w="316" h="236">
                <a:moveTo>
                  <a:pt x="0" y="236"/>
                </a:moveTo>
                <a:lnTo>
                  <a:pt x="31" y="234"/>
                </a:lnTo>
                <a:lnTo>
                  <a:pt x="63" y="233"/>
                </a:lnTo>
                <a:lnTo>
                  <a:pt x="95" y="231"/>
                </a:lnTo>
                <a:lnTo>
                  <a:pt x="126" y="210"/>
                </a:lnTo>
                <a:lnTo>
                  <a:pt x="158" y="189"/>
                </a:lnTo>
                <a:lnTo>
                  <a:pt x="190" y="145"/>
                </a:lnTo>
                <a:lnTo>
                  <a:pt x="221" y="117"/>
                </a:lnTo>
                <a:lnTo>
                  <a:pt x="253" y="64"/>
                </a:lnTo>
                <a:lnTo>
                  <a:pt x="285" y="17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8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11240" y="1838160"/>
            <a:ext cx="4876920" cy="3876840"/>
          </a:xfrm>
          <a:custGeom>
            <a:avLst/>
            <a:gdLst/>
            <a:ahLst/>
            <a:rect l="l" t="t" r="r" b="b"/>
            <a:pathLst>
              <a:path w="316" h="251">
                <a:moveTo>
                  <a:pt x="0" y="251"/>
                </a:moveTo>
                <a:lnTo>
                  <a:pt x="31" y="198"/>
                </a:lnTo>
                <a:lnTo>
                  <a:pt x="63" y="184"/>
                </a:lnTo>
                <a:lnTo>
                  <a:pt x="95" y="185"/>
                </a:lnTo>
                <a:lnTo>
                  <a:pt x="126" y="194"/>
                </a:lnTo>
                <a:lnTo>
                  <a:pt x="158" y="190"/>
                </a:lnTo>
                <a:lnTo>
                  <a:pt x="190" y="189"/>
                </a:lnTo>
                <a:lnTo>
                  <a:pt x="221" y="192"/>
                </a:lnTo>
                <a:lnTo>
                  <a:pt x="253" y="142"/>
                </a:lnTo>
                <a:lnTo>
                  <a:pt x="285" y="63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11240" y="2641680"/>
            <a:ext cx="4876920" cy="3876480"/>
          </a:xfrm>
          <a:custGeom>
            <a:avLst/>
            <a:gdLst/>
            <a:ahLst/>
            <a:rect l="l" t="t" r="r" b="b"/>
            <a:pathLst>
              <a:path w="316" h="251">
                <a:moveTo>
                  <a:pt x="0" y="251"/>
                </a:moveTo>
                <a:lnTo>
                  <a:pt x="31" y="239"/>
                </a:lnTo>
                <a:lnTo>
                  <a:pt x="63" y="227"/>
                </a:lnTo>
                <a:lnTo>
                  <a:pt x="95" y="208"/>
                </a:lnTo>
                <a:lnTo>
                  <a:pt x="126" y="182"/>
                </a:lnTo>
                <a:lnTo>
                  <a:pt x="158" y="179"/>
                </a:lnTo>
                <a:lnTo>
                  <a:pt x="190" y="173"/>
                </a:lnTo>
                <a:lnTo>
                  <a:pt x="221" y="137"/>
                </a:lnTo>
                <a:lnTo>
                  <a:pt x="253" y="110"/>
                </a:lnTo>
                <a:lnTo>
                  <a:pt x="285" y="51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ff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11240" y="5297400"/>
            <a:ext cx="4876920" cy="649440"/>
          </a:xfrm>
          <a:custGeom>
            <a:avLst/>
            <a:gdLst/>
            <a:ahLst/>
            <a:rect l="l" t="t" r="r" b="b"/>
            <a:pathLst>
              <a:path w="316" h="42">
                <a:moveTo>
                  <a:pt x="0" y="41"/>
                </a:moveTo>
                <a:lnTo>
                  <a:pt x="31" y="40"/>
                </a:lnTo>
                <a:lnTo>
                  <a:pt x="63" y="42"/>
                </a:lnTo>
                <a:lnTo>
                  <a:pt x="95" y="39"/>
                </a:lnTo>
                <a:lnTo>
                  <a:pt x="126" y="33"/>
                </a:lnTo>
                <a:lnTo>
                  <a:pt x="158" y="32"/>
                </a:lnTo>
                <a:lnTo>
                  <a:pt x="190" y="32"/>
                </a:lnTo>
                <a:lnTo>
                  <a:pt x="221" y="33"/>
                </a:lnTo>
                <a:lnTo>
                  <a:pt x="253" y="14"/>
                </a:lnTo>
                <a:lnTo>
                  <a:pt x="285" y="2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11240" y="3105000"/>
            <a:ext cx="4876920" cy="3073680"/>
          </a:xfrm>
          <a:custGeom>
            <a:avLst/>
            <a:gdLst/>
            <a:ahLst/>
            <a:rect l="l" t="t" r="r" b="b"/>
            <a:pathLst>
              <a:path w="316" h="199">
                <a:moveTo>
                  <a:pt x="0" y="199"/>
                </a:moveTo>
                <a:lnTo>
                  <a:pt x="31" y="169"/>
                </a:lnTo>
                <a:lnTo>
                  <a:pt x="63" y="152"/>
                </a:lnTo>
                <a:lnTo>
                  <a:pt x="95" y="132"/>
                </a:lnTo>
                <a:lnTo>
                  <a:pt x="126" y="130"/>
                </a:lnTo>
                <a:lnTo>
                  <a:pt x="158" y="126"/>
                </a:lnTo>
                <a:lnTo>
                  <a:pt x="190" y="119"/>
                </a:lnTo>
                <a:lnTo>
                  <a:pt x="221" y="101"/>
                </a:lnTo>
                <a:lnTo>
                  <a:pt x="253" y="81"/>
                </a:lnTo>
                <a:lnTo>
                  <a:pt x="285" y="58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00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11240" y="4417920"/>
            <a:ext cx="4876920" cy="2178000"/>
          </a:xfrm>
          <a:custGeom>
            <a:avLst/>
            <a:gdLst/>
            <a:ahLst/>
            <a:rect l="l" t="t" r="r" b="b"/>
            <a:pathLst>
              <a:path w="316" h="141">
                <a:moveTo>
                  <a:pt x="0" y="137"/>
                </a:moveTo>
                <a:lnTo>
                  <a:pt x="31" y="134"/>
                </a:lnTo>
                <a:lnTo>
                  <a:pt x="63" y="141"/>
                </a:lnTo>
                <a:lnTo>
                  <a:pt x="95" y="127"/>
                </a:lnTo>
                <a:lnTo>
                  <a:pt x="126" y="133"/>
                </a:lnTo>
                <a:lnTo>
                  <a:pt x="158" y="130"/>
                </a:lnTo>
                <a:lnTo>
                  <a:pt x="190" y="121"/>
                </a:lnTo>
                <a:lnTo>
                  <a:pt x="221" y="92"/>
                </a:lnTo>
                <a:lnTo>
                  <a:pt x="253" y="76"/>
                </a:lnTo>
                <a:lnTo>
                  <a:pt x="285" y="38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3333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11240" y="4448160"/>
            <a:ext cx="4876920" cy="1236600"/>
          </a:xfrm>
          <a:custGeom>
            <a:avLst/>
            <a:gdLst/>
            <a:ahLst/>
            <a:rect l="l" t="t" r="r" b="b"/>
            <a:pathLst>
              <a:path w="316" h="80">
                <a:moveTo>
                  <a:pt x="0" y="80"/>
                </a:moveTo>
                <a:lnTo>
                  <a:pt x="31" y="62"/>
                </a:lnTo>
                <a:lnTo>
                  <a:pt x="63" y="54"/>
                </a:lnTo>
                <a:lnTo>
                  <a:pt x="95" y="47"/>
                </a:lnTo>
                <a:lnTo>
                  <a:pt x="126" y="42"/>
                </a:lnTo>
                <a:lnTo>
                  <a:pt x="158" y="12"/>
                </a:lnTo>
                <a:lnTo>
                  <a:pt x="190" y="11"/>
                </a:lnTo>
                <a:lnTo>
                  <a:pt x="221" y="7"/>
                </a:lnTo>
                <a:lnTo>
                  <a:pt x="253" y="3"/>
                </a:lnTo>
                <a:lnTo>
                  <a:pt x="285" y="0"/>
                </a:lnTo>
                <a:lnTo>
                  <a:pt x="316" y="12"/>
                </a:lnTo>
              </a:path>
            </a:pathLst>
          </a:custGeom>
          <a:noFill/>
          <a:ln w="46080">
            <a:solidFill>
              <a:srgbClr val="0033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11240" y="2116080"/>
            <a:ext cx="4876920" cy="4448160"/>
          </a:xfrm>
          <a:custGeom>
            <a:avLst/>
            <a:gdLst/>
            <a:ahLst/>
            <a:rect l="l" t="t" r="r" b="b"/>
            <a:pathLst>
              <a:path w="316" h="288">
                <a:moveTo>
                  <a:pt x="0" y="288"/>
                </a:moveTo>
                <a:lnTo>
                  <a:pt x="31" y="288"/>
                </a:lnTo>
                <a:lnTo>
                  <a:pt x="63" y="278"/>
                </a:lnTo>
                <a:lnTo>
                  <a:pt x="95" y="251"/>
                </a:lnTo>
                <a:lnTo>
                  <a:pt x="126" y="213"/>
                </a:lnTo>
                <a:lnTo>
                  <a:pt x="158" y="104"/>
                </a:lnTo>
                <a:lnTo>
                  <a:pt x="190" y="72"/>
                </a:lnTo>
                <a:lnTo>
                  <a:pt x="221" y="53"/>
                </a:lnTo>
                <a:lnTo>
                  <a:pt x="253" y="28"/>
                </a:lnTo>
                <a:lnTo>
                  <a:pt x="285" y="10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011240" y="5792760"/>
            <a:ext cx="4876920" cy="803160"/>
          </a:xfrm>
          <a:custGeom>
            <a:avLst/>
            <a:gdLst/>
            <a:ahLst/>
            <a:rect l="l" t="t" r="r" b="b"/>
            <a:pathLst>
              <a:path w="316" h="52">
                <a:moveTo>
                  <a:pt x="0" y="52"/>
                </a:moveTo>
                <a:lnTo>
                  <a:pt x="31" y="50"/>
                </a:lnTo>
                <a:lnTo>
                  <a:pt x="63" y="48"/>
                </a:lnTo>
                <a:lnTo>
                  <a:pt x="95" y="48"/>
                </a:lnTo>
                <a:lnTo>
                  <a:pt x="126" y="46"/>
                </a:lnTo>
                <a:lnTo>
                  <a:pt x="158" y="35"/>
                </a:lnTo>
                <a:lnTo>
                  <a:pt x="190" y="33"/>
                </a:lnTo>
                <a:lnTo>
                  <a:pt x="221" y="27"/>
                </a:lnTo>
                <a:lnTo>
                  <a:pt x="253" y="20"/>
                </a:lnTo>
                <a:lnTo>
                  <a:pt x="285" y="1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11240" y="3351240"/>
            <a:ext cx="4876920" cy="3244680"/>
          </a:xfrm>
          <a:custGeom>
            <a:avLst/>
            <a:gdLst/>
            <a:ahLst/>
            <a:rect l="l" t="t" r="r" b="b"/>
            <a:pathLst>
              <a:path w="316" h="210">
                <a:moveTo>
                  <a:pt x="0" y="210"/>
                </a:moveTo>
                <a:lnTo>
                  <a:pt x="31" y="210"/>
                </a:lnTo>
                <a:lnTo>
                  <a:pt x="63" y="210"/>
                </a:lnTo>
                <a:lnTo>
                  <a:pt x="95" y="194"/>
                </a:lnTo>
                <a:lnTo>
                  <a:pt x="126" y="195"/>
                </a:lnTo>
                <a:lnTo>
                  <a:pt x="158" y="181"/>
                </a:lnTo>
                <a:lnTo>
                  <a:pt x="190" y="180"/>
                </a:lnTo>
                <a:lnTo>
                  <a:pt x="221" y="173"/>
                </a:lnTo>
                <a:lnTo>
                  <a:pt x="253" y="140"/>
                </a:lnTo>
                <a:lnTo>
                  <a:pt x="285" y="33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00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11240" y="5267160"/>
            <a:ext cx="4876920" cy="1328760"/>
          </a:xfrm>
          <a:custGeom>
            <a:avLst/>
            <a:gdLst/>
            <a:ahLst/>
            <a:rect l="l" t="t" r="r" b="b"/>
            <a:pathLst>
              <a:path w="316" h="86">
                <a:moveTo>
                  <a:pt x="0" y="86"/>
                </a:moveTo>
                <a:lnTo>
                  <a:pt x="31" y="86"/>
                </a:lnTo>
                <a:lnTo>
                  <a:pt x="63" y="79"/>
                </a:lnTo>
                <a:lnTo>
                  <a:pt x="95" y="65"/>
                </a:lnTo>
                <a:lnTo>
                  <a:pt x="126" y="67"/>
                </a:lnTo>
                <a:lnTo>
                  <a:pt x="158" y="55"/>
                </a:lnTo>
                <a:lnTo>
                  <a:pt x="190" y="38"/>
                </a:lnTo>
                <a:lnTo>
                  <a:pt x="221" y="21"/>
                </a:lnTo>
                <a:lnTo>
                  <a:pt x="253" y="24"/>
                </a:lnTo>
                <a:lnTo>
                  <a:pt x="285" y="11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11240" y="2286000"/>
            <a:ext cx="4876920" cy="4309920"/>
          </a:xfrm>
          <a:custGeom>
            <a:avLst/>
            <a:gdLst/>
            <a:ahLst/>
            <a:rect l="l" t="t" r="r" b="b"/>
            <a:pathLst>
              <a:path w="316" h="279">
                <a:moveTo>
                  <a:pt x="0" y="279"/>
                </a:moveTo>
                <a:lnTo>
                  <a:pt x="31" y="278"/>
                </a:lnTo>
                <a:lnTo>
                  <a:pt x="63" y="260"/>
                </a:lnTo>
                <a:lnTo>
                  <a:pt x="95" y="198"/>
                </a:lnTo>
                <a:lnTo>
                  <a:pt x="126" y="129"/>
                </a:lnTo>
                <a:lnTo>
                  <a:pt x="158" y="102"/>
                </a:lnTo>
                <a:lnTo>
                  <a:pt x="190" y="0"/>
                </a:lnTo>
                <a:lnTo>
                  <a:pt x="221" y="29"/>
                </a:lnTo>
                <a:lnTo>
                  <a:pt x="253" y="4"/>
                </a:lnTo>
                <a:lnTo>
                  <a:pt x="285" y="7"/>
                </a:lnTo>
                <a:lnTo>
                  <a:pt x="316" y="28"/>
                </a:lnTo>
              </a:path>
            </a:pathLst>
          </a:custGeom>
          <a:noFill/>
          <a:ln w="460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20600" y="928800"/>
            <a:ext cx="4876920" cy="5668920"/>
          </a:xfrm>
          <a:custGeom>
            <a:avLst/>
            <a:gdLst/>
            <a:ahLst/>
            <a:rect l="l" t="t" r="r" b="b"/>
            <a:pathLst>
              <a:path w="316" h="367">
                <a:moveTo>
                  <a:pt x="0" y="367"/>
                </a:moveTo>
                <a:lnTo>
                  <a:pt x="31" y="268"/>
                </a:lnTo>
                <a:lnTo>
                  <a:pt x="63" y="267"/>
                </a:lnTo>
                <a:lnTo>
                  <a:pt x="95" y="257"/>
                </a:lnTo>
                <a:lnTo>
                  <a:pt x="126" y="243"/>
                </a:lnTo>
                <a:lnTo>
                  <a:pt x="158" y="183"/>
                </a:lnTo>
                <a:lnTo>
                  <a:pt x="190" y="150"/>
                </a:lnTo>
                <a:lnTo>
                  <a:pt x="221" y="116"/>
                </a:lnTo>
                <a:lnTo>
                  <a:pt x="253" y="85"/>
                </a:lnTo>
                <a:lnTo>
                  <a:pt x="285" y="48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011240" y="2641680"/>
            <a:ext cx="4876920" cy="3954240"/>
          </a:xfrm>
          <a:custGeom>
            <a:avLst/>
            <a:gdLst/>
            <a:ahLst/>
            <a:rect l="l" t="t" r="r" b="b"/>
            <a:pathLst>
              <a:path w="316" h="256">
                <a:moveTo>
                  <a:pt x="0" y="256"/>
                </a:moveTo>
                <a:lnTo>
                  <a:pt x="31" y="124"/>
                </a:lnTo>
                <a:lnTo>
                  <a:pt x="63" y="86"/>
                </a:lnTo>
                <a:lnTo>
                  <a:pt x="95" y="72"/>
                </a:lnTo>
                <a:lnTo>
                  <a:pt x="126" y="50"/>
                </a:lnTo>
                <a:lnTo>
                  <a:pt x="158" y="64"/>
                </a:lnTo>
                <a:lnTo>
                  <a:pt x="190" y="73"/>
                </a:lnTo>
                <a:lnTo>
                  <a:pt x="221" y="38"/>
                </a:lnTo>
                <a:lnTo>
                  <a:pt x="253" y="20"/>
                </a:lnTo>
                <a:lnTo>
                  <a:pt x="285" y="22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0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11240" y="3660840"/>
            <a:ext cx="4876920" cy="1574640"/>
          </a:xfrm>
          <a:custGeom>
            <a:avLst/>
            <a:gdLst/>
            <a:ahLst/>
            <a:rect l="l" t="t" r="r" b="b"/>
            <a:pathLst>
              <a:path w="316" h="102">
                <a:moveTo>
                  <a:pt x="0" y="102"/>
                </a:moveTo>
                <a:lnTo>
                  <a:pt x="31" y="95"/>
                </a:lnTo>
                <a:lnTo>
                  <a:pt x="63" y="81"/>
                </a:lnTo>
                <a:lnTo>
                  <a:pt x="95" y="60"/>
                </a:lnTo>
                <a:lnTo>
                  <a:pt x="126" y="58"/>
                </a:lnTo>
                <a:lnTo>
                  <a:pt x="158" y="48"/>
                </a:lnTo>
                <a:lnTo>
                  <a:pt x="190" y="41"/>
                </a:lnTo>
                <a:lnTo>
                  <a:pt x="221" y="17"/>
                </a:lnTo>
                <a:lnTo>
                  <a:pt x="253" y="3"/>
                </a:lnTo>
                <a:lnTo>
                  <a:pt x="285" y="0"/>
                </a:lnTo>
                <a:lnTo>
                  <a:pt x="316" y="4"/>
                </a:lnTo>
              </a:path>
            </a:pathLst>
          </a:custGeom>
          <a:noFill/>
          <a:ln w="46080">
            <a:solidFill>
              <a:srgbClr val="ff99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11240" y="2687760"/>
            <a:ext cx="4876920" cy="2286000"/>
          </a:xfrm>
          <a:custGeom>
            <a:avLst/>
            <a:gdLst/>
            <a:ahLst/>
            <a:rect l="l" t="t" r="r" b="b"/>
            <a:pathLst>
              <a:path w="316" h="148">
                <a:moveTo>
                  <a:pt x="0" y="148"/>
                </a:moveTo>
                <a:lnTo>
                  <a:pt x="31" y="147"/>
                </a:lnTo>
                <a:lnTo>
                  <a:pt x="63" y="138"/>
                </a:lnTo>
                <a:lnTo>
                  <a:pt x="95" y="122"/>
                </a:lnTo>
                <a:lnTo>
                  <a:pt x="126" y="109"/>
                </a:lnTo>
                <a:lnTo>
                  <a:pt x="158" y="81"/>
                </a:lnTo>
                <a:lnTo>
                  <a:pt x="190" y="85"/>
                </a:lnTo>
                <a:lnTo>
                  <a:pt x="221" y="72"/>
                </a:lnTo>
                <a:lnTo>
                  <a:pt x="253" y="57"/>
                </a:lnTo>
                <a:lnTo>
                  <a:pt x="285" y="21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11240" y="4262400"/>
            <a:ext cx="4876920" cy="1808280"/>
          </a:xfrm>
          <a:custGeom>
            <a:avLst/>
            <a:gdLst/>
            <a:ahLst/>
            <a:rect l="l" t="t" r="r" b="b"/>
            <a:pathLst>
              <a:path w="316" h="117">
                <a:moveTo>
                  <a:pt x="0" y="111"/>
                </a:moveTo>
                <a:lnTo>
                  <a:pt x="31" y="117"/>
                </a:lnTo>
                <a:lnTo>
                  <a:pt x="63" y="112"/>
                </a:lnTo>
                <a:lnTo>
                  <a:pt x="95" y="88"/>
                </a:lnTo>
                <a:lnTo>
                  <a:pt x="126" y="79"/>
                </a:lnTo>
                <a:lnTo>
                  <a:pt x="158" y="66"/>
                </a:lnTo>
                <a:lnTo>
                  <a:pt x="190" y="60"/>
                </a:lnTo>
                <a:lnTo>
                  <a:pt x="221" y="44"/>
                </a:lnTo>
                <a:lnTo>
                  <a:pt x="253" y="37"/>
                </a:lnTo>
                <a:lnTo>
                  <a:pt x="285" y="17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cc9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11240" y="4865760"/>
            <a:ext cx="4876920" cy="1574640"/>
          </a:xfrm>
          <a:custGeom>
            <a:avLst/>
            <a:gdLst/>
            <a:ahLst/>
            <a:rect l="l" t="t" r="r" b="b"/>
            <a:pathLst>
              <a:path w="316" h="102">
                <a:moveTo>
                  <a:pt x="0" y="102"/>
                </a:moveTo>
                <a:lnTo>
                  <a:pt x="31" y="99"/>
                </a:lnTo>
                <a:lnTo>
                  <a:pt x="63" y="95"/>
                </a:lnTo>
                <a:lnTo>
                  <a:pt x="95" y="70"/>
                </a:lnTo>
                <a:lnTo>
                  <a:pt x="126" y="72"/>
                </a:lnTo>
                <a:lnTo>
                  <a:pt x="158" y="68"/>
                </a:lnTo>
                <a:lnTo>
                  <a:pt x="190" y="59"/>
                </a:lnTo>
                <a:lnTo>
                  <a:pt x="221" y="31"/>
                </a:lnTo>
                <a:lnTo>
                  <a:pt x="253" y="25"/>
                </a:lnTo>
                <a:lnTo>
                  <a:pt x="285" y="13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ffcc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11240" y="2795760"/>
            <a:ext cx="4876920" cy="3706560"/>
          </a:xfrm>
          <a:custGeom>
            <a:avLst/>
            <a:gdLst/>
            <a:ahLst/>
            <a:rect l="l" t="t" r="r" b="b"/>
            <a:pathLst>
              <a:path w="316" h="240">
                <a:moveTo>
                  <a:pt x="0" y="240"/>
                </a:moveTo>
                <a:lnTo>
                  <a:pt x="31" y="230"/>
                </a:lnTo>
                <a:lnTo>
                  <a:pt x="63" y="224"/>
                </a:lnTo>
                <a:lnTo>
                  <a:pt x="95" y="214"/>
                </a:lnTo>
                <a:lnTo>
                  <a:pt x="126" y="192"/>
                </a:lnTo>
                <a:lnTo>
                  <a:pt x="158" y="174"/>
                </a:lnTo>
                <a:lnTo>
                  <a:pt x="190" y="140"/>
                </a:lnTo>
                <a:lnTo>
                  <a:pt x="221" y="113"/>
                </a:lnTo>
                <a:lnTo>
                  <a:pt x="253" y="71"/>
                </a:lnTo>
                <a:lnTo>
                  <a:pt x="285" y="26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11240" y="2054160"/>
            <a:ext cx="4876920" cy="3614760"/>
          </a:xfrm>
          <a:custGeom>
            <a:avLst/>
            <a:gdLst/>
            <a:ahLst/>
            <a:rect l="l" t="t" r="r" b="b"/>
            <a:pathLst>
              <a:path w="316" h="234">
                <a:moveTo>
                  <a:pt x="0" y="234"/>
                </a:moveTo>
                <a:lnTo>
                  <a:pt x="31" y="187"/>
                </a:lnTo>
                <a:lnTo>
                  <a:pt x="63" y="172"/>
                </a:lnTo>
                <a:lnTo>
                  <a:pt x="95" y="167"/>
                </a:lnTo>
                <a:lnTo>
                  <a:pt x="126" y="172"/>
                </a:lnTo>
                <a:lnTo>
                  <a:pt x="158" y="151"/>
                </a:lnTo>
                <a:lnTo>
                  <a:pt x="190" y="146"/>
                </a:lnTo>
                <a:lnTo>
                  <a:pt x="221" y="143"/>
                </a:lnTo>
                <a:lnTo>
                  <a:pt x="253" y="102"/>
                </a:lnTo>
                <a:lnTo>
                  <a:pt x="285" y="44"/>
                </a:lnTo>
                <a:lnTo>
                  <a:pt x="316" y="0"/>
                </a:lnTo>
              </a:path>
            </a:pathLst>
          </a:custGeom>
          <a:noFill/>
          <a:ln w="46080">
            <a:solidFill>
              <a:srgbClr val="99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08200" y="509760"/>
            <a:ext cx="23918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O REPORT 200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03520" y="865080"/>
            <a:ext cx="4560480" cy="44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Global Tuberculosis Contro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11080" y="1312920"/>
            <a:ext cx="44964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RVEILLANCE, PLANNING, FINA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857160" y="1916280"/>
            <a:ext cx="215892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Improving case detection in 20 high-burden count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6289560" y="217440"/>
            <a:ext cx="2381400" cy="15336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94600" y="5064120"/>
            <a:ext cx="2381040" cy="15336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6289560" y="1824120"/>
            <a:ext cx="2381400" cy="15336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6294600" y="3459240"/>
            <a:ext cx="238104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3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" dur="3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3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3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3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" dur="3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" dur="3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3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3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" dur="3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3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" dur="3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3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3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4" dur="3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3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3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3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260280"/>
            <a:ext cx="9144000" cy="629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200240" y="1049400"/>
            <a:ext cx="7700760" cy="467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200240" y="1049400"/>
            <a:ext cx="7700760" cy="467496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246320" y="4100400"/>
            <a:ext cx="606240" cy="162396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944720" y="3675240"/>
            <a:ext cx="606240" cy="204912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643120" y="4054320"/>
            <a:ext cx="608040" cy="167004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341520" y="3705120"/>
            <a:ext cx="608040" cy="201924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040280" y="3129120"/>
            <a:ext cx="608040" cy="259524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38680" y="3325680"/>
            <a:ext cx="623880" cy="239868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452920" y="2901960"/>
            <a:ext cx="608040" cy="282240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151680" y="2916360"/>
            <a:ext cx="608040" cy="280800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850080" y="2886120"/>
            <a:ext cx="608040" cy="283824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548480" y="2735280"/>
            <a:ext cx="608040" cy="298908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247240" y="2492280"/>
            <a:ext cx="607680" cy="3232080"/>
          </a:xfrm>
          <a:prstGeom prst="rect">
            <a:avLst/>
          </a:prstGeom>
          <a:solidFill>
            <a:srgbClr val="99cc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200240" y="1049400"/>
            <a:ext cx="1440" cy="4674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123920" y="5724360"/>
            <a:ext cx="7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23920" y="455616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23920" y="3387600"/>
            <a:ext cx="7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23920" y="2217600"/>
            <a:ext cx="7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23920" y="104940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00240" y="5724360"/>
            <a:ext cx="770076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120024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89864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2597040" y="5724360"/>
            <a:ext cx="180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V="1">
            <a:off x="32958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39942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46944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V="1">
            <a:off x="54072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V="1">
            <a:off x="61056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6805440" y="5724360"/>
            <a:ext cx="180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75042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8202600" y="5724360"/>
            <a:ext cx="144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8901000" y="5724360"/>
            <a:ext cx="1800" cy="763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666800" y="473040"/>
            <a:ext cx="6229440" cy="48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reatment success: 84% in 20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9000" y="558792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29000" y="441972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7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29000" y="325116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29000" y="208116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8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29000" y="91296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9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7764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97604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67444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732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7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0716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8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78584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999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8424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1830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8814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5798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8280000" y="5952960"/>
            <a:ext cx="537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rot="16200000">
            <a:off x="-867240" y="3259080"/>
            <a:ext cx="2628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reatment success (%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214280" y="2205000"/>
            <a:ext cx="7701120" cy="1800"/>
          </a:xfrm>
          <a:prstGeom prst="line">
            <a:avLst/>
          </a:prstGeom>
          <a:ln w="46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364440" y="1141560"/>
            <a:ext cx="2430360" cy="98568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686280" y="1171440"/>
            <a:ext cx="1796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85% target met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48040" y="1488960"/>
            <a:ext cx="2102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E Asia, W Pacific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881760" y="1808280"/>
            <a:ext cx="14227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57 countri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84920" y="1771560"/>
            <a:ext cx="18752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WHO target 85%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rot="10800000">
            <a:off x="1258920" y="4005000"/>
            <a:ext cx="5461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44,66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10800000">
            <a:off x="8270640" y="4005000"/>
            <a:ext cx="54612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,103,878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"/>
          <p:cNvGrpSpPr/>
          <p:nvPr/>
        </p:nvGrpSpPr>
        <p:grpSpPr>
          <a:xfrm>
            <a:off x="0" y="109440"/>
            <a:ext cx="9144000" cy="6639120"/>
            <a:chOff x="0" y="109440"/>
            <a:chExt cx="9144000" cy="6639120"/>
          </a:xfrm>
        </p:grpSpPr>
        <p:sp>
          <p:nvSpPr>
            <p:cNvPr id="216" name=""/>
            <p:cNvSpPr/>
            <p:nvPr/>
          </p:nvSpPr>
          <p:spPr>
            <a:xfrm>
              <a:off x="0" y="109440"/>
              <a:ext cx="9144000" cy="6639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1720800" y="963720"/>
              <a:ext cx="6873840" cy="450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720800" y="963720"/>
              <a:ext cx="6873840" cy="4503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720800" y="963720"/>
              <a:ext cx="1800" cy="4503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635120" y="5467320"/>
              <a:ext cx="85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635120" y="4905360"/>
              <a:ext cx="85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635120" y="4344840"/>
              <a:ext cx="85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635120" y="3782880"/>
              <a:ext cx="85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635120" y="3220920"/>
              <a:ext cx="85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635120" y="2647800"/>
              <a:ext cx="85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635120" y="2085840"/>
              <a:ext cx="856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635120" y="1525680"/>
              <a:ext cx="85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1635120" y="963720"/>
              <a:ext cx="856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720800" y="5467320"/>
              <a:ext cx="6873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172080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V="1">
              <a:off x="310032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446868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V="1">
              <a:off x="584820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V="1">
              <a:off x="721512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V="1">
              <a:off x="8594640" y="5467320"/>
              <a:ext cx="1800" cy="856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720800" y="1525680"/>
              <a:ext cx="6873840" cy="1440"/>
            </a:xfrm>
            <a:prstGeom prst="line">
              <a:avLst/>
            </a:prstGeom>
            <a:ln w="36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100320" y="2098800"/>
              <a:ext cx="2747880" cy="2733480"/>
            </a:xfrm>
            <a:custGeom>
              <a:avLst/>
              <a:gdLst/>
              <a:ahLst/>
              <a:rect l="l" t="t" r="r" b="b"/>
              <a:pathLst>
                <a:path w="225" h="224">
                  <a:moveTo>
                    <a:pt x="0" y="224"/>
                  </a:moveTo>
                  <a:lnTo>
                    <a:pt x="22" y="203"/>
                  </a:lnTo>
                  <a:lnTo>
                    <a:pt x="45" y="191"/>
                  </a:lnTo>
                  <a:lnTo>
                    <a:pt x="67" y="175"/>
                  </a:lnTo>
                  <a:lnTo>
                    <a:pt x="90" y="163"/>
                  </a:lnTo>
                  <a:lnTo>
                    <a:pt x="112" y="145"/>
                  </a:lnTo>
                  <a:lnTo>
                    <a:pt x="135" y="125"/>
                  </a:lnTo>
                  <a:lnTo>
                    <a:pt x="157" y="101"/>
                  </a:lnTo>
                  <a:lnTo>
                    <a:pt x="180" y="66"/>
                  </a:lnTo>
                  <a:lnTo>
                    <a:pt x="202" y="26"/>
                  </a:lnTo>
                  <a:lnTo>
                    <a:pt x="225" y="0"/>
                  </a:lnTo>
                </a:path>
              </a:pathLst>
            </a:custGeom>
            <a:noFill/>
            <a:ln w="1260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100320" y="1989000"/>
              <a:ext cx="2747880" cy="1452600"/>
            </a:xfrm>
            <a:custGeom>
              <a:avLst/>
              <a:gdLst/>
              <a:ahLst/>
              <a:rect l="l" t="t" r="r" b="b"/>
              <a:pathLst>
                <a:path w="225" h="119">
                  <a:moveTo>
                    <a:pt x="0" y="119"/>
                  </a:moveTo>
                  <a:lnTo>
                    <a:pt x="22" y="102"/>
                  </a:lnTo>
                  <a:lnTo>
                    <a:pt x="45" y="100"/>
                  </a:lnTo>
                  <a:lnTo>
                    <a:pt x="67" y="99"/>
                  </a:lnTo>
                  <a:lnTo>
                    <a:pt x="90" y="90"/>
                  </a:lnTo>
                  <a:lnTo>
                    <a:pt x="112" y="91"/>
                  </a:lnTo>
                  <a:lnTo>
                    <a:pt x="135" y="84"/>
                  </a:lnTo>
                  <a:lnTo>
                    <a:pt x="157" y="74"/>
                  </a:lnTo>
                  <a:lnTo>
                    <a:pt x="180" y="51"/>
                  </a:lnTo>
                  <a:lnTo>
                    <a:pt x="202" y="20"/>
                  </a:lnTo>
                  <a:lnTo>
                    <a:pt x="225" y="0"/>
                  </a:lnTo>
                </a:path>
              </a:pathLst>
            </a:custGeom>
            <a:noFill/>
            <a:ln w="0">
              <a:solidFill>
                <a:srgbClr val="000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124000" y="1073160"/>
              <a:ext cx="6470640" cy="4394160"/>
            </a:xfrm>
            <a:custGeom>
              <a:avLst/>
              <a:gdLst/>
              <a:ahLst/>
              <a:rect l="l" t="t" r="r" b="b"/>
              <a:pathLst>
                <a:path w="530" h="360">
                  <a:moveTo>
                    <a:pt x="0" y="360"/>
                  </a:moveTo>
                  <a:lnTo>
                    <a:pt x="475" y="37"/>
                  </a:lnTo>
                  <a:lnTo>
                    <a:pt x="530" y="0"/>
                  </a:lnTo>
                </a:path>
              </a:pathLst>
            </a:custGeom>
            <a:noFill/>
            <a:ln w="237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3003480" y="4735440"/>
              <a:ext cx="195480" cy="1954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3271680" y="4478400"/>
              <a:ext cx="19548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3552840" y="4332240"/>
              <a:ext cx="195120" cy="1954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821040" y="4137120"/>
              <a:ext cx="19548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02200" y="3990960"/>
              <a:ext cx="19512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370400" y="3770280"/>
              <a:ext cx="19512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651200" y="3527280"/>
              <a:ext cx="195480" cy="1954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919760" y="3233880"/>
              <a:ext cx="19512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200560" y="2806560"/>
              <a:ext cx="195480" cy="1954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468760" y="2317680"/>
              <a:ext cx="195480" cy="19548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749920" y="2001960"/>
              <a:ext cx="195120" cy="195120"/>
            </a:xfrm>
            <a:prstGeom prst="ellipse">
              <a:avLst/>
            </a:prstGeom>
            <a:solidFill>
              <a:srgbClr val="008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003480" y="334332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271680" y="313704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552840" y="3111480"/>
              <a:ext cx="19512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821040" y="309888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102200" y="2989440"/>
              <a:ext cx="19512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370400" y="3002040"/>
              <a:ext cx="19512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51200" y="291636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919760" y="2793960"/>
              <a:ext cx="195120" cy="19548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200560" y="251316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5468760" y="2135160"/>
              <a:ext cx="19548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749920" y="1890720"/>
              <a:ext cx="195120" cy="195120"/>
            </a:xfrm>
            <a:prstGeom prst="ellipse">
              <a:avLst/>
            </a:prstGeom>
            <a:solidFill>
              <a:srgbClr val="000080"/>
            </a:solidFill>
            <a:ln w="1260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2346480" y="281160"/>
              <a:ext cx="52066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Case detection: 60% by 2005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436040" y="5332320"/>
              <a:ext cx="142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292040" y="47721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292040" y="421020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292040" y="36482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292040" y="308772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292040" y="25131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292040" y="195264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292040" y="139068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292040" y="830160"/>
              <a:ext cx="284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50516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99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288468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199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25160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0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63112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0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99768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1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8377200" y="5722920"/>
              <a:ext cx="5677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01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60800" y="6175440"/>
              <a:ext cx="5522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Yea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16200000">
              <a:off x="-1225800" y="2949480"/>
              <a:ext cx="40971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tection rate new sm+ cases (%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914840" y="1622520"/>
              <a:ext cx="19818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WHO target 70%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2026800" y="3843360"/>
              <a:ext cx="13435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DOTS new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982160" y="4173480"/>
              <a:ext cx="51732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m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616720" y="3294000"/>
              <a:ext cx="2842920" cy="20750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174720" y="3332160"/>
              <a:ext cx="1896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70% target met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551640" y="3660840"/>
              <a:ext cx="1131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W Pacif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366600" y="3990960"/>
              <a:ext cx="1500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0000"/>
                  </a:solidFill>
                  <a:latin typeface="Arial"/>
                </a:rPr>
                <a:t>67 countr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815080" y="4319640"/>
              <a:ext cx="26175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70%/85% targets met: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551640" y="4649760"/>
              <a:ext cx="1131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W Pacif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366600" y="4978440"/>
              <a:ext cx="150048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26 countri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610800" y="2355840"/>
              <a:ext cx="14349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80"/>
                  </a:solidFill>
                  <a:latin typeface="Arial"/>
                </a:rPr>
                <a:t>all new sm+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0" y="298440"/>
            <a:ext cx="9144000" cy="626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154160" y="960480"/>
            <a:ext cx="7835760" cy="32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154160" y="960480"/>
            <a:ext cx="7835760" cy="327672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185840" y="2036880"/>
            <a:ext cx="461880" cy="22003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170080" y="2098800"/>
            <a:ext cx="461880" cy="213840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9920" y="2036880"/>
            <a:ext cx="462240" cy="22003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25960" y="3774960"/>
            <a:ext cx="461880" cy="46224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10200" y="2759040"/>
            <a:ext cx="461880" cy="147816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080040" y="3313080"/>
            <a:ext cx="461880" cy="9241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066080" y="2558880"/>
            <a:ext cx="461880" cy="16783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035920" y="3313080"/>
            <a:ext cx="461880" cy="92412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47720" y="2052720"/>
            <a:ext cx="460440" cy="218448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631960" y="2098800"/>
            <a:ext cx="446040" cy="213840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602160" y="1960560"/>
            <a:ext cx="461880" cy="227664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587840" y="3390840"/>
            <a:ext cx="461880" cy="84636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72080" y="1590840"/>
            <a:ext cx="447840" cy="264636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541920" y="2220840"/>
            <a:ext cx="462240" cy="201636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527960" y="2144880"/>
            <a:ext cx="446040" cy="209232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8497800" y="2728800"/>
            <a:ext cx="461880" cy="150840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154160" y="960480"/>
            <a:ext cx="1440" cy="327672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077840" y="423720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077840" y="357516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077840" y="292896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077840" y="226692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077840" y="1620720"/>
            <a:ext cx="76320" cy="180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077840" y="960480"/>
            <a:ext cx="7632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154160" y="4237200"/>
            <a:ext cx="7835760" cy="144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1154160" y="423684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2139840" y="4236840"/>
            <a:ext cx="180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3110040" y="423684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4094280" y="423684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5079960" y="4236840"/>
            <a:ext cx="180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6049800" y="4236840"/>
            <a:ext cx="180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>
            <a:off x="7035840" y="423684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V="1">
            <a:off x="8004240" y="4236840"/>
            <a:ext cx="144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8989920" y="4236840"/>
            <a:ext cx="1800" cy="75960"/>
          </a:xfrm>
          <a:prstGeom prst="line">
            <a:avLst/>
          </a:prstGeom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39120" y="4098960"/>
            <a:ext cx="604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0.00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78440" y="3436920"/>
            <a:ext cx="470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0.0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16320" y="2790720"/>
            <a:ext cx="335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0.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816120" y="2128680"/>
            <a:ext cx="1350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78240" y="1482840"/>
            <a:ext cx="2689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8920" y="820800"/>
            <a:ext cx="4032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rot="18900000">
            <a:off x="-27720" y="5063760"/>
            <a:ext cx="17470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mear+ treat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rot="18900000">
            <a:off x="553680" y="5228640"/>
            <a:ext cx="21906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mear+ successfu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rot="18900000">
            <a:off x="1631880" y="5195880"/>
            <a:ext cx="207504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Smear-/EP treat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rot="18900000">
            <a:off x="2837880" y="5097600"/>
            <a:ext cx="182340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DR-TB treat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rot="18900000">
            <a:off x="3588840" y="5200560"/>
            <a:ext cx="20566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HIV+ screened TB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rot="18900000">
            <a:off x="4754520" y="5114520"/>
            <a:ext cx="186912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HIV+ offered IP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 rot="18900000">
            <a:off x="5999400" y="5005080"/>
            <a:ext cx="156888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B HIV teste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 rot="18900000">
            <a:off x="7026480" y="4984560"/>
            <a:ext cx="1492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TB HIV+ AR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 rot="16200000">
            <a:off x="-811080" y="2441520"/>
            <a:ext cx="21891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Millions of patien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541920" y="1036800"/>
            <a:ext cx="2372040" cy="76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6634080" y="1174680"/>
            <a:ext cx="154080" cy="154080"/>
          </a:xfrm>
          <a:prstGeom prst="rect">
            <a:avLst/>
          </a:prstGeom>
          <a:solidFill>
            <a:srgbClr val="008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852600" y="1098720"/>
            <a:ext cx="1663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Reported 2005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634080" y="1544760"/>
            <a:ext cx="154080" cy="153720"/>
          </a:xfrm>
          <a:prstGeom prst="rect">
            <a:avLst/>
          </a:prstGeom>
          <a:solidFill>
            <a:srgbClr val="ff66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6850800" y="1467000"/>
            <a:ext cx="19317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Global Plan 2006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376280" y="406440"/>
            <a:ext cx="7212240" cy="3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OTS is on course, TB/HIV and MDR control are no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" dur="10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9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4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10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8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1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2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1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4" dur="10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8" name="" descr=""/>
          <p:cNvPicPr/>
          <p:nvPr/>
        </p:nvPicPr>
        <p:blipFill>
          <a:blip r:embed="rId1"/>
          <a:stretch/>
        </p:blipFill>
        <p:spPr>
          <a:xfrm>
            <a:off x="250920" y="679320"/>
            <a:ext cx="8424720" cy="1094040"/>
          </a:xfrm>
          <a:prstGeom prst="rect">
            <a:avLst/>
          </a:prstGeom>
          <a:ln w="0">
            <a:noFill/>
          </a:ln>
        </p:spPr>
      </p:pic>
      <p:pic>
        <p:nvPicPr>
          <p:cNvPr id="349" name="" descr=""/>
          <p:cNvPicPr/>
          <p:nvPr/>
        </p:nvPicPr>
        <p:blipFill>
          <a:blip r:embed="rId2"/>
          <a:stretch/>
        </p:blipFill>
        <p:spPr>
          <a:xfrm>
            <a:off x="5880240" y="1916280"/>
            <a:ext cx="2795400" cy="1299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350" name="" descr=""/>
          <p:cNvPicPr/>
          <p:nvPr/>
        </p:nvPicPr>
        <p:blipFill>
          <a:blip r:embed="rId3"/>
          <a:stretch/>
        </p:blipFill>
        <p:spPr>
          <a:xfrm>
            <a:off x="5867280" y="3357720"/>
            <a:ext cx="2814840" cy="3024000"/>
          </a:xfrm>
          <a:prstGeom prst="rect">
            <a:avLst/>
          </a:prstGeom>
          <a:ln w="0">
            <a:noFill/>
          </a:ln>
        </p:spPr>
      </p:pic>
      <p:pic>
        <p:nvPicPr>
          <p:cNvPr id="351" name="" descr=""/>
          <p:cNvPicPr/>
          <p:nvPr/>
        </p:nvPicPr>
        <p:blipFill>
          <a:blip r:embed="rId4"/>
          <a:stretch/>
        </p:blipFill>
        <p:spPr>
          <a:xfrm>
            <a:off x="1908000" y="1987560"/>
            <a:ext cx="1506600" cy="2233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52" name="" descr=""/>
          <p:cNvPicPr/>
          <p:nvPr/>
        </p:nvPicPr>
        <p:blipFill>
          <a:blip r:embed="rId5"/>
          <a:stretch/>
        </p:blipFill>
        <p:spPr>
          <a:xfrm>
            <a:off x="3564000" y="1989000"/>
            <a:ext cx="2195280" cy="2233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53" name="" descr=""/>
          <p:cNvPicPr/>
          <p:nvPr/>
        </p:nvPicPr>
        <p:blipFill>
          <a:blip r:embed="rId6"/>
          <a:stretch/>
        </p:blipFill>
        <p:spPr>
          <a:xfrm>
            <a:off x="3059280" y="4489560"/>
            <a:ext cx="2734920" cy="1819080"/>
          </a:xfrm>
          <a:prstGeom prst="rect">
            <a:avLst/>
          </a:prstGeom>
          <a:ln w="0">
            <a:noFill/>
          </a:ln>
        </p:spPr>
      </p:pic>
      <p:pic>
        <p:nvPicPr>
          <p:cNvPr id="354" name="" descr=""/>
          <p:cNvPicPr/>
          <p:nvPr/>
        </p:nvPicPr>
        <p:blipFill>
          <a:blip r:embed="rId7"/>
          <a:stretch/>
        </p:blipFill>
        <p:spPr>
          <a:xfrm>
            <a:off x="324000" y="4508640"/>
            <a:ext cx="2592360" cy="17478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355" name="" descr=""/>
          <p:cNvPicPr/>
          <p:nvPr/>
        </p:nvPicPr>
        <p:blipFill>
          <a:blip r:embed="rId8"/>
          <a:stretch/>
        </p:blipFill>
        <p:spPr>
          <a:xfrm>
            <a:off x="250920" y="1987560"/>
            <a:ext cx="153828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-396720" y="353880"/>
            <a:ext cx="10082160" cy="653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30T09:06:04Z</dcterms:created>
  <dc:creator>dye</dc:creator>
  <dc:description/>
  <dc:language>en-US</dc:language>
  <cp:lastModifiedBy>dye</cp:lastModifiedBy>
  <dcterms:modified xsi:type="dcterms:W3CDTF">2007-04-18T06:36:08Z</dcterms:modified>
  <cp:revision>98</cp:revision>
  <dc:subject/>
  <dc:title>Slide 1</dc:title>
</cp:coreProperties>
</file>