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017A5CB-3562-4AB5-BF64-F018347BF9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7676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873-BB8A-4E79-8A06-32B5C362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A33D-FB63-44C9-990C-44B489DC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09C-7963-4A2E-83C9-08EA2D38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503-69F4-41F3-A539-3C65FE92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58F5-EAA4-496F-81FB-96E7C366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35A4-66B1-44F8-9391-7AAE80BC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8C11-83FD-4A5F-B0F7-AA146C05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2B7B-3CDB-406F-BF7A-F8DD718F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6268-C7A3-476C-B66C-73788607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1924-61C9-4DD1-80F0-3D490ECE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8AB6-40F4-4B46-BD77-F61E0F59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EC8-A80F-467C-8E19-11AFB925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0599-D4ED-4258-BA13-F52E3609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8279-4ED7-4486-A873-993A30FA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B1E9-54F2-4FFB-BFEF-03FF9435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5B36-63F1-4923-9045-D2712432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1199-3B27-4F28-BE03-3F5739EE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B3D-FDC7-4D92-B8F5-19539296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7A2-B8AE-4311-B57A-25E57642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310-7B9E-44C3-9693-23D2EC37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53CF-96F0-4298-B51B-DE863B01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374-1454-4767-8B5D-A1527987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FB4-7510-452B-BC9B-FDB92CA6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E46-64C1-42EB-9378-D12A060E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5B9E-2365-4E13-858A-C5EA5F6D154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C940-26C6-4B08-8082-D5BB98E666A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NUAL REPORT 2006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Principal Highlight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217000" y="4869000"/>
            <a:ext cx="458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09200" y="1065600"/>
            <a:ext cx="190440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rcos Esp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nditur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05120"/>
            <a:ext cx="814212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  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O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4,350     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NDITU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6,660     52,9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INCOME OVER 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EXPENDITURE OVER 2005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700280"/>
            <a:ext cx="87631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,47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3,97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28,878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4,0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4,350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5086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GDF INCOME             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	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5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PARTNERSHIP INCOME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155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nditure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" y="1341360"/>
            <a:ext cx="876312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 Sup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,211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5,79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            92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9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30,19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3,3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eneral Management &amp; ADM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324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74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36,660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52,97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ferred to reserv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rplus/(deficit) of incom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fter reserves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(2,310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,08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320" y="1341360"/>
            <a:ext cx="876276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ational 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5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building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60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A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31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44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overnanc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47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orking Group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echnical Assistance to India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0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24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,211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,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Partn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pport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30320" y="1341360"/>
            <a:ext cx="876276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ocurement of TB Drug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8,367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1,34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A &amp; pre-qualification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8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A, monitoring and sal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1,64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8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57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0,196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43,3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tal income for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years 2000 to 200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38320" y="1460520"/>
          <a:ext cx="650556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460520"/>
                    <a:ext cx="650556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16000" y="5516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POUND ANNUAL GROWTH RATE OF 43.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4760" y="3933720"/>
            <a:ext cx="54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2240" y="274320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409760"/>
          <a:ext cx="382428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9760"/>
                    <a:ext cx="3824280" cy="5332320"/>
                  </a:xfrm>
                  <a:prstGeom prst="rect">
                    <a:avLst/>
                  </a:prstGeom>
                  <a:ln w="32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24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unch of the Global Plan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17672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ointment of the first ever UN Secretary General Special Envoy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628640"/>
            <a:ext cx="896472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er profil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360" y="1196640"/>
            <a:ext cx="921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all to Stop TB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C, G8, UNGASS, Ibero-American Summit, African Union Summit, AIDS Int Conf, Clinton Summit, World TB Day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uropean Regional Partnership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untry Partnershi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High Level Missions to Brazil, Nigeria, India, Indonesia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ngagement of world leaders (Annan, Arroyo, Brown, Gates, Kaunda, Obasanjo, Sampaio, Tutu, and others)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Kochon Award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Parliamentarian Grou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ordinating Board  – Nigeria and Indonesia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25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nual meetin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rug development (Paris), Diagnostics (Paris), Vaccines (Vienna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ven drugs in clinical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pen Forum on regulatory hurd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thway to patient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ATB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phage-based test for detection of RIF resi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agnosis for TB: Global Deman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FIND/TDR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ccine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Oxford, Aeras/Crucell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in clinical t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hase III trials sites in Ethiopia, India, and Uganda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AERAS/EDCTP/TBVAC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360" y="1484280"/>
            <a:ext cx="928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ual meeting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OTS Expansion (Paris), MDR-TB (Atlanta), TB/HIV (Toronto), ACSM (Milan/Par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 Case Detection – 84% Treatment Succes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B TEAM – Global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Standards for TB Ca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DR-TB Global 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C – 53 project – 25 000 pati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ection control sub-group under TB/HIV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SM at country level – US$ 30 m – Sixth GF ro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op TB Partnership Global Coalition on Technical Assistance (TBTEAM) – Global Fu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4440"/>
          <a:ext cx="849636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4440"/>
                    <a:ext cx="8496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308720" y="981000"/>
            <a:ext cx="1150920" cy="647640"/>
          </a:xfrm>
          <a:prstGeom prst="wedgeRoundRectCallout">
            <a:avLst>
              <a:gd name="adj1" fmla="val -43791"/>
              <a:gd name="adj2" fmla="val 5637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64%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8160" y="4510080"/>
            <a:ext cx="1150920" cy="647640"/>
          </a:xfrm>
          <a:prstGeom prst="wedgeRoundRectCallout">
            <a:avLst>
              <a:gd name="adj1" fmla="val -77722"/>
              <a:gd name="adj2" fmla="val 4436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35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1413000"/>
            <a:ext cx="4105080" cy="792000"/>
          </a:xfrm>
          <a:prstGeom prst="wedgeRoundRectCallout">
            <a:avLst>
              <a:gd name="adj1" fmla="val -4407"/>
              <a:gd name="adj2" fmla="val 369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Tahoma"/>
              </a:rPr>
              <a:t>2004 Beij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CB approves the concept of country TA on GFATM grants through DOTS Expansion 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147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val of 3.3 million anti-TB drug treatments reaching 10 m patient treat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d new drug orders worth US$29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range expanded to include second line anti-TB dru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hnical assistance to 58 countries by drug management and TB expe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bvisitor</cp:lastModifiedBy>
  <cp:lastPrinted>2004-03-15T16:24:32Z</cp:lastPrinted>
  <dcterms:modified xsi:type="dcterms:W3CDTF">2007-04-19T13:20:21Z</dcterms:modified>
  <cp:revision>179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