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jpeg" ContentType="image/jpeg"/>
  <Override PartName="/ppt/media/image8.wmf" ContentType="image/x-wmf"/>
  <Override PartName="/ppt/media/image13.wmf" ContentType="image/x-wmf"/>
  <Override PartName="/ppt/media/image9.wmf" ContentType="image/x-wmf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64325" cy="9831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11EFE-DB82-465E-81B4-434F9D0573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EBCF-8809-4CB2-A774-D7F34A6C4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7C6C8-7932-49C8-823D-DA2C9843A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3398-EA2B-476B-B28A-76B1B7F0D0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4888C-A5E2-4470-A670-C69AE5BBF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8C4F-E06A-4349-AE55-0A7CA6425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C89A-5D8E-4411-A549-72C0F1144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6E631-9392-422A-8C75-A9E78BCB6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2921D-CD62-409A-B9D9-452F93717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4C3E6-BDA9-4259-BA0D-655E1E5C3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F09DA-671A-4C84-AC71-36E0417C3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1399-8F57-4EF7-980D-7D1AE6F1A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9B427-3014-4962-B516-1F8F3346D0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0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5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6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7.wmf"/><Relationship Id="rId9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10.wmf"/><Relationship Id="rId7" Type="http://schemas.openxmlformats.org/officeDocument/2006/relationships/package" Target="../embeddings/oleObject4.xlsx"/><Relationship Id="rId8" Type="http://schemas.openxmlformats.org/officeDocument/2006/relationships/image" Target="../media/image1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9280" y="1052640"/>
            <a:ext cx="7993080" cy="4897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Financing TB control: </a:t>
            </a:r>
            <a:br>
              <a:rPr sz="3800"/>
            </a:br>
            <a:r>
              <a:rPr b="1" lang="en-US" sz="3800" spc="-1" strike="noStrike">
                <a:solidFill>
                  <a:srgbClr val="ff0000"/>
                </a:solidFill>
                <a:latin typeface="Arial"/>
              </a:rPr>
              <a:t>Recent trends and the role of a new tool for planning and budgeting at country level </a:t>
            </a:r>
            <a:br>
              <a:rPr sz="3800"/>
            </a:br>
            <a:br>
              <a:rPr sz="2400"/>
            </a:br>
            <a:br>
              <a:rPr sz="24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atherine Floyd, Andrea Pantoja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op TB Coordinating Board Meeting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neva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8 April 200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6012000" y="5013360"/>
            <a:ext cx="2952720" cy="16462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274320"/>
            <a:ext cx="8207280" cy="12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Part 2: WHO planning and </a:t>
            </a:r>
            <a:br>
              <a:rPr sz="3600"/>
            </a:b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budgeting tool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Plans for individual countries for 2006 onwards not always in line with Global Plan, especially for newer components of Stop TB Strategy (country plans tend to be less ambitious)</a:t>
            </a:r>
            <a:r>
              <a:rPr b="0" lang="en-GB" sz="2000" spc="-1" strike="noStrike">
                <a:solidFill>
                  <a:srgbClr val="008000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TB "planning and budgeting" tool developed to assist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line with Global Plan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, as well as planning and budgeting </a:t>
            </a:r>
            <a:r>
              <a:rPr b="1" lang="en-GB" sz="2000" spc="-1" strike="noStrike" u="sng">
                <a:solidFill>
                  <a:srgbClr val="008000"/>
                </a:solidFill>
                <a:uFillTx/>
                <a:latin typeface="Arial"/>
              </a:rPr>
              <a:t>in gener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alled a "planning and budgeting" tool to highligh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Plans should include a budget, but sometimes do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3399"/>
                </a:solidFill>
                <a:latin typeface="Arial"/>
              </a:rPr>
              <a:t>Budgets should be based on and in line with plan goals, objectives and planned activ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76360" y="188640"/>
            <a:ext cx="61200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Development proces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539640" y="1125360"/>
          <a:ext cx="8209080" cy="5204160"/>
        </p:xfrm>
        <a:graphic>
          <a:graphicData uri="http://schemas.openxmlformats.org/drawingml/2006/table">
            <a:tbl>
              <a:tblPr/>
              <a:tblGrid>
                <a:gridCol w="1728720"/>
                <a:gridCol w="6480360"/>
              </a:tblGrid>
              <a:tr h="505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developed and submitted to USAID via TBCAP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 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posal approved by USAI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3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-May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aft version of tool developed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uilding on planning frameworks developed for Global Plan and STB workshops for Global Fund proposal development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eld-testing + practical application: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lawi, Indonesia, Kenya, Somalia, South Africa, regional planning workshop for 10 priority countries in Latin America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ne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ions and finalization based on field-testing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6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ct-Dec 2006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ompanying documentation + sharepoint site prepared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7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anslation into French, Spanish, Russian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7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unch of sharepoint site</a:t>
                      </a:r>
                      <a:endParaRPr b="0" lang="en-US" sz="17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374920" y="239400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662280" y="3170160"/>
            <a:ext cx="18162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521160" y="2921040"/>
          <a:ext cx="511200" cy="517320"/>
        </p:xfrm>
        <a:graphic>
          <a:graphicData uri="http://schemas.openxmlformats.org/drawingml/2006/table">
            <a:tbl>
              <a:tblPr/>
              <a:tblGrid>
                <a:gridCol w="5112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42" name=""/>
          <p:cNvGraphicFramePr/>
          <p:nvPr/>
        </p:nvGraphicFramePr>
        <p:xfrm>
          <a:off x="1704960" y="-1477800"/>
          <a:ext cx="523800" cy="517320"/>
        </p:xfrm>
        <a:graphic>
          <a:graphicData uri="http://schemas.openxmlformats.org/drawingml/2006/table">
            <a:tbl>
              <a:tblPr/>
              <a:tblGrid>
                <a:gridCol w="52380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331640" y="2421000"/>
            <a:ext cx="6985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ff0000"/>
                </a:solidFill>
                <a:latin typeface="Arial"/>
              </a:rPr>
              <a:t>Guided tour of the too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56944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General benefits of using the to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39640" y="1125360"/>
            <a:ext cx="8353440" cy="53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Should improve quality of plans and budgets and save time once initial effort to understand/use tool is m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Easy to revise or update plans/budgets when necessa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lans and budgets for TB control set out comprehensively in one place, in standardized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Much of plan document itself can be produced by writing written text description of what is set out in to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solid foundation for resource mobilization including applications to Global Fu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Provides framework for monitoring and evaluation of plan implementation as well as comparisons among and within cou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8000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Arial"/>
              </a:rPr>
              <a:t>Automatically produces financial information requested on annual WHO data collection for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-360" y="188640"/>
            <a:ext cx="932508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333399"/>
                </a:solidFill>
                <a:latin typeface="Arial"/>
              </a:rPr>
              <a:t>Promotion, practical application, next step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1268280"/>
          <a:ext cx="8136000" cy="4937400"/>
        </p:xfrm>
        <a:graphic>
          <a:graphicData uri="http://schemas.openxmlformats.org/drawingml/2006/table">
            <a:tbl>
              <a:tblPr/>
              <a:tblGrid>
                <a:gridCol w="1295640"/>
                <a:gridCol w="6840360"/>
              </a:tblGrid>
              <a:tr h="468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a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0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Work do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 2006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to WHO EURO regional and country office staff followed by training in how to use the too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-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ussions with Global Fund r.e. use of tool in Rd 6 and Rd 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workshops for countries with Round 6 gran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eb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PM inter-regional planning and budgeting workshop for 10 countries, Ca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arch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lanning and budgeting 5-day  workshop for priority African countries in Brazzaville, 19 countries represented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-May 200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sentation of tool at Global Fund Round 7 workshops in Nepal (SEAR, EMR), Cairo (EMR, AFR), Harare and Dakar (AF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ollow-up support to countries that have used the tool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1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cond planning and budgeting workshop for African countri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Issues for the Coordinating Boar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98508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Endorse and help to support planning and budgeting in line with the Global Plan at country level, including promotion and practical application of the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Support resource mobilization efforts based on the foundation of robust and country-owned plans and bu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9152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3399"/>
                </a:solidFill>
                <a:latin typeface="Arial"/>
              </a:rPr>
              <a:t>Acknowledg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15640" y="1628640"/>
            <a:ext cx="755964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. Tool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rea Pantoja (ST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hilippe Veltsos (IT support tea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2. Funding: USA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http://sharepoint.who.int/sites/TBbudget/default.asp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User name: ads\TB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assword: 2Budget4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99"/>
                </a:solidFill>
                <a:latin typeface="Arial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476000" y="1557000"/>
            <a:ext cx="648036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1: Financing TB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Recent tre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Comparisons with the Global Pl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Part 2: WHO Planning and Budgeting To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Development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Guided tour to illustrate main features (practical demonst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Benefi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99"/>
              </a:spcBef>
              <a:buClr>
                <a:srgbClr val="008000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Practical application to date and next ste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NTP budgets by source of funding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647640" y="1600200"/>
          <a:ext cx="7980480" cy="4924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7640" y="1600200"/>
                    <a:ext cx="798048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Total TB control costs by funding source in high-burden countries, 2002–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39640" y="1700280"/>
            <a:ext cx="7991640" cy="484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8218440" cy="12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Arial"/>
              </a:rPr>
              <a:t>Planning and funding: The Global Plan vs. current effor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00720" y="1628640"/>
            <a:ext cx="42480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Global Plan sets ou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Range and scale at which interventions need to be implemented in 7 regions to achieve MDG and Stop TB Partnership targets globally</a:t>
            </a:r>
            <a:r>
              <a:rPr b="0" lang="en-GB" sz="2000" spc="-1" strike="noStrike">
                <a:solidFill>
                  <a:srgbClr val="003399"/>
                </a:solidFill>
                <a:latin typeface="Arial"/>
                <a:ea typeface="宋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SzPct val="65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Arial"/>
              </a:rPr>
              <a:t>Successful implementation requi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Country plans in line with regional plans in G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Mobilization of fu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65000"/>
              <a:buFont typeface="Wingdings" charset="2"/>
              <a:buChar char="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"/>
              </a:rPr>
              <a:t>Implementation of planned activities/interven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rcRect l="10952" t="1134" r="3247" b="0"/>
          <a:stretch/>
        </p:blipFill>
        <p:spPr>
          <a:xfrm>
            <a:off x="755640" y="1989000"/>
            <a:ext cx="3355920" cy="384984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4916520" y="1052640"/>
          <a:ext cx="3570120" cy="2733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16520" y="1052640"/>
                    <a:ext cx="3570120" cy="273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701640" y="3938760"/>
          <a:ext cx="3409920" cy="26589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01640" y="3938760"/>
                    <a:ext cx="34099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5056200" y="3938760"/>
          <a:ext cx="3289320" cy="26589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56200" y="3938760"/>
                    <a:ext cx="3289320" cy="26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9" name=""/>
          <p:cNvGraphicFramePr/>
          <p:nvPr/>
        </p:nvGraphicFramePr>
        <p:xfrm>
          <a:off x="539640" y="992160"/>
          <a:ext cx="3654360" cy="279396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9640" y="992160"/>
                    <a:ext cx="3654360" cy="279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s with the Global Pla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5003640" y="907920"/>
          <a:ext cx="3313440" cy="291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03640" y="907920"/>
                    <a:ext cx="33134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5003640" y="3684600"/>
          <a:ext cx="3384720" cy="301788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3684600"/>
                    <a:ext cx="3384720" cy="30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684360" y="836640"/>
          <a:ext cx="3325680" cy="283356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84360" y="836640"/>
                    <a:ext cx="3325680" cy="283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84360" y="3645000"/>
          <a:ext cx="3384360" cy="308268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4360" y="3645000"/>
                    <a:ext cx="338436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2460600" y="4481640"/>
            <a:ext cx="1152720" cy="143028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292640" y="4411800"/>
            <a:ext cx="1190520" cy="150012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60600" y="4202280"/>
            <a:ext cx="1152720" cy="27936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292640" y="4340160"/>
            <a:ext cx="1190520" cy="7164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460600" y="4027320"/>
            <a:ext cx="1152720" cy="17496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2640" y="4097160"/>
            <a:ext cx="1190520" cy="24300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3760920"/>
            <a:ext cx="1152720" cy="2664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292640" y="4005360"/>
            <a:ext cx="1190520" cy="9180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92640" y="3970440"/>
            <a:ext cx="1190520" cy="3492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292640" y="3760920"/>
            <a:ext cx="1190520" cy="209520"/>
          </a:xfrm>
          <a:prstGeom prst="rect">
            <a:avLst/>
          </a:prstGeom>
          <a:solidFill>
            <a:srgbClr val="ff00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460600" y="2898720"/>
            <a:ext cx="1152720" cy="8622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292640" y="3679920"/>
            <a:ext cx="1190520" cy="8100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460600" y="1714680"/>
            <a:ext cx="1152720" cy="11840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292640" y="2795760"/>
            <a:ext cx="1190520" cy="88416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72200" y="3214800"/>
            <a:ext cx="1150920" cy="2697120"/>
          </a:xfrm>
          <a:prstGeom prst="rect">
            <a:avLst/>
          </a:prstGeom>
          <a:solidFill>
            <a:srgbClr val="00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17880" y="1146240"/>
            <a:ext cx="6120" cy="476568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49400" y="591192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49400" y="5224320"/>
            <a:ext cx="168480" cy="180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949400" y="454968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949400" y="386568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949400" y="31910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949400" y="2503440"/>
            <a:ext cx="168480" cy="32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49400" y="1830240"/>
            <a:ext cx="168480" cy="50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949400" y="1146240"/>
            <a:ext cx="16848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117880" y="5911920"/>
            <a:ext cx="5541840" cy="144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117880" y="5911920"/>
            <a:ext cx="61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39481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5827680" y="5911920"/>
            <a:ext cx="97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659720" y="5911920"/>
            <a:ext cx="7920" cy="22320"/>
          </a:xfrm>
          <a:prstGeom prst="line">
            <a:avLst/>
          </a:prstGeom>
          <a:ln w="7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460600" y="5934240"/>
            <a:ext cx="148752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Global Plan to Stop T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292640" y="5927760"/>
            <a:ext cx="112536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Country bud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5927760"/>
            <a:ext cx="127944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Available fund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76720" y="3143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476720" y="24321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2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6720" y="175896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76720" y="10746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3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76720" y="44784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0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6720" y="515304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76720" y="384192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$1500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3360" y="124920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General healt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33360" y="2031840"/>
            <a:ext cx="1039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/HI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33360" y="257652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33360" y="3122640"/>
            <a:ext cx="16160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peration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33360" y="3879720"/>
            <a:ext cx="14716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CSM/CTB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33360" y="4425840"/>
            <a:ext cx="1289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DR-T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33360" y="4970520"/>
            <a:ext cx="19447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PM/PAL*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33360" y="5516640"/>
            <a:ext cx="8953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33360" y="5392800"/>
            <a:ext cx="298440" cy="123840"/>
          </a:xfrm>
          <a:prstGeom prst="rect">
            <a:avLst/>
          </a:prstGeom>
          <a:solidFill>
            <a:srgbClr val="6666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33360" y="4818240"/>
            <a:ext cx="298440" cy="123480"/>
          </a:xfrm>
          <a:prstGeom prst="rect">
            <a:avLst/>
          </a:prstGeom>
          <a:solidFill>
            <a:srgbClr val="993366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24000" y="4292640"/>
            <a:ext cx="298440" cy="123840"/>
          </a:xfrm>
          <a:prstGeom prst="rect">
            <a:avLst/>
          </a:prstGeom>
          <a:solidFill>
            <a:srgbClr val="ff00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33360" y="3736800"/>
            <a:ext cx="298440" cy="123840"/>
          </a:xfrm>
          <a:prstGeom prst="rect">
            <a:avLst/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33360" y="2997360"/>
            <a:ext cx="298440" cy="123840"/>
          </a:xfrm>
          <a:prstGeom prst="rect">
            <a:avLst/>
          </a:pr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33360" y="2441520"/>
            <a:ext cx="298440" cy="123840"/>
          </a:xfrm>
          <a:prstGeom prst="rect">
            <a:avLst/>
          </a:prstGeom>
          <a:solidFill>
            <a:srgbClr val="ff99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33360" y="1865160"/>
            <a:ext cx="298440" cy="123840"/>
          </a:xfrm>
          <a:prstGeom prst="rect">
            <a:avLst/>
          </a:prstGeom>
          <a:solidFill>
            <a:srgbClr val="ff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3360" y="1125360"/>
            <a:ext cx="298440" cy="123840"/>
          </a:xfrm>
          <a:prstGeom prst="rect">
            <a:avLst/>
          </a:prstGeom>
          <a:solidFill>
            <a:srgbClr val="c0c0c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1238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Arial"/>
              </a:rPr>
              <a:t>Planning and funding of TB control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8101080" y="5805360"/>
            <a:ext cx="879480" cy="89856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381040" y="112536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3.1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50880" y="215568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3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176520" y="2608200"/>
            <a:ext cx="1227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$2.0 bill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596360" y="2205000"/>
            <a:ext cx="1333440" cy="2533320"/>
          </a:xfrm>
          <a:prstGeom prst="rect">
            <a:avLst/>
          </a:prstGeom>
          <a:noFill/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Funding gap for the Global Pl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33399"/>
                </a:solidFill>
                <a:latin typeface="Arial"/>
              </a:rPr>
              <a:t>$1.1 billion in 2007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708360" y="981000"/>
            <a:ext cx="410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Based on 84 countries with 90% global TB c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23640" y="189000"/>
            <a:ext cx="8507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333399"/>
                </a:solidFill>
                <a:latin typeface="Arial"/>
              </a:rPr>
              <a:t>Comparison of country reports with Global Plan in Africa, 200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79280" y="1463760"/>
            <a:ext cx="8701200" cy="498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31T10:44:55Z</dcterms:created>
  <dc:creator>steenbergeng</dc:creator>
  <dc:description/>
  <dc:language>en-US</dc:language>
  <cp:lastModifiedBy>floydk</cp:lastModifiedBy>
  <dcterms:modified xsi:type="dcterms:W3CDTF">2007-04-18T08:52:01Z</dcterms:modified>
  <cp:revision>173</cp:revision>
  <dc:subject/>
  <dc:title>Slide 1</dc:title>
</cp:coreProperties>
</file>