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AC92-2964-4F73-B94A-DEEDFADF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D788-D1D4-47FB-9BBB-762D17F0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8EAA-9B79-4B1C-913F-205FBD0B4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BEC-C170-4B3E-A87C-D93E4807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6D89-4181-48A3-B993-2F7B3AA9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3B93-B4AF-4747-8753-B94BA92D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21E5-F0F6-439B-9EB4-2116C49F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8B90-20D4-4F91-A703-4F71A246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8940-19F6-47A4-9594-A2899EA4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39A9-380D-481F-BD12-7BAAA259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2F66-DDD6-4B64-B415-0C6CB8C9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A055-B4DC-43F3-8BE0-0B6EF72A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73A4-B0CA-4D2F-81F2-D766036D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3ABE-7A28-46CE-8B91-7C24E602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20E4-9195-49D8-9029-2C6BDC6E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42CE-EF6E-41D5-9D92-A823FB5B2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A2D3-9C5E-4BEC-AA2B-E15B4B3A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4171-1480-43AF-BC2F-A472A9A5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1956-DB37-4505-B956-FFB53209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10C8-DEAC-407D-97DC-855DEF3F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107A-D4D2-4692-BAF7-D0466BED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1CDD-B150-48F8-A0B2-27DD982D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0204-4A5A-410A-B6F2-60FD2F59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8EB3-83C5-4407-97B0-F3BC0C04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D0ED-3875-499B-A4CF-2570A8B63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3BA8-E2F4-49D7-875B-54D0CEB2D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13000"/>
            <a:ext cx="9144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2360" y="278100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artners’ Forum 200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48360" y="14130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2060640"/>
            <a:ext cx="8640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1, 1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’ Forum, Washington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“branding” of the Partnershi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first Global Plan and the GDF launched;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cognize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s global movemen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estige press and media cover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4, 2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 Forum, New Del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overnment of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atient activist movement for TB established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control in several countries boos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20000" y="1844640"/>
            <a:ext cx="212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916360" y="1413000"/>
            <a:ext cx="62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key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468360" y="2665440"/>
            <a:ext cx="961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leverage of political commitment and fu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trends of th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control policy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influence on participating endemic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hip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foster the implementation of the outcomes of the external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enhancement of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1844640"/>
            <a:ext cx="6084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13372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dentification of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 Process led by Member States and/or partner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lection based on pre-established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"Host City" Committee to manage selec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posed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Commitment –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opportunities (local/regional/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ation Infrastructure &amp; Acces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enu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ccommo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porate Sector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sa and other “access” 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portunity to host a major high profile/conference even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venue generated from hotel booking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attention to showcase the c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litical advocacy and social mobilization within the count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14972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Partners'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sure equal opportunities to all potential host c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reate excitement and momentum in the run up to the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13372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1: Consultation and Dialogue with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ening Cerem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Constituencies for a Stronger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2: Ministerial and Representatives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mplifying the Partnership &amp; Leveraging Impact at Country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uture Potential and 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Financing Summ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 &amp; Advocacy Ev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dditional Proposed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-forums, prior to the Partners Forum, on the key topics to be discussed in the breakout ses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tch-making system for partners to easily identify potential counter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place and exhibition to encourage connections with the local business community, NGOs and the affected commu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eakers Corner” to facilitate open and transparent discus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retariat to facilitate training sessions on key iss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4:32:53Z</dcterms:created>
  <dc:creator>CammarotaV</dc:creator>
  <dc:description/>
  <dc:language>en-US</dc:language>
  <cp:lastModifiedBy>CammarotaV</cp:lastModifiedBy>
  <dcterms:modified xsi:type="dcterms:W3CDTF">2007-04-17T10:13:43Z</dcterms:modified>
  <cp:revision>6</cp:revision>
  <dc:subject/>
  <dc:title>Slide 1</dc:title>
</cp:coreProperties>
</file>