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684F8-CB52-4A2D-85CA-839FED67D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7E182-9E28-40A6-9095-E96C29CC5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0609-C1F9-4246-8CCA-EB9ADA233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8B77-129C-46AD-B88D-7D101E5E0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66E6DB-F955-475E-91AF-6EEC39E81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4CD9E-248F-4689-B659-0952E8748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8F99-DD9A-4E36-8E1B-80D2CCA03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FF72C-753D-4797-B098-D72962E0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9DAFE-4C45-41CC-BF64-DF7EBFA12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8913-B8FB-4D72-A2C2-FE19AA2FD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6FD6D-7CCA-4F62-A295-30E2DD7F1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1E2B-13E4-4C0D-B9F9-C6EDD2207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C512C-BE70-44B5-9E74-220B698B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E9495-D707-4FD1-B114-EDAA21524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DA41-C298-4904-9EAB-4A2B9BC7B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A9AF3-3CCE-4ACE-BBC3-B579DC908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91BDD-EAAE-4A38-89E7-C0B787BF5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8C605-33B0-496A-94DA-8A8D4B463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384F-D805-4BB3-8DEC-D54BA9DF0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D8F3-1E6E-4C98-B289-90A930D9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739E-9052-49AB-BFCC-06C4D3C2D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EA4-4ACE-4BEF-9FB5-8C3FF4047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5AD66-9261-44FA-896E-3E7FABAC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1954-2338-4A8A-9272-99A6F382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B2607-6E55-44D1-869C-71272BC26F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B3B70-87C2-4DF5-9D96-BDC05272C45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006633"/>
                </a:solidFill>
                <a:latin typeface="Garamond"/>
              </a:rPr>
              <a:t>A perspective of the community evolution in TB control (2005-2007), by a living legend. </a:t>
            </a:r>
            <a:br>
              <a:rPr sz="4600"/>
            </a:br>
            <a:endParaRPr b="0" lang="en-US" sz="4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981080" y="3962520"/>
            <a:ext cx="65534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ucy Ches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.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reation of the UCCATM for the Civil Society to engage in Political advocacy in Kenya.( this was after TB grant Round 2, Phase 2 was suspended in Kenya 2005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fting of the suspension on R2 P2,its sign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gning of Round 5 and money disburs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dvocacy for TB representation on the CCM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chievements through the ACTION projec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civil society engagement in TB activities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drawal of the Industrial property bill from parliament-Bill to ensure use of brand drugs only for HIV manageme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ed media coverage on TB and TB/HIV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ising of the political profile of TB in Keny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lanned activ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assive effort campaign on TB in Kenya-(gazzetement of TB and HIV as emergencies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os engagement of civil societies to think and do TB work at grass root level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LHA conference April 2007 “Impact of TB among PLHA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astly I stay committed to TB advocacy and be assured that you cant count on me for your support in all TB work= TB free worl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cknowledg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oard members for all their unwavering support  for patient empowerment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Community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Arial"/>
              </a:rPr>
              <a:t>All the community representatives at the Task For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r Jeremiah Chaka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sults Educational f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I referral Hospi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Action Gro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ivil Society in Keny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Entry Point in TB &amp;TB/HIV advoca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B/HIV co-inf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viving the dual epidemic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spite an immune reconstitu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all started after open confession of living with HIV  being the first HCW to openly acknowledge having the dise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rticipation in TB/HIV advocacy organized by WHO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tional advocacy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ation by Results educational fund to participate in media work prior to G 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nvolved media interviews on Good morning Scotland and BBC English and Kiswahili programm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e on one meetings with Parliamentarians in UK to sensitise them of the TB situation in Afric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livery of TB letter to Tony Blair’s office prior to G8 to advocate for T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rst ever board member to represent communities affected on the Stop TB C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presentative on the TB/HIV working group and core grou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lection to the Open Society Institute Community advisory Committee on TB/HIV monitoring and advocacy project –Project 3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Ungass Global Task force 2006 to represent TB/HIV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lobal achievements 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Community engagement within the Stop TB working group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3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representative on the C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romoting TB/HIV advisor in UNAID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ddition of component 5 within the Stop TB strateg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articipation in HLM’s and Global plan 2 launch in Africa and Toronto AIDS conference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AG research on TB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TAG-OSI collaboration for TB, TB-HIV advocacy training and treatment literac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Establishment of a Community Task For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Arial"/>
              </a:rPr>
              <a:t>Leading the TB-HIV WG to endorse universal targets for TB-HIV collaborative aciv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6633"/>
                </a:solidFill>
                <a:latin typeface="Garamond"/>
              </a:rPr>
              <a:t>Global achievements II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52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Patients Chart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lobal media articles-Maputo, Toronto on TB and TB/HIV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aunch of the Civil Society Challenge fund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greater collaboration among WHO HIV and TB Departments and UNAI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Promoting expanded diagnosis of smear negative of extra-pulmonary TB in high HIV prevalence area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new TB drugs, better TB diagnostics and a new TB vacci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Arial"/>
              </a:rPr>
              <a:t>Advocacy for donors support for TB contro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rican emergency declaration on TB-South Africa, Nigeria, Tanzania and Malawi – Kenya ??????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gagement of African Civil society on TB/HIV prior to the Abuja summit that resulted in the specific TB/HIV indicators in the common position paper (post Abuja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rticipation in the ACSO taskforce to represent TB/HIV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acilitation in the 2nd Training of TB/HIV advocates in Africa. And TAG’s workshop that brought together 70 participants from African countrie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Regional achievem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World Bank Presid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Finance during the recent UNECA meeting in Addi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CSO sign on letter to all African Ministers of Health during the recent Jo Burg meeting April 2007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B Emergency- CSO advocac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raining of journalists on TB/HIV March 200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5% campaign on Health by ACSO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Kenyan responsibiliti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/HIV steering committe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TB IC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MOI Referral Hospital TB/HIV committee that resulted in one stop clinic for TB/HIV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mber of the United Civil society Coalition on AIDS,TB and Malaria representing TB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eatment literacy on TB and TB/HIV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NOS task force on TB/HIV for training journalis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5:39:40Z</dcterms:created>
  <dc:creator>  </dc:creator>
  <dc:description/>
  <dc:language>en-US</dc:language>
  <cp:lastModifiedBy>Ezio T. Santos Filho</cp:lastModifiedBy>
  <dcterms:modified xsi:type="dcterms:W3CDTF">2007-04-18T17:05:47Z</dcterms:modified>
  <cp:revision>15</cp:revision>
  <dc:subject/>
  <dc:title>2004-2006 Patient Empowerment</dc:title>
</cp:coreProperties>
</file>