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F9F9D-659D-402C-8D94-FA6624C45F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6778E-3109-4E87-8060-722E0083F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2A98A-857B-42F1-8985-F996372BD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FB6-B178-4BE3-8022-B61ACB53B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F1FB-A9CA-4D04-A15A-9C8F99C3E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EF92D-C604-4E0B-A62F-1706CEBD5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3B3D-3BFD-42E1-ACE0-AC28E45A9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1995-B7D6-4E3A-A43A-8D05DC516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8998E-5F97-4877-8068-AED83616A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40E9E-69BE-451B-B7D3-6A7492CE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1D4E-7F01-4DE5-8B54-DE372D098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C74DA-1D8C-4878-9E3D-1332C3C60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6C9C-C1E5-4FA1-A838-DAF5CD3E23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76000" y="1341000"/>
            <a:ext cx="676764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5000"/>
              </a:lnSpc>
              <a:spcBef>
                <a:spcPts val="6001"/>
              </a:spcBef>
              <a:spcAft>
                <a:spcPts val="6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GDF Business Advisory Committee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Recommendation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2800"/>
            </a:b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8-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92000" y="274320"/>
            <a:ext cx="6994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476000" y="1412640"/>
            <a:ext cx="7488360" cy="49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 providing advice to the GDF on meeting its strategic 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Helping GDF to effectively execute its broad ranging operations in a complex business environment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r">
              <a:lnSpc>
                <a:spcPct val="80000"/>
              </a:lnSpc>
              <a:spcBef>
                <a:spcPts val="700"/>
              </a:spcBef>
              <a:spcAft>
                <a:spcPts val="876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even members with wide-ranging expertise, selected through competitive nomination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aw material manufacturing, pharmac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oduct formulation for drugs and diagnostic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quality assu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regulatory law, contract la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business 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ompetitive procurement proce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 algn="r">
              <a:lnSpc>
                <a:spcPct val="80000"/>
              </a:lnSpc>
              <a:spcBef>
                <a:spcPts val="451"/>
              </a:spcBef>
              <a:spcAft>
                <a:spcPts val="56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pricing and distribution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Focus of 1</a:t>
            </a:r>
            <a:r>
              <a:rPr b="0" lang="en-GB" sz="44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 BAC Mee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6360" y="16002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Insufficient number of prequalified suppliers of anti-TB dr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trategies for effective introduction of additional TB products to the GDF catalog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Evolution of GDF service l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Increasing number of prequalified suppli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618920" y="1600200"/>
            <a:ext cx="727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and biased supplie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 inventory of drug finished product and API manufacturers, including, local industries, analysis of volume and target mark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and address bottlenecks in the pre-qualification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acilitate the process of pre-qualification by providing process and technical assistance to manufactur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47640" y="274320"/>
            <a:ext cx="734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Effectively introducing new items to GDF product 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1700280"/>
            <a:ext cx="7210440" cy="49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ediatric formulations: Lack of PQ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pply and demand of 2nd line products not alig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agnostics: Lack  of international quality standa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gressive approach required to pre-qualify suppliers of paediatric products and to identify low cost quality form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ull convergence of GDF and GLC should be exped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view respective roles, ensure integrated service ch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xpert analysis on supply capability (including API), true demand, and local regulatory obstacles to proc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 to advocate quality standards for current diagnosti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lso prepare supply strategy upon adoption of new diagnostic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210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38080" indent="-838080"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  <a:ea typeface="宋体"/>
              </a:rPr>
              <a:t>Strategic approach to developing GDF servic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47280" y="1557000"/>
            <a:ext cx="7417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staining/Increasing grant service 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estrictive local drug licensing, procurement regu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DF’s perceived position in tender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General lack of local drug management capabil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ustomer experience – need for accurate feed-b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rogressively decrease dependence on grants and promote direct procur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ork with donors, private sector, NGOs, principal grant recipi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evelop innovative approaches to procurement service provision in context of government or donor 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sue a targeted approach for TA on drug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ccelerate steps to hire a TA manager in GDF secretari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Routinely collect, analyze and adopt lessons learned from customer feedback – act effectively on criticis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124000" y="1599840"/>
            <a:ext cx="65628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GDF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learly advocate its strategic position relative to the Global Fund, WHO and other donors and technical agenc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ek to increase the number of manufacturers prequalified by WHO to supply anti-TB drugs, and increase the number of programmes that order strictly from such suppl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Diversify its donor base, t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Ensure GDF sustain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ustain support for existing GDF gr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hare field experiences on service needs, perceptions and obstacles with the three New Tools working grou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bjective is better, affordable, accessible interventions to serve patient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Bernard</cp:lastModifiedBy>
  <dcterms:modified xsi:type="dcterms:W3CDTF">2007-04-19T06:20:01Z</dcterms:modified>
  <cp:revision>36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