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B81-AF9C-4646-97F0-0A481E70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24D9-88E9-4ADE-814B-3CC78DDE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65B-3D2E-4358-A40B-91D0DB38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4D90-2CF6-4F8E-B4F7-95842219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199D-6202-4DCD-B102-F7C47F65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CF3C-1EAE-45BF-95BB-371BBE72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E68E-8875-4B74-9051-62E68A56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C1ED-88F2-4657-BEB4-ECEE5FCA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3E3D-C62C-4E2E-9792-DCEA7F3D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A66A-1501-4981-B70D-26D2E42A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80C2-B6A8-41D4-B1EA-A3F2BE8D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758B-121B-436F-A007-D0090704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6A08-DD7E-44F6-9F6C-99E821D119F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92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The global Stop TB Research Movemen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 Narrow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tionale for a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hat is the global Research Movement to Stop T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Developments to d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lanned activities &amp;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oard's endors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2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Global TB research agendas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Global TB research agenda (TDR Scientific Working Group Oct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research priorities (Int J TB &amp; Lung Dis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TB/HIV research priorities (WHO/HTM/TB/2005.35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Childhood TB (WHO/HTM/TB/2007.38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and in progress, e.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Working Group updating the research 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NIH  (MDR-T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European Commission (new dru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3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ising awareness of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ebsite launched in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200" spc="-1" strike="noStrike" u="sng">
                <a:solidFill>
                  <a:srgbClr val="66ccff"/>
                </a:solidFill>
                <a:uFillTx/>
                <a:latin typeface="Arial Narrow"/>
                <a:hlinkClick r:id="rId1"/>
              </a:rPr>
              <a:t>www.stoptb.org/research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eatured prominently in World TB day events 2007, e.g. New York, Brussels, Berlin,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artnership secretariat and WHO actively engaged with key research partners, includ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NGOs, e.g. MSF,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unding institutions, e.g. UK MRC. European Commission Directorate-General for Research and South Africa MR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cademic i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Other institutions, e.g. Rockefeller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Planned activities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Mobilising increased global funding for TB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uilding consensus on Research Movement's strategic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Mobilising increased global funding for TB research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Planned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ssessing research needs, priorities and gaps (building on TDR's relative advantage in developing a global TB research agenda and enlisting input of other agenc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nalysis of factors influencing research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ment of arguments for increased research funding 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) assessment of funding trends through mechanism for global tracking of research funding (building on survey by TAG and work by Max Planck Institu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i) assessment of expected benefits of increased investment in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ing plans for how research partners and the Partnership collectively can present  these arguments through the Research Movement to research funders and the "funders of funders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Building consensus on the Research Movement's strategic approa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y engaging key research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ossible Bellagio meeting towards end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Forum at the IUATLD conference on lung health, 8-12 November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mmary indicative GANT char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987480"/>
          <a:ext cx="8713800" cy="5781600"/>
        </p:xfrm>
        <a:graphic>
          <a:graphicData uri="http://schemas.openxmlformats.org/drawingml/2006/table">
            <a:tbl>
              <a:tblPr/>
              <a:tblGrid>
                <a:gridCol w="2808360"/>
                <a:gridCol w="863640"/>
                <a:gridCol w="936720"/>
                <a:gridCol w="863640"/>
                <a:gridCol w="865080"/>
                <a:gridCol w="863640"/>
                <a:gridCol w="792000"/>
                <a:gridCol w="720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analysis of factors influencing research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le Bellagio mee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 plan for targeted approaches to key research fun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Action by Boar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key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development of timeline for action and budgetary i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80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10664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de spectrum of health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ic laboratory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 R &amp; 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sessment of efficacy, effectiveness, co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lth systems, policy and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demiology and model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ial science and behavioural resear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Rationale for the Research Movemen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95200"/>
            <a:ext cx="914400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The success of implementing the DOTS strateg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Is a testament to what committed people can (and need to) do with old and inadequate techn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00"/>
                </a:solidFill>
                <a:latin typeface="Arial Narrow"/>
              </a:rPr>
              <a:t>Research can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Now – improve the use of current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Soon – develop new tools for better TB 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Eventually – enable the global elimination of TB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Howeve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The current focus and scale of TB research is inadequ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929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What is the global Research Movement to Stop TB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4720" y="1196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The </a:t>
            </a: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Research Movement 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represents a broad alliance of TB researchers to promote TB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The aim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 is to promote and create an environment that fosters greater momentum on TB research &amp;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Initial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Understand the current landscape of activities, needs and opport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Research fo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Next ste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an overall coordinated research agen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the arguments for increased f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ise and execute a plan for 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1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nalysis of current funding and recent funding tr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TAG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Kaufman and Parida, Nature Medicine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02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5400000">
            <a:off x="2045160" y="986040"/>
            <a:ext cx="50529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025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5400000">
            <a:off x="2592360" y="441000"/>
            <a:ext cx="43927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NIH 2005 Research Expenditures (US$ billions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447920" y="1371600"/>
          <a:ext cx="5727600" cy="46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371600"/>
                    <a:ext cx="572760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600200" y="3276720"/>
            <a:ext cx="1143000" cy="380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R &amp; D needs for new TB tools in Global Pl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450800" y="1371600"/>
          <a:ext cx="5727960" cy="467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371600"/>
                    <a:ext cx="572796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0:55:57Z</dcterms:created>
  <dc:creator>maherd</dc:creator>
  <dc:description/>
  <dc:language>en-US</dc:language>
  <cp:lastModifiedBy>maherd</cp:lastModifiedBy>
  <dcterms:modified xsi:type="dcterms:W3CDTF">2007-04-18T13:33:55Z</dcterms:modified>
  <cp:revision>22</cp:revision>
  <dc:subject/>
  <dc:title>Stop T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