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663600" cy="983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776400" y="-3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874800" y="738000"/>
            <a:ext cx="4914720" cy="3686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887400" y="4670280"/>
            <a:ext cx="4888080" cy="442440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93405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776400" y="9340560"/>
            <a:ext cx="2886120" cy="492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07920"/>
                <a:tab algn="l" pos="1816200"/>
                <a:tab algn="l" pos="2724120"/>
                <a:tab algn="l" pos="3632040"/>
                <a:tab algn="l" pos="4540320"/>
                <a:tab algn="l" pos="5448240"/>
                <a:tab algn="l" pos="6356520"/>
                <a:tab algn="l" pos="7264440"/>
                <a:tab algn="l" pos="8172360"/>
                <a:tab algn="l" pos="9080640"/>
                <a:tab algn="l" pos="9988560"/>
                <a:tab algn="l" pos="10896480"/>
              </a:tabLst>
            </a:pPr>
            <a:fld id="{B5257006-FCC0-4615-A439-60FBF96A8254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776760" y="0"/>
            <a:ext cx="2886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76760" y="933768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720" rIns="90720" tIns="44640" bIns="446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0" y="9337680"/>
            <a:ext cx="2886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288612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874800" y="738360"/>
            <a:ext cx="4914720" cy="36860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888480" y="4670280"/>
            <a:ext cx="4884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122C-FB9B-4B0D-925D-46F40D12F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C98D-8F68-4571-AFF9-D18A9AD8E1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152B-CE1C-4E32-9A5F-C71CD5FC7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902D-6051-4BD9-8E42-666691F7B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E2EDD-EEFB-48B0-BD3F-FCDA505D4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87C34-A6D4-430E-8610-8943DE496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F89F6-D1BE-4EEE-9A97-A82CF7266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FFCE0-D58A-42D6-87E9-37D0CF0A0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A7B3B-600F-42E3-B200-41CAC4AB2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6C8F2-BE31-4B2C-8CD2-F06618529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9C926-9AAF-402B-9836-CD7F7B3D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A93F3-F4A3-451F-B2C2-8536336EB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17A39-04DD-445B-91AD-D2441A759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2A9AC-F5CC-4C4D-941C-DA3E32345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5BAEA-8F30-48C0-90A9-3D8E372AC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C0825-D9D8-4F91-B387-6413D9A9F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D6841-3DCD-4165-BD80-96B852DE2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7D8C-4098-42AC-8AE4-2542F8A36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8E7C-1FAC-4772-8024-9465F763E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9530-0B92-4017-9610-D0BC4EB92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5329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37D4-8984-4D7F-901E-B1BA0043E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4030-D973-4BF1-92CD-6596F878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472D-AB0F-4F16-A157-05E03F53D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8C2D3-FF68-4D92-8B54-F886C30A3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532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72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11846-03C6-41BF-967D-A1ECE9630A65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A60D5-3B00-4B6C-BFF6-B288A9D76909}" type="slidenum">
              <a:rPr b="0" lang="en-GB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1" lang="en-US" sz="3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72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72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2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836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cc"/>
                </a:solidFill>
                <a:latin typeface="Tahoma"/>
              </a:rPr>
              <a:t>ANNUAL REPORT 2006</a:t>
            </a:r>
            <a:endParaRPr b="1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03280" y="27813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ffcc"/>
                </a:solidFill>
                <a:latin typeface="Tahoma"/>
              </a:rPr>
              <a:t>Principal Highlights</a:t>
            </a:r>
            <a:endParaRPr b="1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"/>
          <p:cNvSpPr/>
          <p:nvPr/>
        </p:nvSpPr>
        <p:spPr>
          <a:xfrm>
            <a:off x="8217000" y="4869000"/>
            <a:ext cx="4586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rot="16200000">
            <a:off x="3409200" y="1065600"/>
            <a:ext cx="1904400" cy="73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Marcos Espi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ahoma"/>
              </a:rPr>
              <a:t>Executive Secret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3888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ncome and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Expenditures</a:t>
            </a: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1905120"/>
            <a:ext cx="8142120" cy="441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5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      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NCOM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    34,350     58,0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EXPENDITURE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    36,660     52,97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INCREASE IN INCOME OVER 2005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69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20000"/>
                </a:solidFill>
                <a:latin typeface="Tahoma"/>
              </a:rPr>
              <a:t>INCREASE IN EXPENDITURE OVER 2005 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44%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ctr" pos="58118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78920" y="115560"/>
            <a:ext cx="396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Distribution of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Income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108000" y="1700280"/>
            <a:ext cx="8763120" cy="24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5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PARTNERSHIP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5,472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13,976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GDF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 28,878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44,074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OTAL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34,350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58,05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5280" y="4508640"/>
            <a:ext cx="7772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c0000"/>
                </a:solidFill>
                <a:latin typeface="Tahoma"/>
                <a:ea typeface="Tahoma"/>
              </a:rPr>
              <a:t>INCREASE IN GDF INCOME             </a:t>
            </a:r>
            <a:r>
              <a:rPr b="1" lang="en-US" sz="2600" spc="-1" strike="noStrike">
                <a:solidFill>
                  <a:srgbClr val="8c0000"/>
                </a:solidFill>
                <a:latin typeface="Tahoma"/>
                <a:ea typeface="Tahoma"/>
              </a:rPr>
              <a:t>	</a:t>
            </a:r>
            <a:r>
              <a:rPr b="1" lang="en-US" sz="2600" spc="-1" strike="noStrike">
                <a:solidFill>
                  <a:srgbClr val="8c0000"/>
                </a:solidFill>
                <a:latin typeface="Tahoma"/>
                <a:ea typeface="Tahoma"/>
              </a:rPr>
              <a:t>    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53%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8c0000"/>
                </a:solidFill>
                <a:latin typeface="Tahoma"/>
                <a:ea typeface="Tahoma"/>
              </a:rPr>
              <a:t>INCREASE IN PARTNERSHIP INCOME    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  <a:ea typeface="Tahoma"/>
              </a:rPr>
              <a:t>155%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3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Distribution of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Expenditures</a:t>
            </a:r>
            <a:br>
              <a:rPr sz="3600"/>
            </a:b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201600" y="1341360"/>
            <a:ext cx="8763120" cy="495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5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Partners Support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,211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5,79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Advocacy &amp; Communication            929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1,093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GDF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     30,196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43,346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General Management &amp; ADM     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2,324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2,740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TOTAL Expenditures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720000"/>
                </a:solidFill>
                <a:latin typeface="Tahoma"/>
              </a:rPr>
              <a:t>36,660</a:t>
            </a:r>
            <a:r>
              <a:rPr b="1" lang="en-US" sz="26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720000"/>
                </a:solidFill>
                <a:latin typeface="Tahoma"/>
              </a:rPr>
              <a:t>52,97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Transferred to reserves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1,00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Surplus/(deficit) of income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after reserves</a:t>
            </a:r>
            <a:r>
              <a:rPr b="1" lang="en-US" sz="2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(2,310)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4,08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30320" y="1341360"/>
            <a:ext cx="8762760" cy="48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5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National partnership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300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540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Partnership building 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606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1,06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ISAC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1,312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442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Governance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  470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725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Working Groups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523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774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Technical Assistance to India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___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0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2,249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OTAL Expenditure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3,211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 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5,79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-36720" y="115560"/>
            <a:ext cx="554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Distribution of Partner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Support Expenditures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321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Distribution of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GDF Expenditures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"/>
          <p:cNvSpPr/>
          <p:nvPr/>
        </p:nvSpPr>
        <p:spPr>
          <a:xfrm>
            <a:off x="130320" y="1341360"/>
            <a:ext cx="8762760" cy="36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2005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200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Procurement of TB Drugs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28,367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41,344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QA &amp; pre-qualification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123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   84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TA, monitoring and salari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1,649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1,875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Advocacy &amp; communications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     __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57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Tahoma"/>
              </a:rPr>
              <a:t>  ___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Tahoma"/>
              </a:rPr>
              <a:t>43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r" pos="63817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TOTAL Expenditures</a:t>
            </a: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30,196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	</a:t>
            </a:r>
            <a:r>
              <a:rPr b="1" lang="en-US" sz="2800" spc="-1" strike="noStrike">
                <a:solidFill>
                  <a:srgbClr val="720000"/>
                </a:solidFill>
                <a:latin typeface="Tahoma"/>
              </a:rPr>
              <a:t>	</a:t>
            </a:r>
            <a:r>
              <a:rPr b="1" lang="en-US" sz="2800" spc="-1" strike="noStrike" u="sng">
                <a:solidFill>
                  <a:srgbClr val="720000"/>
                </a:solidFill>
                <a:uFillTx/>
                <a:latin typeface="Tahoma"/>
              </a:rPr>
              <a:t>43,346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439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Total income for 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Tahoma"/>
              </a:rPr>
              <a:t>years 2000 to 2006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1138320" y="1460520"/>
          <a:ext cx="6505560" cy="438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38320" y="1460520"/>
                    <a:ext cx="6505560" cy="438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"/>
          <p:cNvSpPr/>
          <p:nvPr/>
        </p:nvSpPr>
        <p:spPr>
          <a:xfrm>
            <a:off x="1116000" y="5516640"/>
            <a:ext cx="748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Tahoma"/>
              </a:rPr>
              <a:t>COMPOUND ANNUAL GROWTH RATE OF 43.6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624760" y="3933720"/>
            <a:ext cx="5418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4.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302240" y="2743200"/>
            <a:ext cx="4734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720000"/>
                </a:solidFill>
                <a:latin typeface="Tahoma"/>
              </a:rPr>
              <a:t>58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" name=""/>
          <p:cNvGraphicFramePr/>
          <p:nvPr/>
        </p:nvGraphicFramePr>
        <p:xfrm>
          <a:off x="395280" y="1409760"/>
          <a:ext cx="3824280" cy="533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409760"/>
                    <a:ext cx="3824280" cy="5332320"/>
                  </a:xfrm>
                  <a:prstGeom prst="rect">
                    <a:avLst/>
                  </a:prstGeom>
                  <a:ln w="3240">
                    <a:solidFill>
                      <a:srgbClr val="ffffcc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58920" y="124920"/>
            <a:ext cx="640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Launch of the Global Plan  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3"/>
          <a:stretch/>
        </p:blipFill>
        <p:spPr>
          <a:xfrm>
            <a:off x="4643280" y="2349360"/>
            <a:ext cx="4176720" cy="288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ointment of the first ever UN Secretary General Special Envoy to Stop T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08000" y="1628640"/>
            <a:ext cx="8964720" cy="4753080"/>
          </a:xfrm>
          <a:prstGeom prst="rect">
            <a:avLst/>
          </a:prstGeom>
          <a:blipFill rotWithShape="0">
            <a:blip r:embed="rId2"/>
            <a:srcRect/>
            <a:stretch/>
          </a:blip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-360" y="43920"/>
            <a:ext cx="414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Higher profile of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Stop TB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36360" y="1196640"/>
            <a:ext cx="921672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Call to Stop TB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EC, G8, UNGASS, Ibero-American Summit, African Union Summit, AIDS Int Conf, Clinton Summit, World TB Day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European Regional Partnership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Country Partnerships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High Level Missions to Brazil, Nigeria, India, Indonesia 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Engagement of world leaders (Annan, Arroyo, Brown, Gates, Kaunda, Obasanjo, Sampaio, Tutu, and others)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Kochon Award 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Parliamentarian Groups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  <a:p>
            <a:pPr lvl="1" marL="743040" indent="-285840">
              <a:spcBef>
                <a:spcPts val="575"/>
              </a:spcBef>
              <a:buClr>
                <a:srgbClr val="72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Tahoma"/>
              </a:rPr>
              <a:t>Coordinating Board  – Nigeria and Indonesia</a:t>
            </a:r>
            <a:endParaRPr b="0" lang="en-US" sz="23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-27000"/>
            <a:ext cx="9142560" cy="648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21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orking Groups Highlights I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9280" y="1268280"/>
            <a:ext cx="896472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Annual meeting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Drug development (Paris), Diagnostics (Paris), Vaccines (Vienna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Retooling Task Forc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Seven drugs in clinical developmen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1" lang="en-GB" sz="24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Open Forum on regulatory hurdle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athway to patients 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(GATB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New phage-based test for detection of RIF resist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Diagnosis for TB: Global Demand 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(FIND/TDR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Two vaccines 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(Oxford, Aeras/Crucell)</a:t>
            </a: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 in clinical trial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ahoma"/>
              </a:rPr>
              <a:t>Phase III trials sites in Ethiopia, India, and Uganda </a:t>
            </a:r>
            <a:r>
              <a:rPr b="0" i="1" lang="en-GB" sz="1800" spc="-1" strike="noStrike">
                <a:solidFill>
                  <a:srgbClr val="000000"/>
                </a:solidFill>
                <a:latin typeface="Tahoma"/>
              </a:rPr>
              <a:t>(AERAS/EDCTP/TBVAC)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4140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ahoma"/>
              </a:rPr>
              <a:t>Working Groups Highlights II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6360" y="1484280"/>
            <a:ext cx="928872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nnual meetings 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DOTS Expansion (Paris), MDR-TB (Atlanta), TB/HIV (Toronto), ACSM (Milan/Paris</a:t>
            </a:r>
            <a:endParaRPr b="0" lang="en-US" sz="18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tooling Task Forc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60% Case Detection – 84% Treatment Succes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B TEAM – Global Fun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ternational Standards for TB Care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XDR-TB Global Recommendation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LC – 53 project – 25 000 patient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nfection control sub-group under TB/HIV WG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-711360"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CSM at country level – US$ 30 m – Sixth GF round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7113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3640" y="-2736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top TB Partnership Global Coalition on Technical Assistance (TBTEAM) – Global Fund</a:t>
            </a:r>
            <a:endParaRPr b="1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68360" y="1414440"/>
          <a:ext cx="8496360" cy="5183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414440"/>
                    <a:ext cx="8496360" cy="518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7308720" y="981000"/>
            <a:ext cx="1150920" cy="647640"/>
          </a:xfrm>
          <a:prstGeom prst="wedgeRoundRectCallout">
            <a:avLst>
              <a:gd name="adj1" fmla="val -43791"/>
              <a:gd name="adj2" fmla="val 56370"/>
              <a:gd name="adj3" fmla="val 1666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ahoma"/>
              </a:rPr>
              <a:t>64% incl. Pakistan 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958160" y="4510080"/>
            <a:ext cx="1150920" cy="647640"/>
          </a:xfrm>
          <a:prstGeom prst="wedgeRoundRectCallout">
            <a:avLst>
              <a:gd name="adj1" fmla="val -77722"/>
              <a:gd name="adj2" fmla="val 44361"/>
              <a:gd name="adj3" fmla="val 1666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ahoma"/>
              </a:rPr>
              <a:t>35 incl. Pakistan appe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00360" y="1413000"/>
            <a:ext cx="4105080" cy="792000"/>
          </a:xfrm>
          <a:prstGeom prst="wedgeRoundRectCallout">
            <a:avLst>
              <a:gd name="adj1" fmla="val -4407"/>
              <a:gd name="adj2" fmla="val 36972"/>
              <a:gd name="adj3" fmla="val 16667"/>
            </a:avLst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Tahoma"/>
              </a:rPr>
              <a:t>2004 Beijin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Tahoma"/>
              </a:rPr>
              <a:t>CB approves the concept of country TA on GFATM grants through DOTS Expansion W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428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ahoma"/>
              </a:rPr>
              <a:t>GDF</a:t>
            </a:r>
            <a:endParaRPr b="1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484280"/>
            <a:ext cx="814716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pproval of 3.3 million anti-TB drug treatments reaching 10 m patient treatment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laced new drug orders worth US$29 million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duct range expanded to include second line anti-TB drug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chnical assistance to 58 countries by drug management and TB experts</a:t>
            </a: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2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09:46:41Z</dcterms:created>
  <dc:creator>MudasiaE</dc:creator>
  <dc:description/>
  <dc:language>en-US</dc:language>
  <cp:lastModifiedBy>stbvisitor</cp:lastModifiedBy>
  <cp:lastPrinted>2004-03-15T16:24:32Z</cp:lastPrinted>
  <dcterms:modified xsi:type="dcterms:W3CDTF">2007-04-19T13:20:21Z</dcterms:modified>
  <cp:revision>179</cp:revision>
  <dc:subject/>
  <dc:title>Secretariat, 2003 Progress Repor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