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117C-36FB-4569-8751-3642BB6CF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B90E-85D1-4E21-B659-A739DB37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5CCB-B087-45C6-A19B-73DA6F84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7931-7586-4C98-A9B8-F30CE961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98C0-20CC-43F3-ABA3-98D19C1B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0950-431B-4458-9838-9E21946A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4B8F-A757-4CCB-B8A3-10358288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313C-5B3A-4C90-B291-F9053BDA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F378-ADB2-4E86-B882-15595439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50BC-81A4-493D-8A34-B8D14F53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5D3F-5C3B-4E16-A6D5-392A2E3B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7DD4-8CA3-4F24-B69B-B4435729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1068-971E-4825-A45B-66B834A1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D1DB-3E6F-4701-A83A-BDC64CE78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FOR EUROPE &amp; CENTRAL ASIA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Progress and Future Dir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hn O’To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ir,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3290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Current Si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ablished Oct 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public/private partnership &amp;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IFRC/RC, Chair E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point A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 TB Day in Europe (Brussels, Berlin, Paris, London, Copenhagen, Stockho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ly supporting WHO Minister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Ten Point Action Plan for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pport the WHO Ministerial Forum on TB late 2007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 in the European Parliame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p services and resources in the European reg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reater participation of civil society in TB activit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velop a media campaign to raise awareness of T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cale up media coverage of TB in affected countr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oaden member base of the Partnership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sseminate and promote best practice models for TB control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gage relevant Euro &amp; national decision-maker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llaborate with HIV/A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d other stakehold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Suc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bilise great effort, energy + enthusi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s in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ild closer links between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ved TB up the political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U Commissioner Kyprianou announced EU TB Action P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Added value + created sy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the aircraft while flying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e in a short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al: engaging + involving countries + communities from 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ituencies (NTP, Ministries, resear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an operational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profile +re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3366ff"/>
                </a:solidFill>
                <a:latin typeface="Arial"/>
              </a:rPr>
              <a:t>TB mortality, Europe 2002-2004</a:t>
            </a:r>
            <a:br>
              <a:rPr sz="2400"/>
            </a:br>
            <a:r>
              <a:rPr b="0" i="1" lang="en-GB" sz="2400" spc="-1" strike="noStrike">
                <a:solidFill>
                  <a:srgbClr val="3366ff"/>
                </a:solidFill>
                <a:latin typeface="Arial"/>
              </a:rPr>
              <a:t>(deaths per 100,000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2801" r="0" b="2801"/>
          <a:stretch/>
        </p:blipFill>
        <p:spPr>
          <a:xfrm>
            <a:off x="1332000" y="1700280"/>
            <a:ext cx="7194600" cy="453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40000" y="1773360"/>
            <a:ext cx="172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 inclu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 data or data incomp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.2 – 1.0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1 – 5.0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.1 – 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gt;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urrent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ionalise links to Glob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ngthen organisational structure + modus operand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and the Partnership to include more key institutional players + donors, broaden Constituencies: NTP Managers, Ministries, Health Protection Agencies,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 representation: Eastern + F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rify operational budget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B cases of foreign origin, Europe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7274" t="2801" r="0" b="2801"/>
          <a:stretch/>
        </p:blipFill>
        <p:spPr>
          <a:xfrm>
            <a:off x="1116000" y="1773360"/>
            <a:ext cx="654516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4707600">
            <a:off x="1224000" y="5047920"/>
            <a:ext cx="1800000" cy="720720"/>
          </a:xfrm>
          <a:prstGeom prst="leftArrow">
            <a:avLst>
              <a:gd name="adj1" fmla="val 50000"/>
              <a:gd name="adj2" fmla="val 62438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800000">
            <a:off x="1474560" y="5500080"/>
            <a:ext cx="269388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3%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 rot="10854600">
            <a:off x="2948040" y="5586840"/>
            <a:ext cx="1619280" cy="64584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8% Balk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3133800">
            <a:off x="2624400" y="4728240"/>
            <a:ext cx="792360" cy="498600"/>
          </a:xfrm>
          <a:prstGeom prst="leftArrow">
            <a:avLst>
              <a:gd name="adj1" fmla="val 50000"/>
              <a:gd name="adj2" fmla="val 39729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729800">
            <a:off x="2484360" y="3933720"/>
            <a:ext cx="2592360" cy="720720"/>
          </a:xfrm>
          <a:prstGeom prst="leftArrow">
            <a:avLst>
              <a:gd name="adj1" fmla="val 50000"/>
              <a:gd name="adj2" fmla="val 89923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4941720"/>
            <a:ext cx="1944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4%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1475200">
            <a:off x="3995280" y="3141360"/>
            <a:ext cx="1873440" cy="720720"/>
          </a:xfrm>
          <a:prstGeom prst="leftArrow">
            <a:avLst>
              <a:gd name="adj1" fmla="val 50000"/>
              <a:gd name="adj2" fmla="val 64985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79840" y="3230640"/>
            <a:ext cx="163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3284640"/>
            <a:ext cx="367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542160" indent="-542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9% F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2720" y="5826240"/>
            <a:ext cx="2411280" cy="1031400"/>
          </a:xfrm>
          <a:prstGeom prst="rect">
            <a:avLst/>
          </a:prstGeom>
          <a:solidFill>
            <a:srgbClr val="ffffff">
              <a:alpha val="39000"/>
            </a:srgbClr>
          </a:solidFill>
          <a:ln cap="rnd" w="64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* Annotated arrows show the provenance of foreign TB cases in the EU in 2005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(23 countries, N=13,66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1989000"/>
            <a:ext cx="17290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No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0% – 4%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5% – 19%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20% – 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&gt;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ot done – a lot more to 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tain progress on TB in G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with PT EU Health Presi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TB Action P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a – Ex. Comm Elections and Futur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d geographically and constituents: more key institutional players + donors (expand Partnership to include EU Commission, E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Ministerial Forum 2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ctober – a critical stakeholders meeting for 53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0:05:17Z</dcterms:created>
  <dc:creator>jotoole</dc:creator>
  <dc:description/>
  <dc:language>en-US</dc:language>
  <cp:lastModifiedBy>stbvisitor</cp:lastModifiedBy>
  <dcterms:modified xsi:type="dcterms:W3CDTF">2007-04-19T12:29:53Z</dcterms:modified>
  <cp:revision>24</cp:revision>
  <dc:subject/>
  <dc:title>  FOR EURO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0394228</vt:r8>
  </property>
  <property fmtid="{D5CDD505-2E9C-101B-9397-08002B2CF9AE}" pid="3" name="_AuthorEmail">
    <vt:lpwstr>bakerl@who.int</vt:lpwstr>
  </property>
  <property fmtid="{D5CDD505-2E9C-101B-9397-08002B2CF9AE}" pid="4" name="_AuthorEmailDisplayName">
    <vt:lpwstr>Baker, Louise</vt:lpwstr>
  </property>
  <property fmtid="{D5CDD505-2E9C-101B-9397-08002B2CF9AE}" pid="5" name="_EmailSubject">
    <vt:lpwstr>Ang. RE: Action point 3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