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640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7400" y="4670280"/>
            <a:ext cx="4888080" cy="442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640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A0BEFC6-613F-404D-93F9-FA912072E85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776760" y="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76760" y="93376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93376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0995-BBCB-4C98-9574-BEA9D5BAF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3C6F-2410-43C5-8C4B-2313416D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0AE9-3640-4D3D-9ED2-852596894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44B5-258E-4ABA-A5AF-1F79487A7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DC8A-CEC3-4C48-92FC-2D1FB3CD9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778E-AEE2-40A1-8436-37549710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B90F-8013-4595-A85D-95C85200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33BD-8762-4E51-9070-780DFF38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E8CB-ED64-450A-997A-C9ED175A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6777-0565-49EE-A085-1D31597F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D4E2-C399-46F8-BD43-DB7CF7F3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A2DC-C2E7-4AA4-9F5E-4FC0714D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21BD-6FA5-42B2-A017-20C23156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6E3C-E8B1-4D53-9F1B-EE3D5A61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2170-BCB2-4098-9C7F-0BDEF781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1575-1410-4900-9662-B9A8795EA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0856-5765-45D8-BD8E-C160C3C37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1F1B-C338-42DF-A05F-5EB80FE2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8F58-3F9D-4019-A6A0-D945B484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3B20-B9D9-4F1E-9B4C-4AFC3D3F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DDCB-D5BA-4953-918B-70D37CA4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B5A5-D453-49E9-A38A-119A5E2A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D6E6-9F82-4750-8667-09237C0D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2730-55C7-4EC8-BFDF-3AE0A32D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6876-679B-45AE-A160-454561DAE898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2A1E-CF35-4A04-836B-9BB98C733100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ANNUAL REPORT 2006</a:t>
            </a:r>
            <a:endParaRPr b="1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cc"/>
                </a:solidFill>
                <a:latin typeface="Tahoma"/>
              </a:rPr>
              <a:t>Principal Highlights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217000" y="4869000"/>
            <a:ext cx="458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3409200" y="1065600"/>
            <a:ext cx="1904400" cy="73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arcos Esp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xecutive Secre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38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come and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penditure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905120"/>
            <a:ext cx="8142120" cy="44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   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COM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34,350     58,0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PENDITUR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36,660     52,9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CREASE IN INCOME OVER 2005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6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CREASE IN EXPENDITURE OVER 2005 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39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com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08000" y="1700280"/>
            <a:ext cx="8763120" cy="24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HIP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5,472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13,97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DF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 28,878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4,07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4,350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58,0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450864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INCREASE IN GDF INCOME             </a:t>
            </a: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	</a:t>
            </a: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53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INCREASE IN PARTNERSHIP INCOME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155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xpenditures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01600" y="1341360"/>
            <a:ext cx="8763120" cy="49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 Suppor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,211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5,79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dvocacy &amp; Communication            929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9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DF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  30,196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43,34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eneral Management &amp; ADM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324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74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36,660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52,97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ransferred to reserve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Surplus/(deficit) of incom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fter reserves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(2,310)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,08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0320" y="1341360"/>
            <a:ext cx="8762760" cy="48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National partnership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0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54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hip building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606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6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SAC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312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44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overnance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47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72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Working Group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52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77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echnical Assistance to India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_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0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24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,211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5,7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720" y="11556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Partn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upport Expenditure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DF Expenditure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30320" y="1341360"/>
            <a:ext cx="8762760" cy="36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rocurement of TB Drug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8,367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41,34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QA &amp; pre-qualification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12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8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A, monitoring and salar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1,649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87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dvocacy &amp; communication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57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_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0,196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43,3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otal income for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years 2000 to 2006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138320" y="1460520"/>
          <a:ext cx="6505560" cy="438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38320" y="1460520"/>
                    <a:ext cx="6505560" cy="43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116000" y="55166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OMPOUND ANNUAL GROWTH RATE OF 43.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24760" y="3933720"/>
            <a:ext cx="541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4.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02240" y="2743200"/>
            <a:ext cx="473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95280" y="1409760"/>
          <a:ext cx="3824280" cy="53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09760"/>
                    <a:ext cx="3824280" cy="5332320"/>
                  </a:xfrm>
                  <a:prstGeom prst="rect">
                    <a:avLst/>
                  </a:prstGeom>
                  <a:ln w="3240">
                    <a:solidFill>
                      <a:srgbClr val="ff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920" y="1249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aunch of the Global Plan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643280" y="2349360"/>
            <a:ext cx="417672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ointment of the first ever UN Secretary General Special Envoy to Stop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8000" y="1628640"/>
            <a:ext cx="8964720" cy="475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43920"/>
            <a:ext cx="41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igher profile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360" y="1196640"/>
            <a:ext cx="9216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all to Stop TB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C, G8, UNGASS, Ibero-American Summit, African Union Summit, AIDS Int Conf, Clinton Summit, World TB Day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uropean Regional Partnership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ountry Partnerships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High Level Missions to Brazil, Nigeria, India, Indonesia 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ngagement of world leaders (Annan, Arroyo, Brown, Gates, Kaunda, Obasanjo, Sampaio, Tutu, and others)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Kochon Award 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Parliamentarian Groups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oordinating Board  – Nigeria and Indonesia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2560" cy="64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21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ing Groups Highlights I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nnual meetin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Drug development (Paris), Diagnostics (Paris), Vaccines (Vienna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even drugs in clinical develop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Open Forum on regulatory hurdl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athway to patients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GATB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ew phage-based test for detection of RIF resi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iagnosis for TB: Global Demand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FIND/TDR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wo vaccines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Oxford, Aeras/Crucell)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in clinical tri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hase III trials sites in Ethiopia, India, and Uganda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AERAS/EDCTP/TBVAC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1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ing Groups Highlights II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360" y="1484280"/>
            <a:ext cx="9288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ual meeting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OTS Expansion (Paris), MDR-TB (Atlanta), TB/HIV (Toronto), ACSM (Milan/Par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0% Case Detection – 84% Treatment Succes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B TEAM – Global F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national Standards for TB Ca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DR-TB Global 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LC – 53 project – 25 000 pati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fection control sub-group under TB/HIV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SM at country level – US$ 30 m – Sixth GF ro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-2736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top TB Partnership Global Coalition on Technical Assistance (TBTEAM) – Global Fun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8360" y="1414440"/>
          <a:ext cx="8496360" cy="51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14440"/>
                    <a:ext cx="849636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7308720" y="981000"/>
            <a:ext cx="1150920" cy="647640"/>
          </a:xfrm>
          <a:prstGeom prst="wedgeRoundRectCallout">
            <a:avLst>
              <a:gd name="adj1" fmla="val -43791"/>
              <a:gd name="adj2" fmla="val 56370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64% incl. Pakistan 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8160" y="4510080"/>
            <a:ext cx="1150920" cy="647640"/>
          </a:xfrm>
          <a:prstGeom prst="wedgeRoundRectCallout">
            <a:avLst>
              <a:gd name="adj1" fmla="val -77722"/>
              <a:gd name="adj2" fmla="val 44361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35 incl. Pakistan 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0360" y="1413000"/>
            <a:ext cx="4105080" cy="792000"/>
          </a:xfrm>
          <a:prstGeom prst="wedgeRoundRectCallout">
            <a:avLst>
              <a:gd name="adj1" fmla="val -4407"/>
              <a:gd name="adj2" fmla="val 36972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Tahoma"/>
              </a:rPr>
              <a:t>2004 Beij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CB approves the concept of country TA on GFATM grants through DOTS Expansion W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42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DF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1471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pproval of 3.3 million anti-TB drug treatments reaching 10 m patient treatm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ced new drug orders worth US$29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 range expanded to include second line anti-TB dru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hnical assistance to 58 countries by drug management and TB exper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bvisitor</cp:lastModifiedBy>
  <cp:lastPrinted>2004-03-15T16:24:32Z</cp:lastPrinted>
  <dcterms:modified xsi:type="dcterms:W3CDTF">2007-04-19T13:20:21Z</dcterms:modified>
  <cp:revision>179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