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4.png" ContentType="image/png"/>
  <Override PartName="/ppt/media/image20.wmf" ContentType="image/x-wmf"/>
  <Override PartName="/ppt/media/image5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4.wmf" ContentType="image/x-wmf"/>
  <Override PartName="/ppt/media/image27.wmf" ContentType="image/x-wmf"/>
  <Override PartName="/ppt/media/image23.wmf" ContentType="image/x-wmf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3034-F266-4B10-B768-E59688221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in other countries we are not seeing the expected dec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, a reminder about the targ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C8FA-DBE2-4CA1-AB06-AF3E50FA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7493-5A2D-4B50-9BFD-56CAAC51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A3C6-5034-4354-A064-A051E521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0C77-6D9A-4CE1-AECB-221BE35E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5F59-E6CA-4D2D-A7F5-9ED0319C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999D-CD0B-463B-96C4-3473F099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1CC1-4BA0-4677-97DF-69B4277B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ED04-7FEE-4AEB-89BC-912DD90A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7141-CBCD-450B-928D-AAC6F385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E97B-6857-4BD4-9FE8-E6C2E756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B2D-6A97-443C-A2D1-6CBC34F0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9C94-421A-4DD6-8A4A-9128C7B1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7EF9-237C-4A4D-BBCA-78020E497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3480" y="1844280"/>
            <a:ext cx="828180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Did we reach the 2005 targets?</a:t>
            </a:r>
            <a:br>
              <a:rPr sz="38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Will we achieve the Millennium Development Goals?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28760" y="333360"/>
            <a:ext cx="4647600" cy="1224000"/>
            <a:chOff x="428760" y="333360"/>
            <a:chExt cx="4647600" cy="1224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3128040" y="333360"/>
              <a:ext cx="10915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428760" y="335160"/>
              <a:ext cx="94392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1328400" y="333360"/>
              <a:ext cx="1799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4206960" y="333360"/>
              <a:ext cx="869400" cy="12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95280" y="4437000"/>
            <a:ext cx="59054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5160" y="162252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03160" y="180648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6560" y="54468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6560" y="45403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36560" y="3633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6560" y="271296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36560" y="18064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3160" y="544680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8031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81620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81628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8289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3160" y="3029040"/>
            <a:ext cx="3025800" cy="1708200"/>
          </a:xfrm>
          <a:custGeom>
            <a:avLst/>
            <a:gdLst/>
            <a:ahLst/>
            <a:rect l="l" t="t" r="r" b="b"/>
            <a:pathLst>
              <a:path w="230" h="130">
                <a:moveTo>
                  <a:pt x="0" y="130"/>
                </a:moveTo>
                <a:lnTo>
                  <a:pt x="15" y="122"/>
                </a:lnTo>
                <a:lnTo>
                  <a:pt x="31" y="115"/>
                </a:lnTo>
                <a:lnTo>
                  <a:pt x="46" y="104"/>
                </a:lnTo>
                <a:lnTo>
                  <a:pt x="61" y="96"/>
                </a:lnTo>
                <a:lnTo>
                  <a:pt x="77" y="81"/>
                </a:lnTo>
                <a:lnTo>
                  <a:pt x="92" y="73"/>
                </a:lnTo>
                <a:lnTo>
                  <a:pt x="107" y="65"/>
                </a:lnTo>
                <a:lnTo>
                  <a:pt x="123" y="54"/>
                </a:lnTo>
                <a:lnTo>
                  <a:pt x="138" y="45"/>
                </a:lnTo>
                <a:lnTo>
                  <a:pt x="153" y="39"/>
                </a:lnTo>
                <a:lnTo>
                  <a:pt x="168" y="24"/>
                </a:lnTo>
                <a:lnTo>
                  <a:pt x="184" y="16"/>
                </a:lnTo>
                <a:lnTo>
                  <a:pt x="199" y="9"/>
                </a:lnTo>
                <a:lnTo>
                  <a:pt x="214" y="0"/>
                </a:lnTo>
                <a:lnTo>
                  <a:pt x="230" y="3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3160" y="5118120"/>
            <a:ext cx="3025800" cy="183960"/>
          </a:xfrm>
          <a:custGeom>
            <a:avLst/>
            <a:gdLst/>
            <a:ahLst/>
            <a:rect l="l" t="t" r="r" b="b"/>
            <a:pathLst>
              <a:path w="230" h="14">
                <a:moveTo>
                  <a:pt x="0" y="14"/>
                </a:moveTo>
                <a:lnTo>
                  <a:pt x="15" y="14"/>
                </a:lnTo>
                <a:lnTo>
                  <a:pt x="31" y="14"/>
                </a:lnTo>
                <a:lnTo>
                  <a:pt x="46" y="13"/>
                </a:lnTo>
                <a:lnTo>
                  <a:pt x="61" y="11"/>
                </a:lnTo>
                <a:lnTo>
                  <a:pt x="77" y="10"/>
                </a:lnTo>
                <a:lnTo>
                  <a:pt x="92" y="6"/>
                </a:lnTo>
                <a:lnTo>
                  <a:pt x="107" y="5"/>
                </a:lnTo>
                <a:lnTo>
                  <a:pt x="123" y="5"/>
                </a:lnTo>
                <a:lnTo>
                  <a:pt x="138" y="1"/>
                </a:lnTo>
                <a:lnTo>
                  <a:pt x="153" y="1"/>
                </a:lnTo>
                <a:lnTo>
                  <a:pt x="168" y="1"/>
                </a:lnTo>
                <a:lnTo>
                  <a:pt x="184" y="0"/>
                </a:lnTo>
                <a:lnTo>
                  <a:pt x="199" y="1"/>
                </a:lnTo>
                <a:lnTo>
                  <a:pt x="214" y="1"/>
                </a:lnTo>
                <a:lnTo>
                  <a:pt x="230" y="1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03160" y="2398680"/>
            <a:ext cx="3025800" cy="222120"/>
          </a:xfrm>
          <a:custGeom>
            <a:avLst/>
            <a:gdLst/>
            <a:ahLst/>
            <a:rect l="l" t="t" r="r" b="b"/>
            <a:pathLst>
              <a:path w="230" h="17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  <a:lnTo>
                  <a:pt x="168" y="7"/>
                </a:lnTo>
                <a:lnTo>
                  <a:pt x="184" y="9"/>
                </a:lnTo>
                <a:lnTo>
                  <a:pt x="199" y="14"/>
                </a:lnTo>
                <a:lnTo>
                  <a:pt x="214" y="17"/>
                </a:lnTo>
                <a:lnTo>
                  <a:pt x="230" y="12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2640" y="53276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2640" y="44211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2640" y="35146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2640" y="2595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264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6520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7968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7796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9244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-1307520" y="349488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53360" y="468468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09760" y="3435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47640" y="197820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84640" y="162252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42000" y="540720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842000" y="42116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842000" y="30020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42000" y="180648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06800" y="5407200"/>
            <a:ext cx="324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068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91984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93432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9596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906800" y="2055960"/>
            <a:ext cx="3052800" cy="2798640"/>
          </a:xfrm>
          <a:custGeom>
            <a:avLst/>
            <a:gdLst/>
            <a:ahLst/>
            <a:rect l="l" t="t" r="r" b="b"/>
            <a:pathLst>
              <a:path w="232" h="213">
                <a:moveTo>
                  <a:pt x="0" y="213"/>
                </a:moveTo>
                <a:lnTo>
                  <a:pt x="15" y="200"/>
                </a:lnTo>
                <a:lnTo>
                  <a:pt x="31" y="187"/>
                </a:lnTo>
                <a:lnTo>
                  <a:pt x="46" y="167"/>
                </a:lnTo>
                <a:lnTo>
                  <a:pt x="62" y="155"/>
                </a:lnTo>
                <a:lnTo>
                  <a:pt x="77" y="132"/>
                </a:lnTo>
                <a:lnTo>
                  <a:pt x="93" y="114"/>
                </a:lnTo>
                <a:lnTo>
                  <a:pt x="108" y="99"/>
                </a:lnTo>
                <a:lnTo>
                  <a:pt x="124" y="84"/>
                </a:lnTo>
                <a:lnTo>
                  <a:pt x="139" y="65"/>
                </a:lnTo>
                <a:lnTo>
                  <a:pt x="154" y="56"/>
                </a:lnTo>
                <a:lnTo>
                  <a:pt x="170" y="37"/>
                </a:lnTo>
                <a:lnTo>
                  <a:pt x="185" y="26"/>
                </a:lnTo>
                <a:lnTo>
                  <a:pt x="201" y="19"/>
                </a:lnTo>
                <a:lnTo>
                  <a:pt x="216" y="7"/>
                </a:lnTo>
                <a:lnTo>
                  <a:pt x="232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15652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091360" y="540720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091360" y="42116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91360" y="30020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91360" y="18064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06800" y="2227320"/>
            <a:ext cx="3052800" cy="1695240"/>
          </a:xfrm>
          <a:custGeom>
            <a:avLst/>
            <a:gdLst/>
            <a:ahLst/>
            <a:rect l="l" t="t" r="r" b="b"/>
            <a:pathLst>
              <a:path w="232" h="129">
                <a:moveTo>
                  <a:pt x="0" y="129"/>
                </a:moveTo>
                <a:lnTo>
                  <a:pt x="15" y="122"/>
                </a:lnTo>
                <a:lnTo>
                  <a:pt x="31" y="116"/>
                </a:lnTo>
                <a:lnTo>
                  <a:pt x="46" y="96"/>
                </a:lnTo>
                <a:lnTo>
                  <a:pt x="62" y="91"/>
                </a:lnTo>
                <a:lnTo>
                  <a:pt x="77" y="68"/>
                </a:lnTo>
                <a:lnTo>
                  <a:pt x="93" y="52"/>
                </a:lnTo>
                <a:lnTo>
                  <a:pt x="108" y="42"/>
                </a:lnTo>
                <a:lnTo>
                  <a:pt x="124" y="33"/>
                </a:lnTo>
                <a:lnTo>
                  <a:pt x="139" y="18"/>
                </a:lnTo>
                <a:lnTo>
                  <a:pt x="154" y="19"/>
                </a:lnTo>
                <a:lnTo>
                  <a:pt x="170" y="4"/>
                </a:lnTo>
                <a:lnTo>
                  <a:pt x="185" y="0"/>
                </a:lnTo>
                <a:lnTo>
                  <a:pt x="201" y="4"/>
                </a:lnTo>
                <a:lnTo>
                  <a:pt x="216" y="0"/>
                </a:lnTo>
                <a:lnTo>
                  <a:pt x="232" y="5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18080" y="5288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618080" y="40924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18080" y="28843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1808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6702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68332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9600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7230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2824560" y="341244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327880" y="5288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327880" y="40924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327880" y="28843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327880" y="16891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7243200" y="3462120"/>
            <a:ext cx="3245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New 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39640" y="204300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040000" y="486900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9280" y="260280"/>
            <a:ext cx="87854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lobal TB inci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rate stable or falling by 2005, numbers still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297000"/>
            <a:ext cx="9144000" cy="62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422360" y="3639960"/>
            <a:ext cx="333360" cy="19828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67080" y="5124600"/>
            <a:ext cx="333360" cy="4982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27280" y="4246560"/>
            <a:ext cx="333360" cy="1376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0" y="5335560"/>
            <a:ext cx="333360" cy="287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32560" y="2990880"/>
            <a:ext cx="331560" cy="26319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6920" y="4307040"/>
            <a:ext cx="331920" cy="1315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36040" y="4200480"/>
            <a:ext cx="333360" cy="14223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55720" y="1855800"/>
            <a:ext cx="333360" cy="37670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00440" y="5335560"/>
            <a:ext cx="349200" cy="287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60640" y="4564080"/>
            <a:ext cx="333360" cy="105876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05360" y="5245200"/>
            <a:ext cx="347760" cy="377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964120" y="4049640"/>
            <a:ext cx="333360" cy="157320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08840" y="4761000"/>
            <a:ext cx="349200" cy="8618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069400" y="4381560"/>
            <a:ext cx="333360" cy="1241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89080" y="4640400"/>
            <a:ext cx="333360" cy="9824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149640" y="5381640"/>
            <a:ext cx="331920" cy="2412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194000" y="4941720"/>
            <a:ext cx="331920" cy="681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53120" y="5472000"/>
            <a:ext cx="33336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297480" y="4307040"/>
            <a:ext cx="333360" cy="13158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58040" y="4957920"/>
            <a:ext cx="333360" cy="6649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402760" y="4911840"/>
            <a:ext cx="333360" cy="7110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07960" y="1538280"/>
            <a:ext cx="1800" cy="408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17600" y="562284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317600" y="5108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17600" y="460836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17600" y="4094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17600" y="357984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17600" y="3065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317600" y="256716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317600" y="205272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17600" y="1538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07960" y="5622840"/>
            <a:ext cx="735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140796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45268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51144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55616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61672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66108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772164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876600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11080" y="477720"/>
            <a:ext cx="50634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lobal epidemic in decline..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078640" y="947880"/>
            <a:ext cx="6032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ut not fast enough to meet MD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13760" y="54561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46360" y="4941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46360" y="4443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46360" y="3929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46360" y="341316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46360" y="2898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46360" y="2400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46360" y="1886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46360" y="137160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648440" y="5880240"/>
            <a:ext cx="602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F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662560" y="5880240"/>
            <a:ext cx="668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723120" y="5880240"/>
            <a:ext cx="65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798080" y="5880240"/>
            <a:ext cx="619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36600" y="5880240"/>
            <a:ext cx="814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873480" y="5880240"/>
            <a:ext cx="683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P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825680" y="5880240"/>
            <a:ext cx="828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6200000">
            <a:off x="-1441800" y="3430800"/>
            <a:ext cx="353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aths (per 100 000/yea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91280" y="1673280"/>
            <a:ext cx="248292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676920" y="1779480"/>
            <a:ext cx="150840" cy="1508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89320" y="17035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676920" y="2097000"/>
            <a:ext cx="150840" cy="152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89320" y="202248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76920" y="2430360"/>
            <a:ext cx="15084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90400" y="2354400"/>
            <a:ext cx="1341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arget 201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15312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828720" y="333360"/>
            <a:ext cx="8064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A: NO STATE SHOWS MARKED DECLINE IN CASE NOT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8000"/>
                </a:solidFill>
                <a:latin typeface="Arial"/>
              </a:rPr>
              <a:t>Trends in case notification rates in Viet Nam, 1997-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43080" y="2405160"/>
            <a:ext cx="234720" cy="13446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01840" y="3381480"/>
            <a:ext cx="235080" cy="3682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362400" y="3749760"/>
            <a:ext cx="234720" cy="379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21160" y="3749760"/>
            <a:ext cx="235080" cy="3124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79920" y="3749760"/>
            <a:ext cx="235080" cy="7380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40480" y="3559320"/>
            <a:ext cx="235080" cy="190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599240" y="3384720"/>
            <a:ext cx="235080" cy="3650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77800" y="2824200"/>
            <a:ext cx="236880" cy="9255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36920" y="3749760"/>
            <a:ext cx="236520" cy="8665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597120" y="3749760"/>
            <a:ext cx="236520" cy="183348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56240" y="3749760"/>
            <a:ext cx="236520" cy="1623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15000" y="3749760"/>
            <a:ext cx="236520" cy="18367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775560" y="3481560"/>
            <a:ext cx="236520" cy="26820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834320" y="3749760"/>
            <a:ext cx="236520" cy="588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714680" y="2451240"/>
            <a:ext cx="234720" cy="1298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73440" y="3735360"/>
            <a:ext cx="234720" cy="14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33640" y="3749760"/>
            <a:ext cx="233640" cy="6904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92760" y="3749760"/>
            <a:ext cx="234720" cy="5522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951520" y="3749760"/>
            <a:ext cx="235080" cy="1071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12080" y="3487680"/>
            <a:ext cx="233280" cy="262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70840" y="3670200"/>
            <a:ext cx="235080" cy="79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360440" y="2131560"/>
            <a:ext cx="1800" cy="27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332000" y="21319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419200" y="3279240"/>
            <a:ext cx="1800" cy="101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92200" y="327960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479760" y="4041360"/>
            <a:ext cx="1800" cy="87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451320" y="40417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4538520" y="396720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10080" y="39672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97640" y="4379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70640" y="4379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6657840" y="3465000"/>
            <a:ext cx="1800" cy="93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29400" y="3465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7716960" y="3342960"/>
            <a:ext cx="1440" cy="41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688160" y="334332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60440" y="2405160"/>
            <a:ext cx="1800" cy="56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2000" y="2462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419200" y="3381480"/>
            <a:ext cx="1800" cy="101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392200" y="34830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479760" y="41292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451320" y="42163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538520" y="4062240"/>
            <a:ext cx="1800" cy="96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10080" y="41590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597640" y="4487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570640" y="4595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57840" y="355932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629400" y="3654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16960" y="3384720"/>
            <a:ext cx="144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88160" y="3427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1595520" y="2600280"/>
            <a:ext cx="1440" cy="223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566720" y="26002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654280" y="4455720"/>
            <a:ext cx="1440" cy="160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627280" y="445608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714840" y="543564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86040" y="543564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773600" y="5221080"/>
            <a:ext cx="144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745160" y="522144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832360" y="5440320"/>
            <a:ext cx="180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805360" y="544032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892920" y="3362040"/>
            <a:ext cx="1440" cy="119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64480" y="336240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951680" y="4274640"/>
            <a:ext cx="1800" cy="63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923240" y="42750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595520" y="2824200"/>
            <a:ext cx="1440" cy="222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566720" y="304632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654280" y="4616280"/>
            <a:ext cx="1440" cy="158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27280" y="47750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14840" y="5583240"/>
            <a:ext cx="144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86040" y="57294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773600" y="5373720"/>
            <a:ext cx="1440" cy="150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45160" y="5524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832360" y="5586480"/>
            <a:ext cx="1800" cy="144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805360" y="57308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92920" y="3481560"/>
            <a:ext cx="1440" cy="117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64480" y="359892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51680" y="4338720"/>
            <a:ext cx="1800" cy="60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923240" y="43988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832040" y="2317320"/>
            <a:ext cx="1440" cy="133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03240" y="23176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890800" y="364968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862360" y="364968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949560" y="4365360"/>
            <a:ext cx="180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922560" y="436572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0120" y="4287600"/>
            <a:ext cx="1440" cy="14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81680" y="42879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6068880" y="47340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040440" y="47340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128000" y="3412800"/>
            <a:ext cx="144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101000" y="34131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8188200" y="363492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159760" y="36352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832040" y="2451240"/>
            <a:ext cx="1440" cy="131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803240" y="258300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90800" y="373536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62360" y="3821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49560" y="4440240"/>
            <a:ext cx="1800" cy="76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22560" y="451656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010120" y="430200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981680" y="44496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68880" y="482112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40440" y="49068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28000" y="3487680"/>
            <a:ext cx="1440" cy="73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01000" y="35607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188200" y="367020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159760" y="37051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066680" y="1598760"/>
            <a:ext cx="1800" cy="4300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033560" y="589932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033560" y="48243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033560" y="3749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033560" y="26733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033560" y="1598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66680" y="3749760"/>
            <a:ext cx="741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62120" y="574848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62120" y="467352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800280" y="3598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0280" y="2522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00280" y="144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4547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51352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-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726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-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6328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-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919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99320" y="5821200"/>
            <a:ext cx="38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848720" y="5821200"/>
            <a:ext cx="48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6200000">
            <a:off x="-940680" y="3304080"/>
            <a:ext cx="292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percentag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31000" y="6154560"/>
            <a:ext cx="2519280" cy="2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012000" y="6381720"/>
            <a:ext cx="144360" cy="142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244920" y="632448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04000" y="6381720"/>
            <a:ext cx="144360" cy="1429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002000" y="6308640"/>
            <a:ext cx="8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885080" y="6381720"/>
            <a:ext cx="174600" cy="142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128800" y="6308640"/>
            <a:ext cx="5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374920" cy="19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0" y="54000"/>
            <a:ext cx="91440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34364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"Millennium Development Holes"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political commitment… is failing to deliver on its promises. The problem is made worse by the questionable evaluation of progress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ture v446, p347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142920" y="4365720"/>
            <a:ext cx="8893080" cy="22302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468360" y="3716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 Walker et al, Lancet v369, p956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47520" y="333360"/>
            <a:ext cx="1675080" cy="22320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7524720" y="2708280"/>
            <a:ext cx="1125720" cy="15127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512640" y="2906640"/>
            <a:ext cx="6877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333360"/>
            <a:ext cx="878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re than 6m cases growing at 2-3%/yr in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sia dominates burden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frica governs tr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160" y="176544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3160" y="194940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6560" y="558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6560" y="46832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6560" y="37767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6560" y="2855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6560" y="1949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3160" y="558972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031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81620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1628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289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3160" y="3684600"/>
            <a:ext cx="2013120" cy="1195200"/>
          </a:xfrm>
          <a:custGeom>
            <a:avLst/>
            <a:gdLst/>
            <a:ahLst/>
            <a:rect l="l" t="t" r="r" b="b"/>
            <a:pathLst>
              <a:path w="153" h="91">
                <a:moveTo>
                  <a:pt x="0" y="91"/>
                </a:moveTo>
                <a:lnTo>
                  <a:pt x="15" y="83"/>
                </a:lnTo>
                <a:lnTo>
                  <a:pt x="31" y="76"/>
                </a:lnTo>
                <a:lnTo>
                  <a:pt x="46" y="65"/>
                </a:lnTo>
                <a:lnTo>
                  <a:pt x="61" y="57"/>
                </a:lnTo>
                <a:lnTo>
                  <a:pt x="77" y="42"/>
                </a:lnTo>
                <a:lnTo>
                  <a:pt x="92" y="34"/>
                </a:lnTo>
                <a:lnTo>
                  <a:pt x="107" y="26"/>
                </a:lnTo>
                <a:lnTo>
                  <a:pt x="123" y="15"/>
                </a:lnTo>
                <a:lnTo>
                  <a:pt x="138" y="6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3160" y="5273640"/>
            <a:ext cx="2013120" cy="17136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13"/>
                </a:moveTo>
                <a:lnTo>
                  <a:pt x="15" y="13"/>
                </a:lnTo>
                <a:lnTo>
                  <a:pt x="31" y="13"/>
                </a:lnTo>
                <a:lnTo>
                  <a:pt x="46" y="12"/>
                </a:lnTo>
                <a:lnTo>
                  <a:pt x="61" y="10"/>
                </a:lnTo>
                <a:lnTo>
                  <a:pt x="77" y="9"/>
                </a:lnTo>
                <a:lnTo>
                  <a:pt x="92" y="5"/>
                </a:lnTo>
                <a:lnTo>
                  <a:pt x="107" y="4"/>
                </a:lnTo>
                <a:lnTo>
                  <a:pt x="123" y="4"/>
                </a:lnTo>
                <a:lnTo>
                  <a:pt x="138" y="0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3160" y="2541600"/>
            <a:ext cx="2013120" cy="38160"/>
          </a:xfrm>
          <a:custGeom>
            <a:avLst/>
            <a:gdLst/>
            <a:ahLst/>
            <a:rect l="l" t="t" r="r" b="b"/>
            <a:pathLst>
              <a:path w="153" h="3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2640" y="54705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2640" y="45640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2640" y="3657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2640" y="27385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264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520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7968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7796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9244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-1307520" y="355860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9800" y="502452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20520" y="4038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20520" y="212076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84640" y="176544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0" y="1949400"/>
            <a:ext cx="180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42000" y="554976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42000" y="43545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42000" y="31449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42000" y="194940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06800" y="5549760"/>
            <a:ext cx="3237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6800" y="554940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91984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93432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94700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06800" y="2935440"/>
            <a:ext cx="2027520" cy="2062080"/>
          </a:xfrm>
          <a:custGeom>
            <a:avLst/>
            <a:gdLst/>
            <a:ahLst/>
            <a:rect l="l" t="t" r="r" b="b"/>
            <a:pathLst>
              <a:path w="154" h="157">
                <a:moveTo>
                  <a:pt x="0" y="157"/>
                </a:moveTo>
                <a:lnTo>
                  <a:pt x="15" y="144"/>
                </a:lnTo>
                <a:lnTo>
                  <a:pt x="31" y="131"/>
                </a:lnTo>
                <a:lnTo>
                  <a:pt x="46" y="111"/>
                </a:lnTo>
                <a:lnTo>
                  <a:pt x="62" y="99"/>
                </a:lnTo>
                <a:lnTo>
                  <a:pt x="77" y="76"/>
                </a:lnTo>
                <a:lnTo>
                  <a:pt x="92" y="58"/>
                </a:lnTo>
                <a:lnTo>
                  <a:pt x="108" y="43"/>
                </a:lnTo>
                <a:lnTo>
                  <a:pt x="123" y="28"/>
                </a:lnTo>
                <a:lnTo>
                  <a:pt x="138" y="9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43920" y="1949400"/>
            <a:ext cx="144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78760" y="554976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78760" y="46562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78760" y="374976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78760" y="28558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78760" y="194940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06800" y="2449440"/>
            <a:ext cx="2027520" cy="1090800"/>
          </a:xfrm>
          <a:custGeom>
            <a:avLst/>
            <a:gdLst/>
            <a:ahLst/>
            <a:rect l="l" t="t" r="r" b="b"/>
            <a:pathLst>
              <a:path w="154" h="83">
                <a:moveTo>
                  <a:pt x="0" y="83"/>
                </a:moveTo>
                <a:lnTo>
                  <a:pt x="15" y="78"/>
                </a:lnTo>
                <a:lnTo>
                  <a:pt x="31" y="73"/>
                </a:lnTo>
                <a:lnTo>
                  <a:pt x="46" y="58"/>
                </a:lnTo>
                <a:lnTo>
                  <a:pt x="62" y="54"/>
                </a:lnTo>
                <a:lnTo>
                  <a:pt x="77" y="37"/>
                </a:lnTo>
                <a:lnTo>
                  <a:pt x="92" y="25"/>
                </a:lnTo>
                <a:lnTo>
                  <a:pt x="108" y="18"/>
                </a:lnTo>
                <a:lnTo>
                  <a:pt x="123" y="11"/>
                </a:lnTo>
                <a:lnTo>
                  <a:pt x="138" y="0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18080" y="54309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18080" y="4235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18080" y="30272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1808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702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8332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9600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104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2824560" y="355536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15280" y="543096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15280" y="45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15280" y="36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15280" y="27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15280" y="18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7477200" y="3602880"/>
            <a:ext cx="2777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7040" y="218592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7400" y="503712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458640" y="1339920"/>
          <a:ext cx="8289720" cy="5328720"/>
        </p:xfrm>
        <a:graphic>
          <a:graphicData uri="http://schemas.openxmlformats.org/drawingml/2006/table">
            <a:tbl>
              <a:tblPr/>
              <a:tblGrid>
                <a:gridCol w="4145760"/>
                <a:gridCol w="4143960"/>
              </a:tblGrid>
              <a:tr h="10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W Pacifi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70/85 targets not met globall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≈ 26 countri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eeting targets may not have expected impac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Rapid implementation Stop TB Strateg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TB/HIV &amp; MDR from levels far below Global Pla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Global TB epidemic on point of decli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Not yet fast enough to meet MDG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07 report published all surveys of infection, disease, death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vidence for trends and impact to be more extensive and robu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Arial"/>
              </a:rPr>
              <a:t>The goo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e ba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an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4897440" cy="3135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076720" y="476280"/>
            <a:ext cx="3816360" cy="31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Arial"/>
              </a:rPr>
              <a:t>World Health Assembly 199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3860640"/>
            <a:ext cx="8713800" cy="25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"…attain a  global target of cure of 85% sputum-positive patients under treatment and detection of 70% of cases by the year 2000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71400" y="0"/>
            <a:ext cx="5556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11240" y="2935440"/>
            <a:ext cx="4876920" cy="3644640"/>
          </a:xfrm>
          <a:custGeom>
            <a:avLst/>
            <a:gdLst/>
            <a:ahLst/>
            <a:rect l="l" t="t" r="r" b="b"/>
            <a:pathLst>
              <a:path w="316" h="236">
                <a:moveTo>
                  <a:pt x="0" y="236"/>
                </a:moveTo>
                <a:lnTo>
                  <a:pt x="31" y="234"/>
                </a:lnTo>
                <a:lnTo>
                  <a:pt x="63" y="233"/>
                </a:lnTo>
                <a:lnTo>
                  <a:pt x="95" y="231"/>
                </a:lnTo>
                <a:lnTo>
                  <a:pt x="126" y="210"/>
                </a:lnTo>
                <a:lnTo>
                  <a:pt x="158" y="189"/>
                </a:lnTo>
                <a:lnTo>
                  <a:pt x="190" y="145"/>
                </a:lnTo>
                <a:lnTo>
                  <a:pt x="221" y="117"/>
                </a:lnTo>
                <a:lnTo>
                  <a:pt x="253" y="64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11240" y="1838160"/>
            <a:ext cx="4876920" cy="387684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198"/>
                </a:lnTo>
                <a:lnTo>
                  <a:pt x="63" y="184"/>
                </a:lnTo>
                <a:lnTo>
                  <a:pt x="95" y="185"/>
                </a:lnTo>
                <a:lnTo>
                  <a:pt x="126" y="194"/>
                </a:lnTo>
                <a:lnTo>
                  <a:pt x="158" y="190"/>
                </a:lnTo>
                <a:lnTo>
                  <a:pt x="190" y="189"/>
                </a:lnTo>
                <a:lnTo>
                  <a:pt x="221" y="192"/>
                </a:lnTo>
                <a:lnTo>
                  <a:pt x="253" y="142"/>
                </a:lnTo>
                <a:lnTo>
                  <a:pt x="285" y="6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11240" y="2641680"/>
            <a:ext cx="4876920" cy="387648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239"/>
                </a:lnTo>
                <a:lnTo>
                  <a:pt x="63" y="227"/>
                </a:lnTo>
                <a:lnTo>
                  <a:pt x="95" y="208"/>
                </a:lnTo>
                <a:lnTo>
                  <a:pt x="126" y="182"/>
                </a:lnTo>
                <a:lnTo>
                  <a:pt x="158" y="179"/>
                </a:lnTo>
                <a:lnTo>
                  <a:pt x="190" y="173"/>
                </a:lnTo>
                <a:lnTo>
                  <a:pt x="221" y="137"/>
                </a:lnTo>
                <a:lnTo>
                  <a:pt x="253" y="110"/>
                </a:lnTo>
                <a:lnTo>
                  <a:pt x="285" y="5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11240" y="5297400"/>
            <a:ext cx="4876920" cy="649440"/>
          </a:xfrm>
          <a:custGeom>
            <a:avLst/>
            <a:gdLst/>
            <a:ahLst/>
            <a:rect l="l" t="t" r="r" b="b"/>
            <a:pathLst>
              <a:path w="316" h="42">
                <a:moveTo>
                  <a:pt x="0" y="41"/>
                </a:moveTo>
                <a:lnTo>
                  <a:pt x="31" y="40"/>
                </a:lnTo>
                <a:lnTo>
                  <a:pt x="63" y="42"/>
                </a:lnTo>
                <a:lnTo>
                  <a:pt x="95" y="39"/>
                </a:lnTo>
                <a:lnTo>
                  <a:pt x="126" y="33"/>
                </a:lnTo>
                <a:lnTo>
                  <a:pt x="158" y="32"/>
                </a:lnTo>
                <a:lnTo>
                  <a:pt x="190" y="32"/>
                </a:lnTo>
                <a:lnTo>
                  <a:pt x="221" y="33"/>
                </a:lnTo>
                <a:lnTo>
                  <a:pt x="253" y="14"/>
                </a:lnTo>
                <a:lnTo>
                  <a:pt x="285" y="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11240" y="3105000"/>
            <a:ext cx="4876920" cy="3073680"/>
          </a:xfrm>
          <a:custGeom>
            <a:avLst/>
            <a:gdLst/>
            <a:ahLst/>
            <a:rect l="l" t="t" r="r" b="b"/>
            <a:pathLst>
              <a:path w="316" h="199">
                <a:moveTo>
                  <a:pt x="0" y="199"/>
                </a:moveTo>
                <a:lnTo>
                  <a:pt x="31" y="169"/>
                </a:lnTo>
                <a:lnTo>
                  <a:pt x="63" y="152"/>
                </a:lnTo>
                <a:lnTo>
                  <a:pt x="95" y="132"/>
                </a:lnTo>
                <a:lnTo>
                  <a:pt x="126" y="130"/>
                </a:lnTo>
                <a:lnTo>
                  <a:pt x="158" y="126"/>
                </a:lnTo>
                <a:lnTo>
                  <a:pt x="190" y="119"/>
                </a:lnTo>
                <a:lnTo>
                  <a:pt x="221" y="101"/>
                </a:lnTo>
                <a:lnTo>
                  <a:pt x="253" y="81"/>
                </a:lnTo>
                <a:lnTo>
                  <a:pt x="285" y="5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11240" y="4417920"/>
            <a:ext cx="4876920" cy="2178000"/>
          </a:xfrm>
          <a:custGeom>
            <a:avLst/>
            <a:gdLst/>
            <a:ahLst/>
            <a:rect l="l" t="t" r="r" b="b"/>
            <a:pathLst>
              <a:path w="316" h="141">
                <a:moveTo>
                  <a:pt x="0" y="137"/>
                </a:moveTo>
                <a:lnTo>
                  <a:pt x="31" y="134"/>
                </a:lnTo>
                <a:lnTo>
                  <a:pt x="63" y="141"/>
                </a:lnTo>
                <a:lnTo>
                  <a:pt x="95" y="127"/>
                </a:lnTo>
                <a:lnTo>
                  <a:pt x="126" y="133"/>
                </a:lnTo>
                <a:lnTo>
                  <a:pt x="158" y="130"/>
                </a:lnTo>
                <a:lnTo>
                  <a:pt x="190" y="121"/>
                </a:lnTo>
                <a:lnTo>
                  <a:pt x="221" y="92"/>
                </a:lnTo>
                <a:lnTo>
                  <a:pt x="253" y="76"/>
                </a:lnTo>
                <a:lnTo>
                  <a:pt x="285" y="3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11240" y="4448160"/>
            <a:ext cx="4876920" cy="1236600"/>
          </a:xfrm>
          <a:custGeom>
            <a:avLst/>
            <a:gdLst/>
            <a:ahLst/>
            <a:rect l="l" t="t" r="r" b="b"/>
            <a:pathLst>
              <a:path w="316" h="80">
                <a:moveTo>
                  <a:pt x="0" y="80"/>
                </a:moveTo>
                <a:lnTo>
                  <a:pt x="31" y="62"/>
                </a:lnTo>
                <a:lnTo>
                  <a:pt x="63" y="54"/>
                </a:lnTo>
                <a:lnTo>
                  <a:pt x="95" y="47"/>
                </a:lnTo>
                <a:lnTo>
                  <a:pt x="126" y="42"/>
                </a:lnTo>
                <a:lnTo>
                  <a:pt x="158" y="12"/>
                </a:lnTo>
                <a:lnTo>
                  <a:pt x="190" y="11"/>
                </a:lnTo>
                <a:lnTo>
                  <a:pt x="221" y="7"/>
                </a:lnTo>
                <a:lnTo>
                  <a:pt x="253" y="3"/>
                </a:lnTo>
                <a:lnTo>
                  <a:pt x="285" y="0"/>
                </a:lnTo>
                <a:lnTo>
                  <a:pt x="316" y="12"/>
                </a:lnTo>
              </a:path>
            </a:pathLst>
          </a:custGeom>
          <a:noFill/>
          <a:ln w="460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11240" y="2116080"/>
            <a:ext cx="4876920" cy="4448160"/>
          </a:xfrm>
          <a:custGeom>
            <a:avLst/>
            <a:gdLst/>
            <a:ahLst/>
            <a:rect l="l" t="t" r="r" b="b"/>
            <a:pathLst>
              <a:path w="316" h="288">
                <a:moveTo>
                  <a:pt x="0" y="288"/>
                </a:moveTo>
                <a:lnTo>
                  <a:pt x="31" y="288"/>
                </a:lnTo>
                <a:lnTo>
                  <a:pt x="63" y="278"/>
                </a:lnTo>
                <a:lnTo>
                  <a:pt x="95" y="251"/>
                </a:lnTo>
                <a:lnTo>
                  <a:pt x="126" y="213"/>
                </a:lnTo>
                <a:lnTo>
                  <a:pt x="158" y="104"/>
                </a:lnTo>
                <a:lnTo>
                  <a:pt x="190" y="72"/>
                </a:lnTo>
                <a:lnTo>
                  <a:pt x="221" y="53"/>
                </a:lnTo>
                <a:lnTo>
                  <a:pt x="253" y="28"/>
                </a:lnTo>
                <a:lnTo>
                  <a:pt x="285" y="10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11240" y="5792760"/>
            <a:ext cx="4876920" cy="803160"/>
          </a:xfrm>
          <a:custGeom>
            <a:avLst/>
            <a:gdLst/>
            <a:ahLst/>
            <a:rect l="l" t="t" r="r" b="b"/>
            <a:pathLst>
              <a:path w="316" h="52">
                <a:moveTo>
                  <a:pt x="0" y="52"/>
                </a:moveTo>
                <a:lnTo>
                  <a:pt x="31" y="50"/>
                </a:lnTo>
                <a:lnTo>
                  <a:pt x="63" y="48"/>
                </a:lnTo>
                <a:lnTo>
                  <a:pt x="95" y="48"/>
                </a:lnTo>
                <a:lnTo>
                  <a:pt x="126" y="46"/>
                </a:lnTo>
                <a:lnTo>
                  <a:pt x="158" y="35"/>
                </a:lnTo>
                <a:lnTo>
                  <a:pt x="190" y="33"/>
                </a:lnTo>
                <a:lnTo>
                  <a:pt x="221" y="27"/>
                </a:lnTo>
                <a:lnTo>
                  <a:pt x="253" y="20"/>
                </a:lnTo>
                <a:lnTo>
                  <a:pt x="285" y="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11240" y="3351240"/>
            <a:ext cx="4876920" cy="3244680"/>
          </a:xfrm>
          <a:custGeom>
            <a:avLst/>
            <a:gdLst/>
            <a:ahLst/>
            <a:rect l="l" t="t" r="r" b="b"/>
            <a:pathLst>
              <a:path w="316" h="210">
                <a:moveTo>
                  <a:pt x="0" y="210"/>
                </a:moveTo>
                <a:lnTo>
                  <a:pt x="31" y="210"/>
                </a:lnTo>
                <a:lnTo>
                  <a:pt x="63" y="210"/>
                </a:lnTo>
                <a:lnTo>
                  <a:pt x="95" y="194"/>
                </a:lnTo>
                <a:lnTo>
                  <a:pt x="126" y="195"/>
                </a:lnTo>
                <a:lnTo>
                  <a:pt x="158" y="181"/>
                </a:lnTo>
                <a:lnTo>
                  <a:pt x="190" y="180"/>
                </a:lnTo>
                <a:lnTo>
                  <a:pt x="221" y="173"/>
                </a:lnTo>
                <a:lnTo>
                  <a:pt x="253" y="140"/>
                </a:lnTo>
                <a:lnTo>
                  <a:pt x="285" y="3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11240" y="5267160"/>
            <a:ext cx="4876920" cy="1328760"/>
          </a:xfrm>
          <a:custGeom>
            <a:avLst/>
            <a:gdLst/>
            <a:ahLst/>
            <a:rect l="l" t="t" r="r" b="b"/>
            <a:pathLst>
              <a:path w="316" h="86">
                <a:moveTo>
                  <a:pt x="0" y="86"/>
                </a:moveTo>
                <a:lnTo>
                  <a:pt x="31" y="86"/>
                </a:lnTo>
                <a:lnTo>
                  <a:pt x="63" y="79"/>
                </a:lnTo>
                <a:lnTo>
                  <a:pt x="95" y="65"/>
                </a:lnTo>
                <a:lnTo>
                  <a:pt x="126" y="67"/>
                </a:lnTo>
                <a:lnTo>
                  <a:pt x="158" y="55"/>
                </a:lnTo>
                <a:lnTo>
                  <a:pt x="190" y="38"/>
                </a:lnTo>
                <a:lnTo>
                  <a:pt x="221" y="21"/>
                </a:lnTo>
                <a:lnTo>
                  <a:pt x="253" y="24"/>
                </a:lnTo>
                <a:lnTo>
                  <a:pt x="285" y="1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11240" y="2286000"/>
            <a:ext cx="4876920" cy="4309920"/>
          </a:xfrm>
          <a:custGeom>
            <a:avLst/>
            <a:gdLst/>
            <a:ahLst/>
            <a:rect l="l" t="t" r="r" b="b"/>
            <a:pathLst>
              <a:path w="316" h="279">
                <a:moveTo>
                  <a:pt x="0" y="279"/>
                </a:moveTo>
                <a:lnTo>
                  <a:pt x="31" y="278"/>
                </a:lnTo>
                <a:lnTo>
                  <a:pt x="63" y="260"/>
                </a:lnTo>
                <a:lnTo>
                  <a:pt x="95" y="198"/>
                </a:lnTo>
                <a:lnTo>
                  <a:pt x="126" y="129"/>
                </a:lnTo>
                <a:lnTo>
                  <a:pt x="158" y="102"/>
                </a:lnTo>
                <a:lnTo>
                  <a:pt x="190" y="0"/>
                </a:lnTo>
                <a:lnTo>
                  <a:pt x="221" y="29"/>
                </a:lnTo>
                <a:lnTo>
                  <a:pt x="253" y="4"/>
                </a:lnTo>
                <a:lnTo>
                  <a:pt x="285" y="7"/>
                </a:lnTo>
                <a:lnTo>
                  <a:pt x="316" y="28"/>
                </a:lnTo>
              </a:path>
            </a:pathLst>
          </a:custGeom>
          <a:noFill/>
          <a:ln w="46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20600" y="928800"/>
            <a:ext cx="4876920" cy="5668920"/>
          </a:xfrm>
          <a:custGeom>
            <a:avLst/>
            <a:gdLst/>
            <a:ahLst/>
            <a:rect l="l" t="t" r="r" b="b"/>
            <a:pathLst>
              <a:path w="316" h="367">
                <a:moveTo>
                  <a:pt x="0" y="367"/>
                </a:moveTo>
                <a:lnTo>
                  <a:pt x="31" y="268"/>
                </a:lnTo>
                <a:lnTo>
                  <a:pt x="63" y="267"/>
                </a:lnTo>
                <a:lnTo>
                  <a:pt x="95" y="257"/>
                </a:lnTo>
                <a:lnTo>
                  <a:pt x="126" y="243"/>
                </a:lnTo>
                <a:lnTo>
                  <a:pt x="158" y="183"/>
                </a:lnTo>
                <a:lnTo>
                  <a:pt x="190" y="150"/>
                </a:lnTo>
                <a:lnTo>
                  <a:pt x="221" y="116"/>
                </a:lnTo>
                <a:lnTo>
                  <a:pt x="253" y="85"/>
                </a:lnTo>
                <a:lnTo>
                  <a:pt x="285" y="4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11240" y="2641680"/>
            <a:ext cx="4876920" cy="3954240"/>
          </a:xfrm>
          <a:custGeom>
            <a:avLst/>
            <a:gdLst/>
            <a:ahLst/>
            <a:rect l="l" t="t" r="r" b="b"/>
            <a:pathLst>
              <a:path w="316" h="256">
                <a:moveTo>
                  <a:pt x="0" y="256"/>
                </a:moveTo>
                <a:lnTo>
                  <a:pt x="31" y="124"/>
                </a:lnTo>
                <a:lnTo>
                  <a:pt x="63" y="86"/>
                </a:lnTo>
                <a:lnTo>
                  <a:pt x="95" y="72"/>
                </a:lnTo>
                <a:lnTo>
                  <a:pt x="126" y="50"/>
                </a:lnTo>
                <a:lnTo>
                  <a:pt x="158" y="64"/>
                </a:lnTo>
                <a:lnTo>
                  <a:pt x="190" y="73"/>
                </a:lnTo>
                <a:lnTo>
                  <a:pt x="221" y="38"/>
                </a:lnTo>
                <a:lnTo>
                  <a:pt x="253" y="20"/>
                </a:lnTo>
                <a:lnTo>
                  <a:pt x="285" y="2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11240" y="366084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5"/>
                </a:lnTo>
                <a:lnTo>
                  <a:pt x="63" y="81"/>
                </a:lnTo>
                <a:lnTo>
                  <a:pt x="95" y="60"/>
                </a:lnTo>
                <a:lnTo>
                  <a:pt x="126" y="58"/>
                </a:lnTo>
                <a:lnTo>
                  <a:pt x="158" y="48"/>
                </a:lnTo>
                <a:lnTo>
                  <a:pt x="190" y="41"/>
                </a:lnTo>
                <a:lnTo>
                  <a:pt x="221" y="17"/>
                </a:lnTo>
                <a:lnTo>
                  <a:pt x="253" y="3"/>
                </a:lnTo>
                <a:lnTo>
                  <a:pt x="285" y="0"/>
                </a:lnTo>
                <a:lnTo>
                  <a:pt x="316" y="4"/>
                </a:lnTo>
              </a:path>
            </a:pathLst>
          </a:custGeom>
          <a:noFill/>
          <a:ln w="4608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11240" y="2687760"/>
            <a:ext cx="4876920" cy="2286000"/>
          </a:xfrm>
          <a:custGeom>
            <a:avLst/>
            <a:gdLst/>
            <a:ahLst/>
            <a:rect l="l" t="t" r="r" b="b"/>
            <a:pathLst>
              <a:path w="316" h="148">
                <a:moveTo>
                  <a:pt x="0" y="148"/>
                </a:moveTo>
                <a:lnTo>
                  <a:pt x="31" y="147"/>
                </a:lnTo>
                <a:lnTo>
                  <a:pt x="63" y="138"/>
                </a:lnTo>
                <a:lnTo>
                  <a:pt x="95" y="122"/>
                </a:lnTo>
                <a:lnTo>
                  <a:pt x="126" y="109"/>
                </a:lnTo>
                <a:lnTo>
                  <a:pt x="158" y="81"/>
                </a:lnTo>
                <a:lnTo>
                  <a:pt x="190" y="85"/>
                </a:lnTo>
                <a:lnTo>
                  <a:pt x="221" y="72"/>
                </a:lnTo>
                <a:lnTo>
                  <a:pt x="253" y="57"/>
                </a:lnTo>
                <a:lnTo>
                  <a:pt x="285" y="2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11240" y="4262400"/>
            <a:ext cx="4876920" cy="1808280"/>
          </a:xfrm>
          <a:custGeom>
            <a:avLst/>
            <a:gdLst/>
            <a:ahLst/>
            <a:rect l="l" t="t" r="r" b="b"/>
            <a:pathLst>
              <a:path w="316" h="117">
                <a:moveTo>
                  <a:pt x="0" y="111"/>
                </a:moveTo>
                <a:lnTo>
                  <a:pt x="31" y="117"/>
                </a:lnTo>
                <a:lnTo>
                  <a:pt x="63" y="112"/>
                </a:lnTo>
                <a:lnTo>
                  <a:pt x="95" y="88"/>
                </a:lnTo>
                <a:lnTo>
                  <a:pt x="126" y="79"/>
                </a:lnTo>
                <a:lnTo>
                  <a:pt x="158" y="66"/>
                </a:lnTo>
                <a:lnTo>
                  <a:pt x="190" y="60"/>
                </a:lnTo>
                <a:lnTo>
                  <a:pt x="221" y="44"/>
                </a:lnTo>
                <a:lnTo>
                  <a:pt x="253" y="37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11240" y="486576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9"/>
                </a:lnTo>
                <a:lnTo>
                  <a:pt x="63" y="95"/>
                </a:lnTo>
                <a:lnTo>
                  <a:pt x="95" y="70"/>
                </a:lnTo>
                <a:lnTo>
                  <a:pt x="126" y="72"/>
                </a:lnTo>
                <a:lnTo>
                  <a:pt x="158" y="68"/>
                </a:lnTo>
                <a:lnTo>
                  <a:pt x="190" y="59"/>
                </a:lnTo>
                <a:lnTo>
                  <a:pt x="221" y="31"/>
                </a:lnTo>
                <a:lnTo>
                  <a:pt x="253" y="25"/>
                </a:lnTo>
                <a:lnTo>
                  <a:pt x="285" y="1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11240" y="2795760"/>
            <a:ext cx="4876920" cy="3706560"/>
          </a:xfrm>
          <a:custGeom>
            <a:avLst/>
            <a:gdLst/>
            <a:ahLst/>
            <a:rect l="l" t="t" r="r" b="b"/>
            <a:pathLst>
              <a:path w="316" h="240">
                <a:moveTo>
                  <a:pt x="0" y="240"/>
                </a:moveTo>
                <a:lnTo>
                  <a:pt x="31" y="230"/>
                </a:lnTo>
                <a:lnTo>
                  <a:pt x="63" y="224"/>
                </a:lnTo>
                <a:lnTo>
                  <a:pt x="95" y="214"/>
                </a:lnTo>
                <a:lnTo>
                  <a:pt x="126" y="192"/>
                </a:lnTo>
                <a:lnTo>
                  <a:pt x="158" y="174"/>
                </a:lnTo>
                <a:lnTo>
                  <a:pt x="190" y="140"/>
                </a:lnTo>
                <a:lnTo>
                  <a:pt x="221" y="113"/>
                </a:lnTo>
                <a:lnTo>
                  <a:pt x="253" y="71"/>
                </a:lnTo>
                <a:lnTo>
                  <a:pt x="285" y="26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11240" y="2054160"/>
            <a:ext cx="4876920" cy="361476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234"/>
                </a:moveTo>
                <a:lnTo>
                  <a:pt x="31" y="187"/>
                </a:lnTo>
                <a:lnTo>
                  <a:pt x="63" y="172"/>
                </a:lnTo>
                <a:lnTo>
                  <a:pt x="95" y="167"/>
                </a:lnTo>
                <a:lnTo>
                  <a:pt x="126" y="172"/>
                </a:lnTo>
                <a:lnTo>
                  <a:pt x="158" y="151"/>
                </a:lnTo>
                <a:lnTo>
                  <a:pt x="190" y="146"/>
                </a:lnTo>
                <a:lnTo>
                  <a:pt x="221" y="143"/>
                </a:lnTo>
                <a:lnTo>
                  <a:pt x="253" y="102"/>
                </a:lnTo>
                <a:lnTo>
                  <a:pt x="285" y="44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8200" y="509760"/>
            <a:ext cx="239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REPORT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3520" y="865080"/>
            <a:ext cx="4560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lobal Tuberculosis C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080" y="1312920"/>
            <a:ext cx="449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ILLANCE, PLANNING, FIN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57160" y="1916280"/>
            <a:ext cx="21589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Improving case detection in 20 high-burde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289560" y="21744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94600" y="5064120"/>
            <a:ext cx="2381040" cy="1533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289560" y="182412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294600" y="3459240"/>
            <a:ext cx="2381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260280"/>
            <a:ext cx="9144000" cy="62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4100400"/>
            <a:ext cx="606240" cy="162396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44720" y="3675240"/>
            <a:ext cx="606240" cy="204912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3120" y="4054320"/>
            <a:ext cx="608040" cy="16700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1520" y="3705120"/>
            <a:ext cx="608040" cy="2019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40280" y="3129120"/>
            <a:ext cx="608040" cy="2595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38680" y="3325680"/>
            <a:ext cx="623880" cy="23986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52920" y="2901960"/>
            <a:ext cx="608040" cy="28224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1680" y="2916360"/>
            <a:ext cx="608040" cy="28080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0080" y="2886120"/>
            <a:ext cx="608040" cy="2838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48480" y="2735280"/>
            <a:ext cx="608040" cy="2989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47240" y="2492280"/>
            <a:ext cx="607680" cy="3232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00240" y="1049400"/>
            <a:ext cx="1440" cy="4674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23920" y="572436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23920" y="4556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23920" y="338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23920" y="221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23920" y="10494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00240" y="5724360"/>
            <a:ext cx="770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2002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8986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5970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2958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99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6944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407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105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8054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50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8202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890100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66800" y="473040"/>
            <a:ext cx="622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atment success: 84% in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9000" y="55879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9000" y="44197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9000" y="325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9000" y="208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9000" y="9129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776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60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744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732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716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858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842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83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814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798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80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-867240" y="3259080"/>
            <a:ext cx="2628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eatment success (%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14280" y="2205000"/>
            <a:ext cx="7701120" cy="180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64440" y="1141560"/>
            <a:ext cx="2430360" cy="9856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86280" y="1171440"/>
            <a:ext cx="1796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% target met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48040" y="1488960"/>
            <a:ext cx="210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 Asia, W Pacif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81760" y="1808280"/>
            <a:ext cx="1422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7 countr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84920" y="1771560"/>
            <a:ext cx="1875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WHO target 8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0800000">
            <a:off x="125892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44,6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0800000">
            <a:off x="827064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103,87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109440"/>
            <a:ext cx="9144000" cy="6639120"/>
            <a:chOff x="0" y="109440"/>
            <a:chExt cx="9144000" cy="6639120"/>
          </a:xfrm>
        </p:grpSpPr>
        <p:sp>
          <p:nvSpPr>
            <p:cNvPr id="216" name=""/>
            <p:cNvSpPr/>
            <p:nvPr/>
          </p:nvSpPr>
          <p:spPr>
            <a:xfrm>
              <a:off x="0" y="109440"/>
              <a:ext cx="9144000" cy="663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20800" y="963720"/>
              <a:ext cx="1800" cy="450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35120" y="54673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35120" y="490536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35120" y="4344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35120" y="378288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35120" y="322092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35120" y="264780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35120" y="2085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35120" y="152568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35120" y="9637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20800" y="5467320"/>
              <a:ext cx="6873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7208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1003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46868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8482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2151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859464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20800" y="1525680"/>
              <a:ext cx="6873840" cy="144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00320" y="2098800"/>
              <a:ext cx="2747880" cy="2733480"/>
            </a:xfrm>
            <a:custGeom>
              <a:avLst/>
              <a:gdLst/>
              <a:ahLst/>
              <a:rect l="l" t="t" r="r" b="b"/>
              <a:pathLst>
                <a:path w="225" h="224">
                  <a:moveTo>
                    <a:pt x="0" y="224"/>
                  </a:moveTo>
                  <a:lnTo>
                    <a:pt x="22" y="203"/>
                  </a:lnTo>
                  <a:lnTo>
                    <a:pt x="45" y="191"/>
                  </a:lnTo>
                  <a:lnTo>
                    <a:pt x="67" y="175"/>
                  </a:lnTo>
                  <a:lnTo>
                    <a:pt x="90" y="163"/>
                  </a:lnTo>
                  <a:lnTo>
                    <a:pt x="112" y="145"/>
                  </a:lnTo>
                  <a:lnTo>
                    <a:pt x="135" y="125"/>
                  </a:lnTo>
                  <a:lnTo>
                    <a:pt x="157" y="101"/>
                  </a:lnTo>
                  <a:lnTo>
                    <a:pt x="180" y="66"/>
                  </a:lnTo>
                  <a:lnTo>
                    <a:pt x="202" y="26"/>
                  </a:lnTo>
                  <a:lnTo>
                    <a:pt x="225" y="0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00320" y="1989000"/>
              <a:ext cx="2747880" cy="1452600"/>
            </a:xfrm>
            <a:custGeom>
              <a:avLst/>
              <a:gdLst/>
              <a:ahLst/>
              <a:rect l="l" t="t" r="r" b="b"/>
              <a:pathLst>
                <a:path w="225" h="119">
                  <a:moveTo>
                    <a:pt x="0" y="119"/>
                  </a:moveTo>
                  <a:lnTo>
                    <a:pt x="22" y="102"/>
                  </a:lnTo>
                  <a:lnTo>
                    <a:pt x="45" y="100"/>
                  </a:lnTo>
                  <a:lnTo>
                    <a:pt x="67" y="99"/>
                  </a:lnTo>
                  <a:lnTo>
                    <a:pt x="90" y="90"/>
                  </a:lnTo>
                  <a:lnTo>
                    <a:pt x="112" y="91"/>
                  </a:lnTo>
                  <a:lnTo>
                    <a:pt x="135" y="84"/>
                  </a:lnTo>
                  <a:lnTo>
                    <a:pt x="157" y="74"/>
                  </a:lnTo>
                  <a:lnTo>
                    <a:pt x="180" y="51"/>
                  </a:lnTo>
                  <a:lnTo>
                    <a:pt x="202" y="20"/>
                  </a:lnTo>
                  <a:lnTo>
                    <a:pt x="225" y="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24000" y="1073160"/>
              <a:ext cx="6470640" cy="4394160"/>
            </a:xfrm>
            <a:custGeom>
              <a:avLst/>
              <a:gdLst/>
              <a:ahLst/>
              <a:rect l="l" t="t" r="r" b="b"/>
              <a:pathLst>
                <a:path w="530" h="360">
                  <a:moveTo>
                    <a:pt x="0" y="360"/>
                  </a:moveTo>
                  <a:lnTo>
                    <a:pt x="475" y="37"/>
                  </a:lnTo>
                  <a:lnTo>
                    <a:pt x="530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03480" y="473544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71680" y="447840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52840" y="4332240"/>
              <a:ext cx="19512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21040" y="413712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02200" y="3990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70400" y="37702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51200" y="35272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19760" y="32338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00560" y="280656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68760" y="23176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49920" y="2001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03480" y="334332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71680" y="313704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52840" y="311148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21040" y="309888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02200" y="29894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70400" y="30020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51200" y="29163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19760" y="2793960"/>
              <a:ext cx="195120" cy="19548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0560" y="2513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68760" y="2135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49920" y="189072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46480" y="281160"/>
              <a:ext cx="520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Case detection: 60% by 200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36040" y="5332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2040" y="4772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2040" y="42102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2040" y="3648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2040" y="30877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2040" y="2513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92040" y="19526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92040" y="1390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92040" y="830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0516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84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516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3112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97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772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60800" y="6175440"/>
              <a:ext cx="552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-1225800" y="2949480"/>
              <a:ext cx="4097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tection rate new sm+ cases (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14840" y="1622520"/>
              <a:ext cx="198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O target 7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26800" y="3843360"/>
              <a:ext cx="134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DOTS new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82160" y="4173480"/>
              <a:ext cx="517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16720" y="3294000"/>
              <a:ext cx="2842920" cy="2075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74720" y="3332160"/>
              <a:ext cx="189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0% target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1640" y="366084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6600" y="399096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7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15080" y="431964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%/85% targets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51640" y="464976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66600" y="497844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6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10800" y="2355840"/>
              <a:ext cx="143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all new 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298440"/>
            <a:ext cx="9144000" cy="626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85840" y="2036880"/>
            <a:ext cx="46188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70080" y="2098800"/>
            <a:ext cx="461880" cy="21384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9920" y="2036880"/>
            <a:ext cx="46224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25960" y="3774960"/>
            <a:ext cx="461880" cy="4622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10200" y="2759040"/>
            <a:ext cx="461880" cy="147816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8004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66080" y="2558880"/>
            <a:ext cx="461880" cy="1678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3592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47720" y="2052720"/>
            <a:ext cx="460440" cy="21844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31960" y="2098800"/>
            <a:ext cx="446040" cy="213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02160" y="1960560"/>
            <a:ext cx="461880" cy="227664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87840" y="3390840"/>
            <a:ext cx="461880" cy="8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72080" y="1590840"/>
            <a:ext cx="447840" cy="26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41920" y="2220840"/>
            <a:ext cx="462240" cy="201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27960" y="2144880"/>
            <a:ext cx="446040" cy="20923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497800" y="2728800"/>
            <a:ext cx="461880" cy="150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54160" y="960480"/>
            <a:ext cx="1440" cy="327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77840" y="42372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77840" y="3575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77840" y="29289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77840" y="226692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77840" y="162072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77840" y="96048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54160" y="4237200"/>
            <a:ext cx="7835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15416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13984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1100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09428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07996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04980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0358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80042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98992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9120" y="4098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8440" y="3436920"/>
            <a:ext cx="4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6320" y="279072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6120" y="2128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8240" y="14828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8920" y="820800"/>
            <a:ext cx="40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8900000">
            <a:off x="-27720" y="5063760"/>
            <a:ext cx="174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8900000">
            <a:off x="553680" y="5228640"/>
            <a:ext cx="2190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successfu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8900000">
            <a:off x="1631880" y="5195880"/>
            <a:ext cx="20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-/EP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8900000">
            <a:off x="2837880" y="5097600"/>
            <a:ext cx="1823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DR-TB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8900000">
            <a:off x="3588840" y="5200560"/>
            <a:ext cx="20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screened T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8900000">
            <a:off x="4754520" y="5114520"/>
            <a:ext cx="1869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offered IP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8900000">
            <a:off x="5999400" y="5005080"/>
            <a:ext cx="1568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 tes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8900000">
            <a:off x="7026480" y="4984560"/>
            <a:ext cx="1492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+ A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-811080" y="2441520"/>
            <a:ext cx="2189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llions of pati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41920" y="1036800"/>
            <a:ext cx="2372040" cy="76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634080" y="1174680"/>
            <a:ext cx="154080" cy="15408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2600" y="1098720"/>
            <a:ext cx="1663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ported 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34080" y="1544760"/>
            <a:ext cx="154080" cy="1537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0800" y="1467000"/>
            <a:ext cx="193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lobal Plan 200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76280" y="406440"/>
            <a:ext cx="7212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OTS is on course, TB/HIV and MDR control are no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50920" y="679320"/>
            <a:ext cx="8424720" cy="10940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880240" y="1916280"/>
            <a:ext cx="2795400" cy="129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5867280" y="3357720"/>
            <a:ext cx="2814840" cy="3024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1908000" y="1987560"/>
            <a:ext cx="1506600" cy="223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195280" cy="223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3" name="" descr=""/>
          <p:cNvPicPr/>
          <p:nvPr/>
        </p:nvPicPr>
        <p:blipFill>
          <a:blip r:embed="rId6"/>
          <a:stretch/>
        </p:blipFill>
        <p:spPr>
          <a:xfrm>
            <a:off x="3059280" y="4489560"/>
            <a:ext cx="2734920" cy="1819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324000" y="4508640"/>
            <a:ext cx="2592360" cy="1747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5" name="" descr=""/>
          <p:cNvPicPr/>
          <p:nvPr/>
        </p:nvPicPr>
        <p:blipFill>
          <a:blip r:embed="rId8"/>
          <a:stretch/>
        </p:blipFill>
        <p:spPr>
          <a:xfrm>
            <a:off x="250920" y="1987560"/>
            <a:ext cx="1538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396720" y="353880"/>
            <a:ext cx="1008216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09:06:04Z</dcterms:created>
  <dc:creator>dye</dc:creator>
  <dc:description/>
  <dc:language>en-US</dc:language>
  <cp:lastModifiedBy>dye</cp:lastModifiedBy>
  <dcterms:modified xsi:type="dcterms:W3CDTF">2007-04-18T06:36:08Z</dcterms:modified>
  <cp:revision>98</cp:revision>
  <dc:subject/>
  <dc:title>Slide 1</dc:title>
</cp:coreProperties>
</file>