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0542-ED73-442C-9F7A-E028434D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F977-AD66-4B54-8636-F356D49E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E64E-9154-43D8-B4B4-ABAD1B5F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BB19-ACD0-4ABC-B60F-B8E3FC9C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09D8-8ED0-41E5-9386-77BAC203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9B2D-439F-4DF8-8AFC-3D410B75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1CC6-731F-4A62-96EB-DDF0C63F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709A-BE65-4D18-9421-7D2B67BC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4929-A047-4911-A609-AD5CEA9A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2F5A-144C-4529-B7CC-D99F933B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5591-C2A8-4B32-AE9E-B0C0FFEE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CE77-2ABC-4349-ADEE-5349FC22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670F-7050-4DCB-A9F9-93394443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89EB-5B1A-4347-B3F8-B85DBD5B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E407-9366-4C7C-84DD-2676D025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1C2B-9670-4239-A7B5-13ACF331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8ABE-8423-45B2-8626-0CB0EB0D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DBEB-ABB4-40C0-853E-5C1DD6BE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B1E5-FCD3-4BC7-AACF-6BC482BB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7A5B-A688-4E31-A4B2-D4AE3FC6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83A9-BE38-4C68-95A3-0503706D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02F9-6C41-406B-A55D-2D484B72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32D1-1D37-4F0B-B173-F6EDA33B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0193-B698-40A5-A731-ABC9B8D6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E306-6D13-483F-B988-1CAC3858EEA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972C-B5D4-41A6-AEAC-6232EEDA8BA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 perspective of the community evolution in TB control (2005-2007), by a living legend. 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ion of the UCCATM for the Civil Society to engage in Political advocacy in Kenya.( this was after TB grant Round 2, Phase 2 was suspended in Kenya 200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ting of the suspension on R2 P2,its sign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ing of Round 5 and money disburs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ocacy for TB representation on the C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civil society engagement in TB activ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drawal of the Industrial property bill from parliament-Bill to ensure use of brand drugs only for HIV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media coverage on TB and TB/HI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sing of the political profile of TB in Keny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lanned activ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sive effort campaign on TB in Kenya-(gazzetement of TB and HIV as emergenc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os engagement of civil societies to think and do TB work at grass root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HA conference April 2007 “Impact of TB among PLH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tly I stay committed to TB advocacy and be assured that you cant count on me for your support in all TB work= TB free wor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knowledg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ard members for all their unwavering support  for patient empower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munity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l the community representatives at the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 Jeremiah Chaka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Educational f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I referral Hospi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vil Society in Ken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ntry Point in TB &amp;TB/HIV advocac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B/HIV co-inf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viving the dual epidem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pite an immune reconstit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all started after open confession of living with HIV  being the first HCW to openly acknowledge having th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tion in TB/HIV advocacy organized by WH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national advocac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ation by Results educational fund to participate in media work prior to G 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nvolved media interviews on Good morning Scotland and BBC English and Kiswahili program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on one meetings with Parliamentarians in UK to sensitise them of the TB situation i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very of TB letter to Tony Blair’s office prior to G8 to advocate for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ever board member to represent communities affected on the Stop TB C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esentative on the TB/HIV working group and core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to the Open Society Institute Community advisory Committee on TB/HIV monitoring and advocacy project –Project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gass Global Task force 2006 to represent TB/HIV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achievements 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unity engagement within the Stop TB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representative on the C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moting TB/HIV advisor in UNAI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dition of component 5 within the Stop TB strateg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cipation in HLM’s and Global plan 2 launch in Africa and Toronto AIDS conferen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G research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AG-OSI collaboration for TB, TB-HIV advocacy training and treatment literac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stablishment of a Community Task For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Leading the TB-HIV WG to endorse universal targets for TB-HIV collaborative ac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Global achievements I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Patients Char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obal media articles-Maputo, Toronto on TB and TB/HIV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Civil Society Challenge fu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greater collaboration among WHO HIV and TB Departments and UNAI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expanded diagnosis of smear negative of extra-pulmonary TB in high HIV prevalence ar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new TB drugs, better TB diagnostics and a new TB vacc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donors support for TB contro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rican emergency declaration on TB-South Africa, Nigeria, Tanzania and Malawi – Kenya ????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African Civil society on TB/HIV prior to the Abuja summit that resulted in the specific TB/HIV indicators in the common position paper (post Abuj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tion in the ACSO taskforce to represent TB/HIV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ilitation in the 2nd Training of TB/HIV advocates in Africa. And TAG’s workshop that brought together 70 participants from African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World Bank Pres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Finance during the recent UNECA meeting in Add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Health during the recent Jo Burg meeting April 2007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B Emergency- CSO advoc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raining of journalists on TB/HIV March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% campaign on Health by AC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enyan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/HIV steering committ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 I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MOI Referral Hospital TB/HIV committee that resulted in one stop clinic for TB/HI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United Civil society Coalition on AIDS,TB and Malaria representing T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literacy on TB and TB/HIV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ask force on TB/HIV for training journa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5:39:40Z</dcterms:created>
  <dc:creator>  </dc:creator>
  <dc:description/>
  <dc:language>en-US</dc:language>
  <cp:lastModifiedBy>Ezio T. Santos Filho</cp:lastModifiedBy>
  <dcterms:modified xsi:type="dcterms:W3CDTF">2007-04-18T17:05:47Z</dcterms:modified>
  <cp:revision>15</cp:revision>
  <dc:subject/>
  <dc:title>2004-2006 Patient Empowerment</dc:title>
</cp:coreProperties>
</file>