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comments/comment5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0691813" cy="7559675"/>
  <p:notesSz cx="6796088" cy="9928225"/>
</p:presentation>
</file>

<file path=ppt/commentAuthors.xml><?xml version="1.0" encoding="utf-8"?>
<p:cmAuthorLst xmlns:p="http://schemas.openxmlformats.org/presentationml/2006/main">
  <p:cmAuthor id="0" name="SPU" initials="S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<Relationship Id="rId12" Type="http://schemas.openxmlformats.org/officeDocument/2006/relationships/commentAuthors" Target="commentAuthors.xml"/>
</Relationships>
</file>

<file path=ppt/comments/comment5.xml><?xml version="1.0" encoding="utf-8"?>
<p:cmLst xmlns:p="http://schemas.openxmlformats.org/presentationml/2006/main">
  <p:cm authorId="0" dt="2007-04-17T19:54:31.609000000" idx="1">
    <p:pos x="10" y="10"/>
    <p:text>Do we want to enlist Recommendations for companies on how to get engaged or for the Stop TB partnership ona strategy to engage the private sector? These seem to be a mix of both.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1880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7453440" y="19270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178416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461880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7453440" y="4533480"/>
            <a:ext cx="269928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800360" y="574560"/>
            <a:ext cx="6316560" cy="422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80040" y="45334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080040" y="1927080"/>
            <a:ext cx="409104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784160" y="4533480"/>
            <a:ext cx="8383320" cy="237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wmf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2017800" y="7035840"/>
            <a:ext cx="320760" cy="34920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691160" y="3127320"/>
            <a:ext cx="1069344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989000" y="7105680"/>
            <a:ext cx="478080" cy="2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092342A7-5A46-4D39-A9A1-9DC98FAD53AC}" type="slidenum">
              <a:rPr b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2400480" y="4379760"/>
            <a:ext cx="1706400" cy="9334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3363840" y="-3240"/>
            <a:ext cx="5262480" cy="301140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00360" y="574560"/>
            <a:ext cx="631656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784160" y="1927080"/>
            <a:ext cx="83833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32544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563840" indent="-26064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2039760" indent="-258480">
              <a:spcBef>
                <a:spcPts val="575"/>
              </a:spcBef>
              <a:buClr>
                <a:srgbClr val="000000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5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6" marL="2521080" indent="-262080">
              <a:spcBef>
                <a:spcPts val="575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1800360" y="1225440"/>
            <a:ext cx="8275680" cy="0"/>
          </a:xfrm>
          <a:prstGeom prst="line">
            <a:avLst/>
          </a:prstGeom>
          <a:ln w="64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10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" name="" descr=""/>
            <p:cNvPicPr/>
            <p:nvPr/>
          </p:nvPicPr>
          <p:blipFill>
            <a:blip r:embed="rId5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7035840"/>
            <a:ext cx="1557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rot="16200000">
            <a:off x="-1804680" y="4199040"/>
            <a:ext cx="525312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ctr">
            <a:spAutoFit/>
          </a:bodyPr>
          <a:p>
            <a:pPr algn="ctr">
              <a:lnSpc>
                <a:spcPct val="110000"/>
              </a:lnSpc>
              <a:spcBef>
                <a:spcPts val="1687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World Economic Foru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474920" cy="7561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722600" y="1881360"/>
            <a:ext cx="8970840" cy="0"/>
          </a:xfrm>
          <a:prstGeom prst="line">
            <a:avLst/>
          </a:prstGeom>
          <a:ln w="324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161200" y="6869160"/>
            <a:ext cx="2533680" cy="582840"/>
            <a:chOff x="8161200" y="6869160"/>
            <a:chExt cx="2533680" cy="582840"/>
          </a:xfrm>
        </p:grpSpPr>
        <p:sp>
          <p:nvSpPr>
            <p:cNvPr id="53" name=""/>
            <p:cNvSpPr/>
            <p:nvPr/>
          </p:nvSpPr>
          <p:spPr>
            <a:xfrm>
              <a:off x="8161200" y="7205760"/>
              <a:ext cx="2533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000" spc="-1" strike="noStrike">
                  <a:solidFill>
                    <a:srgbClr val="000000"/>
                  </a:solidFill>
                  <a:latin typeface="Helvetica 45"/>
                </a:rPr>
                <a:t>PRIVATE SECTOR CONSTITUENCY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" descr=""/>
            <p:cNvPicPr/>
            <p:nvPr/>
          </p:nvPicPr>
          <p:blipFill>
            <a:blip r:embed="rId3"/>
            <a:stretch/>
          </p:blipFill>
          <p:spPr>
            <a:xfrm>
              <a:off x="8191440" y="6869160"/>
              <a:ext cx="2265120" cy="4111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4600" y="301320"/>
            <a:ext cx="962244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35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534600" y="1769040"/>
            <a:ext cx="9622440" cy="43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524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520560" indent="0" algn="ctr">
              <a:spcBef>
                <a:spcPts val="575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42920" indent="26028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563840" indent="21744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85840" indent="17316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2085840" indent="17316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724040" y="873000"/>
            <a:ext cx="872172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Building A Stronger Corporate Sector Response </a:t>
            </a:r>
            <a:r>
              <a:rPr b="1" lang="en-GB" sz="3100" spc="-1" strike="noStrike">
                <a:solidFill>
                  <a:srgbClr val="000099"/>
                </a:solidFill>
                <a:latin typeface="Arial"/>
              </a:rPr>
              <a:t> </a:t>
            </a:r>
            <a:br>
              <a:rPr sz="2100"/>
            </a:br>
            <a:br>
              <a:rPr sz="1400"/>
            </a:b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Geneva, 19 April 2007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66"/>
                </a:solidFill>
                <a:latin typeface="Arial"/>
              </a:rPr>
              <a:t>Jean-François de Lavison, </a:t>
            </a: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Mérieux Alli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Stefaan van der Borght, Heinek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66"/>
                </a:solidFill>
                <a:latin typeface="Arial"/>
              </a:rPr>
              <a:t>François Bonnici, World Economic For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800000" y="49500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What is the corporate sector’s role in the Partnership?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784160" y="1428840"/>
            <a:ext cx="838332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rporate Sector Board seat since Oct 200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oard seat on European Partnership since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onstituency of  &gt; 50 companies engag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lections of board representatives every 2 year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Objectiv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Bring business perspectives, input, expertise, resources to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Advocate for collaborative approach to all elements of TB contro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00000" y="52668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Key actors in corporate sector engagement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987560" y="3351240"/>
            <a:ext cx="2153880" cy="916920"/>
            <a:chOff x="1987560" y="3351240"/>
            <a:chExt cx="2153880" cy="916920"/>
          </a:xfrm>
        </p:grpSpPr>
        <p:sp>
          <p:nvSpPr>
            <p:cNvPr id="98" name=""/>
            <p:cNvSpPr/>
            <p:nvPr/>
          </p:nvSpPr>
          <p:spPr>
            <a:xfrm>
              <a:off x="1987560" y="3352680"/>
              <a:ext cx="2133360" cy="9140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991880" y="3351240"/>
              <a:ext cx="2149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Civil societ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Organization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Local governm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5071320" y="5713560"/>
            <a:ext cx="1553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 Burd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21400" y="5591160"/>
            <a:ext cx="2207880" cy="9619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807080" y="3048120"/>
            <a:ext cx="2209680" cy="1752480"/>
          </a:xfrm>
          <a:prstGeom prst="hexagon">
            <a:avLst>
              <a:gd name="adj" fmla="val 31522"/>
              <a:gd name="vf" fmla="val 11547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997520" y="3219480"/>
            <a:ext cx="1857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Economi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and So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778880" y="3276720"/>
            <a:ext cx="2500200" cy="1565280"/>
          </a:xfrm>
          <a:prstGeom prst="diamond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94240" y="3656160"/>
            <a:ext cx="202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Developme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and aid ag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730760" y="1447920"/>
            <a:ext cx="2286000" cy="838080"/>
          </a:xfrm>
          <a:prstGeom prst="ellipse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885920" y="1644480"/>
            <a:ext cx="210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Private enterpri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2597040" y="2057040"/>
            <a:ext cx="2057400" cy="11430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16760" y="2057400"/>
            <a:ext cx="1600200" cy="12952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130560" y="441972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7016400" y="4724280"/>
            <a:ext cx="1600200" cy="12193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00000" y="68544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There have been some valuable corporate sector actions </a:t>
            </a:r>
            <a:br>
              <a:rPr sz="2500"/>
            </a:b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28360" y="1300320"/>
            <a:ext cx="8744040" cy="626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ed Private Sector Constituency – building momentu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eld elections of representatives for the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articipation in Working Groups &amp; Task Forces – ACSM, DOTS Expansion PPM, Retooling T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Launch of Global Plan in Davos January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on of Business Advisory Committee for GDF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Establishing Business Engagement Task Force ASCM W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1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MOU signed with World Economic Forum 200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2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300" spc="-1" strike="noStrike">
                <a:solidFill>
                  <a:srgbClr val="000000"/>
                </a:solidFill>
                <a:latin typeface="Arial"/>
              </a:rPr>
              <a:t>Coming next</a:t>
            </a: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 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Stop TB Private Sector Constituency Meeting  Friday 20 April (Geneva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lans : USA, China, German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52804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Roles the corporate sector can play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650960" y="1428840"/>
            <a:ext cx="904248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vest and collaborate in appropriate research and development  and supply of TB care commodities and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3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velop and implement workplace and community TB control programmes (including awareness, diagnosis, treatment, car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tribute ‘core competencies’ in strategy development, (eg. consulting), in implementation (eg. manufacturing, distribution, supply) and in advocacy (eg. communications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rovide platforms for education on TB control methods (eg. lab training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sure appropriate sales where no process in pla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dvocate for sound TB polic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20000"/>
              </a:lnSpc>
              <a:spcBef>
                <a:spcPts val="550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800000" y="542520"/>
            <a:ext cx="8893080" cy="9111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Suggested Strategies for Corporate Sector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62040" y="1409760"/>
            <a:ext cx="9128160" cy="58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uild a community of companies with a commitment to TB contro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courage active engagement in Working Group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e information within Partnership to stimulate collaboration (including STP activities and data such as forecasting information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ocument and share best corporate sector practices in TB control (eg. Eli Lilly Technology Transfer, India Business Alliance to StopTB)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dentify companies whose expertise can specifically contribute to overall TB efforts: media, PR, consulting etc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ork with professional societies and business associations on TB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timulate collaboration between MNC and developing country companies </a:t>
            </a:r>
            <a:r>
              <a:rPr b="0" i="1" lang="en-GB" sz="2200" spc="-1" strike="noStrike">
                <a:solidFill>
                  <a:srgbClr val="000000"/>
                </a:solidFill>
                <a:latin typeface="Arial"/>
              </a:rPr>
              <a:t>(eg. t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chnology and knowledge transfer to emerging compani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18320" indent="-418320">
              <a:spcBef>
                <a:spcPts val="964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 companies that provide health care services as early adopters or distributors of new t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800000" y="574560"/>
            <a:ext cx="8577000" cy="91152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2500" spc="-1" strike="noStrike">
                <a:solidFill>
                  <a:srgbClr val="000099"/>
                </a:solidFill>
                <a:latin typeface="Arial"/>
              </a:rPr>
              <a:t>A strategic approach is key to active engagement </a:t>
            </a:r>
            <a:endParaRPr b="1" lang="en-US" sz="25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784160" y="1927080"/>
            <a:ext cx="8908920" cy="498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26960" indent="0">
              <a:lnSpc>
                <a:spcPct val="150000"/>
              </a:lnSpc>
              <a:spcBef>
                <a:spcPts val="575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The Board’s advice and endorsement is sought on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2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Developing a private sector strategy for deeper engagement in the Partnership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Providing a platform for private sector dialogue with Partnership constituen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Hosting high level meeting with CEOs with Boar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-426960">
              <a:lnSpc>
                <a:spcPct val="160000"/>
              </a:lnSpc>
              <a:spcBef>
                <a:spcPts val="1151"/>
              </a:spcBef>
              <a:buClr>
                <a:srgbClr val="000000"/>
              </a:buClr>
              <a:buFont typeface="Arial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"/>
              </a:rPr>
              <a:t>Creating links with Business Schools for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26960" indent="0">
              <a:lnSpc>
                <a:spcPct val="130000"/>
              </a:lnSpc>
              <a:spcBef>
                <a:spcPts val="575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6:18:08Z</dcterms:created>
  <dc:creator>Marie-France Roger</dc:creator>
  <dc:description/>
  <cp:keywords/>
  <dc:language>en-US</dc:language>
  <cp:lastModifiedBy>François Bonnici</cp:lastModifiedBy>
  <dcterms:modified xsi:type="dcterms:W3CDTF">2007-04-19T07:09:51Z</dcterms:modified>
  <cp:revision>70</cp:revision>
  <dc:subject/>
  <dc:title>Slide 1</dc:title>
</cp:coreProperties>
</file>