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D6D7-8371-4C91-A64B-2981BB12F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5AAB4-0373-4090-8960-C350FA903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35115-BB1A-41A7-9573-F5AAF2584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4304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61720" y="160020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12400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4304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61720" y="3964320"/>
            <a:ext cx="2112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B8077-E1A3-423C-B350-4F28081B68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48A4-AE71-4CAA-B86A-C782A3A07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B624-5617-40DD-9140-FD0FBB49A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3AD0-8A8F-45BB-AF56-9DAEC3698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0EC18-FCDB-4533-90AC-FC853D712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124000" y="274320"/>
            <a:ext cx="656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CF5A-3E68-4438-8A74-67389EAC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6F37-DCED-4F66-BBD5-C13645A17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7120" y="396432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4F3A-48F2-4838-84D7-7F5EFB146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7120" y="1600200"/>
            <a:ext cx="32025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124000" y="3964320"/>
            <a:ext cx="656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47369-6BC9-4F26-8B5A-FD74681E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124000" y="1600200"/>
            <a:ext cx="65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68160" indent="-2239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C87ED-6E09-4328-9772-921C0108D5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2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4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47600" y="1341000"/>
            <a:ext cx="7772400" cy="225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GDF Grant Evolution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Outcomes of Consul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7334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Stop TB Partnership</a:t>
            </a:r>
            <a:br>
              <a:rPr sz="3200"/>
            </a:b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Coordinating Board Meet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19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69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We must remember the fundamental purpose of GDF: to help patients access drug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grant service has made a difference in people's lives, and must continu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albeit at a reduced level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</a:rPr>
              <a:t>GDF must continue to use grants to leverage improved national procurement and drug management syst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-48528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The GDF Grant Service must evolve with the efforts of others to create a seamless net of support to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85280" indent="0" algn="r">
              <a:lnSpc>
                <a:spcPct val="90000"/>
              </a:lnSpc>
              <a:spcBef>
                <a:spcPts val="649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56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llective Remarks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5628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seek new donors, and more long-term commitments from existing donors, if it is to meet its projected target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GDF must communicate closely with other donors and their secretariats to ensure they take consistent approaches with countries.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>
              <a:lnSpc>
                <a:spcPct val="80000"/>
              </a:lnSpc>
              <a:spcBef>
                <a:spcPts val="649"/>
              </a:spcBef>
              <a:spcAft>
                <a:spcPts val="814"/>
              </a:spcAft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"/>
                <a:ea typeface="宋体"/>
              </a:rPr>
              <a:t>The Stop TB Partnership must promote GDF, its function and its services better, demonstrating that GDF supports countries to move from Grants to Direct Procurement to procuring independently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50920" y="1600200"/>
            <a:ext cx="702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and Stop TB Partnership Secretariat identify, without delay, a strategy through which the resources required by GDF to serve its grant beneficiaries in 2007 can be secur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for prioritizing countries or focusing GDF Grant Service on high priority countr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and the Board give priority to expanding/diversifying its donor base to enable GDF to meet its targets for 2008-2010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" name=""/>
          <p:cNvGraphicFramePr/>
          <p:nvPr/>
        </p:nvGraphicFramePr>
        <p:xfrm>
          <a:off x="4068720" y="189000"/>
          <a:ext cx="5040360" cy="277632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8720" y="189000"/>
                    <a:ext cx="5040360" cy="2776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4068720" y="3068640"/>
          <a:ext cx="5040360" cy="339084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068640"/>
                    <a:ext cx="5040360" cy="33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106200" y="2997360"/>
            <a:ext cx="4034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1: GDF Grant Service funding needed and resources – including all firm commitments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nticipated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un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6200" y="4941720"/>
            <a:ext cx="3889440" cy="17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50.2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108000" y="2997360"/>
            <a:ext cx="4033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cenario 2: GDF Grant Service funding needed and resources – including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only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firm commit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08000" y="4583160"/>
            <a:ext cx="3889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Gaps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7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2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8: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3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09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1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010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18.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otal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65.0 million US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067280" y="189000"/>
          <a:ext cx="5076720" cy="280836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67280" y="189000"/>
                    <a:ext cx="5076720" cy="280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"/>
          <p:cNvGraphicFramePr/>
          <p:nvPr/>
        </p:nvGraphicFramePr>
        <p:xfrm>
          <a:off x="4067280" y="3068640"/>
          <a:ext cx="5087880" cy="345600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7280" y="3068640"/>
                    <a:ext cx="5087880" cy="34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GDF Secretariat propose to the Board a strategy whereby technical assistance is subsidized as a component of grant funding from donors and delivered to countries as part of the GDF Grant Servi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Advocacy, Communication and Social Mobilization Working Group and the Stop TB Partnership Secretariat plan and vigorously pursue a campaign to raise the profile of GDF services among countries, donors, partners and technical agenci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Collective recommendations to the Coordinating Board -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engage the Global Fund in discussions on aligning policies related to additionality, sustainability, accelerated fund transfers and quality assuranc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spcAft>
                <a:spcPts val="751"/>
              </a:spcAft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The Board send a high-level delegation to request that the Global Fund and its beneficiaries use GDF more proactively to meet their needs for increased and improved 1st line anti-TB drug acc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rcRect l="0" t="0" r="8605" b="66607"/>
          <a:stretch/>
        </p:blipFill>
        <p:spPr>
          <a:xfrm>
            <a:off x="0" y="0"/>
            <a:ext cx="5668920" cy="33512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124000" y="274320"/>
            <a:ext cx="68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124000" y="1600200"/>
            <a:ext cx="684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100000"/>
              </a:lnSpc>
              <a:spcBef>
                <a:spcPts val="1349"/>
              </a:spcBef>
              <a:spcAft>
                <a:spcPts val="16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Lucida Handwriting"/>
                <a:ea typeface="宋体"/>
              </a:rPr>
              <a:t>Thank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1T09:34:26Z</dcterms:created>
  <dc:creator>ryant</dc:creator>
  <dc:description/>
  <dc:language>en-US</dc:language>
  <cp:lastModifiedBy>ryant</cp:lastModifiedBy>
  <dcterms:modified xsi:type="dcterms:W3CDTF">2007-04-19T09:26:25Z</dcterms:modified>
  <cp:revision>31</cp:revision>
  <dc:subject/>
  <dc:title>Managing Adult and Paediatric Gran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602807430</vt:r8>
  </property>
  <property fmtid="{D5CDD505-2E9C-101B-9397-08002B2CF9AE}" pid="3" name="_AuthorEmail">
    <vt:lpwstr>ryant@who.int</vt:lpwstr>
  </property>
  <property fmtid="{D5CDD505-2E9C-101B-9397-08002B2CF9AE}" pid="4" name="_AuthorEmailDisplayName">
    <vt:lpwstr>Ryan, Timothy</vt:lpwstr>
  </property>
  <property fmtid="{D5CDD505-2E9C-101B-9397-08002B2CF9AE}" pid="5" name="_EmailSubject">
    <vt:lpwstr>BAC_presentation_to_CB_2007.ppt</vt:lpwstr>
  </property>
  <property fmtid="{D5CDD505-2E9C-101B-9397-08002B2CF9AE}" pid="6" name="_NewReviewCycle">
    <vt:lpwstr/>
  </property>
</Properties>
</file>