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80359-6C61-4C20-8DEE-2345C5B7D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1714-47E1-4D8C-BC9E-D6F12F8BD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9482-C85E-4385-AEF8-CE5DBD0776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34C-D628-4B0F-A76C-8AE737B53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E467D-6C14-45B7-B90C-366526040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ADA4-2C03-4F22-8D95-6401893A2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A7B74-B01F-4F3E-BF6A-886FDA448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EE32-6A94-4A38-9190-8A9DF72BA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85B-CB1D-41E4-8CB1-BE4631AB3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24F51-77FC-4402-9AF9-2BBB9833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64C9-CCE7-4A33-9063-E69DD23DD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4C74-89BA-46B2-8A53-27854CCCE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71806-4B79-465A-AFCC-8FB730B85D9F}" type="slidenum">
              <a:rPr b="0" lang="en-GB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stoptb.org/researchmovement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920" y="11592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The global Stop TB Research Movement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 Narrow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ackgrou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tionale for a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hat is the global Research Movement to Stop TB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Developments to date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lanned activities &amp; summ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oard's endors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2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00"/>
                </a:solidFill>
                <a:latin typeface="Arial Narrow"/>
              </a:rPr>
              <a:t>Global TB research agendas</a:t>
            </a: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 develop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Global TB research agenda (TDR Scientific Working Group Oct 200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research priorities (Int J TB &amp; Lung Dis 2003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TB/HIV research priorities (WHO/HTM/TB/2005.355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Childhood TB (WHO/HTM/TB/2007.381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and in progress, e.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MDR-TB Working Group updating the research agend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NIH  (MDR-TB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Arial Narrow"/>
              </a:rPr>
              <a:t>European Commission (new drug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3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aising awareness of Research 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Website launched in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200" spc="-1" strike="noStrike" u="sng">
                <a:solidFill>
                  <a:srgbClr val="66ccff"/>
                </a:solidFill>
                <a:uFillTx/>
                <a:latin typeface="Arial Narrow"/>
                <a:hlinkClick r:id="rId1"/>
              </a:rPr>
              <a:t>www.stoptb.org/researchmove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eatured prominently in World TB day events 2007, e.g. New York, Brussels, Berlin, Ro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4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artnership secretariat and WHO actively engaged with key research partners, includ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NGOs, e.g. MSF, TA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Research funding institutions, e.g. UK MRC. European Commission Directorate-General for Research and South Africa MR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cademic institu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Other institutions, e.g. Rockefeller Found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Planned activities 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Mobilising increased global funding for TB resear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uilding consensus on Research Movement's strategic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Mobilising increased global funding for TB research 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Planned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ssessing research needs, priorities and gaps (building on TDR's relative advantage in developing a global TB research agenda and enlisting input of other agenci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Analysis of factors influencing research environ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ment of arguments for increased research funding based 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) assessment of funding trends through mechanism for global tracking of research funding (building on survey by TAG and work by Max Planck Institut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ii) assessment of expected benefits of increased investment in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Developing plans for how research partners and the Partnership collectively can present  these arguments through the Research Movement to research funders and the "funders of funders"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Building consensus on the Research Movement's strategic approach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By engaging key research partn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possible Bellagio meeting towards end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Forum at the IUATLD conference on lung health, 8-12 November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Summary indicative GANT chart</a:t>
            </a:r>
            <a:endParaRPr b="0" lang="en-US" sz="28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91" name=""/>
          <p:cNvGraphicFramePr/>
          <p:nvPr/>
        </p:nvGraphicFramePr>
        <p:xfrm>
          <a:off x="179280" y="987480"/>
          <a:ext cx="8713800" cy="5781600"/>
        </p:xfrm>
        <a:graphic>
          <a:graphicData uri="http://schemas.openxmlformats.org/drawingml/2006/table">
            <a:tbl>
              <a:tblPr/>
              <a:tblGrid>
                <a:gridCol w="2808360"/>
                <a:gridCol w="863640"/>
                <a:gridCol w="936720"/>
                <a:gridCol w="863640"/>
                <a:gridCol w="865080"/>
                <a:gridCol w="863640"/>
                <a:gridCol w="792000"/>
                <a:gridCol w="72072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ctivity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1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2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3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4 0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analysis of factors influencing research environm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nder for development of research funding tracking system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ssess expected benefits of increased investment in research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ordinate development of consolidated research agenda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00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sible Bellagio meeting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Forum at IUATLD meeting, Cape Town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evelop plan for targeted approaches to key research funders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Action by Boar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key activ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Endorsement of development of timeline for action and budgetary implic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28600" y="0"/>
            <a:ext cx="88012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ffff00"/>
                </a:solidFill>
                <a:latin typeface="Arial"/>
              </a:rPr>
              <a:t>Background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04960" y="2287440"/>
            <a:ext cx="7900920" cy="14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143000"/>
            <a:ext cx="784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1106640"/>
            <a:ext cx="83516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ide spectrum of health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basic laboratory research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product R &amp; 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ssessment of efficacy, effectiveness, cos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ealth systems, policy and servic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pidemiology and modell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0" lang="en-GB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social science and behavioural research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宋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1155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Rationale for the Research Movement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1195200"/>
            <a:ext cx="9144000" cy="53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The success of implementing the DOTS strategy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Is a testament to what committed people can (and need to) do with old and inadequate technology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100" spc="-1" strike="noStrike">
                <a:solidFill>
                  <a:srgbClr val="ffff00"/>
                </a:solidFill>
                <a:latin typeface="Arial Narrow"/>
              </a:rPr>
              <a:t>Research can: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Now – improve the use of current tool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Soon – develop new tools for better TB contro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Eventually – enable the global elimination of TB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However: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	</a:t>
            </a:r>
            <a:r>
              <a:rPr b="0" lang="en-GB" sz="3000" spc="-1" strike="noStrike">
                <a:solidFill>
                  <a:srgbClr val="ffff00"/>
                </a:solidFill>
                <a:latin typeface="Arial Narrow"/>
              </a:rPr>
              <a:t>The current focus and scale of TB research is inadequa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929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Arial Narrow"/>
              </a:rPr>
              <a:t>What is the global Research Movement to Stop TB?</a:t>
            </a: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34720" y="1196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The </a:t>
            </a: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Research Movement 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represents a broad alliance of TB researchers to promote TB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The aim</a:t>
            </a:r>
            <a:r>
              <a:rPr b="0" lang="en-GB" sz="2400" spc="-1" strike="noStrike">
                <a:solidFill>
                  <a:srgbClr val="ffff00"/>
                </a:solidFill>
                <a:latin typeface="Arial Narrow"/>
              </a:rPr>
              <a:t> is to promote and create an environment that fosters greater momentum on TB research &amp; develop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Initial activiti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Understand the current landscape of activities, needs and opportun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Research focu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00"/>
                </a:solidFill>
                <a:latin typeface="Arial Narrow"/>
              </a:rPr>
              <a:t>Fund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Arial Narrow"/>
              </a:rPr>
              <a:t>Next step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an overall coordinated research agend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elop and articulate the arguments for increased fund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Arial Narrow"/>
              </a:rPr>
              <a:t>Devise and execute a plan for resource mobiliz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4560" y="115920"/>
            <a:ext cx="871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99"/>
                </a:solidFill>
                <a:latin typeface="Arial Narrow"/>
              </a:rPr>
              <a:t>Developments to date (1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34720" y="1304640"/>
            <a:ext cx="8654760" cy="555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Analysis of current funding and recent funding tren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TAG repor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00"/>
                </a:solidFill>
                <a:latin typeface="Arial Narrow"/>
              </a:rPr>
              <a:t>Kaufman and Parida, Nature Medicine March 200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52360"/>
            <a:ext cx="770256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 rot="5400000">
            <a:off x="2045160" y="986040"/>
            <a:ext cx="5052960" cy="604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025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Global expenditures on health R&amp;D</a:t>
            </a:r>
            <a:br>
              <a:rPr sz="3200"/>
            </a:br>
            <a:r>
              <a:rPr b="0" lang="en-GB" sz="3200" spc="-1" strike="noStrike">
                <a:solidFill>
                  <a:srgbClr val="ccffff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ccffff"/>
                </a:solidFill>
                <a:latin typeface="Arial"/>
              </a:rPr>
              <a:t>Science 2006, 311, 162-167)</a:t>
            </a:r>
            <a:br>
              <a:rPr sz="3600"/>
            </a:br>
            <a:endParaRPr b="0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 rot="5400000">
            <a:off x="2592360" y="441000"/>
            <a:ext cx="4392720" cy="66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NIH 2005 Research Expenditures (US$ billions)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447920" y="1371600"/>
          <a:ext cx="5727600" cy="4662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47920" y="1371600"/>
                    <a:ext cx="5727600" cy="4662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1600200" y="3276720"/>
            <a:ext cx="1143000" cy="3808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e701"/>
                </a:solidFill>
                <a:latin typeface="Arial"/>
              </a:rPr>
              <a:t>R &amp; D needs for new TB tools in Global Plan</a:t>
            </a:r>
            <a:endParaRPr b="0" lang="en-US" sz="3200" spc="-1" strike="noStrike">
              <a:solidFill>
                <a:srgbClr val="ccffff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838080" y="1600200"/>
          <a:ext cx="327672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600200"/>
                    <a:ext cx="327672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450800" y="1371600"/>
          <a:ext cx="5727960" cy="4670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450800" y="1371600"/>
                    <a:ext cx="57279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3T10:55:57Z</dcterms:created>
  <dc:creator>maherd</dc:creator>
  <dc:description/>
  <dc:language>en-US</dc:language>
  <cp:lastModifiedBy>maherd</cp:lastModifiedBy>
  <dcterms:modified xsi:type="dcterms:W3CDTF">2007-04-18T13:33:55Z</dcterms:modified>
  <cp:revision>22</cp:revision>
  <dc:subject/>
  <dc:title>Stop TB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