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288D-ACB0-4C20-BDAB-EA907931A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44D-4059-48D8-9513-C3C81E9F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D5CD-531B-4ABA-87CA-3C3EDEA4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F6F-3DFA-435C-9EBD-E8065045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2F7-D0B0-472E-BD05-85AB9306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E009-E065-4DCB-8559-E302DE91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4C6C-0638-43DE-A824-552AB3BC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2B6-4833-480E-873B-7712AB8B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E185-C0FF-4A4C-949F-D22F079B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514-A0B5-40B4-A4B9-173282B5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39C-82DE-4EF3-A7FA-885A213C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162-CEB6-4FB4-8D1C-F54E2FAC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94B0-1B35-4D60-BF60-A53B6D56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17AC-139E-4EE8-9BAC-2508190C4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FOR EUROPE &amp; CENTRAL ASIA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Progress and Future Dir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hn O’To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,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329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ablished Oct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public/private partnership &amp;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IFRC/RC, Chair E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point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 TB Day in Europe (Brussels, Berlin, Paris, London, Copenhagen, Stockho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ly supporting WHO Minister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Ten Point Action Plan for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the WHO Ministerial Forum on TB late 200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 in the European Parliam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p services and resources in the European reg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r participation of civil society in TB activ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velop a media campaign to raise awareness of T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le up media coverage of TB in affected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oaden member base of the Partnership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seminate and promote best practice models for TB control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gage relevant Euro &amp; national decision-mak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llaborate with HIV/A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other stakehol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bilise great effort, energy + enthusi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s i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ild closer link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ved TB up the political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U Commissioner Kyprianou announced EU TB Action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dded value + created sy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the aircraft while flying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e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al: engaging + involving countries + communities from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ituencies (NTP, Ministries, re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an operational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profile +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TB mortality, Europe 2002-2004</a:t>
            </a:r>
            <a:br>
              <a:rPr sz="2400"/>
            </a:br>
            <a:r>
              <a:rPr b="0" i="1" lang="en-GB" sz="2400" spc="-1" strike="noStrike">
                <a:solidFill>
                  <a:srgbClr val="3366ff"/>
                </a:solidFill>
                <a:latin typeface="Arial"/>
              </a:rPr>
              <a:t>(deaths per 100,000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2801" r="0" b="2801"/>
          <a:stretch/>
        </p:blipFill>
        <p:spPr>
          <a:xfrm>
            <a:off x="1332000" y="1700280"/>
            <a:ext cx="7194600" cy="453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1773360"/>
            <a:ext cx="172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 i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 data or data 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.2 – 1.0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1 – 5.0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1 – 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urrent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ise links to Glob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organisational structure + modus operand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and the Partnership to include more key institutional players + donors, broaden Constituencies: NTP Managers, Ministries, Health Protection Agencies,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 representation: Eastern + F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y operational budget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B cases of foreign origin, Europ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7274" t="2801" r="0" b="2801"/>
          <a:stretch/>
        </p:blipFill>
        <p:spPr>
          <a:xfrm>
            <a:off x="1116000" y="1773360"/>
            <a:ext cx="65451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4707600">
            <a:off x="1224000" y="5047920"/>
            <a:ext cx="1800000" cy="720720"/>
          </a:xfrm>
          <a:prstGeom prst="leftArrow">
            <a:avLst>
              <a:gd name="adj1" fmla="val 50000"/>
              <a:gd name="adj2" fmla="val 62438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1474560" y="5500080"/>
            <a:ext cx="269388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3%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10854600">
            <a:off x="2948040" y="5586840"/>
            <a:ext cx="1619280" cy="6458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8% Balk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3133800">
            <a:off x="2624400" y="4728240"/>
            <a:ext cx="792360" cy="498600"/>
          </a:xfrm>
          <a:prstGeom prst="leftArrow">
            <a:avLst>
              <a:gd name="adj1" fmla="val 50000"/>
              <a:gd name="adj2" fmla="val 39729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729800">
            <a:off x="2484360" y="3933720"/>
            <a:ext cx="2592360" cy="720720"/>
          </a:xfrm>
          <a:prstGeom prst="leftArrow">
            <a:avLst>
              <a:gd name="adj1" fmla="val 50000"/>
              <a:gd name="adj2" fmla="val 89923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4941720"/>
            <a:ext cx="194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4%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475200">
            <a:off x="3995280" y="3141360"/>
            <a:ext cx="1873440" cy="720720"/>
          </a:xfrm>
          <a:prstGeom prst="leftArrow">
            <a:avLst>
              <a:gd name="adj1" fmla="val 50000"/>
              <a:gd name="adj2" fmla="val 64985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230640"/>
            <a:ext cx="16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328464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542160" indent="-54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9% F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5826240"/>
            <a:ext cx="2411280" cy="1031400"/>
          </a:xfrm>
          <a:prstGeom prst="rect">
            <a:avLst/>
          </a:prstGeom>
          <a:solidFill>
            <a:srgbClr val="ffffff">
              <a:alpha val="39000"/>
            </a:srgbClr>
          </a:solidFill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* Annotated arrows show the provenance of foreign TB cases in the EU in 2005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23 countries, N=13,66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989000"/>
            <a:ext cx="17290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No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0% – 4%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5% – 19%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20% – 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&gt;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ot done – a lot more to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progress on TB in G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PT EU Health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TB Ac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a – Ex. Comm Elections and Futur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geographically and constituents: more key institutional players + donors (expand Partnership to include EU Commission, E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Ministerial Forum 2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tober – a critical stakeholders meeting for 53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05:17Z</dcterms:created>
  <dc:creator>jotoole</dc:creator>
  <dc:description/>
  <dc:language>en-US</dc:language>
  <cp:lastModifiedBy>stbvisitor</cp:lastModifiedBy>
  <dcterms:modified xsi:type="dcterms:W3CDTF">2007-04-19T12:29:53Z</dcterms:modified>
  <cp:revision>24</cp:revision>
  <dc:subject/>
  <dc:title>  FOR EUR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0394228</vt:r8>
  </property>
  <property fmtid="{D5CDD505-2E9C-101B-9397-08002B2CF9AE}" pid="3" name="_AuthorEmail">
    <vt:lpwstr>bakerl@who.int</vt:lpwstr>
  </property>
  <property fmtid="{D5CDD505-2E9C-101B-9397-08002B2CF9AE}" pid="4" name="_AuthorEmailDisplayName">
    <vt:lpwstr>Baker, Louise</vt:lpwstr>
  </property>
  <property fmtid="{D5CDD505-2E9C-101B-9397-08002B2CF9AE}" pid="5" name="_EmailSubject">
    <vt:lpwstr>Ang. RE: Action point 3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