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7E711-2360-43D1-8129-97678DBBFD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How do you measure success here?  Bring the "annotated action plan"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7E4E-C925-4053-B0D8-993746681A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7D7E-EED4-4D84-A5A4-53BE64CA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759E-575A-4729-AE44-099D62FEF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CCE9-22F8-4280-AC6E-378912BD0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6BB0-C73E-4CEE-B7B3-8E03759D4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9B4AD-9368-4207-9D9D-148EF052AA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8C20-03F4-48C9-AE38-738D56BE2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9CEB-E53D-44B2-B344-F47F3AC69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C3C34-AAD6-4E18-8CAB-31E56033E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93A4-B43C-46F6-A75B-0EF2804FD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5036-1D89-4FC7-9FD9-418E8229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A5174-E8D6-453F-A386-AC6D0469C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AD113C-D542-467A-AC0C-89217DE4F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stoptb.org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09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1" lang="en-US" sz="3600" spc="-1" strike="noStrike">
                <a:solidFill>
                  <a:srgbClr val="3366ff"/>
                </a:solidFill>
                <a:latin typeface="Arial"/>
              </a:rPr>
              <a:t>FOR EUROPE &amp; CENTRAL ASIA</a:t>
            </a: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 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3366ff"/>
                </a:solidFill>
                <a:latin typeface="Arial"/>
              </a:rPr>
              <a:t>Progress and Future Direc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John O’Toole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hair,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1835280" y="404640"/>
            <a:ext cx="5329080" cy="146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Current Si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stablished Oct 2006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road public/private partnership &amp; Executive Committ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ecretariat IFRC/RC, Chair ECD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10 point Action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orld TB Day in Europe (Brussels, Berlin, Paris, London, Copenhagen, Stockhol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tively supporting WHO Minister For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 u="sng">
                <a:solidFill>
                  <a:srgbClr val="3366ff"/>
                </a:solidFill>
                <a:uFillTx/>
                <a:latin typeface="Arial"/>
              </a:rPr>
              <a:t>Ten Point Action Plan for Europ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upport the WHO Ministerial Forum on TB late 2007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 in the European Parliament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Map services and resources in the European region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Greater participation of civil society in TB activit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evelop a media campaign to raise awareness of T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Scale up media coverage of TB in affected countrie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Broaden member base of the Partnership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Disseminate and promote best practice models for TB control in Europe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Engage relevant Euro &amp; national decision-makers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Collaborate with HIV/AIDS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and other stakehold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Success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bilise great effort, energy + enthusia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World TB Day 2007 events in Reg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Build closer links between part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Moved TB up the political agen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EU Commissioner Kyprianou announced EU TB Action Pl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Added value + created syner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halleng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the aircraft while flying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Produce in a short period of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al: engaging + involving countries + communities from E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stituencies (NTP, Ministries, researc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evelop an operational bud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uilding profile +repu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549360"/>
            <a:ext cx="821844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r>
              <a:rPr b="1" lang="en-GB" sz="2400" spc="-1" strike="noStrike">
                <a:solidFill>
                  <a:srgbClr val="3366ff"/>
                </a:solidFill>
                <a:latin typeface="Arial"/>
              </a:rPr>
              <a:t>TB mortality, Europe 2002-2004</a:t>
            </a:r>
            <a:br>
              <a:rPr sz="2400"/>
            </a:br>
            <a:r>
              <a:rPr b="0" i="1" lang="en-GB" sz="2400" spc="-1" strike="noStrike">
                <a:solidFill>
                  <a:srgbClr val="3366ff"/>
                </a:solidFill>
                <a:latin typeface="Arial"/>
              </a:rPr>
              <a:t>(deaths per 100,000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rcRect l="0" t="2801" r="0" b="2801"/>
          <a:stretch/>
        </p:blipFill>
        <p:spPr>
          <a:xfrm>
            <a:off x="1332000" y="1700280"/>
            <a:ext cx="7194600" cy="453708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340000" y="1773360"/>
            <a:ext cx="1728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t includ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No data or data incomple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0.2 – 1.0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1.1 – 5.0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5.1 – 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&gt;10.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Current Nee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stitutionalise links to Global Partners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trengthen organisational structure + modus operandi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Expand the Partnership to include more key institutional players + donors, broaden Constituencies: NTP Managers, Ministries, Health Protection Agencies, Commun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Geographic representation: Eastern + FS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larify operational budget asp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08000" y="18900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094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TB cases of foreign origin, Europe 200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rcRect l="7274" t="2801" r="0" b="2801"/>
          <a:stretch/>
        </p:blipFill>
        <p:spPr>
          <a:xfrm>
            <a:off x="1116000" y="1773360"/>
            <a:ext cx="654516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 rot="4707600">
            <a:off x="1224000" y="5047920"/>
            <a:ext cx="1800000" cy="720720"/>
          </a:xfrm>
          <a:prstGeom prst="leftArrow">
            <a:avLst>
              <a:gd name="adj1" fmla="val 50000"/>
              <a:gd name="adj2" fmla="val 62438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 rot="10800000">
            <a:off x="1474560" y="5500080"/>
            <a:ext cx="2693880" cy="14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3% Afr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V="1" rot="10854600">
            <a:off x="2948040" y="5586840"/>
            <a:ext cx="1619280" cy="645840"/>
          </a:xfrm>
          <a:prstGeom prst="rect">
            <a:avLst/>
          </a:prstGeom>
          <a:solidFill>
            <a:srgbClr val="ffffff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8% Balk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3133800">
            <a:off x="2624400" y="4728240"/>
            <a:ext cx="792360" cy="498600"/>
          </a:xfrm>
          <a:prstGeom prst="leftArrow">
            <a:avLst>
              <a:gd name="adj1" fmla="val 50000"/>
              <a:gd name="adj2" fmla="val 39729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rot="1729800">
            <a:off x="2484360" y="3933720"/>
            <a:ext cx="2592360" cy="720720"/>
          </a:xfrm>
          <a:prstGeom prst="leftArrow">
            <a:avLst>
              <a:gd name="adj1" fmla="val 50000"/>
              <a:gd name="adj2" fmla="val 89923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716360" y="4941720"/>
            <a:ext cx="19447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    </a:t>
            </a: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34% As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rot="21475200">
            <a:off x="3995280" y="3141360"/>
            <a:ext cx="1873440" cy="720720"/>
          </a:xfrm>
          <a:prstGeom prst="leftArrow">
            <a:avLst>
              <a:gd name="adj1" fmla="val 50000"/>
              <a:gd name="adj2" fmla="val 64985"/>
            </a:avLst>
          </a:prstGeom>
          <a:solidFill>
            <a:srgbClr val="ff99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479840" y="3230640"/>
            <a:ext cx="16344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84720" y="3284640"/>
            <a:ext cx="36720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9000"/>
          </a:bodyPr>
          <a:p>
            <a:pPr marL="542160" indent="-542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800000"/>
                </a:solidFill>
                <a:latin typeface="Arial"/>
              </a:rPr>
              <a:t>9% FS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732720" y="5826240"/>
            <a:ext cx="2411280" cy="1031400"/>
          </a:xfrm>
          <a:prstGeom prst="rect">
            <a:avLst/>
          </a:prstGeom>
          <a:solidFill>
            <a:srgbClr val="ffffff">
              <a:alpha val="39000"/>
            </a:srgbClr>
          </a:solidFill>
          <a:ln cap="rnd" w="6480">
            <a:solidFill>
              <a:srgbClr val="80808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* Annotated arrows show the provenance of foreign TB cases in the EU in 2005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Tahoma"/>
              </a:rPr>
              <a:t>(23 countries, N=13,66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547640" y="1989000"/>
            <a:ext cx="1729080" cy="8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No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0% – 4%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5% – 19%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20% – 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Frutiger 57Cn"/>
              </a:rPr>
              <a:t>&gt;49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3366ff"/>
                </a:solidFill>
                <a:uFillTx/>
                <a:latin typeface="Arial"/>
              </a:rPr>
              <a:t>Fu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 lot done – a lot more to do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aintain progress on TB in G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ork with PT EU Health Presi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U TB Action Pl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Riga – Ex. Comm Elections and Future Dire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pand geographically and constituents: more key institutional players + donors (expand Partnership to include EU Commission, EP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O Ministerial Forum 22</a:t>
            </a:r>
            <a:r>
              <a:rPr b="0" lang="en-GB" sz="28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ctober – a critical stakeholders meeting for 53 count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79280" y="260280"/>
            <a:ext cx="2340000" cy="28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1T10:05:17Z</dcterms:created>
  <dc:creator>jotoole</dc:creator>
  <dc:description/>
  <dc:language>en-US</dc:language>
  <cp:lastModifiedBy>stbvisitor</cp:lastModifiedBy>
  <dcterms:modified xsi:type="dcterms:W3CDTF">2007-04-19T12:29:53Z</dcterms:modified>
  <cp:revision>24</cp:revision>
  <dc:subject/>
  <dc:title>  FOR EUROP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0394228</vt:r8>
  </property>
  <property fmtid="{D5CDD505-2E9C-101B-9397-08002B2CF9AE}" pid="3" name="_AuthorEmail">
    <vt:lpwstr>bakerl@who.int</vt:lpwstr>
  </property>
  <property fmtid="{D5CDD505-2E9C-101B-9397-08002B2CF9AE}" pid="4" name="_AuthorEmailDisplayName">
    <vt:lpwstr>Baker, Louise</vt:lpwstr>
  </property>
  <property fmtid="{D5CDD505-2E9C-101B-9397-08002B2CF9AE}" pid="5" name="_EmailSubject">
    <vt:lpwstr>Ang. RE: Action point 3</vt:lpwstr>
  </property>
  <property fmtid="{D5CDD505-2E9C-101B-9397-08002B2CF9AE}" pid="6" name="_NewReviewCycle">
    <vt:lpwstr/>
  </property>
  <property fmtid="{D5CDD505-2E9C-101B-9397-08002B2CF9AE}" pid="7" name="_ReviewingToolsShownOnce">
    <vt:lpwstr/>
  </property>
</Properties>
</file>