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embeddings/oleObject4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jpeg" ContentType="image/jpeg"/>
  <Override PartName="/ppt/media/image8.wmf" ContentType="image/x-wmf"/>
  <Override PartName="/ppt/media/image13.wmf" ContentType="image/x-wmf"/>
  <Override PartName="/ppt/media/image9.wmf" ContentType="image/x-wmf"/>
  <Override PartName="/ppt/media/image1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F206A-557D-4073-9201-CA392178C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6B449-E4C9-490C-8B06-BF721988F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7984D-15AE-4F5B-8DC5-BF00E1EE7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52D70-8F82-4B39-ACDF-F26A40A83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3A58A-186E-477C-8B7F-D062B797B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D608C-7D7A-47E0-A422-D1374DD42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861E1-E4CB-47CC-A823-1ED77A5B5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932BC-6D94-429C-8705-95A5D61E1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B5EF2-948A-48B8-946A-A178E0993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A763B-01AA-4FB1-A03D-A14A013A7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A7CE4-13D8-493D-8369-8CE51D3C6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EACBE-6FBC-4641-A409-FA6EC0A81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B2700-BCB4-426D-862F-EF8DD272D9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0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5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6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7.wmf"/><Relationship Id="rId9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9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10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1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280" y="1052640"/>
            <a:ext cx="7993080" cy="489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0000"/>
                </a:solidFill>
                <a:latin typeface="Arial"/>
              </a:rPr>
              <a:t>Financing TB control: </a:t>
            </a:r>
            <a:br>
              <a:rPr sz="3800"/>
            </a:br>
            <a:r>
              <a:rPr b="1" lang="en-US" sz="3800" spc="-1" strike="noStrike">
                <a:solidFill>
                  <a:srgbClr val="ff0000"/>
                </a:solidFill>
                <a:latin typeface="Arial"/>
              </a:rPr>
              <a:t>Recent trends and the role of a new tool for planning and budgeting at country level </a:t>
            </a:r>
            <a:br>
              <a:rPr sz="3800"/>
            </a:br>
            <a:br>
              <a:rPr sz="2400"/>
            </a:br>
            <a:br>
              <a:rPr sz="24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atherine Floyd, Andrea Pantoja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op TB Coordinating Board Meeting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eneva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8 April 20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6012000" y="5013360"/>
            <a:ext cx="2952720" cy="164628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99"/>
                </a:solidFill>
                <a:latin typeface="Arial"/>
              </a:rPr>
              <a:t>Part 2: WHO planning and </a:t>
            </a:r>
            <a:br>
              <a:rPr sz="3600"/>
            </a:br>
            <a:r>
              <a:rPr b="1" lang="en-GB" sz="3600" spc="-1" strike="noStrike">
                <a:solidFill>
                  <a:srgbClr val="333399"/>
                </a:solidFill>
                <a:latin typeface="Arial"/>
              </a:rPr>
              <a:t>budgeting tool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0728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Arial"/>
                <a:ea typeface="宋体"/>
              </a:rPr>
              <a:t>Plans for individual countries for 2006 onwards not always in line with Global Plan, especially for newer components of Stop TB Strategy (country plans tend to be less ambitious)</a:t>
            </a:r>
            <a:r>
              <a:rPr b="0" lang="en-GB" sz="2000" spc="-1" strike="noStrike">
                <a:solidFill>
                  <a:srgbClr val="008000"/>
                </a:solidFill>
                <a:latin typeface="Arial"/>
                <a:ea typeface="宋体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Arial"/>
              </a:rPr>
              <a:t>TB "planning and budgeting" tool developed to assist planning and budgeting </a:t>
            </a:r>
            <a:r>
              <a:rPr b="1" lang="en-GB" sz="2000" spc="-1" strike="noStrike" u="sng">
                <a:solidFill>
                  <a:srgbClr val="008000"/>
                </a:solidFill>
                <a:uFillTx/>
                <a:latin typeface="Arial"/>
              </a:rPr>
              <a:t>in line with Global Plan</a:t>
            </a:r>
            <a:r>
              <a:rPr b="1" lang="en-GB" sz="2000" spc="-1" strike="noStrike">
                <a:solidFill>
                  <a:srgbClr val="008000"/>
                </a:solidFill>
                <a:latin typeface="Arial"/>
              </a:rPr>
              <a:t>, as well as planning and budgeting </a:t>
            </a:r>
            <a:r>
              <a:rPr b="1" lang="en-GB" sz="2000" spc="-1" strike="noStrike" u="sng">
                <a:solidFill>
                  <a:srgbClr val="008000"/>
                </a:solidFill>
                <a:uFillTx/>
                <a:latin typeface="Arial"/>
              </a:rPr>
              <a:t>in gener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Arial"/>
              </a:rPr>
              <a:t>Called a "planning and budgeting" tool to highligh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51"/>
              </a:spcBef>
              <a:buClr>
                <a:srgbClr val="003399"/>
              </a:buClr>
              <a:buSzPct val="6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99"/>
                </a:solidFill>
                <a:latin typeface="Arial"/>
              </a:rPr>
              <a:t>Plans should include a budget, but sometimes do 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51"/>
              </a:spcBef>
              <a:buClr>
                <a:srgbClr val="003399"/>
              </a:buClr>
              <a:buSzPct val="6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99"/>
                </a:solidFill>
                <a:latin typeface="Arial"/>
              </a:rPr>
              <a:t>Budgets should be based on and in line with plan goals, objectives and planned activ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476360" y="188640"/>
            <a:ext cx="61200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99"/>
                </a:solidFill>
                <a:latin typeface="Arial"/>
              </a:rPr>
              <a:t>Development proces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539640" y="1125360"/>
          <a:ext cx="8209080" cy="5204160"/>
        </p:xfrm>
        <a:graphic>
          <a:graphicData uri="http://schemas.openxmlformats.org/drawingml/2006/table">
            <a:tbl>
              <a:tblPr/>
              <a:tblGrid>
                <a:gridCol w="1728720"/>
                <a:gridCol w="6480360"/>
              </a:tblGrid>
              <a:tr h="50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Da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Work do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uary 2006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posal developed and submitted to USAID via TBCAP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ch 2006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posal approved by USAID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ril-May 2006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aft version of tool developed: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ilding on planning frameworks developed for Global Plan and STB workshops for Global Fund proposal development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ne-Dec 2006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eld-testing + practical application: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lawi, Indonesia, Kenya, Somalia, South Africa, regional planning workshop for 10 priority countries in Latin America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ne-Dec 2006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visions and finalization based on field-testing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6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ct-Dec 2006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ompanying documentation + sharepoint site prepared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uary 2007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nslation into French, Spanish, Russian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unch of sharepoint sit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374920" y="2394000"/>
            <a:ext cx="18162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662280" y="3170160"/>
            <a:ext cx="18162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3521160" y="2921040"/>
          <a:ext cx="511200" cy="517320"/>
        </p:xfrm>
        <a:graphic>
          <a:graphicData uri="http://schemas.openxmlformats.org/drawingml/2006/table">
            <a:tbl>
              <a:tblPr/>
              <a:tblGrid>
                <a:gridCol w="511200"/>
              </a:tblGrid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42" name=""/>
          <p:cNvGraphicFramePr/>
          <p:nvPr/>
        </p:nvGraphicFramePr>
        <p:xfrm>
          <a:off x="1704960" y="-1477800"/>
          <a:ext cx="523800" cy="517320"/>
        </p:xfrm>
        <a:graphic>
          <a:graphicData uri="http://schemas.openxmlformats.org/drawingml/2006/table">
            <a:tbl>
              <a:tblPr/>
              <a:tblGrid>
                <a:gridCol w="523800"/>
              </a:tblGrid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1331640" y="2421000"/>
            <a:ext cx="698508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0000"/>
                </a:solidFill>
                <a:latin typeface="Arial"/>
              </a:rPr>
              <a:t>Guided tour of the too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56944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99"/>
                </a:solidFill>
                <a:latin typeface="Arial"/>
              </a:rPr>
              <a:t>General benefits of using the to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39640" y="1125360"/>
            <a:ext cx="8353440" cy="53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8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8000"/>
                </a:solidFill>
                <a:latin typeface="Arial"/>
              </a:rPr>
              <a:t>Should improve quality of plans and budgets and save time once initial effort to understand/use tool is m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8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8000"/>
                </a:solidFill>
                <a:latin typeface="Arial"/>
              </a:rPr>
              <a:t>Easy to revise or update plans/budgets when necess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8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8000"/>
                </a:solidFill>
                <a:latin typeface="Arial"/>
              </a:rPr>
              <a:t>Plans and budgets for TB control set out comprehensively in one place, in standardized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8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8000"/>
                </a:solidFill>
                <a:latin typeface="Arial"/>
              </a:rPr>
              <a:t>Much of plan document itself can be produced by writing written text description of what is set out in to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8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8000"/>
                </a:solidFill>
                <a:latin typeface="Arial"/>
              </a:rPr>
              <a:t>Provides solid foundation for resource mobilization including applications to Global F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8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8000"/>
                </a:solidFill>
                <a:latin typeface="Arial"/>
              </a:rPr>
              <a:t>Provides framework for monitoring and evaluation of plan implementation as well as comparisons among and within cou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8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8000"/>
                </a:solidFill>
                <a:latin typeface="Arial"/>
              </a:rPr>
              <a:t>Automatically produces financial information requested on annual WHO data collection 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-360" y="188640"/>
            <a:ext cx="93250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333399"/>
                </a:solidFill>
                <a:latin typeface="Arial"/>
              </a:rPr>
              <a:t>Promotion, practical application, next step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539640" y="1268280"/>
          <a:ext cx="8136000" cy="4937400"/>
        </p:xfrm>
        <a:graphic>
          <a:graphicData uri="http://schemas.openxmlformats.org/drawingml/2006/table">
            <a:tbl>
              <a:tblPr/>
              <a:tblGrid>
                <a:gridCol w="1295640"/>
                <a:gridCol w="6840360"/>
              </a:tblGrid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Da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Work do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 2006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 20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sentation to WHO EURO regional and country office staff followed by training in how to use the to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-Feb 20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cussions with Global Fund r.e. use of tool in Rd 6 and Rd 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sentation of tool at workshops for countries with Round 6 gran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b 20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PM inter-regional planning and budgeting workshop for 10 countries, Cair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March 20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Planning and budgeting 5-day  workshop for priority African countries in Brazzaville, 19 countries represented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ch-May 20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sentation of tool at Global Fund Round 7 workshops in Nepal (SEAR, EMR), Cairo (EMR, AFR), Harare and Dakar (AFR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llow-up support to countries that have used the to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gust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cond planning and budgeting workshop for African countri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3399"/>
                </a:solidFill>
                <a:latin typeface="Arial"/>
              </a:rPr>
              <a:t>Issues for the Coordinating Boa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258560" y="1915920"/>
            <a:ext cx="698508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ff00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Endorse and help to support planning and budgeting in line with the Global Plan at country level, including promotion and practical application of the planning and budgeting t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ff00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Support resource mobilization efforts based on the foundation of robust and country-owned plans and budg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9152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3399"/>
                </a:solidFill>
                <a:latin typeface="Arial"/>
              </a:rPr>
              <a:t>Acknowledge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15640" y="1628640"/>
            <a:ext cx="755964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1. Tool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Andrea Pantoja (ST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Philippe Veltsos (IT support tea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2. Funding: USA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http://sharepoint.who.int/sites/TBbudget/default.asp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8000"/>
                </a:solidFill>
                <a:latin typeface="Arial"/>
              </a:rPr>
              <a:t>User name: ads\TBBud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8000"/>
                </a:solidFill>
                <a:latin typeface="Arial"/>
              </a:rPr>
              <a:t>Password: 2Budget4T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9152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99"/>
                </a:solidFill>
                <a:latin typeface="Arial"/>
              </a:rPr>
              <a:t>Over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476000" y="1557000"/>
            <a:ext cx="64803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Part 1: Financing TB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80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Arial"/>
              </a:rPr>
              <a:t>Recent tre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80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Arial"/>
              </a:rPr>
              <a:t>Comparisons with the Global Pl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Part 2: WHO Planning and Budgeting T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80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Arial"/>
              </a:rPr>
              <a:t>Development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80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Arial"/>
              </a:rPr>
              <a:t>Guided tour to illustrate main features (practical demonstra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80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Arial"/>
              </a:rPr>
              <a:t>Benef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80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Arial"/>
              </a:rPr>
              <a:t>Practical application to date and next ste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99"/>
                </a:solidFill>
                <a:latin typeface="Arial"/>
              </a:rPr>
              <a:t>NTP budgets by source of funding in high-burden countries, 2002–200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647640" y="1600200"/>
          <a:ext cx="7980480" cy="4924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7640" y="1600200"/>
                    <a:ext cx="7980480" cy="492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91440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99"/>
                </a:solidFill>
                <a:latin typeface="Arial"/>
              </a:rPr>
              <a:t>Total TB control costs by funding source in high-burden countries, 2002–200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39640" y="1700280"/>
            <a:ext cx="7991640" cy="484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88640"/>
            <a:ext cx="8218440" cy="12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Planning and funding: The Global Plan vs. current effor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00720" y="1628640"/>
            <a:ext cx="42480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Global Plan sets ou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99"/>
                </a:solidFill>
                <a:latin typeface="Arial"/>
                <a:ea typeface="宋体"/>
              </a:rPr>
              <a:t>Range and scale at which interventions need to be implemented in 7 regions to achieve MDG and Stop TB Partnership targets globally</a:t>
            </a:r>
            <a:r>
              <a:rPr b="0" lang="en-GB" sz="2000" spc="-1" strike="noStrike">
                <a:solidFill>
                  <a:srgbClr val="003399"/>
                </a:solidFill>
                <a:latin typeface="Arial"/>
                <a:ea typeface="宋体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99"/>
                </a:solidFill>
                <a:latin typeface="Arial"/>
              </a:rPr>
              <a:t>Successful implementation requi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6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Country plans in line with regional plans in G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6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Mobilization of fun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6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Implementation of planned activities/interven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rcRect l="10952" t="1134" r="3247" b="0"/>
          <a:stretch/>
        </p:blipFill>
        <p:spPr>
          <a:xfrm>
            <a:off x="755640" y="1989000"/>
            <a:ext cx="3355920" cy="3849840"/>
          </a:xfrm>
          <a:prstGeom prst="rect">
            <a:avLst/>
          </a:prstGeom>
          <a:ln w="2844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99"/>
                </a:solidFill>
                <a:latin typeface="Arial"/>
              </a:rPr>
              <a:t>Comparisons with the Global Pl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4916520" y="1052640"/>
          <a:ext cx="3570120" cy="2733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16520" y="1052640"/>
                    <a:ext cx="3570120" cy="273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701640" y="3938760"/>
          <a:ext cx="3409920" cy="26589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01640" y="3938760"/>
                    <a:ext cx="3409920" cy="26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5056200" y="3938760"/>
          <a:ext cx="3289320" cy="265896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056200" y="3938760"/>
                    <a:ext cx="3289320" cy="26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" name=""/>
          <p:cNvGraphicFramePr/>
          <p:nvPr/>
        </p:nvGraphicFramePr>
        <p:xfrm>
          <a:off x="539640" y="992160"/>
          <a:ext cx="3654360" cy="279396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39640" y="992160"/>
                    <a:ext cx="3654360" cy="279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99"/>
                </a:solidFill>
                <a:latin typeface="Arial"/>
              </a:rPr>
              <a:t>Comparisons with the Global Pl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5003640" y="907920"/>
          <a:ext cx="3313440" cy="2917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03640" y="907920"/>
                    <a:ext cx="3313440" cy="291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" name=""/>
          <p:cNvGraphicFramePr/>
          <p:nvPr/>
        </p:nvGraphicFramePr>
        <p:xfrm>
          <a:off x="5003640" y="3684600"/>
          <a:ext cx="3384720" cy="30178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3640" y="3684600"/>
                    <a:ext cx="338472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" name=""/>
          <p:cNvGraphicFramePr/>
          <p:nvPr/>
        </p:nvGraphicFramePr>
        <p:xfrm>
          <a:off x="684360" y="836640"/>
          <a:ext cx="3325680" cy="283356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84360" y="836640"/>
                    <a:ext cx="3325680" cy="283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" name=""/>
          <p:cNvGraphicFramePr/>
          <p:nvPr/>
        </p:nvGraphicFramePr>
        <p:xfrm>
          <a:off x="684360" y="3645000"/>
          <a:ext cx="3384360" cy="308268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84360" y="3645000"/>
                    <a:ext cx="338436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460600" y="4481640"/>
            <a:ext cx="1152720" cy="1430280"/>
          </a:xfrm>
          <a:prstGeom prst="rect">
            <a:avLst/>
          </a:prstGeom>
          <a:solidFill>
            <a:srgbClr val="6666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292640" y="4411800"/>
            <a:ext cx="1190520" cy="1500120"/>
          </a:xfrm>
          <a:prstGeom prst="rect">
            <a:avLst/>
          </a:prstGeom>
          <a:solidFill>
            <a:srgbClr val="6666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460600" y="4202280"/>
            <a:ext cx="1152720" cy="279360"/>
          </a:xfrm>
          <a:prstGeom prst="rect">
            <a:avLst/>
          </a:prstGeom>
          <a:solidFill>
            <a:srgbClr val="993366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292640" y="4340160"/>
            <a:ext cx="1190520" cy="71640"/>
          </a:xfrm>
          <a:prstGeom prst="rect">
            <a:avLst/>
          </a:prstGeom>
          <a:solidFill>
            <a:srgbClr val="993366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460600" y="4027320"/>
            <a:ext cx="1152720" cy="174960"/>
          </a:xfrm>
          <a:prstGeom prst="rect">
            <a:avLst/>
          </a:prstGeom>
          <a:solidFill>
            <a:srgbClr val="ff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292640" y="4097160"/>
            <a:ext cx="1190520" cy="243000"/>
          </a:xfrm>
          <a:prstGeom prst="rect">
            <a:avLst/>
          </a:prstGeom>
          <a:solidFill>
            <a:srgbClr val="ff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3760920"/>
            <a:ext cx="1152720" cy="266400"/>
          </a:xfrm>
          <a:prstGeom prst="rect">
            <a:avLst/>
          </a:prstGeom>
          <a:solidFill>
            <a:srgbClr val="00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292640" y="4005360"/>
            <a:ext cx="1190520" cy="91800"/>
          </a:xfrm>
          <a:prstGeom prst="rect">
            <a:avLst/>
          </a:prstGeom>
          <a:solidFill>
            <a:srgbClr val="00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92640" y="3970440"/>
            <a:ext cx="1190520" cy="34920"/>
          </a:xfrm>
          <a:prstGeom prst="rect">
            <a:avLst/>
          </a:prstGeom>
          <a:solidFill>
            <a:srgbClr val="00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292640" y="3760920"/>
            <a:ext cx="1190520" cy="209520"/>
          </a:xfrm>
          <a:prstGeom prst="rect">
            <a:avLst/>
          </a:prstGeom>
          <a:solidFill>
            <a:srgbClr val="ff00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460600" y="2898720"/>
            <a:ext cx="1152720" cy="862200"/>
          </a:xfrm>
          <a:prstGeom prst="rect">
            <a:avLst/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292640" y="3679920"/>
            <a:ext cx="1190520" cy="81000"/>
          </a:xfrm>
          <a:prstGeom prst="rect">
            <a:avLst/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460600" y="1714680"/>
            <a:ext cx="1152720" cy="118404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292640" y="2795760"/>
            <a:ext cx="1190520" cy="88416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172200" y="3214800"/>
            <a:ext cx="1150920" cy="269712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17880" y="1146240"/>
            <a:ext cx="6120" cy="47656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49400" y="5911920"/>
            <a:ext cx="16848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949400" y="5224320"/>
            <a:ext cx="16848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949400" y="4549680"/>
            <a:ext cx="168480" cy="32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949400" y="3865680"/>
            <a:ext cx="16848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949400" y="3191040"/>
            <a:ext cx="16848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949400" y="2503440"/>
            <a:ext cx="168480" cy="32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949400" y="1830240"/>
            <a:ext cx="168480" cy="50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949400" y="1146240"/>
            <a:ext cx="16848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117880" y="5911920"/>
            <a:ext cx="554184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2117880" y="5911920"/>
            <a:ext cx="6120" cy="2232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3948120" y="5911920"/>
            <a:ext cx="7920" cy="2232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5827680" y="5911920"/>
            <a:ext cx="9720" cy="2232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7659720" y="5911920"/>
            <a:ext cx="7920" cy="2232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460600" y="5934240"/>
            <a:ext cx="148752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Global Plan to Stop T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292640" y="5927760"/>
            <a:ext cx="112536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Country budg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5927760"/>
            <a:ext cx="127944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Available fun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476720" y="314316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$2000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476720" y="243216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$2500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476720" y="175896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$3000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476720" y="10746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$3500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476720" y="44784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$1000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476720" y="5153040"/>
            <a:ext cx="73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$500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76720" y="384192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$1500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33360" y="1249200"/>
            <a:ext cx="16160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eneral health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33360" y="2031840"/>
            <a:ext cx="1039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/HI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33360" y="2576520"/>
            <a:ext cx="895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33360" y="3122640"/>
            <a:ext cx="16160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perationa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33360" y="3879720"/>
            <a:ext cx="1471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CSM/CTB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33360" y="4425840"/>
            <a:ext cx="1289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DR-T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33360" y="4970520"/>
            <a:ext cx="1944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PM/PAL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33360" y="5516640"/>
            <a:ext cx="895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33360" y="5392800"/>
            <a:ext cx="298440" cy="123840"/>
          </a:xfrm>
          <a:prstGeom prst="rect">
            <a:avLst/>
          </a:prstGeom>
          <a:solidFill>
            <a:srgbClr val="6666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33360" y="4818240"/>
            <a:ext cx="298440" cy="123480"/>
          </a:xfrm>
          <a:prstGeom prst="rect">
            <a:avLst/>
          </a:prstGeom>
          <a:solidFill>
            <a:srgbClr val="993366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24000" y="4292640"/>
            <a:ext cx="298440" cy="123840"/>
          </a:xfrm>
          <a:prstGeom prst="rect">
            <a:avLst/>
          </a:prstGeom>
          <a:solidFill>
            <a:srgbClr val="ff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33360" y="3736800"/>
            <a:ext cx="298440" cy="123840"/>
          </a:xfrm>
          <a:prstGeom prst="rect">
            <a:avLst/>
          </a:prstGeom>
          <a:solidFill>
            <a:srgbClr val="00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33360" y="2997360"/>
            <a:ext cx="298440" cy="123840"/>
          </a:xfrm>
          <a:prstGeom prst="rect">
            <a:avLst/>
          </a:prstGeom>
          <a:solidFill>
            <a:srgbClr val="00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33360" y="2441520"/>
            <a:ext cx="298440" cy="123840"/>
          </a:xfrm>
          <a:prstGeom prst="rect">
            <a:avLst/>
          </a:prstGeom>
          <a:solidFill>
            <a:srgbClr val="ff99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33360" y="1865160"/>
            <a:ext cx="298440" cy="123840"/>
          </a:xfrm>
          <a:prstGeom prst="rect">
            <a:avLst/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33360" y="1125360"/>
            <a:ext cx="298440" cy="12384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1238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Planning and funding of TB control, 200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8101080" y="5805360"/>
            <a:ext cx="879480" cy="89856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2381040" y="1125360"/>
            <a:ext cx="1227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ot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$3.1 bill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250880" y="2155680"/>
            <a:ext cx="1227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ot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$2.3 bill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176520" y="2608200"/>
            <a:ext cx="1227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ot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$2.0 bill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596360" y="2205000"/>
            <a:ext cx="1333440" cy="253332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99"/>
                </a:solidFill>
                <a:latin typeface="Arial"/>
              </a:rPr>
              <a:t>Funding gap for the Global Pla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99"/>
                </a:solidFill>
                <a:latin typeface="Arial"/>
              </a:rPr>
              <a:t>$1.1 billion in 2007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708360" y="981000"/>
            <a:ext cx="410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Based on 84 countries with 90% global TB c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23640" y="189000"/>
            <a:ext cx="8507160" cy="12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99"/>
                </a:solidFill>
                <a:latin typeface="Arial"/>
              </a:rPr>
              <a:t>Comparison of country reports with Global Plan in Africa, 200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79280" y="1463760"/>
            <a:ext cx="8701200" cy="49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31T10:44:55Z</dcterms:created>
  <dc:creator>steenbergeng</dc:creator>
  <dc:description/>
  <dc:language>en-US</dc:language>
  <cp:lastModifiedBy>floydk</cp:lastModifiedBy>
  <dcterms:modified xsi:type="dcterms:W3CDTF">2007-04-18T08:52:01Z</dcterms:modified>
  <cp:revision>173</cp:revision>
  <dc:subject/>
  <dc:title>Slide 1</dc:title>
</cp:coreProperties>
</file>