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9.wmf" ContentType="image/x-wmf"/>
  <Override PartName="/ppt/media/image8.wmf" ContentType="image/x-wmf"/>
  <Override PartName="/ppt/media/image12.jpeg" ContentType="image/jpeg"/>
  <Override PartName="/ppt/media/image11.jpeg" ContentType="image/jpeg"/>
  <Override PartName="/ppt/media/image7.wmf" ContentType="image/x-wmf"/>
  <Override PartName="/ppt/media/image19.jpeg" ContentType="image/jpeg"/>
  <Override PartName="/ppt/media/image18.jpeg" ContentType="image/jpeg"/>
  <Override PartName="/ppt/media/image17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wmf" ContentType="image/x-wmf"/>
  <Override PartName="/ppt/media/image13.jpeg" ContentType="image/jpeg"/>
  <Override PartName="/ppt/media/image4.jpeg" ContentType="image/jpeg"/>
  <Override PartName="/ppt/media/image5.wmf" ContentType="image/x-wmf"/>
  <Override PartName="/ppt/media/image6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85D7-A771-48CC-AC85-7B3C48BFF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AB45-BBA6-47CC-95F5-D50555027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3CF96-3B59-4EF2-9939-C89B7101E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86B19-EF27-461A-B180-E1C333202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0C6E6-1EFE-4AD0-8242-55CA420D8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FCE8-5E66-4805-AD98-DBC255399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AE14-6681-43E0-8FBA-9F6FAF7A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27FA8-0F36-481A-8B7F-565453290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61F5-FE1F-45F4-B6CC-989B968EA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52A8E-81C0-4539-88A1-2AEFA84B9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2A31A-83F3-40B5-BEF2-75427234A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22A40-BD7C-4811-A942-B33085E5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AC454-578F-41C1-AB2A-73D40B38AB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wmf"/><Relationship Id="rId4" Type="http://schemas.openxmlformats.org/officeDocument/2006/relationships/hyperlink" Target="http://images.google.ch/imgres?imgurl=http://www.telescope.bg/bg_skywatcher/img/skp25012eq6-sb.jpg&amp;imgrefurl=http://www.telescope.bg/bg/skywatcher.html&amp;h=656&amp;w=360&amp;sz=41&amp;hl=en&amp;start=12&amp;tbnid=JGLvl2dDRxXooM:&amp;tbnh=138&amp;tbnw=76&amp;prev=/images%3Fq%3Dtelescope%26gbv%3D2%26svnum%3D10%26hl%3Den" TargetMode="External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3300"/>
                </a:solidFill>
                <a:latin typeface="Arial"/>
              </a:rPr>
              <a:t>dTB</a:t>
            </a:r>
            <a:br>
              <a:rPr sz="48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TB determinants projec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B meeting 18 April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Knut Lönnrot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op TB Department WH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urpose of the projec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79280" y="138600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epidemiological patterns associated with the apparent failure to reduce incidence in some coun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Quantify the population level impact on the TB epidemic of various risk factors – Population Attributable Fraction (PA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Explore possible intervention areas not fully covered in the Stop TB Strategy, model potential impact on the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宋体"/>
              </a:rPr>
              <a:t>Contribute to the evolution of the Stop TB Strate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ontribute to Commission on Social Determinants of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274320"/>
            <a:ext cx="763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opulation Attributable Frac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or selected risk fac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selection of risk factors with reasonably high prevalence:  HIV, smoking, malnutrition, diabetes, indoor air pol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tative relative risk estimates (TB disease) from systematic reviews and consultations with expe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valence estimates for 22 HBCs, from various global databas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85000" indent="-5850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culation of preliminary population attributable fraction for the risk factors in 22 HBC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000" y="549000"/>
            <a:ext cx="569916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eliminary findin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468360" y="1989000"/>
          <a:ext cx="8229600" cy="4575240"/>
        </p:xfrm>
        <a:graphic>
          <a:graphicData uri="http://schemas.openxmlformats.org/drawingml/2006/table">
            <a:tbl>
              <a:tblPr/>
              <a:tblGrid>
                <a:gridCol w="1873080"/>
                <a:gridCol w="2117880"/>
                <a:gridCol w="2119320"/>
                <a:gridCol w="2119320"/>
              </a:tblGrid>
              <a:tr h="1113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Relative risk for active TB diseas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Weighted prevalenc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Population Attributable Fra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HIV infec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.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Malnutri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4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7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4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Diabet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3.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da-DK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Smok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.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8.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3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Indoor Air Polluti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72396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71.1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26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3" name=""/>
          <p:cNvSpPr/>
          <p:nvPr/>
        </p:nvSpPr>
        <p:spPr>
          <a:xfrm>
            <a:off x="6084720" y="260280"/>
            <a:ext cx="2881440" cy="11912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Theoretical relative TB decrease if risk factor is elimin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7524720" y="1483920"/>
            <a:ext cx="0" cy="57636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anned next ste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ine and extend risk factor analysis (Crowding, alcohol, occupational exposure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inue country case stud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ecast impact on TB epidem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k these "downstream" risk factors to "upstream" determin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interventions </a:t>
            </a:r>
            <a:r>
              <a:rPr b="1" i="1" lang="en-US" sz="2400" spc="-1" strike="noStrike">
                <a:solidFill>
                  <a:srgbClr val="ff3300"/>
                </a:solidFill>
                <a:latin typeface="Arial"/>
              </a:rPr>
              <a:t>within and outside the health sect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define roles for NTPs and Stop TB Part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ssible intervention ar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ff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ff3300"/>
                </a:solidFill>
                <a:uFillTx/>
                <a:latin typeface="Arial"/>
              </a:rPr>
              <a:t>Programmatic,</a:t>
            </a:r>
            <a:r>
              <a:rPr b="0" lang="en-US" sz="2800" spc="-1" strike="noStrike">
                <a:solidFill>
                  <a:srgbClr val="ff3300"/>
                </a:solidFill>
                <a:latin typeface="Arial"/>
              </a:rPr>
              <a:t> within TB programmes and across public health programmes, to reduce HIV, smoking, malnutrition, diabe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99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HSS and PHC strengthening</a:t>
            </a:r>
            <a:r>
              <a:rPr b="0" lang="en-US" sz="2800" spc="-1" strike="noStrike" u="sng">
                <a:solidFill>
                  <a:srgbClr val="009900"/>
                </a:solidFill>
                <a:uFillTx/>
                <a:latin typeface="Arial"/>
              </a:rPr>
              <a:t>: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 improve capacity to address all above risk fac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333399"/>
                </a:solidFill>
                <a:uFillTx/>
                <a:latin typeface="Arial"/>
              </a:rPr>
              <a:t>Outside health care:</a:t>
            </a:r>
            <a:r>
              <a:rPr b="0" lang="en-US" sz="2800" spc="-1" strike="noStrike">
                <a:solidFill>
                  <a:srgbClr val="333399"/>
                </a:solidFill>
                <a:latin typeface="Arial"/>
              </a:rPr>
              <a:t> address malnutrition, indoor air pollution, crowding, and "upstream" social determinants through social, economic and environmental polic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 poi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chnical aspects of the present analy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can the Stop TB Partnership contribute to the projec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e the tentative suggested broad intervention areas  appropriate and feasibl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ould be the role of WHO and the Stop TB Partnership in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rth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dvocating need to address social determinants outside the health secto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ed for city planners, sociologists, architects, engineers and nutritionists in Stop TB Partnership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9280" y="1268280"/>
            <a:ext cx="8785440" cy="5400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at is causing TB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>
            <a:lum bright="2000"/>
          </a:blip>
          <a:stretch/>
        </p:blipFill>
        <p:spPr>
          <a:xfrm>
            <a:off x="4356000" y="1268280"/>
            <a:ext cx="4788000" cy="558972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1268280"/>
            <a:ext cx="4500720" cy="55897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79280" y="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7797960" y="189000"/>
            <a:ext cx="882360" cy="16016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635280" y="3284640"/>
            <a:ext cx="1656000" cy="1296720"/>
          </a:xfrm>
          <a:prstGeom prst="leftArrow">
            <a:avLst>
              <a:gd name="adj1" fmla="val 50000"/>
              <a:gd name="adj2" fmla="val 319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95640" y="3573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geographical variatio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0" y="1246320"/>
            <a:ext cx="9144000" cy="5638680"/>
            <a:chOff x="0" y="1246320"/>
            <a:chExt cx="9144000" cy="5638680"/>
          </a:xfrm>
        </p:grpSpPr>
        <p:graphicFrame>
          <p:nvGraphicFramePr>
            <p:cNvPr id="52" name=""/>
            <p:cNvGraphicFramePr/>
            <p:nvPr/>
          </p:nvGraphicFramePr>
          <p:xfrm>
            <a:off x="0" y="1246320"/>
            <a:ext cx="9144000" cy="56386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1246320"/>
                      <a:ext cx="9144000" cy="5638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4" name=""/>
            <p:cNvGrpSpPr/>
            <p:nvPr/>
          </p:nvGrpSpPr>
          <p:grpSpPr>
            <a:xfrm>
              <a:off x="0" y="3151080"/>
              <a:ext cx="2438280" cy="1770480"/>
              <a:chOff x="0" y="3151080"/>
              <a:chExt cx="2438280" cy="1770480"/>
            </a:xfrm>
          </p:grpSpPr>
          <p:sp>
            <p:nvSpPr>
              <p:cNvPr id="55" name=""/>
              <p:cNvSpPr/>
              <p:nvPr/>
            </p:nvSpPr>
            <p:spPr>
              <a:xfrm>
                <a:off x="304920" y="3881520"/>
                <a:ext cx="179280" cy="108000"/>
              </a:xfrm>
              <a:prstGeom prst="rect">
                <a:avLst/>
              </a:prstGeom>
              <a:solidFill>
                <a:srgbClr val="33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457200" y="381312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25 to 4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304920" y="4098960"/>
                <a:ext cx="179280" cy="108000"/>
              </a:xfrm>
              <a:prstGeom prst="rect">
                <a:avLst/>
              </a:prstGeom>
              <a:solidFill>
                <a:srgbClr val="ff993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457200" y="4030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50 to 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04920" y="4314960"/>
                <a:ext cx="179280" cy="1080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457200" y="4246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0 to 29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304920" y="3448080"/>
                <a:ext cx="179280" cy="108000"/>
              </a:xfrm>
              <a:prstGeom prst="rect">
                <a:avLst/>
              </a:prstGeom>
              <a:solidFill>
                <a:srgbClr val="ccec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457200" y="3379680"/>
                <a:ext cx="137160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&lt; 10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304920" y="3665520"/>
                <a:ext cx="179280" cy="108000"/>
              </a:xfrm>
              <a:prstGeom prst="rect">
                <a:avLst/>
              </a:prstGeom>
              <a:solidFill>
                <a:srgbClr val="3366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457200" y="3597120"/>
                <a:ext cx="19051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10 to 24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304920" y="4530600"/>
                <a:ext cx="179280" cy="108000"/>
              </a:xfrm>
              <a:prstGeom prst="rect">
                <a:avLst/>
              </a:prstGeom>
              <a:solidFill>
                <a:srgbClr val="80008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57200" y="446256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300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Arial"/>
                  </a:rPr>
                  <a:t> or mor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04920" y="4743360"/>
                <a:ext cx="179280" cy="10800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457200" y="4675320"/>
                <a:ext cx="19810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No Estimat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3151080"/>
                <a:ext cx="18288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per 100 000 popul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y are men at higher risk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0" y="2060640"/>
          <a:ext cx="514836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060640"/>
                    <a:ext cx="514836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5" name=""/>
          <p:cNvGraphicFramePr/>
          <p:nvPr/>
        </p:nvGraphicFramePr>
        <p:xfrm>
          <a:off x="5003640" y="2060640"/>
          <a:ext cx="3816360" cy="4543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3640" y="2060640"/>
                    <a:ext cx="3816360" cy="45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" name=""/>
          <p:cNvSpPr/>
          <p:nvPr/>
        </p:nvSpPr>
        <p:spPr>
          <a:xfrm>
            <a:off x="468360" y="1484280"/>
            <a:ext cx="374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notified new smear positive cases globally in 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148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tal number of daily smokers glob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re the poor at higher ris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1461960"/>
            <a:ext cx="9144000" cy="525492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3564000" y="2560680"/>
            <a:ext cx="2016000" cy="1373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4788000" y="3537000"/>
            <a:ext cx="2077920" cy="155556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6804000" y="3900600"/>
            <a:ext cx="2160720" cy="1512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pic>
        <p:nvPicPr>
          <p:cNvPr id="84" name="" descr="Die Ärtze werden von den Bewohnern bereits erwartet"/>
          <p:cNvPicPr/>
          <p:nvPr/>
        </p:nvPicPr>
        <p:blipFill>
          <a:blip r:embed="rId5"/>
          <a:stretch/>
        </p:blipFill>
        <p:spPr>
          <a:xfrm>
            <a:off x="2502000" y="692280"/>
            <a:ext cx="1674720" cy="2232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79280" y="5373720"/>
            <a:ext cx="2376720" cy="7855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te/no diagnos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effective treat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179280" y="189000"/>
            <a:ext cx="2414520" cy="3311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179280" y="3645000"/>
            <a:ext cx="2376720" cy="15372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10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erfect too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health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acce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or knowled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88000" y="3789360"/>
            <a:ext cx="2305080" cy="18943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 treatment and preven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C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w vaccin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556000" y="2276640"/>
            <a:ext cx="4032000" cy="201600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515772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332000" y="6237360"/>
            <a:ext cx="0" cy="2160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332000" y="3357720"/>
            <a:ext cx="0" cy="358560"/>
          </a:xfrm>
          <a:prstGeom prst="line">
            <a:avLst/>
          </a:prstGeom>
          <a:ln w="38160">
            <a:solidFill>
              <a:srgbClr val="00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219640" y="1341360"/>
            <a:ext cx="223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4788000" y="2708280"/>
            <a:ext cx="1224000" cy="10810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372360" y="2781360"/>
            <a:ext cx="1295280" cy="33116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5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27080" cy="12708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 deaths in England and Wal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39640" y="2276640"/>
            <a:ext cx="7696440" cy="42703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6732720" y="4149720"/>
            <a:ext cx="1439640" cy="189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80360" y="4076640"/>
            <a:ext cx="1295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 "/>
          <p:cNvPicPr/>
          <p:nvPr/>
        </p:nvPicPr>
        <p:blipFill>
          <a:blip r:embed="rId3"/>
          <a:stretch/>
        </p:blipFill>
        <p:spPr>
          <a:xfrm>
            <a:off x="2843280" y="1844640"/>
            <a:ext cx="1349280" cy="15130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6696000" y="4149720"/>
            <a:ext cx="24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contributed 3% of reduction in TB death 1848-197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203640" y="115560"/>
            <a:ext cx="5494320" cy="8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terminants of what?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627280" y="4340160"/>
            <a:ext cx="3888000" cy="2517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6308640"/>
            <a:ext cx="19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till infectio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4000" y="3789360"/>
            <a:ext cx="2160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ituations leading to high expos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16720" y="6165720"/>
            <a:ext cx="262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Poor host def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516720" y="2924280"/>
            <a:ext cx="2376360" cy="272880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Down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isk fac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mok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lnutr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be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oor air pol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516720" y="1197000"/>
            <a:ext cx="237636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"Upstream"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ocial, economic and environmental determin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667640" y="566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667640" y="2421000"/>
            <a:ext cx="0" cy="50472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13:08:24Z</dcterms:created>
  <dc:creator>Knut Lonnroth</dc:creator>
  <dc:description/>
  <dc:language>en-US</dc:language>
  <cp:lastModifiedBy>Knut Lonnroth</cp:lastModifiedBy>
  <dcterms:modified xsi:type="dcterms:W3CDTF">2007-04-18T05:39:56Z</dcterms:modified>
  <cp:revision>44</cp:revision>
  <dc:subject/>
  <dc:title>Slide 1</dc:title>
</cp:coreProperties>
</file>