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7BE64-74C2-49A7-8F60-5B6CAC89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623EC-BBC2-4D45-BA7B-0E899A9B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4E7D-8738-43AE-B7BC-6BCCBADBE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4775-DF27-46DB-AC7F-9281F468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2CC41-0CCE-4A13-9D9C-46BE89CAF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605B-C7DF-4C87-8E6D-377EB807F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AB896-6C62-4D04-B86B-AD9668D8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B3DDE-E7CB-4CFA-BBDD-6F23E3C3D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0309-CE1B-43EA-BDC1-2454CA9196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A8AE6-EEC0-4EF9-9DF5-803010FC3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304F4-3FA1-4F3F-9503-84FA62F8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25FF-EF5A-4240-ABDC-B17531213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1F913-61CF-41F2-8B80-905FF6DA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7D855-D005-4ADB-9462-5E512A94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F3D6A-212A-4395-BA42-8019830DD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DEE058-E5F2-4900-A7AA-52FEC0A42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61177-7013-49C6-A69B-72E6D1204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F937F-7738-4101-B6C6-FF6920E04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1332-7F73-4E1B-A4C5-CC9994616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86EB2-D7E7-4415-BA98-B44AB14FF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CA3F-AFD8-4587-88FA-439B33FA0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694B5-E36F-41B8-BB62-3D52BE6F6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535D5-BB07-4CBF-B07E-3D86D31A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9454-CC82-47F3-9EC4-8CC5F90A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914256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40208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B383-CEC7-4C6E-8767-910A17143F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AC272-4697-4710-A747-0B605CBE9B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1413000"/>
            <a:ext cx="9144000" cy="460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52360" y="2781000"/>
            <a:ext cx="864072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 u="sng">
                <a:solidFill>
                  <a:srgbClr val="000000"/>
                </a:solidFill>
                <a:uFillTx/>
                <a:latin typeface="Arial"/>
              </a:rPr>
              <a:t>Partners’ Forum 2008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48360" y="1413000"/>
            <a:ext cx="21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79280" y="2060640"/>
            <a:ext cx="8640720" cy="38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1, 1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’ Forum, Washington D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World Ban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200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“branding” of the Partnershi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he first Global Plan and the GDF launched;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Stop TB Partnership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recognized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s global movement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restige press and media coverag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004, 2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 Partners Forum, New Delh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Hosted by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Government of Ind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Attendance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35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i="1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Key outcomes: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patient activist movement for TB established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TB control in several countries boosted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7020000" y="1844640"/>
            <a:ext cx="212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916360" y="1413000"/>
            <a:ext cx="62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key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-468360" y="2665440"/>
            <a:ext cx="961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leverage of political commitment and fund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lobal Plan to Stop TB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trends of the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control policy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influence on participating endemic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hip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foster the implementation of the outcomes of the external 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artners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enhancement of the networ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059280" y="1844640"/>
            <a:ext cx="608472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2133720"/>
            <a:ext cx="849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dentification of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 Process led by Member States and/or partner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lection based on pre-established crite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"Host City" Committee to manage selection pro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Nomin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roposed D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Government Commitment – Potent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opportunities (local/regional/globa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ransportation Infrastructure &amp; Accessi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enue Op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ccommo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urity Sit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rporate Sector Environ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Visa and other “access” issu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ost 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Host C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portunity to host a major high profile/conference even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Revenue generated from hotel booking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edia attention to showcase the c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Political advocacy and social mobilization within the count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4149720"/>
            <a:ext cx="8496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enefits for the Partners'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nsure equal opportunities to all potential host citi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reate excitement and momentum in the run up to the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2133720"/>
            <a:ext cx="849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1: Consultation and Dialogue with Partn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Opening Cerem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ssess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val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Building Constituencies for a Stronger Partnershi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eedba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4000" y="2133720"/>
            <a:ext cx="849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Day 2: Ministerial and Representatives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mplifying the Partnership &amp; Leveraging Impact at Country Lev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Future Potential and Perspectiv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TB Financing Summit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Communication &amp; Advocacy Even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3635280" y="1413000"/>
            <a:ext cx="55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008, 3</a:t>
            </a:r>
            <a:r>
              <a:rPr b="1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Partners' Forum /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780000" y="1844640"/>
            <a:ext cx="53640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133720"/>
            <a:ext cx="8496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Additional Proposed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-forums, prior to the Partners Forum, on the key topics to be discussed in the breakout session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Electronic match-making system for partners to easily identify potential counterpar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arket place and exhibition to encourage connections with the local business community, NGOs and the affected communi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peakers Corner” to facilitate open and transparent discussion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Secretariat to facilitate training sessions on key issue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0T14:32:53Z</dcterms:created>
  <dc:creator>CammarotaV</dc:creator>
  <dc:description/>
  <dc:language>en-US</dc:language>
  <cp:lastModifiedBy>CammarotaV</cp:lastModifiedBy>
  <dcterms:modified xsi:type="dcterms:W3CDTF">2007-04-17T10:13:43Z</dcterms:modified>
  <cp:revision>6</cp:revision>
  <dc:subject/>
  <dc:title>Slide 1</dc:title>
</cp:coreProperties>
</file>