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CA216-5FCA-4138-AA45-9FF5854262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9E0887-5945-4501-946C-992498E44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9DB26-5FE5-4990-9BC2-1BC0E941B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BAEB2E-4C9A-42D8-99F8-BC58F9453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19758-4438-49F5-8FC6-3F8D497B5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1095A-8B6C-489F-B49F-4EFD0E1F2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10309-C732-4EF0-912D-178B388AE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6A00D-E0AC-4251-B284-4AF2FE3CD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BACD0-155B-4DB0-A985-4A1C305C8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34E95-460F-4FFA-A25E-82E981B88D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219B8-8765-4FCB-9355-824F9936E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4FAFE2-ADC3-4B48-9307-9A09B675D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20E3B-7058-4ED3-A114-E08D42114BA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BC592-BDDB-4C83-A046-83D25AE583A9}" type="datetime3">
              <a:rPr b="1" lang="en-GB" sz="800" spc="-1" strike="noStrike">
                <a:solidFill>
                  <a:srgbClr val="000000"/>
                </a:solidFill>
                <a:latin typeface="Tahoma"/>
                <a:ea typeface="Tahoma"/>
              </a:rPr>
              <a:t>28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DA40353D-000A-45EC-8F9F-0FF4DA649BD9}"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