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26A88-5A9C-410A-A2DD-9F1EFF478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8739C-D616-4AD6-A29A-74FCB75C5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346D4-DD01-414C-B7EB-88E38A4CB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A4CD4-5518-494F-8175-2E4B457DA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2332E-F09A-4B2D-B4ED-64CFCEB92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B70EC-77E5-4182-887C-E545F7230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3849D-3EAD-4C5A-A5D5-E1CFD20C5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829D9-6C59-42DC-8C4D-C140DD7D0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8AF4F-8C17-435B-9D7D-8426DE6B8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E4CA5-0885-4F02-8EFD-1C9F68D71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043A2-F4FC-4912-904B-BAE5BEE26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E120A-273E-4AE6-9385-1CA77E9EFF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1584-CDBA-4919-90E5-0762593B98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FB9E-20E3-44D1-AE91-7A8DD7D2FDAD}" type="datetime3">
              <a:rPr b="1" lang="en-GB" sz="800" spc="-1" strike="noStrike">
                <a:solidFill>
                  <a:srgbClr val="000000"/>
                </a:solidFill>
                <a:latin typeface="Tahoma"/>
                <a:ea typeface="Tahoma"/>
              </a:rPr>
              <a:t>28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8CB94A35-88B9-43BC-B824-D5BD1544754F}"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