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691813" cy="7559675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766440" y="741240"/>
            <a:ext cx="5267160" cy="372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6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F5D5-FD93-414C-9E0B-42BE0D3B56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622520" y="4114800"/>
            <a:ext cx="21970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782640" y="6485040"/>
            <a:ext cx="220824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1BB59-0F61-4D13-BE09-DCF7982A4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E5CA-2BD8-4C50-A6F3-8E09B4B03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F8D5-47D8-49F6-90B3-16052F114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968B-D604-4600-9276-7E331DB0D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5179-D0DE-40B5-B009-8A5FF0C7EE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60434-28D7-4994-A4A4-2008B5634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D112-8298-41EF-8741-6D5CB1C7C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229C-1FFE-415A-BFD4-F9C598D88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5CBE-D488-471F-AF52-0CC0494F83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6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64ECD8F7-6A6E-4453-93DC-F1E66004770A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" name="Picture 15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Oval 26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" name="Picture 33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5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" name="Group 38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Text Box 39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1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11" name="Picture 40" descr="STOPTB_COLOR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1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0" name="Picture 24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Line 31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" name="Group 36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Text Box 37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1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54" name="Picture 38" descr="STOPTB_COLOR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603440" y="1355400"/>
            <a:ext cx="838368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01040" indent="-4010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6 November 2009, 8:30 – 9:30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Labor Organization, Salle V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6360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s &amp; Recommendations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2280" y="1754280"/>
            <a:ext cx="88311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PROPOSAL : (A)</a:t>
            </a: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 with the Stop TB Secretariat (150 k US$)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22600" y="2038320"/>
            <a:ext cx="835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vate sector membership should contribute towards funding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bjective : being self sustainable after 3 years.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119400"/>
            <a:ext cx="7124760" cy="3824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86280" y="3498840"/>
            <a:ext cx="5667120" cy="2959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21200" y="4390920"/>
            <a:ext cx="3736800" cy="1438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48040" y="4565520"/>
            <a:ext cx="227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Focal Point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Stop TB Secretaria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Elected Board Member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743280" y="4057560"/>
            <a:ext cx="4257720" cy="1714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Core group - Members with financial participation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Business Coalitions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76480" y="312912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30397"/>
                </a:solidFill>
                <a:latin typeface="Arial"/>
              </a:rPr>
              <a:t>All other compan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23520" y="6981840"/>
            <a:ext cx="32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Private Sector Constituenc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53000" y="590076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PPM…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12520" y="617400"/>
            <a:ext cx="73328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 &amp;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62280" y="1754280"/>
            <a:ext cx="3314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B.   </a:t>
            </a: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PROPOSAL (B)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89200" y="2401920"/>
            <a:ext cx="8922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Yearly global PSC meeting (Global Fund, UNAIDS, RBM, Stop TB…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ow to bridge and exchange on our strategies with others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stituencies , in order to improve our engagment ?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03440" y="1542600"/>
            <a:ext cx="838368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6 November 2009, 8:30 – 9:30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Labor Organization, Salle V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165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anks .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3440" y="1542600"/>
            <a:ext cx="838368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C Role in the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C Achie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o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ancy –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al Point : Proposals &amp;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8120" y="506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SC Role in the Partnership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51120" y="1530000"/>
            <a:ext cx="803736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Private Sector Constituency Objectiv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Leverage core business skills and capabilities, facilitate corporate sector participation, stimulate participation of the private sector in TB control and R&amp;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Bring business perspectives, input, expertise, and multi-faceted resources to the Partnership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C gained position on Coordinating Board in October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ituency of 110 private sector partners (per  Stop TB Partners’ Directory, 20Aug200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5% health-related, 25% non-health compa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% of total Stop TB Partn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0040" y="549360"/>
            <a:ext cx="8888400" cy="635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SC Recent Achievement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649520" y="1321920"/>
            <a:ext cx="874368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ctive involvement in key strategic and policy discussions 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 Board, Executive Comm of Coord Board, Steering Comm on Global Plan Progress, Advocacy Advisory 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icipation in Working Groups &amp; Task Forces 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TS Expansion PPM, Retooling TF, New Drugs, New Vaccines, New Diagnostics, TB and Poverty, MDR-TB, Business Advisory Committee for GD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SC meetings: every two months teleconference calls with Core, semester meeting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nership meetings: Seattle (Pacific Health Summit), Rio (Partners’ Forum), Beijing, Cairo, Berlin, Genev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llaboration with WEF, GBC, McKinsey (indep.eval), EDM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63200" y="529920"/>
            <a:ext cx="631692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Rio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614240" y="1622520"/>
            <a:ext cx="8383320" cy="41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73240" indent="-273240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o Gaps/Issues identified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 a shared vision for the Private Sector Constituenc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 for strengthening of PSC for greater impac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an action agend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o Recommendations (suggested Timeframe)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 year strategic plan (by Nov 09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dentify collective action (by Nov 09); issue a call for enhanced participation (ongoing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velop a value proposition for members, identifying corporate champions (Dec 09 - ongoing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09280" y="5094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Consultancy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636200" y="1283760"/>
            <a:ext cx="8520120" cy="56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ied out extensive website, data and publication revie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ed 25+ key people in stakeholder groups, particularly the Core members of PSC, Stop TB, World Economic Forum, Global Business Coalition, Gates, UNAIDS, Public-Private Mix subgro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d possible areas for collective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information flow and communication among PSC members in Partnership bodies (Nov 2009 - Mar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 and adopt Principles of Engagement and a PSC Partners Charter to clarify vision and value proposition for membership (Mar – Sept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ximize PSC representation strategically in Working Groups and other Partnership bodies (Mar - Sept 201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 members, evaluate proposal and resource implications for concrete action proposals gathered by consultant (Mar - Sept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e.g. D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op Down menu for PSC members to get engaged in for World TB Day 2010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0400" y="463680"/>
            <a:ext cx="8933040" cy="744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ommendations 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65280" y="1250640"/>
            <a:ext cx="87645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financing strategy including possible annual fees, membership levels, corporate champion. (starting Nov 200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mpaign for new members, including professional societies,  business coalitions, and trade associations (Jan - Dec 201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guidelines and document private sector contributions  and measure progress (starting Mar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60400" y="463680"/>
            <a:ext cx="8933040" cy="744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ommendations 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65280" y="1250640"/>
            <a:ext cx="87645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8.   Resolve Focal Point Issu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ept 2009 – Dec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hosting and funding arrangement for new focal point for PS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ntify candidates and hire focal point, accepted by the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hance new collaboration with WEF, GBC, and other business groups, as well as with other private sector constituencies such as Roll Back Malaria and UNA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 business engagement strategy recommend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12520" y="617400"/>
            <a:ext cx="73328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 &amp;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62280" y="1754280"/>
            <a:ext cx="3314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88480" y="2401920"/>
            <a:ext cx="5602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bal focal point (with / without RBM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lternatives :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orld Economic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bal Business Coalition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usiness Humanitarian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ernational Business Leaders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OP TB Secretaria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Karin Holm</dc:creator>
  <dc:description>Karin Holm was the independent consultant who conducted the study to develop a Business Engagement Strategy for the Stop TB Partnership's Private Sector Constituency.  May - Sept 2009.</dc:description>
  <dc:language>en-US</dc:language>
  <cp:lastModifiedBy>bioMérieux</cp:lastModifiedBy>
  <dcterms:modified xsi:type="dcterms:W3CDTF">2009-11-06T05:48:16Z</dcterms:modified>
  <cp:revision>185</cp:revision>
  <dc:subject/>
  <dc:title>Slide 1</dc:title>
</cp:coreProperties>
</file>