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E15B-F825-436C-B337-D1E25421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EF6-2B66-4564-ACA5-740B169A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19E-B45E-4DA6-B3E0-67DC4DB9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FEF-9F74-453E-B661-635C2666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36BA-15D0-4954-A838-687BFEF1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DBF-EBE9-4AF1-A386-E3AC688D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CCB-1212-475E-ABFC-02DCD8E2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F87-1BAB-45FE-BF8E-E204B5AC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BFBB-46E2-4722-9230-807678D9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D8E3-89EE-49F6-8FC7-6BDBD6B2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779-D065-4EE0-822B-4672A296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F33-64F8-4EB7-94F1-2AB6305B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432E-971E-4540-873B-694C280AB45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7F25-8EE3-44BE-BFAF-5BB619409B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23400" y="0"/>
            <a:ext cx="102060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57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lobal Drug Facility: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wo Years after Berl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Progress, Challenges, Opportu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5013360"/>
            <a:ext cx="50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mas Moo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va, 06 Novem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24720" y="4869000"/>
          <a:ext cx="804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869000"/>
                    <a:ext cx="804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83808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F Value of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735200"/>
          <a:ext cx="8964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5200"/>
                    <a:ext cx="8964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659880"/>
            <a:ext cx="765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1773360"/>
            <a:ext cx="5977080" cy="50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Flow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/UNITAID established stockpile for 800 patients now ramping up to 5,800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pil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placement of drugs when a manufacturer could not deliver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 out risk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mall country order or when only a small quantity was needed to complete a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speed up delivery to meet urgent order demands and emerge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ambria"/>
              </a:rPr>
              <a:t>(order lead time is about 30 days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44640"/>
            <a:ext cx="2509920" cy="501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2701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High level negotiation with WHO on staffing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and prequalification bottlenec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916280"/>
            <a:ext cx="53276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 staffing has increased by 5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DR-TB current staff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senior team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drug registration and 1 drug quality officer (for both MDR-TB an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line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89000"/>
            <a:ext cx="5327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ore suppliers pre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MDR-TB products (8 suppli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XDR-TB products (3 supp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98900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2881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0640"/>
            <a:ext cx="5183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linton Foundation with GDF/GLC develope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phase forecas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LC responsible for forecasting and provides to GDF for ord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989000"/>
            <a:ext cx="53276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Pricing</a:t>
            </a:r>
            <a:r>
              <a:rPr b="0" lang="en-GB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task force established (GDF/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nterviewing recently prequalified suppliers to understand batch size, reaction time for an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ill be completed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28814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or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Overall lead time is still problemat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s much work by all partners since lead time is partially outside the responsibility of GDF </a:t>
            </a: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(example: lag in approvals and poor quantification of drug needs from country TB program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In 2010 GDF will recruit two more procurement officers and two administrative personn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From country TB programs need much more work on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al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Enrolment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Update forecasting tool with these dat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Number of qualified supplie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 to repeat the Expression of Interest tender to encourage more suppliers in 2010 (process takes about 10 month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Developed Order Managem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Order data already enter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ome data validation still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generate lead time, costing repor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upply of drugs for non-GLC projec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As appropriate, work with GLC, WHO-prequalification, national regulatory authorities to identify potential suppliers based on a quality risk 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2007 Berlin Core Problems</a:t>
            </a:r>
            <a:r>
              <a:rPr b="0" lang="en-GB" sz="4400" spc="-1" strike="noStrike">
                <a:solidFill>
                  <a:srgbClr val="008000"/>
                </a:solidFill>
                <a:latin typeface="Cambria"/>
              </a:rPr>
              <a:t>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62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High level negotiation with WHO to resolve staffing and prequalification bottlenec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* Coordinating Board meeting, Berlin October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date of G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crease access to high quality TB drug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ique procurement mechanism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demand for drugs to supply and monitoring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utsources several services to partners on a competitive bas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s product packaging to simplify drug manage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grants to TB programme performanc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860480"/>
            <a:ext cx="2798640" cy="423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1844640"/>
            <a:ext cx="4968720" cy="42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wo regional supplier meetings to advocate for more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umbai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Rio de Janei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haring of forecas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program with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2798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989000"/>
            <a:ext cx="5472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OI tender process to bring more prequalified suppliers on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MDR – 2 suppliers for all 11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MDR – 8 suppliers for 11 products</a:t>
            </a:r>
            <a:r>
              <a:rPr b="0" lang="en-GB" sz="2400" spc="-1" strike="noStrike">
                <a:solidFill>
                  <a:srgbClr val="33cc33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XDR  - 0 suppliers for 5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XDR -  suppliers for 3 of 5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2060640"/>
            <a:ext cx="51498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/UNITAID/GF established the strategic revolving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Enables a country to order while awaiting donor monies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ambria"/>
              </a:rPr>
              <a:t>(will be operational by December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89000"/>
            <a:ext cx="25099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773360"/>
            <a:ext cx="576108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 responsibility: time from order placed with supplier until delivery to country (not responsible for lag in approvals by TB progra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In 2009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95 orders were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67 orders are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24 orders still on track for Nov/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4 orders on hold because of country problems (eg. no money for drugs, no permission to impo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2798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3628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ssible Lead Times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Before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GLC and partners to forecast patients and rate of patient enrolment and provide to GDF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MoH protocol to sign GDF order is often long proces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mbria"/>
              </a:rPr>
              <a:t>After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Responsibility of GDF and its ag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GDF/procurement agent places order to supplier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Suppliers order materials to manufacture medicin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An independent lab tests produ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Product shipped to country progra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Drug arrives in count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country to clear custom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Import fe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Drug Registr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DF Performance Indic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29:53Z</dcterms:created>
  <dc:creator>tmoore</dc:creator>
  <dc:description/>
  <dc:language>en-US</dc:language>
  <cp:lastModifiedBy>maggir</cp:lastModifiedBy>
  <dcterms:modified xsi:type="dcterms:W3CDTF">2009-11-05T15:50:01Z</dcterms:modified>
  <cp:revision>180</cp:revision>
  <dc:subject/>
  <dc:title>GDF progress challenges for Coord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