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9A6EF-0D12-449A-A6AE-3364D7AEA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D5BE0-5F0E-4282-90F8-037B1C895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C8A9D-B1A9-4A2C-A395-865C2FB72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547EA-7232-4CD5-9247-0B5B131FB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5C39-6CAF-4FDB-8D7F-A42E422C0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23C17-6696-49DA-B4BC-36A424869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40D0-634F-4D65-8CA6-41B39AF5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9A6A4-1934-4578-A38D-DCD20ADF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4CC9-9DD6-40FA-AB2B-B37BAFF35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F678-7302-4091-A7EE-42815243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C2CB-89CF-4921-B7A7-AFB11334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103B-149C-45C4-8854-5105BDE9F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0DB9-50F7-49F7-9031-AFD6DAD173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7ECB-8681-4EB3-B5FC-A75A40DCEB86}" type="datetime3">
              <a:rPr b="1" lang="en-GB" sz="800" spc="-1" strike="noStrike">
                <a:solidFill>
                  <a:srgbClr val="000000"/>
                </a:solidFill>
                <a:latin typeface="Tahoma"/>
                <a:ea typeface="Tahoma"/>
              </a:rPr>
              <a:t>31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58957FC6-65C5-464F-B5A0-4F05D940805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