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5663-C388-49DA-8293-16FFF13CC82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F83034DB-E0E8-4393-BC1C-701EF38C39E8}" type="datetime3">
              <a:rPr b="1" lang="en-GB" sz="1400" spc="-1" strike="noStrike">
                <a:solidFill>
                  <a:srgbClr val="96ccee"/>
                </a:solidFill>
                <a:latin typeface="Arial Narrow"/>
                <a:ea typeface="Arial"/>
              </a:rPr>
              <a:t>29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12E7F50-312A-43AD-9F64-13159AD4DFA8}"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