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5765-0783-4CAF-9E8B-C9FE8D666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35DF-425C-44DA-B76D-7E3C431A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310D-1398-4584-9A22-D2266847F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A609-96FC-4C3E-B7B2-750A3BCFF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FD04-295F-455B-9FD6-621624D9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0FEF-F5C7-476D-BAD1-B26B8BBD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6051-129B-44D1-8B38-E3827CB3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A590-EAB0-4DA4-896F-85CB391D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016D-97AC-4E8F-B71E-EAD803DD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D74F-AD2F-4F90-AC30-08B6D944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2B6E-E7ED-4F19-B19C-8256BB0A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3E3B-FB53-4EED-95F0-ABF15A3A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827360" indent="-43812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29716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6232-9699-491F-9C6C-5B00B630D757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2EB4-A66B-467C-85DA-B9048CC0925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8123400" y="0"/>
            <a:ext cx="1020600" cy="146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483920"/>
            <a:ext cx="7570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Global Drug Facility: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Two Years after Berl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Progress, Challenges, Opportun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68000" y="5013360"/>
            <a:ext cx="504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omas Moor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eneva, 06 November 2009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524720" y="4869000"/>
          <a:ext cx="804960" cy="109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720" y="4869000"/>
                    <a:ext cx="80496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24000" y="5084640"/>
            <a:ext cx="838080" cy="8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DF Value of Or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79280" y="1735200"/>
          <a:ext cx="8964720" cy="48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35200"/>
                    <a:ext cx="8964720" cy="48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6560" y="659880"/>
            <a:ext cx="765684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87640" y="1773360"/>
            <a:ext cx="5977080" cy="508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Flow of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GDF/UNITAID established stockpile for 800 patients now ramping up to 5,800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tockpile used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eplacement of drugs when a manufacturer could not deliver 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tock out risk in cou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mall country order or when only a small quantity was needed to complete an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o speed up delivery to meet urgent order demands and emergenc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ambria"/>
              </a:rPr>
              <a:t>(order lead time is about 30 days so f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1844640"/>
            <a:ext cx="2509920" cy="501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2701800" cy="46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High level negotiation with WHO on staffing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and prequalification bottleneck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"/>
          <p:cNvSpPr/>
          <p:nvPr/>
        </p:nvSpPr>
        <p:spPr>
          <a:xfrm>
            <a:off x="3492360" y="1916280"/>
            <a:ext cx="5327640" cy="46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GDF staffing has increased by 58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MDR-TB current staff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 MDR-TB senior team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 MDR-TB procurement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 drug registration and 1 drug quality officer (for both MDR-TB and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mbria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line dru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92360" y="1989000"/>
            <a:ext cx="53276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More suppliers prequal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MDR-TB products (8 supplier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XDR-TB products (3 suppli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1989000"/>
            <a:ext cx="273708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288144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Barriers, costs of entry, uncertain return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cc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2060640"/>
            <a:ext cx="518328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Drug fore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Clinton Foundation with GDF/GLC developed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mbria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phase forecasting t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GLC responsible for forecasting and provides to GDF for order 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1989000"/>
            <a:ext cx="5327640" cy="43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Drug Pricing</a:t>
            </a:r>
            <a:r>
              <a:rPr b="0" lang="en-GB" sz="4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Price negotiation task force established (GDF/G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Interviewing recently prequalified suppliers to understand batch size, reaction time for an or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Will be completed March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2881440" cy="43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Barriers, costs of entry, uncertain return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cc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llenges or Work in Progress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Lead tim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Overall lead time is still problematic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Needs much work by all partners since lead time is partially outside the responsibility of GDF </a:t>
            </a:r>
            <a:r>
              <a:rPr b="1" lang="en-GB" sz="2000" spc="-1" strike="noStrike">
                <a:solidFill>
                  <a:srgbClr val="000000"/>
                </a:solidFill>
                <a:latin typeface="Cambria"/>
              </a:rPr>
              <a:t>(example: lag in approvals and poor quantification of drug needs from country TB programs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In 2010 GDF will recruit two more procurement officers and two administrative personn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llenges / Work in Progress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Forecasting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From country TB programs need much more work on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Real patient number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Enrolment patient number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Update forecasting tool with these data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Number of qualified supplier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Need to repeat the Expression of Interest tender to encourage more suppliers in 2010 (process takes about 10 months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llenges / Work in Progress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Developed Order Management System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Order data already entere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Some data validation still neede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Can generate lead time, costing report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Supply of drugs for non-GLC project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As appropriate, work with GLC, WHO-prequalification, national regulatory authorities to identify potential suppliers based on a quality risk analysi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mbria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mbria"/>
              </a:rPr>
              <a:t>2007 Berlin Core Problems</a:t>
            </a:r>
            <a:r>
              <a:rPr b="0" lang="en-GB" sz="4400" spc="-1" strike="noStrike">
                <a:solidFill>
                  <a:srgbClr val="008000"/>
                </a:solidFill>
                <a:latin typeface="Cambria"/>
              </a:rPr>
              <a:t> 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962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Opaque MDR-TB drug marke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15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15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Barriers, costs of entry, uncertain return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15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High level negotiation with WHO to resolve staffing and prequalification bottleneck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* Coordinating Board meeting, Berlin October 2007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ndate of G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Increase access to high quality TB drugs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Unique procurement mechanism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Links demand for drugs to supply and monitoring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Outsources several services to partners on a competitive basi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Uses product packaging to simplify drug managemen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Links grants to TB programme performance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1600" y="1860480"/>
            <a:ext cx="2798640" cy="423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Opaque MDR-TB drug marke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"/>
          <p:cNvSpPr/>
          <p:nvPr/>
        </p:nvSpPr>
        <p:spPr>
          <a:xfrm>
            <a:off x="3780000" y="1844640"/>
            <a:ext cx="4968720" cy="424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Two regional supplier meetings to advocate for more 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Mumbai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Rio de Janeiro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Sharing of forecast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Price negotiation program with suppli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27986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1989000"/>
            <a:ext cx="547236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EOI tender process to bring more prequalified suppliers on bo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2007 for MDR – 2 suppliers for all 11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Cambria"/>
              </a:rPr>
              <a:t>2009 for MDR – 8 suppliers for 11 products</a:t>
            </a:r>
            <a:r>
              <a:rPr b="0" lang="en-GB" sz="2400" spc="-1" strike="noStrike">
                <a:solidFill>
                  <a:srgbClr val="33cc33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2007 for XDR  - 0 suppliers for 5 produ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Cambria"/>
              </a:rPr>
              <a:t>2009 for XDR -  suppliers for 3 of 5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98920" y="2060640"/>
            <a:ext cx="514980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GDF/UNITAID/GF established the strategic revolving f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Enables a country to order while awaiting donor monies to ar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Cambria"/>
              </a:rPr>
              <a:t>(will be operational by December 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989000"/>
            <a:ext cx="250992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3640" y="1773360"/>
            <a:ext cx="576108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Lead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GDF responsibility: time from order placed with supplier until delivery to country (not responsible for lag in approvals by TB program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In 2009 to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95 orders were pla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67 orders are deli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24 orders still on track for Nov/D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4 orders on hold because of country problems (eg. no money for drugs, no permission to impor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279864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533160"/>
            <a:ext cx="83628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Possible Lead Times Bottlene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ambria"/>
              </a:rPr>
              <a:t>Before country signs ord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Responsibility of GLC and partners to forecast patients and rate of patient enrolment and provide to GDF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MoH protocol to sign GDF order is often long proces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mbria"/>
              </a:rPr>
              <a:t>After country signs ord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Responsibility of GDF and its agent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GDF/procurement agent places order to supplier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Suppliers order materials to manufacture medicine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An independent lab tests produc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Product shipped to country program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ambria"/>
              </a:rPr>
              <a:t>Drug arrives in country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Responsibility of country to clear custom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Import fee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Drug Registration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DF Performance Indica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2:29:53Z</dcterms:created>
  <dc:creator>tmoore</dc:creator>
  <dc:description/>
  <dc:language>en-US</dc:language>
  <cp:lastModifiedBy>maggir</cp:lastModifiedBy>
  <dcterms:modified xsi:type="dcterms:W3CDTF">2009-11-05T15:50:01Z</dcterms:modified>
  <cp:revision>180</cp:revision>
  <dc:subject/>
  <dc:title>GDF progress challenges for Coord boar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