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9705-7AD6-41D3-A9CC-5C4DCAB3A5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e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n at maximum DOTS coverage, case detection seems to remain below the 70% target level in most settings (Dye et al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 we need innovative approaches to case det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DEWG is a mechanism to do whatever it needs to be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need to ensure we make good use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2nd ad hoc Committee produced some recommendations for action, the DEWG is a tool to facilitate/implement som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1A65-5678-4B22-8D28-FAAAFD7F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9AB8-C61E-4630-8083-A3404114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0ACD-D209-420A-A124-F9136A2D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F40E-B186-4236-92AC-E95E8369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817D-D1ED-42AD-A9F5-C0ED3D20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CB5B-0536-4C48-B06D-4C3C72BB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8B55-8CF4-4CE6-968E-D777DB6E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B75C-3124-4FDB-93B7-30250008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0E1-D221-4584-9990-F414F141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6B32-03AB-4065-94C1-6E4CB99F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EAB9-CB2D-466E-9567-13F1817F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D3D3-3357-4512-8168-51ED6735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CA21-872B-4902-BD2B-257A6F30037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pdate of the Global Plan to Stop TB 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P Coordinating Board 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neva, 5 - 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ristian Lienha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838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 (con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w Tools (drugs, vaccines and diagnostic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going on through communications within WGs – led by chairs and cor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ice/input from health econom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workshops to advance (Sept '09) and finalise (Jan '10) revised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asic Research and 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s to define the suitable research agenda and develop appropriate cost estim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-up (March – May '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04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arget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of the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05, and to be sustained or exceeded 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least 70% of people with infectious TB will be diagnosed (i.e. under the DOTS strategy) and at least 85% of those diagnosed will be cu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lobal burden of TB disease (disease prevalence and deaths) reduced by 50% relative to 1990 levels, i.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prevalence to 155 or fewer per 100 000 popul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deaths to 14 or fewer per 100 000 per year by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eet the MDGs relevant to tuberculosis (goal 6, target 8)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to have halted and begun to reverse the incidence [of TB]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 of the Globa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omote wider and wiser use of existing strategies to interrupt TB transmissio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lerating DOTS implementation to achieve the global targets for TB control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the availability, affordability and quality of anti-TB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event and manage multidrug-resistant TB, and to reduce the impact of HIV related 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ccelerate the elimination of TB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research and development for new TB diagnostic tests, drugs and vaccin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adoption of new and improved tools by ensuring appropriate use, access and afford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57280" y="2276640"/>
          <a:ext cx="2790720" cy="39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2276640"/>
                    <a:ext cx="2790720" cy="3946320"/>
                  </a:xfrm>
                  <a:prstGeom prst="rect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rcRect l="10960" t="1141" r="3272" b="0"/>
          <a:stretch/>
        </p:blipFill>
        <p:spPr>
          <a:xfrm>
            <a:off x="5560920" y="2276640"/>
            <a:ext cx="2897280" cy="38304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11240" y="1341360"/>
            <a:ext cx="36687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New challenges requi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Stop TB Strateg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1341360"/>
            <a:ext cx="40323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Global Plan 2006-201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defines direction and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60280"/>
            <a:ext cx="583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  <a:ea typeface="Tahoma"/>
              </a:rPr>
              <a:t>The vision toda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2492280"/>
            <a:ext cx="1942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2006-2015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56 billion US$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ecessary to  control TB in endemic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9 billion US$ necessary to develop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524720" y="40464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 needs by Working Group area of responsibility,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83822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5228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Plan targets – Researc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74320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457200" y="1600200"/>
          <a:ext cx="8229600" cy="4959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vaccines in phase 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candidates in phase II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 2 vaccines in "proof of concept"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 phase II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phase III trials carried out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safe, effective vaccine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new compounds in the pipe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new drugs registered; treatment shortened to 3-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new drugs; treatment shortened to 1-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 culture for case detection and DST in demonstration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care, rapid culture, improved microscopy, phage detection, simpl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ve test for LT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Global Plan Update is to look cri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objectives set at start and, on the basi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s so far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revise the objectives, ensuring feasibility and achiev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outline clearly the main activities to reach these objectiv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indicators to evaluate progr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targets to measure effectiven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dentify the costs of these activities, ensuring comparability between tools and ov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dpo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to ensure that achievable objectives are set, and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ocess of constant evaluation of progress and funding is possi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the comparison with the Annual R&amp;D Funding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 from TAG/S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New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earch Component of the GP was solely relying on the works to be carried out to develop new tools, i.e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ew Diagnostics, Drugs and Vacci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hould take into account the specific aspects arising from research to be carried out within the areas of MDR-TB, TB/HIV and childhood T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research was considered only as part of the research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 research was imbedded in the implementation part with cost calculated at 0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al framewor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goal, objectives and proposed activities set in GP for new to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ical re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goal, objectives and activities based on progress 2006-2009, current status, major areas of work and related targets for 2010-201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ication of appropriat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indicato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to measure activities and estimate cos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velopment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revised agen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with appropriate budget to imple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6:29:03Z</dcterms:created>
  <dc:creator>Christian Lienhardt</dc:creator>
  <dc:description/>
  <dc:language>en-US</dc:language>
  <cp:lastModifiedBy>Alan Esser</cp:lastModifiedBy>
  <dcterms:modified xsi:type="dcterms:W3CDTF">2009-11-06T10:14:28Z</dcterms:modified>
  <cp:revision>32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57045021</vt:r8>
  </property>
  <property fmtid="{D5CDD505-2E9C-101B-9397-08002B2CF9AE}" pid="3" name="_AuthorEmail">
    <vt:lpwstr>lienhardtc@who.int</vt:lpwstr>
  </property>
  <property fmtid="{D5CDD505-2E9C-101B-9397-08002B2CF9AE}" pid="4" name="_AuthorEmailDisplayName">
    <vt:lpwstr>Lienhardt, Christian</vt:lpwstr>
  </property>
  <property fmtid="{D5CDD505-2E9C-101B-9397-08002B2CF9AE}" pid="5" name="_EmailSubject">
    <vt:lpwstr>CB -- update of global 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