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DE25-CCEB-4AA3-B543-C1E6330CC98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878D900D-C43B-46C2-92C3-F8762AA8AE55}" type="datetime3">
              <a:rPr b="1" lang="en-GB" sz="1400" spc="-1" strike="noStrike">
                <a:solidFill>
                  <a:srgbClr val="96ccee"/>
                </a:solidFill>
                <a:latin typeface="Arial Narrow"/>
                <a:ea typeface="Arial"/>
              </a:rPr>
              <a:t>31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C8932DE-5557-4FDC-9D26-ADE5C0738527}"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