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E6731-388C-488A-AC41-8B0078D53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6C72F-4746-49A9-93CC-907D5B4EA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95799-E3ED-4DB0-B040-D15AA700D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8CB40-2CD3-4160-8E6E-6243D807C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34954-392E-4D3B-8764-F4EB6154A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A4153-DB81-437C-ADFB-612F3A481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CFBA5-16B7-4A39-AE8A-757250004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20B8F-3DE9-4C89-B5E1-2F4E1ADCC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7F02D-D926-43B3-8C0A-63C34E0B9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2889-774A-4B2F-8EA1-449379D36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A56E3-3F24-46DF-AB01-6691651AC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A105C-A099-4AA0-9AC7-E767D0865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E84D-0F1E-4FE0-96D4-908320BBAC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C2FB-C82E-4C92-9018-D2A266D8BB40}" type="datetime3">
              <a:rPr b="1" lang="en-GB" sz="800" spc="-1" strike="noStrike">
                <a:solidFill>
                  <a:srgbClr val="000000"/>
                </a:solidFill>
                <a:latin typeface="Tahoma"/>
                <a:ea typeface="Tahoma"/>
              </a:rPr>
              <a:t>30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4638219E-6F78-4DBB-B95F-BE34F155EBF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