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42B8-D189-41D7-B0C7-EEB7F6AF5C6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82501A7F-66AA-41CB-A50A-6CFC8545EB66}" type="datetime3">
              <a:rPr b="1" lang="en-GB" sz="1400" spc="-1" strike="noStrike">
                <a:solidFill>
                  <a:srgbClr val="96ccee"/>
                </a:solidFill>
                <a:latin typeface="Arial Narrow"/>
                <a:ea typeface="Arial"/>
              </a:rPr>
              <a:t>30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0003AA9-5F5E-40AC-AD99-B3511786F726}"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