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291C-B954-4E56-B745-B116EE2659F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CD3FE4C9-ED0B-4E6D-8DF3-93F548092CB7}" type="datetime3">
              <a:rPr b="1" lang="en-GB" sz="1400" spc="-1" strike="noStrike">
                <a:solidFill>
                  <a:srgbClr val="96ccee"/>
                </a:solidFill>
                <a:latin typeface="Arial Narrow"/>
                <a:ea typeface="Arial"/>
              </a:rPr>
              <a:t>28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864A179-8285-460F-BC6C-202174690665}"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